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8B3-E9C7-46FA-AA28-6D80DA0E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927-AD11-4CC4-BE4C-B648902A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BA9-4B6F-4D37-B2AF-A92C86A3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B6A-6FE1-4C8B-A1A8-B9119727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F9A-664A-472C-B2D9-60C2322C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512-0967-4342-935C-727153BF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474-A486-4153-85B3-B2B1A5C0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4FD-11D8-47DC-B59C-D2A82399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E05-A1AA-4AF7-8D87-185F8F18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779-514C-4E08-A6A5-DB79B9AA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084-9CC4-4470-B292-0F81C5FF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E9B-A60B-440C-9AF0-4BE388FA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427E-7623-4839-BBF6-E75D54175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perating Systems: Wrap-Up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an Operating System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are operating systems so interesting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techniques can I borrow when building system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have we learned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erating System has two rol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andard library: Simplify use of resources w/ abstrac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PU: processes and thre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cks, semaphores, cv for synchronizing/communicating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mory: virtual address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ks: files and directori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source manager: Mechanism vs. Polic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to share CPU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spatcher performs context-switches between process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cheduler decides which to run (SCTF, RR, multi-level feedback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to share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aging and segmentation for protection, swapping to avoid thrashing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RU, 2Q, working sets to determine which pages to repla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to allocate space on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ayout (e.g., extents vs index) and scheduling for performance,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journaling for consistency, RAID for reliabilit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y are Operating Systems so Interesting? Challenging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quirements not precisely defin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nknown worklo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on’t know ahead of time: how long job will run, how much memory it will allocate, which pages it will reference, which files it will create, …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en know future behavior, can sometimes implement an optimal algorithm (e.g., SCTF, OPT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euristic: Use past to predict futur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at will future workloads look like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flicting metrics: performance, space overhead, reliability, consistency, power consumption, …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o one algorithm does best for all (e.g., contiguous allocation: best sequential performance but large external fragmentation; journaling: on-disk consistency, but performance overhead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ich metrics will future users care about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y are Operating Systems so Interesting? Challenging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quirements not precisely define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hanging technology changes assump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rdware gets faster and cheaper, relative rates are importa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PU improving faster than memory or dis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age faults and disk accesses relatively more expensiv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ew storage devic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lash, NVRAM: better random access behavior than disk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y are Operating Systems so Interesting? Challenging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arge, complex system to implemen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aling with low-level hardware is painfu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naging concurrency is difficult (race conditions, deadlock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tend legacy cod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ordinate many develope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ime-to-market pressur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ystem Design Less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some of the lessons that you can bring to other large software project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earn from previous system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udy what worked well and what did no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ng chain of Unix derivations from Multic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lan to throw one implementation awa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uild prototype fir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corporate prototype into schedu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visit design decisions after system is in us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n measure performance with real workloa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ystem Design Less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efining the right abstractions is key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sier to conceptualize and debu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uidelin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o not hide power of lower lay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ke common case fa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hould have known (predictable) co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parate mechanisms and polic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everage modules that work wel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ystem Design Less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ake your system as simple as possibl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sier to maintai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sier to implement correctl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af67ff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“</a:t>
            </a: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There are two ways of constructing a software design: one way is to make it so simple that there are obviously no deficiencies and the other way is to make it so complicated that there are no obvious deficiencies.”  -- C.A.R. Hoa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otentially faster perform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ptimize for well-defined inpu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oo general --&gt; too slow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move features when in doubt!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Enjoy your winter break!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Remzi Arpaci</cp:lastModifiedBy>
  <cp:lastPrinted>2005-12-02T17:18:23Z</cp:lastPrinted>
  <dcterms:modified xsi:type="dcterms:W3CDTF">2007-12-13T06:04:45Z</dcterms:modified>
  <cp:revision>55</cp:revision>
  <dc:subject/>
  <dc:title>Synchronization</dc:title>
</cp:coreProperties>
</file>