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A7C-E788-4BC9-9A81-7B75FC90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6EA-B7AD-4FA2-92E6-117947E0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31A-EBA8-452C-B21A-B0F967E7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E3A-97AD-4864-8394-0ECD22D9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8B6-5085-46BE-BED5-31D09F9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77F-58E9-4BB6-B1B4-D90DFE5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D58-DDBC-401A-BE38-C9A705DF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4AE-8D1E-407F-83B0-B11350EB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48B-A94A-452A-BFFA-68959395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596-FDC1-40F6-8295-5C5BA196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85F-8857-489C-9978-2561302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C96-5A34-40CB-866A-7CB7FFCA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BAF-5C97-4DEB-A824-92F413BC9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troduction and Overview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n operating system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have operating systems evolv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study operating syst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ltiprogrammed Batch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bservation: Spooling provides pool of ready job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 of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rove performance by always running a jo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multiple jobs resident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job waits for disk I/O, OS switches to another jo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Functiona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Job scheduling polic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management and prote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: Improves throughput and utiliz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: Machine not interactiv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expensive Peripher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960s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pensive mainframes, but inexpensive keyboards and monit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ables text editors and interactive debugg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 of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rove user’s respons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Functiona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ime-sharing: switch between jobs to give appearance of dedicated mach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complex job schedul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currency control and synchroniz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s easily submit jobs and get immediate feedba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expensive Personal Compute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980s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tire machine is inexpensiv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dedicated machine per us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 of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ive user control over mach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Functiona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move time-sharing of jobs, protection, and virtu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ic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s with little ma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chine is all your own (performance is predictab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time-sharing or protection between job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nexpensive, Powerful Compute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990s+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Cs with increasing computation and sto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s connected to the we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 of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w single user to run several applications simultaneous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security from malicious attack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fficiently support web serv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Functiona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 back time-sharing, protection, and virtu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urrent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clusion: OS changes due to both hardware and use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urrent tren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ltiprocesso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tworked syst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irtual machin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code base is lar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illions of lines of c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000 person-years of 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de is complex and poorly understoo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ystem outlives any of its build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ystem will always contain bug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havior is hard to predict, tuning is done by guess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OS Component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ernel: Core components of the 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cess schedu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es when and for long each process execut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mory manag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es when and how memory is allocated to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cides what to do when main memory is ful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ganizes named collections of data in persistent storage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ables processes to communicate with one an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y study Operating System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uild, modify, or administer an operating system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nderstand system performa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ehavior of OS impacts entire machin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hallenge to understand large, complex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ne workload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pply knowledge across many area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puter architecture, programming languages, data structures and algorithms, and performance model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n Operating System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verything in system that isn’t an application or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ftware that converts hardware into a useful form for applic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t easy to define precise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666880" y="1981080"/>
            <a:ext cx="3276720" cy="2590560"/>
            <a:chOff x="2666880" y="1981080"/>
            <a:chExt cx="3276720" cy="2590560"/>
          </a:xfrm>
        </p:grpSpPr>
        <p:sp>
          <p:nvSpPr>
            <p:cNvPr id="50" name=""/>
            <p:cNvSpPr/>
            <p:nvPr/>
          </p:nvSpPr>
          <p:spPr>
            <a:xfrm>
              <a:off x="2666880" y="1981080"/>
              <a:ext cx="3276720" cy="647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Us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66880" y="3924360"/>
              <a:ext cx="3276720" cy="647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6880" y="3276360"/>
              <a:ext cx="3276720" cy="64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f67ff"/>
                  </a:solidFill>
                  <a:latin typeface="Chalkboard"/>
                </a:rPr>
                <a:t>Operating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66880" y="2628360"/>
              <a:ext cx="3276720" cy="64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pplic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18200" y="2590920"/>
            <a:ext cx="302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pil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ba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d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8200" y="3886200"/>
            <a:ext cx="302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P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/O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the role of the O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ole #1: Provide standard Library (I.e., abstract resourc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</a:t>
            </a: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resource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nything valuable (e.g., CPU, memory, disk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 of standard libra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w applications to reuse common facilit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ke different devices look the sa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higher-level abstrac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are the correct abstraction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much of hardware should be exposed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the role of the O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ole #2: Resource coordinator (I.e.,  manager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dvantages of resource coordinator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irtualize resources so multiple users or applications can sh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tect applications from one anoth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vide efficient and fair access to resourc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correct mechanis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correct polici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Functionality belongs in O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single right answer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sired functionality depends on outside facto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must adapt to both user expectations and technology chan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nge abstractions provided to us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nge algorithms to implement those abstrac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nge low-level implementation to deal with hardw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urrent operating systems driven by evolutio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istory of the O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wo distinct phases of histor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hase 1: Computers are expensiv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: Use computer’s time efficient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ximize throughput (I.e., jobs per secon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ximize utilization (I.e., percentage bus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hase 2: Computers are inexpensiv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al: Use people’s time efficient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inimize respons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rst commercial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1950s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ormous, expensive, and slow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put/Output: Punch cards and line print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 of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et the hardware work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ngle operator/programmer/user runs and debugs interactive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Functiona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ndard library only (no sharing or coordination of resourc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nitor that is always resident; transfer control to progra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ed and allowed interactive debugg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efficient use of hardware (throughput and utilizatio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tch Process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 of OS: Better throughput and utiliz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Batch: Group of jobs submitted togeth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rator collects jobs; orders efficiently; runs one at a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mortize setup costs over many job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rator more skilled at loading tap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machine busy while programmer think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roves throughput and utiliz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must wait until batch is done for resul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chine idle when job is reading from cards and writing to print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pool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chanical I/O devices much slower than CPU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 17 cards/sec vs. execute 1000s instructions/sec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 of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rove performance by overlapping I/O with CPU execu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Spooling: Simultaneous Peripheral Operations On-Lin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ad card punches to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pute (while reading and writing to disk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output from disk to prin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Functiona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uffering and interrupt handl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8042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chine idle when job waits for I/O to/from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Andrea Arpaci-Dusseau</cp:lastModifiedBy>
  <cp:lastPrinted>1970-01-04T00:48:46Z</cp:lastPrinted>
  <dcterms:modified xsi:type="dcterms:W3CDTF">1970-01-04T00:48:56Z</dcterms:modified>
  <cp:revision>6</cp:revision>
  <dc:subject/>
  <dc:title>Introduction and Overview</dc:title>
</cp:coreProperties>
</file>