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DC0-0768-4DDE-93DB-E97C3E09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713-5A3D-4F90-A401-23B35153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599-FC21-4F44-9655-61463895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626-BB56-4403-B538-0C462890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598-0B26-4E3B-9552-4DF4230C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578-B369-43A0-AF6C-CDEBE1E1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99E6-30CD-4E40-B8B5-70574D1F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7FC-77E0-4449-9157-47906974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445-7E82-4532-B1E1-7C4C5F9F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06D-6648-466C-86DA-48903180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A03-32C6-485E-B863-D37533A9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3E4-BDEE-4617-8129-797AD0C4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969F-26CC-4C32-9CEB-30B2D7A7A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ynamic Memory Alloc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en is a stack appropriate? When is a heap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best-fit, first-fit, worst-fit, and buddy allocation algorithm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memory be freed (using reference counts or garbage collection)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uddy Alloc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ast, simple allocation for blocks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halkboard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bytes [Knuth68]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oid *Allocate (k byte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aise allocation request to nearest s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arch free list for appropriate siz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present free list with bitmap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cursively divide larger free blocks until find block of size 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uddy” block remains fre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rk corresponding bits as allocat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ree(ptr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rk bits as fre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cursively coalesce block with buddy, if buddy is fre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ay coalesce lazily (later, in background) to avoid overhea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uddy Allocation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cenario: 1MB of free memory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quest stream: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ocate 70KB, 35KB, 80KB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ree 35KB, 80KB, 70KB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mparison of Allocation Strategi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 optimal algorith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ragmentation highly dependent on workloa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est fi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ends to leave some very large holes and some very small ho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an’t use very small holes easil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rst fi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ends to leave “average” sized ho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: Faster than best fi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ext fit used often in practi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uddy alloc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inimizes external fragment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: Internal fragmentation when not 2^n reque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emory Allocation in Practic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is malloc() implement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ata structure: Free lis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eader for each element of free li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ointer to next free bloc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ize of bloc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agic numb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re is header stored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f remainder of block is smaller than header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wo free lis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e organized by siz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parate list for each popular, small size (e.g., 1 KB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llocation is fast, no external fragmentatio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cond is sorted by addres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se next fit to search appropriatel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ree blocks shuffled between two lists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2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reeing Memor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: Expect programmer to explicitly call free(ptr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wo possible problem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angling pointers: Recycle storage that is still in-us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ave two pointers to same memory, free one and use secon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_t *a = malloc(sizeof(foo_t)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_t *b = a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-&gt;bar = 50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ee(a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_t *c = malloc(sizeof(foo_t)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-&gt;bar = 20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b-&gt;bar: %d\n”, b-&gt;bar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mory leaks: Forget to free stor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f lose pointer, can never free associated memor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kay in short jobs, not okay for OS or long-running server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_t *a = malloc(sizeof(foo_t)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_t *b = malloc(sizeof(foo_t)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 = a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eference Count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: Reference cou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ck number of references to each memory chun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ncrement count when new pointer references i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ecrement count when pointer no longer references i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reference count = 0, free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rd links in Unix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Hi &gt; fil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n file new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 fil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 new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malltal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ircular data structures --&gt; Memory leak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Garbage Collec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bservation: To use data, must have pointer to i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ithout pointer, cannot access (or find) dat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mory is free implicitly when no longer referenc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grammer does not call free(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system needs more memory, free unreachable chunk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st be able to find all objects (referenced and no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st be able to find all pointers to objec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trongly typed languag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mpiler cooperates by marking data type in memor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ize of each object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Which fields are pointer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ark and Sweep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Garbage Collec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ss 1: Mark all reachable data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art with all statically allocated and local (stack) variab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rk each data object as reachab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cursively mark all data objects can reach through point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ss 2: Sweep through all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ine each data objec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ree those objects not mark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orks with circular data structur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mple for application programm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ften CPU-intensive (poor caching behavior too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fficult to implement such that can execute job during g.c.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quires language support (Java, LISP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08760" y="211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 for Dynamic Memor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do processes need dynamic allocation of memor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o not know amount of memory needed at compile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st be pessimistic when allocate memory staticall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llocate enough for worst possible cas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torage is used inefficientl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cursive procedur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o not know how many times procedure will be nest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lex data structures: lists and tre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 my_t *p=(struct my_t *)malloc(sizeof(struct my_t)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wo types of dynamic alloc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eap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tack Organiz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finition: Memory is freed in opposite order from alloc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15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loc(A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15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loc(B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15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loc(C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15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ee(C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15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loc(D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15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ee(D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15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ee(B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15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ee(A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7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mplementation: Pointer separates allocated and freed spa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155880" indent="-5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ocate: Increment point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155880" indent="-5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ree: Decrement pointer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4343400"/>
            <a:ext cx="183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tack Discuss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uses stack for procedure call frames (local variabl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in () {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 = 0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o (A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A: %d\n”, A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foo (int Z) {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A = 2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Z = 5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A: %d Z: %d\n”, A, Z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eps all free space contiguou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mple to implem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fficient at run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t appropriate for all data structur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eap Organiz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41911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orks for all data structur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ocation can be slow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nd up with small chunks of free sp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Where to allocate 16 bytes? 12 bytes? 24 bytes?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1932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efinition: Allocate from any random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emory consists of allocated areas and free areas (ho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rder of allocation and free is unpredic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419720"/>
            <a:ext cx="198108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3124080"/>
            <a:ext cx="19810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3657600"/>
            <a:ext cx="1981080" cy="76212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ll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4724280"/>
            <a:ext cx="1981080" cy="4572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ll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68400" y="32004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16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87840" y="38862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24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52920" y="441972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12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68400" y="48006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16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07520" y="37180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4724280"/>
            <a:ext cx="18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ragment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finition: Free memory that is too small to be usefully allocat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ternal: Visible to allocato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ternal: Visible to requester (e.g., if must allocate at some granularity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Minimize fragment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ew holes, each hole is lar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ree space is contiguou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 free space is contiguou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 fragment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to allocate to minimize fragmentation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eap Implement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ata structure: free li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inked list of free blocks, tracks memory not in us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eader in each blo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ize of bloc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tr to next block in lis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oid *Allocate(x byte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hoose block large enough for request (&gt;= x byt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ep remainder of free block on free li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pdate list pointers and size variab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turn pointer to allocated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ree(ptr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d block back to free li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rge adjacent blocks in free list, update ptrs and size variab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eap Allocation Polici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est fi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arch entire list for each alloc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hoose free block that most closely matches size of reque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ptimization: Stop searching if see exact match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rst fi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ocate first block that is large enough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otating first fit (or “Next fit”)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Variant of first fit, remember place in li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art with next free block each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orst fi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ocate largest block to request (most leftover spac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eap Allocation Exampl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cenario: Two free blocks of size 20 and 15 byt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llocation stream: 10, 20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e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or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llocation stream: 8, 12, 12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e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or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1970-01-26T22:02:10Z</cp:lastPrinted>
  <dcterms:modified xsi:type="dcterms:W3CDTF">1970-02-09T01:06:28Z</dcterms:modified>
  <cp:revision>19</cp:revision>
  <dc:subject/>
  <dc:title>Synchronization</dc:title>
</cp:coreProperties>
</file>