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6B9-5315-4403-8916-C130BCFD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957-7C4C-4872-A094-1BCC0FDE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B83-FB5A-4BEE-A65F-8F9D1AFF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DD4-7C9B-4D16-A438-CE77F1A8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224-E60A-4D57-A5ED-67575FC0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239-D0D2-4C0A-9F17-464132B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B10-B742-4698-A57A-CBD7445C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F35-B3F1-474B-B3B3-4B2A5333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37F-C94F-4E0D-90B8-57EF46FC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DE9-A673-4CF0-A05A-4B9D157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A6E-3669-48DA-ADBC-A17FE7B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F49-3F2E-4BDD-AB76-EEBF494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5502-3D50-4870-A93E-9BED842A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emory Manageme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rocesses share memo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static reloc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dynamic reloc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segment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anaging Processes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 with Base and Boun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text-switc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 base and bounds registers to PC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ange to privileged m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ave base and bounds registers of old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ad base and bounds registers of new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hange to user mode and jump to new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f don’t change base and bounds registers when switch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tection require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process cannot change base and bounds regis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process cannot change to privileged m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ase and Bounds Discuss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s protection (both read and write) across address spa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pports dynamic relo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move address spac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halkboard"/>
              </a:rPr>
              <a:t>Why might you want to do this???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imple, inexpensive implement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ew registers, little logic in MMU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 and compare can be done in paralle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process must be allocated contiguously in physical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ust allocate memory that may not be used by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partial sharing: Cannot share limited parts of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vide address space into logical segm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segment corresponds to logical entity in address spa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de, stack, hea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ach segment can independently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 placed separately in physical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row and shrin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e protected (separate read/write/execute protection bit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gmented Address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How does process designate a particular segmen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part of logical addr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p bits of logical address select seg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 bits of logical address select offset within seg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at if small address space, not enough bit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mplicitly by type of memory referen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ecial register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gmentation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960" y="54100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666880"/>
          <a:ext cx="6095880" cy="2278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u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6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4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f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ff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04920" y="137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MU contains Segment Table (per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segment has own base and bounds, protection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14 bit logical address, 4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1055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nslate logical addresses to physical addre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24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0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265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300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cussion of Seg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ables sparse allocation of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ack and heap can grow independent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ap: If no data on free list, dynamic memory allocator requests more from OS (e.g., UNIX: malloc calls sbrk()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tack: OS recognizes reference outside legal segment, extends stack implicit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ifferent protection for different segm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ad-only status for c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ables sharing of selected segm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pports dynamic relocation of each segmen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segment must be allocated contiguous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y not have sufficient physical memory for large segm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 for Multiprogramm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iprogramming:  One process runs at a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1981080"/>
            <a:ext cx="7315200" cy="3519360"/>
            <a:chOff x="685800" y="1981080"/>
            <a:chExt cx="7315200" cy="3519360"/>
          </a:xfrm>
        </p:grpSpPr>
        <p:sp>
          <p:nvSpPr>
            <p:cNvPr id="49" name=""/>
            <p:cNvSpPr/>
            <p:nvPr/>
          </p:nvSpPr>
          <p:spPr>
            <a:xfrm>
              <a:off x="6146640" y="22096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4760" y="3290760"/>
              <a:ext cx="2362320" cy="21337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User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04760" y="2224080"/>
              <a:ext cx="2362320" cy="1066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2224080"/>
              <a:ext cx="10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halkboard"/>
                </a:rPr>
                <a:t>Physical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44480" y="4967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19640" y="1981080"/>
              <a:ext cx="8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halkboard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0960" y="2528640"/>
              <a:ext cx="2210040" cy="2971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90960" y="2528640"/>
              <a:ext cx="221004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halkboard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0960" y="4967280"/>
              <a:ext cx="221004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halkboard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0960" y="4128840"/>
              <a:ext cx="2210040" cy="83844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0" y="32907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0" y="382428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267080" y="2528280"/>
              <a:ext cx="1447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42448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8320" y="3985920"/>
              <a:ext cx="114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Addres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halkboard"/>
                </a:rPr>
                <a:t>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4920" y="56386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32000" indent="-432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nly one process runs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can destroy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programming Goal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veral processes coexist in main memor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operating processes can share portions of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es are not aware that memory is shar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orks regardless of number and/or location of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corrupt OS or other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ivacy: Cannot read data of other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 not waste CPU or memory resour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fragmentation low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tatic Re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Allow transparent sharing - Each address space may be placed anywhere in memor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finds free space for new proc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dify addresses statically (similar to linker) when load proc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2819520"/>
            <a:ext cx="1905120" cy="289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819520"/>
            <a:ext cx="19051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581280"/>
            <a:ext cx="190512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572000"/>
            <a:ext cx="1905120" cy="60948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ces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181480"/>
            <a:ext cx="190512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oces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35160" y="36576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cess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7913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quires no hardware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cussion of Static Relocation 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 protec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can destroy OS or other 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 privac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dress space must be allocated contiguous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ocate space for worst-case stack and hea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type of fragmentation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not move address space after it has been plac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y not be able to allocate new proc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type of fragmentation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ynamic Re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Protect processes from one anoth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quires hardware suppor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Management Unit (MMU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MU dynamically changes process address at every memory refere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generates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 logical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 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ddr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mory hardware uses 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or </a:t>
            </a:r>
            <a:r>
              <a:rPr b="0" lang="en-US" sz="2000" spc="-1" strike="noStrike">
                <a:solidFill>
                  <a:srgbClr val="af67ff"/>
                </a:solidFill>
                <a:latin typeface="Chalkboard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addr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648320"/>
            <a:ext cx="221004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4724280"/>
            <a:ext cx="1676160" cy="91440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267080"/>
            <a:ext cx="12952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5105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105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000" y="426708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ru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5640" y="43434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can control M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66360" y="58672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4960" y="5715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76720" y="518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17220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ardware Support for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ynamic Re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operating mod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ivileged (protected, kernel) mode: OS ru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hen enter OS (trap, system calls, interrupts, exceptions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ws certain instructions to be execut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an manipulate contents of MMU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ws OS to access all of physical memor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mode: User processes ru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erform translation of logical address to physical addr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MU contains base and bounds registe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ase: start location for address spac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ounds: size limit of address sp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ation of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 Dynamic Relocation 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ranslation on every memory access of user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MU compares logical address to bounds regis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if logical address is greater, then generate err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MU adds base register to logical address to form physical addres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429000"/>
            <a:ext cx="685800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6576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36576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6576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6240" y="365760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92920" y="34290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3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4000" y="34290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3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1200" y="342900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1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267080"/>
            <a:ext cx="762120" cy="99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mo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=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us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486400"/>
            <a:ext cx="762120" cy="990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&l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bound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3434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5029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80060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94360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4864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+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5257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4800600"/>
            <a:ext cx="685800" cy="114300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720"/>
                </a:moveTo>
                <a:lnTo>
                  <a:pt x="432" y="720"/>
                </a:lnTo>
                <a:lnTo>
                  <a:pt x="4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77120"/>
            <a:ext cx="1752480" cy="304560"/>
          </a:xfrm>
          <a:custGeom>
            <a:avLst/>
            <a:gdLst/>
            <a:ahLst/>
            <a:rect l="l" t="t" r="r" b="b"/>
            <a:pathLst>
              <a:path w="1104" h="192">
                <a:moveTo>
                  <a:pt x="1104" y="0"/>
                </a:moveTo>
                <a:lnTo>
                  <a:pt x="1104" y="192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20" y="631656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9800" y="411480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g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06320" y="4114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hys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Example of Dynamic Reloc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 physical addresses for the following 16-bit logical address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cess 1: base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x4320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bounds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x2220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000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1110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3000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cess 2: base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x8540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bounds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x3330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000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1110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3000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0000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2-09T01:07:28Z</cp:lastPrinted>
  <dcterms:modified xsi:type="dcterms:W3CDTF">1970-02-13T23:36:33Z</dcterms:modified>
  <cp:revision>21</cp:revision>
  <dc:subject/>
  <dc:title>Synchronization</dc:title>
</cp:coreProperties>
</file>