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DFD-406E-4812-B49D-94204C98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5B1-6F55-48FF-ABC1-66BCF41B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911-50C0-44B0-BDDD-BD8304A2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E1D-D89B-48C4-8DCF-9817147B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533-7571-4EED-B23A-FC18279F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869-4BA8-43F7-ACED-F07A4C7B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7C6-8509-40CA-B1AF-92BBA197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FD4-615A-450B-923E-4E4D48EB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5114-6550-4A26-94BB-2AB244EF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225-15A5-47FD-95B8-18AF946F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449-339A-4B5C-9F5A-87378E4B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38B-AFC8-4215-AF3E-58A1F9CA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F404-428C-4AE1-9D46-290232E33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emory Management Continued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paging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segmentation and paging be combin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one speed up address translation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dvantages of Paging and Segment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 of Segme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upports sparse address spac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ecreases size of page tabl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f segment not used, not need for page tabl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 of P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 external fragment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gments can grow without any reshuffl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 run process when some pages are swapped to dis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 of Both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creases flexibility of shar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hare either single page or entire segmen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halkboard"/>
              </a:rPr>
              <a:t>How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advantages of Paging and Segment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Overhead of accessing memory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age tables reside in main mem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verhead reference for every real memory refere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arge page tabl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ust allocate page tables contiguousl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ore problematic with more address bi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Page table siz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ssume 2 bits for segment, 18 bits for page number, 12 bits for offse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age the Page Tabl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Allow page tables to be allocated non-contiguousl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: Page the page tables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reates multiple levels of page tab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ly allocate page tables for pages in us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657600"/>
            <a:ext cx="190512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uter p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(8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657600"/>
            <a:ext cx="22096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nner p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(10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3657600"/>
            <a:ext cx="33526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age offset (12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79560" y="331164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30-bit add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4876920"/>
            <a:ext cx="1828800" cy="1600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4343400"/>
            <a:ext cx="761760" cy="228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5105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5334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5562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5791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6019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6248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4038480"/>
            <a:ext cx="457200" cy="1524240"/>
          </a:xfrm>
          <a:custGeom>
            <a:avLst/>
            <a:gdLst/>
            <a:ahLst/>
            <a:rect l="l" t="t" r="r" b="b"/>
            <a:pathLst>
              <a:path w="288" h="960">
                <a:moveTo>
                  <a:pt x="240" y="0"/>
                </a:moveTo>
                <a:lnTo>
                  <a:pt x="0" y="0"/>
                </a:lnTo>
                <a:lnTo>
                  <a:pt x="0" y="960"/>
                </a:lnTo>
                <a:lnTo>
                  <a:pt x="288" y="96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6324480"/>
            <a:ext cx="190512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ase of 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5486400"/>
            <a:ext cx="844560" cy="1009800"/>
          </a:xfrm>
          <a:custGeom>
            <a:avLst/>
            <a:gdLst/>
            <a:ahLst/>
            <a:rect l="l" t="t" r="r" b="b"/>
            <a:pathLst>
              <a:path w="532" h="636">
                <a:moveTo>
                  <a:pt x="0" y="0"/>
                </a:moveTo>
                <a:lnTo>
                  <a:pt x="240" y="0"/>
                </a:lnTo>
                <a:lnTo>
                  <a:pt x="240" y="624"/>
                </a:lnTo>
                <a:cubicBezTo>
                  <a:pt x="337" y="628"/>
                  <a:pt x="434" y="632"/>
                  <a:pt x="532" y="6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6095880"/>
            <a:ext cx="457200" cy="22860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0" y="14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495680"/>
            <a:ext cx="1828800" cy="1600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4724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4952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5181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5410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5638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5867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4114800"/>
            <a:ext cx="304920" cy="1143000"/>
          </a:xfrm>
          <a:custGeom>
            <a:avLst/>
            <a:gdLst/>
            <a:ahLst/>
            <a:rect l="l" t="t" r="r" b="b"/>
            <a:pathLst>
              <a:path w="192" h="720">
                <a:moveTo>
                  <a:pt x="0" y="0"/>
                </a:moveTo>
                <a:lnTo>
                  <a:pt x="0" y="720"/>
                </a:lnTo>
                <a:lnTo>
                  <a:pt x="192" y="7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486400" y="4571640"/>
            <a:ext cx="144792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4800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34320" y="5715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age the Page Tables Continued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How should logical address be structured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many bits for each paging level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alculate such that page table fits within a pag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PTE size * number PTE = page siz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ssume PTE size = 4 bytes; page size = 4KB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^2 *  number PTE = 2^12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--&gt; number PTE = 2^10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# bits for selecting inner page = 10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pply recursively throughout logical addres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ranslation Look-Aside Buffer (TLB)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Avoid page table lookups in main mem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: Hardware cache of recent page transla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ypical size: 64 - 2K entri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dex by segment + vpn --&gt; pp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does this work?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references few unique pages in time interva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atial, temporal localit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n each memory reference, check TLB for transl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present (hit): use ppn and append page offse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lse (miss): Use segment and page tables to get pp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pdate TLB for next access (replace some entry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How does page size impact TLB performanc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ag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oal: Eliminate external fragment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dea: Divide memory into fixed-sized pa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ize: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halkboard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, Example: 4KB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hysical page: page fram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14400" y="3048120"/>
            <a:ext cx="762120" cy="1828800"/>
            <a:chOff x="914400" y="3048120"/>
            <a:chExt cx="762120" cy="1828800"/>
          </a:xfrm>
        </p:grpSpPr>
        <p:sp>
          <p:nvSpPr>
            <p:cNvPr id="49" name=""/>
            <p:cNvSpPr/>
            <p:nvPr/>
          </p:nvSpPr>
          <p:spPr>
            <a:xfrm>
              <a:off x="914400" y="3048120"/>
              <a:ext cx="7621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3352680"/>
              <a:ext cx="76212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14400" y="3657600"/>
              <a:ext cx="76212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14400" y="3962520"/>
              <a:ext cx="7621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4572000"/>
              <a:ext cx="76212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14400" y="4267080"/>
              <a:ext cx="76212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97520" y="49528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981080" y="4114800"/>
            <a:ext cx="762120" cy="1828800"/>
            <a:chOff x="1981080" y="4114800"/>
            <a:chExt cx="762120" cy="1828800"/>
          </a:xfrm>
        </p:grpSpPr>
        <p:sp>
          <p:nvSpPr>
            <p:cNvPr id="57" name=""/>
            <p:cNvSpPr/>
            <p:nvPr/>
          </p:nvSpPr>
          <p:spPr>
            <a:xfrm>
              <a:off x="1981080" y="4114800"/>
              <a:ext cx="7621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419360"/>
              <a:ext cx="7621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1080" y="4724280"/>
              <a:ext cx="7621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81080" y="5029200"/>
              <a:ext cx="7621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81080" y="5638680"/>
              <a:ext cx="7621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333760"/>
              <a:ext cx="7621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818360" y="59436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800" y="6316560"/>
            <a:ext cx="22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ogical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6553080"/>
            <a:ext cx="7617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454880" y="3594960"/>
            <a:ext cx="23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hysical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3733920"/>
            <a:ext cx="762120" cy="30456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038480"/>
            <a:ext cx="762120" cy="30492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343400"/>
            <a:ext cx="7621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4648320"/>
            <a:ext cx="762120" cy="30456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5257800"/>
            <a:ext cx="762120" cy="30492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4952880"/>
            <a:ext cx="762120" cy="30492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85040" y="55627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1447920"/>
            <a:ext cx="76176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1752480"/>
            <a:ext cx="761760" cy="30492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2057400"/>
            <a:ext cx="7617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2362320"/>
            <a:ext cx="76176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2971800"/>
            <a:ext cx="7617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0120" y="2666880"/>
            <a:ext cx="761760" cy="30492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3276720"/>
            <a:ext cx="7617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3581280"/>
            <a:ext cx="7617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3886200"/>
            <a:ext cx="761760" cy="30492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4191120"/>
            <a:ext cx="76176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4800600"/>
            <a:ext cx="7617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4495680"/>
            <a:ext cx="761760" cy="30492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5029200"/>
            <a:ext cx="761760" cy="30492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5334120"/>
            <a:ext cx="76176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5638680"/>
            <a:ext cx="7617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5943600"/>
            <a:ext cx="76176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0120" y="6248520"/>
            <a:ext cx="76176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1143000"/>
            <a:ext cx="7617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838080"/>
            <a:ext cx="7617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533520"/>
            <a:ext cx="76176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886200" y="1904760"/>
            <a:ext cx="37339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886200" y="4038480"/>
            <a:ext cx="3657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886200" y="4723920"/>
            <a:ext cx="3733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809880" y="5181120"/>
            <a:ext cx="3886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886200" y="2895480"/>
            <a:ext cx="37339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ranslation of Page Address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translate logical address to physical addres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igh-order bits of address designate page numb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ow-order bits of address designate offset within p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505320"/>
            <a:ext cx="35812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105520"/>
            <a:ext cx="35812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ram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505320"/>
            <a:ext cx="1676520" cy="60948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5105520"/>
            <a:ext cx="1676520" cy="60948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10160" y="3490920"/>
            <a:ext cx="221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Logical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38960" y="518148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Physical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83560" y="28954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3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4343400"/>
            <a:ext cx="1981440" cy="457200"/>
          </a:xfrm>
          <a:prstGeom prst="flowChartInternalStorag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3440" y="29574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2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86680" y="29718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4191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age Table Implement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age table per proces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table entry (PTE) for each virtual page number (vpn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rame number or physical page number (ppn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/W protection bi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imple vpn-&gt;ppn mapping: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 bounds checking, no addi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mply table lookup and bit substitu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many entries in tabl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n the page table reside in the MMU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rack page table base in PCB, change on context-switch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age Table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at are contents of page table for p3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3733920"/>
            <a:ext cx="762120" cy="30456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4038480"/>
            <a:ext cx="762120" cy="30492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4343400"/>
            <a:ext cx="7621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648320"/>
            <a:ext cx="762120" cy="30456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5257800"/>
            <a:ext cx="762120" cy="30492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952880"/>
            <a:ext cx="762120" cy="30492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85040" y="55627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620120" y="533520"/>
            <a:ext cx="761760" cy="6019560"/>
            <a:chOff x="7620120" y="533520"/>
            <a:chExt cx="761760" cy="6019560"/>
          </a:xfrm>
        </p:grpSpPr>
        <p:sp>
          <p:nvSpPr>
            <p:cNvPr id="126" name=""/>
            <p:cNvSpPr/>
            <p:nvPr/>
          </p:nvSpPr>
          <p:spPr>
            <a:xfrm>
              <a:off x="7620120" y="1447920"/>
              <a:ext cx="7617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0120" y="1752480"/>
              <a:ext cx="761760" cy="30492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20120" y="2057400"/>
              <a:ext cx="7617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20120" y="2362320"/>
              <a:ext cx="7617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0120" y="2971800"/>
              <a:ext cx="7617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2666880"/>
              <a:ext cx="761760" cy="30492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0120" y="3276720"/>
              <a:ext cx="76176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3581280"/>
              <a:ext cx="7617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0120" y="3886200"/>
              <a:ext cx="761760" cy="30492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20120" y="4191120"/>
              <a:ext cx="7617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0120" y="4800600"/>
              <a:ext cx="7617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0120" y="4495680"/>
              <a:ext cx="761760" cy="30492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0120" y="5029200"/>
              <a:ext cx="761760" cy="30492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20120" y="5334120"/>
              <a:ext cx="76176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0120" y="5638680"/>
              <a:ext cx="7617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20120" y="5943600"/>
              <a:ext cx="76176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0120" y="6248520"/>
              <a:ext cx="7617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0120" y="1143000"/>
              <a:ext cx="7617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0120" y="838080"/>
              <a:ext cx="7617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120" y="533520"/>
              <a:ext cx="7617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V="1">
            <a:off x="3886200" y="1904760"/>
            <a:ext cx="37339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886200" y="4038480"/>
            <a:ext cx="3657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86200" y="4723920"/>
            <a:ext cx="3733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809880" y="5181120"/>
            <a:ext cx="3886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86200" y="2895480"/>
            <a:ext cx="37339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0120" y="6548400"/>
            <a:ext cx="7617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8600" y="2286000"/>
          <a:ext cx="2819520" cy="255600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r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657600" y="2209680"/>
            <a:ext cx="21337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tabl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047760" y="243828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dvantages of Pag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 external fragment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y page can be placed in any frame in physical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ast to allocate and fre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lloc: No searching for suitable free spa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ree: Doesn’t have to coallesce with adjacent free spa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Just use bitmap to show free/allocated page fram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imple to swap-out portions of memory to dis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size matches disk block siz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 run process when some pages are on dis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d “present” bit to PT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nables sharing of portions of address spa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o share a page, have PTE point to same fra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advantages of Pag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ternal fragmentation: Page size may not match size needed by proces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asted memory grows with larger pa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ension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ditional memory reference to look up in page table --&gt; Very inefficie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table must be stored in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MU stores only base address of page tab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orage for page tables may be substantia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mple page table: Requires PTE for all pages in address sp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ntry needed even if page not allocat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blematic with dynamic stack and heap within address sp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mbine Paging and Segment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More efficient support for sparse address spac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: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vide address space into segments (code, heap, stack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gments can be variable length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vide each segment into fixed-sized pa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ogical address divided into three portions: System 370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114800"/>
            <a:ext cx="33526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offset (12 b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4114800"/>
            <a:ext cx="221004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age number (8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4114800"/>
            <a:ext cx="10666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g #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(4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487692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segment has a pag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segment track base (physical address) and bounds of page table (number of P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Chalkboard"/>
              </a:rPr>
              <a:t>What changes on a context-switch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xample of Paging and Segment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ranslate 24-bit logical to physical address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09480" y="2209680"/>
          <a:ext cx="4038840" cy="1727280"/>
        </p:xfrm>
        <a:graphic>
          <a:graphicData uri="http://schemas.openxmlformats.org/drawingml/2006/table">
            <a:tbl>
              <a:tblPr/>
              <a:tblGrid>
                <a:gridCol w="609840"/>
                <a:gridCol w="1409760"/>
                <a:gridCol w="1009440"/>
                <a:gridCol w="10098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0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0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334120" y="2111400"/>
          <a:ext cx="1981080" cy="474660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1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0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7392960" y="60958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00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16640" y="3962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00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4495680"/>
            <a:ext cx="5715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002070 re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202016 re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104c84 re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010424 wri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210014 wri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203568 re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1970-02-13T23:37:11Z</cp:lastPrinted>
  <dcterms:modified xsi:type="dcterms:W3CDTF">1970-02-16T02:36:36Z</dcterms:modified>
  <cp:revision>23</cp:revision>
  <dc:subject/>
  <dc:title>Synchronization</dc:title>
</cp:coreProperties>
</file>