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47200" cy="93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76480" y="-360"/>
            <a:ext cx="29667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04880"/>
            <a:ext cx="4699080" cy="35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4000" y="4463640"/>
            <a:ext cx="54766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924760"/>
            <a:ext cx="296712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76480" y="8924760"/>
            <a:ext cx="296676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098D-7497-42A7-8C8C-B92B42011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07316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4000" y="4463640"/>
            <a:ext cx="54766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ptr.com/articles/article/asp?p=174103&amp;seqNum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07316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4000" y="4463640"/>
            <a:ext cx="54766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bits, 9-bits, 9-bits, 12-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F723-CFA0-406C-82B5-136D59E1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87A9-F3AC-4A1D-824B-BB831DFE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86BD-F92C-4C58-B6B4-1B60859D8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F6E4-F72E-497A-A6BD-199FE3BF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FF90-03CB-43A0-8369-22B02719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91B3-F7C9-4895-B656-6A05C27F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A191-87EC-470B-9BE3-9501610F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6E9A-CF86-4164-9A91-7DC94E62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C809-358E-440B-A4E8-E87C931D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A32E-CB62-45DD-A8B0-C7B6176B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A776-D936-484F-AB3F-B0F6983C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C3ED-E223-4415-BE46-16010B3F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E3A8-8AD8-400C-AD62-11B01733E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ress Translation with P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ies for X86, SPARC, and Power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bout 64-bit X86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-64 (AMD64 or EM64T) supports a 64-bit virtual address (only 48 bits effec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cy 32-bit (32-bit VA, 32-bit 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cy PAE (32-bit VA, up to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5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bit 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PAE mode (64-bit VA, 52-bit 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mode require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vels of page tables to map 48-bit VA to 52-bit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9680" y="6434280"/>
            <a:ext cx="578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D64 Architecture Programmer’s Manual Volume 2: System Programming, Ch.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C Address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-bit virtual address obtained via PowerPC segmentation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2-bit physical (“real”)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TEs organized in a hash table (HT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HTAB entry is a page table entry group (PTE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TEG has (8) 16-byte P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h function on VPN gives the index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TEGs (Primary and secondary PTE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ing 16 PTEs searched for a VPN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atch =&gt; page f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C Se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B is an “associative memory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 36 bits of a program-generated “effective address used as a tag called the effective segment id (ES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arch for tag value in SL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match exists, property bits validated fo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ailed match causes segment 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ociated 52-bit virtual segment id (VSID) is concatenated with the remaining address bits to form an 80-bit virtual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gmentation used to separate processes within the large virtual address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2604960"/>
            <a:ext cx="914400" cy="2438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23880" y="2604960"/>
            <a:ext cx="1752840" cy="2438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352680" y="2604960"/>
            <a:ext cx="457200" cy="2438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-918360" y="3655440"/>
            <a:ext cx="241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 Lookaside Buffer (SL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1447920"/>
            <a:ext cx="1828800" cy="2286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-bit ES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362320" y="1447920"/>
            <a:ext cx="1295280" cy="2286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address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3520" y="1676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447920" y="167652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3520" y="2666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2743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2819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3352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3520" y="2971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3520" y="3048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23880" y="26668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3880" y="27432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28195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23880" y="28954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523880" y="29718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30481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523880" y="31240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6880" y="472428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33200" y="472428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2-bit VS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6200000">
            <a:off x="2578680" y="3821400"/>
            <a:ext cx="19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y bits (U/S, X, 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5268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35268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5268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35268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35268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35268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19764000">
            <a:off x="610560" y="2057040"/>
            <a:ext cx="127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sociative Look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3520" y="5562720"/>
            <a:ext cx="2743200" cy="2286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2-bit VS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1880" y="1143000"/>
            <a:ext cx="353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-bit “effective” address generated by a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5562720"/>
            <a:ext cx="1295280" cy="2286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address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"/>
          <p:cNvCxnSpPr>
            <a:stCxn id="270" idx="3"/>
            <a:endCxn id="300" idx="3"/>
          </p:cNvCxnSpPr>
          <p:nvPr/>
        </p:nvCxnSpPr>
        <p:spPr>
          <a:xfrm>
            <a:off x="3665520" y="1562040"/>
            <a:ext cx="915120" cy="4115520"/>
          </a:xfrm>
          <a:prstGeom prst="curvedConnector5">
            <a:avLst>
              <a:gd name="adj1" fmla="val 124124"/>
              <a:gd name="adj2" fmla="val 49995"/>
              <a:gd name="adj3" fmla="val 124124"/>
            </a:avLst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302" name=""/>
          <p:cNvSpPr/>
          <p:nvPr/>
        </p:nvSpPr>
        <p:spPr>
          <a:xfrm flipV="1">
            <a:off x="533520" y="502920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2767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46400" y="5791320"/>
            <a:ext cx="354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-bit “virtual” address used for page table look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21038400">
            <a:off x="1599120" y="518112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ching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C Page Table Loo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867280" y="1599840"/>
            <a:ext cx="2819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ble size hash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or register points to hash table base and gives table’s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chitecture-defined hash function on virtual address returns two possible hash table e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of the 16 possible PTEs is checked for a VA m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no match then page 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ibility that a translation exists but that it can’t fit in the hash table – OS must ha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219320" y="3429000"/>
            <a:ext cx="3047400" cy="1981080"/>
            <a:chOff x="1219320" y="3429000"/>
            <a:chExt cx="3047400" cy="1981080"/>
          </a:xfrm>
        </p:grpSpPr>
        <p:grpSp>
          <p:nvGrpSpPr>
            <p:cNvPr id="309" name=""/>
            <p:cNvGrpSpPr/>
            <p:nvPr/>
          </p:nvGrpSpPr>
          <p:grpSpPr>
            <a:xfrm>
              <a:off x="1219320" y="3429000"/>
              <a:ext cx="3047400" cy="1981080"/>
              <a:chOff x="1219320" y="3429000"/>
              <a:chExt cx="3047400" cy="1981080"/>
            </a:xfrm>
          </p:grpSpPr>
          <p:sp>
            <p:nvSpPr>
              <p:cNvPr id="310" name=""/>
              <p:cNvSpPr/>
              <p:nvPr/>
            </p:nvSpPr>
            <p:spPr>
              <a:xfrm>
                <a:off x="1219320" y="3429000"/>
                <a:ext cx="3047400" cy="198108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219320" y="3581280"/>
                <a:ext cx="304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219320" y="3733560"/>
                <a:ext cx="304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219320" y="3885840"/>
                <a:ext cx="304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219320" y="4038480"/>
                <a:ext cx="304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219320" y="4190760"/>
                <a:ext cx="304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219320" y="4343040"/>
                <a:ext cx="304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219320" y="4495680"/>
                <a:ext cx="304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2743200" y="34290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981080" y="34290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05320" y="34290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362320" y="34290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124080" y="34290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219320" y="34290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00200" y="34290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86200" y="34290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1221840" y="5029200"/>
            <a:ext cx="21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h Table (HT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1676520"/>
            <a:ext cx="4038480" cy="2286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-bit virtual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371600" y="2362320"/>
            <a:ext cx="2590920" cy="228600"/>
          </a:xfrm>
          <a:prstGeom prst="rect">
            <a:avLst/>
          </a:prstGeom>
          <a:solidFill>
            <a:srgbClr val="dddddd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hash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371600" y="2666880"/>
            <a:ext cx="2590920" cy="228600"/>
          </a:xfrm>
          <a:prstGeom prst="rect">
            <a:avLst/>
          </a:prstGeom>
          <a:solidFill>
            <a:srgbClr val="b2b2b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hash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2120" y="19051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962520" y="190512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055600" y="19810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sh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219320" y="4191120"/>
            <a:ext cx="3047760" cy="152280"/>
          </a:xfrm>
          <a:prstGeom prst="rect">
            <a:avLst/>
          </a:prstGeom>
          <a:solidFill>
            <a:srgbClr val="b2b2b2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ary PTE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219320" y="3733920"/>
            <a:ext cx="3047760" cy="152280"/>
          </a:xfrm>
          <a:prstGeom prst="rect">
            <a:avLst/>
          </a:prstGeom>
          <a:solidFill>
            <a:srgbClr val="b2b2b2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mary PTE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5" name=""/>
          <p:cNvCxnSpPr>
            <a:stCxn id="328" idx="1"/>
            <a:endCxn id="334" idx="1"/>
          </p:cNvCxnSpPr>
          <p:nvPr/>
        </p:nvCxnSpPr>
        <p:spPr>
          <a:xfrm flipV="1" rot="10800000">
            <a:off x="1218600" y="2476080"/>
            <a:ext cx="144720" cy="1334160"/>
          </a:xfrm>
          <a:prstGeom prst="curvedConnector5">
            <a:avLst>
              <a:gd name="adj1" fmla="val 258852"/>
              <a:gd name="adj2" fmla="val 49986"/>
              <a:gd name="adj3" fmla="val 258852"/>
            </a:avLst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cxnSp>
        <p:nvCxnSpPr>
          <p:cNvPr id="336" name=""/>
          <p:cNvCxnSpPr>
            <a:stCxn id="329" idx="1"/>
            <a:endCxn id="333" idx="1"/>
          </p:cNvCxnSpPr>
          <p:nvPr/>
        </p:nvCxnSpPr>
        <p:spPr>
          <a:xfrm flipV="1" rot="10800000">
            <a:off x="1218600" y="2780280"/>
            <a:ext cx="144720" cy="1486440"/>
          </a:xfrm>
          <a:prstGeom prst="curvedConnector5">
            <a:avLst>
              <a:gd name="adj1" fmla="val 258852"/>
              <a:gd name="adj2" fmla="val 50000"/>
              <a:gd name="adj3" fmla="val 258852"/>
            </a:avLst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838080" y="5943600"/>
            <a:ext cx="5334120" cy="2286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-byte P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5400000">
            <a:off x="4445280" y="5045760"/>
            <a:ext cx="814320" cy="866520"/>
          </a:xfrm>
          <a:custGeom>
            <a:avLst/>
            <a:gdLst>
              <a:gd name="textAreaLeft" fmla="*/ 0 w 814320"/>
              <a:gd name="textAreaRight" fmla="*/ 814680 w 814320"/>
              <a:gd name="textAreaTop" fmla="*/ 0 h 866520"/>
              <a:gd name="textAreaBottom" fmla="*/ 866880 h 86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67160" y="505152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19720" y="3886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t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4952160" y="396576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C PTE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657600" y="3580920"/>
            <a:ext cx="419112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-byte P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VPN and RP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only 57 bit VP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066680" y="1981080"/>
            <a:ext cx="6934320" cy="5335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066680" y="2514600"/>
            <a:ext cx="6934320" cy="5335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62940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77240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54380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975960" y="1709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324840" y="17524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496640" y="17064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039440" y="17064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91800" y="3002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725240" y="17064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29528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52388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18148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449000" y="3002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905720" y="30020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62940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40080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7220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94360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896440" y="30020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25040" y="30020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324840" y="30020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1520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553440" y="30020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039440" y="30020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54380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268040" y="30020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496640" y="30020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725240" y="30020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08120" y="2133720"/>
            <a:ext cx="283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breviated Virtual Page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737760" y="213372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301880" y="21337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521840" y="2133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72164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063080" y="26668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291680" y="26668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513160" y="266688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l Page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258880" y="26668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563800" y="26668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899320" y="2522520"/>
            <a:ext cx="22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21440" y="26668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378840" y="26668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616080" y="266688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M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72720" y="26668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66120" y="2666880"/>
            <a:ext cx="4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068840" y="3581280"/>
            <a:ext cx="2329560" cy="22251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=Available for OS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=Hash function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=Valid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=Address compare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=Referenced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=Changed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MG=Storage control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=No execute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=Page protection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0480" y="6537240"/>
            <a:ext cx="501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PC Operating Environment Architecture, Book III, Version 2.01, Sections 4.3-4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Translation F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table logically accessed 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ry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ing has turned each memory reference into at least three memory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table access has temporal loc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cache to speed up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 Lookaside Buffer (TL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ic TL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che of recently used P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– usually about 64 e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ge impact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organizations, search strategies, and levels of OS involvement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X86 and SP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657600" y="4876920"/>
            <a:ext cx="1981080" cy="1371600"/>
          </a:xfrm>
          <a:prstGeom prst="rect">
            <a:avLst/>
          </a:prstGeom>
          <a:solidFill>
            <a:srgbClr val="dddddd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590920" y="5334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729400" y="5334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96520" y="534816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04000" y="5334120"/>
            <a:ext cx="21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Addres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 Mis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LB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762120" y="2424240"/>
            <a:ext cx="685800" cy="3657600"/>
            <a:chOff x="762120" y="2424240"/>
            <a:chExt cx="685800" cy="3657600"/>
          </a:xfrm>
        </p:grpSpPr>
        <p:sp>
          <p:nvSpPr>
            <p:cNvPr id="404" name=""/>
            <p:cNvSpPr/>
            <p:nvPr/>
          </p:nvSpPr>
          <p:spPr>
            <a:xfrm>
              <a:off x="762120" y="2424240"/>
              <a:ext cx="685800" cy="36576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2120" y="26528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2120" y="28814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2120" y="31100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2120" y="33386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62120" y="35672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2120" y="37958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62120" y="40244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62120" y="42530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62120" y="44816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62120" y="47102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62120" y="49388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62120" y="51674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62120" y="53960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62120" y="56246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62120" y="58532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349960" y="2452680"/>
            <a:ext cx="685800" cy="914400"/>
            <a:chOff x="5349960" y="2452680"/>
            <a:chExt cx="685800" cy="914400"/>
          </a:xfrm>
        </p:grpSpPr>
        <p:sp>
          <p:nvSpPr>
            <p:cNvPr id="421" name=""/>
            <p:cNvSpPr/>
            <p:nvPr/>
          </p:nvSpPr>
          <p:spPr>
            <a:xfrm>
              <a:off x="5349960" y="2452680"/>
              <a:ext cx="685800" cy="914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49960" y="2681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349960" y="2909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49960" y="3138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6111720" y="2452680"/>
            <a:ext cx="685800" cy="914400"/>
            <a:chOff x="6111720" y="2452680"/>
            <a:chExt cx="685800" cy="914400"/>
          </a:xfrm>
        </p:grpSpPr>
        <p:sp>
          <p:nvSpPr>
            <p:cNvPr id="426" name=""/>
            <p:cNvSpPr/>
            <p:nvPr/>
          </p:nvSpPr>
          <p:spPr>
            <a:xfrm>
              <a:off x="6111720" y="2452680"/>
              <a:ext cx="685800" cy="914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111720" y="2681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111720" y="2909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111720" y="3138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873840" y="2452680"/>
            <a:ext cx="685800" cy="914400"/>
            <a:chOff x="6873840" y="2452680"/>
            <a:chExt cx="685800" cy="914400"/>
          </a:xfrm>
        </p:grpSpPr>
        <p:sp>
          <p:nvSpPr>
            <p:cNvPr id="431" name=""/>
            <p:cNvSpPr/>
            <p:nvPr/>
          </p:nvSpPr>
          <p:spPr>
            <a:xfrm>
              <a:off x="6873840" y="2452680"/>
              <a:ext cx="685800" cy="914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873840" y="2681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73840" y="2909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873840" y="3138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7635960" y="2452680"/>
            <a:ext cx="685800" cy="914400"/>
            <a:chOff x="7635960" y="2452680"/>
            <a:chExt cx="685800" cy="914400"/>
          </a:xfrm>
        </p:grpSpPr>
        <p:sp>
          <p:nvSpPr>
            <p:cNvPr id="436" name=""/>
            <p:cNvSpPr/>
            <p:nvPr/>
          </p:nvSpPr>
          <p:spPr>
            <a:xfrm>
              <a:off x="7635960" y="2452680"/>
              <a:ext cx="685800" cy="914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635960" y="2681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35960" y="2909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635960" y="3138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2743200" y="2452680"/>
            <a:ext cx="685800" cy="1828800"/>
            <a:chOff x="2743200" y="2452680"/>
            <a:chExt cx="685800" cy="1828800"/>
          </a:xfrm>
        </p:grpSpPr>
        <p:sp>
          <p:nvSpPr>
            <p:cNvPr id="441" name=""/>
            <p:cNvSpPr/>
            <p:nvPr/>
          </p:nvSpPr>
          <p:spPr>
            <a:xfrm>
              <a:off x="2743200" y="2452680"/>
              <a:ext cx="685800" cy="18288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743200" y="2681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743200" y="2909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743200" y="3138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43200" y="3367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743200" y="3595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743200" y="3824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743200" y="4052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3505320" y="2452680"/>
            <a:ext cx="685800" cy="1828800"/>
            <a:chOff x="3505320" y="2452680"/>
            <a:chExt cx="685800" cy="1828800"/>
          </a:xfrm>
        </p:grpSpPr>
        <p:sp>
          <p:nvSpPr>
            <p:cNvPr id="450" name=""/>
            <p:cNvSpPr/>
            <p:nvPr/>
          </p:nvSpPr>
          <p:spPr>
            <a:xfrm>
              <a:off x="3505320" y="2452680"/>
              <a:ext cx="685800" cy="18288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505320" y="2681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05320" y="2909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505320" y="3138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505320" y="3367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505320" y="3595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505320" y="3824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05320" y="4052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418680" y="2363760"/>
            <a:ext cx="394200" cy="37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960480" y="21193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485800" y="2376360"/>
            <a:ext cx="28728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935440" y="214776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697560" y="214776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106960" y="2392200"/>
            <a:ext cx="2872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505840" y="214776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267600" y="214776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064640" y="2147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826760" y="2147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1676520" y="4800600"/>
            <a:ext cx="7162560" cy="838080"/>
            <a:chOff x="1676520" y="4800600"/>
            <a:chExt cx="7162560" cy="838080"/>
          </a:xfrm>
        </p:grpSpPr>
        <p:grpSp>
          <p:nvGrpSpPr>
            <p:cNvPr id="469" name=""/>
            <p:cNvGrpSpPr/>
            <p:nvPr/>
          </p:nvGrpSpPr>
          <p:grpSpPr>
            <a:xfrm>
              <a:off x="1676520" y="4800600"/>
              <a:ext cx="7162560" cy="838080"/>
              <a:chOff x="1676520" y="4800600"/>
              <a:chExt cx="7162560" cy="838080"/>
            </a:xfrm>
          </p:grpSpPr>
          <p:sp>
            <p:nvSpPr>
              <p:cNvPr id="470" name=""/>
              <p:cNvSpPr/>
              <p:nvPr/>
            </p:nvSpPr>
            <p:spPr>
              <a:xfrm>
                <a:off x="1676520" y="5029200"/>
                <a:ext cx="0" cy="228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676520" y="5029200"/>
                <a:ext cx="33526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676520" y="5257800"/>
                <a:ext cx="35049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8839080" y="5028840"/>
                <a:ext cx="0" cy="228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410080" y="5257800"/>
                <a:ext cx="34286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5333760" y="5029200"/>
                <a:ext cx="35049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5028840" y="4800600"/>
                <a:ext cx="152280" cy="838080"/>
                <a:chOff x="5028840" y="4800600"/>
                <a:chExt cx="152280" cy="838080"/>
              </a:xfrm>
            </p:grpSpPr>
            <p:sp>
              <p:nvSpPr>
                <p:cNvPr id="477" name=""/>
                <p:cNvSpPr/>
                <p:nvPr/>
              </p:nvSpPr>
              <p:spPr>
                <a:xfrm flipH="1">
                  <a:off x="5028840" y="480060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V="1">
                  <a:off x="5029200" y="510516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H="1">
                  <a:off x="5104800" y="5105520"/>
                  <a:ext cx="759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5257440" y="4800600"/>
                <a:ext cx="152280" cy="838080"/>
                <a:chOff x="5257440" y="4800600"/>
                <a:chExt cx="152280" cy="838080"/>
              </a:xfrm>
            </p:grpSpPr>
            <p:sp>
              <p:nvSpPr>
                <p:cNvPr id="481" name=""/>
                <p:cNvSpPr/>
                <p:nvPr/>
              </p:nvSpPr>
              <p:spPr>
                <a:xfrm flipH="1">
                  <a:off x="5257440" y="480060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V="1">
                  <a:off x="5257800" y="510516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H="1">
                  <a:off x="5333400" y="5105520"/>
                  <a:ext cx="759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4" name=""/>
            <p:cNvSpPr/>
            <p:nvPr/>
          </p:nvSpPr>
          <p:spPr>
            <a:xfrm>
              <a:off x="236196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04776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56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41936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15328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46748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70536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4360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1864080" y="4724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562480" y="4724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202200" y="4724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956400" y="4724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650120" y="4724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487840" y="47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38720" y="4724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99400" y="4724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653240" y="472428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329680" y="4724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36480" y="61102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map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603440" y="525780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y assoc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617920" y="428148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way set assoc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267160" y="3322800"/>
            <a:ext cx="26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-way set assoc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62120" y="1417680"/>
            <a:ext cx="2057400" cy="2286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819520" y="1417680"/>
            <a:ext cx="4267080" cy="2286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28280" y="1382760"/>
            <a:ext cx="193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g (virtual page numb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791080" y="1387440"/>
            <a:ext cx="18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(page table ent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7240" y="106668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90120" y="1752480"/>
            <a:ext cx="430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ous ways to organize a 16-entry T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41720" y="556272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ok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index (index = tag % num_se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for tag within the resulting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not use upper bits of tag value for inde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362320" y="3505320"/>
            <a:ext cx="20574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4419720" y="373356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862520" y="37702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133720" y="2470320"/>
            <a:ext cx="380880" cy="1218960"/>
            <a:chOff x="2133720" y="2470320"/>
            <a:chExt cx="380880" cy="1218960"/>
          </a:xfrm>
        </p:grpSpPr>
        <p:sp>
          <p:nvSpPr>
            <p:cNvPr id="517" name=""/>
            <p:cNvSpPr/>
            <p:nvPr/>
          </p:nvSpPr>
          <p:spPr>
            <a:xfrm>
              <a:off x="2133720" y="2470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133720" y="36892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"/>
          <p:cNvSpPr/>
          <p:nvPr/>
        </p:nvSpPr>
        <p:spPr>
          <a:xfrm rot="16200000">
            <a:off x="1597680" y="28893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ociativity Trade-of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associa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utilization, fewer coll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associa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, less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chance of coll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page size affect TLB perform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86 TL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B management shared by processor and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 fills TLB on demand from page table (the OS is unaware of TLB mis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 evicts entries when a new entry must be added and no free slots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system ensures TLB/page table consistency by flushing entries as needed when the page tables are updated or switched (e.g. during a context swi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B entries can be removed by the OS one at a time using the INVLPG instruction or the entire TLB can be flushed at once by writing a new entry into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y? (revie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a page table entry (PTE) cont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re page tables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page table access f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ching e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ion lookaside buffer (TL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B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Pentium-M TL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different TL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 TLB for 4K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 entries, 4-way set associ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 TLB for large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entries, fully associ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LB for 4K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 entries, 4-way set associ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LB for large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entries, 4-way set associ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LBs use LRU replacement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ifferent TLBs for instruction, data, and page siz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RC TL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RC is RISC (simpler is better) C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a “software-managed” TL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LB miss causes a fault, handled by 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 explicitly adds entries to TL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 is free to organize its page tables in any way it wants because the CPU does not us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Linux uses a tree like X86, Solaris uses a hash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imizing Flus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SPARC, TLB misses trap to OS (SLOW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avoid TLB mi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ain TLB contents across context 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RC TLB entries enhanced with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text 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 id allows entries with the same VPN to coexist in the TLB (e.g. entries from different process address 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process is switched back onto a processor, chances are that some of its TLB state has been retained from the last time it 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LB entries shared (OS kernel mem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as 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xt id ignored during m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UltraSPARC III TL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different TL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 TL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entries, fully associative (supports all page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 entries, 2-way set associative (8K pages on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L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entries, fully associative (supports all page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x 512 entries, 2-way set associative (each supports one page size per proc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 page sizes – 8K (default), 64K, 512K, and 4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-bit context id – 8192 different concurrent address sp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s if you have &gt; 8192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eding Up TLB Miss Hand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ome cases a huge amount of time can be spent handling TLB misses (2-50% in one study of SuperSPARC and Sun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architectures that use software managed TLBs have hardware assisted TLB miss hand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RC uses a large, virtually-indexed, direct-mapped, physically contiguous table of recently used TLB entries called the Translation Storage Buffer (TS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cation of the TSB is loaded into the processor on context switch (implies one TSB per proc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LB miss, hardware calculates the offset of the matching entry into the TSB and supplies it to the software TLB miss hand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software TLB miss handler only needs to make a tag comparison to the TSB entry, load it into the TLB, and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 access misses in the TSB then a slow software search of page tables i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ic Page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divided in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 is a collection of PTEs that maps a virtual page number to a P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 and content vary with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virtual to physical mapping =&gt; page 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76400" y="44197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page 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85400" y="4800600"/>
            <a:ext cx="21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E (or page fau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21280" y="4038480"/>
            <a:ext cx="1600200" cy="76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21280" y="4191120"/>
            <a:ext cx="1600200" cy="75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21280" y="4343400"/>
            <a:ext cx="1600200" cy="76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21280" y="4495680"/>
            <a:ext cx="1600200" cy="76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21280" y="4648320"/>
            <a:ext cx="1600200" cy="75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21280" y="4800600"/>
            <a:ext cx="1600200" cy="76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21280" y="4952880"/>
            <a:ext cx="1600200" cy="76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21280" y="5105520"/>
            <a:ext cx="1600200" cy="75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21280" y="5486400"/>
            <a:ext cx="1600200" cy="76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21280" y="5638680"/>
            <a:ext cx="1600200" cy="76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21280" y="5791320"/>
            <a:ext cx="1600200" cy="75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06880" y="441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54" idx="3"/>
            <a:endCxn id="67" idx="2"/>
          </p:cNvCxnSpPr>
          <p:nvPr/>
        </p:nvCxnSpPr>
        <p:spPr>
          <a:xfrm>
            <a:off x="2666880" y="4603680"/>
            <a:ext cx="5407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7" idx="6"/>
            <a:endCxn id="62" idx="1"/>
          </p:cNvCxnSpPr>
          <p:nvPr/>
        </p:nvCxnSpPr>
        <p:spPr>
          <a:xfrm>
            <a:off x="3587760" y="4610160"/>
            <a:ext cx="534240" cy="38160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2" idx="3"/>
            <a:endCxn id="55" idx="1"/>
          </p:cNvCxnSpPr>
          <p:nvPr/>
        </p:nvCxnSpPr>
        <p:spPr>
          <a:xfrm flipV="1">
            <a:off x="5721480" y="4984200"/>
            <a:ext cx="762480" cy="6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 rot="16200000">
            <a:off x="4627800" y="51278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3886200"/>
            <a:ext cx="1904760" cy="243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89040" y="588168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ic P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TE maps virtual page to physical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 some page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?, writable?, dirty?, cache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3505320"/>
            <a:ext cx="2971800" cy="457200"/>
          </a:xfrm>
          <a:prstGeom prst="rect">
            <a:avLst/>
          </a:prstGeom>
          <a:solidFill>
            <a:srgbClr val="b2b2b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Page 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05720" y="3505320"/>
            <a:ext cx="1752480" cy="4572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y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3505320"/>
            <a:ext cx="2971800" cy="457200"/>
          </a:xfrm>
          <a:prstGeom prst="rect">
            <a:avLst/>
          </a:prstGeom>
          <a:solidFill>
            <a:srgbClr val="b2b2b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Page 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6760" y="4267080"/>
            <a:ext cx="4327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cronyms used in this lect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E = page table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E = page directory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 = virtua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 = physica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N = virtual 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R,P}PN = {real, physical} 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 Page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ize memory use (PT are pure overh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(logically accessed on every memory re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 lea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ct data struc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1) access (e.g. indexed lookup, hasht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X86 and Power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86-32 Address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 organized as a two-level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because address space is sp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level of the tree indexed using a piece of the virtual page number for fast look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et of page tables per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et of page tables pointed to by CR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walks the page tables to find trans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ed and dirty bits updated by 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K or 4M (sometimes 2M)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86-32 PDE and PTE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4397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4397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4397400"/>
            <a:ext cx="759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397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4397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4397400"/>
            <a:ext cx="759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4397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52680" y="4397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05320" y="4397400"/>
            <a:ext cx="759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4397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9880" y="4397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4397400"/>
            <a:ext cx="759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4397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4397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4397400"/>
            <a:ext cx="759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4397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24280" y="4397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76920" y="4397400"/>
            <a:ext cx="759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4397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397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4397400"/>
            <a:ext cx="75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439740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439740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4397400"/>
            <a:ext cx="75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439740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5880" y="439740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48520" y="4397400"/>
            <a:ext cx="75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439740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53080" y="439740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4397400"/>
            <a:ext cx="75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0" y="439740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10280" y="439740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5658120" y="4438080"/>
            <a:ext cx="1089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r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s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che Disab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-throug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/Supervis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/Wr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640" y="6537240"/>
            <a:ext cx="428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A-32 Intel Architecture Software Developer’s Manual, Volume 3, pg. 3-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63040" y="4137120"/>
            <a:ext cx="281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 bit page number of a physical memory p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40120" y="4137120"/>
            <a:ext cx="108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 bit proper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56386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is the virtual page numb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page is not present, all but bit 0 are available for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2165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2165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2165400"/>
            <a:ext cx="759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2165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2165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2165400"/>
            <a:ext cx="759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2165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165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2165400"/>
            <a:ext cx="759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2165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2165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2165400"/>
            <a:ext cx="759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2165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67080" y="2165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19720" y="2165400"/>
            <a:ext cx="759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2165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2165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2165400"/>
            <a:ext cx="759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2165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2165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2165400"/>
            <a:ext cx="75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216540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216540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2165400"/>
            <a:ext cx="75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216540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216540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2165400"/>
            <a:ext cx="75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216540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53080" y="216540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2165400"/>
            <a:ext cx="75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216540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16540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5658120" y="2206440"/>
            <a:ext cx="1089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 or 4M P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s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che Disab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-throug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/Supervis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/Wr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96560" y="1905120"/>
            <a:ext cx="179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 bit page number of a P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40120" y="1905120"/>
            <a:ext cx="108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 bit proper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3120" y="1484280"/>
            <a:ext cx="29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Directory Entry (P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07840" y="367200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Table Entry (P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86-32 Page Table Loo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4864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10 address bits index page directory and return a page directory entry that points to a 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 10 bits index the page table that points to a physical memory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 12 bits are an offset to a single byte in the physical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 made at each step to ensure desired page is available in memory and that the process making the request has sufficient rights to access the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3259080"/>
            <a:ext cx="487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23960" y="3525840"/>
            <a:ext cx="914400" cy="5335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1143000" y="3791880"/>
            <a:ext cx="75960" cy="533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1143000" y="3334680"/>
            <a:ext cx="75960" cy="533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1143000" y="3106080"/>
            <a:ext cx="75960" cy="533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6200000">
            <a:off x="2171520" y="5202000"/>
            <a:ext cx="914400" cy="5331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2171520" y="3979800"/>
            <a:ext cx="914400" cy="5331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2171520" y="2760480"/>
            <a:ext cx="914400" cy="5331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2590920" y="5621040"/>
            <a:ext cx="7596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2590560" y="5468760"/>
            <a:ext cx="7632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2590920" y="4093920"/>
            <a:ext cx="7596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2590560" y="3027240"/>
            <a:ext cx="7632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2590920" y="2950920"/>
            <a:ext cx="7596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2590560" y="2417760"/>
            <a:ext cx="7632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05120" y="2494080"/>
            <a:ext cx="48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05120" y="3710160"/>
            <a:ext cx="48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05120" y="4935600"/>
            <a:ext cx="48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447920" y="2572920"/>
            <a:ext cx="914400" cy="762480"/>
            <a:chOff x="1447920" y="2572920"/>
            <a:chExt cx="914400" cy="762480"/>
          </a:xfrm>
        </p:grpSpPr>
        <p:sp>
          <p:nvSpPr>
            <p:cNvPr id="179" name=""/>
            <p:cNvSpPr/>
            <p:nvPr/>
          </p:nvSpPr>
          <p:spPr>
            <a:xfrm>
              <a:off x="1447920" y="3335400"/>
              <a:ext cx="3049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752840" y="2572920"/>
              <a:ext cx="0" cy="762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52840" y="2573280"/>
              <a:ext cx="6094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447920" y="3563640"/>
            <a:ext cx="914400" cy="228960"/>
            <a:chOff x="1447920" y="3563640"/>
            <a:chExt cx="914400" cy="228960"/>
          </a:xfrm>
        </p:grpSpPr>
        <p:sp>
          <p:nvSpPr>
            <p:cNvPr id="183" name=""/>
            <p:cNvSpPr/>
            <p:nvPr/>
          </p:nvSpPr>
          <p:spPr>
            <a:xfrm>
              <a:off x="1447920" y="3563640"/>
              <a:ext cx="3049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52840" y="356400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52840" y="3792240"/>
              <a:ext cx="6094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447920" y="4020840"/>
            <a:ext cx="914400" cy="990720"/>
            <a:chOff x="1447920" y="4020840"/>
            <a:chExt cx="914400" cy="990720"/>
          </a:xfrm>
        </p:grpSpPr>
        <p:sp>
          <p:nvSpPr>
            <p:cNvPr id="187" name=""/>
            <p:cNvSpPr/>
            <p:nvPr/>
          </p:nvSpPr>
          <p:spPr>
            <a:xfrm>
              <a:off x="1447920" y="4020840"/>
              <a:ext cx="3049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52840" y="4021200"/>
              <a:ext cx="0" cy="990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752840" y="5011200"/>
              <a:ext cx="6094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 rot="16200000">
            <a:off x="748800" y="4614840"/>
            <a:ext cx="79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2271960" y="6016320"/>
            <a:ext cx="63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16200000">
            <a:off x="3848040" y="2458800"/>
            <a:ext cx="914400" cy="5335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3848040" y="3373200"/>
            <a:ext cx="914400" cy="5335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6200000">
            <a:off x="3848040" y="4287600"/>
            <a:ext cx="914400" cy="5335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3848040" y="5202000"/>
            <a:ext cx="914400" cy="5335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3893400" y="6071400"/>
            <a:ext cx="749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895480" y="2649240"/>
            <a:ext cx="1142640" cy="902160"/>
            <a:chOff x="2895480" y="2649240"/>
            <a:chExt cx="1142640" cy="902160"/>
          </a:xfrm>
        </p:grpSpPr>
        <p:sp>
          <p:nvSpPr>
            <p:cNvPr id="198" name=""/>
            <p:cNvSpPr/>
            <p:nvPr/>
          </p:nvSpPr>
          <p:spPr>
            <a:xfrm>
              <a:off x="2895480" y="2649240"/>
              <a:ext cx="380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76360" y="2649600"/>
              <a:ext cx="0" cy="90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76360" y="3551040"/>
              <a:ext cx="7617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57200" y="156996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156996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1569960"/>
            <a:ext cx="759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56996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156996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1569960"/>
            <a:ext cx="759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156996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156996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76520" y="1569960"/>
            <a:ext cx="759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156996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1569960"/>
            <a:ext cx="7632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33720" y="1569960"/>
            <a:ext cx="7596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1569960"/>
            <a:ext cx="7632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38280" y="1569960"/>
            <a:ext cx="7632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1569960"/>
            <a:ext cx="7596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743200" y="1569960"/>
            <a:ext cx="7632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895480" y="1569960"/>
            <a:ext cx="7632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48120" y="1569960"/>
            <a:ext cx="7596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1569960"/>
            <a:ext cx="7632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52680" y="1569960"/>
            <a:ext cx="7632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05320" y="1569960"/>
            <a:ext cx="75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57600" y="156996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9880" y="156996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1569960"/>
            <a:ext cx="75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14800" y="156996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67080" y="156996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19720" y="1569960"/>
            <a:ext cx="75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156996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724280" y="156996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76920" y="1569960"/>
            <a:ext cx="75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156996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156996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08720" y="12952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-bit virtual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6920" y="1981080"/>
            <a:ext cx="15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bit page dir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00800" y="1981080"/>
            <a:ext cx="155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bit page tbl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348000" y="1981080"/>
            <a:ext cx="20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bit offset of byte in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46880" y="1405080"/>
            <a:ext cx="527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114800" y="31766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191120" y="31766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267080" y="31766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343400" y="31766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419720" y="31766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4495680" y="3192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384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038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038480" y="3429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38480" y="3505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038480" y="3581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38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0384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38480" y="3809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384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038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0384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43400" y="3505320"/>
            <a:ext cx="763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86-32 and P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added support for up to 64GB of physical memory in the Pentium Pro - called Physical Address Extensions (PA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a new CPU mode and another layer in the 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AE mode, 32-bit VAs map to 36-bit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-process address space is still 32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-entry page-directory-pointer-table (PDPT) points to a page directory and then translation proceeds as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directory and page table entries expanded to 64 bits to hold 36 bit physical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512 entries per 4K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K or 2M page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6:09:06Z</dcterms:created>
  <dc:creator>Todd Jones</dc:creator>
  <dc:description/>
  <dc:language>en-US</dc:language>
  <cp:lastModifiedBy>Todd Jones</cp:lastModifiedBy>
  <dcterms:modified xsi:type="dcterms:W3CDTF">2005-10-26T22:42:16Z</dcterms:modified>
  <cp:revision>52</cp:revision>
  <dc:subject/>
  <dc:title>Address Translation</dc:title>
</cp:coreProperties>
</file>