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CA47-21EB-4E56-84F9-79BEE2D7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1EF-5F65-4B18-9892-A8CB47AC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D143-342E-4921-9BCF-8A86B4CE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D52-A8BE-4DE3-8C4C-DBC242C0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F63B-1076-403D-82AB-94FD7ED4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3D46-7972-4654-AB50-C747A853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ABA-6E7D-42D5-93A4-0E2FBDDA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0C6D-BC4A-405E-AAC0-26EE1238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00C7-00ED-485D-B1B7-B918CB74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D5C0-9EA7-477A-9A99-DCAE7D89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A9B4-01A3-42B2-91E9-4E54E50E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986-099C-40C1-8C8A-1154A138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9237-90FF-49C3-B064-7B02590D7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Virtual Memor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to run process when not enough physical memory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en should a page be moved from disk to memory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page in memory should be replaced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can the LRU page be approximated efficiently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age Selec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en should a page be brought from disk into memory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Request paging: User specifies which pages are needed for proces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rliest systems: Overlay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blems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anage memory by han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Users do not always know future referenc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Users are not impartial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Demand paging: Load page only when page fault occur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tuition: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ait until page must absolutely be in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process starts: No pages are loaded in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vantages: Less work for us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blems: Pay cost of page fault for every newly accessed pag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age Selection Continued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Prepaging (anticipatory, prefetching): OS loads page into memory before page is referenc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S predicts future accesses (</a:t>
            </a: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oracle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) and brings pages into memory ahead of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ow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orks well for some access patterns (e.g., sequential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vantages: May avoid page faul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Chalkboard"/>
              </a:rPr>
              <a:t>Problems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Hints: Combine demand or prepaging with user-supplied hints about page referenc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r specifies: may need page in future, don’t need this page anymore, or sequential access pattern, ...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dvise()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in Unix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age Replacemen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ich page in main memory should selected as victim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rite out victim page to disk if modified (dirty bit se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victim page is not modified (clean), just disca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PT: Replace page not used for longest time in futu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vantages: Guaranteed to minimize number of page faul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advantages: Requires that OS predict the futu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ot practical, but good for comparison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andom: Replace any page at random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vantages: Easy to implemen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orks okay when memory is not severely over-committ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age Replacement Continued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IFO: Replace page that has been in memory the longes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tuition: First referenced long time ago, done with it now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vantages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air: All pages receive equal residenc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asy to implement (circular buffer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advantage: Some pages may always be need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RU: Replace page not used for longest time in pas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tuition: Use past to predict the futu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vantages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ith locality, LRU approximates OP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advantages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arder to implement, must track which pages have been access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oes not handle all workloads well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age Replacement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age reference string: ABCABDADBCB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ree pages of physical memo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666880" y="2971800"/>
            <a:ext cx="4343400" cy="380880"/>
            <a:chOff x="2666880" y="2971800"/>
            <a:chExt cx="4343400" cy="380880"/>
          </a:xfrm>
        </p:grpSpPr>
        <p:sp>
          <p:nvSpPr>
            <p:cNvPr id="87" name=""/>
            <p:cNvSpPr/>
            <p:nvPr/>
          </p:nvSpPr>
          <p:spPr>
            <a:xfrm>
              <a:off x="2666880" y="29718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7760" y="297180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29000" y="29718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67080" y="29718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47960" y="297180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29200" y="29718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9718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48160" y="297180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29400" y="29718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964600" y="213372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2133720"/>
            <a:ext cx="15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87240" y="2133720"/>
            <a:ext cx="6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666880" y="3429000"/>
            <a:ext cx="4343400" cy="380880"/>
            <a:chOff x="2666880" y="3429000"/>
            <a:chExt cx="4343400" cy="380880"/>
          </a:xfrm>
        </p:grpSpPr>
        <p:sp>
          <p:nvSpPr>
            <p:cNvPr id="100" name=""/>
            <p:cNvSpPr/>
            <p:nvPr/>
          </p:nvSpPr>
          <p:spPr>
            <a:xfrm>
              <a:off x="2666880" y="34290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7760" y="342900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29000" y="34290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67080" y="34290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47960" y="342900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29200" y="34290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34290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48160" y="342900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29400" y="34290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666880" y="2514600"/>
            <a:ext cx="4343400" cy="380880"/>
            <a:chOff x="2666880" y="2514600"/>
            <a:chExt cx="4343400" cy="380880"/>
          </a:xfrm>
        </p:grpSpPr>
        <p:sp>
          <p:nvSpPr>
            <p:cNvPr id="110" name=""/>
            <p:cNvSpPr/>
            <p:nvPr/>
          </p:nvSpPr>
          <p:spPr>
            <a:xfrm>
              <a:off x="2666880" y="25146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7760" y="251460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25146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67080" y="25146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47960" y="251460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9200" y="25146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67280" y="25146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48160" y="251460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29400" y="25146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666880" y="3886200"/>
            <a:ext cx="4343400" cy="380880"/>
            <a:chOff x="2666880" y="3886200"/>
            <a:chExt cx="4343400" cy="380880"/>
          </a:xfrm>
        </p:grpSpPr>
        <p:sp>
          <p:nvSpPr>
            <p:cNvPr id="120" name=""/>
            <p:cNvSpPr/>
            <p:nvPr/>
          </p:nvSpPr>
          <p:spPr>
            <a:xfrm>
              <a:off x="2666880" y="38862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7760" y="388620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29000" y="38862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67080" y="38862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7960" y="388620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38862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67280" y="38862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48160" y="388620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29400" y="38862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666880" y="4419720"/>
            <a:ext cx="4343400" cy="380880"/>
            <a:chOff x="2666880" y="4419720"/>
            <a:chExt cx="4343400" cy="380880"/>
          </a:xfrm>
        </p:grpSpPr>
        <p:sp>
          <p:nvSpPr>
            <p:cNvPr id="130" name=""/>
            <p:cNvSpPr/>
            <p:nvPr/>
          </p:nvSpPr>
          <p:spPr>
            <a:xfrm>
              <a:off x="2666880" y="441972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7760" y="441972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29000" y="441972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67080" y="441972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47960" y="441972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29200" y="441972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7280" y="441972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160" y="441972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441972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666880" y="4952880"/>
            <a:ext cx="4343400" cy="381240"/>
            <a:chOff x="2666880" y="4952880"/>
            <a:chExt cx="4343400" cy="381240"/>
          </a:xfrm>
        </p:grpSpPr>
        <p:sp>
          <p:nvSpPr>
            <p:cNvPr id="140" name=""/>
            <p:cNvSpPr/>
            <p:nvPr/>
          </p:nvSpPr>
          <p:spPr>
            <a:xfrm>
              <a:off x="2666880" y="4952880"/>
              <a:ext cx="38088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7760" y="4952880"/>
              <a:ext cx="38124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29000" y="4952880"/>
              <a:ext cx="38088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7080" y="4952880"/>
              <a:ext cx="38088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47960" y="4952880"/>
              <a:ext cx="38124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4952880"/>
              <a:ext cx="38088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67280" y="4952880"/>
              <a:ext cx="38088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48160" y="4952880"/>
              <a:ext cx="38124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29400" y="4952880"/>
              <a:ext cx="38088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666880" y="5486400"/>
            <a:ext cx="4343400" cy="380880"/>
            <a:chOff x="2666880" y="5486400"/>
            <a:chExt cx="4343400" cy="380880"/>
          </a:xfrm>
        </p:grpSpPr>
        <p:sp>
          <p:nvSpPr>
            <p:cNvPr id="150" name=""/>
            <p:cNvSpPr/>
            <p:nvPr/>
          </p:nvSpPr>
          <p:spPr>
            <a:xfrm>
              <a:off x="2666880" y="54864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7760" y="548640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54864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67080" y="54864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7960" y="548640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54864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67280" y="54864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48160" y="548640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548640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666880" y="6019920"/>
            <a:ext cx="4343400" cy="380880"/>
            <a:chOff x="2666880" y="6019920"/>
            <a:chExt cx="4343400" cy="380880"/>
          </a:xfrm>
        </p:grpSpPr>
        <p:sp>
          <p:nvSpPr>
            <p:cNvPr id="160" name=""/>
            <p:cNvSpPr/>
            <p:nvPr/>
          </p:nvSpPr>
          <p:spPr>
            <a:xfrm>
              <a:off x="2666880" y="601992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7760" y="601992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601992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67080" y="601992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47960" y="601992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9200" y="601992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67280" y="601992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48160" y="601992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601992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666880" y="6477120"/>
            <a:ext cx="4343400" cy="380880"/>
            <a:chOff x="2666880" y="6477120"/>
            <a:chExt cx="4343400" cy="380880"/>
          </a:xfrm>
        </p:grpSpPr>
        <p:sp>
          <p:nvSpPr>
            <p:cNvPr id="170" name=""/>
            <p:cNvSpPr/>
            <p:nvPr/>
          </p:nvSpPr>
          <p:spPr>
            <a:xfrm>
              <a:off x="2666880" y="647712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7760" y="647712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647712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67080" y="647712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47960" y="647712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29200" y="647712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67280" y="647712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48160" y="6477120"/>
              <a:ext cx="38124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29400" y="6477120"/>
              <a:ext cx="380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905120" y="2514600"/>
            <a:ext cx="9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10400" y="350532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9600" y="388620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11480" y="441972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99600" y="495288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10400" y="54864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11840" y="601992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10400" y="64450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11480" y="29718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age Replacement Comparis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dd more physical memory, what happens to performance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RU, OPT: Add more memory, guaranteed to have fewer (or same number of) page faul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maller memory sizes are guaranteed to contain a subset of larger memory siz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IFO: Add more memory, usually have fewer page faul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elady’s anomaly: May actually have </a:t>
            </a:r>
            <a:r>
              <a:rPr b="0" lang="en-US" sz="2000" spc="-1" strike="noStrike">
                <a:solidFill>
                  <a:srgbClr val="3333cc"/>
                </a:solidFill>
                <a:latin typeface="Chalkboard"/>
              </a:rPr>
              <a:t>more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page faults!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mplementing LRU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oftware Perfect LRU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S maintains ordered list of physical pages by reference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page is referenced: Move page to front of lis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need victim: Pick page at back of lis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ade-off: Slow on memory reference, fast on replacemen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ardware Perfect LRU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ssociate register with each pag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page is referenced: Store system clock in regist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need victim: Scan through registers to find oldest cloc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ade-off: Fast on memory reference, slow on replacement (especially as size of memory grow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 practice, do not implement Perfect LRU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RU is an approximation anyway, so approximate mo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Goal: Find an old page, but not necessarily the very oldes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ock (Second Chance) Algorithm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Keep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(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ference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) bit for each page fra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page is referenced: se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bi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 replacement: Look for page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bit cleared (has not been referenced for awhil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lementation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Keep pointer to last examined page fram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raverse pages in circular buff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ea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bits as search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top when find page with already clear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bit, replace this pag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ock Algorithm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54097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f clock hand is sweeping very fast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f clock hand is sweeping very slow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ock Extens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place multiple pages at o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tuition: Expensive to run replacement algorithm and to write single block to dis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nd multiple victims each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d software counter (“chance”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tuition: Better ability to differentiate across pages (how much they are being accessed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crement software counter 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bit is 0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place when chance exceeds some specified limi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e dirty bit to give preference to dirty p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tuition: More expensive to replace dirty pag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irty pages must be written to disk, clean pages do no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place pages that hav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bit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rty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bit clear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tiv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S goal: Support processes when not enough physical memo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ingle process with very large address spa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ultiple processes with combined address spac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er code should be independent of amount of physical memo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rrectness, if not performan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Virtual memory: OS provides illusion of more physical memo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y does this work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lies on key properties of user processes (workload) and machine architecture (hardwar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at if no Hardware Support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hat can the OS do if hardware does not hav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bit (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rty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bit)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n the OS “emulate” these bit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Leading question: 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can the OS get control (i.e., generate a trap) every ti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400" spc="-1" strike="noStrike">
                <a:solidFill>
                  <a:srgbClr val="ff00ff"/>
                </a:solidFill>
                <a:latin typeface="Chalkboar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it should be set?  (i.e., when a page is accessed?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Locality of Referenc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everage </a:t>
            </a: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locality of reference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within process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af67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Spatial: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reference memory addresses near previously referenced addres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af67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Temporal: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reference memory addresses that have referenced in the pas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cesses spend majority of time in small portion of cod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stimate: 90% of time in 10% of cod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mplication: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cess only uses small amount of address space at any momen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nly small amount of address space must be resident in physical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emory Hierarch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everage </a:t>
            </a: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memory hierarchy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of machine architectu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ach layer acts as “backing store” for layer abov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2209680"/>
            <a:ext cx="7162920" cy="3810240"/>
          </a:xfrm>
          <a:prstGeom prst="triangle">
            <a:avLst>
              <a:gd name="adj" fmla="val 50000"/>
            </a:avLst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209680"/>
            <a:ext cx="5029200" cy="2667240"/>
          </a:xfrm>
          <a:prstGeom prst="triangle">
            <a:avLst>
              <a:gd name="adj" fmla="val 4955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2209680"/>
            <a:ext cx="3352680" cy="1752840"/>
          </a:xfrm>
          <a:prstGeom prst="triangle">
            <a:avLst>
              <a:gd name="adj" fmla="val 4955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2209680"/>
            <a:ext cx="1981080" cy="990720"/>
          </a:xfrm>
          <a:prstGeom prst="triangle">
            <a:avLst>
              <a:gd name="adj" fmla="val 4905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5181480"/>
            <a:ext cx="27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isk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04920" y="4191120"/>
            <a:ext cx="25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a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15920" y="3352680"/>
            <a:ext cx="11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18800" y="266688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1337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01000" y="21337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63120" y="21337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9920" y="2143080"/>
            <a:ext cx="6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76320" y="23623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47880" y="243828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Virtual Memory Intui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dea: OS keeps unreferenced pages on disk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lower, cheaper backing store than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cess can run when not all pages are loaded into main memo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S and hardware cooperate to provide illusion of large disk as fast as main memo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ame behavior as if all of address space in main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pefully have similar performan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quirements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S must have mechanism to identify location of each page in address space in memory or on dis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S must have policy for determining which pages live in memory and which on dis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Virtual Address Space Mechanism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ach page in virtual address space maps to one of three locations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hysical main memory: Small, fast, expensiv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k (backing store): Large, slow, cheap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thing (error): Fre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tend page tables with an extra bit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missions (r/w), valid, presen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 in memory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esent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bit set in PT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 on disk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esent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bit clear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TE points to block on disk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auses trap into OS when page is referenc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67ff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67ff"/>
                </a:solidFill>
                <a:latin typeface="Chalkboard"/>
              </a:rPr>
              <a:t>Trap: page faul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Virtual Memory Mechanism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ardware and OS cooperate to translate address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irst, hardware checks TLB for virtual addres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TLB hit, address translation is done; page in physical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f TLB miss...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rdware or OS walk page tabl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PTE designates page is present, then page in physical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f page fault (i.e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esent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bit is cleared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ap into OS (not handled by hardwar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S selects victim page in memory to repla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rite victim page out to disk if modified (ad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rty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bit to PTE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S reads referenced page from disk into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 table is updated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esent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bit is se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cess continues execu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echanism for 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ntinuing a Proces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ntinuing a process after a page fault is trick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ant page fault to be transparent to us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 fault may have occurred in middle of instruc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en instruction is being fetch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en data is being loaded or stor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quires hardware suppor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f67ff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67ff"/>
                </a:solidFill>
                <a:latin typeface="Chalkboard"/>
              </a:rPr>
              <a:t>precise interrupts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: stop CPU pipeline such that instructions before faulting instruction have completed, and those after can be restart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plexity depends upon instruction se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 faulting instruction be restarted from beginning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ample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ve +(SP), R2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ust track side effects so hardware can undo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nother Example: Early Apollo for 68000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Virtual Memory Polici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S has two decisions on a page faul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 selec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en should a page (or pages) on disk be brought into memory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wo cas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When process starts, code pages begin on disk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As process runs, code and data pages may be moved to disk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 replacemen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ich resident page (or pages) in memory should be thrown out to disk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: Minimize number of page faul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ge faults require milliseconds to handle (reading from disk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lication: Plenty of time for OS to make good decis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9T23:43:42Z</dcterms:created>
  <dc:creator>Andrea Arpaci-Dusseau</dc:creator>
  <dc:description/>
  <dc:language>en-US</dc:language>
  <cp:lastModifiedBy>Andrea Arpaci-Dusseau</cp:lastModifiedBy>
  <cp:lastPrinted>1970-03-01T19:02:30Z</cp:lastPrinted>
  <dcterms:modified xsi:type="dcterms:W3CDTF">1970-03-01T19:21:00Z</dcterms:modified>
  <cp:revision>28</cp:revision>
  <dc:subject/>
  <dc:title>Synchronization</dc:title>
</cp:coreProperties>
</file>