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1B9-FF76-474F-A359-BB8C297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7B5-E4F3-4D68-A66C-28D5477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3B9-3E17-41ED-AB7A-040790BF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DE8-7679-4160-956C-79A09494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BEA-8B29-4802-9B60-427356F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654-B177-4DEB-BE3D-97799E6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DA8-2C56-4116-ACD5-EA8B7D6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65B-2F3A-42EF-BC5D-74A05D8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739-5C15-446D-B558-E15BA281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68C-E0ED-4727-A562-3726C7D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201-692F-41AD-9550-174074D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152-32A3-480F-A0DB-E9A5C11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9DC-2EA2-4C74-A8A4-D94252B5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Replacement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 Real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the LRU page be approximated efficientl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users discover the page replacement algorithm of the OS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page replacement algorithms are used in existing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Problems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ith LRU-based Replac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atic workload for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Repeated scans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of large memory region (larger than physical mem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5 blocks of physical memory, 6 blocks of address space repeatedly scanned (ABCDEFABCDEFABCDEF...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happens with LRU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11480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72428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licy Discovery for Real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replacement policies not well documen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ten change across versions of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Fingerprinting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utomatic discovery of algorithms or policies (</a:t>
            </a: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placement policy, scheduling algorith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ftware that runs at user-leve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no kernel modific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rtable across operating syst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e the OS by performing sequence of operations (e.g., read/write)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ime operations to see how long they tak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time to infer the policy the OS is employ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f67ff"/>
                </a:solidFill>
                <a:latin typeface="Chalkboard"/>
              </a:rPr>
              <a:t>Du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earch project in our grou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Exploiting Gray-Box Knowledge of Buffer-Cache Management”, N. Burnett, J. Bent, A. Arpaci-Dusseau, R. Arpaci-Dusseau, USENIX’’0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halkboard"/>
              </a:rPr>
              <a:t>Du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- Fingerprints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file buffer cach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polic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manages physical memory for two purpo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buffer cach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ten same replacement policy for each (but not always)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er to fingerprint file buffer cache poli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ek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ize of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we infer the amount of physical memory used for buffer cache (or virtual memory)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 for user-level fingerprinting proces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ess some amount of data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i.e., bring it into physical mem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-access each page of data, timing how long each access tak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ast” access --&g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low” access --&g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ll pages appear in memory, incre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repea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op when pages no longer all fit in memory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mpl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&gt; number of physical pag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placement Polic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we infer replacement polic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sume policy uses combination of attribut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itial access order (FIFO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ency (LRU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equency (LFU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ve memory to known state by acces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ata such that each page has unique attribut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use par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ata to be evicted by reading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victio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mp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ata to determine cache st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 a block and time 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blocks are still present determines policy of O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eat for confid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tting Initial Access Ord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"/>
          <p:cNvSpPr/>
          <p:nvPr/>
        </p:nvSpPr>
        <p:spPr>
          <a:xfrm>
            <a:off x="473040" y="1692360"/>
            <a:ext cx="61246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692360"/>
            <a:ext cx="23623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760" y="207324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143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20480" y="12351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ctio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920" y="245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432240"/>
            <a:ext cx="184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720" y="3406680"/>
            <a:ext cx="55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_region_size/read_siz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(read_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tecting FIFO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6179760"/>
            <a:ext cx="84582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FO evicts the first half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1" name=""/>
          <p:cNvSpPr/>
          <p:nvPr/>
        </p:nvSpPr>
        <p:spPr>
          <a:xfrm>
            <a:off x="2818800" y="1905120"/>
            <a:ext cx="15400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ut of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648320"/>
            <a:ext cx="10936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ults from reading and tim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n FIFO 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tting Recenc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5" name=""/>
          <p:cNvSpPr/>
          <p:nvPr/>
        </p:nvSpPr>
        <p:spPr>
          <a:xfrm>
            <a:off x="473040" y="1692360"/>
            <a:ext cx="6094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2520" y="1692360"/>
            <a:ext cx="60984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1692360"/>
            <a:ext cx="6094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1840" y="1692360"/>
            <a:ext cx="609480" cy="304560"/>
          </a:xfrm>
          <a:prstGeom prst="rect">
            <a:avLst/>
          </a:prstGeom>
          <a:solidFill>
            <a:srgbClr val="fd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1320" y="1692360"/>
            <a:ext cx="60984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21160" y="1692360"/>
            <a:ext cx="6094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30640" y="1692360"/>
            <a:ext cx="6094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0120" y="1692360"/>
            <a:ext cx="6098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9960" y="1692360"/>
            <a:ext cx="609480" cy="304560"/>
          </a:xfrm>
          <a:prstGeom prst="rect">
            <a:avLst/>
          </a:prstGeom>
          <a:solidFill>
            <a:srgbClr val="fd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59440" y="1692360"/>
            <a:ext cx="60948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68920" y="1692360"/>
            <a:ext cx="23623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207324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68520" y="20732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760" y="28353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2560" y="27590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143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0480" y="12351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ctio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920" y="245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78360" y="2454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390840"/>
            <a:ext cx="7113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_sequential_sca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 = 0;  right = test_region_size/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( 0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test_region_size/read_size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ek(left); read(read_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ek(right); read(read_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+=read_size; left+= read_s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tecting LRU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5866920"/>
            <a:ext cx="7629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RU evict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quarter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tting Frequenc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9" name=""/>
          <p:cNvSpPr/>
          <p:nvPr/>
        </p:nvSpPr>
        <p:spPr>
          <a:xfrm>
            <a:off x="473040" y="1692360"/>
            <a:ext cx="6094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2520" y="1692360"/>
            <a:ext cx="60984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1692360"/>
            <a:ext cx="6094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1840" y="1692360"/>
            <a:ext cx="609480" cy="304560"/>
          </a:xfrm>
          <a:prstGeom prst="rect">
            <a:avLst/>
          </a:prstGeom>
          <a:solidFill>
            <a:srgbClr val="fd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1320" y="1692360"/>
            <a:ext cx="60984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21160" y="1692360"/>
            <a:ext cx="6094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30640" y="1692360"/>
            <a:ext cx="6094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0120" y="1692360"/>
            <a:ext cx="60984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49960" y="1692360"/>
            <a:ext cx="609480" cy="304560"/>
          </a:xfrm>
          <a:prstGeom prst="rect">
            <a:avLst/>
          </a:prstGeom>
          <a:solidFill>
            <a:srgbClr val="fd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9440" y="1692360"/>
            <a:ext cx="60948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68920" y="1692360"/>
            <a:ext cx="23623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760" y="207324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68520" y="20732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760" y="28353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2560" y="27590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143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20480" y="12351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ctio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920" y="245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78360" y="2454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200400"/>
            <a:ext cx="7848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_sequential_sca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= 0;  right = test_region_size/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_count = 1; right_count = 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_region_size/read_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(0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left_cou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ek(left); read(read_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(0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right_cou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ek(right); read(read_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+=read_size; left+= read_siz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_count++; left_count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RU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ftware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aintains ordered list of physical pages by referenc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Move page to front of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need victim: Pick page at back of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e-off: Slow on memory reference, fast on replac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ociate register with each p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Store system clock in regi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need victim: Scan through registers to find oldest c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e-off: Fast on memory reference, slow on replacement (especially as size of memory grow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 practice, do not implement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RU is an approximation anyway, so approximate m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Find an old page, but not necessarily the very olde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tecting LFU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FU evicts outermost strip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Two stripes partially evicted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etBSD 1.5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54864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isier data on real systems due to disk performance vari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clusion: 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4" name=""/>
          <p:cNvSpPr/>
          <p:nvPr/>
        </p:nvSpPr>
        <p:spPr>
          <a:xfrm>
            <a:off x="2160" y="53352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0" y="22096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38098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5760" y="684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5760" y="38847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2057400"/>
            <a:ext cx="2362320" cy="1828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98920" y="145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897280" y="1068480"/>
            <a:ext cx="53481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inux 2.2.19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5867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ery noisy but looks like LRU - actually clo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5760" y="684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55760" y="38847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60" y="53352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60" y="22096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60" y="38098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057400"/>
            <a:ext cx="2362320" cy="1828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897280" y="1068480"/>
            <a:ext cx="53481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5760" y="684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5760" y="38847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inux 2.4.14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 recency areas are evic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 frequency areas also evic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clusion:  LRU with page aging (similar to 2Q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53352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2096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8098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057400"/>
            <a:ext cx="2362320" cy="3352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897280" y="1068480"/>
            <a:ext cx="53481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olaris 2.7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ock with some frequency compon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53352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0" y="22096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0" y="380988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5760" y="684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5760" y="38847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897280" y="1068480"/>
            <a:ext cx="53481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(Second Chance)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) bit for each page fr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se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replacement: Look for pag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cleared (has not been referenced for awhi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eat pages as circular buf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Keep pointer to last examined page fra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verse pages in circular buf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e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bits as search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op when find page with clear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it, replace this p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Algorithm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5409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clock hand is sweeping very fas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clock hand is sweeping very slow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Exten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lace multiple pages at o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Expensive to run replacement algorithm and to write single block to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d multiple victims each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-handed clo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takes long time for clock hand to sweep through pages, then all use bits might be se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ditional clock cannot differentiate between usage of different pag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w smaller time between clearing use bit and test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rst hand: Clears use b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cond hand: Looks for victim page with use bit still clear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Clock Exten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d software counter (“chance”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Better ability to differentiate across pages (how much they are being accesse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ment software coun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ce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is 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lac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ce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ceeds some specified lim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it to give preference to dirty p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More expensive to replace dirty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rty pages must be written to disk, clean pages do no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lace pages that ha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cle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f no Hardware Support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can the OS do if hardware does not hav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it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it)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the OS “emulate” these bi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eading question: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the OS get control (i.e., generate a trap) every ti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it should be set?  (i.e., when a page is accessed?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blems with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RU-based Replac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RU does not consider frequency of ac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s a page that has been accessed once in the past as likely to be accessed in the future as one that has been accessed N time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workload problem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an (sequential read, never used again) of one large data region (larger than physical memory) flushes memory cont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Track frequency of accesses to p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ure LFU (Least-frequently-used) replac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: LFU can never forget pages from the far pa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bine LRU and LFU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RU-K: Combines recency and frequency attribut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ck K-th reference to page in past, replace page with oldest (LRU) K-th reference (or does not have K-th referen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istory: Remembers access time of pages not now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pensive to implement, LRU-2 used in databa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Q: More efficient than LRU-2, similar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Instead of removing cold pages, only admit hot pages to main buff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i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for short-term accesses, managed with FIF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for long-term accesses, managed with LR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 first page fault, page ente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in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 subsequent page faults, page ente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ou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pages not in buffer cache, but remembered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3-01T19:21:23Z</cp:lastPrinted>
  <dcterms:modified xsi:type="dcterms:W3CDTF">1970-03-03T18:55:47Z</dcterms:modified>
  <cp:revision>33</cp:revision>
  <dc:subject/>
  <dc:title>Synchronization</dc:title>
</cp:coreProperties>
</file>