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BB4-4990-442A-B38F-BD7B7173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B36-EAF5-4F67-9720-B87C06E4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2E6-8AF2-45D5-BD5F-38953EC4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57D-3583-4092-B5A3-B5E3CCD5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3EE-D374-4301-8AEB-1CFD86F3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F8E-9CE1-4704-8C5C-DDA6C30B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08F-5200-4C1B-A87C-BE5E22E5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94E-E999-4F7A-95AC-32BD571B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EBB-A20D-40E5-B694-02BFEB9B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B1D-903B-45EF-9A85-D20753E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1B6-EA97-49FE-98E8-5BD597D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41E-18A6-4137-B216-7AC2158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AFE9-9147-405E-AEB1-743AE4E3A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Virtual Memory: Working Se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allocate memory across competing process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thrashing?  What is a working se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ensure working set of all processes fi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ossible Implement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ust constantly update working set information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nitial proposal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ore capacitor with each page fra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harge capacitor on page refere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pacitor discharges slowly if page not referenc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 determined by size of capacito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s with this proposal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orking Set Imple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everag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its (as in clock algorithm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OS mai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dle time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for each pag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mount of CPU received by process since last access to p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eriodically scan all resident pages of a pro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it is set, clear page’s idl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is clear, add process CPU time (since last scan) to idl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idle time &lt; T, page is in working se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Unresolved Ques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should value of T be configur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T is too larg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should working set be defined when pages are shar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ut jobs sharing pages in same balance se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processes should compose balance se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much memory needed for a “balanced system”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alanced system: Each resource (e.g., CPU, memory, disk) becomes bottleneck at nearly sam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much memory is needed to keep the CPU busy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 working set approach, CPU may be idle even with runnable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VM Trends: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teraction with File I/O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egrated VM and file buffer cache in physical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hysical memory used for both VM and as cache for file I/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determines how much of physical memory to devote to each ro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 perform file I/O using VM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-mapped files: (mmap() in UNIX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grammer perspective: File lives in memory, access through pointer dereferen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Elegant, no overhead for system calls (no read() or write()), use madvise() for prefetching hi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t up page tables to indicate each page of file initially not presen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process accesses page of file, causes page faul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S fetches file page from disk, set present bi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urrent Tren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M code is not as critical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son #1: Personal vs. time-shared machi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y does this matter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son #2: Memory is more affordable, more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ess hardware support for replacement polici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ftware emulation of use and dirty bi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arger page siz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etter TLB cover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maller page tab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More internal fragment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ltiple page siz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llocating Memory across Process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cenario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veral physical pages allocated to processes A, B, and C.  Process B page faults. 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ich page should be replaced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e options..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er-process replace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rocess has separate pool of p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xed number of pages (e.g., Digital VM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xed fraction of physical memory (1/P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portional to size of allocated address spa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fault in one process only replaces pages of that proces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erform replacement (e.g., LRU) over only those pag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: No interference across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Potentially inefficient allocation of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 to handle sharing of pages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llocating Memory across Process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er-user replace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user has separate pool of p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: Fair across different us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Inefficient allo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lobal replace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s from all processes lumped into single replacement poo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Run clock over all page fram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rocess competes with other processes for fram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lexibility of allocat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inimize total number of page faul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e memory-intensive process can hog memory, hurt all proce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act of Additional Process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at happens to “performance” as add more processes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sider CPU utilization as metric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crease number of processes from 1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blocks: Other processes can run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PU utilization increases with more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crease number of processes after memory fill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reases number of page faul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 contention increases with more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PU utilization decreases with more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vercommitting Memo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does the Virtual Memory illusion brea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t of processes frequently referencing 33 important p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hysical memory can fit 32 p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A references page not in physic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runs another process 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replaces some page in memory with page for 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long can B run before it page faults?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ycle continues..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hrash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ystem is reading and writing pages instead of executing useful instruc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: Average memory access time = disk access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 appears as slow as disk, instead of disk appearing as fast as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verage access time calcul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: Percentage of references that hit page in physic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AccessMemory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: Cost of referencing page in memory (e.g., 100 n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PageFaul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: Cost of page fault (e.g., 20 ms or 20,000,000n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 *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AccessMemo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(1-H) *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PageFaul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1 out of every 33 references misses, H = 97%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0.97 * (100 ns) + (0.03) * (20000000ns) = 750000 ns = 750 u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 than 1000 times slower than physical memory acces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eed very high hit rate for acceptable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 for Solu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rashing cannot be fixed with better replacement polici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replacement policies do not indicate that a page must be kept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ly show which pages are better than others to repl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udent’s analogy to thrashing: Too many cour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lution: Drop a cour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solution: Admission contro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e how much memory each process nee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ng-term scheduling polic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un only those processes whose memory requirements can be satisfi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memory needs of one process are too large??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orking Se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formal defini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llection of pages the process is referencing frequent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llection of pages that must be resident to avoid thrash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mal defini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sume locality; use recent past to predict fut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s referenced by process in last T seconds of execu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king set changes slowly over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reference stream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 B A B C B A C A C D C D E B E D F B F D B E D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lance Se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otivation: Process should not be scheduled unless working set is resident in main memory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vide runnable processes into two group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tive: Working set is load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active: Working set is swapped to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alance set: Sum of working sets of all active 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eraction with schedul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balance set exceeds size of memory, move some process to inactive se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process??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balance set is less than size of memory, move some process to active se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process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y other decision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3-03T18:56:33Z</cp:lastPrinted>
  <dcterms:modified xsi:type="dcterms:W3CDTF">1970-03-07T00:41:11Z</dcterms:modified>
  <cp:revision>36</cp:revision>
  <dc:subject/>
  <dc:title>Synchronization</dc:title>
</cp:coreProperties>
</file>