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E353-434E-4FF6-848B-5051F2356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A8A1-EDF1-40C3-A122-E62E6554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1217-5D31-43D6-9EA0-D4F2D3731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1997-CE08-4482-A14B-2FEB3195B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0BA9-55D6-46F4-9C96-980FE964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E04B-0E22-4E34-AA04-E7D8C4B5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6EFA-9F19-478E-B7F8-C4936847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CDD7-F5D0-4D51-9830-B83618C3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458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BB70-990A-45ED-8A6D-09BE1F0A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F3A3-43DC-4454-838B-88D2ADD9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55F9-372A-4005-9607-69562D21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95B6-D5AB-4B59-A268-3449484C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lick to edit the title text forma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89E5-71CF-431C-B7D6-160730E28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File System: User Perspectiv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33526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Questions answered in this lecture: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are files?  What is file meta-data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are directories organized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operations can be performed on file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are files protected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380880"/>
            <a:ext cx="419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UNIVERSITY of WISCONSIN-MADIS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omputer Sciences Depar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CS 537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Introduction to Operating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Andrea C. Arpaci-Dussea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Remzi H. Arpaci-Duss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File Operation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reate file with given pathname /a/b/fil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raverse pathname, allocate meta-data and directory entr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ad from (or write to) offset in fil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ind (or allocate) blocks of file on disk; update meta-data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elet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move directory entry, free disk space allocated to fil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runcate file (set size to 0, keep other attributes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ree disk space allocated to fil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name fil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hange directory entr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py fil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llocate new directory entry, find space on disk and cop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hange access permission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hange permissions in meta-data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Opening Fil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xpensive to access files with full pathnam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n every read/write operation: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Traverse directory structur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heck access permission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pen() file before first acces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User specifies mode: read and/or writ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arch directories for filename and check permission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opy relevant meta-data to open file table in memor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turn index in open file table to process (file descriptor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cess uses file descriptor to read/write to fil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er-process open file tabl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urrent position in file (offset for reads and writes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pen mod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nables redirection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dout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to particular fil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Motivation:</a:t>
            </a:r>
            <a:br>
              <a:rPr sz="4000"/>
            </a:b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I/O is Importan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pplications have two essential components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cessing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nput/Output (I/O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What applications have no input? no output?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/O performance predicts application performanc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mdahl’s Law: If continually improve only part of application (e.g., processing), then achieve diminishing returns in speedup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: portion of application that is improved (e.g., processing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peedu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: speedup of portion of applicati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peedu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Applicat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1/ ((1-f) + (f/speedu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Example: 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f = 1/2, speedu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halkboard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 = 2, speedu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halkboard"/>
              </a:rPr>
              <a:t>app</a:t>
            </a: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 = 1.33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f = 1/3, speedu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halkboard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 = 2, speedu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halkboard"/>
              </a:rPr>
              <a:t>app</a:t>
            </a: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 = 1.20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Role of OS for I/O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tandard librar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vide abstractions, consistent interfac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implify access to hardware devic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source coordinat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vide protection across users/process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vide fair and efficient performanc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Requires understanding of underlying device characteristic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User processes do not have direct access to devic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ould crash entire system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ould read/write data without appropriate permission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ould hog device unfairl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S exports higher-level function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ile system: Provides file and directory abstraction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ile system operations: mkdir, create, read, writ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Abstraction: Fil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User view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Named collection of byt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Untyped or typed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Examples: text, source, object, executables, application-specific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ermanently and conveniently availabl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perating system view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ap bytes as collection of blocks on physical non-volatile storage devic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Magnetic disks, tapes, NVRAM, battery-backed RAM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ersistent across reboots and power failure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File Meta-Data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eta-data: Additional system information associated with each fil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Name of fil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ype of fil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ointer to data blocks on disk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ile siz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imes: Creation, access, modificati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wner and group i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tection bits (read or write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pecial file? (directory? symbolic link?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eta-data is stored on disk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onceptually: meta-data can be stored as array on disk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Abstraction: Directori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rganization technique: Map file name to blocks of file data on disk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ctually, map file name to file meta-data (which enables one to find data on disk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implest approach: Single-level director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ach file has unique nam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pecial part of disk holds directory listing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ontains &lt;file name, meta-data index&gt; pair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How should this data structure be organized???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wo-level director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irectory for each us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pecify file with user name and file nam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irectories: Tree-Structured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irectory listing contains &lt;name, index&gt;, but name can be director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irectory is stored and treated like a fil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pecial bit set in meta-data for directori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User programs can read directorie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Only system programs can write directorie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pecify full pathname by separating directories and files with special characters (e.g., \ or /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pecial directori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Root: Fixed index for meta-data (e.g., 2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This directory: .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arent directory: ..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kdir /a/b/c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Read meta-data 2, look for “a”: find &lt;“a”, 5&gt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Read 5, look for “b”: find &lt;“b”, 9&gt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Read 9, verify no “c” exists; allocate c and add “c” to directory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Acyclic-Graph Directori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More general than tree structure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dd connections across the tree (no cycles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reate </a:t>
            </a: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links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from one file (or directory) to anothe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Hard link: “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n a b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” (“a” must exist already)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dea: Can use name “a” or “b” to get to same file data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mplementation: Multiple directory entries point to same meta-data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happens when you remove a? Does b still exist?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ow is this feature implemented??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Unix: Does not create hard links to directories.  Why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Acyclic-Graph Directori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ymbolic (soft) link: “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n -s a b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an use name “a” or “b” to get to same file data, if “a” exist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en reference “b”,  lookup soft link pathname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: Special file (designated by bit in meta-data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ontents of b contain name of “a”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ptimization: In directory entry for “b”, put soft link filename “a”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09T23:43:42Z</dcterms:created>
  <dc:creator>Andrea Arpaci-Dusseau</dc:creator>
  <dc:description/>
  <dc:language>en-US</dc:language>
  <cp:lastModifiedBy>Andrea Arpaci-Dusseau</cp:lastModifiedBy>
  <cp:lastPrinted>1970-03-07T00:41:44Z</cp:lastPrinted>
  <dcterms:modified xsi:type="dcterms:W3CDTF">2005-11-10T03:33:16Z</dcterms:modified>
  <cp:revision>40</cp:revision>
  <dc:subject/>
  <dc:title>Synchronization</dc:title>
</cp:coreProperties>
</file>