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F3B0-DDF7-444C-A034-1BC0C2310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391212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E343-3AD1-4C67-8977-3D6B96B92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860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BDE1-1482-4A76-A48B-DAA6A71FA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440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460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440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460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97DC-B77D-4B18-8091-7B2C7DE8B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B6C3-3E03-48FB-BEA9-E62A7ADBA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2D62-01FD-431B-8187-D8C276CE2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C2B5-FFC9-4381-A79D-C6F87BE2F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6162-C936-4B46-BE47-5181C57F9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84582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A3DF-3F93-4717-A9FC-8E4059C26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553D-2CC1-4D4E-A327-8E742725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860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0D31-BEE8-449E-AA4D-68B1D072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9D9D-15D9-4F1D-921F-3D914E3D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Click to edit the title text format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34264-3E9A-4C84-AFB0-8F4D92711D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I/O System: Disk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3352680"/>
            <a:ext cx="84582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Questions answered in this lecture: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at are the layers of the I/O systems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ow does a device driver interact with device controllers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at are the characteristics of modern disk drives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ow do disks schedule requests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3" name=""/>
          <p:cNvSpPr/>
          <p:nvPr/>
        </p:nvSpPr>
        <p:spPr>
          <a:xfrm>
            <a:off x="2286000" y="380880"/>
            <a:ext cx="419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UNIVERSITY of WISCONSIN-MADIS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Computer Sciences Depart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143000"/>
            <a:ext cx="358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CS 537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Introduction to Operating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257800" y="1143000"/>
            <a:ext cx="358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Andrea C. Arpaci-Dusseau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Remzi H. Arpaci-Dussea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Disk Abstraction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How should disk map internal sectors to LBNs?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Goal: Sequential accesses (or contiguous LBNs) should achieve best performance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Approaches: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raditional ordering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erpentine ordering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Positioning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Drive servo system keeps head on track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How does the disk head know where it is?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latters not perfectly aligned, tracks not perfectly concentric (runout) -- difficult to stay on track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More difficult as density of disk increas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More bits per inch (BPI), more tracks per inch (TPI)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Use servo burst: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Record placement information every few (3-5) sector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hen head cross servo burst, figure out location and adjust as needed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Reliability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Disks fail more often....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hen continuously powered-on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ith heavy workload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Under high temperatur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ow do disks fail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hole disk can stop working (e.g., motor dies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Transient problem (cable disconnected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ndividual sectors can fail (e.g., head crash or scratch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Data can be corrupted or block not readable/writable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Disks can internally fix some sector problem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CC (error correction code): Detect/correct bit flip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Retry sector reads and writes: Try 20-30 different offset and timing combinations for head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Remap sectors: Do not use bad sectors in futur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How does this impact performance contract??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Buffering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Disks contain internal memory (2MB-16MB) used as cach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Read-ahead: “Track buffer”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Read contents of entire track into memory during rotational delay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rite caching with volatile memory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mmediate reporting: Claim written to disk when not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Data could be lost on power failur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Use only for user data, not file system meta-data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ommand queueing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Have multiple outstanding requests to the disk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Disk can reorder (schedule) requests for better performanc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Disk Scheduling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Goal: Minimize positioning time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Performed by both OS and disk itself; Why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FCFS: Schedule requests in order received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dvantage: Fair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Disadvantage: High seek cost and rotation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hortest seek time first (SSTF): 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andle nearest cylinder next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dvantage: Reduces arm movement (seek time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Disadvantage: Unfair, can starve some request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Disk Scheduling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CAN (elevator): Move from outer cylinder in, then back out again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dvantage: More fair to requests, similar performance as SSTF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Variation: Circular-Scan (C-Scan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Move head only from outer cylinder inward (then start over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hy??? (Two reasons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LOOK: SCAN, except stop at last request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alculate seek distance for workload with cylinder #s: 10, 2, 0, 85, 50, 40, 1, 37, 41; Start at #43, moving up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Disk Scheduling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Real goal: Minimize positioning tim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Trend: Rotation time dominating positioning tim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Very difficult for OS to predict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ZBR, track and cylinder skew, serpertine layout, bad block remapping, caching, ...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Disk controller can calculate positioning time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hortest positioning time first (SPTF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echnique to prevent starvation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Two queu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Handle requests in current queu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dd newly arriving requests added to other queu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I/O System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600200"/>
            <a:ext cx="2133720" cy="609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user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2209680"/>
            <a:ext cx="7467480" cy="182880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5880" y="2209680"/>
            <a:ext cx="213372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file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5880" y="2819520"/>
            <a:ext cx="2133720" cy="609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I/O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5880" y="3429000"/>
            <a:ext cx="2133720" cy="609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device dri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05320" y="1600200"/>
            <a:ext cx="2133360" cy="609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user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867280" y="1600200"/>
            <a:ext cx="2133720" cy="609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user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27200" y="280512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5880" y="4648320"/>
            <a:ext cx="2133720" cy="6858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device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0" y="5486400"/>
            <a:ext cx="762120" cy="1143000"/>
          </a:xfrm>
          <a:prstGeom prst="can">
            <a:avLst>
              <a:gd name="adj" fmla="val 25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d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4343400"/>
            <a:ext cx="85341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Device Driver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Mechanism: Encapsulate details of devic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File system not aware of device detail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Much of OS code is in device driver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Responsible for many of the errors as well!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Device driver interacts with device controller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Read status registers, read data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rite control registers, provide data for write operation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ow does device driver access controller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pecial instruction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Valid only in kernel mode, No longer popular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Memory-mapped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Read and write to special memory addresse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Protect by placing in kernel address space only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May map part of device in user address space for fast access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Device Drivers: </a:t>
            </a:r>
            <a:br>
              <a:rPr sz="4000"/>
            </a:b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Starting I/O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Programmed I/O (PIO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Must initiate and watch every byt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Disadvantage: Large overhead for large transfer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Direct Memory Access (DMA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ffload work from CPU to to special-purpose processor responsible for large transfer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PU: Write DMA command block into main memory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Pointer to source and destination addres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Size of transfer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PU: Inform DMA controller of address of command block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DMA controller: Handles transfer with I/O device controller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an use physical or virtual addresses (DVMA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Disadvantages of each approach??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Device Drivers:</a:t>
            </a:r>
            <a:br>
              <a:rPr sz="4000"/>
            </a:b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When is I/O complete?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Polling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Handshake by setting and clearing flag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Controller sets flag when done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CPU repeatedly checks flag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Disadvantage: Busy-waiting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CPU wastes cycles when I/O device is slow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Must be attentive to device, or could lose data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nterrupts: Handle asynchronous event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ontroller asserts interrupt request line when don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PU jumps to appropriate interrupt service routine (ISR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Interrupt vector: Table of ISR addresse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Index by interrupt number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Low priority interrupts postponed until higher priority finished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ombine with DMA: Do not interrupt CPU for every byt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Disk Controller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Responsible for interface between OS and disk driv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ommon interfaces: ATA/IDE vs. SCSI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ATA/IDE used for personal storage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SCSI for enterprise-class storage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Basic operation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Read block 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rite block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OS does not know of internal complexity of disk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Disk exports array of Logical Block Numbers (LBNs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Disks map internal sectors to LBN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mplicit contract: 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Large sequential accesses to contiguous LBNs achieve much better performance than small transfers or random access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86000" y="3657600"/>
            <a:ext cx="4267080" cy="1295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14600" y="3809880"/>
            <a:ext cx="3733920" cy="990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19520" y="3962520"/>
            <a:ext cx="3124080" cy="6858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76720" y="4114800"/>
            <a:ext cx="2361960" cy="380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86200" y="4191120"/>
            <a:ext cx="1219320" cy="228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3048120"/>
            <a:ext cx="4267080" cy="1295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3200400"/>
            <a:ext cx="3733920" cy="99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19520" y="3352680"/>
            <a:ext cx="3124080" cy="6858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3505320"/>
            <a:ext cx="2361960" cy="3808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86200" y="3581280"/>
            <a:ext cx="1219320" cy="228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362320" y="2438280"/>
            <a:ext cx="4267080" cy="12956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90920" y="2590920"/>
            <a:ext cx="3733560" cy="9903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95480" y="2743200"/>
            <a:ext cx="3124440" cy="6858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352680" y="2895480"/>
            <a:ext cx="2362320" cy="381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Disk Terminology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2362320" y="1447920"/>
            <a:ext cx="4267080" cy="1752480"/>
            <a:chOff x="2362320" y="1447920"/>
            <a:chExt cx="4267080" cy="1752480"/>
          </a:xfrm>
        </p:grpSpPr>
        <p:sp>
          <p:nvSpPr>
            <p:cNvPr id="82" name=""/>
            <p:cNvSpPr/>
            <p:nvPr/>
          </p:nvSpPr>
          <p:spPr>
            <a:xfrm>
              <a:off x="3962520" y="2971800"/>
              <a:ext cx="1218960" cy="2286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2320" y="1905120"/>
              <a:ext cx="4267080" cy="12952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590920" y="2057400"/>
              <a:ext cx="3733560" cy="9907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895480" y="2209680"/>
              <a:ext cx="3124440" cy="6858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352680" y="2362320"/>
              <a:ext cx="2362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962520" y="2438280"/>
              <a:ext cx="1218960" cy="2286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144792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4495680" y="49528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28600" y="2057400"/>
            <a:ext cx="2209680" cy="609120"/>
            <a:chOff x="228600" y="2057400"/>
            <a:chExt cx="2209680" cy="609120"/>
          </a:xfrm>
        </p:grpSpPr>
        <p:sp>
          <p:nvSpPr>
            <p:cNvPr id="91" name=""/>
            <p:cNvSpPr/>
            <p:nvPr/>
          </p:nvSpPr>
          <p:spPr>
            <a:xfrm>
              <a:off x="228600" y="2279160"/>
              <a:ext cx="1905120" cy="165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33720" y="2445120"/>
              <a:ext cx="304560" cy="221400"/>
            </a:xfrm>
            <a:prstGeom prst="plus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133720" y="2057400"/>
              <a:ext cx="304560" cy="221760"/>
            </a:xfrm>
            <a:prstGeom prst="plus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28600" y="2819520"/>
            <a:ext cx="2209680" cy="609120"/>
            <a:chOff x="228600" y="2819520"/>
            <a:chExt cx="2209680" cy="609120"/>
          </a:xfrm>
        </p:grpSpPr>
        <p:sp>
          <p:nvSpPr>
            <p:cNvPr id="95" name=""/>
            <p:cNvSpPr/>
            <p:nvPr/>
          </p:nvSpPr>
          <p:spPr>
            <a:xfrm>
              <a:off x="228600" y="3041280"/>
              <a:ext cx="1905120" cy="165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133720" y="3207240"/>
              <a:ext cx="304560" cy="221400"/>
            </a:xfrm>
            <a:prstGeom prst="plus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133720" y="2819520"/>
              <a:ext cx="304560" cy="221760"/>
            </a:xfrm>
            <a:prstGeom prst="plus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28600" y="3505320"/>
            <a:ext cx="2209680" cy="609120"/>
            <a:chOff x="228600" y="3505320"/>
            <a:chExt cx="2209680" cy="609120"/>
          </a:xfrm>
        </p:grpSpPr>
        <p:sp>
          <p:nvSpPr>
            <p:cNvPr id="99" name=""/>
            <p:cNvSpPr/>
            <p:nvPr/>
          </p:nvSpPr>
          <p:spPr>
            <a:xfrm>
              <a:off x="228600" y="3727080"/>
              <a:ext cx="1905120" cy="165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133720" y="3893040"/>
              <a:ext cx="304560" cy="221400"/>
            </a:xfrm>
            <a:prstGeom prst="plus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33720" y="3505320"/>
              <a:ext cx="304560" cy="221760"/>
            </a:xfrm>
            <a:prstGeom prst="plus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228600" y="4191120"/>
            <a:ext cx="2209680" cy="609120"/>
            <a:chOff x="228600" y="4191120"/>
            <a:chExt cx="2209680" cy="609120"/>
          </a:xfrm>
        </p:grpSpPr>
        <p:sp>
          <p:nvSpPr>
            <p:cNvPr id="103" name=""/>
            <p:cNvSpPr/>
            <p:nvPr/>
          </p:nvSpPr>
          <p:spPr>
            <a:xfrm>
              <a:off x="228600" y="4412880"/>
              <a:ext cx="1905120" cy="165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133720" y="4578840"/>
              <a:ext cx="304560" cy="221400"/>
            </a:xfrm>
            <a:prstGeom prst="plus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133720" y="4191120"/>
              <a:ext cx="304560" cy="221760"/>
            </a:xfrm>
            <a:prstGeom prst="plus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4529160" y="1295280"/>
            <a:ext cx="10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pind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33600" y="1914480"/>
            <a:ext cx="97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la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63200" y="2981160"/>
            <a:ext cx="106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653800" y="4800600"/>
            <a:ext cx="7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Chalkboard"/>
              </a:rPr>
              <a:t>tr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25560" y="4952880"/>
            <a:ext cx="11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halkboard"/>
              </a:rPr>
              <a:t>cyli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621840" y="358128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halkboard"/>
              </a:rPr>
              <a:t>s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5120" y="1600200"/>
            <a:ext cx="209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read/write 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29400" y="2209680"/>
            <a:ext cx="60948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384" y="0"/>
                </a:moveTo>
                <a:cubicBezTo>
                  <a:pt x="224" y="60"/>
                  <a:pt x="64" y="120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324480" y="2806560"/>
            <a:ext cx="1143000" cy="317520"/>
          </a:xfrm>
          <a:custGeom>
            <a:avLst/>
            <a:gdLst/>
            <a:ahLst/>
            <a:rect l="l" t="t" r="r" b="b"/>
            <a:pathLst>
              <a:path w="720" h="200">
                <a:moveTo>
                  <a:pt x="720" y="200"/>
                </a:moveTo>
                <a:cubicBezTo>
                  <a:pt x="692" y="144"/>
                  <a:pt x="664" y="88"/>
                  <a:pt x="624" y="56"/>
                </a:cubicBezTo>
                <a:cubicBezTo>
                  <a:pt x="584" y="24"/>
                  <a:pt x="536" y="16"/>
                  <a:pt x="480" y="8"/>
                </a:cubicBezTo>
                <a:cubicBezTo>
                  <a:pt x="424" y="0"/>
                  <a:pt x="352" y="0"/>
                  <a:pt x="288" y="8"/>
                </a:cubicBezTo>
                <a:cubicBezTo>
                  <a:pt x="224" y="16"/>
                  <a:pt x="144" y="32"/>
                  <a:pt x="96" y="56"/>
                </a:cubicBezTo>
                <a:cubicBezTo>
                  <a:pt x="48" y="80"/>
                  <a:pt x="16" y="136"/>
                  <a:pt x="0" y="1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48520" y="3657600"/>
            <a:ext cx="30456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8200" y="5827680"/>
            <a:ext cx="813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ZBR (Zoned bit recording): More sectors on outer tra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Disk Performance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ow long to read or write n sectors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ositioning time + Transfer time (n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ositioning time: Seek time + Rotational Delay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Transfer time: n / (RPM * bytes/track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eek: Time to position head over destination cylinder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Rotation: Wait for sector to rotate underneath head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19" name=""/>
          <p:cNvSpPr/>
          <p:nvPr/>
        </p:nvSpPr>
        <p:spPr>
          <a:xfrm>
            <a:off x="3505320" y="5257800"/>
            <a:ext cx="1218960" cy="228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05120" y="4191120"/>
            <a:ext cx="4267080" cy="12952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33720" y="4343400"/>
            <a:ext cx="3733560" cy="99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38280" y="4495680"/>
            <a:ext cx="3124440" cy="6858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95480" y="4648320"/>
            <a:ext cx="2362320" cy="3808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05320" y="4724280"/>
            <a:ext cx="1218960" cy="228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14800" y="37339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29000" y="44956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00600" y="52578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Disk Calculation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5345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Example disk: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445680" indent="-171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surfaces: 4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445680" indent="-171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tracks/surface: 64K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445680" indent="-171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sectors/track: 1K (assumption??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445680" indent="-171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bytes/sector: 512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445680" indent="-171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PM: 7200 = 120 tracks/sec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445680" indent="-171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ek cost: 1.3ms - 16m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Question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445680" indent="-171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How many disk heads?     How many cylinders?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445680" indent="-171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How many sectors/cylinder?       Capacity?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445680" indent="-171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hat is the maximum transfer rate (bandwidth)?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445680" indent="-171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verage positioning time for random request?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445680" indent="-171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Time and bandwidth for random request of size: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685800" indent="-137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4KB?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685800" indent="-137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128 KB?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685800" indent="-137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1 MB?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70-01-09T23:43:42Z</dcterms:created>
  <dc:creator>Andrea Arpaci-Dusseau</dc:creator>
  <dc:description/>
  <dc:language>en-US</dc:language>
  <cp:lastModifiedBy>Andrea Arpaci-Dusseau</cp:lastModifiedBy>
  <cp:lastPrinted>1970-03-07T00:41:44Z</cp:lastPrinted>
  <dcterms:modified xsi:type="dcterms:W3CDTF">2005-11-14T22:31:10Z</dcterms:modified>
  <cp:revision>44</cp:revision>
  <dc:subject/>
  <dc:title>Synchronization</dc:title>
</cp:coreProperties>
</file>