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19B-A780-45FC-BCA5-387A8525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E05-4E13-4028-8DC1-745F41BE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12E-8BC0-400C-A105-57AE88D1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493-2A5A-4CF7-8002-EFD1140E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1B6-12FF-40A7-B892-0143EBAD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08B-C84C-42D1-8A42-5E9A5D61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482-8D3C-4432-879E-20B28B9D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E372-0964-49E5-8D02-C6B1AE56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E28-ABDF-4690-A3F7-B40F3DFB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DE9-33A4-4173-B350-8B50207E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EB2-6186-4248-AB20-4D1E055B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65B1-A45F-4094-AB03-68027A16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E309-66EF-45BE-A589-5C6700144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cess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a proces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es the dispatcher context-switch between  processe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es the OS create a new proces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Q1: How does Dispatcher run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Option 1: </a:t>
            </a: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Cooperative Multi-tasking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rust process to relinquish CPU through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trap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p: Event internal to process that gives control to O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s: System call, page fault (access page not in main memory), or error (illegal instruction or divide by zero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: Processes can misbehav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y avoiding all traps and performing no I/O, can take over entire machin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ly solution: Reboot!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t performed in modern operating system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Q1: How does Dispatcher run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Option 2: </a:t>
            </a: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True Multi-tasking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uarantee OS can obtain control periodicall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nter OS by enabling periodic alarm cloc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rdware generates timer interrupt (CPU or separate chip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Every 10m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r must not be able to mask timer interrup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patcher counts interrupts between context switch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Waiting 20 timer ticks gives 200 ms time sli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mmon time slices range from 10 ms to 200 m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Q2: Process Stat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Each process is in one of three modes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Running: On the CPU (only one on a uniprocessor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Ready: Waiting for the CPU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Blocked (or asleep): Waiting for I/O or synchronization to complet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91120"/>
            <a:ext cx="1371600" cy="761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5410080"/>
            <a:ext cx="1295280" cy="7621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lo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4191120"/>
            <a:ext cx="1295280" cy="761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280" y="478476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Chalkboard"/>
              </a:rPr>
              <a:t>Transi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Q2: Tracking Process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OS must track every process in system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Each process identified by unique Process ID (PID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OS maintains queues of all process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ady queue: Contains all ready process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vent queue: One logical queue per event (e.g., disk I/O and lock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ntains all processes waiting for that event to complet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Q2: What Context must be Saved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patcher must track context of process when not runn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ave context in </a:t>
            </a: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process control block (PCB)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(or, process descriptor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nformation is stored in PCB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state (I.e., running, ready, or blocked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ecution state (all registers, PC, stack ptr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cheduling priorit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ccounting information (parent and child process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redentials (which resources can be accessed, owner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ointers to other allocated resources (e.g., open fil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Q2: Context-Switch Implement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asic idea: Save all registers to PCB in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icky: Must execute code without using regist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chine-dependent code (written in assembly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fferent for x86, SPARC, MIPS, etc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quires special hardware suppor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rdware saves process PC and PSR on interrup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ISC: Single instruction saves all registers onto sta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ISC: Agreement to keep some registers empt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lpha and SPARC: Shadow register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IPS: Two general-purpose registers are scratch, avoided by compil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long does a context-switch tak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0s of microsecon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ultiprogramming and Memor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oes OS need to save all of memory between processes?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tion 1: Save all of memory to dis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Alto, early personal workst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: Very time consum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long to save a 10 MB process to disk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tion 2: Trust next process to not overwrite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Early multiprogramming in PCs and Macs (single user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: Very hard to track down bug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tion 3: Protect memory (and files) from next proces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quires hardware support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vestigate later in cours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cess Cre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wo ways to create a proces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uild a new empty process from scratch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py an existing process and change it appropriatel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tion 1: New process from scratch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oad specified code and data into memory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reate empty call stac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reate and initialize PCB (make look like context-switch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ut process on ready lis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s: No wasted wor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s: Difficult to setup process correctly and to express all possible options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cess permissions, where to write I/O, environment variabl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WindowsNT has call with 10 argumen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cess Cre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tion 2: Clone existing process and chan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Unix fork() and exec(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ork(): Clones calling proc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ec(char *file): Overlays file image on calling proc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ork()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top current process and save its stat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ake copy of code, data, stack, and PCB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dd new PCB to ready lis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halkboard"/>
              </a:rPr>
              <a:t>Any changes needed to PCB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ec(char *fil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place current data and code segments with those in specified fil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s: Flexible, clean, simp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s: Wasteful to perform copy and then overwrite of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Unix Process Creation 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are Unix shells implement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*cmd = getcmd(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etval = fork(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tval == 0) {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is is the child proces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tup the child’s process environment here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.g., where is standard I/O, how to handle signals?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ec(cmd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xec does not return if it succeed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f(“ERROR: Could not execute %s\n”, cmd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is is the parent process; Wait for child to finish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id = retval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ait(pid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08760" y="211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is a Process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: An </a:t>
            </a: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execution stream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in the context of a </a:t>
            </a: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process stat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ecution stream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tream of executing instruction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unning piece of cod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quential sequence of instruction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hread of control”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stat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verything that the running code can affect or be affected b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gisters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General-purpose, floating point, status, program counter, stack pointer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ddress space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Everything process can address through memory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presented by array of byte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Heap, stack, and code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cesses vs. Progra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 process is different than a program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Program: Static code and static data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cess: Dynamic instance of code and data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No one-to-one mapping between programs and process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n have multiple processes of the same program</a:t>
            </a:r>
            <a:br>
              <a:rPr sz="2400"/>
            </a:b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Example: many users can run “ls” at the same tim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ne program can invoke multiple processes</a:t>
            </a:r>
            <a:br>
              <a:rPr sz="2400"/>
            </a:b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Example: “make” runs many processes to accomplish its wor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cesses vs. Thread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 process is different than a threa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Thread: “Lightweight process” (LWP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An execution stream that shares an address sp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ltiple threads within a single proces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67ff"/>
                </a:solidFill>
                <a:latin typeface="Chalkboard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af67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Two processes examining memory address 0xffe84264 see different values (I.e., different content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af67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Two threads examining memory address 0xffe84264 see same  value (I.e., same content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ystem  Classifica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 systems support processes, but the number varies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Uniprogramming: Only one process resident at a tim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f67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Examples: First systems and DOS for PC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s: Runs on all hardwa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s: Not convenient for user and poor performan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Multiprogramming: Multiple processes resident at a time (or, multitasking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te: Different than multiprocess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halkboard"/>
              </a:rPr>
              <a:t>Multiprocessing: Systems with multiple processor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f67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Examples: Unix variants, Windows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s: Better user convenience and system performan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s: Complexity in O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ultiprogramm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requirements for multiprogramm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o switch between process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o protect processes from one anoth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o decide which process to schedul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eparation of policy and mechanis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occuring theme in O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Policy: Decision-maker to optimize some workload performance metric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ich process when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cess Scheduler: Future lectur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Mechanism: Low-level code that implements the decis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ow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cess Dispatcher: Today’s lectur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patch Mechanism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S runs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dispatch loop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un process A for some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ime-sli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p process A and save its contex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 context of another process B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Question 1: How does dispatcher gain control?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Question 2: What execution context must be saved and restor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172200" y="2971800"/>
            <a:ext cx="2471400" cy="609120"/>
            <a:chOff x="6172200" y="2971800"/>
            <a:chExt cx="2471400" cy="609120"/>
          </a:xfrm>
        </p:grpSpPr>
        <p:sp>
          <p:nvSpPr>
            <p:cNvPr id="60" name=""/>
            <p:cNvSpPr/>
            <p:nvPr/>
          </p:nvSpPr>
          <p:spPr>
            <a:xfrm>
              <a:off x="6336720" y="3022560"/>
              <a:ext cx="23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halkboard"/>
                </a:rPr>
                <a:t>Context-swi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8520" y="2971800"/>
              <a:ext cx="30492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72200" y="3428640"/>
              <a:ext cx="38124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Q1: Hardware for Multiprogramm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ust differentiate application process and O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ardware suppor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it in status word designates whether currently running in user or system mode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ystem mode (or privileged or supervisor) allows functionalit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ecution of special instructions (e.g., access hardware devices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ccess to all of memor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hange stack point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pplications run in user mod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S runs in system mod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Q1: Entering system mod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es OS get control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halkboar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Synchronous interrupts,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or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trap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vent internal to a process that gives control to O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s: System calls, page faults (access page not in main memory), or errors (illegal instruction or divide by zero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halkboar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Asynchronous interrup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vents external to a process, generated by hardwa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s: Characters typed, or completion of a disk transf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are interrupts handl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type of interrupt has corresponding routine (handler or interrupt service routine (ISR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rdware saves current process and passes control to IS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2-10T03:29:41Z</dcterms:created>
  <dc:creator>Andrea Arpaci-Dusseau</dc:creator>
  <dc:description/>
  <dc:language>en-US</dc:language>
  <cp:lastModifiedBy>Andrea Arpaci-Dusseau</cp:lastModifiedBy>
  <cp:lastPrinted>1970-01-04T00:50:39Z</cp:lastPrinted>
  <dcterms:modified xsi:type="dcterms:W3CDTF">1970-01-06T02:13:39Z</dcterms:modified>
  <cp:revision>8</cp:revision>
  <dc:subject/>
  <dc:title>Introduction and Overview</dc:title>
</cp:coreProperties>
</file>