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D10-5EA5-4DF2-BDD2-8FC68E57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06C-0C5C-4DE3-924F-09A7ED39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328-8C00-4F2F-9404-F8EC1D7C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132-A8FA-4D52-84D4-9FC3DC6F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683-2CF4-4987-84D8-4AD1B4DC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695-BC84-4D98-9587-37B382C3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45A-FE01-4C34-AAF0-7D382720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B05-4794-452F-9868-9B5A9F4B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06E-085F-4134-97FA-8B8A8D4A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A91-9831-4C8A-99DD-AFF0F6B5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866-12CC-4AAE-81A0-85304280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422-076E-4B05-827A-014279B4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3592-9749-465A-80FE-1C691A306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ile Allo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ypical file access pattern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different approaches for tracking which blocks belong to a fil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he advantages and disadvantages of each approach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ulti-Level Indexed Fil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ariation of Indexed Alloc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ynamically allocate hierarchy of pointers to blocks as need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ta-data: Small number of pointers allocated statical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dditional pointers to blocks of pointe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s: UNIX FFS-based file syste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48006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arison to Indexed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: Does not waste space for unneeded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ill fast access for small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 grow to what size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Need to read indirect blocks of pointers to calculate addresses (extra disk r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Keep indirect blocks cached in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352680"/>
            <a:ext cx="914400" cy="1295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733920"/>
            <a:ext cx="68580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581280"/>
            <a:ext cx="91440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3886200"/>
            <a:ext cx="91440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191120"/>
            <a:ext cx="91440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4495680"/>
            <a:ext cx="91440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58128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35268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373392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905120" y="3504960"/>
            <a:ext cx="2286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828800" y="365724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28800" y="3886200"/>
            <a:ext cx="38088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388620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4038480"/>
            <a:ext cx="53316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886200"/>
            <a:ext cx="68580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4191120"/>
            <a:ext cx="68580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426708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373392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50532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388620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657600" y="3657240"/>
            <a:ext cx="2286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81280" y="3809880"/>
            <a:ext cx="7621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581280" y="4038480"/>
            <a:ext cx="38124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03848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657600" y="4190760"/>
            <a:ext cx="53352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657600" y="4343400"/>
            <a:ext cx="5335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426708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429000"/>
            <a:ext cx="68580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3581280"/>
            <a:ext cx="68580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3886200"/>
            <a:ext cx="68580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67480" y="342900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20040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358128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858000" y="3352680"/>
            <a:ext cx="22860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781680" y="350496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781680" y="3733560"/>
            <a:ext cx="38124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373392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858000" y="3886200"/>
            <a:ext cx="5335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858000" y="4038480"/>
            <a:ext cx="5335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91520" y="3962520"/>
            <a:ext cx="2286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3581280"/>
            <a:ext cx="68580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3733920"/>
            <a:ext cx="68580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4038480"/>
            <a:ext cx="68580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3504960"/>
            <a:ext cx="2286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4038480"/>
            <a:ext cx="3352680" cy="723960"/>
          </a:xfrm>
          <a:custGeom>
            <a:avLst/>
            <a:gdLst/>
            <a:ahLst/>
            <a:rect l="l" t="t" r="r" b="b"/>
            <a:pathLst>
              <a:path w="2112" h="456">
                <a:moveTo>
                  <a:pt x="0" y="240"/>
                </a:moveTo>
                <a:cubicBezTo>
                  <a:pt x="452" y="324"/>
                  <a:pt x="904" y="408"/>
                  <a:pt x="1200" y="432"/>
                </a:cubicBezTo>
                <a:cubicBezTo>
                  <a:pt x="1496" y="456"/>
                  <a:pt x="1624" y="456"/>
                  <a:pt x="1776" y="384"/>
                </a:cubicBezTo>
                <a:cubicBezTo>
                  <a:pt x="1928" y="312"/>
                  <a:pt x="2020" y="156"/>
                  <a:pt x="211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04400" y="33526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14080" y="2971800"/>
            <a:ext cx="108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u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04800" y="31240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2400" y="4038480"/>
            <a:ext cx="68580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72400" y="4191120"/>
            <a:ext cx="68580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72400" y="4495680"/>
            <a:ext cx="68580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4191120"/>
            <a:ext cx="5790960" cy="723960"/>
          </a:xfrm>
          <a:custGeom>
            <a:avLst/>
            <a:gdLst/>
            <a:ahLst/>
            <a:rect l="l" t="t" r="r" b="b"/>
            <a:pathLst>
              <a:path w="2112" h="456">
                <a:moveTo>
                  <a:pt x="0" y="240"/>
                </a:moveTo>
                <a:cubicBezTo>
                  <a:pt x="452" y="324"/>
                  <a:pt x="904" y="408"/>
                  <a:pt x="1200" y="432"/>
                </a:cubicBezTo>
                <a:cubicBezTo>
                  <a:pt x="1496" y="456"/>
                  <a:pt x="1624" y="456"/>
                  <a:pt x="1776" y="384"/>
                </a:cubicBezTo>
                <a:cubicBezTo>
                  <a:pt x="1928" y="312"/>
                  <a:pt x="2020" y="156"/>
                  <a:pt x="211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05000" y="3429000"/>
            <a:ext cx="108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ip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orklo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otivation: Workloads influence design of file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le characteristics (measurements of UNIX and NT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st files are small (about 8KB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st of the disk is allocated to large fi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(90% of data is in 10% of file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ccess patter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quential: Data in file is read/written in ord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ost common access patter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andom (direct): Access block without referencing predecesso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fficult to optimiz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ccess files in same directory together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patial localit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ccess meta-data when access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eed meta-data to find data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Goal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allocates LBNs (logical block numbers) to meta-data, file data, and directory dat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orkload items accessed together should be close in LBN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lic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arge files should be allocated sequential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s in same directory should be allocated near each oth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ata should be allocated near its meta-dat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ta-Data: Where is it stored on disk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mbedded within each directory ent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 data structure separate from directory ent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rectory entry points to meta-data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llocation Strategi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gression of different approach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tiguou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tent-bas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ink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-allocation Tab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dex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lti-level Index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mount of fragmentation (internal and external)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bility to grow file over tim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ek cost for sequential accesse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eed to find data blocks for random accesse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sted space for pointers to data block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tiguous Allo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ocate each file to contiguous blocks on dis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ta-data: Starting block and size of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allocates by finding sufficient free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st predict future size of file; Should space be reserved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IBM OS/360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1148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ittle overhead for meta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cellent performance for sequential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e to calculate random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rrible external fragmentation (Requires periodic comp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y not be able to grow file without moving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048120"/>
            <a:ext cx="6858000" cy="457200"/>
            <a:chOff x="533520" y="3048120"/>
            <a:chExt cx="6858000" cy="457200"/>
          </a:xfrm>
        </p:grpSpPr>
        <p:sp>
          <p:nvSpPr>
            <p:cNvPr id="56" name=""/>
            <p:cNvSpPr/>
            <p:nvPr/>
          </p:nvSpPr>
          <p:spPr>
            <a:xfrm>
              <a:off x="533520" y="30481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0720" y="30481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47920" y="304812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05120" y="304812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2320" y="304812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720" y="304812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9520" y="30481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33920" y="304812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304812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48320" y="304812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05520" y="3048120"/>
              <a:ext cx="45720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62720" y="3048120"/>
              <a:ext cx="45720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9920" y="3048120"/>
              <a:ext cx="45720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77120" y="30481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34320" y="30481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tent-Based Allo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ocate multiple contiguous regions (extents) per fi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ta-data: Small array (2-6) designating each extent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ach entry: starting block and siz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97180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roves contiguous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 can grow over time (until run out of ext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elps with external 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imited overhead for meta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ery good performance for sequential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e to calculate random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 (Small number of extent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ternal fragmentation can still be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t able to grow file when run out of ex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362320"/>
            <a:ext cx="457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23623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23623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23623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362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2362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2362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362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236232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2362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236232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362320"/>
            <a:ext cx="457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362320"/>
            <a:ext cx="457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inked Allo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ocate linked-list of fixed-sized block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ta-data: Location of first block of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ach block also contains pointer to next bloc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s: TOPS-10, Alt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124080"/>
            <a:ext cx="8458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external 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s can be easily grown, with no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not calculate random addresses w/o reading previous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quential bandwidth may not be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y to allocate blocks of file contiguously for best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ade-off: Block size (does not need to equal sector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arger --&gt; 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maller --&gt; 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2514600"/>
            <a:ext cx="8229600" cy="609480"/>
            <a:chOff x="457200" y="2514600"/>
            <a:chExt cx="8229600" cy="609480"/>
          </a:xfrm>
        </p:grpSpPr>
        <p:sp>
          <p:nvSpPr>
            <p:cNvPr id="93" name=""/>
            <p:cNvSpPr/>
            <p:nvPr/>
          </p:nvSpPr>
          <p:spPr>
            <a:xfrm>
              <a:off x="457200" y="2666880"/>
              <a:ext cx="4572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266688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28800" y="266688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6000" y="266688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0400" y="266688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266688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4800" y="266688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29200" y="2666880"/>
              <a:ext cx="45720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6400" y="2666880"/>
              <a:ext cx="45720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2666880"/>
              <a:ext cx="45720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266688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0" y="266688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14400" y="2666880"/>
              <a:ext cx="4572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2666880"/>
              <a:ext cx="4572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15200" y="2666880"/>
              <a:ext cx="4572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29600" y="2666880"/>
              <a:ext cx="4572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266688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25146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52480" y="25146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09680" y="25146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1280" y="25146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38480" y="25146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95680" y="25146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05720" y="25146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2880" y="2514600"/>
              <a:ext cx="160020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2514600"/>
              <a:ext cx="68580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95280" y="2514600"/>
              <a:ext cx="160020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2514600"/>
              <a:ext cx="42674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96080" y="2514600"/>
              <a:ext cx="685800" cy="763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10080" y="25146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7280" y="25146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ile-Allocation Table (FAT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ariation of Linked alloc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ep linked-list information for all files in on-disk FAT table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ta-data: Location of first block of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nd, FAT table  itself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6483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arison to Linked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ame basic advantages and 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Read from two disk locations for every data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timization: Cache FAT in 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dvantage: Greatly improves random ac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920" y="3048120"/>
            <a:ext cx="8229600" cy="609480"/>
            <a:chOff x="304920" y="3048120"/>
            <a:chExt cx="8229600" cy="609480"/>
          </a:xfrm>
        </p:grpSpPr>
        <p:sp>
          <p:nvSpPr>
            <p:cNvPr id="129" name=""/>
            <p:cNvSpPr/>
            <p:nvPr/>
          </p:nvSpPr>
          <p:spPr>
            <a:xfrm>
              <a:off x="304920" y="3200400"/>
              <a:ext cx="4572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2004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6520" y="32004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2004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8120" y="320040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5320" y="320040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20040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19720" y="320040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76920" y="3200400"/>
              <a:ext cx="45720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4120" y="3200400"/>
              <a:ext cx="45720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1320" y="3200400"/>
              <a:ext cx="45720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48520" y="320040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5720" y="320040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3200400"/>
              <a:ext cx="4572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90920" y="3200400"/>
              <a:ext cx="4572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920" y="3200400"/>
              <a:ext cx="4572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77320" y="3200400"/>
              <a:ext cx="4572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0120" y="3200400"/>
              <a:ext cx="4572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800" y="30481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0200" y="30481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7400" y="30481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9000" y="30481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86200" y="30481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43400" y="30481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440" y="30481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00600" y="3048120"/>
              <a:ext cx="160020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640" y="3048120"/>
              <a:ext cx="68580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43000" y="3048120"/>
              <a:ext cx="160020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71800" y="3048120"/>
              <a:ext cx="42674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43800" y="3048120"/>
              <a:ext cx="685800" cy="763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57800" y="30481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15000" y="304812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cubicBezTo>
                    <a:pt x="16" y="48"/>
                    <a:pt x="32" y="0"/>
                    <a:pt x="48" y="0"/>
                  </a:cubicBezTo>
                  <a:cubicBezTo>
                    <a:pt x="64" y="0"/>
                    <a:pt x="80" y="48"/>
                    <a:pt x="96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dexed Allo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ocate fixed-sized blocks for each fi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ta-data: Fixed-sized array of block point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locate space for ptrs at file creation tim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114800"/>
            <a:ext cx="8458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external 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s can be easily grown, with no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upports random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arge overhead for meta-d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astes space for unneeded pointers (most files are small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200400"/>
            <a:ext cx="457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32004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32004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2004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320040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320040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320040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320040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32004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32004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200400"/>
            <a:ext cx="45720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20040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320040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200400"/>
            <a:ext cx="457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200400"/>
            <a:ext cx="457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3200400"/>
            <a:ext cx="457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3200400"/>
            <a:ext cx="457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320040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2005-11-21T21:28:44Z</cp:lastPrinted>
  <dcterms:modified xsi:type="dcterms:W3CDTF">2005-11-21T21:29:00Z</dcterms:modified>
  <cp:revision>50</cp:revision>
  <dc:subject/>
  <dc:title>Synchronization</dc:title>
</cp:coreProperties>
</file>