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4BB-3FF2-4D89-83A2-0D9884B6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F13-41AF-4862-A88A-23AB1E17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F6A-DB36-4342-9EA8-AD3F28E8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D2A-DBD2-48F1-AF37-63C7F1A5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020-C8AA-4172-BACC-8ED9A75E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6B8-B6D8-41E1-9FEC-FF4C0ED8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47E-4698-4430-AB6C-1C8AF365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550-A570-4E02-BEF4-9CBE313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4B5-2591-4464-9C16-BB038640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6C4-D570-4F19-B2F7-2B3F4279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30A-307E-4DBF-9586-50C93497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954-A3B3-4DAC-8F73-F48FCAA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D935-6750-438C-BB2C-48E64A9EA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Journaling File System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is it hard to maintain on-disk consistenc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es the FSCK tool help with consistenc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nformation is written to a journa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3 journaling modes does Linux ext3 suppor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raditional Solution: FSCK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SCK: “file system checker”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en system boots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ke multiple passes over file syste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ooking for inconsistenci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.g., inode pointers and bitmap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rectory entries and inode reference cou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ither fix automatically or punt to admi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oes fsck have to run upon every reboot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ain problem with fsck: </a:t>
            </a: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metimes takes hours to run on large disk volum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w To Avoid The Long Scan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dea: Write something down to disk bef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updating its data structur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lled the “write ahead log” or “journal”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en crash occurs, look through log and se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at was going on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contents of log to fix file system struct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process is called “recovery”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ase Study: Linux ext3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Journal location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ITHER on a separate device parti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R just a “special” file within ext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ree separate modes of operation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"/>
              </a:rPr>
              <a:t>Data: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ll data is journal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"/>
              </a:rPr>
              <a:t>Ordered, Writeback: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Just metadata is journal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rst focus: Data journaling mod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ransactions in ext3 Data Journaling Mod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ame example: Update Inode (I), Bitmap (B), Data (D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rst, write to journal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nsaction begin (Tx begi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nsaction descriptor (info about this Tx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, B, and D blocks (in this exampl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ansaction end (Tx end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n, “checkpoint” data to fixed ext2 struct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py I, B, and D to their fixed file system loca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nally, free Tx in journal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Journal is fixed-sized circular buffer, entr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ust be periodically fre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if there’s a Crash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covery: Go through log and “redo” ope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at have been successfully commited to lo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at if …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x begin but not Tx end in log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x begin through Tx end are in log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t I, B, and D have not yet been checkpoint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f Tx is in log, I, B, D have been checkpointe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t Tx has not been freed from log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erformance? (As compared to fsck?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mplication: Disk Schedul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blem: Low-levels of I/O subsystem in 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nd even the disk/RAID itself may reorder request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does this affect Tx managemen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re is it OK to issue writes in parallel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x begi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x inf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, B, 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x en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eckpoint: I, B, D copied to final destina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x freed in journa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blem with Data Journal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a journaling: Lots of extra writ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 data committed to disk twi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once in journal, once to final locatio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verkill if only goal is to keep </a:t>
            </a:r>
            <a:r>
              <a:rPr b="0" lang="en-US" sz="2400" spc="-1" strike="noStrike">
                <a:solidFill>
                  <a:srgbClr val="ff0000"/>
                </a:solidFill>
                <a:latin typeface="Chalkboard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consist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stead, use ext2 writeback mod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Just journals metadata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s data to final location directly, </a:t>
            </a: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at any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: </a:t>
            </a:r>
            <a:r>
              <a:rPr b="0" lang="en-US" sz="2400" spc="-1" strike="noStrike">
                <a:solidFill>
                  <a:srgbClr val="ff0000"/>
                </a:solidFill>
                <a:latin typeface="Chalkboard"/>
              </a:rPr>
              <a:t>Ordered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to order data block write w.r.t. Tx write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onclus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Journalin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 modern file systems use journaling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duce recovery time during start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(e.g., Linux ext3, ReiserFS, SGI XFS, IBM JFS, NTF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mple idea: Use write-ahead log to record so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fo about what you are going to do before doing i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rns multi-write update sequence into a 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omic update (“all or nothing”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me performance overhead: Extra writes to journa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th the cost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view: The I/O Path (Reads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ad() from fil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heck if block is in cach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so, return block to u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[1 in figure]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not, read from disk, insert into cache, return to user [2]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5105520"/>
            <a:ext cx="2286000" cy="1143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1981080"/>
            <a:ext cx="2362320" cy="198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Memory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(Cache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15238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213372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781680" y="15238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1447920"/>
            <a:ext cx="0" cy="419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56386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077320" y="1447560"/>
            <a:ext cx="0" cy="4190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65560" y="144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60840" y="417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28600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571500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53280" y="289548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71840" y="160020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Blo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03760" y="3962520"/>
            <a:ext cx="113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Blo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 No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7180200" y="279720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Leave copy in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eview: The I/O Path (Writes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rite() to 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 is buffered in memory (“write behind”) [1]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ometime later, OS decides to write to disk [2]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delay writ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s for performa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ations for reliabil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105520"/>
            <a:ext cx="2286000" cy="1143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1981080"/>
            <a:ext cx="2362320" cy="198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Memory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(Cache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15238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213372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153280" y="15238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01000" y="2743200"/>
            <a:ext cx="0" cy="2895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37160" y="144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60840" y="417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36232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42000" y="152388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Buffer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05560" y="3886200"/>
            <a:ext cx="132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Writ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any “dirty” blocks in memory: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at order to write to disk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Appending a new block to existing fil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 data bitmap B (for new data block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 inode I of file (to add new pointer, update time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rite new data block 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60958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6095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6248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640080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84560" y="5715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91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419112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3434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4956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495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3080" y="571500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42667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1280" y="571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257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83560" y="5241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68800" y="480060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876920"/>
            <a:ext cx="0" cy="685800"/>
          </a:xfrm>
          <a:prstGeom prst="line">
            <a:avLst/>
          </a:prstGeom>
          <a:ln w="507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876920"/>
            <a:ext cx="0" cy="685800"/>
          </a:xfrm>
          <a:prstGeom prst="line">
            <a:avLst/>
          </a:prstGeom>
          <a:ln w="507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876920"/>
            <a:ext cx="0" cy="685800"/>
          </a:xfrm>
          <a:prstGeom prst="line">
            <a:avLst/>
          </a:prstGeom>
          <a:ln w="507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9520" y="486108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4200" y="48769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5800" y="48769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he Problem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rites: Have to update disk with N writ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k does only a single write atom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rashes: System may crash at arbitrary poin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ad case: In the middle of an update seque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esire: To update on-disk structures </a:t>
            </a: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atomicall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ither all should happen or non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Bitmap firs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rite Ordering: Bitmap (B), Inode (I), Data (D)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t CRASH after B has reached disk, before I or 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sul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60958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6095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6248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40080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84560" y="5715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4191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419112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3434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44956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4495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3080" y="571500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715000" y="42667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11280" y="571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257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83560" y="5241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876920"/>
            <a:ext cx="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4008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51520" y="47084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Inode firs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rite Ordering: Inode (I), Bitmap (B), Data (D)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t CRASH after I has reached disk, before B or 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sul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2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60958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6095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6248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640080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84560" y="5715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4191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419112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3434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4956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4495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3080" y="571500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715000" y="42667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11280" y="571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5257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83560" y="5241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4876920"/>
            <a:ext cx="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51520" y="47084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Inode firs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rite Ordering: Inode (I), Bitmap (B), Data (D)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ASH after I AND B have reached disk, before 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sul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60958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6095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6248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640080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84560" y="5715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191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419112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43434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44956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4495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3080" y="571500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715000" y="42667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11280" y="571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257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83560" y="5241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876920"/>
            <a:ext cx="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4876920"/>
            <a:ext cx="0" cy="685800"/>
          </a:xfrm>
          <a:prstGeom prst="line">
            <a:avLst/>
          </a:prstGeom>
          <a:ln w="507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51520" y="47084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4876920"/>
            <a:ext cx="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: Data firs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rite Ordering: Data (D) , Bitmap (B), Inode (I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ASH after D has reached disk, before I or B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sul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609588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60958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6095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6248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640080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4560" y="5715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191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19112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3434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44956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4495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3080" y="571500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4191120"/>
            <a:ext cx="4572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42667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11280" y="571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5257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83560" y="5241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4952880"/>
            <a:ext cx="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51520" y="47084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2005-12-02T17:18:23Z</cp:lastPrinted>
  <dcterms:modified xsi:type="dcterms:W3CDTF">2005-12-02T17:30:44Z</dcterms:modified>
  <cp:revision>53</cp:revision>
  <dc:subject/>
  <dc:title>Synchronization</dc:title>
</cp:coreProperties>
</file>