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64D-A250-4FB1-9253-41E9FCF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AD7-DA8B-494B-8476-CC911C84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24C-0875-415C-8F73-81183794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815-135F-4B48-8EC0-74D2C9D4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206-3E9A-4CC5-8FDB-2D8C5C65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5E1-604D-410F-857E-AE55815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FFB-B24A-42B9-97A4-76472B4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DB0-E435-4FD0-9C68-70D84DC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909-933F-4990-A324-1F33FD8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965-27E2-4112-BE55-64F5D8B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AF5-0969-4DE0-94E4-84106EE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786-0041-4F52-A9FF-8429115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C20-9B89-440B-992E-C5031E164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File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distributed file systems usefu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difficult about distributed file syst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NFS wor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che Consistenc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Consistency across multiple copies (server and multiple client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between client and serv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file is changed on server, will client see updat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Read policy on cli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to keep data consistent across clie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write file on client A and read on client B, will B see update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rmining factor: Write and read policy on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How does client keep current with server stat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ttribute cache: Used to determine when file chang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 open: Client checks server to see if attributes have chang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34388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If haven’t checked in past T seconds (configurable, T=3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entries every N seconds (configurable, N=60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ata cach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iscard all blocks of file if attributes show file has been modifi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g: Client cache has file A’s attributes and blocks 1, 2, 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opens A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2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lock 3 is changed on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3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4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waits 70 secon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lient reads block 1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Consistency: Wri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s: How does client update serve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rite-back from client cache to server every 30 second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so, Flush on close(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ynchronously write to serv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Client X and Y have file A (blocks 1,2,3) cach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s X and Y open file 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X writes to blocks 1 and 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Y reads block 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0 seconds later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Y reads block 2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0 seconds later..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Y reads block 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tributed file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ortant for data shar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allenges: Fault tolerance, scalable performance, and consisten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FS: Popular distributed 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 features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teless server, idempotent operations: Simplifies fault toler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rashed server appears as slow server to cli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caches needed for scalable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ules for invalidating cache entries and flushing data to server are not straight-forwar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ata consistency very hard to reason abou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s a distributed file system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905120"/>
            <a:ext cx="914400" cy="1066680"/>
            <a:chOff x="990720" y="1905120"/>
            <a:chExt cx="914400" cy="1066680"/>
          </a:xfrm>
        </p:grpSpPr>
        <p:sp>
          <p:nvSpPr>
            <p:cNvPr id="48" name=""/>
            <p:cNvSpPr/>
            <p:nvPr/>
          </p:nvSpPr>
          <p:spPr>
            <a:xfrm>
              <a:off x="990720" y="19051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360" y="23619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0720" y="1981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33720" y="2590920"/>
            <a:ext cx="914400" cy="1066680"/>
            <a:chOff x="2133720" y="2590920"/>
            <a:chExt cx="914400" cy="1066680"/>
          </a:xfrm>
        </p:grpSpPr>
        <p:sp>
          <p:nvSpPr>
            <p:cNvPr id="52" name=""/>
            <p:cNvSpPr/>
            <p:nvPr/>
          </p:nvSpPr>
          <p:spPr>
            <a:xfrm>
              <a:off x="2133720" y="2590920"/>
              <a:ext cx="7621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360" y="304776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2666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828800" y="4038480"/>
            <a:ext cx="914400" cy="1067040"/>
            <a:chOff x="1828800" y="4038480"/>
            <a:chExt cx="914400" cy="1067040"/>
          </a:xfrm>
        </p:grpSpPr>
        <p:sp>
          <p:nvSpPr>
            <p:cNvPr id="56" name=""/>
            <p:cNvSpPr/>
            <p:nvPr/>
          </p:nvSpPr>
          <p:spPr>
            <a:xfrm>
              <a:off x="1828800" y="4038480"/>
              <a:ext cx="762120" cy="1067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440" y="44956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1148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66680" y="5410080"/>
            <a:ext cx="76212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971800"/>
            <a:ext cx="31240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1400" y="312408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809880"/>
            <a:ext cx="38124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809880"/>
            <a:ext cx="380880" cy="609840"/>
          </a:xfrm>
          <a:prstGeom prst="ca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0200" y="2620800"/>
            <a:ext cx="2303280" cy="3019680"/>
          </a:xfrm>
          <a:custGeom>
            <a:avLst/>
            <a:gdLst/>
            <a:ahLst/>
            <a:rect l="l" t="t" r="r" b="b"/>
            <a:pathLst>
              <a:path w="1451" h="1902">
                <a:moveTo>
                  <a:pt x="239" y="236"/>
                </a:moveTo>
                <a:cubicBezTo>
                  <a:pt x="227" y="73"/>
                  <a:pt x="190" y="45"/>
                  <a:pt x="331" y="0"/>
                </a:cubicBezTo>
                <a:cubicBezTo>
                  <a:pt x="435" y="12"/>
                  <a:pt x="386" y="1"/>
                  <a:pt x="475" y="31"/>
                </a:cubicBezTo>
                <a:cubicBezTo>
                  <a:pt x="484" y="34"/>
                  <a:pt x="505" y="41"/>
                  <a:pt x="505" y="41"/>
                </a:cubicBezTo>
                <a:cubicBezTo>
                  <a:pt x="540" y="67"/>
                  <a:pt x="570" y="98"/>
                  <a:pt x="608" y="123"/>
                </a:cubicBezTo>
                <a:cubicBezTo>
                  <a:pt x="753" y="116"/>
                  <a:pt x="821" y="118"/>
                  <a:pt x="946" y="82"/>
                </a:cubicBezTo>
                <a:cubicBezTo>
                  <a:pt x="1060" y="92"/>
                  <a:pt x="1111" y="91"/>
                  <a:pt x="1152" y="205"/>
                </a:cubicBezTo>
                <a:cubicBezTo>
                  <a:pt x="1161" y="314"/>
                  <a:pt x="1175" y="457"/>
                  <a:pt x="1193" y="564"/>
                </a:cubicBezTo>
                <a:cubicBezTo>
                  <a:pt x="1203" y="627"/>
                  <a:pt x="1245" y="702"/>
                  <a:pt x="1275" y="759"/>
                </a:cubicBezTo>
                <a:cubicBezTo>
                  <a:pt x="1297" y="851"/>
                  <a:pt x="1287" y="938"/>
                  <a:pt x="1326" y="1026"/>
                </a:cubicBezTo>
                <a:cubicBezTo>
                  <a:pt x="1330" y="1035"/>
                  <a:pt x="1328" y="1048"/>
                  <a:pt x="1336" y="1056"/>
                </a:cubicBezTo>
                <a:cubicBezTo>
                  <a:pt x="1343" y="1063"/>
                  <a:pt x="1356" y="1063"/>
                  <a:pt x="1367" y="1067"/>
                </a:cubicBezTo>
                <a:cubicBezTo>
                  <a:pt x="1403" y="1121"/>
                  <a:pt x="1407" y="1189"/>
                  <a:pt x="1428" y="1251"/>
                </a:cubicBezTo>
                <a:cubicBezTo>
                  <a:pt x="1434" y="1354"/>
                  <a:pt x="1451" y="1528"/>
                  <a:pt x="1428" y="1631"/>
                </a:cubicBezTo>
                <a:cubicBezTo>
                  <a:pt x="1419" y="1665"/>
                  <a:pt x="1323" y="1686"/>
                  <a:pt x="1295" y="1692"/>
                </a:cubicBezTo>
                <a:cubicBezTo>
                  <a:pt x="1164" y="1717"/>
                  <a:pt x="1038" y="1734"/>
                  <a:pt x="905" y="1743"/>
                </a:cubicBezTo>
                <a:cubicBezTo>
                  <a:pt x="767" y="1767"/>
                  <a:pt x="624" y="1763"/>
                  <a:pt x="485" y="1774"/>
                </a:cubicBezTo>
                <a:cubicBezTo>
                  <a:pt x="399" y="1809"/>
                  <a:pt x="330" y="1864"/>
                  <a:pt x="239" y="1887"/>
                </a:cubicBezTo>
                <a:cubicBezTo>
                  <a:pt x="70" y="1865"/>
                  <a:pt x="89" y="1902"/>
                  <a:pt x="64" y="1784"/>
                </a:cubicBezTo>
                <a:cubicBezTo>
                  <a:pt x="67" y="1729"/>
                  <a:pt x="70" y="1674"/>
                  <a:pt x="75" y="1620"/>
                </a:cubicBezTo>
                <a:cubicBezTo>
                  <a:pt x="90" y="1436"/>
                  <a:pt x="134" y="1444"/>
                  <a:pt x="44" y="1354"/>
                </a:cubicBezTo>
                <a:cubicBezTo>
                  <a:pt x="31" y="1322"/>
                  <a:pt x="4" y="1294"/>
                  <a:pt x="3" y="1261"/>
                </a:cubicBezTo>
                <a:cubicBezTo>
                  <a:pt x="0" y="1189"/>
                  <a:pt x="0" y="1116"/>
                  <a:pt x="13" y="1046"/>
                </a:cubicBezTo>
                <a:cubicBezTo>
                  <a:pt x="21" y="1000"/>
                  <a:pt x="113" y="875"/>
                  <a:pt x="146" y="831"/>
                </a:cubicBezTo>
                <a:cubicBezTo>
                  <a:pt x="159" y="745"/>
                  <a:pt x="187" y="671"/>
                  <a:pt x="198" y="585"/>
                </a:cubicBezTo>
                <a:cubicBezTo>
                  <a:pt x="201" y="513"/>
                  <a:pt x="200" y="440"/>
                  <a:pt x="208" y="369"/>
                </a:cubicBezTo>
                <a:cubicBezTo>
                  <a:pt x="212" y="323"/>
                  <a:pt x="232" y="280"/>
                  <a:pt x="239" y="2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7600" y="3971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1240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5334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13372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96880" y="58672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xamples: NFS, A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y are distributed file systems useful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cess from multiple cli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ame user on different machines can access same fi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ifies sha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erent users on different machines can read/write to same fil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ifies administr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shared server to maintain (and backup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mprove reliabil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RAID storage to serv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halleng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parent ac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sees single, global file system regardless of 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alable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ance does not degrade as more clients are add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lient and server identify and respond appropriately when other crash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e same directory and file contents on different clients at sam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cure communication and user authent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Tension across these goal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Example: Caching helps performance, but hurts consisten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NF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un’s Network File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troduced in 1980s, multiple versions (v2, v3, </a:t>
            </a:r>
            <a:r>
              <a:rPr b="0" i="1" lang="en-US" sz="2000" spc="-1" strike="noStrike">
                <a:solidFill>
                  <a:srgbClr val="ccccff"/>
                </a:solidFill>
                <a:latin typeface="Chalkboard"/>
              </a:rPr>
              <a:t>v4</a:t>
            </a:r>
            <a:r>
              <a:rPr b="0" lang="en-US" sz="2000" spc="-1" strike="noStrike">
                <a:solidFill>
                  <a:srgbClr val="ccccff"/>
                </a:solidFill>
                <a:latin typeface="Chalkboar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y idea #1: Stateless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not required to remember anything (in memory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ich clients are connected, which files are open, ..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client requests have enough info to complete o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Client specifies offset in file to write t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e Advantage: Server state does not grow with mor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ey idea #2: Idempotent server 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ion can be repeated with same result (no side effect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a=b+1; Not a=a+1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Helps which Challenge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NFS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mote Procedure Calls (RPC) for communication between client and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lient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transparent access to NFS file syste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UNIX contains Virtual File system layer (VF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node: interface for procedures on an individual fi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lates vnode operations to NFS RPC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ver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eless: Must not have anything only 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: All modified data written to stable storage before return control to cli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rvers often add NVRAM to improve performan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sic NFS Protoco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kup(dirfh, name) returns (fh, attribu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mount protocol for root direct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(dirfh, name, attr) returns (newfs, attr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dirfs, name) returns (statu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fh, offset, count) returns (attr, data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fh, offset, count, data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tattr(fh) returns att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What is missing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pping UNIX System Calls to NFS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d = open(“/dir/foo”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raverse pathname to get filehandle for fo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rfh = lookup(rootdirfh, “dir”)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 = lookup(dirfh, “foo”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cord mapping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file descriptor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t initial file offset to 0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le descript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fd,buffer,byt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et current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p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h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NFS filehandl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l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= read(fh, offset, bytes)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nd cop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i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ncrement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nix system call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se(f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ree resources assocatiated with f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ent-side Cach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ching needed to improve 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ds: Check local cache before going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s: Only periodically write-back data to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void contacting serv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void slow communication over networ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rver becomes scalability bottleneck with more cli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wo client cach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block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ributes (metadata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2005-12-02T17:31:03Z</cp:lastPrinted>
  <dcterms:modified xsi:type="dcterms:W3CDTF">2005-12-08T04:09:37Z</dcterms:modified>
  <cp:revision>59</cp:revision>
  <dc:subject/>
  <dc:title>Synchronization</dc:title>
</cp:coreProperties>
</file>