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8A7-DA5A-4866-A38E-6EF6DFE3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977-24FC-41BD-8397-020CD1FB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021-0389-47D7-94E2-53A76FBB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97E-FC1A-4D6D-8AD3-410E79B4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99F-3781-4C4C-BDD0-09CF798D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208-3AD9-459A-A6F9-647867EB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F65-BA50-4CE8-9CA7-71EA4170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7FD-B0F3-4DA9-BC4B-31B81347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BF5-5AB7-4D2F-8CE3-C6DC4F97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B7EA-7260-4035-98E4-7296D022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299-8749-496C-99E6-E20F951F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530-D53F-4DE4-9DB8-DA8BECE0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B51C-967B-4EC4-BD87-13EC07B70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rotection and Securit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can a system authenticate a user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are access rights specifie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are common security problem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re Security Problem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Leverage Covert Channel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formation leaks outside of normal interfa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ime, power, page faults, ...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: Tenex page-fault cap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ystem checked passwords until character didn’t match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racked passwords by placing input string across page bounda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asured time for password chec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f very slow?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umber of needed attempts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: Power consumption on smart card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re Security Problem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mposter or Trojan Hors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pplication that misuses its environmen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aths including “.” make users more vulnerabl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gram looks like login proces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ditor that reads unauthorized fil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TM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rap doo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esigner leaves hole in software to leverage lat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Login makes user a super-user regardless of password fi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blem: Inspection of source code reveals trap doo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hange compiler to insert special code when compiling login!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re Security Problem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ragment of malicious code embedded in legitimate cod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pread by copying infected programs over network or floppy dis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orm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pable of spreading itself from machine to machin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Thousands of computers disabled in Fall 1988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ndmail attack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ebug command left enabled to execute code as super-us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ingerd attack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Give long name to fingerd to overflow buffer and modify stack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sh: Crack passwords of local users by guessing common ones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Look for .rhost files for access to more machin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egaining Securit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May be impossible to secure system once penetrated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ay not notice that security violation occurr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Villain can remove all traces from log fil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oks can be left for villain to regain contro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nnot restore system from backup tap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ttack could have occurred earlier than suspect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olutions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move all files and reinstall all softwa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uy a new machin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tiv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tection more important as computer systems develop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ultiple users have access to same resourc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mputers connected to networ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creasing importance to electronic commer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s: Ensure users only do what they are supposed to do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event accidental misus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ample: Mistakenly overwrite command interpreter; no one can log in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latively easy to solve by making hard to do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event malicious abus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ample: Break into accounting system and transfer $3billion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ard to completely eliminat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mponents of Protection Mechanism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ake sure system knows which user is doing what ac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uthorization determin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etermine what the user is and is not allowed to do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ccess enforceme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ake sure no loopholes in the system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law in any area ruins entire protection mechanism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ystem is only as secure as its weakest lin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uthentic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 you prove who you are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assword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cret piece of information known only by us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ystem should not store in readable form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ne-way transformations must be used when check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advantage: Relatively easy to crac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umans choose poor password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hort passwords are easy to find with brute force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mon words found in dictionarie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hysical possession of item proves identit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hould not be forgeable or able to be copi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vantage: If stolen, user is awa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advantage: Relatively expensive to mak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uthorization Determin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ccess rights represented with access matrix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ne domain (e.g., user) per row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ne resource (e.g., files) per colum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ch entry indicates privileges of domain for resour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66680" y="3886200"/>
          <a:ext cx="6096240" cy="28479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File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File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File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File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User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R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R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R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R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User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R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R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User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R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User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R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R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User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R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R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epresentation of Access Matrix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ccess matrix is sparsely populat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ndense information by expressing in two form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ccess control list: Per column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apability: Per row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ccess Control Lists: (ACLs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or each resource, indicate users that can perform operation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General form: Each resource has list of &lt;user, privilege&gt; pair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sadvantag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edious to have separate entry for every us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ptimization: Group users into class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UNIX example: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Three classes of users: self, group, everyone else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Three privileges: read, write, execute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FS exampl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nstruct arbitrary group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even privileges: rliwdka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vantage: Easy to revoke privileg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epresentation of Access Matrix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or each user, indicate resources that can be access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General form: Each user has list of &lt;resource, privilege&gt; pair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lementation: Nam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cure pointer, whose value cannot be chang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annot even name objects not in your capability lis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Users cannot construct or copy these pointer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ften need hardware or language suppor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Virtual address spa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le descriptor for an open fi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nlisted phone number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ore secure: default is no access to objec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fficult to revoke capabiliti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Access Enforcemen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sponsibilities of security kerne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tecting identification and authorization inform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nforcing access control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ust run in protected mod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s small and simple as possib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aradox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ore powerful protection mechanism --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arger and more complex security kernel --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ore likely to have implementation bugs --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ore security hol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mmon Security Problem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buse of valid privile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ivileges are not fine grained enough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Super-user can do anything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istener (or snooper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vesdrop on interconnect to steal inform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Set ethernet card to promiscuous mod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nial of Service (DoS) or Spoil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nsume all resources to make system crash or unusab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Grab all file space or create many proc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Andrea Arpaci-Dusseau</cp:lastModifiedBy>
  <cp:lastPrinted>2005-12-08T04:10:12Z</cp:lastPrinted>
  <dcterms:modified xsi:type="dcterms:W3CDTF">2005-12-12T22:44:20Z</dcterms:modified>
  <cp:revision>62</cp:revision>
  <dc:subject/>
  <dc:title>Synchronization</dc:title>
</cp:coreProperties>
</file>