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812-A19A-4162-854D-DDA8FD62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3DF-01FE-48CA-90E0-ECB8FA6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70E-22FD-4A8D-A7FC-26A69D16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11C-DE10-43AA-BE9E-1C494146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03F-E9D6-470C-924A-51F1413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AA9-1112-44C3-9E30-343EA18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02E-0A33-41ED-993B-6701856F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24F-22FB-453C-8EE9-94DD5F59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42B-86BA-41E4-BC20-7CD6036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57F-7F30-4960-99DB-8D99889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AD4-5308-4D80-9D89-E6697FED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D3D-94B6-47E2-91A4-E2B0782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F586-A346-47D7-BD53-90478697C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ncry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encryption provide privac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encryption provide authentic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public key encryp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symmetric key encryp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tential Limitations of Encry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you trust public key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You hear “A’s public key is K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: Who said this?  What if K is really C’s public key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Authentication Server (AS) everyone tru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veryone knows public key of authentication server (PA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-&gt;B: {Public key of A is PA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SA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 decodes with PAS and know only AS could have sent mes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d by HTTPS and Secure Socket Layer (SS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ertificate from server 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AS, A, PA, time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SA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Problems with Encry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avesdroppers can replay old mess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laying can confuse parties or cause unwanted behavior (even though eavesdropper doesn’t know what they are replaying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Sequence numbers (nonces) or timestamps in mess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latively slow to encode and decode mess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ngle private key is fast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mmetric Key Encry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so called Single key or Private key encryp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Advanced Encryption Standard (AES), Data Encryption Standard (D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Associate conversation key (CK) with session between two user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key used for both encoding and decod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{Msg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-&gt; Ms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How do you exchange conversation ke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send private key over insecure channel!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A wants to talk securely with B, B must authenticate A is sender (do not worry about replay atta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ied Solution #1: Use public key encryption to exchange session ke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-&gt;B: {A, {CK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S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changing Conversation Key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 #2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user has private key, Ki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uthentication server knows private keys of all us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ified algorithm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 asks authentication server for a CK with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-&gt;AS: 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 replies with new conversation key, 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-&gt;A: {CK, {A,CK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K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decrypted msg makes sense, only AS could have s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ly A can decrypt message and get 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 sends message to B telling it 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-&gt;B: {A,CK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 one could modify message to change name of sender from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o can listen to convers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cure Signatu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How to know if binary file is modified in transi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uld encrypt entire file, but slow if not concerned with eavesdropp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Secure checksum, message digest, digital fingerpri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unction(Msg) --&gt; large integer (e.g., 1024 bi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icult for adversary to find another msg that maps to same integ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A sends file to 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 calculates checksum of file; ask AS to encryp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 sends file and encrypted checksum to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 receives file and computes checksu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 ask AS to decode encrypted checksum so it can comp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ncryption Safe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safe is encryption?  Can private keys be foun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rack with brute force guessing, use many machin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ok for understandable text in decoded vers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fety depends on length of key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S 56 bit keys --&gt;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possible key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racked in &lt; 24 hou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ES has 128 bit key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pgrade encryption (key length) as machines become fa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ove known patterns from clear tex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(e.g., compress text first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send large amounts of data with same ke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ange keys frequent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cenario: Communicate between two endpoints over unprotected channel (e.g., network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s can eavesdrop on channe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s can inject messages on channe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vide secure communi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one can understand message cont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vide authenti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stablish identify of sen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that message contents are not alte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ncryption Mechanis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vert data to form that does not make sense to oth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ear text (plain text): Initial readable text that needs prote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ipher text: Encrypted version of clear tex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nder: Encrypt clear text to cipher tex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pply function with encryption key to clear tex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ipher text can be stored in readable file or transmitted over unprotected channe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iver: Decrypt cipher text to clear tex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pply function with decryption key to cipher tex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sed on factoring very large numbers (product of two prim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ecessary Condi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Decryption function or key remains secr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encryption and decryption keys are identical, cannot leak either ke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) Encryption function cannot be easily inver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) Encryption and decryption must be done is safe place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usted Computing Base (TCB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ear text must never be leaked outside of TC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ublic Key Encryp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SA algorithm (Rivest, Shamir, Adleman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keys for every us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ublic key: Known by every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cret (private) key: Known only by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derive one from knowing the 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ublic and secret keys are inverses of each 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ncode with secret key of A --&gt; decode with public key of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{Msg}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S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P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&gt; Msg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ncode with public key of A --&gt; decode with secret key of 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{Msg}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P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S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&gt; Msg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curity with Public Key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ure communication: Ensure that no one can read content of mess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A sends Msg to 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-&gt;B: 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 can decode 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PB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ith S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one else but B can decode Ms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yone can send messages to 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uthentication with Public Key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uthentication: Reliably identify the sender of a mess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A sends to B; B must know A sent mes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-&gt;B: {Msg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S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 can decode {Msg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with P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one else but A could have encoded a valid mes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for electronic signat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positive identif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“I agree to pay Mary $100 per year for life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message can be decrypted with your public key, then written by yo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yone can verify author of mes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curity and Authentication with Public Key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quire both security and authentication, then combine both strategi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A sends a message to B that only B can read; B knows that only A could have created mess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-&gt;B: {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P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: How does it decode {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P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o g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P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: How does B decode 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P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get Ms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-&gt;B: {{Msg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r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 with Public Key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encrypt message given following requirement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communication channels are insec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e parties involv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 (professor): Original sender of mess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 (student): intermediary of mess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 (employer): final receiver of mess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Only E can read mes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E must know that the message was written by 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) Message must pass through S before getting to 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 ensures that S gives approva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2005-12-12T22:44:49Z</cp:lastPrinted>
  <dcterms:modified xsi:type="dcterms:W3CDTF">2005-12-14T17:55:37Z</dcterms:modified>
  <cp:revision>66</cp:revision>
  <dc:subject/>
  <dc:title>Synchronization</dc:title>
</cp:coreProperties>
</file>