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22E-25A4-4699-8AC0-1BA32912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68E-148E-4231-9F62-F06B7E8B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521-C672-4CBD-8D27-F88B251A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16F-FB5C-4A1F-AF38-158A21F4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CCA-4D17-4017-80ED-FA99F017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6D1-F97C-4E31-A627-819CB06D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739-AF6F-4D83-B850-318AD3D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F92-8540-4EBE-AE90-A6F83EFE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80A-6750-4E7F-AC68-E3A9900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437-EFA3-493F-B122-9FF3C367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DA3-B3EB-4096-AF0F-47E539A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714-335E-4FD6-837A-B51B1D16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9FC6-B464-47CA-8000-CCFD61A95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reads and Cooper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threads usefu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one use POSIX pthread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user-level versus kernel-level thread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rocesses (or threads) communicate (IPC)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read Model #3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ybrid of Kernel and user-level threads: m-to-n thread mapp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pplication creates m thread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S provides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 pool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of n kernel thread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ew user-level threads mapped to each kernel-level threa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get best of user-level and kernel-level implementat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orks well given many short-lived user threads mapped to constant-size poo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mplicated…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to select mappings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to determine the best number of kernel threads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ser specified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OS dynamically adjusts number depending on system load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terprocess Communication (IPC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o cooperate usefully, threads must communicate with each other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do processes and threads communicate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hared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ssage Pass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PC: Shared Memo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rocess has private address space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plicitly set up shared memory segment within each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ways share address space (use heap for shared data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st and easy to share 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synchroniz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data accesses; error pro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ynchronization: Topic for next few lect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PC: Message Pass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ssage passing most commonly used between 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plicitly pass data btwn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sender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(src) +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receiver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destinatio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Unix pip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kes sharing explic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roves modularity (narrow interfac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es not require trust between sender and receiv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formance overhead to copy mess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ssues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name source and destination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e process, set of processes, or mailbox (port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es sending process wait (I.e., block) for receiver?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locking: Slows down send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n-blocking: Requires buffering between sender and recei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PC: Sign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ftware interrupt that notifies a process of an ev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SIGFPE, SIGKILL, SIGUSR1, SIGSTOP, SIGCO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 when a signal is receiv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tch: Specify signal handler to be call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gnore: Rely on OS default a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Abort, memory dump, suspend or resume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sk: Block signal so it is not delive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y be temporary (while handling signal of same type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es not specify any data to be exchang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plex semantics with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reads and Sign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To which thread should OS deliver signa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1: Require sender to specify thread id (instead of process id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er may not know about individual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2: OS picks destination threa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SIX: Each thread has signal mask (disable specified signal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delivers signal to all threads without signal mask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pplication determines which thread is most appropriate for handing signa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y support Thread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vide large task across several cooperative threa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lti-threaded task has many performance benefi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apt to slow dev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thread waits for device while other threads comput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fer wo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thread performs non-critical work in the background, when id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rallelis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thread runs simultaneously on a multiprocess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mmon Programming Mode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lti-threaded programs tend to be structured in one of three common model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nager/wor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ngle manager handles input and assigns work to the worker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ducer/consum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ltiple producer threads create data (or work) that is handled by one of the multiple consumer thread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ipe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ask is divided into series of subtasks, each of which is handled in series by a different threa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do threads shar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ltiple threads within a single process share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ID (PI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de (instruction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st data (hea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n file descript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gnals and signal handl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urrent working direct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and group i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thread has its ow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ID (TI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t of registers, including Program counter and Stack poin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ck for local variables and return addr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gnal ma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read Oper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ariety of thread systems exi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n32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-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SIX P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on thread 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i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spe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k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Join (instead of wait()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ons for threads usually faster than for 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Thread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thread_t t1, t2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 *msg1 = “Thread 1”; char *msg2 = “Thread 2”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ret1, ret2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1 = pthread_create(&amp;t1, NULL, print_fn, (void *)msg1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2 = pthread_create(&amp;t2, NULL, print_fn, (void *)msg2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et1 || ret2) {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printf(stderr, “ERROR: pthread_created failed.\n”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thread_join(t1, NULL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thread_join(t2, NULL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Thread 1 and thread 2 complete.\n”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_fn(void *ptr)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(char *)ptr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Output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S Support for Th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ree approaches for thread suppor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r-level threa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ernel-level threa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ybrid of User-level and Kernel-level threa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read Model #1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r-level threads: Many-to-one thread mapp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emented by user-level runtime librar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reate, schedule, synchronize threads at user-leve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is not aware of user-level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S thinks each process contains only a single thread of contro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es not require OS support; Port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tune scheduling policy to meet application deman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er overhead thread operations since no system call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leverage multiprocess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tire process blocks when one thread block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read Model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ernel-level threads: One-to-one thread mapp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provides each user-level thread with a kernel threa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kernel thread scheduled independent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operations (creation, scheduling, synchronization) performed by 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kernel-level thread can in parallel on a multiprocess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one thread blocks, other threads from process can be schedul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igher overhead for thread oper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must scale well with increasing number of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Andrea Arpaci-Dusseau</cp:lastModifiedBy>
  <cp:lastPrinted>1970-01-06T02:14:07Z</cp:lastPrinted>
  <dcterms:modified xsi:type="dcterms:W3CDTF">1970-01-09T22:44:17Z</dcterms:modified>
  <cp:revision>11</cp:revision>
  <dc:subject/>
  <dc:title>Introduction and Overview</dc:title>
</cp:coreProperties>
</file>