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850-55A7-4259-A5AC-393D8A28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80ED-676C-422B-BAC7-37AA2585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9753-F7C0-40E4-9991-6C07CEBB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C20-CDBF-4A83-A070-03D28045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372D-16B7-4B3D-8678-AF5F1676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170-1EA6-4D39-BC70-62381094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697-8CEA-40E2-B38F-46196461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000-15B0-41FF-8B21-068B6095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503-61A9-4307-A921-CD226AD2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514-4578-446C-8A42-F970F54B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718F-300C-4F9E-B6ED-FAEAA642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3C5-EE04-4DD6-82BE-FF8944AC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6728-FC24-47B6-84B8-9E6D7D191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ynchroniz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is synchronization necessary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race conditions, critical sections, and atomic operation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to protect critical sections with atomic loads and store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eterson’s Algorithm: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ntui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Mutual exclusion: Enter critical section if and only if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ther thread does not want to ent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ther thread wants to enter, but your tur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rogress: Both threads cannot wait forever at while() loop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pletes if other process does not want to ent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ther process (matching turn) will eventually finish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ouded waiting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ch process waits at most one critical sec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Lamport’s Bakery Algorithm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or N Thread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akery algorithm intui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ch thread picks next highest ticket (may have tie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nter critical section when have lowest ticke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oosing[tid] = true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[tid] = Max(number[0]..number[n-1]) + 1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oosing[tid] = false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j = 0; j &lt; n; j++) {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hoosing[j]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umber[j] &amp;&amp; ((number[j],j) &lt; (number[tid],tid))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[tid] = 0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08760" y="2119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operation requires Synchroniz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wo threads share account balance in memo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ch runs common code, deposit(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deposit (int amount) {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lance = balance + amount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pile to sequence of assembly instruc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, bala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, amou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o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, bala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Which variables are shared? Which private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ncurrent Execu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happens if 2 threads deposit concurrently?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ssume any interleaving of instructions is possibl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ake no assumptions about schedul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itial balance: $100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ead 1:deposit(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ead 2:deposit(20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R1, bala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R1, bala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 R1, amou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 R1, amou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ore R1, bala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ore R1, bala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What is the final balance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4343400"/>
            <a:ext cx="183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finit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Race condition: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Result depends upon ordering of execu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n-deterministic bug, very difficult to fin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Critical section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: Required Properti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utual exclus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nly one thread in critical section at a tim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gress (deadlock-fre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f several simultaneous requests, must allow one to proce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ust not depend on threads outside critical section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ounded (starvation-fre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ust eventually allow each waiting thread to ent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sirable Properti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fficie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on’t consume substantial resources while waiting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o not busy wait (I.e., spin wait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ai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on’t make some processes wait longer than other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mplementing Critical Sect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o implement, need atomic opera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Atomic operation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: No other instructions can be interleav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s of atomic opera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oads and stores of words &lt;-- Today’s topic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Load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1, B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tore r1, A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de between interrupts on uniprocesso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sable timer interrupts, don’t do any I/O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pecial hw instructio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est&amp;Se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mpare&amp;Swap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ritical Section: Attempt #1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de uses a single shared lock variabl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 lock = false; // shared variabl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deposit(int amount) {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(lock) /* wait */ 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ck = true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lance += amount; // critical sec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ck = false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Why doesn’t this work? Which principle is violat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ttempt #2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ch thread has its own lock; lock indexed by tid (0, 1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 lock[2] = {false, false}; // shar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deposit(int amount) {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ck[tid] = true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(lock[1-tid]) /* wait */ 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lance += amount; // critical sec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ck[tid] = false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Why doesn’t this work? Which principle is violat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ttempt #3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urn variable determines which thread can ent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urn = 0; // shar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deposit(int amount) {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(turn == 1-tid) /* wait */ 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lance += amount; // critical sec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urn = 1-tid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Why doesn’t this work? Which principle is violat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eterson’s Algorithm: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olution for Two Thread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mbine approaches 2 and 3: Separate locks and turn variab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urn = 0; // shar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lock[2] = {false, false}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deposit(int amount) {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ck[tid] = true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urn = 1-tid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lock[1-tid] &amp;&amp; turn == 1-tid) /* wait */ 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lance += amount; // critical sec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ck[tid] = false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Andrea Arpaci-Dusseau</cp:lastModifiedBy>
  <cp:lastPrinted>1970-01-06T02:14:07Z</cp:lastPrinted>
  <dcterms:modified xsi:type="dcterms:W3CDTF">1970-01-20T02:28:04Z</dcterms:modified>
  <cp:revision>4</cp:revision>
  <dc:subject/>
  <dc:title>Synchronization</dc:title>
</cp:coreProperties>
</file>