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F0D-B639-4EDD-9FE3-D257E9EF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3B8-21F3-4150-816C-B947F10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CA1-1821-4965-A078-AC2CBC82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8B7-871F-4F96-BCE6-8D48F7B0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178-62CE-4C03-B25F-6E9600C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2B1-8E83-404D-879F-CEC7E617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44B-FC5B-4D38-9C8C-A87C5926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369-60B8-4F6A-AA41-95408B3C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D37-2174-4009-A5A7-7260D4F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C00-1708-47F0-B0F1-398CB6A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1AF-A23C-4CBC-84F6-B6E47A7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398-EE6B-4916-A5D4-D5BB83B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AE15-D432-4335-A74F-E130C0F2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352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Questions answered in this lectur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y use higher-level synchronization primitives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lock?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can locks be implemented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to use spin-waiting vs. blockin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5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Introduction to Operat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Remzi H. Arpaci-Du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ck Implementation #5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inal Optimiz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acquire(LockT *l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AS(&amp;l-&gt;guard,true)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-&gt;lock)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add(l-&gt;q, tid)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guard = false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l dispatcher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lock = true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guard = false;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1523880"/>
            <a:ext cx="4572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release(LockT *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AS(&amp;l-&gt;guard, tru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qempty(l-&gt;q)) l-&gt;lock=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WakeFirstProcess(l-&gt;q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guard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pin-Waiting vs Block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approach is better under different circumstanc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niprocess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iting process is scheduled --&gt; Process holding lock isn’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iting process should relinquish process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ssociate queue of waiters with each 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ultiprocess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aiting process is scheduled --&gt; Process holding lock might b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in or block depends on how long, t,  before lock is releas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ck released quickly --&gt; Spin-wai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ck released slowly --&gt; Block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Quick and slow are relative to context-switch cost, C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en to Spin-Wait? 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When to Block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know how long, t, before lock released, can determine optimal behavi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much CPU time is wasted when spin-waiting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much wasted when block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the best action when t&lt;C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t&gt;C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blem: Requires knowledge of futu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Two-Phase Wait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ory: Bound worst-case performanc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en does worst-possible performance occu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pin-wait for C then block --&gt; Factor of 2 of optima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wo cas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 &lt; C: optimal spin-waits for t; we spin-wait t too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 &gt; C: optimal blocks immediately (cost of C); we pay spin C then block (cost of 2 C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 of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competitive analysi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08760" y="21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ynchronization Layer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ild higher-level synchronization primitives in O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perations that ensure correct ordering of instructions across th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otivation: Build them once and get them righ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on’t make users write entry and exit cod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3962520"/>
            <a:ext cx="5486400" cy="121896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257800"/>
            <a:ext cx="5486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0360" y="387180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85720" y="403848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maph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3720" y="464832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ndition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419112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4840" y="516744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L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2920" y="541008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4040" y="524340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est&amp;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33520" y="5853240"/>
            <a:ext cx="31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sable 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ck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Provide mutual exclusion (mutex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ree common operation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llocate and Initializ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t mylock = PTHREAD_MUTEX_INITIALIZER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cqui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cquire exclusion access to lock; Wait if lock is not avail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hread_mutex_lock(&amp;mylock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ease exclusive access to loc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hread_mutex_unlock(&amp;mylock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ck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fter lock has been allocated and initialized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deposit(int amount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lock(&amp;my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unlock(&amp;mylock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locate one lock for each bank account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deposit(int accountid, int amount)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lock(&amp;locks[accountid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[accountid] += amoun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unlock(&amp;locks[accountid]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Locks: Version #1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ild locks using atomic loads and sto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 lock[2] = {false, false}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urn = 0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lockT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acquire(lockT *l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-&gt;lock[tid] = true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-&gt;turn  = 1-tid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l-&gt;lock[1-tid] &amp;&amp; l-&gt;turn==1-tid) /* wait */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elease (lockT *l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-&gt;lock[tid] = false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Disadvantages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Locks: Version #2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rn off interrupts for critical sec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vent dispatcher from running another threa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de executes atomicall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acquire(lockT *l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ableInterrupts(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elease(lockT *l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ableInterrupts()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halkboard"/>
              </a:rPr>
              <a:t>Disadvantages?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ing Locks: Version #3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everage atomic “Test of Lock” and “Set of Lock”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dware instruction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stAndSet addr val (TA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turns previous value of addr and sets value at addr to val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=10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ld = TAS(&amp;C, 15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ourier New"/>
              </a:rPr>
              <a:t>Old == ??  C == 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bool lockT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acquire(lockT *l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TAS(l, true)) /* wait */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elease(lockT *l) {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l = false;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halkboard"/>
              </a:rPr>
              <a:t>Disadvantages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Lock Implementation #4: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lock when Waiting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lock = false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guard = false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 q = queue_alloc()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LockT;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523880"/>
            <a:ext cx="4572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acquire(LockT *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AS(&amp;l-&gt;guard, tru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-&gt;lock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add(l-&gt;q, t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guard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l dispatch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lock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guard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release(LockT *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AS(&amp;l-&gt;guard, tru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qempty(l-&gt;q)) l-&gt;lock=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WakeFirstProcess(l-&gt;q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-&gt;guard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stop Spin-Waiting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1: Add sleep(time) to while(TAS(&amp;guard,1));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2: Add yield(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lems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ption 3: Don’t let thread give up CPU to begin wit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ow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y is this acceptable here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18T01:48:56Z</cp:lastPrinted>
  <dcterms:modified xsi:type="dcterms:W3CDTF">1970-01-20T02:24:00Z</dcterms:modified>
  <cp:revision>18</cp:revision>
  <dc:subject/>
  <dc:title>Introduction and Overview</dc:title>
</cp:coreProperties>
</file>