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E3B2-C682-444A-9B0C-2DA61B8D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59DD-458A-474A-9AA7-A7138A9C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2CA-5331-4723-BDB9-E672B0F8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DFA3-E298-47FB-9381-F1615C3F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8FE7-A6B9-4D1E-8A92-9C552381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B377-3C12-499D-B44D-69566B50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B99A-DDD5-4281-A051-3F4FCE1B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5325-A1CD-4AB2-81E5-2F93E024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A62-D332-4E76-BE37-1CAD82F2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3A48-B65D-4ACF-97C1-5CD73D49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604D-8BE3-461C-ABBA-B6EE95CD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C8D9-C779-4263-98A4-130146FD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FB5A-EA1D-488E-A52B-A8CBC984C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emaphor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 answered in this lectur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y are semaphores necessary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are semaphores used for mutual exclusion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are semaphores used for scheduling constraint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s: Join and Producer/Consum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5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Introduction to Operat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Remzi H. Arpaci-Du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roducer/Consumer: Single Buffer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implest case: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ingle producer thread, single consumer thread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ingle shared buffer between producer and consumer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nsumer must wait for producer to fill buffer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Producer must wait for consumer to empty buffer (if filled)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quires 2 semaphor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emptyBuffer: Initialize to ???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fullBuffer: Initialize to ???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343400"/>
            <a:ext cx="4800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rodu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_wait(&amp;emptyBuffer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l(&amp;buff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_signal(&amp;fullBuff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4343400"/>
            <a:ext cx="4724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_wait(&amp;fullBuffer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(&amp;buff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_signal(&amp;emptyBuff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roducer/Consumer: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ircular Buffer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ext case: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ingle producer thread, single consumer thread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hared buffer with N elements between producer and consumer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nsumer must wait for producer to fill buffer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Producer must wait for consumer to empty buffer (if filled)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quires 2 semaphor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emptyBuffer: Initialize to ???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fullBuffer: Initialize to ???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2" name=""/>
          <p:cNvSpPr/>
          <p:nvPr/>
        </p:nvSpPr>
        <p:spPr>
          <a:xfrm>
            <a:off x="306360" y="4191120"/>
            <a:ext cx="5667120" cy="25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rodu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_wait(&amp;emptyBuffer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l(&amp;buffer[i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 = (i+1)%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_signal(&amp;fullBuff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3800" y="4114800"/>
            <a:ext cx="5667120" cy="25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_wait(&amp;fullBuffer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(&amp;buffer[j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 = (j+1)%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_signal(&amp;emptyBuff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roducer/Consumer: 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ultiple Thread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Final case: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Multiple producer threads, multiple consumer thread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Shared buffer with N elements between producer and consumer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nsumer must wait for producer to fill buffer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Producer must wait for consumer to empty buffer (if filled)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Each consumer must grab unique filled element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Each producer must grab unique empty element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Chalkboard"/>
              </a:rPr>
              <a:t>Why will previous code not work???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4354560"/>
            <a:ext cx="510516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rodu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_wait(&amp;emptyBuff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i = findempty(&amp;buffer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l(&amp;buffer[myi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_signal(&amp;fullBuff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3800" y="4354560"/>
            <a:ext cx="566712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_wait(&amp;fullBuff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j = findfull(&amp;buffer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(&amp;buffer[myj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_signal(&amp;emptyBuff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4880" y="6445080"/>
            <a:ext cx="88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Chalkboard"/>
              </a:rPr>
              <a:t>Are myi and myj private or shared? Where is mutual exclusion needed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Producer/Consumer: 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ultiple Thread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10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nsider three possible locations for mutual exclusion; Which work??? Which is best???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523880"/>
            <a:ext cx="5105520" cy="18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roducer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m_wait(&amp;mutex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m_wait(&amp;emptyBuff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yi = findempty(&amp;buffer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ll(&amp;buffer[myi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m_signal(&amp;fullBuff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m_signal(&amp;mutex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1523880"/>
            <a:ext cx="5670720" cy="18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onsumer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m_wait(&amp;mute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m_wait(&amp;fullBuff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yj = findfull(&amp;buffer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se(&amp;buffer[myj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m_signal(&amp;emptyBuff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m_signal(&amp;mute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3200400"/>
            <a:ext cx="5670360" cy="18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onsumer 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m_wait(&amp;fullBuff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m_wait(&amp;mute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yj = findfull(&amp;buffer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se(&amp;buffer[myj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m_signal(&amp;mute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m_signal(&amp;emptyBuff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5076720"/>
            <a:ext cx="5670360" cy="18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onsumer #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m_wait(&amp;fullBuff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m_wait(&amp;mute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yj = findfull(&amp;buff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m_signal(&amp;mutex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se(&amp;buffer[myj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m_signal(&amp;emptyBuff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276720"/>
            <a:ext cx="5105520" cy="18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roducer 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m_wait(&amp;emptyBuff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m_wait(&amp;mutex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yi = findempty(&amp;buffer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ll(&amp;buffer[myi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m_signal(&amp;mutex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m_signal(&amp;fullBuff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076720"/>
            <a:ext cx="5105520" cy="18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roducer #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m_wait(&amp;emptyBuff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m_wait(&amp;mutex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yi = findempty(&amp;buffer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m_signal(&amp;mutex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ll(&amp;buffer[myi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m_signal(&amp;fullBuff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908760" y="2119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otivation for Semaphor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Locks only provide mutual exclus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nsure only one thread is in critical section at a ti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ay want more: Place ordering on scheduling of thread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Producer/Consum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roducer: Creates a resource (data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onsumer: Uses a resource (data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2952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- ps | grep “gcc” | wc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on’t want producers and consumers to operate in lock step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lace a fixed-size buffer between producers and consumer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ynchronize accesses to buff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roducer waits if buffer full; consumer waits if buffer empt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emaphor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maphores: Introduced by Dijkstra in 1960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maphores have two purpos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utex: Ensure threads don’t access critical section at same tim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cheduling constraints: Ensure threads execute in specific orde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4343400"/>
            <a:ext cx="1839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emaphore Operation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llocate and Initializ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maphore contains a non-negative integer valu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User cannot read or write value directly after initializ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_t sem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em_init(&amp;sem, is_shared, init_value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ait or Tes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() for “test” in Dutch (proberen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aits until value of sem is &gt; 0, then decrements sem valu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em_wait(&amp;sem)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ignal or Increment or Pos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V() for “increment” in Dutch (verhogen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crements value of semaphor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em_post(&amp;sem)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emaphore Implement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def struct {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value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ueue tlist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semaphore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_wait (semaphore *S) {  // Must be executed atomicall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-&gt;value--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-&gt;value &lt; 0) {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this process to S-&gt;tlist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lock(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_signal (semaphore *S) {// Must be executed atomically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-&gt;value++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-&gt;value &lt;= 0) {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 thread t from S-&gt;tlist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keup(t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emaphore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happens if sem is initialized to 2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cenario: Three processes call sem_wait(&amp;sem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m value is negative --&gt; Number of waiters on queu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m value is positive --&gt; Number of threads that can be in c.s. at same tim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utual Exclusion with Semaphor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evious example with locks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deposit (int amount) {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tex_lock(&amp;mylock);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tex_unlock(&amp;mylocak);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 with semaphores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deposit(int amount) {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m_wait(&amp;sem);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m_signal(&amp;sem);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halkboard"/>
              </a:rPr>
              <a:t>To what value should sem be initialized???</a:t>
            </a:r>
            <a:r>
              <a:rPr b="0" lang="en-US" sz="2400" spc="-1" strike="noStrike">
                <a:solidFill>
                  <a:srgbClr val="ff00ff"/>
                </a:solidFill>
                <a:latin typeface="Chalkboar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inary Semaphor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inary semaphore is sufficient for mutex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inary semaphore has boolean value (not integer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sem_wait(): Waits until value is 1, then sets to 0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sem_signal(): Sets value to 1, waking one waiting proces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General semaphore is also called counting semaphor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cheduling Constraints with Semaphor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eneral case: One thread waits for another to reach some poin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: Implement thread_join(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arent thread calls thread_join(), which must wait for child thread to call exit()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hared sem between parent and child (created when child thread is created)</a:t>
            </a:r>
            <a:br>
              <a:rPr sz="2000"/>
            </a:br>
            <a:r>
              <a:rPr b="0" lang="en-US" sz="2000" spc="-1" strike="noStrike">
                <a:solidFill>
                  <a:srgbClr val="ff00ff"/>
                </a:solidFill>
                <a:latin typeface="Chalkboard"/>
              </a:rPr>
              <a:t>To what value is sem initialized??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4800600"/>
            <a:ext cx="4038480" cy="17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arent th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ead_join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_wait(&amp;s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4724280"/>
            <a:ext cx="4038480" cy="17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hild th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exit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em_signal(&amp;s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9T23:43:42Z</dcterms:created>
  <dc:creator>Andrea Arpaci-Dusseau</dc:creator>
  <dc:description/>
  <dc:language>en-US</dc:language>
  <cp:lastModifiedBy>Andrea Arpaci-Dusseau</cp:lastModifiedBy>
  <cp:lastPrinted>1970-01-20T02:28:34Z</cp:lastPrinted>
  <dcterms:modified xsi:type="dcterms:W3CDTF">1970-01-25T02:25:40Z</dcterms:modified>
  <cp:revision>9</cp:revision>
  <dc:subject/>
  <dc:title>Synchronization</dc:title>
</cp:coreProperties>
</file>