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0C4-1DCE-47CA-AF64-84C857B1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AFF-39E8-4A55-9F3B-1CD715C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C6F-9752-4860-B087-E579367A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10A-F381-491E-B585-47FDAA59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15F-3813-479F-A5C2-B020BE8C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95D-4CE1-4489-B852-46B262D9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6A0-A7CC-40AF-A5BB-42177FB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C8B-9639-4E9F-B409-77BA507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1CB-83C5-45DE-B1DE-8F2A82F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A7B-0F78-43CB-BCEC-4FB5AE2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E4F-DBA6-485E-B5A4-D38D94A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7B0-35FB-471C-89DC-4117778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F52-E0C4-4550-A608-5179260B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 &amp; Monit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synchronize dining philosophe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monitors and condition variabl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differences between Hoare and Mesa specificatio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dition Variab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d to specify scheduling constrai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ways used with a monitor lock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value (history) associated with condition vari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: Cannot initialize value!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allocate a monitor lock too (implicit with language support, explicit in POSIX and C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t cond = PTHREAD_COND_INITIALIZER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t monitor_lock = PTHREAD_MUTEX_INITIALIZER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ll with monitor lock held; Releases monitor lock, sleeps until signalled, reacquires lock when woke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TE: No test inside of wait(); will always sleep!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lock(&amp;monitor_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xpression) pthread_cond_wait(&amp;cond, &amp;monitor_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unlock(&amp;monitor_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dition Variab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gnal (or Notif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ll with monitor lock hel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ke one thread waiting on this condition variable (if an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are (signal-and-exit): Signaller relinquishes lock and CPU to waiter (The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sa (signal-and-continue): Signaller can keep lock and CPU (Practi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lock(&amp;monitor_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signal(&amp;cond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unlock(&amp;monitor_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roadcast (or NotifyAll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ke all threads waiting on condition vari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Hoare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ttempt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nal case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ultiple producer threads, multiple consumer thread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hared buffer with N elements between producer and consum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510552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empty,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9480" y="3505320"/>
            <a:ext cx="47527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full,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emp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590920"/>
            <a:ext cx="83818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k_t monito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d_t empty, f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63165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halkboard"/>
              </a:rPr>
              <a:t>Why won’t thi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Hoare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ttempt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971800"/>
            <a:ext cx="510552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lots==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empty,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t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9480" y="2922480"/>
            <a:ext cx="475272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lots=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full,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ts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emp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monit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676520"/>
            <a:ext cx="83818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k_t moni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d_t empty, f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lot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are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wo producers, two consumers...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Mesa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sa: Another thread may be scheduled and acquire lock before signalled thread ru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eat Example: Two producers, two consumers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can go wrong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Mesa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esa: Another thread may be scheduled and acquire lock before signalled thread run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mplication: Must recheck condition with while() loop instead of if(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335400"/>
            <a:ext cx="510552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slots==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empty,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t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f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89480" y="3352680"/>
            <a:ext cx="475272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lock(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lots=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wait(&amp;full,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ts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_signal(&amp;emp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tex_unlock(&amp;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83818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d_t empty, f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lot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wo Classes of Synchronization Probl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form resource usage with simple scheduling constrai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other variables needed to express relationshi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one semaphore for every constrai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thread join and producer/consum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ex patterns of resource us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capture relationships with only semapho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ed extra state variables to record inform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semaphores such tha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is for mutual exclusion around state variab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823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for each class of waitin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ways try to cast problems into first, easier typ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day: Two examples using second approa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 Statemen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 Philosophers sitting at a round t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hilosopher shares a chopstick with neighb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hilosopher must have both chopsticks to ea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ighbors can’t eat simultaneous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ilosophers alternate between thinking and eat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hilosopher/thread i runs following code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nk(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ke_chopsticks(i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t(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_chopsticks(i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: Attempt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wo neighbors can’t use chopstick at same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test if chopstick is there and grab it atomical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resent each chopstick with a semaphor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rab right chopstick then left chopsti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de for 5 philosopher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m_t chopstick[5]; // Initialize each to 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_chopsticks(int i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it(&amp;chopstick[i]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it(&amp;chopstick[(i+1)%5]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chopsticks(int i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nal(&amp;chopstick[i]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nal(&amp;chopstick[(i+1)%5]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at is wrong with this solution?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: Attempt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rab lower-numbered chopstick first, then higher-number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de for 5 philosopher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t chopstick[5]; // Initialize to 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ke_chopsticks(int i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 &lt; 4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(&amp;chopstick[i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(&amp;chopstick[i+1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(&amp;chopstick[0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(&amp;chopstick[4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What is wrong with this solution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Approach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uarantee two goal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fety: Ensure nothing bad happens (don’t violate constraints of problem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veness: Ensure something good happens when it can (make as much progress as possib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roduce state variable for each philosopher i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[i] = THINKING, HUNGRY, or EAT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fety: No two adjacent philosophers eat simultane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all i: !(state[i]==EATING &amp;&amp; state[i+1%5]==EATING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iveness: Not the case that a philosopher is hungry and his neighbors are not eat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all i: !(state[i]==HUNGRY &amp;&amp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ate[i+4%5]!=EATING &amp;&amp; state[i+1%5]!=EATING)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: Solu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t mayEat[5]; // how to initialize?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t mutex; // how to init?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state[5] = {THINKING}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ke_chopsticks(int i) 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(&amp;mutex); // enter critical section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[i] = HUNGRY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SafetyAndLiveness(i); // check if I can run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(&amp;mutex); // exit critical section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(&amp;mayEat[i]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t_chopsticks(int i) 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(&amp;mutex); // enter critical section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[i] = THINKING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(i+1 %5); // check if neighbor can run now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(i+4 %5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(&amp;mutex); // exit critical section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stSafetyAndLiveness(int i) 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te[i]==HUNGRY &amp;&amp; state[i+4%5]!=EATING&amp;&amp;state[i+1%5]!=EATING) {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[i] = EATING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gnal(&amp;mayEat[i])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ning Philosophers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 Execu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nit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s can inadvertently misuse locks and semaphores (e.g., never unlock a mutex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language support to automatically lock and unlock monitor lock when in critical se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k is added implicitly; never seen by us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condition variables for scheduling constrai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sa language from Xerox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ava from Su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 synchronized keyword when defining metho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nchronized deposit(int amount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1-26T21:29:29Z</cp:lastPrinted>
  <dcterms:modified xsi:type="dcterms:W3CDTF">1970-01-26T22:01:50Z</dcterms:modified>
  <cp:revision>13</cp:revision>
  <dc:subject/>
  <dc:title>Synchronization</dc:title>
</cp:coreProperties>
</file>