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9475-0FCE-4FB1-A97B-1703DF5D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3D35-B956-415F-94D2-C6F93579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910A-2E70-4F2D-82E9-C02857F2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8F40-9B7A-4847-90E8-98BC85B71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F082-F0F3-4906-93AA-3F69B719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19BF-C25E-4A89-8C11-98EA3461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B662-F53A-4D9E-AEAB-E3FB1CB9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BA41-F614-4486-81BD-DA79D14C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50B5-4529-4054-B9FA-08F8E9BE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7C78-75E9-4E9E-9F6A-90FB90A6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94DA-F643-45B9-BDFF-C5954FD2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32D2-F627-4F6C-949C-F379CCA3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D71E-1EF6-4CBC-9CAD-3E4B088A0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PU Schedul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33526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Questions answered in this lecture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s scheduling vs. allocation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s preemptive vs. non-preemptive scheduling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are FCFS, SJF, STCF, RR and priority-based scheduling policie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are their advantages and disadvantage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537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Introduction to Operating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Remzi H. Arpaci-Duss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hortest-Job-First (SJF)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Idea: Minimize average wait time by running shortest CPU-burst nex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on-preemptiv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Use FCFS if jobs are of same length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14400" y="3573360"/>
          <a:ext cx="2438280" cy="2092320"/>
        </p:xfrm>
        <a:graphic>
          <a:graphicData uri="http://schemas.openxmlformats.org/drawingml/2006/table">
            <a:tbl>
              <a:tblPr/>
              <a:tblGrid>
                <a:gridCol w="685800"/>
                <a:gridCol w="888840"/>
                <a:gridCol w="86364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Jo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Arri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PU bu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3505320" y="5791320"/>
            <a:ext cx="46479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5791320"/>
            <a:ext cx="83808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5791320"/>
            <a:ext cx="1752840" cy="38088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53920" y="66214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-39240" y="631656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06320" y="61642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3200" y="60739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93080" y="3726000"/>
            <a:ext cx="366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verage wait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verage turnarou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7600" y="6095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53760" y="6095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JF Discuss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vably optimal for minimizing average wait time (with no preemption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oving shorter job before longer job improves waiting time of short job more than it harms waiting time of long job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elps keep I/O devices bus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ot practical: Cannot predict future CPU burst tim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S solution: Use past behavior to predict future behavio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tarvation: Long jobs may never be schedul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hortest-Time-to-Completion-First (STCF or SCTF)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dea: Add preemption to SJF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chedule newly ready job if shorter than remaining burst for running job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2666880"/>
          <a:ext cx="2438280" cy="2154240"/>
        </p:xfrm>
        <a:graphic>
          <a:graphicData uri="http://schemas.openxmlformats.org/drawingml/2006/table">
            <a:tbl>
              <a:tblPr/>
              <a:tblGrid>
                <a:gridCol w="685800"/>
                <a:gridCol w="888840"/>
                <a:gridCol w="86364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Jo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Arri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PU bu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838080" y="662940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39240" y="631656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24160" y="2666880"/>
            <a:ext cx="333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JF Average wa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TCF Average wa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14400" y="5029200"/>
            <a:ext cx="5715000" cy="380880"/>
            <a:chOff x="914400" y="5029200"/>
            <a:chExt cx="5715000" cy="380880"/>
          </a:xfrm>
        </p:grpSpPr>
        <p:sp>
          <p:nvSpPr>
            <p:cNvPr id="137" name=""/>
            <p:cNvSpPr/>
            <p:nvPr/>
          </p:nvSpPr>
          <p:spPr>
            <a:xfrm>
              <a:off x="914400" y="5029200"/>
              <a:ext cx="182880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43200" y="5029200"/>
              <a:ext cx="91440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halkboard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5029200"/>
              <a:ext cx="2057400" cy="38088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57600" y="5029200"/>
              <a:ext cx="914400" cy="3808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914400" y="5867280"/>
            <a:ext cx="5638680" cy="381240"/>
            <a:chOff x="914400" y="5867280"/>
            <a:chExt cx="5638680" cy="381240"/>
          </a:xfrm>
        </p:grpSpPr>
        <p:sp>
          <p:nvSpPr>
            <p:cNvPr id="142" name=""/>
            <p:cNvSpPr/>
            <p:nvPr/>
          </p:nvSpPr>
          <p:spPr>
            <a:xfrm>
              <a:off x="914400" y="5867280"/>
              <a:ext cx="15228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66680" y="5867280"/>
              <a:ext cx="91440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halkboard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1080" y="5867280"/>
              <a:ext cx="914400" cy="3812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95480" y="5867280"/>
              <a:ext cx="160020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95680" y="5867280"/>
              <a:ext cx="2057400" cy="38124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23320" y="5319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52120" y="5319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47080" y="5257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77480" y="60958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01520" y="5257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09200" y="5257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09200" y="60958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32680" y="60958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56880" y="6095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7600" y="6095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6880" y="6095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Round-Robin (RR)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Idea: Run each job for a time-slice and then move to back of FIFO queu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eempt job if still running at end of time-sli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57200" y="3048120"/>
          <a:ext cx="2438280" cy="2092320"/>
        </p:xfrm>
        <a:graphic>
          <a:graphicData uri="http://schemas.openxmlformats.org/drawingml/2006/table">
            <a:tbl>
              <a:tblPr/>
              <a:tblGrid>
                <a:gridCol w="685800"/>
                <a:gridCol w="888840"/>
                <a:gridCol w="86364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Jo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Arri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PU bu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457200" y="5486400"/>
            <a:ext cx="457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5486400"/>
            <a:ext cx="4572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5486400"/>
            <a:ext cx="45720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5486400"/>
            <a:ext cx="457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9680" y="5486400"/>
            <a:ext cx="4572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5486400"/>
            <a:ext cx="45720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5486400"/>
            <a:ext cx="457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5486400"/>
            <a:ext cx="45720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5486400"/>
            <a:ext cx="457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95680" y="5486400"/>
            <a:ext cx="45720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5486400"/>
            <a:ext cx="335304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22720" y="3344760"/>
            <a:ext cx="36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verage wa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624852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9360" y="593568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RR Discuss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Jobs get fair share of CPU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hortest jobs finish relatively quickl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oor average waiting time with similar job length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: 10 jobs each requiring 10 time slic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R: All complete after about 100 time slic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CFS performs better!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erformance depends on length of time-sli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time-slice too short, pay overhead of context switch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time-slice too long, degenerate to FCF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RR Time-Slic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F time-slice too long, degenerate to FCF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Job A w/ 1 ms compute and 10ms I/O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Job B always comput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ime-slice is 50 m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3581280"/>
            <a:ext cx="457200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3581280"/>
            <a:ext cx="2286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3581280"/>
            <a:ext cx="457200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4120" y="3581280"/>
            <a:ext cx="2286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048120"/>
            <a:ext cx="83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" y="425304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4876920"/>
            <a:ext cx="3045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4876920"/>
            <a:ext cx="6858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3880" y="4876920"/>
            <a:ext cx="4114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4876920"/>
            <a:ext cx="14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Id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38680" y="4876920"/>
            <a:ext cx="6858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4876920"/>
            <a:ext cx="4114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43800" y="4876920"/>
            <a:ext cx="14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Id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0000" y="6095880"/>
            <a:ext cx="759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al: Adjust length of time-slice to match CPU bu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5791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5680" y="547848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riority-Based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dea: Each job is assigned a priorit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chedule highest priority ready job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ay be preemptive or non-preemptiv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iority may be static or dynamic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tatic priorities work well for real time system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ynamic priorities work well for general workload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ow priority jobs can starv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ow to choose priority of each job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al: Adjust priority of job to match CPU burs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pproximate SCTF by giving short jobs high priorit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908760" y="2119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Types of Resourc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sources can be classified into one of two group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ype of resource determines how the OS manages i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on-preemptible resourc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110484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Once given resource, cannot be reused until voluntarily relinquishe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110484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source has complex or costly state associated with i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110484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eed many instances of this resourc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110484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xample: Blocks on disk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110484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S management: </a:t>
            </a:r>
            <a:r>
              <a:rPr b="0" lang="en-US" sz="2000" spc="-1" strike="noStrike">
                <a:solidFill>
                  <a:srgbClr val="3333cc"/>
                </a:solidFill>
                <a:latin typeface="Chalkboard"/>
              </a:rPr>
              <a:t>alloca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ecide which process gets which resourc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eemptible resourc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110484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an take resource away, give it back lat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110484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source has little state associated with i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110484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ay only have one of this resourc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110484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xample: CPU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110484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S management: </a:t>
            </a:r>
            <a:r>
              <a:rPr b="0" lang="en-US" sz="2000" spc="-1" strike="noStrike">
                <a:solidFill>
                  <a:srgbClr val="3333cc"/>
                </a:solidFill>
                <a:latin typeface="Chalkboard"/>
              </a:rPr>
              <a:t>scheduling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ecide order in which requests are serviced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ecide how long process keeps resourc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Levels of CPU Managemen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patch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ow-level mechanism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erforms context-switch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ave execution state of old process in PCB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dd PCB to appropriate queue (ready or blocked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Load state of next process from PCB to register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witch from kernel to user mod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Jump to instruction in user proces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chedul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olicy to determine which process gets CPU whe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llocato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olicy to determine which processes compete for which CPU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Needed for multiprocessor, parallel, and distributed system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PU Workload Model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Workload contains collection of jobs (processes)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Job mod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Job alternates between CPU and I/O bursts (i.e., moves between ready and blocked queues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halkboard"/>
              </a:rPr>
              <a:t>CPU-bound job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: Long CPU burs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halkboard"/>
              </a:rPr>
              <a:t>I/O-bound job: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Short CPU burs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o not know type of job before it execute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o not know duration of CPU or I/O burs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Need job scheduling for each </a:t>
            </a:r>
            <a:r>
              <a:rPr b="0" lang="en-US" sz="2800" spc="-1" strike="noStrike">
                <a:solidFill>
                  <a:srgbClr val="ff00ff"/>
                </a:solidFill>
                <a:latin typeface="Chalkboard"/>
              </a:rPr>
              <a:t>ready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job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chedule each CPU burs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cheduling Performance Metric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halkboard"/>
              </a:rPr>
              <a:t>Minimize waiting tim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Chalkboard"/>
              </a:rPr>
              <a:t>Do not want to spend much time in Ready queu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inimize turnaround tim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o not want to wait long for job to complet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aximize throughpu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ant many jobs to complete per unit of ti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inimize response tim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chedule interactive jobs promptly so users see output quickl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aximize resource utiliz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Keep expensive devices bus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inimize overhea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duce number of context switch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aximize fairnes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ll jobs get same amount of CPU over some time interval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When may Scheduler switch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on-preemptive schedul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cess remains scheduled until voluntarily relinquishes CPU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cheduler may switch in two cases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eemptive schedul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cess may be descheduled at any ti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dditional cases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Gantt Char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Illustrates how jobs are scheduled over time on CP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-39240" y="3505320"/>
            <a:ext cx="8531640" cy="1053720"/>
            <a:chOff x="-39240" y="3505320"/>
            <a:chExt cx="8531640" cy="1053720"/>
          </a:xfrm>
        </p:grpSpPr>
        <p:sp>
          <p:nvSpPr>
            <p:cNvPr id="60" name=""/>
            <p:cNvSpPr/>
            <p:nvPr/>
          </p:nvSpPr>
          <p:spPr>
            <a:xfrm>
              <a:off x="853920" y="3505320"/>
              <a:ext cx="464832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502240" y="3505320"/>
              <a:ext cx="8380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halkboard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40320" y="3505320"/>
              <a:ext cx="1752840" cy="38088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53920" y="4343400"/>
              <a:ext cx="723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39240" y="4038480"/>
              <a:ext cx="100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Ti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39440" y="38862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77520" y="38862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06320" y="38862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3200" y="37958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First-Come-First-Served (FCFS)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914400" y="3276720"/>
          <a:ext cx="2438280" cy="2092320"/>
        </p:xfrm>
        <a:graphic>
          <a:graphicData uri="http://schemas.openxmlformats.org/drawingml/2006/table">
            <a:tbl>
              <a:tblPr/>
              <a:tblGrid>
                <a:gridCol w="685800"/>
                <a:gridCol w="888840"/>
                <a:gridCol w="86364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Jo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Arri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PU bu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1" name=""/>
          <p:cNvGrpSpPr/>
          <p:nvPr/>
        </p:nvGrpSpPr>
        <p:grpSpPr>
          <a:xfrm>
            <a:off x="-39240" y="5486400"/>
            <a:ext cx="8531640" cy="1053720"/>
            <a:chOff x="-39240" y="5486400"/>
            <a:chExt cx="8531640" cy="1053720"/>
          </a:xfrm>
        </p:grpSpPr>
        <p:sp>
          <p:nvSpPr>
            <p:cNvPr id="72" name=""/>
            <p:cNvSpPr/>
            <p:nvPr/>
          </p:nvSpPr>
          <p:spPr>
            <a:xfrm>
              <a:off x="853920" y="5486400"/>
              <a:ext cx="464832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02240" y="5486400"/>
              <a:ext cx="8380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halkboard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40320" y="5486400"/>
              <a:ext cx="1752840" cy="38088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53920" y="6324480"/>
              <a:ext cx="723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-39240" y="6019560"/>
              <a:ext cx="100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Ti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239440" y="586728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77520" y="586728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906320" y="586728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3200" y="57769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560040" y="3429000"/>
            <a:ext cx="4891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verage wait tim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(0 + (10-1) + (12-2))/3=6.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verage turnaround ti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(10 + (12-1) + (16-2))/3=11.6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Idea: Maintain FIFO list of jobs as they arriv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on-preemptive polic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llocate CPU to job at head of lis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FCFS Discuss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dvantage: Very simple implementa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isadvantag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aiting time depends on arrival ord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otentially long wait for jobs that arrive lat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nvoy effect: Short jobs stuck waiting for long job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urts waiting time of short job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duces utilization of I/O devic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xample: 1 mostly CPU-bound job, 3 mostly I/O-bound job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80880" y="4572000"/>
            <a:ext cx="3885840" cy="520560"/>
            <a:chOff x="380880" y="4572000"/>
            <a:chExt cx="3885840" cy="520560"/>
          </a:xfrm>
        </p:grpSpPr>
        <p:sp>
          <p:nvSpPr>
            <p:cNvPr id="86" name=""/>
            <p:cNvSpPr/>
            <p:nvPr/>
          </p:nvSpPr>
          <p:spPr>
            <a:xfrm>
              <a:off x="380880" y="4572000"/>
              <a:ext cx="2658960" cy="45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48800" y="4572000"/>
              <a:ext cx="408960" cy="45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39840" y="4572000"/>
              <a:ext cx="408960" cy="45036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57760" y="4572000"/>
              <a:ext cx="408960" cy="450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29640" y="4572000"/>
              <a:ext cx="18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267080" y="4572000"/>
            <a:ext cx="3885840" cy="520560"/>
            <a:chOff x="4267080" y="4572000"/>
            <a:chExt cx="3885840" cy="520560"/>
          </a:xfrm>
        </p:grpSpPr>
        <p:sp>
          <p:nvSpPr>
            <p:cNvPr id="92" name=""/>
            <p:cNvSpPr/>
            <p:nvPr/>
          </p:nvSpPr>
          <p:spPr>
            <a:xfrm>
              <a:off x="4267080" y="4572000"/>
              <a:ext cx="2658960" cy="45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35000" y="4572000"/>
              <a:ext cx="408960" cy="450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26040" y="4572000"/>
              <a:ext cx="408960" cy="45036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43960" y="4572000"/>
              <a:ext cx="408960" cy="450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15840" y="4572000"/>
              <a:ext cx="18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04920" y="5486400"/>
            <a:ext cx="4572000" cy="520560"/>
            <a:chOff x="304920" y="5486400"/>
            <a:chExt cx="4572000" cy="520560"/>
          </a:xfrm>
        </p:grpSpPr>
        <p:sp>
          <p:nvSpPr>
            <p:cNvPr id="98" name=""/>
            <p:cNvSpPr/>
            <p:nvPr/>
          </p:nvSpPr>
          <p:spPr>
            <a:xfrm>
              <a:off x="304920" y="5572080"/>
              <a:ext cx="2743200" cy="43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62160" y="5572080"/>
              <a:ext cx="210960" cy="4327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40240" y="5572080"/>
              <a:ext cx="421920" cy="43272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84440" y="5572080"/>
              <a:ext cx="492480" cy="4327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9880" y="5486400"/>
              <a:ext cx="81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I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48120" y="5572080"/>
              <a:ext cx="210960" cy="432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876920" y="5572080"/>
            <a:ext cx="2057400" cy="44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90000" y="5562720"/>
            <a:ext cx="8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Id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934320" y="5562720"/>
            <a:ext cx="1828800" cy="433440"/>
            <a:chOff x="6934320" y="5562720"/>
            <a:chExt cx="1828800" cy="433440"/>
          </a:xfrm>
        </p:grpSpPr>
        <p:sp>
          <p:nvSpPr>
            <p:cNvPr id="107" name=""/>
            <p:cNvSpPr/>
            <p:nvPr/>
          </p:nvSpPr>
          <p:spPr>
            <a:xfrm>
              <a:off x="7848720" y="5562720"/>
              <a:ext cx="210960" cy="433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26440" y="5562720"/>
              <a:ext cx="422280" cy="43344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271000" y="5562720"/>
              <a:ext cx="492120" cy="4334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34320" y="5562720"/>
              <a:ext cx="210960" cy="433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41911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51055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66294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39240" y="631656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9T23:43:42Z</dcterms:created>
  <dc:creator>Andrea Arpaci-Dusseau</dc:creator>
  <dc:description/>
  <dc:language>en-US</dc:language>
  <cp:lastModifiedBy>Andrea Arpaci-Dusseau</cp:lastModifiedBy>
  <cp:lastPrinted>1970-02-03T03:29:10Z</cp:lastPrinted>
  <dcterms:modified xsi:type="dcterms:W3CDTF">1970-02-03T07:29:28Z</dcterms:modified>
  <cp:revision>23</cp:revision>
  <dc:subject/>
  <dc:title>Synchronization</dc:title>
</cp:coreProperties>
</file>