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2E0-03BB-4985-8338-51E3A144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3BD-6EBA-4793-AC3F-E0A0AD9D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06B-DFD2-4B64-B54D-9DB27C80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3EB-2947-4517-8C95-C61199CD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90A-18CB-4601-9017-EB8428C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667-2DA1-41E7-8190-CFB7860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E9F-CF22-4EF3-8CC0-D9037D7B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75B-F98C-413C-AE92-2AD3B0A8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677-3FF8-438D-8044-52C0A5E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423-68AB-4F15-947A-2998480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879-0D3F-42BB-BA19-42921873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FB3-A564-4CFA-9708-E6B5EAF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083-5091-4EBE-9394-B677FC329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torage System: RAI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RAI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one trade-off betwee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formance, capacity, and reliabilit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RAID-0, RAID-1, RAID-4, and RAID-5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dvanced Issu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if more than one faul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One disk fails plus “latent sector error” on an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ID-5 cannot handle two faul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lution: RAID-6 (e.g., RDP) Add multiple parity bloc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is NVRAM usefu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What if update 2, don’t update P0 before power failure (or crash), and then disk 1 fail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VRAM solution: Use to store blocks updated in same strip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25560" indent="-185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power failure, can replay all writes in NVRAM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ftware RAID solution: Perform parity scrub over entire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800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5334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334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5867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5867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800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5334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867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867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800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5334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867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5867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4800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53341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5334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5867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5867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	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AID turns multiple disks into a larger, faster, more reliable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AID-0: Strip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od when performance and capacity really matter, but reliability doesn’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AID-1: Mirro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od when reliability and write performance matter, but capacity (cost) doesn’t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AID-5: Rotating Pa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od when capacity and cost matter or workload is read-most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od compromise choi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y use multiple disk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disks allows us to store more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ess multiple disks in paralle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disk can be working on independent read or wri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verlap seek and rotational positioning time for a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over from disk (or single sector) fail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ll need to store multiple copies of data to recov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AID: Redundant Array of Inexpensive/Independent Dis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ardware vs. Software RAI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 RAI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orage box you attach to compu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me interface as single disk, but internally much mo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ltiple disk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re complex controller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VRAM (holding parity block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ftware RAI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(device driver layer) treats multiple disks like a single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ftware does all extra 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face for bot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near array of bytes, just like a single disk (but large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AID-0: Strip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ripe blocks across disks in a “chunk” siz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pick a reasonable chunk siz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6668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26668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6668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6668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7339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to calculate where chunk # l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ffset within di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AID-0: Strip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32004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valuate for D dis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pacity: How much space is wast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formance: How much faster than 1 dis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iability: More or less reliable than 1 dis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295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1295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95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1295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1828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AID-1: Mirro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: Handle disk fail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ut copy (mirror or replica) of each chunk on another disk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438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438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38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2971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4197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paci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li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erform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AID-4: Pari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tivation: Improve capac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a: Allocate parity block to encode info about bloc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rity checks all other blocks in stripe across other disk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rity block = XOR over others (gives “even” parit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0 1 0 --&gt; Parity value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do you recover from a failed disk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x 0 0 and parity of 1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at is the failed value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724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25780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79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79132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4724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5257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25780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79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579132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724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5257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525780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579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79132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724280"/>
            <a:ext cx="1143000" cy="17528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2578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25780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9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79132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AID-4: Pari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pacity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iability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ance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rites: How to update parity block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wo different approach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311840" indent="-18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Small number of disks (or large write): 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lvl="3" marL="1311840" indent="-18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Large number of disks (or small write):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arity disk is the bottleneck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371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905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905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438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438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371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905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05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438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438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371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905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438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13716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19051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19051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2438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4382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AID-5: Rotated Pari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3809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pacity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iability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ance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s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rites: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ill requires 4 I/Os per write, but not always to same parity dis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8288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3623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8954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28954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8288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3623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28954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28954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18288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23623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8954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8954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1828800"/>
            <a:ext cx="1143000" cy="1752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3623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8954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895480"/>
            <a:ext cx="4572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2952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Rotate location of parity across all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 User</cp:lastModifiedBy>
  <cp:lastPrinted>1970-03-07T00:41:44Z</cp:lastPrinted>
  <dcterms:modified xsi:type="dcterms:W3CDTF">2007-11-19T17:05:53Z</dcterms:modified>
  <cp:revision>47</cp:revision>
  <dc:subject/>
  <dc:title>Synchronization</dc:title>
</cp:coreProperties>
</file>