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halkboar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move the slid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halkboar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halkboar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402-921D-46D2-91D1-C9BCDBDD7567}" type="slidenum">
              <a:rPr b="0" lang="en-US" sz="1200" spc="-1" strike="noStrike">
                <a:solidFill>
                  <a:srgbClr val="000000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844720" y="533520"/>
            <a:ext cx="3454560" cy="2590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 bits --&gt; 4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64 GB, need 3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 entries per pag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: 2 bits, 9 bits, 9 bits instead of 10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235-B425-4824-92C1-00F96E85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1B1-7E9F-47A6-9FE9-3997CD1D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4CA-EE99-437F-A552-DCD0341F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BEE-9F5F-4FBE-B4A5-6400324D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D43-775B-4E52-8FC0-2BF25009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757-F31B-4B36-B7BD-74FFB79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3E6-5CF8-40E1-8CBE-B525881C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F83-F2ED-4CA4-8F9A-C091FB7E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8E6-D15F-45A2-9A19-423AE0A9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C07-69F2-413D-BF3E-F0E5306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41F-014C-4EB3-A029-1F37FAD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6CB-1F2F-47AD-B132-0AC56424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667-BF6F-4165-8D95-A77B4124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ddress Translation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se studies: x86, PowerPC, SPARC architec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page tables organiz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do PTEs contai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address translation be performed quickl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werPC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1219320"/>
            <a:ext cx="35812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gment Lookaside Buffer (SLB) is an “associative memo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Small #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op 36 bits of a process “effective” address used as “effective segment id (ESID)”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arch for ESID tag value in S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a match exists, property bits validated for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 failed match causes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ssociated 52-bit virtual segment id (VSID) is concatenated with the remaining 28 bits to form an 80-bit virtu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gmentation used to separate processes within the large virtual address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604960"/>
            <a:ext cx="91440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2604960"/>
            <a:ext cx="175284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2604960"/>
            <a:ext cx="457200" cy="2438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-884880" y="361980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Lookaside Buffer (S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447920"/>
            <a:ext cx="18288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-bit E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447920"/>
            <a:ext cx="12952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address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447920" y="16765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743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19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895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3048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3124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880" y="472428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33920" y="4724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-bit V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2578680" y="3821400"/>
            <a:ext cx="19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bits (U/S, X, 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9764000">
            <a:off x="613800" y="205596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ociative Look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5562720"/>
            <a:ext cx="27432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2-bit VS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840" y="1093680"/>
            <a:ext cx="45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67ff"/>
                </a:solidFill>
                <a:latin typeface="Arial"/>
              </a:rPr>
              <a:t>64-bit “effective” address generated by a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562720"/>
            <a:ext cx="12952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address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68" idx="3"/>
            <a:endCxn id="298" idx="3"/>
          </p:cNvCxnSpPr>
          <p:nvPr/>
        </p:nvCxnSpPr>
        <p:spPr>
          <a:xfrm>
            <a:off x="3665520" y="1562040"/>
            <a:ext cx="915120" cy="4115520"/>
          </a:xfrm>
          <a:prstGeom prst="curvedConnector5">
            <a:avLst>
              <a:gd name="adj1" fmla="val 124124"/>
              <a:gd name="adj2" fmla="val 49995"/>
              <a:gd name="adj3" fmla="val 124124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 flipV="1">
            <a:off x="533520" y="50292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2767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1520" y="5867280"/>
            <a:ext cx="464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67ff"/>
                </a:solidFill>
                <a:latin typeface="Arial"/>
              </a:rPr>
              <a:t>80-bit “virtual” address used for page table 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1038400">
            <a:off x="1600560" y="51814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werPC Page Table Look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1600200"/>
            <a:ext cx="2819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ariable size has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cessor register points to hash table base and b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rchitecture-defined hash function on VPN returns two possible hash tabl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of the 16 possible PTEs is checked for a VA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no match then page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ossibility that a translation exists but that it can’t fit in the hash table – OS must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19320" y="3429000"/>
            <a:ext cx="3047400" cy="1981080"/>
            <a:chOff x="1219320" y="3429000"/>
            <a:chExt cx="3047400" cy="1981080"/>
          </a:xfrm>
        </p:grpSpPr>
        <p:grpSp>
          <p:nvGrpSpPr>
            <p:cNvPr id="307" name=""/>
            <p:cNvGrpSpPr/>
            <p:nvPr/>
          </p:nvGrpSpPr>
          <p:grpSpPr>
            <a:xfrm>
              <a:off x="1219320" y="3429000"/>
              <a:ext cx="3047400" cy="1981080"/>
              <a:chOff x="1219320" y="3429000"/>
              <a:chExt cx="3047400" cy="1981080"/>
            </a:xfrm>
          </p:grpSpPr>
          <p:sp>
            <p:nvSpPr>
              <p:cNvPr id="308" name=""/>
              <p:cNvSpPr/>
              <p:nvPr/>
            </p:nvSpPr>
            <p:spPr>
              <a:xfrm>
                <a:off x="1219320" y="3429000"/>
                <a:ext cx="3047400" cy="198108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19320" y="35812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19320" y="373356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388584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19320" y="40384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9320" y="419076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19320" y="434304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219320" y="4495680"/>
                <a:ext cx="30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743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8108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05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2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2408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932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86200" y="3429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221840" y="50292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Table (HTA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1676520"/>
            <a:ext cx="40384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-bit virtual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362320"/>
            <a:ext cx="2590920" cy="228600"/>
          </a:xfrm>
          <a:prstGeom prst="rect">
            <a:avLst/>
          </a:prstGeom>
          <a:solidFill>
            <a:srgbClr val="ddddd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hash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2590920" cy="2286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hash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905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62520" y="1905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57400" y="19810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4191120"/>
            <a:ext cx="3047760" cy="152280"/>
          </a:xfrm>
          <a:prstGeom prst="rect">
            <a:avLst/>
          </a:prstGeom>
          <a:solidFill>
            <a:srgbClr val="b2b2b2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 PT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3733920"/>
            <a:ext cx="3047760" cy="152280"/>
          </a:xfrm>
          <a:prstGeom prst="rect">
            <a:avLst/>
          </a:prstGeom>
          <a:solidFill>
            <a:srgbClr val="b2b2b2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mary PT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26" idx="1"/>
            <a:endCxn id="332" idx="1"/>
          </p:cNvCxnSpPr>
          <p:nvPr/>
        </p:nvCxnSpPr>
        <p:spPr>
          <a:xfrm flipV="1" rot="10800000">
            <a:off x="1218600" y="2476080"/>
            <a:ext cx="144720" cy="1334160"/>
          </a:xfrm>
          <a:prstGeom prst="curvedConnector5">
            <a:avLst>
              <a:gd name="adj1" fmla="val 258852"/>
              <a:gd name="adj2" fmla="val 49986"/>
              <a:gd name="adj3" fmla="val 258852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334" name=""/>
          <p:cNvCxnSpPr>
            <a:stCxn id="327" idx="1"/>
            <a:endCxn id="331" idx="1"/>
          </p:cNvCxnSpPr>
          <p:nvPr/>
        </p:nvCxnSpPr>
        <p:spPr>
          <a:xfrm flipV="1" rot="10800000">
            <a:off x="1218600" y="2780280"/>
            <a:ext cx="144720" cy="1486440"/>
          </a:xfrm>
          <a:prstGeom prst="curvedConnector5">
            <a:avLst>
              <a:gd name="adj1" fmla="val 258852"/>
              <a:gd name="adj2" fmla="val 50000"/>
              <a:gd name="adj3" fmla="val 258852"/>
            </a:avLst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838080" y="5943600"/>
            <a:ext cx="533412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byte P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445280" y="5045760"/>
            <a:ext cx="814320" cy="86652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68240" y="505152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4952160" y="39657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werPC PTE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3581280"/>
            <a:ext cx="4191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981080"/>
            <a:ext cx="693432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2514600"/>
            <a:ext cx="693432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152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72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438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75960" y="1709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25920" y="1752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736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4016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1800" y="300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25960" y="1706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9000" y="300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0644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971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257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592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15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452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401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3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687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973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25960" y="3002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1360" y="2133720"/>
            <a:ext cx="28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breviated Virtu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37040" y="21337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01880" y="2133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2184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2164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30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16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26668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5888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63800" y="2666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99320" y="2522520"/>
            <a:ext cx="2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2144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7884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16080" y="26668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72720" y="2666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65400" y="26668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71720" y="3581280"/>
            <a:ext cx="2329560" cy="2225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=Available for OS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=Hash function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=Vali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=Address compare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=Reference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=Change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MG=Storage control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No execute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=Page protecti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240" y="6537240"/>
            <a:ext cx="50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C Operating Environment Architecture, Book III, Version 2.01, Sections 4.3-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LBs: Making Translation F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2952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table logically accessed on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every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rocess memory reference requires at least three memor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table access has temporal lo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a cache to speed up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nslation Lookaside Buffer (T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mall cache of recent PTEs (about 64 en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uge impact o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arious organizations, search strategies, and levels of OS involvemen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LB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62120" y="2424240"/>
            <a:ext cx="685800" cy="3657600"/>
            <a:chOff x="762120" y="2424240"/>
            <a:chExt cx="685800" cy="3657600"/>
          </a:xfrm>
        </p:grpSpPr>
        <p:sp>
          <p:nvSpPr>
            <p:cNvPr id="395" name=""/>
            <p:cNvSpPr/>
            <p:nvPr/>
          </p:nvSpPr>
          <p:spPr>
            <a:xfrm>
              <a:off x="762120" y="2424240"/>
              <a:ext cx="685800" cy="3657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120" y="2652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2881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20" y="3110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3338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120" y="3567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3795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4024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4253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120" y="4481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2120" y="4710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2120" y="49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2120" y="5167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5396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5624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5853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349960" y="2452680"/>
            <a:ext cx="685800" cy="914400"/>
            <a:chOff x="5349960" y="2452680"/>
            <a:chExt cx="685800" cy="914400"/>
          </a:xfrm>
        </p:grpSpPr>
        <p:sp>
          <p:nvSpPr>
            <p:cNvPr id="412" name=""/>
            <p:cNvSpPr/>
            <p:nvPr/>
          </p:nvSpPr>
          <p:spPr>
            <a:xfrm>
              <a:off x="534996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4996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996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4996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111720" y="2452680"/>
            <a:ext cx="685800" cy="914400"/>
            <a:chOff x="6111720" y="2452680"/>
            <a:chExt cx="685800" cy="914400"/>
          </a:xfrm>
        </p:grpSpPr>
        <p:sp>
          <p:nvSpPr>
            <p:cNvPr id="417" name=""/>
            <p:cNvSpPr/>
            <p:nvPr/>
          </p:nvSpPr>
          <p:spPr>
            <a:xfrm>
              <a:off x="611172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1172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172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1172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73840" y="2452680"/>
            <a:ext cx="685800" cy="914400"/>
            <a:chOff x="6873840" y="2452680"/>
            <a:chExt cx="685800" cy="914400"/>
          </a:xfrm>
        </p:grpSpPr>
        <p:sp>
          <p:nvSpPr>
            <p:cNvPr id="422" name=""/>
            <p:cNvSpPr/>
            <p:nvPr/>
          </p:nvSpPr>
          <p:spPr>
            <a:xfrm>
              <a:off x="687384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7384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7384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7384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635960" y="2452680"/>
            <a:ext cx="685800" cy="914400"/>
            <a:chOff x="7635960" y="2452680"/>
            <a:chExt cx="685800" cy="914400"/>
          </a:xfrm>
        </p:grpSpPr>
        <p:sp>
          <p:nvSpPr>
            <p:cNvPr id="427" name=""/>
            <p:cNvSpPr/>
            <p:nvPr/>
          </p:nvSpPr>
          <p:spPr>
            <a:xfrm>
              <a:off x="7635960" y="2452680"/>
              <a:ext cx="685800" cy="914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3596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3596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3596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743200" y="2452680"/>
            <a:ext cx="685800" cy="1828800"/>
            <a:chOff x="2743200" y="2452680"/>
            <a:chExt cx="685800" cy="1828800"/>
          </a:xfrm>
        </p:grpSpPr>
        <p:sp>
          <p:nvSpPr>
            <p:cNvPr id="432" name=""/>
            <p:cNvSpPr/>
            <p:nvPr/>
          </p:nvSpPr>
          <p:spPr>
            <a:xfrm>
              <a:off x="2743200" y="2452680"/>
              <a:ext cx="685800" cy="1828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320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320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4320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43200" y="33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43200" y="35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3200" y="38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43200" y="40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505320" y="2452680"/>
            <a:ext cx="685800" cy="1828800"/>
            <a:chOff x="3505320" y="2452680"/>
            <a:chExt cx="685800" cy="1828800"/>
          </a:xfrm>
        </p:grpSpPr>
        <p:sp>
          <p:nvSpPr>
            <p:cNvPr id="441" name=""/>
            <p:cNvSpPr/>
            <p:nvPr/>
          </p:nvSpPr>
          <p:spPr>
            <a:xfrm>
              <a:off x="3505320" y="2452680"/>
              <a:ext cx="685800" cy="1828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5320" y="26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29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31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33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05320" y="35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05320" y="38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052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37760" y="2363760"/>
            <a:ext cx="3942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60480" y="211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04880" y="2376360"/>
            <a:ext cx="2872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44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9756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6040" y="2392200"/>
            <a:ext cx="2872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0584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67600" y="214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64640" y="2147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6760" y="2147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676520" y="4800600"/>
            <a:ext cx="7162560" cy="838080"/>
            <a:chOff x="1676520" y="4800600"/>
            <a:chExt cx="7162560" cy="838080"/>
          </a:xfrm>
        </p:grpSpPr>
        <p:grpSp>
          <p:nvGrpSpPr>
            <p:cNvPr id="460" name=""/>
            <p:cNvGrpSpPr/>
            <p:nvPr/>
          </p:nvGrpSpPr>
          <p:grpSpPr>
            <a:xfrm>
              <a:off x="1676520" y="4800600"/>
              <a:ext cx="7162560" cy="838080"/>
              <a:chOff x="1676520" y="4800600"/>
              <a:chExt cx="7162560" cy="838080"/>
            </a:xfrm>
          </p:grpSpPr>
          <p:sp>
            <p:nvSpPr>
              <p:cNvPr id="461" name=""/>
              <p:cNvSpPr/>
              <p:nvPr/>
            </p:nvSpPr>
            <p:spPr>
              <a:xfrm>
                <a:off x="1676520" y="5029200"/>
                <a:ext cx="0" cy="228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76520" y="5029200"/>
                <a:ext cx="3352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76520" y="5257800"/>
                <a:ext cx="3504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8839080" y="5028840"/>
                <a:ext cx="0" cy="228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10080" y="5257800"/>
                <a:ext cx="3428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333760" y="5029200"/>
                <a:ext cx="3504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028840" y="4800600"/>
                <a:ext cx="152280" cy="838080"/>
                <a:chOff x="5028840" y="4800600"/>
                <a:chExt cx="152280" cy="83808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5028840" y="4800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5029200" y="510516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5104800" y="5105520"/>
                  <a:ext cx="75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257440" y="4800600"/>
                <a:ext cx="152280" cy="838080"/>
                <a:chOff x="5257440" y="4800600"/>
                <a:chExt cx="152280" cy="838080"/>
              </a:xfrm>
            </p:grpSpPr>
            <p:sp>
              <p:nvSpPr>
                <p:cNvPr id="472" name=""/>
                <p:cNvSpPr/>
                <p:nvPr/>
              </p:nvSpPr>
              <p:spPr>
                <a:xfrm flipH="1">
                  <a:off x="5257440" y="4800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5257800" y="510516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5333400" y="5105520"/>
                  <a:ext cx="75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23619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77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35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3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532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674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053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43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8640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624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22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564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5012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7840" y="47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38720" y="4724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99400" y="4724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53240" y="47242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29680" y="4724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6480" y="6110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3440" y="5257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8640" y="42814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way se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8240" y="33228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way se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1417680"/>
            <a:ext cx="205740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19520" y="1417680"/>
            <a:ext cx="4267080" cy="228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1520" y="138276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 (virtual page 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92160" y="1387440"/>
            <a:ext cx="29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age number (page table en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7240" y="10666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0840" y="175248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ways to organize a 16-entry TL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41720" y="5562720"/>
            <a:ext cx="436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et (tag % num_s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tag within resulting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use upper bits of tag for index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3505320"/>
            <a:ext cx="20574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44197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62520" y="3770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133720" y="2470320"/>
            <a:ext cx="380880" cy="1218960"/>
            <a:chOff x="2133720" y="2470320"/>
            <a:chExt cx="380880" cy="1218960"/>
          </a:xfrm>
        </p:grpSpPr>
        <p:sp>
          <p:nvSpPr>
            <p:cNvPr id="508" name=""/>
            <p:cNvSpPr/>
            <p:nvPr/>
          </p:nvSpPr>
          <p:spPr>
            <a:xfrm>
              <a:off x="2133720" y="2470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33720" y="3689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 rot="16200000">
            <a:off x="1616760" y="2870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LB Associativity Trade-off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igher associativit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+ Better utilization, fewer collis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re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ower associativit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+ Fa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+ Simple, less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reater chance of collis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does page size affect TLB performance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LB reach or cover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x86 TL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LB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ared by processor and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ole of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ls TLB on demand from page table (the OS is unaware of TLB mi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victs entries when a new entry is added and no free slot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ole of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s TLB/page table consistency by flushing entries as needed when page tables are updated or switched (e.g. during context swit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LB entries removed one at a time using INVLPG instr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 entire TLB flushed by writing a new entry into C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Pentium-M TL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ur different T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struction TLB for 4K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8 entries, 4-way se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struction TLB for large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 entries, fully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TLB for 4K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8 entries, 4-way se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TLB for large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 entries, 4-way se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TLBs use LRU replacem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different TLBs for instruction and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SPARC TL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PARC is RISC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hilosophy of “simpler is bet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LB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ftware-managed” TL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LB miss causes a fault, handled by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table format not defined by architec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ole of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plicitly adds entries to T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 to organize page tables in any way it wants because the CPU does not u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.g. Linux uses multiple levels like x86, Solaris uses a hash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peedup SPARC TLB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#1 Minimizing TLB Flu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TLB misses trap to OS (SLOW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 want to avoid TLB m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ain TLB contents across context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a process is switched back onto CPU, chances are that some of its TLB entries have been retained from la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PARC TLB entries enhanced with a 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context id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ext id allows entries with same VPN to coexist in the TLB (e.g. entries from different process address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me TLB entries shared (OS kernel mem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rk as 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text id ignored during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eneric Page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5238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divided into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 is a collection of PTEs (page table e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ps a virtual page number to physical page (or another page 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no virtual to physical mapping =&gt; seg fault or 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ganization and content vary with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320" y="42670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2640" y="464832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#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page faul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5480" y="38862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0384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35480" y="41911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5480" y="43434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5480" y="44956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5480" y="46483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35480" y="48006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5480" y="49528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5480" y="5334120"/>
            <a:ext cx="1600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548640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5480" y="5638680"/>
            <a:ext cx="1600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2108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5" idx="3"/>
            <a:endCxn id="68" idx="2"/>
          </p:cNvCxnSpPr>
          <p:nvPr/>
        </p:nvCxnSpPr>
        <p:spPr>
          <a:xfrm>
            <a:off x="1982520" y="4451400"/>
            <a:ext cx="538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8" idx="6"/>
            <a:endCxn id="63" idx="1"/>
          </p:cNvCxnSpPr>
          <p:nvPr/>
        </p:nvCxnSpPr>
        <p:spPr>
          <a:xfrm>
            <a:off x="2901960" y="4457880"/>
            <a:ext cx="534240" cy="381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3" idx="3"/>
            <a:endCxn id="56" idx="1"/>
          </p:cNvCxnSpPr>
          <p:nvPr/>
        </p:nvCxnSpPr>
        <p:spPr>
          <a:xfrm>
            <a:off x="5035320" y="4838400"/>
            <a:ext cx="603720" cy="13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 rot="16200000">
            <a:off x="3942000" y="4974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733920"/>
            <a:ext cx="190476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03960" y="57294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UltraSPARC III TL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s multiple page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K (default), 64K, 512K, and 4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ve different TL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 Instruction TL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6 entries, fully associative (supports all page siz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8 entries, 2-way set associative (8K page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 Data TL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6 entries, fully associative (supports all page siz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 x 512 entries, 2-way set associative (each supports one page size p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3-bit context 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192 different concurrent address 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happens if you have &gt; 8192 process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67ff"/>
                </a:solidFill>
                <a:latin typeface="Chalkboard"/>
              </a:rPr>
              <a:t>Speedup SPARC TLB: </a:t>
            </a:r>
            <a:br>
              <a:rPr sz="3600"/>
            </a:br>
            <a:r>
              <a:rPr b="0" lang="en-US" sz="3600" spc="-1" strike="noStrike">
                <a:solidFill>
                  <a:srgbClr val="af67ff"/>
                </a:solidFill>
                <a:latin typeface="Chalkboard"/>
              </a:rPr>
              <a:t>#2 Faster TLB Miss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 with software-managed TLB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uge amount of time can be spent handling TLB miss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2-50% in one study of SuperSPARC and Sun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ve hardware-assisted TLB miss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ARC 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 large, virtually-indexed, direct-mapped, physically contiguous table of recently used TLB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nslation Storage Buffer (TS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 TLB miss, hardware calculates offset of matching entry in TSB and supplies it to software TLB miss 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oftware TLB miss handler only needs to make a tag comparison to the TSB entry, load it into the TLB, and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an access misses in TSB then a slow software search of page tables i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text switch: Location of TSB is loaded into the processor (implies one TSB p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eneric P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TE maps virtual page to physical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ncludes some pag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alid?, writable?, dirty?, cache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3505320"/>
            <a:ext cx="2971800" cy="4572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505320"/>
            <a:ext cx="1752480" cy="457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505320"/>
            <a:ext cx="2971800" cy="457200"/>
          </a:xfrm>
          <a:prstGeom prst="rect">
            <a:avLst/>
          </a:pr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8200" y="4267080"/>
            <a:ext cx="432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E = page table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E = page directory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= 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 = 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= virtu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R,P}PN = {real, physical}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signing Page 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irements/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nimize memory use (PTs are pure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st (logically accessed on every memory 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irements 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ac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 sparse address 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(1)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.g. indexed lookup, hash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se Studies: x86 and Powe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 1: x86-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sic Idea: Page tables organized as a two-leve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uter” and “inner” 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fficient because address space is s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level of tree indexed using part of VPN for fast look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 walks the page tables to find trans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rchitecturally-defined 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 updates accessed and dirty b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useful for policies in future lect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CPU know where page tables l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urrent set of page tables point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set of page tables p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sizes: 4K or 4M (sometimes 2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x86-32 Page Table Look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p 10 va bi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ndex page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s PDE that points to a 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xt 10 va bi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ndex 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turns PTE that points to a physical memory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ottom 12 va bi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offset to a single byte in the physica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ecks made at each ste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nsure desired page is available in mem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cess has sufficient rights to access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59080"/>
            <a:ext cx="48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723960" y="352584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143000" y="37918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143000" y="33346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143000" y="3106080"/>
            <a:ext cx="759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2171520" y="520200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171520" y="397980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171520" y="2760480"/>
            <a:ext cx="914400" cy="533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590920" y="562104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590560" y="546876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590920" y="409392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0560" y="302724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590920" y="2950920"/>
            <a:ext cx="759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590560" y="2417760"/>
            <a:ext cx="763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49408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71016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4935600"/>
            <a:ext cx="48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47920" y="2572920"/>
            <a:ext cx="914400" cy="762480"/>
            <a:chOff x="1447920" y="2572920"/>
            <a:chExt cx="914400" cy="762480"/>
          </a:xfrm>
        </p:grpSpPr>
        <p:sp>
          <p:nvSpPr>
            <p:cNvPr id="105" name=""/>
            <p:cNvSpPr/>
            <p:nvPr/>
          </p:nvSpPr>
          <p:spPr>
            <a:xfrm>
              <a:off x="1447920" y="333540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752840" y="2572920"/>
              <a:ext cx="0" cy="762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840" y="257328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47920" y="3563640"/>
            <a:ext cx="914400" cy="228960"/>
            <a:chOff x="1447920" y="3563640"/>
            <a:chExt cx="914400" cy="228960"/>
          </a:xfrm>
        </p:grpSpPr>
        <p:sp>
          <p:nvSpPr>
            <p:cNvPr id="109" name=""/>
            <p:cNvSpPr/>
            <p:nvPr/>
          </p:nvSpPr>
          <p:spPr>
            <a:xfrm>
              <a:off x="1447920" y="356364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840" y="35640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840" y="379224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47920" y="4020840"/>
            <a:ext cx="914400" cy="990720"/>
            <a:chOff x="1447920" y="4020840"/>
            <a:chExt cx="914400" cy="990720"/>
          </a:xfrm>
        </p:grpSpPr>
        <p:sp>
          <p:nvSpPr>
            <p:cNvPr id="113" name=""/>
            <p:cNvSpPr/>
            <p:nvPr/>
          </p:nvSpPr>
          <p:spPr>
            <a:xfrm>
              <a:off x="1447920" y="4020840"/>
              <a:ext cx="304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2840" y="4021200"/>
              <a:ext cx="0" cy="9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840" y="5011200"/>
              <a:ext cx="609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rot="16200000">
            <a:off x="747360" y="461196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270160" y="6013800"/>
            <a:ext cx="63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848040" y="24588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848040" y="33732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848040" y="42876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848040" y="5202000"/>
            <a:ext cx="914400" cy="533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891960" y="606852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895480" y="2649240"/>
            <a:ext cx="1142640" cy="902160"/>
            <a:chOff x="2895480" y="2649240"/>
            <a:chExt cx="1142640" cy="902160"/>
          </a:xfrm>
        </p:grpSpPr>
        <p:sp>
          <p:nvSpPr>
            <p:cNvPr id="124" name=""/>
            <p:cNvSpPr/>
            <p:nvPr/>
          </p:nvSpPr>
          <p:spPr>
            <a:xfrm>
              <a:off x="2895480" y="264924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6360" y="2649600"/>
              <a:ext cx="0" cy="90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360" y="3551040"/>
              <a:ext cx="761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572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56996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56996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569960"/>
            <a:ext cx="759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569960"/>
            <a:ext cx="763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56996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56996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10880" y="12952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-bit virtual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800" y="198108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bit page dir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4040" y="1981080"/>
            <a:ext cx="15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bit page tbl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9440" y="19810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bit offset of byte i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6880" y="1405080"/>
            <a:ext cx="527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9112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419720" y="3176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95680" y="319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35053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 </a:t>
            </a: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x86-32 PDE and PTE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397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397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4397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4397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5623200" y="4369680"/>
            <a:ext cx="1089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e Disab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520" y="6537240"/>
            <a:ext cx="42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A-32 Intel Architecture Software Developer’s Manual, Volume 3, pg. 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72040" y="4137120"/>
            <a:ext cx="28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bit page number of a physical memory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43360" y="413712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bit 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59436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is not present, all but bit 0 are available for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2165400"/>
            <a:ext cx="75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2165400"/>
            <a:ext cx="76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16540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21654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5658120" y="2137680"/>
            <a:ext cx="1089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 or 4M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e Disab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3040" y="1905120"/>
            <a:ext cx="179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bit page number of a 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43360" y="190512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bit 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3120" y="1484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Directory Entry (P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367200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Entry (P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X86-32 and PA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to handle larger physical memory size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much physical memory can 32 bits addr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ntium Pro adds support for up to 64 GB of physic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many physical address bits are need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p 32-bit address space to 36-bit physic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Single-process logical address space is still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Address Extensions (PAE): Two ad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w CPU mode: P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n PAE mode, 32-bit VAs map to 36-bit 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nother layer in the page table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o hold 24-bit PPN, PDEs and PTEs expanded to 6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How many PTE fit in a 4KB page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till want to be able to fit page tables in a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op-level: 4-ent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ge-directory-pointer-table (PDPT)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Points to a page directory and then translation proceeds as bef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 #2: PowerP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Handle large virtual address spaces w/o large pag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80-bit virtual address with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62-bit physical (“real”)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Inverted Page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need entries for virtual pages w/ physical mapp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o much time to search entir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d relevant PTE with hash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tails of Hash Table (HT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sh table (HTAB) contains P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HTAB entry is a page table entry group (PT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TEG has 8 P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sh function on VPN gives the index of </a:t>
            </a:r>
            <a:r>
              <a:rPr b="1" i="1" lang="en-US" sz="2000" spc="-1" strike="noStrike">
                <a:solidFill>
                  <a:srgbClr val="000000"/>
                </a:solidFill>
                <a:latin typeface="Chalkboard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PTEGs (Primary and secondary PTE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sulting 16 PTEs searched for a VPN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 match =&gt; 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y is it good to have PTEG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Remzi Arpaci</cp:lastModifiedBy>
  <cp:lastPrinted>1970-02-13T23:37:11Z</cp:lastPrinted>
  <dcterms:modified xsi:type="dcterms:W3CDTF">2007-10-30T14:06:31Z</dcterms:modified>
  <cp:revision>37</cp:revision>
  <dc:subject/>
  <dc:title>Synchronization</dc:title>
</cp:coreProperties>
</file>