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C6A-A158-4498-9D04-8DC17EA9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3D1-4241-47CC-B3BF-0760D92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802-42BF-464E-A671-9E34AB1A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120-6BEC-4DAF-B39F-B5AD8C7C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FB3-8CEC-4441-934A-886A0E5A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95B-7D74-4109-9362-185D7592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F44-9E21-430D-847D-5D0E79E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F9A-DB2D-44A1-B692-A7E7DA8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993-491E-40D9-9A3F-D682850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A74-AC49-4498-9B59-3EDFB86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C88-26C1-40A6-B657-00F0404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A7A-96B3-4170-99B5-FEA80CD5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28C-72EA-45A4-9257-00CD4C16A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 Gener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e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Byzantine Generals Problem”, by Lamport, Shostak, Pease, In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ACM Transactions on Programing Languages and System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July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eneral Impossibility Resul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solution with few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m+1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generals can cope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traitor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halkboard"/>
              </a:rPr>
              <a:t>&lt; see paper for details &gt;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al Messa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1) Every message is delivered correctl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2) Receiver knows who sent messa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3) Absence of message can be detect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al Message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M(0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ends his value to every lieutena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M(m), m&gt;0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ends his value to every lieutena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le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e value Lieutenant i receives from commander; act as commande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M(m-1)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s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ther lieutena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 not 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le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j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e value Lie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ceived from Lie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.  Lieut i comput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jority(v1,...,vn-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Bad Lieutena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4, traitor = L3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62320" y="2133720"/>
            <a:ext cx="3657600" cy="1600200"/>
            <a:chOff x="2362320" y="2133720"/>
            <a:chExt cx="3657600" cy="1600200"/>
          </a:xfrm>
        </p:grpSpPr>
        <p:sp>
          <p:nvSpPr>
            <p:cNvPr id="125" name=""/>
            <p:cNvSpPr/>
            <p:nvPr/>
          </p:nvSpPr>
          <p:spPr>
            <a:xfrm>
              <a:off x="3733920" y="213372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312408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304812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3048120"/>
              <a:ext cx="7621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590920"/>
              <a:ext cx="1143000" cy="53316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419720" y="2590920"/>
              <a:ext cx="1295280" cy="38088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38480" y="2743200"/>
              <a:ext cx="76320" cy="45720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2040" y="2362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3800" y="26668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1720" y="2362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69920" y="25509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M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4684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OM(0)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9625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528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8769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8769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661840" y="4724280"/>
            <a:ext cx="3352680" cy="1602720"/>
            <a:chOff x="2661840" y="4724280"/>
            <a:chExt cx="3352680" cy="1602720"/>
          </a:xfrm>
        </p:grpSpPr>
        <p:sp>
          <p:nvSpPr>
            <p:cNvPr id="142" name=""/>
            <p:cNvSpPr/>
            <p:nvPr/>
          </p:nvSpPr>
          <p:spPr>
            <a:xfrm>
              <a:off x="3119400" y="4940280"/>
              <a:ext cx="838080" cy="1652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7120" y="4724280"/>
              <a:ext cx="2514600" cy="24156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042360" y="5485680"/>
              <a:ext cx="1143000" cy="15228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67320" y="4952880"/>
              <a:ext cx="838080" cy="1652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419000" y="5410080"/>
              <a:ext cx="1143000" cy="1526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661480" y="5410080"/>
              <a:ext cx="3352680" cy="6098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0520" y="49528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9120" y="55627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2120" y="5867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3120" y="5257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55880" y="62085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Decisi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0720" y="620856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 = m (A, A, R); L2 = m (A, A, R); Both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Bad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4, traitor = C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2040" y="2362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3800" y="2666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31720" y="2362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920" y="25509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M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6280" y="4684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OM(0)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9528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4876920"/>
            <a:ext cx="76176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48769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19400" y="49402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67120" y="4724280"/>
            <a:ext cx="2514600" cy="24156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042360" y="5485680"/>
            <a:ext cx="1143000" cy="15228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67320" y="49528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19000" y="5410080"/>
            <a:ext cx="1143000" cy="1526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661480" y="5410080"/>
            <a:ext cx="3352680" cy="6098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0520" y="4952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120" y="55627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8200" y="5791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312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5880" y="62085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Decisi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36720" y="624852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=m(A, R, A); L2=m(A, R, A); L3=m(A,R,A);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9080" y="48769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8720" y="43434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igger Example: Bad Lieutenan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7, traitors=L5, L6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4320" y="27432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3800" y="2666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1720" y="27432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43000" y="3048120"/>
            <a:ext cx="7391520" cy="685800"/>
            <a:chOff x="1143000" y="3048120"/>
            <a:chExt cx="7391520" cy="685800"/>
          </a:xfrm>
        </p:grpSpPr>
        <p:sp>
          <p:nvSpPr>
            <p:cNvPr id="195" name=""/>
            <p:cNvSpPr/>
            <p:nvPr/>
          </p:nvSpPr>
          <p:spPr>
            <a:xfrm>
              <a:off x="2362320" y="312408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2400" y="304812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3048120"/>
              <a:ext cx="7621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7120" y="3124080"/>
              <a:ext cx="76176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57800" y="3124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3124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600200" y="2514600"/>
            <a:ext cx="2133720" cy="53352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2720" y="2438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94960" y="2362320"/>
            <a:ext cx="21337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94960" y="2362320"/>
            <a:ext cx="35053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2440" y="2819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8600" y="25909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90720" y="4495680"/>
            <a:ext cx="7390800" cy="685800"/>
            <a:chOff x="990720" y="4495680"/>
            <a:chExt cx="7390800" cy="685800"/>
          </a:xfrm>
        </p:grpSpPr>
        <p:sp>
          <p:nvSpPr>
            <p:cNvPr id="208" name=""/>
            <p:cNvSpPr/>
            <p:nvPr/>
          </p:nvSpPr>
          <p:spPr>
            <a:xfrm>
              <a:off x="2209680" y="4571640"/>
              <a:ext cx="76140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9760" y="4495680"/>
              <a:ext cx="76176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7240" y="449568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4571640"/>
              <a:ext cx="76140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160" y="457164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457164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993240" y="5181480"/>
            <a:ext cx="378360" cy="609840"/>
            <a:chOff x="993240" y="5181480"/>
            <a:chExt cx="378360" cy="609840"/>
          </a:xfrm>
        </p:grpSpPr>
        <p:sp>
          <p:nvSpPr>
            <p:cNvPr id="215" name=""/>
            <p:cNvSpPr/>
            <p:nvPr/>
          </p:nvSpPr>
          <p:spPr>
            <a:xfrm>
              <a:off x="13716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93240" y="52578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12200" y="5181480"/>
            <a:ext cx="378360" cy="609840"/>
            <a:chOff x="2212200" y="5181480"/>
            <a:chExt cx="378360" cy="609840"/>
          </a:xfrm>
        </p:grpSpPr>
        <p:sp>
          <p:nvSpPr>
            <p:cNvPr id="218" name=""/>
            <p:cNvSpPr/>
            <p:nvPr/>
          </p:nvSpPr>
          <p:spPr>
            <a:xfrm>
              <a:off x="25905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12200" y="52578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8040" y="5181480"/>
            <a:ext cx="378360" cy="609840"/>
            <a:chOff x="5108040" y="5181480"/>
            <a:chExt cx="378360" cy="609840"/>
          </a:xfrm>
        </p:grpSpPr>
        <p:sp>
          <p:nvSpPr>
            <p:cNvPr id="221" name=""/>
            <p:cNvSpPr/>
            <p:nvPr/>
          </p:nvSpPr>
          <p:spPr>
            <a:xfrm>
              <a:off x="54864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8040" y="52578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60120" y="5105520"/>
            <a:ext cx="378360" cy="609480"/>
            <a:chOff x="3660120" y="5105520"/>
            <a:chExt cx="378360" cy="609480"/>
          </a:xfrm>
        </p:grpSpPr>
        <p:sp>
          <p:nvSpPr>
            <p:cNvPr id="224" name=""/>
            <p:cNvSpPr/>
            <p:nvPr/>
          </p:nvSpPr>
          <p:spPr>
            <a:xfrm>
              <a:off x="403848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0120" y="5181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622280" y="5105520"/>
            <a:ext cx="378720" cy="609480"/>
            <a:chOff x="7622280" y="5105520"/>
            <a:chExt cx="378720" cy="609480"/>
          </a:xfrm>
        </p:grpSpPr>
        <p:sp>
          <p:nvSpPr>
            <p:cNvPr id="227" name=""/>
            <p:cNvSpPr/>
            <p:nvPr/>
          </p:nvSpPr>
          <p:spPr>
            <a:xfrm>
              <a:off x="800100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2280" y="5181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326640" y="5181480"/>
            <a:ext cx="378720" cy="609840"/>
            <a:chOff x="6326640" y="5181480"/>
            <a:chExt cx="378720" cy="609840"/>
          </a:xfrm>
        </p:grpSpPr>
        <p:sp>
          <p:nvSpPr>
            <p:cNvPr id="230" name=""/>
            <p:cNvSpPr/>
            <p:nvPr/>
          </p:nvSpPr>
          <p:spPr>
            <a:xfrm>
              <a:off x="67053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26640" y="5257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34000" y="59799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cisi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6240" y="3886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ss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57840" y="59040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(A,A,A,A,R,R) ==&gt; All loyal lieutenants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igger Example: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7, traitors=C, L6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30481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31240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31240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2514600"/>
            <a:ext cx="2133720" cy="53352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94960" y="2362320"/>
            <a:ext cx="21337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494960" y="2362320"/>
            <a:ext cx="35053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02720" y="2438280"/>
            <a:ext cx="6441480" cy="840960"/>
            <a:chOff x="1602720" y="2438280"/>
            <a:chExt cx="6441480" cy="840960"/>
          </a:xfrm>
        </p:grpSpPr>
        <p:sp>
          <p:nvSpPr>
            <p:cNvPr id="251" name=""/>
            <p:cNvSpPr/>
            <p:nvPr/>
          </p:nvSpPr>
          <p:spPr>
            <a:xfrm>
              <a:off x="2974320" y="27432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3800" y="26668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1720" y="27432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2720" y="2438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22440" y="2819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01840" y="25909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36000" y="5105520"/>
            <a:ext cx="1473120" cy="992880"/>
            <a:chOff x="7236000" y="5105520"/>
            <a:chExt cx="1473120" cy="992880"/>
          </a:xfrm>
        </p:grpSpPr>
        <p:sp>
          <p:nvSpPr>
            <p:cNvPr id="258" name=""/>
            <p:cNvSpPr/>
            <p:nvPr/>
          </p:nvSpPr>
          <p:spPr>
            <a:xfrm>
              <a:off x="800100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36000" y="563868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A,R,A,R,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93240" y="5105520"/>
            <a:ext cx="5712120" cy="685800"/>
            <a:chOff x="993240" y="5105520"/>
            <a:chExt cx="5712120" cy="685800"/>
          </a:xfrm>
        </p:grpSpPr>
        <p:grpSp>
          <p:nvGrpSpPr>
            <p:cNvPr id="261" name=""/>
            <p:cNvGrpSpPr/>
            <p:nvPr/>
          </p:nvGrpSpPr>
          <p:grpSpPr>
            <a:xfrm>
              <a:off x="993240" y="5181480"/>
              <a:ext cx="378360" cy="609840"/>
              <a:chOff x="993240" y="5181480"/>
              <a:chExt cx="378360" cy="609840"/>
            </a:xfrm>
          </p:grpSpPr>
          <p:sp>
            <p:nvSpPr>
              <p:cNvPr id="262" name=""/>
              <p:cNvSpPr/>
              <p:nvPr/>
            </p:nvSpPr>
            <p:spPr>
              <a:xfrm>
                <a:off x="137160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93240" y="52578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211840" y="5181480"/>
              <a:ext cx="378720" cy="609840"/>
              <a:chOff x="2211840" y="5181480"/>
              <a:chExt cx="378720" cy="609840"/>
            </a:xfrm>
          </p:grpSpPr>
          <p:sp>
            <p:nvSpPr>
              <p:cNvPr id="265" name=""/>
              <p:cNvSpPr/>
              <p:nvPr/>
            </p:nvSpPr>
            <p:spPr>
              <a:xfrm>
                <a:off x="259056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11840" y="525780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107680" y="5181480"/>
              <a:ext cx="378720" cy="609840"/>
              <a:chOff x="5107680" y="5181480"/>
              <a:chExt cx="378720" cy="609840"/>
            </a:xfrm>
          </p:grpSpPr>
          <p:sp>
            <p:nvSpPr>
              <p:cNvPr id="268" name=""/>
              <p:cNvSpPr/>
              <p:nvPr/>
            </p:nvSpPr>
            <p:spPr>
              <a:xfrm>
                <a:off x="548640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07680" y="525780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660120" y="5105520"/>
              <a:ext cx="378360" cy="609480"/>
              <a:chOff x="3660120" y="5105520"/>
              <a:chExt cx="378360" cy="609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038480" y="5105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60120" y="51814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327000" y="5181480"/>
              <a:ext cx="378360" cy="609840"/>
              <a:chOff x="6327000" y="5181480"/>
              <a:chExt cx="378360" cy="609840"/>
            </a:xfrm>
          </p:grpSpPr>
          <p:sp>
            <p:nvSpPr>
              <p:cNvPr id="274" name=""/>
              <p:cNvSpPr/>
              <p:nvPr/>
            </p:nvSpPr>
            <p:spPr>
              <a:xfrm>
                <a:off x="670536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27000" y="52578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234000" y="59799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cisi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46240" y="3886200"/>
            <a:ext cx="8135640" cy="1295280"/>
            <a:chOff x="246240" y="3886200"/>
            <a:chExt cx="8135640" cy="1295280"/>
          </a:xfrm>
        </p:grpSpPr>
        <p:grpSp>
          <p:nvGrpSpPr>
            <p:cNvPr id="278" name=""/>
            <p:cNvGrpSpPr/>
            <p:nvPr/>
          </p:nvGrpSpPr>
          <p:grpSpPr>
            <a:xfrm>
              <a:off x="990720" y="4495680"/>
              <a:ext cx="7391160" cy="685800"/>
              <a:chOff x="990720" y="4495680"/>
              <a:chExt cx="7391160" cy="685800"/>
            </a:xfrm>
          </p:grpSpPr>
          <p:sp>
            <p:nvSpPr>
              <p:cNvPr id="279" name=""/>
              <p:cNvSpPr/>
              <p:nvPr/>
            </p:nvSpPr>
            <p:spPr>
              <a:xfrm>
                <a:off x="2209680" y="457200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20120" y="4495680"/>
                <a:ext cx="761760" cy="60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57600" y="4495680"/>
                <a:ext cx="7621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24480" y="457200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05520" y="4572000"/>
                <a:ext cx="76176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0720" y="4572000"/>
                <a:ext cx="76176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46240" y="38862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Messag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cision with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1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2: m(R,R,A,R,A,R) ==&gt; Retre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3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4: m(R,R,A,R,A,R) ==&gt; Retre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5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All loyal lieutenants do NOT choose same acti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ext Step of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erify that lieutenants tell each other the same th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rounds = m+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0): Msg from Lieut i of form: “L0 said v0, L1 said v1, etc...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messages does L1 receive in this exampl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2): 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1): 2R, 3A, 4R, 5A, 6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0):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2{    3A, 4R, 5A, 6R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{2R,     4R, 5A, 6A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{2R, 3A,     5A, 6R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5{2R, 3A, 4R,     6A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6{ total confusion 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see same messages in OM(0) from L1,2,3,4, and 5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(A,R,A,R,A,-) ==&gt; All attack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igned Messa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ew assumption: Cryptograph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4)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.  Loyal general’s signature cannot be forged and contents cannot be alte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.  Anyone can verify authenticity of signa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ifies problem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lieutenant i passes on signed message from j, know that i did not lie about what j sa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eutenants cannot do any harm alone (cannot forge loyal general’s order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have to check for traitor comman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ith cryptographic primitives, can implement Byzantine Agreement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+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odes,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M(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ild reliable systems in the presence of faulty compon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approach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ve multiple (potentially faulty) components compute same fun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 majority vote on outputs to get “right” resul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4267080"/>
            <a:ext cx="7147800" cy="1371600"/>
            <a:chOff x="609480" y="4267080"/>
            <a:chExt cx="7147800" cy="1371600"/>
          </a:xfrm>
        </p:grpSpPr>
        <p:sp>
          <p:nvSpPr>
            <p:cNvPr id="49" name="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44193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4419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4952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0200" y="5410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4267080"/>
              <a:ext cx="685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4800600"/>
              <a:ext cx="685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66880" y="525780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86200" y="4724280"/>
              <a:ext cx="76212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441936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5029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352680" y="52574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1120" y="4709880"/>
              <a:ext cx="31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majority(v1,v2,</a:t>
              </a:r>
              <a:r>
                <a:rPr b="0" lang="en-US" sz="2800" spc="-1" strike="noStrike">
                  <a:solidFill>
                    <a:srgbClr val="ff0000"/>
                  </a:solidFill>
                  <a:latin typeface="Chalkboard"/>
                </a:rPr>
                <a:t>v3</a:t>
              </a: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2560" y="5929200"/>
            <a:ext cx="76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 faulty, f+1 good components ==&gt; 2f+1 to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igned Messages Algorithm: SM(m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igns v and sends to all as (v:0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lieut i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) If receive (v:0) and no other ord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Vi = v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send (V:0:i) to al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) If receive (v:0:j:...:k) and v not in V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Add v to V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if (k&lt;m) send (v:0:j:...:k:i) to all not in j...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. When no more msgs, obey order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oose(Vi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M(1) Example: Bad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3, bad commande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824200" y="2362320"/>
            <a:ext cx="2835360" cy="459720"/>
            <a:chOff x="2824200" y="2362320"/>
            <a:chExt cx="2835360" cy="459720"/>
          </a:xfrm>
        </p:grpSpPr>
        <p:sp>
          <p:nvSpPr>
            <p:cNvPr id="302" name=""/>
            <p:cNvSpPr/>
            <p:nvPr/>
          </p:nvSpPr>
          <p:spPr>
            <a:xfrm>
              <a:off x="2824200" y="2362320"/>
              <a:ext cx="6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33880" y="23623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440" y="3770280"/>
            <a:ext cx="5393880" cy="1411200"/>
            <a:chOff x="397440" y="3770280"/>
            <a:chExt cx="5393880" cy="1411200"/>
          </a:xfrm>
        </p:grpSpPr>
        <p:sp>
          <p:nvSpPr>
            <p:cNvPr id="305" name=""/>
            <p:cNvSpPr/>
            <p:nvPr/>
          </p:nvSpPr>
          <p:spPr>
            <a:xfrm>
              <a:off x="397440" y="3770280"/>
              <a:ext cx="177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What nex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33720" y="434340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9200" y="4267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4254480"/>
              <a:ext cx="2209680" cy="241200"/>
            </a:xfrm>
            <a:custGeom>
              <a:avLst/>
              <a:gdLst/>
              <a:ahLst/>
              <a:rect l="l" t="t" r="r" b="b"/>
              <a:pathLst>
                <a:path w="1392" h="152">
                  <a:moveTo>
                    <a:pt x="0" y="152"/>
                  </a:moveTo>
                  <a:cubicBezTo>
                    <a:pt x="220" y="84"/>
                    <a:pt x="440" y="16"/>
                    <a:pt x="672" y="8"/>
                  </a:cubicBezTo>
                  <a:cubicBezTo>
                    <a:pt x="904" y="0"/>
                    <a:pt x="1148" y="52"/>
                    <a:pt x="1392" y="10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2818800" y="4724280"/>
              <a:ext cx="2361960" cy="457200"/>
            </a:xfrm>
            <a:custGeom>
              <a:avLst/>
              <a:gdLst/>
              <a:ahLst/>
              <a:rect l="l" t="t" r="r" b="b"/>
              <a:pathLst>
                <a:path w="1392" h="152">
                  <a:moveTo>
                    <a:pt x="0" y="152"/>
                  </a:moveTo>
                  <a:cubicBezTo>
                    <a:pt x="220" y="84"/>
                    <a:pt x="440" y="16"/>
                    <a:pt x="672" y="8"/>
                  </a:cubicBezTo>
                  <a:cubicBezTo>
                    <a:pt x="904" y="0"/>
                    <a:pt x="1148" y="52"/>
                    <a:pt x="1392" y="10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871720" y="3886200"/>
            <a:ext cx="2443320" cy="1679040"/>
            <a:chOff x="2871720" y="3886200"/>
            <a:chExt cx="2443320" cy="1679040"/>
          </a:xfrm>
        </p:grpSpPr>
        <p:sp>
          <p:nvSpPr>
            <p:cNvPr id="311" name=""/>
            <p:cNvSpPr/>
            <p:nvPr/>
          </p:nvSpPr>
          <p:spPr>
            <a:xfrm>
              <a:off x="2871720" y="388620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73200" y="510552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98520" y="5599080"/>
            <a:ext cx="62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1={A,R} V2={R,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th L1 and L2 can trust orders are fro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th apply same decision to {A,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M(2):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4, bad commander and L3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24200" y="2362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5960" y="26668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34960" y="23623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213372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? L1 and L2 must make same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480" y="3962520"/>
            <a:ext cx="3657600" cy="1907280"/>
            <a:chOff x="609480" y="3962520"/>
            <a:chExt cx="3657600" cy="1907280"/>
          </a:xfrm>
        </p:grpSpPr>
        <p:grpSp>
          <p:nvGrpSpPr>
            <p:cNvPr id="328" name=""/>
            <p:cNvGrpSpPr/>
            <p:nvPr/>
          </p:nvGrpSpPr>
          <p:grpSpPr>
            <a:xfrm>
              <a:off x="609480" y="4267080"/>
              <a:ext cx="3657600" cy="685080"/>
              <a:chOff x="609480" y="4267080"/>
              <a:chExt cx="3657600" cy="685080"/>
            </a:xfrm>
          </p:grpSpPr>
          <p:sp>
            <p:nvSpPr>
              <p:cNvPr id="329" name=""/>
              <p:cNvSpPr/>
              <p:nvPr/>
            </p:nvSpPr>
            <p:spPr>
              <a:xfrm>
                <a:off x="609480" y="434268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4267080"/>
                <a:ext cx="761760" cy="609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57400" y="4267080"/>
                <a:ext cx="762120" cy="609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119240" y="396252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25440" y="449568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73000" y="419076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39840" y="541008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4267080"/>
              <a:ext cx="990360" cy="7596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218600" y="4800600"/>
              <a:ext cx="1143000" cy="1519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2666160" y="4800600"/>
              <a:ext cx="1143000" cy="1519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990000" y="4952160"/>
              <a:ext cx="2971800" cy="45684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4114800"/>
            <a:ext cx="2209680" cy="1066680"/>
            <a:chOff x="5105520" y="4114800"/>
            <a:chExt cx="2209680" cy="1066680"/>
          </a:xfrm>
        </p:grpSpPr>
        <p:sp>
          <p:nvSpPr>
            <p:cNvPr id="341" name=""/>
            <p:cNvSpPr/>
            <p:nvPr/>
          </p:nvSpPr>
          <p:spPr>
            <a:xfrm>
              <a:off x="5105520" y="457200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53080" y="44956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40040" y="411480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3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15000" y="4495680"/>
              <a:ext cx="990720" cy="763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64960" y="6056280"/>
            <a:ext cx="49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1 = V2 = {A,R} ==&gt; Same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ther Vari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handle missing communication path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&lt; see paper for details&gt;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ssump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1) Every message sent by nonfaulty processor is delivered correct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 failure ==&gt; processor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ndle as less connectivity in grap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2) Processor can determine sender of mess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unication is over fixed, dedicated lin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witched network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3) Absence of message can be detec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xed max time to send message + synchronized clocks ==&gt; If msg not received in fixed time, use defaul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4) Processors sign msgs such that nonfaulty signatures cannot be forg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randomizing function or cryptography to make liklihood of forgery very sma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ortance of Assump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parating Agreement from Execution for Byzantine Fault Tolerant Services” - SOSP’0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Reduce replication co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f+1 agreement replic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g+1 execution replic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stly part to replic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ten uses different software vers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tentially long running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tocol assumes cryptographic primitives, such that one can be sure “i said v” in switched environ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the problem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ssum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od (nonfaulty) components must use same inpu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wise, can’t trust their output result eit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r majority voting to work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 nonfaulty processors must use same inpu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f input is nonfaulty, then all nonfaulty processes use the value it provid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Byzantine Failur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ree primary differences from Fail-Stop Fail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onent can produce arbitrary out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produces correct output or n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not always detect output is faul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can always detect that component has stopp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onents may work together malici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collusion across compon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 Gener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gorithm to achieve agreement among “loyal generals” (i.e., working components) given m “traitors” (i.e., faulty component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greement such tha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All loyal generals decide on same pla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Small number of traitors cannot cause loyal generals to adopt “bad plan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et v(i) be information communicated by ith gener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bine values v(1)...v(n) to form pla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ephrase agreement condition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All generals use same method for combining inform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Decision is majority function of values v(1)...v(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Key Step: Agree on inpu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enerals communicate v(i) values to one another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Every loyal general must obtain same v(1)..v(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’) Any two loyal generals use same value of v(i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30480" indent="-361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itor i will try to loyal generals into using different v(i)’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If ith general is loyal, then the value he sends must be used by every other general as v(i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How can each general send his value to n-1 othe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commanding general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must send an order to his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n-1 lieutenant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IC1) All loyal lieutenants obey same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IC2) If commanding general is loyal, every loyal lieutenant obeys the order he sen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active Consistency condi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ossibility Resul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ith only 3 generals, no solution can work with even 1 traitor (given oral messag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14480" y="2895480"/>
            <a:ext cx="4044960" cy="2441160"/>
            <a:chOff x="1914480" y="2895480"/>
            <a:chExt cx="4044960" cy="2441160"/>
          </a:xfrm>
        </p:grpSpPr>
        <p:sp>
          <p:nvSpPr>
            <p:cNvPr id="74" name=""/>
            <p:cNvSpPr/>
            <p:nvPr/>
          </p:nvSpPr>
          <p:spPr>
            <a:xfrm>
              <a:off x="5197320" y="4611600"/>
              <a:ext cx="762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54120" y="4535640"/>
              <a:ext cx="762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2895480"/>
              <a:ext cx="23619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4560" y="293220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comma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14480" y="399888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t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6960" y="487692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etr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37720" y="45720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34840" y="457200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3505320"/>
              <a:ext cx="1447920" cy="990360"/>
            </a:xfrm>
            <a:custGeom>
              <a:avLst/>
              <a:gdLst/>
              <a:ahLst/>
              <a:rect l="l" t="t" r="r" b="b"/>
              <a:pathLst>
                <a:path w="912" h="624">
                  <a:moveTo>
                    <a:pt x="912" y="0"/>
                  </a:moveTo>
                  <a:cubicBezTo>
                    <a:pt x="652" y="92"/>
                    <a:pt x="392" y="184"/>
                    <a:pt x="240" y="288"/>
                  </a:cubicBezTo>
                  <a:cubicBezTo>
                    <a:pt x="88" y="392"/>
                    <a:pt x="44" y="508"/>
                    <a:pt x="0" y="6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48120" y="4647600"/>
              <a:ext cx="2133360" cy="152280"/>
            </a:xfrm>
            <a:custGeom>
              <a:avLst/>
              <a:gdLst/>
              <a:ahLst/>
              <a:rect l="l" t="t" r="r" b="b"/>
              <a:pathLst>
                <a:path w="912" h="624">
                  <a:moveTo>
                    <a:pt x="912" y="0"/>
                  </a:moveTo>
                  <a:cubicBezTo>
                    <a:pt x="652" y="92"/>
                    <a:pt x="392" y="184"/>
                    <a:pt x="240" y="288"/>
                  </a:cubicBezTo>
                  <a:cubicBezTo>
                    <a:pt x="88" y="392"/>
                    <a:pt x="44" y="508"/>
                    <a:pt x="0" y="6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89880" y="5827680"/>
            <a:ext cx="79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should L1 do?  Is commander or L2 the traitor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tion 1: Loyal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6" name=""/>
          <p:cNvSpPr/>
          <p:nvPr/>
        </p:nvSpPr>
        <p:spPr>
          <a:xfrm>
            <a:off x="5060880" y="3392640"/>
            <a:ext cx="76212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17680" y="3316320"/>
            <a:ext cx="76212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9920" y="1676520"/>
            <a:ext cx="23623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18120" y="17128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78040" y="277956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0160" y="36576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1280" y="33526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8040" y="33526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59040" y="228600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11320" y="3428280"/>
            <a:ext cx="2133720" cy="1522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572000" y="2286000"/>
            <a:ext cx="914400" cy="10666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5146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8840" y="44560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What must L1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0480" y="529416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 IC2: L1 must obey commander and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tion 2: Loyal L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429000"/>
            <a:ext cx="76176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7680" y="3316320"/>
            <a:ext cx="76212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9920" y="1676520"/>
            <a:ext cx="23623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18120" y="17128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040" y="277956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20160" y="36576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1280" y="33526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8040" y="33526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59040" y="228600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11320" y="3428280"/>
            <a:ext cx="2133720" cy="1522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2286000"/>
            <a:ext cx="914400" cy="10666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33120" y="25146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840" y="44560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What must L1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760" y="529416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 IC1: L1 and L2 must obey same order --&gt; L1 must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120" y="6056280"/>
            <a:ext cx="73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L1 can’t distinguish between 2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4T00:48:46Z</cp:lastPrinted>
  <dcterms:modified xsi:type="dcterms:W3CDTF">1970-01-02T01:06:44Z</dcterms:modified>
  <cp:revision>14</cp:revision>
  <dc:subject/>
  <dc:title>Introduction and Overview</dc:title>
</cp:coreProperties>
</file>