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48F-4601-4B32-B366-3225218C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339-2A51-4F93-BE51-2311740C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EDA-DD29-4556-8B5B-ED235733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BAF-193D-41CA-8F44-B4C8C44A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E6C-1EA9-4F10-A95B-E841A38E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1A8-ECBB-434E-A19D-11B8BA9A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5BB-F53B-499D-B345-0610F192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FB3-468A-4ACF-AAD1-CC2A5FD0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D2F-1961-4C76-A5F2-8B84897E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600-F246-4C0F-A96D-36231E6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89B-BFCA-4313-83FB-5B2ACC0D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D13-6192-43FF-9198-BAB35E3E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BB96-01FC-4B4F-AF08-71E19CE8C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ail-Stop Processo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88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UNIVERSITY of WISCONSIN-MADIS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Computer Sciences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CS 739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Distribute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143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"/>
              </a:rPr>
              <a:t>Andrea C. Arpaci-Dussea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ne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yzantine Generals in Action: Implementing Fail-Stop Processors, Fred Schneider, TOCS, May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Building a Fail-Stop Processor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ssumption: Storag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Volatile: Lost on failu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ab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ot affected (lost or corrupted) by failur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Can be read by any processo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enefit: Recover work of failed proces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rawback: Minimize interactions since slow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Can only build approximation of fail-stop processor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inite hardware -&gt; Finite failures could disable all error detection hardwar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k-fail-stop processor: behaves fail-stop unless k+1 or more fail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ation of k-FSP: Overview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Two component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+1 p-processes (program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k+1 s-processes (storag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process runs on own processor, all connected with networ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P-Processes (k+1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ch runs program for state machin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teracts with s-processes to read and write data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any fail (if any disagreement), then all STOP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nnot detect k+1 failur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Implementation Continued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S-Processes (2k+1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ach contains contents of stable stor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s reliable data with k failu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(cannot just stop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tects disagreements/failures across p-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Messages can be authenticated (digital signature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Byzantine agreement protocol??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igned messag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Requires k+1 process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ynchronized clocks across all processes in FS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SP Algorithm: Write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Each p-process, on a writ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yzantine agreement across s-processes (agree on same input valu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Each s-process, on a write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nsure each p-process writes same value within time boun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all okay, then update value in stable stor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f not, then halt all p-process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t failed variable to tru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Do not allow future write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SP Algorithm: Read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Each p-process, on a read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roadcast request to all s-processe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e result from majority (k+1 out of 2k+1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ther FSP can read as wel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Each p-process, determine if halted/failed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ad failed variable from s-process (use majority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SP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k=2, SM code: “b=a+1”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76520" y="2133720"/>
            <a:ext cx="5333400" cy="1600200"/>
            <a:chOff x="1676520" y="2133720"/>
            <a:chExt cx="5333400" cy="1600200"/>
          </a:xfrm>
        </p:grpSpPr>
        <p:sp>
          <p:nvSpPr>
            <p:cNvPr id="97" name=""/>
            <p:cNvSpPr/>
            <p:nvPr/>
          </p:nvSpPr>
          <p:spPr>
            <a:xfrm>
              <a:off x="167652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1916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4440" y="2133720"/>
              <a:ext cx="6854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652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1916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8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3276720"/>
              <a:ext cx="685440" cy="457200"/>
            </a:xfrm>
            <a:prstGeom prst="rect">
              <a:avLst/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8600" y="4572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9625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p-processes read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2 s-processes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3 s-processes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ow do p-processes write 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1 p-process is very s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1 p-process gives incorrect results to al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1 p-process gives incorrect results to so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at if 3 p-processes give bad resu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3200400"/>
            <a:ext cx="112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fail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00" y="213372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960" y="32004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igher-Level Exampl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Goal: Run app handling k faults, needs N good processo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lution: Use N+k k-failstop processo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ample: N=2, k=3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71600" y="2819520"/>
            <a:ext cx="6324120" cy="1828800"/>
            <a:chOff x="1371600" y="2819520"/>
            <a:chExt cx="6324120" cy="1828800"/>
          </a:xfrm>
        </p:grpSpPr>
        <p:sp>
          <p:nvSpPr>
            <p:cNvPr id="113" name=""/>
            <p:cNvSpPr/>
            <p:nvPr/>
          </p:nvSpPr>
          <p:spPr>
            <a:xfrm>
              <a:off x="1371600" y="2819520"/>
              <a:ext cx="99036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2840" y="2819520"/>
              <a:ext cx="99036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8480" y="2819520"/>
              <a:ext cx="99000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3760" y="2819520"/>
              <a:ext cx="99036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05360" y="2819520"/>
              <a:ext cx="99036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FSP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388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708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36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33960" y="3733920"/>
              <a:ext cx="609120" cy="914400"/>
            </a:xfrm>
            <a:prstGeom prst="can">
              <a:avLst>
                <a:gd name="adj" fmla="val 25000"/>
              </a:avLst>
            </a:prstGeom>
            <a:solidFill>
              <a:srgbClr val="af6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halkboard"/>
                </a:rPr>
                <a:t>SS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4920" y="47242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s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 p-processes in FSP0 fail? 4 p-processes in FSP0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 p-process in FSP0, FSP1, and FSP2 fail? also in FSP3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 p-processes in FSP0, FSP1, and FSP2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 s-process in SS0 fails? also in SS1, SS2, and SS3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4 s-processes in SS0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hould we use </a:t>
            </a:r>
            <a:br>
              <a:rPr sz="4000"/>
            </a:b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ail Stop Processors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Metric: Hardware cost for state machines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 component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Worst-case (assuming 1 process per processor):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N+k) * (3k+2) processor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est-case (assuming s-processes from different FSP share same processor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N+k)(k+1) + (2k+1) processors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yzantine components: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halkboar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N * (2k+1)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 can be better if s-processes share and N&gt;k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Metric: Frequency of byzantine agreement protoco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ail-Stop: On every access to stable stor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yzantine: On every input rea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bably fewer input read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Summary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Why build fail-stop components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asier for higher layers to model and deal with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tches assumptions of many distributed protocol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ually more hardwar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Usually more agreements need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igher-levels may be able to cope with “slightly faulty” componen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nd-to-end argumen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Motivation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Goal: Build systems that continue to work in presence of component failur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ifficulty of building those systems depends upon </a:t>
            </a: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components can fail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ail-stop components make building reliable systems easier than components with byzantine failure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Fail-Stop Processors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 failur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utput (or behavior) that is inconsistent with specific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Byzantine failur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rbitrary, even malicious, behavio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ponents may collude with each oth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not necessarily detect output is faulty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is a </a:t>
            </a: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fail-stop processor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lts instead of performing erroneous transformation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thers can detect halted stat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ther can obtain uncorrupted stable storag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al processors are not fail-stop; How will we build one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uilding with fail-stop processors is easier; Why?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43400" y="3276720"/>
            <a:ext cx="2971800" cy="1447560"/>
          </a:xfrm>
          <a:prstGeom prst="ellips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Distributed State Machine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mon approach for building reliable system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dea: Replicate servers, coordinate client interactions with replica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ailure model of components determines how many replicas, R, are needed and their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3733920"/>
            <a:ext cx="6094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733920"/>
            <a:ext cx="6094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3733920"/>
            <a:ext cx="6098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20040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959200"/>
            <a:ext cx="2210040" cy="317520"/>
          </a:xfrm>
          <a:custGeom>
            <a:avLst/>
            <a:gdLst/>
            <a:ahLst/>
            <a:rect l="l" t="t" r="r" b="b"/>
            <a:pathLst>
              <a:path w="1392" h="200">
                <a:moveTo>
                  <a:pt x="0" y="200"/>
                </a:moveTo>
                <a:cubicBezTo>
                  <a:pt x="244" y="108"/>
                  <a:pt x="488" y="16"/>
                  <a:pt x="720" y="8"/>
                </a:cubicBezTo>
                <a:cubicBezTo>
                  <a:pt x="952" y="0"/>
                  <a:pt x="1172" y="76"/>
                  <a:pt x="1392" y="152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99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input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743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67ff"/>
                </a:solidFill>
                <a:latin typeface="Chalkboard"/>
              </a:rPr>
              <a:t>Stat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434340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halkboard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91320" y="4724280"/>
            <a:ext cx="2209680" cy="152640"/>
          </a:xfrm>
          <a:custGeom>
            <a:avLst/>
            <a:gdLst/>
            <a:ahLst/>
            <a:rect l="l" t="t" r="r" b="b"/>
            <a:pathLst>
              <a:path w="1392" h="200">
                <a:moveTo>
                  <a:pt x="0" y="200"/>
                </a:moveTo>
                <a:cubicBezTo>
                  <a:pt x="244" y="108"/>
                  <a:pt x="488" y="16"/>
                  <a:pt x="720" y="8"/>
                </a:cubicBezTo>
                <a:cubicBezTo>
                  <a:pt x="952" y="0"/>
                  <a:pt x="1172" y="76"/>
                  <a:pt x="1392" y="152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6120" y="3333600"/>
            <a:ext cx="622440" cy="393840"/>
          </a:xfrm>
          <a:custGeom>
            <a:avLst/>
            <a:gdLst/>
            <a:ahLst/>
            <a:rect l="l" t="t" r="r" b="b"/>
            <a:pathLst>
              <a:path w="392" h="248">
                <a:moveTo>
                  <a:pt x="252" y="2"/>
                </a:moveTo>
                <a:cubicBezTo>
                  <a:pt x="293" y="5"/>
                  <a:pt x="335" y="0"/>
                  <a:pt x="375" y="13"/>
                </a:cubicBezTo>
                <a:cubicBezTo>
                  <a:pt x="385" y="16"/>
                  <a:pt x="392" y="34"/>
                  <a:pt x="386" y="43"/>
                </a:cubicBezTo>
                <a:cubicBezTo>
                  <a:pt x="377" y="54"/>
                  <a:pt x="358" y="50"/>
                  <a:pt x="345" y="54"/>
                </a:cubicBezTo>
                <a:cubicBezTo>
                  <a:pt x="327" y="64"/>
                  <a:pt x="309" y="72"/>
                  <a:pt x="293" y="84"/>
                </a:cubicBezTo>
                <a:cubicBezTo>
                  <a:pt x="275" y="96"/>
                  <a:pt x="260" y="113"/>
                  <a:pt x="242" y="125"/>
                </a:cubicBezTo>
                <a:cubicBezTo>
                  <a:pt x="192" y="156"/>
                  <a:pt x="114" y="161"/>
                  <a:pt x="57" y="177"/>
                </a:cubicBezTo>
                <a:cubicBezTo>
                  <a:pt x="50" y="187"/>
                  <a:pt x="45" y="198"/>
                  <a:pt x="37" y="207"/>
                </a:cubicBezTo>
                <a:cubicBezTo>
                  <a:pt x="0" y="243"/>
                  <a:pt x="6" y="209"/>
                  <a:pt x="6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40240" y="3271680"/>
            <a:ext cx="622440" cy="473400"/>
          </a:xfrm>
          <a:custGeom>
            <a:avLst/>
            <a:gdLst/>
            <a:ahLst/>
            <a:rect l="l" t="t" r="r" b="b"/>
            <a:pathLst>
              <a:path w="392" h="298">
                <a:moveTo>
                  <a:pt x="0" y="0"/>
                </a:moveTo>
                <a:cubicBezTo>
                  <a:pt x="189" y="11"/>
                  <a:pt x="150" y="3"/>
                  <a:pt x="287" y="52"/>
                </a:cubicBezTo>
                <a:cubicBezTo>
                  <a:pt x="300" y="62"/>
                  <a:pt x="317" y="69"/>
                  <a:pt x="328" y="82"/>
                </a:cubicBezTo>
                <a:cubicBezTo>
                  <a:pt x="392" y="159"/>
                  <a:pt x="270" y="67"/>
                  <a:pt x="369" y="134"/>
                </a:cubicBezTo>
                <a:cubicBezTo>
                  <a:pt x="345" y="148"/>
                  <a:pt x="316" y="155"/>
                  <a:pt x="297" y="175"/>
                </a:cubicBezTo>
                <a:cubicBezTo>
                  <a:pt x="279" y="192"/>
                  <a:pt x="256" y="236"/>
                  <a:pt x="256" y="236"/>
                </a:cubicBezTo>
                <a:cubicBezTo>
                  <a:pt x="263" y="256"/>
                  <a:pt x="277" y="298"/>
                  <a:pt x="277" y="2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54720" y="3352680"/>
            <a:ext cx="1022400" cy="374760"/>
          </a:xfrm>
          <a:custGeom>
            <a:avLst/>
            <a:gdLst/>
            <a:ahLst/>
            <a:rect l="l" t="t" r="r" b="b"/>
            <a:pathLst>
              <a:path w="718" h="297">
                <a:moveTo>
                  <a:pt x="0" y="10"/>
                </a:moveTo>
                <a:cubicBezTo>
                  <a:pt x="215" y="20"/>
                  <a:pt x="432" y="0"/>
                  <a:pt x="646" y="31"/>
                </a:cubicBezTo>
                <a:cubicBezTo>
                  <a:pt x="663" y="33"/>
                  <a:pt x="653" y="64"/>
                  <a:pt x="656" y="82"/>
                </a:cubicBezTo>
                <a:cubicBezTo>
                  <a:pt x="667" y="155"/>
                  <a:pt x="657" y="242"/>
                  <a:pt x="718" y="2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00680" y="4184640"/>
            <a:ext cx="928800" cy="536760"/>
          </a:xfrm>
          <a:custGeom>
            <a:avLst/>
            <a:gdLst/>
            <a:ahLst/>
            <a:rect l="l" t="t" r="r" b="b"/>
            <a:pathLst>
              <a:path w="585" h="338">
                <a:moveTo>
                  <a:pt x="0" y="0"/>
                </a:moveTo>
                <a:cubicBezTo>
                  <a:pt x="20" y="23"/>
                  <a:pt x="32" y="60"/>
                  <a:pt x="62" y="71"/>
                </a:cubicBezTo>
                <a:cubicBezTo>
                  <a:pt x="116" y="90"/>
                  <a:pt x="186" y="52"/>
                  <a:pt x="236" y="82"/>
                </a:cubicBezTo>
                <a:cubicBezTo>
                  <a:pt x="269" y="101"/>
                  <a:pt x="235" y="171"/>
                  <a:pt x="267" y="194"/>
                </a:cubicBezTo>
                <a:cubicBezTo>
                  <a:pt x="352" y="256"/>
                  <a:pt x="310" y="235"/>
                  <a:pt x="390" y="266"/>
                </a:cubicBezTo>
                <a:cubicBezTo>
                  <a:pt x="415" y="263"/>
                  <a:pt x="510" y="235"/>
                  <a:pt x="544" y="276"/>
                </a:cubicBezTo>
                <a:cubicBezTo>
                  <a:pt x="553" y="286"/>
                  <a:pt x="546" y="305"/>
                  <a:pt x="554" y="317"/>
                </a:cubicBezTo>
                <a:cubicBezTo>
                  <a:pt x="560" y="327"/>
                  <a:pt x="585" y="338"/>
                  <a:pt x="585" y="3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11840" y="4216320"/>
            <a:ext cx="468360" cy="505080"/>
          </a:xfrm>
          <a:custGeom>
            <a:avLst/>
            <a:gdLst/>
            <a:ahLst/>
            <a:rect l="l" t="t" r="r" b="b"/>
            <a:pathLst>
              <a:path w="295" h="318">
                <a:moveTo>
                  <a:pt x="0" y="0"/>
                </a:moveTo>
                <a:cubicBezTo>
                  <a:pt x="26" y="15"/>
                  <a:pt x="57" y="23"/>
                  <a:pt x="82" y="41"/>
                </a:cubicBezTo>
                <a:cubicBezTo>
                  <a:pt x="97" y="52"/>
                  <a:pt x="107" y="70"/>
                  <a:pt x="123" y="82"/>
                </a:cubicBezTo>
                <a:cubicBezTo>
                  <a:pt x="151" y="102"/>
                  <a:pt x="191" y="97"/>
                  <a:pt x="226" y="103"/>
                </a:cubicBezTo>
                <a:cubicBezTo>
                  <a:pt x="243" y="109"/>
                  <a:pt x="262" y="111"/>
                  <a:pt x="277" y="123"/>
                </a:cubicBezTo>
                <a:cubicBezTo>
                  <a:pt x="285" y="129"/>
                  <a:pt x="295" y="146"/>
                  <a:pt x="288" y="154"/>
                </a:cubicBezTo>
                <a:cubicBezTo>
                  <a:pt x="275" y="166"/>
                  <a:pt x="253" y="161"/>
                  <a:pt x="236" y="164"/>
                </a:cubicBezTo>
                <a:cubicBezTo>
                  <a:pt x="43" y="192"/>
                  <a:pt x="248" y="156"/>
                  <a:pt x="93" y="185"/>
                </a:cubicBezTo>
                <a:cubicBezTo>
                  <a:pt x="72" y="198"/>
                  <a:pt x="25" y="201"/>
                  <a:pt x="31" y="226"/>
                </a:cubicBezTo>
                <a:cubicBezTo>
                  <a:pt x="38" y="256"/>
                  <a:pt x="52" y="286"/>
                  <a:pt x="52" y="3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77000" y="4232160"/>
            <a:ext cx="765000" cy="439920"/>
          </a:xfrm>
          <a:custGeom>
            <a:avLst/>
            <a:gdLst/>
            <a:ahLst/>
            <a:rect l="l" t="t" r="r" b="b"/>
            <a:pathLst>
              <a:path w="482" h="277">
                <a:moveTo>
                  <a:pt x="482" y="0"/>
                </a:moveTo>
                <a:cubicBezTo>
                  <a:pt x="466" y="64"/>
                  <a:pt x="443" y="52"/>
                  <a:pt x="400" y="103"/>
                </a:cubicBezTo>
                <a:cubicBezTo>
                  <a:pt x="347" y="163"/>
                  <a:pt x="395" y="127"/>
                  <a:pt x="339" y="164"/>
                </a:cubicBezTo>
                <a:cubicBezTo>
                  <a:pt x="326" y="183"/>
                  <a:pt x="308" y="213"/>
                  <a:pt x="288" y="226"/>
                </a:cubicBezTo>
                <a:cubicBezTo>
                  <a:pt x="222" y="266"/>
                  <a:pt x="70" y="277"/>
                  <a:pt x="0" y="2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w to build t-fault tolerant state machin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-fault tolerant: Satisfies specification as long as no more than t components (servers) fai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y: All replicas receive and process same sequence of inpu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Agreement: Every nonfaulty replica receives sam request (interactive consistency or byzantine agreemen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Ordering: Every nonfaulty replica processes requests in same order (logical clock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4952880"/>
          <a:ext cx="6477120" cy="149868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6002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yzan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ail-S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of SM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Number of replica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w to build t-fault tolerant state machin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-fault tolerant: Satisfies specification as long as no more than t components (servers) fai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y: All replicas receive and process same sequence of inpu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Agreement: Every nonfaulty replica receives sam request (interactive consistency or byzantine agreemen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Ordering: Every nonfaulty replica processes requests in same order (logical clock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66680" y="4952880"/>
          <a:ext cx="6477120" cy="184176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6002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yzan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ail-S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of SM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of majo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Number of replica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w to build t-fault tolerant state machin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-fault tolerant: Satisfies specification as long as no more than t components (servers) fai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y: All replicas receive and process same sequence of inpu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Agreement: Every nonfaulty replica receives sam request (interactive consistency or byzantine agreemen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Ordering: Every nonfaulty replica processes requests in same order (logical clock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4952880"/>
          <a:ext cx="6477120" cy="184176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6002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yzan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ail-S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of SM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of majo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Number of replica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t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w to build t-fault tolerant state machin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-fault tolerant: Satisfies specification as long as no more than t components (servers) fai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y: All replicas receive and process same sequence of inpu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Agreement: Every nonfaulty replica receives sam request (interactive consistency or byzantine agreemen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Ordering: Every nonfaulty replica processes requests in same order (logical clock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4952880"/>
          <a:ext cx="6477120" cy="184176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6002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yzan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ail-S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of SM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of majo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from 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Number of replica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t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Chalkboard"/>
              </a:rPr>
              <a:t>How to build t-fault tolerant state machine?</a:t>
            </a:r>
            <a:endParaRPr b="0" lang="en-US" sz="4000" spc="-1" strike="noStrike">
              <a:solidFill>
                <a:srgbClr val="af67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t-fault tolerant: Satisfies specification as long as no more than t components (servers) fail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Key: All replicas receive and process same sequence of inpu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) Agreement: Every nonfaulty replica receives same request (interactive consistency or byzantine agreemen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) Ordering: Every nonfaulty replica processes requests in same order (logical clocks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4952880"/>
          <a:ext cx="6477120" cy="184176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6002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Byzan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Fail-S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of SM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of majo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Output from 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Number of replica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2t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t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2-10T03:29:41Z</dcterms:created>
  <dc:creator>Andrea Arpaci-Dusseau</dc:creator>
  <dc:description/>
  <dc:language>en-US</dc:language>
  <cp:lastModifiedBy>Andrea Arpaci-Dusseau</cp:lastModifiedBy>
  <cp:lastPrinted>1970-01-04T00:48:46Z</cp:lastPrinted>
  <dcterms:modified xsi:type="dcterms:W3CDTF">1970-01-01T03:27:11Z</dcterms:modified>
  <cp:revision>14</cp:revision>
  <dc:subject/>
  <dc:title>Introduction and Overview</dc:title>
</cp:coreProperties>
</file>