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522-6721-4AE5-A415-DC02C224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203-EBE7-46C0-8729-7702F9C3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DB6-727E-4670-A643-0CEFBB2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623-9EAE-4227-927D-1AB982BD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09B-E591-41B5-AAA3-892DAF2E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E5D-363C-4A60-B7BC-ADA9BB3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942-53B7-4813-B867-DF76490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2BA-389D-4A1F-9ED1-5BA029BE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8E0-49F6-433F-95CE-DAF310B5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A64-E770-4A02-8EB8-0D30D68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40E-E5C7-464D-9414-63F7A8E2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B92-1AF7-413F-8AD3-0E45807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FAB-F22A-46DC-9388-9B2E4D2F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dering of Events in Distributed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8305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pap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ime, Clocks, and the Ordering of Events in a Distribu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Snapshots: Determining Global States of Distribu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tate Machin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Mutual exclus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rocess runs same distributed algorith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ies upon total ordering of reque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reed upon by all participa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be used to ensure all see events (inputs) in same order and therefore make same decis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timestamped request to all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ndle next request in total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 know next request, must have received request from all possible participa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blem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hys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Can observe anomalous behavior if other communication channels exist between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ful to have physical clock with meaning in physical worl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ynchronize independent physical clocks, each running at slightly different rates (skew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ementation Idea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timestamp with each messag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iver may update clock to timestamp+minimal network dela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ock must always increas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ts of work in this are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napsho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nt to record global state of distributed system (i.e., state of each process, state of each communication channel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ful so can observe system proper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putation terminated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ystem deadlocked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umber of token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mount of money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ication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tributed system has no shared state nor shared c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record global state simultaneously everywhe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snapshot: Record local state at different times and combine into meaningful pic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btain cut in logical time, remain consistent by preserving logical ordering  (if not ordering in physical tim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Mode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tributed system: Finite set of processes and channels; described by graph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t of states, initial state, set of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anne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FO, error-free, infinite buffers, arbitrary but finite dela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napshot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Record local state (each process plus adjoining channels) that produces a “meaningful” global system stat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marker along channels to show which messages were sent before snapshot take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iver records messages in channel before mark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itial: Some process decides to initiate snapshot (performed periodicall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rker Ru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rker-sending rule for p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marker along each channel (after recording state of p) before sending more mess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rking-receiving rule for q on channel c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q has not recorded state yet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q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c as emp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q has recorded state alread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c as the msg sequence that arrived since it recorded its st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state recorded of all processes and all channe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have algorithm to collect and assemble information to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609588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able prope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7760" y="1204920"/>
            <a:ext cx="7927200" cy="4662360"/>
            <a:chOff x="617760" y="1204920"/>
            <a:chExt cx="7927200" cy="4662360"/>
          </a:xfrm>
        </p:grpSpPr>
        <p:sp>
          <p:nvSpPr>
            <p:cNvPr id="129" name=""/>
            <p:cNvSpPr/>
            <p:nvPr/>
          </p:nvSpPr>
          <p:spPr>
            <a:xfrm>
              <a:off x="1143000" y="1676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2400" y="1752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1600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1828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2666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2362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419360" y="2133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42640" y="2666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419360" y="3657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760" y="1204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22600" y="1219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55280" y="1219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6080" y="1905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2819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2133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888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2438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2590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33600" y="1447920"/>
            <a:ext cx="7927200" cy="4662360"/>
            <a:chOff x="633600" y="1447920"/>
            <a:chExt cx="7927200" cy="4662360"/>
          </a:xfrm>
        </p:grpSpPr>
        <p:sp>
          <p:nvSpPr>
            <p:cNvPr id="150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600" y="1447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38440" y="1462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71120" y="1462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1920" y="2148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95680" y="2895480"/>
            <a:ext cx="327672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248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 state: $20+1-3 = 18, empty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33600" y="1447920"/>
            <a:ext cx="7927200" cy="4662360"/>
            <a:chOff x="633600" y="1447920"/>
            <a:chExt cx="7927200" cy="4662360"/>
          </a:xfrm>
        </p:grpSpPr>
        <p:sp>
          <p:nvSpPr>
            <p:cNvPr id="174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3600" y="1447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38440" y="1462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71120" y="1462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1920" y="2148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495680" y="2895480"/>
            <a:ext cx="327672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1 state: $10-1-3=6, empty channel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3 state: $30-2-5-4+3=22, empty channel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otal mone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33600" y="1447920"/>
            <a:ext cx="7927200" cy="4662360"/>
            <a:chOff x="633600" y="1447920"/>
            <a:chExt cx="7927200" cy="4662360"/>
          </a:xfrm>
        </p:grpSpPr>
        <p:sp>
          <p:nvSpPr>
            <p:cNvPr id="198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600" y="1447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38440" y="1462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71120" y="1462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1920" y="2148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715000"/>
            <a:ext cx="8153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f want to develop distributed algorithm (and have all participants come to same conclusion), it helps if all see inputs in same orde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now when an event precedes another in a distributed syste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metimes impossible to tell; sometimes it doesn’t mat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event A occurs on machine 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event B occurs on machine B,</a:t>
            </a:r>
            <a:br>
              <a:rPr sz="2000"/>
            </a:b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but there is no communication between A and B,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en did event A or event B happen first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33600" y="1447920"/>
            <a:ext cx="7927200" cy="4662360"/>
            <a:chOff x="633600" y="1447920"/>
            <a:chExt cx="7927200" cy="4662360"/>
          </a:xfrm>
        </p:grpSpPr>
        <p:sp>
          <p:nvSpPr>
            <p:cNvPr id="226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600" y="1447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38440" y="1462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71120" y="1462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1920" y="2148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5483160"/>
            <a:ext cx="30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2 from p1: noth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2 f p3: 4 +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3 f p1: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1 f p3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867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ctual stat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6, p2: 18, p3: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3600" y="1447920"/>
            <a:ext cx="7927200" cy="4662360"/>
            <a:chOff x="633600" y="1447920"/>
            <a:chExt cx="7927200" cy="4662360"/>
          </a:xfrm>
        </p:grpSpPr>
        <p:sp>
          <p:nvSpPr>
            <p:cNvPr id="255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600" y="14479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38440" y="1462320"/>
              <a:ext cx="13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1120" y="14623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1920" y="2148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60958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 p2 from p3: Never $2 and $4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perties of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corded Global Stat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ed global state, S*, may not have occur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it bothers you that S* doesn’t actually exist..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iven a permutation of the actual sequence of ev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* is reachable from Sin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final is reachable from S*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ble properties will hold in S* as we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permute sequence of ev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Want snapshot to correspond to single logical c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ide events so snapshots taken at same “logical time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me events across processes will switch order with oth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ecifically, postrecorded events and prerecorded event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erecorded events occurred before state of p was reco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4" name=""/>
          <p:cNvSpPr/>
          <p:nvPr/>
        </p:nvSpPr>
        <p:spPr>
          <a:xfrm>
            <a:off x="1158840" y="191916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88240" y="1995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35560" y="18432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58840" y="2071800"/>
            <a:ext cx="32767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8840" y="2909880"/>
            <a:ext cx="670572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35560" y="2604960"/>
            <a:ext cx="3276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35200" y="237636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58480" y="2909880"/>
            <a:ext cx="662940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419360" y="388620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3600" y="14479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38440" y="1461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: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71120" y="146196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3:  $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1920" y="2147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3062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11520" y="237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54720" y="2147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07360" y="26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07360" y="3595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9240" y="2833560"/>
            <a:ext cx="152280" cy="15264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520" y="6019920"/>
            <a:ext cx="8844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Need to swap sending $4 from p3 and receiving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ill logically consistent; could not observ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3809880"/>
            <a:ext cx="7632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3276720"/>
            <a:ext cx="7596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12800" y="3649680"/>
            <a:ext cx="62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2560" y="320040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erminolog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Distributed system: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 collection of distinct processes which are spatially separated and which communicate with one another by exchanging mess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this differ from our previous definitio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 sequence of events (instructions, sending messages, receiving message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events within a process have a total orde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rtial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ppened before: -&g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 and b are events in the same process, and a comes before b, then a-&gt;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 is the sending of a message by a process and b is receiving that message, then a-&gt;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-&gt;b and b-&gt;c then a-&gt;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-&gt;b: It is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a to causally affect 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current: ‡&g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 a ‡&gt; b and b ‡&gt; a, then do not know ordering between a and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t is not possible for a to causally affect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pace-Time Diagra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5840" y="17445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68640" y="1981080"/>
            <a:ext cx="5573520" cy="3842640"/>
            <a:chOff x="1268640" y="1981080"/>
            <a:chExt cx="5573520" cy="3842640"/>
          </a:xfrm>
        </p:grpSpPr>
        <p:sp>
          <p:nvSpPr>
            <p:cNvPr id="56" name=""/>
            <p:cNvSpPr/>
            <p:nvPr/>
          </p:nvSpPr>
          <p:spPr>
            <a:xfrm>
              <a:off x="1752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4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752480" y="4800240"/>
              <a:ext cx="2210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962520" y="2285640"/>
              <a:ext cx="228600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962520" y="3047760"/>
              <a:ext cx="2286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52120" y="4495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752120" y="2209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962520" y="2209320"/>
              <a:ext cx="228600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68640" y="53341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8800" y="4419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88800" y="32004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88800" y="2133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34440" y="54864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0200" y="46483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4240" y="41148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7040" y="35812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0200" y="31240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73000" y="25909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7040" y="2133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61640" y="53341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4760" y="37339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4760" y="21337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4760" y="297180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69280" y="595296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s the relationship between (p3,q3)? (p1,q3)? (p2,q3)? (q3,r4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g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bstract view: Logical clock is a way of assigning a number to an event to express orde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relation between logical clock and physical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ock Ci for process Pi is a function which assigns a number Ci(a) to any event a in P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ock condition: For any events a, b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a-&gt;b, then C(a) &lt; C(b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verse condition does not hol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Can’t say concurrent events have same logical tim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of Log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R1.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rocess Pi increments Ci between any two successive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R2. 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a) If event a is the sending of message m by process Pi, then m contains a timestamp Tm=Ci(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b) Upon receiving m, process Pj sets Cj greater than or equal to its presents value and greater than Tm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gical Clocks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68640" y="1981080"/>
            <a:ext cx="5573520" cy="3842640"/>
            <a:chOff x="1268640" y="1981080"/>
            <a:chExt cx="5573520" cy="3842640"/>
          </a:xfrm>
        </p:grpSpPr>
        <p:sp>
          <p:nvSpPr>
            <p:cNvPr id="87" name=""/>
            <p:cNvSpPr/>
            <p:nvPr/>
          </p:nvSpPr>
          <p:spPr>
            <a:xfrm>
              <a:off x="1752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6252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24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752480" y="4800240"/>
              <a:ext cx="2210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62520" y="2285640"/>
              <a:ext cx="228600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962520" y="3047760"/>
              <a:ext cx="2286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1752120" y="4495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1752120" y="2209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3962520" y="2209320"/>
              <a:ext cx="228600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68640" y="53341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88800" y="4419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88800" y="32004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8800" y="2133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34440" y="54864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0200" y="46483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54240" y="41148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97040" y="35812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0200" y="312408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73000" y="25909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7040" y="2133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53341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4760" y="37339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4760" y="213372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4760" y="297180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5943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logical clock values are possible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e initial C(p1)=5, C(q1)=50, C(r1)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otal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logical clocks to obtain total ordering across all processes and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=&gt; b if and only if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Ci(a) &lt; Cj(b)  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Ci(a) = Cj(b) and Pi &lt; Pj  (i.e., use process ids to break ti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rtial ordering is unique, but total ordering is not!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current operations can go in any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pends upon implementation of each Ci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pends upon tie breaking ru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4T00:48:46Z</cp:lastPrinted>
  <dcterms:modified xsi:type="dcterms:W3CDTF">1970-01-02T20:23:24Z</dcterms:modified>
  <cp:revision>10</cp:revision>
  <dc:subject/>
  <dc:title>Introduction and Overview</dc:title>
</cp:coreProperties>
</file>