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83A-28EF-47B4-B7FE-89140FA5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41A-2BE2-45E5-8E2F-95AD99D7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0B4-64BF-4580-97B2-1DDA249A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510-17B4-4B19-B906-29D1E248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241-6885-45E1-8E47-9EDD10EB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7B2-ED4F-49A6-8226-BF9EB122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398-BA6A-4873-9F6B-1B0A7173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56F-6D60-48CC-8260-731EC0E6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BE6-D0EF-43EF-84C3-B9B1E6FB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F29-322A-4209-BF1F-63E95EF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E05-33D4-42A8-AAB5-EFFF22F7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55E-FB82-4992-A27C-CF57A440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8052-5549-4287-AE30-2A4894C6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greement: Byzantine Genera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73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Distribute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95480"/>
            <a:ext cx="83059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Byzantine Generals Problem”, by Lamport, Shostak, Pease, In </a:t>
            </a:r>
            <a:r>
              <a:rPr b="0" i="1" lang="en-US" sz="2400" spc="-1" strike="noStrike">
                <a:solidFill>
                  <a:srgbClr val="000000"/>
                </a:solidFill>
                <a:latin typeface="Chalkboard"/>
              </a:rPr>
              <a:t>ACM Transactions on Programming Languages and System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July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we need agre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gorithm steps through ex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igger Picture: How to handle malicious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lay variant of Mafia/Werew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ption 2: Loyal L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429000"/>
            <a:ext cx="76176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17680" y="3316320"/>
            <a:ext cx="76212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39920" y="1676520"/>
            <a:ext cx="23623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6720" y="17128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3560" y="2779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74000" y="3657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5080" y="33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2200" y="33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59040" y="2286000"/>
            <a:ext cx="1447920" cy="99072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11320" y="3428280"/>
            <a:ext cx="2133720" cy="15228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572000" y="2286000"/>
            <a:ext cx="914400" cy="106668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6960" y="2514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832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What must L1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802800" y="5294160"/>
            <a:ext cx="107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y IC1: L1 and L2 must obey same order --&gt; L1 must 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830520" y="6056280"/>
            <a:ext cx="91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L1 can’t distinguish between 2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General Impossibility Resul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o solution with fewer than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3m+1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generals can cope with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traitor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halkboard"/>
              </a:rPr>
              <a:t>&lt; see paper for details &gt;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ral Messag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1) Every message sent is delivered correctl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it is not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2) Receiver knows who sent messag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scenarios is this true for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3) Absence of message can be detect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can this be don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ral Message Algorith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M(m), m&gt;0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 sends his value to every lieutena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le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be value Lieutenant i receives from commander; act as commander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M(m-1)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nd s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other lieutena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nd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 not 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le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j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be value Lie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eceived from Lie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.  Lieut i comput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jority(v1,...,vn-1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M(0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 sends his value to every lieutena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Bad Lieutenan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1, n=4, traitor = L3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362320" y="2133720"/>
            <a:ext cx="3657600" cy="1600200"/>
            <a:chOff x="2362320" y="2133720"/>
            <a:chExt cx="3657600" cy="1600200"/>
          </a:xfrm>
        </p:grpSpPr>
        <p:sp>
          <p:nvSpPr>
            <p:cNvPr id="144" name=""/>
            <p:cNvSpPr/>
            <p:nvPr/>
          </p:nvSpPr>
          <p:spPr>
            <a:xfrm>
              <a:off x="3733920" y="2133720"/>
              <a:ext cx="76176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2320" y="3124080"/>
              <a:ext cx="7617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57800" y="3048120"/>
              <a:ext cx="76212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3048120"/>
              <a:ext cx="76212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66880" y="2590920"/>
              <a:ext cx="1143000" cy="533160"/>
            </a:xfrm>
            <a:custGeom>
              <a:avLst/>
              <a:gdLst/>
              <a:ahLst/>
              <a:rect l="l" t="t" r="r" b="b"/>
              <a:pathLst>
                <a:path w="720" h="336">
                  <a:moveTo>
                    <a:pt x="720" y="0"/>
                  </a:moveTo>
                  <a:cubicBezTo>
                    <a:pt x="516" y="44"/>
                    <a:pt x="312" y="88"/>
                    <a:pt x="192" y="144"/>
                  </a:cubicBezTo>
                  <a:cubicBezTo>
                    <a:pt x="72" y="200"/>
                    <a:pt x="36" y="268"/>
                    <a:pt x="0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19720" y="2590920"/>
              <a:ext cx="1295280" cy="380880"/>
            </a:xfrm>
            <a:custGeom>
              <a:avLst/>
              <a:gdLst/>
              <a:ahLst/>
              <a:rect l="l" t="t" r="r" b="b"/>
              <a:pathLst>
                <a:path w="720" h="336">
                  <a:moveTo>
                    <a:pt x="720" y="0"/>
                  </a:moveTo>
                  <a:cubicBezTo>
                    <a:pt x="516" y="44"/>
                    <a:pt x="312" y="88"/>
                    <a:pt x="192" y="144"/>
                  </a:cubicBezTo>
                  <a:cubicBezTo>
                    <a:pt x="72" y="200"/>
                    <a:pt x="36" y="268"/>
                    <a:pt x="0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038480" y="2743200"/>
              <a:ext cx="76320" cy="457200"/>
            </a:xfrm>
            <a:custGeom>
              <a:avLst/>
              <a:gdLst/>
              <a:ahLst/>
              <a:rect l="l" t="t" r="r" b="b"/>
              <a:pathLst>
                <a:path w="720" h="336">
                  <a:moveTo>
                    <a:pt x="720" y="0"/>
                  </a:moveTo>
                  <a:cubicBezTo>
                    <a:pt x="516" y="44"/>
                    <a:pt x="312" y="88"/>
                    <a:pt x="192" y="144"/>
                  </a:cubicBezTo>
                  <a:cubicBezTo>
                    <a:pt x="72" y="200"/>
                    <a:pt x="36" y="268"/>
                    <a:pt x="0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8160" y="2362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9920" y="2666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37840" y="2362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8640" y="2550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M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760" y="4684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OM(0):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39625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4952880"/>
            <a:ext cx="7621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8769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8769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661840" y="4724280"/>
            <a:ext cx="3352680" cy="1602720"/>
            <a:chOff x="2661840" y="4724280"/>
            <a:chExt cx="3352680" cy="1602720"/>
          </a:xfrm>
        </p:grpSpPr>
        <p:sp>
          <p:nvSpPr>
            <p:cNvPr id="161" name=""/>
            <p:cNvSpPr/>
            <p:nvPr/>
          </p:nvSpPr>
          <p:spPr>
            <a:xfrm>
              <a:off x="3119400" y="4940280"/>
              <a:ext cx="838080" cy="16524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67120" y="4724280"/>
              <a:ext cx="2514600" cy="24156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042360" y="5485680"/>
              <a:ext cx="1143000" cy="15228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67320" y="4952880"/>
              <a:ext cx="838080" cy="16524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4419000" y="5410080"/>
              <a:ext cx="1143000" cy="15264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2661480" y="5410080"/>
              <a:ext cx="3352680" cy="609840"/>
            </a:xfrm>
            <a:custGeom>
              <a:avLst/>
              <a:gdLst/>
              <a:ahLst/>
              <a:rect l="l" t="t" r="r" b="b"/>
              <a:pathLst>
                <a:path w="528" h="104">
                  <a:moveTo>
                    <a:pt x="0" y="104"/>
                  </a:moveTo>
                  <a:cubicBezTo>
                    <a:pt x="124" y="60"/>
                    <a:pt x="248" y="16"/>
                    <a:pt x="336" y="8"/>
                  </a:cubicBezTo>
                  <a:cubicBezTo>
                    <a:pt x="424" y="0"/>
                    <a:pt x="476" y="28"/>
                    <a:pt x="528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6640" y="495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5240" y="5562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25000" y="5867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6000" y="5257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-16560" y="6208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Decisi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15200" y="620856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 = m (A, A, R); L2 = m (A, A, R); Both atta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Bad Command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1, n=4, traitor = C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038480" y="2743200"/>
            <a:ext cx="76320" cy="45720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816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668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3784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8640" y="2550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M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760" y="4684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OM(0):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952880"/>
            <a:ext cx="7621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4876920"/>
            <a:ext cx="76176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48769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19400" y="49402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67120" y="4724280"/>
            <a:ext cx="2514600" cy="24156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042360" y="5485680"/>
            <a:ext cx="1143000" cy="15228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67320" y="49528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419000" y="5410080"/>
            <a:ext cx="1143000" cy="1526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661480" y="5410080"/>
            <a:ext cx="3352680" cy="6098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104"/>
                </a:moveTo>
                <a:cubicBezTo>
                  <a:pt x="124" y="60"/>
                  <a:pt x="248" y="16"/>
                  <a:pt x="336" y="8"/>
                </a:cubicBezTo>
                <a:cubicBezTo>
                  <a:pt x="424" y="0"/>
                  <a:pt x="476" y="28"/>
                  <a:pt x="528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6640" y="49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2000" y="556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4320" y="57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9240" y="525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16560" y="6208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Decisi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000" y="624852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=m(A, R, A); L2=m(A, R, A); L3=m(A,R,A); Atta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8232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94840" y="4343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igger Example: Bad Lieutenan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2, n=3m+1=7, traitors=L5, L6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038480" y="2743200"/>
            <a:ext cx="76320" cy="45720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80440" y="274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992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37840" y="274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43000" y="3048120"/>
            <a:ext cx="7391520" cy="685800"/>
            <a:chOff x="1143000" y="3048120"/>
            <a:chExt cx="7391520" cy="685800"/>
          </a:xfrm>
        </p:grpSpPr>
        <p:sp>
          <p:nvSpPr>
            <p:cNvPr id="214" name=""/>
            <p:cNvSpPr/>
            <p:nvPr/>
          </p:nvSpPr>
          <p:spPr>
            <a:xfrm>
              <a:off x="2362320" y="3124080"/>
              <a:ext cx="7617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2400" y="3048120"/>
              <a:ext cx="76212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9880" y="3048120"/>
              <a:ext cx="76212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77120" y="3124080"/>
              <a:ext cx="761760" cy="60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57800" y="3124080"/>
              <a:ext cx="76212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124080"/>
              <a:ext cx="76212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00200" y="2514600"/>
            <a:ext cx="2133720" cy="53352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884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494960" y="2362320"/>
            <a:ext cx="2133720" cy="7617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94960" y="2362320"/>
            <a:ext cx="3505320" cy="7617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2856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0472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90720" y="4495680"/>
            <a:ext cx="7390800" cy="685800"/>
            <a:chOff x="990720" y="4495680"/>
            <a:chExt cx="7390800" cy="685800"/>
          </a:xfrm>
        </p:grpSpPr>
        <p:sp>
          <p:nvSpPr>
            <p:cNvPr id="227" name=""/>
            <p:cNvSpPr/>
            <p:nvPr/>
          </p:nvSpPr>
          <p:spPr>
            <a:xfrm>
              <a:off x="2209680" y="4571640"/>
              <a:ext cx="76140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19760" y="4495680"/>
              <a:ext cx="76176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57240" y="4495680"/>
              <a:ext cx="76176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24480" y="4571640"/>
              <a:ext cx="761400" cy="60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05160" y="4571640"/>
              <a:ext cx="7617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90720" y="4571640"/>
              <a:ext cx="7617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999360" y="5181480"/>
            <a:ext cx="372240" cy="609840"/>
            <a:chOff x="999360" y="5181480"/>
            <a:chExt cx="372240" cy="609840"/>
          </a:xfrm>
        </p:grpSpPr>
        <p:sp>
          <p:nvSpPr>
            <p:cNvPr id="234" name=""/>
            <p:cNvSpPr/>
            <p:nvPr/>
          </p:nvSpPr>
          <p:spPr>
            <a:xfrm>
              <a:off x="137160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99360" y="5257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218320" y="5181480"/>
            <a:ext cx="372240" cy="609840"/>
            <a:chOff x="2218320" y="5181480"/>
            <a:chExt cx="372240" cy="609840"/>
          </a:xfrm>
        </p:grpSpPr>
        <p:sp>
          <p:nvSpPr>
            <p:cNvPr id="237" name=""/>
            <p:cNvSpPr/>
            <p:nvPr/>
          </p:nvSpPr>
          <p:spPr>
            <a:xfrm>
              <a:off x="259056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8320" y="5257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114160" y="5181480"/>
            <a:ext cx="372240" cy="609840"/>
            <a:chOff x="5114160" y="5181480"/>
            <a:chExt cx="372240" cy="609840"/>
          </a:xfrm>
        </p:grpSpPr>
        <p:sp>
          <p:nvSpPr>
            <p:cNvPr id="240" name=""/>
            <p:cNvSpPr/>
            <p:nvPr/>
          </p:nvSpPr>
          <p:spPr>
            <a:xfrm>
              <a:off x="548640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14160" y="5257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666240" y="5105520"/>
            <a:ext cx="372240" cy="609480"/>
            <a:chOff x="3666240" y="5105520"/>
            <a:chExt cx="372240" cy="609480"/>
          </a:xfrm>
        </p:grpSpPr>
        <p:sp>
          <p:nvSpPr>
            <p:cNvPr id="243" name=""/>
            <p:cNvSpPr/>
            <p:nvPr/>
          </p:nvSpPr>
          <p:spPr>
            <a:xfrm>
              <a:off x="4038480" y="5105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66240" y="518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625520" y="5105520"/>
            <a:ext cx="375480" cy="609480"/>
            <a:chOff x="7625520" y="5105520"/>
            <a:chExt cx="375480" cy="609480"/>
          </a:xfrm>
        </p:grpSpPr>
        <p:sp>
          <p:nvSpPr>
            <p:cNvPr id="246" name=""/>
            <p:cNvSpPr/>
            <p:nvPr/>
          </p:nvSpPr>
          <p:spPr>
            <a:xfrm>
              <a:off x="8001000" y="5105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25520" y="518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29880" y="5181480"/>
            <a:ext cx="375480" cy="609840"/>
            <a:chOff x="6329880" y="5181480"/>
            <a:chExt cx="375480" cy="609840"/>
          </a:xfrm>
        </p:grpSpPr>
        <p:sp>
          <p:nvSpPr>
            <p:cNvPr id="249" name=""/>
            <p:cNvSpPr/>
            <p:nvPr/>
          </p:nvSpPr>
          <p:spPr>
            <a:xfrm>
              <a:off x="670536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9880" y="5257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6720" y="59799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cision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000" y="3886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ss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8000" y="59040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(A,A,A,A,R,R) ==&gt; All loyal lieutenants atta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igger Example: Bad Commander+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2, n=7, traitors=C, L6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038480" y="2743200"/>
            <a:ext cx="76320" cy="45720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72400" y="3048120"/>
            <a:ext cx="7621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3124080"/>
            <a:ext cx="7621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3124080"/>
            <a:ext cx="76212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2514600"/>
            <a:ext cx="2133720" cy="53352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494960" y="2362320"/>
            <a:ext cx="2133720" cy="7617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494960" y="2362320"/>
            <a:ext cx="3505320" cy="7617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608840" y="2438280"/>
            <a:ext cx="6446160" cy="840960"/>
            <a:chOff x="1608840" y="2438280"/>
            <a:chExt cx="6446160" cy="840960"/>
          </a:xfrm>
        </p:grpSpPr>
        <p:sp>
          <p:nvSpPr>
            <p:cNvPr id="270" name=""/>
            <p:cNvSpPr/>
            <p:nvPr/>
          </p:nvSpPr>
          <p:spPr>
            <a:xfrm>
              <a:off x="2977200" y="2743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9920" y="2666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34600" y="2743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8840" y="2438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28560" y="2819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91400" y="259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058520" y="5105520"/>
            <a:ext cx="1826640" cy="992880"/>
            <a:chOff x="7058520" y="5105520"/>
            <a:chExt cx="1826640" cy="992880"/>
          </a:xfrm>
        </p:grpSpPr>
        <p:sp>
          <p:nvSpPr>
            <p:cNvPr id="277" name=""/>
            <p:cNvSpPr/>
            <p:nvPr/>
          </p:nvSpPr>
          <p:spPr>
            <a:xfrm>
              <a:off x="8001000" y="5105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58520" y="563868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halkboard"/>
                </a:rPr>
                <a:t>A,R,A,R,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999360" y="5105520"/>
            <a:ext cx="5706000" cy="685800"/>
            <a:chOff x="999360" y="5105520"/>
            <a:chExt cx="5706000" cy="685800"/>
          </a:xfrm>
        </p:grpSpPr>
        <p:grpSp>
          <p:nvGrpSpPr>
            <p:cNvPr id="280" name=""/>
            <p:cNvGrpSpPr/>
            <p:nvPr/>
          </p:nvGrpSpPr>
          <p:grpSpPr>
            <a:xfrm>
              <a:off x="999360" y="5181480"/>
              <a:ext cx="372240" cy="609840"/>
              <a:chOff x="999360" y="5181480"/>
              <a:chExt cx="372240" cy="609840"/>
            </a:xfrm>
          </p:grpSpPr>
          <p:sp>
            <p:nvSpPr>
              <p:cNvPr id="281" name=""/>
              <p:cNvSpPr/>
              <p:nvPr/>
            </p:nvSpPr>
            <p:spPr>
              <a:xfrm>
                <a:off x="1371600" y="51814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99360" y="5257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215080" y="5181480"/>
              <a:ext cx="375480" cy="609840"/>
              <a:chOff x="2215080" y="5181480"/>
              <a:chExt cx="375480" cy="609840"/>
            </a:xfrm>
          </p:grpSpPr>
          <p:sp>
            <p:nvSpPr>
              <p:cNvPr id="284" name=""/>
              <p:cNvSpPr/>
              <p:nvPr/>
            </p:nvSpPr>
            <p:spPr>
              <a:xfrm>
                <a:off x="2590560" y="51814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15080" y="5257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110920" y="5181480"/>
              <a:ext cx="375480" cy="609840"/>
              <a:chOff x="5110920" y="5181480"/>
              <a:chExt cx="375480" cy="609840"/>
            </a:xfrm>
          </p:grpSpPr>
          <p:sp>
            <p:nvSpPr>
              <p:cNvPr id="287" name=""/>
              <p:cNvSpPr/>
              <p:nvPr/>
            </p:nvSpPr>
            <p:spPr>
              <a:xfrm>
                <a:off x="5486400" y="51814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10920" y="5257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666240" y="5105520"/>
              <a:ext cx="372240" cy="609480"/>
              <a:chOff x="3666240" y="5105520"/>
              <a:chExt cx="372240" cy="609480"/>
            </a:xfrm>
          </p:grpSpPr>
          <p:sp>
            <p:nvSpPr>
              <p:cNvPr id="290" name=""/>
              <p:cNvSpPr/>
              <p:nvPr/>
            </p:nvSpPr>
            <p:spPr>
              <a:xfrm>
                <a:off x="4038480" y="51055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66240" y="51814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6333120" y="5181480"/>
              <a:ext cx="372240" cy="609840"/>
              <a:chOff x="6333120" y="5181480"/>
              <a:chExt cx="372240" cy="609840"/>
            </a:xfrm>
          </p:grpSpPr>
          <p:sp>
            <p:nvSpPr>
              <p:cNvPr id="293" name=""/>
              <p:cNvSpPr/>
              <p:nvPr/>
            </p:nvSpPr>
            <p:spPr>
              <a:xfrm>
                <a:off x="6705360" y="51814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33120" y="5257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6720" y="59799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cision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8000" y="3886200"/>
            <a:ext cx="8183880" cy="1295280"/>
            <a:chOff x="198000" y="3886200"/>
            <a:chExt cx="8183880" cy="1295280"/>
          </a:xfrm>
        </p:grpSpPr>
        <p:grpSp>
          <p:nvGrpSpPr>
            <p:cNvPr id="297" name=""/>
            <p:cNvGrpSpPr/>
            <p:nvPr/>
          </p:nvGrpSpPr>
          <p:grpSpPr>
            <a:xfrm>
              <a:off x="990720" y="4495680"/>
              <a:ext cx="7391160" cy="685800"/>
              <a:chOff x="990720" y="4495680"/>
              <a:chExt cx="7391160" cy="68580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4572000"/>
                <a:ext cx="7621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20120" y="4495680"/>
                <a:ext cx="761760" cy="60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57600" y="4495680"/>
                <a:ext cx="762120" cy="6098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24480" y="4572000"/>
                <a:ext cx="7621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05520" y="4572000"/>
                <a:ext cx="76176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990720" y="4572000"/>
                <a:ext cx="76176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98000" y="38862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Messag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cision with Bad Commander+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1: m(A,R,A,R,A,A) ==&gt; Attack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2: m(A,R,A,R,A,R) ==&gt; Retre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3: m(A,R,A,R,A,A) ==&gt; Attack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4: m(A,R,A,R,A,R) ==&gt; Retre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5: m(A,R,A,R,A,A) ==&gt; Attack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: All loyal lieutenants do NOT choose same action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ext Step of Algorith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erify that lieutenants tell each other the same th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quires rounds = m+1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M(0): Msg from Lieut i of form: “L0 said v0, L1 said v1, etc...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messages does L1 receive in this exampl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M(2): 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M(1): 2R, 3A, 4R, 5A, </a:t>
            </a: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6A (doesn’t know 6 is traito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M(0):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2{    3A, 4R, 5A, 6R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{2R,     4R, 5A, 6A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4{2R, 3A,     5A, 6R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5{2R, 3A, 4R,     6A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6{ total confusion 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 see same messages in OM(0) from L1,2,3,4, and 5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(A,R,A,R,A,-) ==&gt; All attack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ild reliable systems in presence of faulty compon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on approach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nd request (or input) to some “f-tolerant” serv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ve multiple (potentially faulty) components compute same fun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erform majority vote on outputs to get “right” resul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09480" y="4114800"/>
            <a:ext cx="4114800" cy="1752480"/>
            <a:chOff x="609480" y="4114800"/>
            <a:chExt cx="4114800" cy="1752480"/>
          </a:xfrm>
        </p:grpSpPr>
        <p:sp>
          <p:nvSpPr>
            <p:cNvPr id="49" name=""/>
            <p:cNvSpPr/>
            <p:nvPr/>
          </p:nvSpPr>
          <p:spPr>
            <a:xfrm>
              <a:off x="1066680" y="4114800"/>
              <a:ext cx="3657600" cy="1752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49528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600200" y="4419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4419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0200" y="4952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0200" y="54100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4267080"/>
              <a:ext cx="6858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66880" y="4800600"/>
              <a:ext cx="6858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6880" y="5257800"/>
              <a:ext cx="6858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86200" y="4724280"/>
              <a:ext cx="762120" cy="533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2680" y="441972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52680" y="5029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352680" y="52574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190400" y="47102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majority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(v1,v2,</a:t>
            </a: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v3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689400" y="5929200"/>
            <a:ext cx="97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 faulty, f+1 good components ==&gt; 2f+1 to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igned Messag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Traitors can lie about what others said; how can we remove that abilit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ew assumption: Signed messages (Cryptography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4)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.  Loyal general’s signature cannot be forged and contents cannot be alter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.  Anyone can verify authenticity of signatu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ifies problem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lieutenant i passes on signed message from j, receiver knows that i did not lie about what j sai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ieutenants cannot do any harm alone (cannot forge loyal general’s order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ly have to check for traitor comman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ith cryptographic primitives, can implement Byzantine Agreement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+2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nodes,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M(m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igned Messages Algorithm: SM(m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 signs v and sends to all as (v:0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lieut i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) If receive (v:0) and no other ord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) Vi = v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) send (V:0:i) to al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) If receive (v:0:j:...:k) and v not in Vi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) Add v to Vi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) if (k&lt;m) send (v:0:j:...:k:i) to all not in j...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3. When no more msgs, obey order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oice(Vi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M(1) Example: Bad Command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1, n=m+2=3, bad commander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5780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75600" y="2362320"/>
            <a:ext cx="2935800" cy="459720"/>
            <a:chOff x="2775600" y="2362320"/>
            <a:chExt cx="2935800" cy="459720"/>
          </a:xfrm>
        </p:grpSpPr>
        <p:sp>
          <p:nvSpPr>
            <p:cNvPr id="321" name=""/>
            <p:cNvSpPr/>
            <p:nvPr/>
          </p:nvSpPr>
          <p:spPr>
            <a:xfrm>
              <a:off x="277560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8204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: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76480" y="3770280"/>
            <a:ext cx="5514840" cy="1411200"/>
            <a:chOff x="276480" y="3770280"/>
            <a:chExt cx="5514840" cy="1411200"/>
          </a:xfrm>
        </p:grpSpPr>
        <p:sp>
          <p:nvSpPr>
            <p:cNvPr id="324" name=""/>
            <p:cNvSpPr/>
            <p:nvPr/>
          </p:nvSpPr>
          <p:spPr>
            <a:xfrm>
              <a:off x="276480" y="37702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What nex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4343400"/>
              <a:ext cx="76176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29200" y="4267080"/>
              <a:ext cx="76212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254480"/>
              <a:ext cx="2209680" cy="241200"/>
            </a:xfrm>
            <a:custGeom>
              <a:avLst/>
              <a:gdLst/>
              <a:ahLst/>
              <a:rect l="l" t="t" r="r" b="b"/>
              <a:pathLst>
                <a:path w="1392" h="152">
                  <a:moveTo>
                    <a:pt x="0" y="152"/>
                  </a:moveTo>
                  <a:cubicBezTo>
                    <a:pt x="220" y="84"/>
                    <a:pt x="440" y="16"/>
                    <a:pt x="672" y="8"/>
                  </a:cubicBezTo>
                  <a:cubicBezTo>
                    <a:pt x="904" y="0"/>
                    <a:pt x="1148" y="52"/>
                    <a:pt x="1392" y="10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2818800" y="4724280"/>
              <a:ext cx="2361960" cy="457200"/>
            </a:xfrm>
            <a:custGeom>
              <a:avLst/>
              <a:gdLst/>
              <a:ahLst/>
              <a:rect l="l" t="t" r="r" b="b"/>
              <a:pathLst>
                <a:path w="1392" h="152">
                  <a:moveTo>
                    <a:pt x="0" y="152"/>
                  </a:moveTo>
                  <a:cubicBezTo>
                    <a:pt x="220" y="84"/>
                    <a:pt x="440" y="16"/>
                    <a:pt x="672" y="8"/>
                  </a:cubicBezTo>
                  <a:cubicBezTo>
                    <a:pt x="904" y="0"/>
                    <a:pt x="1148" y="52"/>
                    <a:pt x="1392" y="10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755800" y="3886200"/>
            <a:ext cx="2676600" cy="1679040"/>
            <a:chOff x="2755800" y="3886200"/>
            <a:chExt cx="2676600" cy="1679040"/>
          </a:xfrm>
        </p:grpSpPr>
        <p:sp>
          <p:nvSpPr>
            <p:cNvPr id="330" name=""/>
            <p:cNvSpPr/>
            <p:nvPr/>
          </p:nvSpPr>
          <p:spPr>
            <a:xfrm>
              <a:off x="2755800" y="3886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: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54400" y="51055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:0: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-440640" y="5599080"/>
            <a:ext cx="78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1={A,R} V2={R,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oth L1 and L2 can trust orders are from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oth apply same decision to {A,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M(2): Bad Commander+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m=2, n=m+2=4, bad commander and L3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5" name=""/>
          <p:cNvSpPr/>
          <p:nvPr/>
        </p:nvSpPr>
        <p:spPr>
          <a:xfrm>
            <a:off x="3733920" y="2133720"/>
            <a:ext cx="7617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3124080"/>
            <a:ext cx="76176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3048120"/>
            <a:ext cx="7621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048120"/>
            <a:ext cx="7621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2590920"/>
            <a:ext cx="1143000" cy="53316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419720" y="2590920"/>
            <a:ext cx="1295280" cy="3808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038480" y="2743200"/>
            <a:ext cx="76320" cy="45720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16" y="44"/>
                  <a:pt x="312" y="88"/>
                  <a:pt x="192" y="144"/>
                </a:cubicBezTo>
                <a:cubicBezTo>
                  <a:pt x="72" y="200"/>
                  <a:pt x="36" y="268"/>
                  <a:pt x="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7560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37360" y="2666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452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213372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? L1 and L2 must make same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3962520"/>
            <a:ext cx="3657600" cy="1907280"/>
            <a:chOff x="609480" y="3962520"/>
            <a:chExt cx="3657600" cy="1907280"/>
          </a:xfrm>
        </p:grpSpPr>
        <p:grpSp>
          <p:nvGrpSpPr>
            <p:cNvPr id="347" name=""/>
            <p:cNvGrpSpPr/>
            <p:nvPr/>
          </p:nvGrpSpPr>
          <p:grpSpPr>
            <a:xfrm>
              <a:off x="609480" y="4267080"/>
              <a:ext cx="3657600" cy="685080"/>
              <a:chOff x="609480" y="4267080"/>
              <a:chExt cx="3657600" cy="685080"/>
            </a:xfrm>
          </p:grpSpPr>
          <p:sp>
            <p:nvSpPr>
              <p:cNvPr id="348" name=""/>
              <p:cNvSpPr/>
              <p:nvPr/>
            </p:nvSpPr>
            <p:spPr>
              <a:xfrm>
                <a:off x="609480" y="4342680"/>
                <a:ext cx="762120" cy="609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05320" y="4267080"/>
                <a:ext cx="761760" cy="609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057400" y="4267080"/>
                <a:ext cx="762120" cy="6091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halkboard"/>
                  </a:rPr>
                  <a:t>L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003320" y="39625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: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9880" y="44956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: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57440" y="4190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:0: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21040" y="54100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:0:L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19320" y="4267080"/>
              <a:ext cx="990360" cy="7596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1218600" y="4800600"/>
              <a:ext cx="1143000" cy="15192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2666160" y="4800600"/>
              <a:ext cx="1143000" cy="15192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990000" y="4952160"/>
              <a:ext cx="2971800" cy="45684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105520" y="4114800"/>
            <a:ext cx="2209680" cy="1066680"/>
            <a:chOff x="5105520" y="4114800"/>
            <a:chExt cx="2209680" cy="1066680"/>
          </a:xfrm>
        </p:grpSpPr>
        <p:sp>
          <p:nvSpPr>
            <p:cNvPr id="360" name=""/>
            <p:cNvSpPr/>
            <p:nvPr/>
          </p:nvSpPr>
          <p:spPr>
            <a:xfrm>
              <a:off x="5105520" y="4572000"/>
              <a:ext cx="761760" cy="609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53080" y="4495680"/>
              <a:ext cx="76212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55000" y="41148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:0:L3: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15000" y="4495680"/>
              <a:ext cx="990720" cy="7632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48"/>
                  </a:moveTo>
                  <a:cubicBezTo>
                    <a:pt x="116" y="24"/>
                    <a:pt x="232" y="0"/>
                    <a:pt x="336" y="0"/>
                  </a:cubicBezTo>
                  <a:cubicBezTo>
                    <a:pt x="440" y="0"/>
                    <a:pt x="532" y="24"/>
                    <a:pt x="624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-384480" y="605628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1 = V2 = {A,R} ==&gt; Same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ther Vari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to handle missing communication path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&lt; see paper for details&gt;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ssump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1) Every message sent by nonfaulty processor is delivered correct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twork failure ==&gt; processor fail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ndle as less connectivity in grap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2) Processor can determine sender of mess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munication is over fixed, dedicated lin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witched network?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3) Absence of message can be detect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xed max time to send message + synchronized clocks ==&gt; If msg not received in fixed time, use defaul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4) Processors sign msgs such that nonfaulty signatures cannot be forg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 randomizing function or cryptography to make liklihood of forgery very smal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ortance of Assump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parating Agreement from Execution for Byzantine Fault Tolerant Services” - SOSP’03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Reduce replication co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f+1 agreement replica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g+1 execution replica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stly part to replicat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ften uses different software version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tentially long running ti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o provide A2, protocol assumes cryptographic primitives, such that one can be sure “i said v” in switched environ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the problem?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clu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: To implement a fault-tolerant service with coordinated replicas, must </a:t>
            </a: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agree on input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yzantine failures make agreement challengin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duce arbitrary output, can’t detect, collud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r different agreement protocol depending on assumption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ral messages: Need 3f+1 nodes to tolerate f fail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fficult because traitors can lie about what others sai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gned messages: Need f+2 nod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sier because traitors can only lie about other traito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yzantine Werewolv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erewolf/Mafia: Psychological party ga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wo groups: Werewolves and villag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ltiple rounds of night and da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ight: Werewolves kill a villag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ay: All </a:t>
            </a:r>
            <a:r>
              <a:rPr b="0" lang="en-US" sz="1800" spc="-1" strike="noStrike">
                <a:solidFill>
                  <a:srgbClr val="3333cc"/>
                </a:solidFill>
                <a:latin typeface="Chalkboard"/>
              </a:rPr>
              <a:t>vote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on who to kill…hopefully a werewolf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erewolves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rick villages into bad decision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(killing one of their own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erewolves lie, act in collis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erewolves have more information than villagers (I.e., who is a werewolf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ditional: Only 1 village “seer” has any inf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y variant: Every villager can ask one question per roun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ditional: More psychological…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yzantine-Werewolf Game Ru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veryone secretly assigned as werewolf or villag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 werewolves, rest are “seeing” villag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 am moderat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ight round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Close your eyes”;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make noises to hide activ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Werewolves, open your eyes”: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3 can see who is wh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af67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Werewolves, pick someone to kill”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(Not first round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ilently agree on villager to kill by pointing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af67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Werewolves, close your eyes”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or all: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 “NAME, open your eyes”  “Pick someone to ask about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seless for Werewolves, but hides their identity…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int to another play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oderator signs </a:t>
            </a:r>
            <a:r>
              <a:rPr b="0" lang="en-US" sz="1800" spc="-1" strike="noStrike">
                <a:solidFill>
                  <a:srgbClr val="ff0000"/>
                </a:solidFill>
                <a:latin typeface="Chalkboard"/>
              </a:rPr>
              <a:t>thumbs up for werewolf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, down for villag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af67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NAME, close your eyes”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a Byzantine Failur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ree primary differences from Fail-Stop Failur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831960" indent="-415800"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onent can produce arbitrary outpu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78640" indent="-3463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: produces correct output or no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31960" indent="-415800"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not always detect output is faul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78640" indent="-3463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: can always detect that component has stopp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31960" indent="-415800"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onents may work together malicious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ith fail-stop failures: How many components are needed to be f-tolerant?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ules: Day Tim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y Time: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“Everyone open your eyes; its daytime”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NAME, you have been killed by the werewolves!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hey are now out of the ga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greement time: Everyone talks and votes on who should be “decommissioned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illagers try to decommission werewolf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erewolves try to trick villagers with bad inf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airwise communicat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440000" indent="-2055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halkboard"/>
              </a:rPr>
              <a:t>Variant: Signed messages; leave a note with everyone telling them what you know; can show this note to other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you’ve made up your mind, tell moderato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oderator: Uses majority voting to determine  who is decommissioned 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“Okay, NAME is dead”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erson is out of game (can’t talk anymore) and shows car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peat cycle unti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 werewolves dead OR werewolves &gt;= village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ssumption for F-tolerant Serve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od (non-faulty) components must use same inpu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50320" indent="-42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therwise, can’t trust their output result eith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50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majority voting to work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 non-faulty processors must use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inpu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input is non-faulty, then all non-faulty processes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use the valu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it provid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ust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gre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on value of inpu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76520" y="2438280"/>
            <a:ext cx="4114800" cy="1752480"/>
            <a:chOff x="1676520" y="2438280"/>
            <a:chExt cx="4114800" cy="1752480"/>
          </a:xfrm>
        </p:grpSpPr>
        <p:sp>
          <p:nvSpPr>
            <p:cNvPr id="69" name=""/>
            <p:cNvSpPr/>
            <p:nvPr/>
          </p:nvSpPr>
          <p:spPr>
            <a:xfrm>
              <a:off x="2133720" y="2438280"/>
              <a:ext cx="3657600" cy="1752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76520" y="32763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667240" y="27428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7240" y="27432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7240" y="3276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67240" y="37335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33920" y="2590560"/>
              <a:ext cx="6858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33920" y="3124080"/>
              <a:ext cx="6858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33920" y="3581280"/>
              <a:ext cx="6858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3240" y="3047760"/>
              <a:ext cx="762120" cy="533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720" y="274320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19720" y="33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419720" y="35809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902320" y="243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3680" y="2971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yzantine Genera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gorithm to achieve agreement among “loyal generals” (i.e., working components) given m “traitors” (i.e., faulty component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greement such that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68680" indent="-434160">
              <a:spcBef>
                <a:spcPts val="499"/>
              </a:spcBef>
              <a:buClr>
                <a:srgbClr val="3333cc"/>
              </a:buClr>
              <a:buFont typeface="Chalkboard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All loyal generals decide on same pla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(important even when input is faulty! Why?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68680" indent="-434160">
              <a:spcBef>
                <a:spcPts val="499"/>
              </a:spcBef>
              <a:buClr>
                <a:srgbClr val="3333cc"/>
              </a:buClr>
              <a:buFont typeface="Chalkboard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Small number of traitors cannot cause loyal generals to adopt “bad plan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68680" indent="-434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et v(i) be information communicated (I.e., input observed) by ith genera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68680" indent="-434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general combines values v(1)...v(n) to form pla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greement Condi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phrase agreement conditions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halkboard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oyal generals decide on same plan i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 loyal generals use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same method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for combining information (and see same input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halkboard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mall number of traitors can’t hurt loyal generals i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robust function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for decision, such as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 majority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unction of values v(1)...v(n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Key Step: Agree on inpu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enerals communicate v(i) values to one another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5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Every loyal general must obtain same v(1)..v(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5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’) Any two loyal generals use same value of v(i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74960" indent="-31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itor i will try to trick loyal generals into using different v(i)’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5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If ith general is loyal, then the value he sends must be used by every other general as v(i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each general send his value to n-1 other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commanding general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must send an order (order: Use v(i) as my value) to his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n-1 lieutenant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such that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5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IC1) All loyal lieutenants obey same or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5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IC2) If commanding general is loyal, every loyal lieutenant obeys the order he sen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eractive Consistency condi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ossibility Resul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ith only 3 generals, no solution can work with even 1 traitor (given oral messag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00360" y="2895480"/>
            <a:ext cx="4159080" cy="2441160"/>
            <a:chOff x="1800360" y="2895480"/>
            <a:chExt cx="4159080" cy="2441160"/>
          </a:xfrm>
        </p:grpSpPr>
        <p:sp>
          <p:nvSpPr>
            <p:cNvPr id="93" name=""/>
            <p:cNvSpPr/>
            <p:nvPr/>
          </p:nvSpPr>
          <p:spPr>
            <a:xfrm>
              <a:off x="5197320" y="4611600"/>
              <a:ext cx="762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54120" y="4535640"/>
              <a:ext cx="76212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76720" y="2895480"/>
              <a:ext cx="2361960" cy="609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3160" y="29322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comma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00360" y="3998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at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10800" y="4876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retr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21520" y="4572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9000" y="4572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halkboard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480" y="3505320"/>
              <a:ext cx="1447920" cy="990360"/>
            </a:xfrm>
            <a:custGeom>
              <a:avLst/>
              <a:gdLst/>
              <a:ahLst/>
              <a:rect l="l" t="t" r="r" b="b"/>
              <a:pathLst>
                <a:path w="912" h="624">
                  <a:moveTo>
                    <a:pt x="912" y="0"/>
                  </a:moveTo>
                  <a:cubicBezTo>
                    <a:pt x="652" y="92"/>
                    <a:pt x="392" y="184"/>
                    <a:pt x="240" y="288"/>
                  </a:cubicBezTo>
                  <a:cubicBezTo>
                    <a:pt x="88" y="392"/>
                    <a:pt x="44" y="508"/>
                    <a:pt x="0" y="6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48120" y="4647600"/>
              <a:ext cx="2133360" cy="152280"/>
            </a:xfrm>
            <a:custGeom>
              <a:avLst/>
              <a:gdLst/>
              <a:ahLst/>
              <a:rect l="l" t="t" r="r" b="b"/>
              <a:pathLst>
                <a:path w="912" h="624">
                  <a:moveTo>
                    <a:pt x="912" y="0"/>
                  </a:moveTo>
                  <a:cubicBezTo>
                    <a:pt x="652" y="92"/>
                    <a:pt x="392" y="184"/>
                    <a:pt x="240" y="288"/>
                  </a:cubicBezTo>
                  <a:cubicBezTo>
                    <a:pt x="88" y="392"/>
                    <a:pt x="44" y="508"/>
                    <a:pt x="0" y="6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624240" y="5827680"/>
            <a:ext cx="98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should L1 do?  Is commander or L2 the traitor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ption 1: Loyal Command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5" name=""/>
          <p:cNvSpPr/>
          <p:nvPr/>
        </p:nvSpPr>
        <p:spPr>
          <a:xfrm>
            <a:off x="5060880" y="3392640"/>
            <a:ext cx="76212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7680" y="3316320"/>
            <a:ext cx="76212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9920" y="1676520"/>
            <a:ext cx="23623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66720" y="17128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63560" y="2779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3657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5080" y="33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2200" y="33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59040" y="2286000"/>
            <a:ext cx="1447920" cy="99072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11320" y="3428280"/>
            <a:ext cx="2133720" cy="15228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2286000"/>
            <a:ext cx="914400" cy="106668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652" y="92"/>
                  <a:pt x="392" y="184"/>
                  <a:pt x="240" y="288"/>
                </a:cubicBezTo>
                <a:cubicBezTo>
                  <a:pt x="88" y="392"/>
                  <a:pt x="44" y="5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1160" y="2514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832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What must L1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354600" y="529416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y IC2: L1 must obey commander and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Remzi Arpaci</cp:lastModifiedBy>
  <cp:lastPrinted>1970-01-04T00:48:46Z</cp:lastPrinted>
  <dcterms:modified xsi:type="dcterms:W3CDTF">2009-04-07T19:24:21Z</dcterms:modified>
  <cp:revision>19</cp:revision>
  <dc:subject/>
  <dc:title>Introduction and Overview</dc:title>
</cp:coreProperties>
</file>