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B79-46E5-4DB7-908F-8FDCBB95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6588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FD5-92E8-48CF-9D0D-120602D6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6588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6588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8B7-80C1-41E5-882D-B4E4036B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6588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6588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6588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846-BADB-4A4A-86F9-04D44882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26E-326C-4AFC-B4A0-EB429DB8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398-BF1C-4006-8F4B-B4C52CB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699-32F4-4A6C-BFA1-B29F972B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689-966D-4FE4-AB47-F4DF6634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409-C77A-4E9B-B49B-F1E2CE08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6588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AB8-54A6-4ED7-BAEC-66935AE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6588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DB1-F92E-40ED-809C-EF95B09B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6588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C1C-6241-48A5-B806-AFD7407C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48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542160" indent="-208440">
              <a:spcBef>
                <a:spcPts val="40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834120" indent="-166680">
              <a:spcBef>
                <a:spcPts val="4000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167840" indent="-166680">
              <a:spcBef>
                <a:spcPts val="40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1501560" indent="-166680">
              <a:spcBef>
                <a:spcPts val="40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1501560" indent="-166680">
              <a:spcBef>
                <a:spcPts val="40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1501560" indent="-166680">
              <a:spcBef>
                <a:spcPts val="40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A232-A0F4-4FCC-A08D-9A259474EC32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838080"/>
            <a:ext cx="9144000" cy="1752840"/>
          </a:xfrm>
          <a:prstGeom prst="rect">
            <a:avLst/>
          </a:prstGeom>
          <a:solidFill>
            <a:srgbClr val="0048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aramond"/>
              </a:rPr>
              <a:t>Deconstructing Commodity Storage Clusters</a:t>
            </a:r>
            <a:endParaRPr b="1" lang="en-US" sz="4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289548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aryadi S. Gunawi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Nitin Agrawal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rea C. Arpaci-Dusseau, Remzi H. Arpaci-Dusseau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038480"/>
            <a:ext cx="4724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Univ. of Wisconsin - Ma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49528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Jiri Schi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4038480"/>
            <a:ext cx="331920" cy="533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62520" y="556272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886"/>
                </a:solidFill>
                <a:latin typeface="Garamond"/>
              </a:rPr>
              <a:t>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8120" y="5638680"/>
            <a:ext cx="9144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5880" y="2286000"/>
            <a:ext cx="2819520" cy="213372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torag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modity O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3505320"/>
            <a:ext cx="1371600" cy="2840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ise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7480" y="3886200"/>
            <a:ext cx="1371600" cy="38088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D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543800" y="4191120"/>
            <a:ext cx="1066320" cy="761400"/>
            <a:chOff x="7543800" y="4191120"/>
            <a:chExt cx="1066320" cy="761400"/>
          </a:xfrm>
        </p:grpSpPr>
        <p:sp>
          <p:nvSpPr>
            <p:cNvPr id="182" name=""/>
            <p:cNvSpPr/>
            <p:nvPr/>
          </p:nvSpPr>
          <p:spPr>
            <a:xfrm>
              <a:off x="7543800" y="4191120"/>
              <a:ext cx="387720" cy="54396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28720" y="4191120"/>
              <a:ext cx="387360" cy="54396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37840" y="4408920"/>
              <a:ext cx="387360" cy="54360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2400" y="4408920"/>
              <a:ext cx="387720" cy="54360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172200" y="3505320"/>
            <a:ext cx="1219320" cy="284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CP/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3124080"/>
            <a:ext cx="266688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286000"/>
            <a:ext cx="2819520" cy="213372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ccess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3124080"/>
            <a:ext cx="266688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286000"/>
            <a:ext cx="1523880" cy="213372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124080"/>
            <a:ext cx="137160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lient S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3505320"/>
            <a:ext cx="1371600" cy="284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3657600"/>
            <a:ext cx="0" cy="609480"/>
          </a:xfrm>
          <a:prstGeom prst="line">
            <a:avLst/>
          </a:prstGeom>
          <a:ln w="50760">
            <a:solidFill>
              <a:srgbClr val="fffff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2743200"/>
            <a:ext cx="266688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entera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2743200"/>
            <a:ext cx="266688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entera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505320"/>
            <a:ext cx="1371600" cy="2840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ise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886200"/>
            <a:ext cx="1371600" cy="38088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D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191120" y="4191120"/>
            <a:ext cx="1066320" cy="761400"/>
            <a:chOff x="4191120" y="4191120"/>
            <a:chExt cx="1066320" cy="761400"/>
          </a:xfrm>
        </p:grpSpPr>
        <p:sp>
          <p:nvSpPr>
            <p:cNvPr id="199" name=""/>
            <p:cNvSpPr/>
            <p:nvPr/>
          </p:nvSpPr>
          <p:spPr>
            <a:xfrm>
              <a:off x="4191120" y="4191120"/>
              <a:ext cx="387720" cy="54396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76040" y="4191120"/>
              <a:ext cx="387360" cy="54396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85160" y="4408920"/>
              <a:ext cx="387360" cy="54360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69720" y="4408920"/>
              <a:ext cx="387720" cy="54360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267080" y="3657600"/>
            <a:ext cx="0" cy="609480"/>
          </a:xfrm>
          <a:prstGeom prst="line">
            <a:avLst/>
          </a:prstGeom>
          <a:ln w="50760">
            <a:solidFill>
              <a:srgbClr val="fffff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2" idx="2"/>
            <a:endCxn id="205" idx="2"/>
          </p:cNvCxnSpPr>
          <p:nvPr/>
        </p:nvCxnSpPr>
        <p:spPr>
          <a:xfrm flipH="1" flipV="1" rot="5400000">
            <a:off x="2257920" y="2923200"/>
            <a:ext cx="56160" cy="1676880"/>
          </a:xfrm>
          <a:prstGeom prst="bentConnector3">
            <a:avLst>
              <a:gd name="adj1" fmla="val -3534193"/>
            </a:avLst>
          </a:prstGeom>
          <a:ln w="38160">
            <a:solidFill>
              <a:srgbClr val="6699ff"/>
            </a:solidFill>
            <a:miter/>
          </a:ln>
        </p:spPr>
      </p:cxnSp>
      <p:sp>
        <p:nvSpPr>
          <p:cNvPr id="206" name="Cloud"/>
          <p:cNvSpPr/>
          <p:nvPr/>
        </p:nvSpPr>
        <p:spPr>
          <a:xfrm>
            <a:off x="1752480" y="54100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8" idx="2"/>
            <a:endCxn id="186" idx="2"/>
          </p:cNvCxnSpPr>
          <p:nvPr/>
        </p:nvCxnSpPr>
        <p:spPr>
          <a:xfrm flipH="1" rot="16200000">
            <a:off x="5153760" y="2161080"/>
            <a:ext cx="132480" cy="3124800"/>
          </a:xfrm>
          <a:prstGeom prst="bentConnector3">
            <a:avLst>
              <a:gd name="adj1" fmla="val 1597547"/>
            </a:avLst>
          </a:prstGeom>
          <a:ln w="38160">
            <a:solidFill>
              <a:srgbClr val="6699ff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3048120" y="35812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350532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loud"/>
          <p:cNvSpPr/>
          <p:nvPr/>
        </p:nvSpPr>
        <p:spPr>
          <a:xfrm>
            <a:off x="4724280" y="5410080"/>
            <a:ext cx="1219320" cy="685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3505320"/>
            <a:ext cx="1218960" cy="284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CP/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3E7-0806-43C7-A9E1-927D56091B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obe Points – Observation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4190760"/>
            <a:ext cx="79246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ternal probe poi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Trace traffic using </a:t>
            </a:r>
            <a:r>
              <a:rPr b="1" i="1" lang="en-US" sz="2800" spc="-1" strike="noStrike">
                <a:solidFill>
                  <a:srgbClr val="333333"/>
                </a:solidFill>
                <a:latin typeface="Garamond"/>
              </a:rPr>
              <a:t>standardized tools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2" marL="1005840" indent="-200880">
              <a:spcBef>
                <a:spcPts val="60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cpdump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trace network traffi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>
              <a:spcBef>
                <a:spcPts val="60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seudo Device Driv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trace disk traffi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1447920"/>
            <a:ext cx="3429000" cy="251460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torag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2438280"/>
            <a:ext cx="1676520" cy="28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ise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505320"/>
            <a:ext cx="167652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DE d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162920" y="3809880"/>
            <a:ext cx="1066320" cy="761760"/>
            <a:chOff x="7162920" y="3809880"/>
            <a:chExt cx="1066320" cy="761760"/>
          </a:xfrm>
        </p:grpSpPr>
        <p:sp>
          <p:nvSpPr>
            <p:cNvPr id="217" name=""/>
            <p:cNvSpPr/>
            <p:nvPr/>
          </p:nvSpPr>
          <p:spPr>
            <a:xfrm>
              <a:off x="7162920" y="3809880"/>
              <a:ext cx="387720" cy="54432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47840" y="3809880"/>
              <a:ext cx="387360" cy="54432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56960" y="4027680"/>
              <a:ext cx="387360" cy="54396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41520" y="4027680"/>
              <a:ext cx="387720" cy="54396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2438280"/>
            <a:ext cx="1523880" cy="28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CP/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2057400"/>
            <a:ext cx="327672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entera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1447920"/>
            <a:ext cx="1752480" cy="213336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ccess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2057400"/>
            <a:ext cx="160020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entera S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2438280"/>
            <a:ext cx="1600200" cy="28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CP/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447920"/>
            <a:ext cx="1676520" cy="213336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057400"/>
            <a:ext cx="1523880" cy="30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ent S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438280"/>
            <a:ext cx="1523880" cy="28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30" idx="3"/>
            <a:endCxn id="231" idx="1"/>
          </p:cNvCxnSpPr>
          <p:nvPr/>
        </p:nvCxnSpPr>
        <p:spPr>
          <a:xfrm>
            <a:off x="2228400" y="3123720"/>
            <a:ext cx="8010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33" idx="1"/>
            <a:endCxn id="231" idx="3"/>
          </p:cNvCxnSpPr>
          <p:nvPr/>
        </p:nvCxnSpPr>
        <p:spPr>
          <a:xfrm flipH="1">
            <a:off x="4667040" y="3123720"/>
            <a:ext cx="80064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685800" y="2819520"/>
            <a:ext cx="152388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cp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2819520"/>
            <a:ext cx="160020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cpdu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2819520"/>
            <a:ext cx="152388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cpdu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19520"/>
            <a:ext cx="1676520" cy="6094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se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ev.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2590920"/>
            <a:ext cx="181080" cy="1295280"/>
          </a:xfrm>
          <a:prstGeom prst="upDownArrow">
            <a:avLst>
              <a:gd name="adj1" fmla="val 47370"/>
              <a:gd name="adj2" fmla="val 9994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612-AAC9-44C9-9B01-B4E29304C1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obe Points – Perturbation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erturbing system at probe poi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aramond"/>
              </a:rPr>
              <a:t>Modified NistNet</a:t>
            </a: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: delay particular messages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aramond"/>
              </a:rPr>
              <a:t>Pseudo Dev. Driver</a:t>
            </a: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: delay disk I/O traffic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Additional Load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PU Load: High priority while loo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sk Load: File cop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990720"/>
            <a:ext cx="3505320" cy="350496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torag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86600" y="2819520"/>
            <a:ext cx="1676520" cy="284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ise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3962520"/>
            <a:ext cx="167652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DE d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162920" y="4267080"/>
            <a:ext cx="1066320" cy="761760"/>
            <a:chOff x="7162920" y="4267080"/>
            <a:chExt cx="1066320" cy="761760"/>
          </a:xfrm>
        </p:grpSpPr>
        <p:sp>
          <p:nvSpPr>
            <p:cNvPr id="242" name=""/>
            <p:cNvSpPr/>
            <p:nvPr/>
          </p:nvSpPr>
          <p:spPr>
            <a:xfrm>
              <a:off x="7162920" y="4267080"/>
              <a:ext cx="387720" cy="54432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47840" y="4267080"/>
              <a:ext cx="387360" cy="54432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56960" y="4484880"/>
              <a:ext cx="387360" cy="54396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1520" y="4484880"/>
              <a:ext cx="387720" cy="543960"/>
            </a:xfrm>
            <a:prstGeom prst="flowChartMagneticDisk">
              <a:avLst/>
            </a:prstGeom>
            <a:solidFill>
              <a:srgbClr val="33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486400" y="2819520"/>
            <a:ext cx="1523880" cy="284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CP/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1828800"/>
            <a:ext cx="1219320" cy="838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ent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1676520"/>
            <a:ext cx="1752480" cy="236196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ccess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2362320"/>
            <a:ext cx="160020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entera 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2819520"/>
            <a:ext cx="1600200" cy="284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CP/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76520"/>
            <a:ext cx="1676160" cy="236196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2819520"/>
            <a:ext cx="1524240" cy="284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54" idx="3"/>
            <a:endCxn id="255" idx="1"/>
          </p:cNvCxnSpPr>
          <p:nvPr/>
        </p:nvCxnSpPr>
        <p:spPr>
          <a:xfrm>
            <a:off x="2152800" y="3733560"/>
            <a:ext cx="87696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256" name=""/>
          <p:cNvCxnSpPr>
            <a:stCxn id="257" idx="1"/>
            <a:endCxn id="255" idx="3"/>
          </p:cNvCxnSpPr>
          <p:nvPr/>
        </p:nvCxnSpPr>
        <p:spPr>
          <a:xfrm flipH="1">
            <a:off x="4667040" y="3733560"/>
            <a:ext cx="80064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609480" y="3581280"/>
            <a:ext cx="152424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cp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3581280"/>
            <a:ext cx="16002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cpdu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3581280"/>
            <a:ext cx="152388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cpdu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86600" y="3200400"/>
            <a:ext cx="1676520" cy="6858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seudo 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3200400"/>
            <a:ext cx="1600200" cy="304920"/>
          </a:xfrm>
          <a:prstGeom prst="rect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d. Nis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00400"/>
            <a:ext cx="1524240" cy="304920"/>
          </a:xfrm>
          <a:prstGeom prst="rect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d. Nis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3200400"/>
            <a:ext cx="1523880" cy="304920"/>
          </a:xfrm>
          <a:prstGeom prst="rect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d. Nis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74320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1828800"/>
            <a:ext cx="914400" cy="83808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Add C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L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urier New"/>
              </a:rPr>
              <a:t>while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Courier New"/>
              </a:rPr>
              <a:t>{..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1828800"/>
            <a:ext cx="990720" cy="83808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Add Di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L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urier New"/>
              </a:rPr>
              <a:t>cp fX 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2743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2362320"/>
            <a:ext cx="1524240" cy="304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ent S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2743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1447920"/>
            <a:ext cx="1981440" cy="304560"/>
          </a:xfrm>
          <a:prstGeom prst="rect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ser-leve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3200400"/>
            <a:ext cx="1676520" cy="304920"/>
          </a:xfrm>
          <a:prstGeom prst="rect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+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CE6-782F-4721-9C0A-917F0975FC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MC Centera Overview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Deducing Protoco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bservation</a:t>
            </a:r>
            <a:r>
              <a:rPr b="0" i="1" lang="en-US" sz="2400" spc="-1" strike="noStrike">
                <a:solidFill>
                  <a:srgbClr val="ff0000"/>
                </a:solidFill>
                <a:latin typeface="Garamond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elay Perturbation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35880" indent="-33588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ferring Polic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System Perturbation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35880" indent="-33588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E77-E20E-4B60-A5AA-8745735DA2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derstanding the protocol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derstanding Read/Write protoco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Read and Write implementations in big distributed storage systems are not simple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Deconstruct the protocol structure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ich pieces are involved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ere data is sent to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ta reliably stored, mirrored, striped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0BA-CA3C-4516-842A-0035C85F95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bserving Write Protocol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construct protocol using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assive observ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Run a series of write workload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Observe network and disk traffic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Correlation tools: convert traces into protocol structure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657600"/>
            <a:ext cx="1066680" cy="30492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3"/>
            <a:endCxn id="278" idx="1"/>
          </p:cNvCxnSpPr>
          <p:nvPr/>
        </p:nvCxnSpPr>
        <p:spPr>
          <a:xfrm>
            <a:off x="1600200" y="3809520"/>
            <a:ext cx="1905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3581280" y="3048120"/>
            <a:ext cx="5181840" cy="365760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C Cen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038480" y="3733920"/>
            <a:ext cx="381240" cy="2584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105520" y="3886200"/>
            <a:ext cx="30456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380880" cy="2584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486400" y="3886200"/>
            <a:ext cx="30492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257800" y="38098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638680" y="38098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5105520" y="365760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287" name=""/>
          <p:cNvSpPr txBox="1"/>
          <p:nvPr/>
        </p:nvSpPr>
        <p:spPr>
          <a:xfrm>
            <a:off x="5257800" y="365760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7391520" y="3886200"/>
            <a:ext cx="30456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72400" y="3886200"/>
            <a:ext cx="30492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543800" y="38098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924680" y="38098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7391520" y="365760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293" name=""/>
          <p:cNvSpPr txBox="1"/>
          <p:nvPr/>
        </p:nvSpPr>
        <p:spPr>
          <a:xfrm>
            <a:off x="7543800" y="365760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n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7391520" y="441972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295" name=""/>
          <p:cNvSpPr txBox="1"/>
          <p:nvPr/>
        </p:nvSpPr>
        <p:spPr>
          <a:xfrm>
            <a:off x="7543800" y="44197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n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4952880"/>
            <a:ext cx="304560" cy="38124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72400" y="4952880"/>
            <a:ext cx="304920" cy="38124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543800" y="487656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924680" y="487656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7391520" y="472428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01" name=""/>
          <p:cNvSpPr txBox="1"/>
          <p:nvPr/>
        </p:nvSpPr>
        <p:spPr>
          <a:xfrm>
            <a:off x="7543800" y="47242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n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5257800"/>
            <a:ext cx="30456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5257800"/>
            <a:ext cx="30492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25780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638680" y="5181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5105520" y="502920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07" name=""/>
          <p:cNvSpPr txBox="1"/>
          <p:nvPr/>
        </p:nvSpPr>
        <p:spPr>
          <a:xfrm>
            <a:off x="5257800" y="502920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8"/>
          <a:stretch/>
        </p:blipFill>
        <p:spPr>
          <a:xfrm>
            <a:off x="6400800" y="4572000"/>
            <a:ext cx="380880" cy="258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095880" y="3809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4724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286" idx="3"/>
            <a:endCxn id="306" idx="3"/>
          </p:cNvCxnSpPr>
          <p:nvPr/>
        </p:nvCxnSpPr>
        <p:spPr>
          <a:xfrm>
            <a:off x="5791320" y="3754440"/>
            <a:ext cx="2160" cy="1372320"/>
          </a:xfrm>
          <a:prstGeom prst="bentConnector3">
            <a:avLst>
              <a:gd name="adj1" fmla="val 19500000"/>
            </a:avLst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312" name=""/>
          <p:cNvCxnSpPr>
            <a:stCxn id="292" idx="1"/>
            <a:endCxn id="313" idx="1"/>
          </p:cNvCxnSpPr>
          <p:nvPr/>
        </p:nvCxnSpPr>
        <p:spPr>
          <a:xfrm flipH="1" flipV="1" rot="10800000">
            <a:off x="7391160" y="3754080"/>
            <a:ext cx="2160" cy="2210400"/>
          </a:xfrm>
          <a:prstGeom prst="bentConnector3">
            <a:avLst>
              <a:gd name="adj1" fmla="val -200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6781680" y="3809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47242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86600" y="4495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286" idx="1"/>
            <a:endCxn id="306" idx="1"/>
          </p:cNvCxnSpPr>
          <p:nvPr/>
        </p:nvCxnSpPr>
        <p:spPr>
          <a:xfrm flipH="1" flipV="1" rot="10800000">
            <a:off x="5105160" y="3754080"/>
            <a:ext cx="2160" cy="1372320"/>
          </a:xfrm>
          <a:prstGeom prst="bentConnector3">
            <a:avLst>
              <a:gd name="adj1" fmla="val -144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4419720" y="3809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3733920"/>
            <a:ext cx="15228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5715000"/>
            <a:ext cx="1828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62920" y="617220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3520" y="4419720"/>
            <a:ext cx="1904760" cy="380880"/>
            <a:chOff x="533520" y="441972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533520" y="4419720"/>
              <a:ext cx="1904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write(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Documents"/>
            <p:cNvSpPr/>
            <p:nvPr/>
          </p:nvSpPr>
          <p:spPr>
            <a:xfrm>
              <a:off x="1752480" y="4419720"/>
              <a:ext cx="304920" cy="380880"/>
            </a:xfrm>
            <a:prstGeom prst="pi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7391520" y="541008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26" name=""/>
          <p:cNvSpPr txBox="1"/>
          <p:nvPr/>
        </p:nvSpPr>
        <p:spPr>
          <a:xfrm>
            <a:off x="7543800" y="54100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n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54864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7391520" y="563868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29" name=""/>
          <p:cNvSpPr txBox="1"/>
          <p:nvPr/>
        </p:nvSpPr>
        <p:spPr>
          <a:xfrm>
            <a:off x="7543800" y="56386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n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1"/>
          <a:stretch/>
        </p:blipFill>
        <p:spPr>
          <a:xfrm>
            <a:off x="7391520" y="586728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31" name=""/>
          <p:cNvSpPr txBox="1"/>
          <p:nvPr/>
        </p:nvSpPr>
        <p:spPr>
          <a:xfrm>
            <a:off x="7543800" y="5867280"/>
            <a:ext cx="30492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n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5715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48006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4038480"/>
            <a:ext cx="136440" cy="136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3733920"/>
            <a:ext cx="136440" cy="1364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43800" y="3733920"/>
            <a:ext cx="136440" cy="1364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ocuments"/>
          <p:cNvSpPr/>
          <p:nvPr/>
        </p:nvSpPr>
        <p:spPr>
          <a:xfrm>
            <a:off x="1676520" y="3657600"/>
            <a:ext cx="304560" cy="380880"/>
          </a:xfrm>
          <a:prstGeom prst="pi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Documents"/>
          <p:cNvSpPr/>
          <p:nvPr/>
        </p:nvSpPr>
        <p:spPr>
          <a:xfrm>
            <a:off x="7467480" y="3581280"/>
            <a:ext cx="304920" cy="381240"/>
          </a:xfrm>
          <a:prstGeom prst="pi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3733920"/>
            <a:ext cx="136440" cy="1364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48720" y="4724280"/>
            <a:ext cx="136440" cy="136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467480" y="4724280"/>
            <a:ext cx="136800" cy="136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4724280"/>
            <a:ext cx="136440" cy="1368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4038480"/>
            <a:ext cx="136800" cy="136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924680" y="5105520"/>
            <a:ext cx="136800" cy="1364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733920"/>
            <a:ext cx="136800" cy="136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3733920"/>
            <a:ext cx="136440" cy="136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43800" y="4800600"/>
            <a:ext cx="136440" cy="1364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3733920"/>
            <a:ext cx="136800" cy="136440"/>
          </a:xfrm>
          <a:prstGeom prst="rect">
            <a:avLst/>
          </a:prstGeom>
          <a:solidFill>
            <a:srgbClr val="ccffff">
              <a:alpha val="9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3657600"/>
            <a:ext cx="136440" cy="136440"/>
          </a:xfrm>
          <a:prstGeom prst="rect">
            <a:avLst/>
          </a:prstGeom>
          <a:solidFill>
            <a:srgbClr val="ccffff">
              <a:alpha val="9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A23-15CE-4AA2-97E5-0264718BBC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5 0.00024 E">
                                      <p:cBhvr>
                                        <p:cTn id="226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17 -0.0493 E">
                                      <p:cBhvr>
                                        <p:cTn id="232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229 0.00024 E">
                                      <p:cBhvr>
                                        <p:cTn id="238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17 -0.0493 E">
                                      <p:cBhvr>
                                        <p:cTn id="244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798 0 L -0.05798 0.1463 L 0.00573 0.1463 E">
                                      <p:cBhvr>
                                        <p:cTn id="250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17 -0.0493 E">
                                      <p:cBhvr>
                                        <p:cTn id="256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545 0 L -0.06545 -0.15162 L -0.01059 -0.15162 L -0.65243 -0.15162 E">
                                      <p:cBhvr>
                                        <p:cTn id="262" dur="1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33333E-006 L 0.66215 -3.33333E-006 L 0.66215 0.04838 E">
                                      <p:cBhvr>
                                        <p:cTn id="268" dur="1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2.96296E-006 L -0.0677 2.96296E-006 L -0.0677 0.15578 L -0.01614 0.15578 L -0.01614 0.21389 E">
                                      <p:cBhvr>
                                        <p:cTn id="274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972 0 L -0.05972 0.2493 L 0.004 0.2493 E">
                                      <p:cBhvr>
                                        <p:cTn id="279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99 0 L -0.07899 0.3118 L -0.01198 0.3118 E">
                                      <p:cBhvr>
                                        <p:cTn id="283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215 0 L -0.06215 -0.0463 L 0.00573 -0.0463 E">
                                      <p:cBhvr>
                                        <p:cTn id="287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184 0 L -0.09184 0.13125 L -0.02813 0.13125 E">
                                      <p:cBhvr>
                                        <p:cTn id="291" dur="1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041 0 L -0.06041 -0.15902 L 0.01702 -0.15902 L -0.63871 -0.15902 E">
                                      <p:cBhvr>
                                        <p:cTn id="297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441 0 L -0.06441 0.15694 L -0.00243 0.15694 L -0.06684 0.15694 L -0.06684 0.00648 L 0.00642 0.00648 E">
                                      <p:cBhvr>
                                        <p:cTn id="302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528 0 L 0 0 Z">
                                      <p:cBhvr>
                                        <p:cTn id="306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28800" y="1782720"/>
            <a:ext cx="1600200" cy="228600"/>
          </a:xfrm>
          <a:prstGeom prst="ellipse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3002040"/>
            <a:ext cx="1904760" cy="761760"/>
          </a:xfrm>
          <a:prstGeom prst="ellipse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2087640"/>
            <a:ext cx="1600200" cy="304560"/>
          </a:xfrm>
          <a:prstGeom prst="ellipse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2773440"/>
            <a:ext cx="464796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5211720"/>
            <a:ext cx="289584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1401840"/>
            <a:ext cx="4419360" cy="1676160"/>
          </a:xfrm>
          <a:prstGeom prst="roundRect">
            <a:avLst>
              <a:gd name="adj" fmla="val 16667"/>
            </a:avLst>
          </a:prstGeom>
          <a:solidFill>
            <a:srgbClr val="00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52480" y="3535200"/>
            <a:ext cx="3200400" cy="1752840"/>
          </a:xfrm>
          <a:prstGeom prst="roundRect">
            <a:avLst>
              <a:gd name="adj" fmla="val 16667"/>
            </a:avLst>
          </a:prstGeom>
          <a:solidFill>
            <a:srgbClr val="00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3840120"/>
            <a:ext cx="304560" cy="12193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1219320"/>
              <a:gd name="textAreaBottom" fmla="*/ 1204560 h 1219320"/>
            </a:gdLst>
            <a:ahLst/>
            <a:rect l="textAreaLeft" t="textAreaTop" r="textAreaRight" b="textAreaBottom"/>
            <a:pathLst>
              <a:path w="21600" h="86400">
                <a:moveTo>
                  <a:pt x="3600" y="0"/>
                </a:moveTo>
                <a:arcTo wR="3600" hR="3600" stAng="16200000" swAng="-5400000"/>
                <a:lnTo>
                  <a:pt x="0" y="82800"/>
                </a:lnTo>
                <a:arcTo wR="3600" hR="3600" stAng="10800000" swAng="-5400000"/>
                <a:lnTo>
                  <a:pt x="18000" y="86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67080" y="3687840"/>
            <a:ext cx="304920" cy="11430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1143000"/>
              <a:gd name="textAreaBottom" fmla="*/ 1128240 h 1143000"/>
            </a:gdLst>
            <a:ahLst/>
            <a:rect l="textAreaLeft" t="textAreaTop" r="textAreaRight" b="textAreaBottom"/>
            <a:pathLst>
              <a:path w="21600" h="80898">
                <a:moveTo>
                  <a:pt x="3600" y="0"/>
                </a:moveTo>
                <a:arcTo wR="3600" hR="3600" stAng="16200000" swAng="-5400000"/>
                <a:lnTo>
                  <a:pt x="0" y="77298"/>
                </a:lnTo>
                <a:arcTo wR="3600" hR="3600" stAng="10800000" swAng="-5400000"/>
                <a:lnTo>
                  <a:pt x="18000" y="80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bservation Result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bject Write Protocol findin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Phase 1: Write request establishment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Phase 2: Data transfer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Phase 3: Disk write, notify other SNs, commit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Phase 4: Series of acknowledgement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termine general properti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Primary SN handles generation of 2</a:t>
            </a:r>
            <a:r>
              <a:rPr b="0" lang="en-US" sz="2000" spc="-1" strike="noStrike" baseline="30000">
                <a:solidFill>
                  <a:srgbClr val="333333"/>
                </a:solidFill>
                <a:latin typeface="Garamond"/>
              </a:rPr>
              <a:t>nd</a:t>
            </a: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 copy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Two new TCP connections / object write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</p:txBody>
      </p:sp>
      <p:sp>
        <p:nvSpPr>
          <p:cNvPr id="361" name=""/>
          <p:cNvSpPr/>
          <p:nvPr/>
        </p:nvSpPr>
        <p:spPr>
          <a:xfrm>
            <a:off x="1981080" y="1554120"/>
            <a:ext cx="0" cy="510552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2800" y="6583320"/>
            <a:ext cx="3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1554120"/>
            <a:ext cx="0" cy="510552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1554120"/>
            <a:ext cx="0" cy="510552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1554120"/>
            <a:ext cx="0" cy="510552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1706400"/>
            <a:ext cx="1218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81080" y="201132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231624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1554120"/>
            <a:ext cx="228600" cy="304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81080" y="19350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81080" y="17827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1859040"/>
            <a:ext cx="228600" cy="3045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200400" y="208764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223992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163600"/>
            <a:ext cx="228600" cy="304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419360" y="23922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200040" y="254484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980720" y="269712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762120" y="2849400"/>
            <a:ext cx="1218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92520" y="1782720"/>
            <a:ext cx="65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Write Re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92880" y="2697120"/>
            <a:ext cx="78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Request 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1249200"/>
            <a:ext cx="76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1020600"/>
            <a:ext cx="114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Access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02060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Prim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1020600"/>
            <a:ext cx="1066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Second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3002040"/>
            <a:ext cx="1218960" cy="75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3306600"/>
            <a:ext cx="1219320" cy="76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3230640"/>
            <a:ext cx="1219320" cy="75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81080" y="3154320"/>
            <a:ext cx="1219320" cy="76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3078000"/>
            <a:ext cx="1218960" cy="76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00400" y="3382920"/>
            <a:ext cx="1219320" cy="76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154320"/>
            <a:ext cx="1218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72640" y="323064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200040" y="361152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200040" y="49068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980720" y="51354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54120" y="4754520"/>
            <a:ext cx="87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Write-Com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62120" y="5288040"/>
            <a:ext cx="1218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Documents"/>
          <p:cNvSpPr/>
          <p:nvPr/>
        </p:nvSpPr>
        <p:spPr>
          <a:xfrm>
            <a:off x="4114800" y="3916440"/>
            <a:ext cx="228600" cy="22860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3763800"/>
            <a:ext cx="304920" cy="381240"/>
          </a:xfrm>
          <a:prstGeom prst="can">
            <a:avLst>
              <a:gd name="adj" fmla="val 159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67080" y="3992400"/>
            <a:ext cx="3812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33066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45924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980720" y="37638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33800" y="3611520"/>
            <a:ext cx="82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Transfer 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Documents"/>
          <p:cNvSpPr/>
          <p:nvPr/>
        </p:nvSpPr>
        <p:spPr>
          <a:xfrm>
            <a:off x="2895480" y="4068720"/>
            <a:ext cx="228600" cy="22860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3916440"/>
            <a:ext cx="304560" cy="380880"/>
          </a:xfrm>
          <a:prstGeom prst="can">
            <a:avLst>
              <a:gd name="adj" fmla="val 159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8120" y="414504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2240" y="5135400"/>
            <a:ext cx="9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Write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34800" y="4983120"/>
            <a:ext cx="87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Write-Com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980720" y="5440320"/>
            <a:ext cx="2438640" cy="807480"/>
            <a:chOff x="1980720" y="5440320"/>
            <a:chExt cx="2438640" cy="807480"/>
          </a:xfrm>
        </p:grpSpPr>
        <p:sp>
          <p:nvSpPr>
            <p:cNvPr id="412" name=""/>
            <p:cNvSpPr/>
            <p:nvPr/>
          </p:nvSpPr>
          <p:spPr>
            <a:xfrm>
              <a:off x="1981080" y="5744880"/>
              <a:ext cx="1219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980720" y="5897520"/>
              <a:ext cx="1219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0400" y="5440320"/>
              <a:ext cx="1218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200400" y="5592600"/>
              <a:ext cx="1218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72920" y="5516280"/>
              <a:ext cx="63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ff"/>
                  </a:solidFill>
                  <a:latin typeface="Times New Roman"/>
                </a:rPr>
                <a:t>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ff"/>
                  </a:solidFill>
                  <a:latin typeface="Times New Roman"/>
                </a:rPr>
                <a:t>A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6049800"/>
              <a:ext cx="1219320" cy="76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00400" y="5744880"/>
              <a:ext cx="1218960" cy="76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53600" y="5821200"/>
              <a:ext cx="63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ff"/>
                  </a:solidFill>
                  <a:latin typeface="Times New Roman"/>
                </a:rPr>
                <a:t>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ff"/>
                  </a:solidFill>
                  <a:latin typeface="Times New Roman"/>
                </a:rPr>
                <a:t>A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442240" y="1782720"/>
            <a:ext cx="65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TCP 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354760" y="208764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Write R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31520" y="2620800"/>
            <a:ext cx="78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Request 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12200" y="2544840"/>
            <a:ext cx="78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Request 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cuments"/>
          <p:cNvSpPr/>
          <p:nvPr/>
        </p:nvSpPr>
        <p:spPr>
          <a:xfrm>
            <a:off x="457200" y="2925720"/>
            <a:ext cx="228600" cy="22860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819520" y="44496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0400" y="452592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460224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200400" y="4678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038120" y="429732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419720" y="437364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444960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419720" y="452592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14600" y="4449600"/>
            <a:ext cx="304920" cy="17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imes New Roman"/>
              </a:rPr>
              <a:t>SN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525920"/>
            <a:ext cx="304920" cy="17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imes New Roman"/>
              </a:rPr>
              <a:t>SN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33920" y="4297320"/>
            <a:ext cx="304560" cy="17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imes New Roman"/>
              </a:rPr>
              <a:t>SN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4373640"/>
            <a:ext cx="304920" cy="17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Times New Roman"/>
              </a:rPr>
              <a:t>S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82000" y="2087640"/>
            <a:ext cx="65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Times New Roman"/>
              </a:rPr>
              <a:t>TCP 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743-55AB-49BD-882B-A03737EC21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olving Dependencie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annot conclude dependencies from observation onl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B after A  </a:t>
            </a:r>
            <a:r>
              <a:rPr b="1" lang="en-US" sz="2400" spc="-1" strike="noStrike">
                <a:solidFill>
                  <a:srgbClr val="333333"/>
                </a:solidFill>
                <a:latin typeface="Garamond"/>
              </a:rPr>
              <a:t>!=</a:t>
            </a: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  B depends on A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2" marL="925560" indent="-185040">
              <a:spcBef>
                <a:spcPts val="499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ust delay A, and see if B is delayed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4495680"/>
            <a:ext cx="2057400" cy="685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3429000"/>
            <a:ext cx="1143000" cy="1219320"/>
          </a:xfrm>
          <a:prstGeom prst="ellipse">
            <a:avLst/>
          </a:prstGeom>
          <a:solidFill>
            <a:srgbClr val="99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4495680"/>
            <a:ext cx="1828800" cy="838440"/>
          </a:xfrm>
          <a:prstGeom prst="ellipse">
            <a:avLst/>
          </a:prstGeom>
          <a:solidFill>
            <a:srgbClr val="00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0" y="3657600"/>
            <a:ext cx="304920" cy="9144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914400"/>
              <a:gd name="textAreaBottom" fmla="*/ 899640 h 914400"/>
            </a:gdLst>
            <a:ahLst/>
            <a:rect l="textAreaLeft" t="textAreaTop" r="textAreaRight" b="textAreaBottom"/>
            <a:pathLst>
              <a:path w="21600" h="64724">
                <a:moveTo>
                  <a:pt x="3600" y="0"/>
                </a:moveTo>
                <a:arcTo wR="3600" hR="3600" stAng="16200000" swAng="-5400000"/>
                <a:lnTo>
                  <a:pt x="0" y="61124"/>
                </a:lnTo>
                <a:arcTo wR="3600" hR="3600" stAng="10800000" swAng="-5400000"/>
                <a:lnTo>
                  <a:pt x="18000" y="6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3657600"/>
            <a:ext cx="304560" cy="7621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4013">
                <a:moveTo>
                  <a:pt x="3600" y="0"/>
                </a:moveTo>
                <a:arcTo wR="3600" hR="3600" stAng="16200000" swAng="-5400000"/>
                <a:lnTo>
                  <a:pt x="0" y="50413"/>
                </a:lnTo>
                <a:arcTo wR="3600" hR="3600" stAng="10800000" swAng="-5400000"/>
                <a:lnTo>
                  <a:pt x="18000" y="54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Documents"/>
          <p:cNvSpPr/>
          <p:nvPr/>
        </p:nvSpPr>
        <p:spPr>
          <a:xfrm>
            <a:off x="3809880" y="3886200"/>
            <a:ext cx="228600" cy="228600"/>
          </a:xfrm>
          <a:prstGeom prst="pi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3733920"/>
            <a:ext cx="304560" cy="380880"/>
          </a:xfrm>
          <a:prstGeom prst="can">
            <a:avLst>
              <a:gd name="adj" fmla="val 159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62520" y="39625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ocuments"/>
          <p:cNvSpPr/>
          <p:nvPr/>
        </p:nvSpPr>
        <p:spPr>
          <a:xfrm>
            <a:off x="2133720" y="3962520"/>
            <a:ext cx="228600" cy="228600"/>
          </a:xfrm>
          <a:prstGeom prst="pi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14600" y="3809880"/>
            <a:ext cx="304920" cy="381240"/>
          </a:xfrm>
          <a:prstGeom prst="can">
            <a:avLst>
              <a:gd name="adj" fmla="val 159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0" y="40384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3581280"/>
            <a:ext cx="0" cy="236232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581280"/>
            <a:ext cx="0" cy="236232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3581280"/>
            <a:ext cx="0" cy="236232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3276720"/>
            <a:ext cx="76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81080" y="297180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Prim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2971800"/>
            <a:ext cx="1066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Second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62120" y="487692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437920" y="4572000"/>
            <a:ext cx="1676880" cy="579240"/>
            <a:chOff x="2437920" y="4572000"/>
            <a:chExt cx="1676880" cy="579240"/>
          </a:xfrm>
        </p:grpSpPr>
        <p:sp>
          <p:nvSpPr>
            <p:cNvPr id="459" name=""/>
            <p:cNvSpPr/>
            <p:nvPr/>
          </p:nvSpPr>
          <p:spPr>
            <a:xfrm flipH="1">
              <a:off x="2437920" y="4572000"/>
              <a:ext cx="1676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90920" y="4724640"/>
              <a:ext cx="1523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Secondary Comm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(s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986760" y="4724280"/>
            <a:ext cx="1198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Primary com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(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5181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lud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ausality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by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lay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isk write traffic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ary com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"/>
          <p:cNvCxnSpPr>
            <a:stCxn id="462" idx="1"/>
            <a:endCxn id="464" idx="2"/>
          </p:cNvCxnSpPr>
          <p:nvPr/>
        </p:nvCxnSpPr>
        <p:spPr>
          <a:xfrm flipV="1" rot="10800000">
            <a:off x="3276000" y="5683680"/>
            <a:ext cx="1905480" cy="259560"/>
          </a:xfrm>
          <a:prstGeom prst="curvedConnector5">
            <a:avLst>
              <a:gd name="adj1" fmla="val 47996"/>
              <a:gd name="adj2" fmla="val 94166"/>
              <a:gd name="adj3" fmla="val 47996"/>
            </a:avLst>
          </a:prstGeom>
          <a:ln w="255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465" name=""/>
          <p:cNvCxnSpPr>
            <a:stCxn id="462" idx="1"/>
            <a:endCxn id="449" idx="4"/>
          </p:cNvCxnSpPr>
          <p:nvPr/>
        </p:nvCxnSpPr>
        <p:spPr>
          <a:xfrm rot="10800000">
            <a:off x="2818800" y="3999960"/>
            <a:ext cx="2362680" cy="168480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255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466" name=""/>
          <p:cNvSpPr/>
          <p:nvPr/>
        </p:nvSpPr>
        <p:spPr>
          <a:xfrm>
            <a:off x="5334120" y="3352680"/>
            <a:ext cx="3429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rom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bservatio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on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imary commit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pend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ary commit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nc. disk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657600"/>
            <a:ext cx="14475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934320" y="3657240"/>
            <a:ext cx="14475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00400" y="586728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4BF-597C-40D9-B2F8-84AA410B82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-3.33333E-006 0.11343 E">
                                      <p:cBhvr>
                                        <p:cTn id="386" dur="1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0555 L -0.00416 0.10556 E">
                                      <p:cBhvr>
                                        <p:cTn id="388" dur="1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aying a Particular Message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648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999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ed to delay a particular messag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Leverage packet sizes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Modify NistNet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lay specific message, not lin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Ex: delay </a:t>
            </a:r>
            <a:r>
              <a:rPr b="1" lang="en-US" sz="2000" spc="-1" strike="noStrike">
                <a:solidFill>
                  <a:srgbClr val="333333"/>
                </a:solidFill>
                <a:latin typeface="Garamond"/>
              </a:rPr>
              <a:t>sc</a:t>
            </a: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 (90 bytes)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</p:txBody>
      </p:sp>
      <p:sp>
        <p:nvSpPr>
          <p:cNvPr id="471" name=""/>
          <p:cNvSpPr/>
          <p:nvPr/>
        </p:nvSpPr>
        <p:spPr>
          <a:xfrm>
            <a:off x="7458120" y="3537000"/>
            <a:ext cx="257040" cy="965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965160"/>
              <a:gd name="textAreaBottom" fmla="*/ 952920 h 965160"/>
            </a:gdLst>
            <a:ahLst/>
            <a:rect l="textAreaLeft" t="textAreaTop" r="textAreaRight" b="textAreaBottom"/>
            <a:pathLst>
              <a:path w="21600" h="81023">
                <a:moveTo>
                  <a:pt x="3600" y="0"/>
                </a:moveTo>
                <a:arcTo wR="3600" hR="3600" stAng="16200000" swAng="-5400000"/>
                <a:lnTo>
                  <a:pt x="0" y="77423"/>
                </a:lnTo>
                <a:arcTo wR="3600" hR="3600" stAng="10800000" swAng="-5400000"/>
                <a:lnTo>
                  <a:pt x="18000" y="810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91680" y="3467160"/>
            <a:ext cx="257040" cy="69048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690480"/>
              <a:gd name="textAreaBottom" fmla="*/ 678240 h 690480"/>
            </a:gdLst>
            <a:ahLst/>
            <a:rect l="textAreaLeft" t="textAreaTop" r="textAreaRight" b="textAreaBottom"/>
            <a:pathLst>
              <a:path w="21600" h="57973">
                <a:moveTo>
                  <a:pt x="3600" y="0"/>
                </a:moveTo>
                <a:arcTo wR="3600" hR="3600" stAng="16200000" swAng="-5400000"/>
                <a:lnTo>
                  <a:pt x="0" y="54373"/>
                </a:lnTo>
                <a:arcTo wR="3600" hR="3600" stAng="10800000" swAng="-5400000"/>
                <a:lnTo>
                  <a:pt x="18000" y="579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37240" y="1625760"/>
            <a:ext cx="0" cy="4622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70800" y="1625760"/>
            <a:ext cx="0" cy="4622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604360" y="1625760"/>
            <a:ext cx="0" cy="4622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04040" y="1625760"/>
            <a:ext cx="0" cy="4622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504040" y="1763640"/>
            <a:ext cx="1033200" cy="698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1981080"/>
            <a:ext cx="1033560" cy="68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543800" y="2209680"/>
            <a:ext cx="1033560" cy="68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1905120"/>
            <a:ext cx="1033560" cy="680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543800" y="2133720"/>
            <a:ext cx="1033560" cy="698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7543440" y="2362320"/>
            <a:ext cx="1033560" cy="759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6552720" y="2514600"/>
            <a:ext cx="1033560" cy="698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486040" y="2666880"/>
            <a:ext cx="1033560" cy="68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30040" y="180972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99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1349280"/>
            <a:ext cx="64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886"/>
                </a:solidFill>
                <a:latin typeface="Garamond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1143000"/>
            <a:ext cx="97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886"/>
                </a:solidFill>
                <a:latin typeface="Garamond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886"/>
                </a:solidFill>
                <a:latin typeface="Garamond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162920" y="1143000"/>
            <a:ext cx="839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886"/>
                </a:solidFill>
                <a:latin typeface="Garamond"/>
              </a:rPr>
              <a:t>Prim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886"/>
                </a:solidFill>
                <a:latin typeface="Garamond"/>
              </a:rPr>
              <a:t>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088480" y="1143000"/>
            <a:ext cx="903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886"/>
                </a:solidFill>
                <a:latin typeface="Garamond"/>
              </a:rPr>
              <a:t>Second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886"/>
                </a:solidFill>
                <a:latin typeface="Garamond"/>
              </a:rPr>
              <a:t>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477040" y="2786040"/>
            <a:ext cx="1033200" cy="6840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43800" y="3062160"/>
            <a:ext cx="1033560" cy="6840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10240" y="2992320"/>
            <a:ext cx="1033560" cy="698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0240" y="2924280"/>
            <a:ext cx="1033560" cy="680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7040" y="2854440"/>
            <a:ext cx="1033200" cy="698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43800" y="3130560"/>
            <a:ext cx="1033560" cy="698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77040" y="2924280"/>
            <a:ext cx="1033200" cy="680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7586280" y="4295880"/>
            <a:ext cx="1033560" cy="68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43440" y="3352680"/>
            <a:ext cx="1033560" cy="68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552720" y="4572000"/>
            <a:ext cx="1033560" cy="684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486040" y="4724280"/>
            <a:ext cx="1033560" cy="68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ocuments"/>
          <p:cNvSpPr/>
          <p:nvPr/>
        </p:nvSpPr>
        <p:spPr>
          <a:xfrm>
            <a:off x="8361360" y="3743280"/>
            <a:ext cx="193680" cy="208080"/>
          </a:xfrm>
          <a:prstGeom prst="pie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685360" y="3605040"/>
            <a:ext cx="257040" cy="346320"/>
          </a:xfrm>
          <a:prstGeom prst="can">
            <a:avLst>
              <a:gd name="adj" fmla="val 15921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491680" y="3813120"/>
            <a:ext cx="27144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510240" y="3062160"/>
            <a:ext cx="1033560" cy="68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200400"/>
            <a:ext cx="1033560" cy="68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552720" y="3505320"/>
            <a:ext cx="1033560" cy="680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Documents"/>
          <p:cNvSpPr/>
          <p:nvPr/>
        </p:nvSpPr>
        <p:spPr>
          <a:xfrm>
            <a:off x="7327800" y="3813120"/>
            <a:ext cx="193680" cy="206280"/>
          </a:xfrm>
          <a:prstGeom prst="pie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651800" y="3675240"/>
            <a:ext cx="257040" cy="344160"/>
          </a:xfrm>
          <a:prstGeom prst="can">
            <a:avLst>
              <a:gd name="adj" fmla="val 15921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458120" y="3881520"/>
            <a:ext cx="3222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53080" y="5221440"/>
            <a:ext cx="1033560" cy="698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6552720" y="5359320"/>
            <a:ext cx="1033560" cy="68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86640" y="4944960"/>
            <a:ext cx="1033560" cy="698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586280" y="5083200"/>
            <a:ext cx="1033560" cy="698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53080" y="5497560"/>
            <a:ext cx="1033560" cy="680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86640" y="5221440"/>
            <a:ext cx="1033560" cy="698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32520" y="198108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999200" y="220968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5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01000" y="2362320"/>
            <a:ext cx="30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2520" y="236232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5480" y="243828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43520" y="292428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76720" y="306216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899840" y="4046400"/>
            <a:ext cx="238680" cy="213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74480" y="4363920"/>
            <a:ext cx="575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ri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m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6200" y="358128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973640" y="335268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886360" y="457200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5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98400" y="5083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98400" y="5359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97120" y="4807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097120" y="5083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609480" y="3505320"/>
            <a:ext cx="3886200" cy="3275640"/>
            <a:chOff x="609480" y="3505320"/>
            <a:chExt cx="3886200" cy="3275640"/>
          </a:xfrm>
        </p:grpSpPr>
        <p:sp>
          <p:nvSpPr>
            <p:cNvPr id="533" name=""/>
            <p:cNvSpPr/>
            <p:nvPr/>
          </p:nvSpPr>
          <p:spPr>
            <a:xfrm>
              <a:off x="609480" y="3505320"/>
              <a:ext cx="3886200" cy="312408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Primary S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" y="3886200"/>
              <a:ext cx="3657600" cy="304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CentraSt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5800" y="4267080"/>
              <a:ext cx="3657600" cy="283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Linux TCP/U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66680" y="4647960"/>
              <a:ext cx="3276720" cy="1828440"/>
            </a:xfrm>
            <a:prstGeom prst="rect">
              <a:avLst/>
            </a:prstGeom>
            <a:solidFill>
              <a:srgbClr val="99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95280" y="5029200"/>
              <a:ext cx="909720" cy="909000"/>
            </a:xfrm>
            <a:prstGeom prst="diamond">
              <a:avLst/>
            </a:prstGeom>
            <a:solidFill>
              <a:srgbClr val="0035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size=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6200000">
              <a:off x="-37800" y="5371200"/>
              <a:ext cx="1828440" cy="380880"/>
            </a:xfrm>
            <a:prstGeom prst="rect">
              <a:avLst/>
            </a:prstGeom>
            <a:solidFill>
              <a:srgbClr val="99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Mod. Nist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752480" y="5943240"/>
              <a:ext cx="0" cy="837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8800" y="5867280"/>
              <a:ext cx="8380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incom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pa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752480" y="4038120"/>
              <a:ext cx="0" cy="9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71600" y="4800600"/>
              <a:ext cx="3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33720" y="5181480"/>
              <a:ext cx="380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5486400"/>
              <a:ext cx="53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ilm"/>
            <p:cNvSpPr/>
            <p:nvPr/>
          </p:nvSpPr>
          <p:spPr>
            <a:xfrm rot="16200000">
              <a:off x="3124080" y="4952520"/>
              <a:ext cx="380880" cy="11430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95480" y="5715000"/>
              <a:ext cx="1067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delay 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114800" y="4038120"/>
              <a:ext cx="0" cy="1447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86200" y="5486400"/>
              <a:ext cx="228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8247600" y="4046400"/>
            <a:ext cx="666720" cy="213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E1F-ABAF-4ECE-840D-CE051CE357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 flipH="1">
            <a:off x="685440" y="2743200"/>
            <a:ext cx="1676520" cy="1522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2362320" y="2438280"/>
            <a:ext cx="1676160" cy="152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aying secondary-commit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2057400"/>
            <a:ext cx="0" cy="236232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62320" y="2057400"/>
            <a:ext cx="0" cy="236232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2057400"/>
            <a:ext cx="0" cy="236232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167652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28800" y="137160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Prim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05320" y="1371600"/>
            <a:ext cx="1066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Second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362320" y="2209680"/>
            <a:ext cx="1676160" cy="381240"/>
            <a:chOff x="2362320" y="2209680"/>
            <a:chExt cx="1676160" cy="381240"/>
          </a:xfrm>
        </p:grpSpPr>
        <p:sp>
          <p:nvSpPr>
            <p:cNvPr id="560" name=""/>
            <p:cNvSpPr/>
            <p:nvPr/>
          </p:nvSpPr>
          <p:spPr>
            <a:xfrm flipH="1">
              <a:off x="2362320" y="2438280"/>
              <a:ext cx="167616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77960" y="2209680"/>
              <a:ext cx="1367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Secondary comm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85440" y="2514600"/>
            <a:ext cx="1676520" cy="380880"/>
            <a:chOff x="685440" y="2514600"/>
            <a:chExt cx="1676520" cy="380880"/>
          </a:xfrm>
        </p:grpSpPr>
        <p:sp>
          <p:nvSpPr>
            <p:cNvPr id="563" name=""/>
            <p:cNvSpPr/>
            <p:nvPr/>
          </p:nvSpPr>
          <p:spPr>
            <a:xfrm flipH="1">
              <a:off x="685440" y="2743200"/>
              <a:ext cx="1676520" cy="1522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10440" y="2514600"/>
              <a:ext cx="119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Primary comm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876560" y="13712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solving first dependenc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Delay secondary commit </a:t>
            </a:r>
            <a:r>
              <a:rPr b="0" lang="en-US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 primary commit also gets delayed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22200" indent="-32220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imary commi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pends 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receipt of secondary commi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6" name=""/>
          <p:cNvSpPr/>
          <p:nvPr/>
        </p:nvSpPr>
        <p:spPr>
          <a:xfrm>
            <a:off x="3124080" y="2590920"/>
            <a:ext cx="0" cy="91440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75640" y="289548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+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2895480"/>
            <a:ext cx="0" cy="914400"/>
          </a:xfrm>
          <a:prstGeom prst="line">
            <a:avLst/>
          </a:prstGeom>
          <a:ln cap="rnd" w="507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49D-04AD-4DED-9805-C39A47A63D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33 E">
                                      <p:cBhvr>
                                        <p:cTn id="465" dur="15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0.18334 E">
                                      <p:cBhvr>
                                        <p:cTn id="468" dur="15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torage system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age syst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Important components of large-scale systems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Multi-billion dollar industry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ften comprised of high-end storage serve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A big box with lots of disks inside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simple ques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How does storage server work?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Simple but hard – closed storage subsystem design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1" marL="60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58D-441F-43B8-89E7-8441756A58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6172200" y="1600200"/>
            <a:ext cx="609480" cy="380880"/>
            <a:chOff x="6172200" y="1600200"/>
            <a:chExt cx="609480" cy="380880"/>
          </a:xfrm>
        </p:grpSpPr>
        <p:sp>
          <p:nvSpPr>
            <p:cNvPr id="570" name="Documents"/>
            <p:cNvSpPr/>
            <p:nvPr/>
          </p:nvSpPr>
          <p:spPr>
            <a:xfrm>
              <a:off x="6553080" y="1676520"/>
              <a:ext cx="228600" cy="228600"/>
            </a:xfrm>
            <a:prstGeom prst="pie">
              <a:avLst/>
            </a:prstGeom>
            <a:solidFill>
              <a:srgbClr val="dddddd"/>
            </a:soli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72200" y="1600200"/>
              <a:ext cx="304920" cy="380880"/>
            </a:xfrm>
            <a:prstGeom prst="can">
              <a:avLst>
                <a:gd name="adj" fmla="val 15921"/>
              </a:avLst>
            </a:prstGeom>
            <a:solidFill>
              <a:srgbClr val="dddddd"/>
            </a:soli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324120" y="1752480"/>
              <a:ext cx="228600" cy="0"/>
            </a:xfrm>
            <a:prstGeom prst="line">
              <a:avLst/>
            </a:prstGeom>
            <a:ln w="50760">
              <a:solidFill>
                <a:srgbClr val="dddddd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aying disk I/O traffic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lay disk writes at primary storage nod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172200" y="1600200"/>
            <a:ext cx="609480" cy="380880"/>
            <a:chOff x="6172200" y="1600200"/>
            <a:chExt cx="609480" cy="380880"/>
          </a:xfrm>
        </p:grpSpPr>
        <p:sp>
          <p:nvSpPr>
            <p:cNvPr id="576" name="Documents"/>
            <p:cNvSpPr/>
            <p:nvPr/>
          </p:nvSpPr>
          <p:spPr>
            <a:xfrm>
              <a:off x="6553080" y="1676520"/>
              <a:ext cx="228600" cy="228600"/>
            </a:xfrm>
            <a:prstGeom prst="pi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72200" y="1600200"/>
              <a:ext cx="304920" cy="380880"/>
            </a:xfrm>
            <a:prstGeom prst="can">
              <a:avLst>
                <a:gd name="adj" fmla="val 15921"/>
              </a:avLst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324120" y="17524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858000" y="1600200"/>
            <a:ext cx="0" cy="2743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00800" y="990720"/>
            <a:ext cx="99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Prim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083000" y="1828800"/>
            <a:ext cx="143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ondary-com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858000" y="2133720"/>
            <a:ext cx="8380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329800" y="2209680"/>
            <a:ext cx="1534680" cy="304920"/>
            <a:chOff x="5329800" y="2209680"/>
            <a:chExt cx="1534680" cy="304920"/>
          </a:xfrm>
        </p:grpSpPr>
        <p:sp>
          <p:nvSpPr>
            <p:cNvPr id="584" name=""/>
            <p:cNvSpPr/>
            <p:nvPr/>
          </p:nvSpPr>
          <p:spPr>
            <a:xfrm>
              <a:off x="5329800" y="2209680"/>
              <a:ext cx="12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Primary-comm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5950080" y="2361960"/>
              <a:ext cx="914400" cy="1526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258880" y="2438280"/>
            <a:ext cx="96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+ Del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Disk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57200" y="2514600"/>
            <a:ext cx="3886200" cy="3962160"/>
            <a:chOff x="457200" y="2514600"/>
            <a:chExt cx="3886200" cy="3962160"/>
          </a:xfrm>
        </p:grpSpPr>
        <p:sp>
          <p:nvSpPr>
            <p:cNvPr id="588" name=""/>
            <p:cNvSpPr/>
            <p:nvPr/>
          </p:nvSpPr>
          <p:spPr>
            <a:xfrm>
              <a:off x="457200" y="2514600"/>
              <a:ext cx="3886200" cy="350532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Primary S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3520" y="2895480"/>
              <a:ext cx="365760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CentraSt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3520" y="3276720"/>
              <a:ext cx="3657600" cy="284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ReiserF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4400" y="3657600"/>
              <a:ext cx="3276720" cy="1828800"/>
            </a:xfrm>
            <a:prstGeom prst="rect">
              <a:avLst/>
            </a:prstGeom>
            <a:solidFill>
              <a:srgbClr val="99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43000" y="4038480"/>
              <a:ext cx="909720" cy="909720"/>
            </a:xfrm>
            <a:prstGeom prst="diamond">
              <a:avLst/>
            </a:prstGeom>
            <a:solidFill>
              <a:srgbClr val="0035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WR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00000">
              <a:off x="-190080" y="4381560"/>
              <a:ext cx="1828800" cy="380880"/>
            </a:xfrm>
            <a:prstGeom prst="rect">
              <a:avLst/>
            </a:prstGeom>
            <a:solidFill>
              <a:srgbClr val="99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Pseudo-D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52480" y="3733920"/>
              <a:ext cx="685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disk re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00200" y="3048120"/>
              <a:ext cx="0" cy="990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43000" y="4952880"/>
              <a:ext cx="3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57400" y="4191120"/>
              <a:ext cx="380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57400" y="4495680"/>
              <a:ext cx="53352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ilm"/>
            <p:cNvSpPr/>
            <p:nvPr/>
          </p:nvSpPr>
          <p:spPr>
            <a:xfrm rot="16200000">
              <a:off x="2971800" y="3962160"/>
              <a:ext cx="380880" cy="11430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43200" y="4724280"/>
              <a:ext cx="1066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delay 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33920" y="4495680"/>
              <a:ext cx="22860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520" y="5562720"/>
              <a:ext cx="3657600" cy="284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  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IDE Driver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914400" y="5638680"/>
              <a:ext cx="1218600" cy="838080"/>
              <a:chOff x="914400" y="5638680"/>
              <a:chExt cx="1218600" cy="838080"/>
            </a:xfrm>
          </p:grpSpPr>
          <p:sp>
            <p:nvSpPr>
              <p:cNvPr id="604" name=""/>
              <p:cNvSpPr/>
              <p:nvPr/>
            </p:nvSpPr>
            <p:spPr>
              <a:xfrm>
                <a:off x="914400" y="5638680"/>
                <a:ext cx="443160" cy="598680"/>
              </a:xfrm>
              <a:prstGeom prst="flowChartMagneticDisk">
                <a:avLst/>
              </a:prstGeom>
              <a:solidFill>
                <a:srgbClr val="33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468440" y="5638680"/>
                <a:ext cx="442800" cy="598680"/>
              </a:xfrm>
              <a:prstGeom prst="flowChartMagneticDisk">
                <a:avLst/>
              </a:prstGeom>
              <a:solidFill>
                <a:srgbClr val="33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136160" y="5878440"/>
                <a:ext cx="442800" cy="598320"/>
              </a:xfrm>
              <a:prstGeom prst="flowChartMagneticDisk">
                <a:avLst/>
              </a:prstGeom>
              <a:solidFill>
                <a:srgbClr val="33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89840" y="5878440"/>
                <a:ext cx="443160" cy="598320"/>
              </a:xfrm>
              <a:prstGeom prst="flowChartMagneticDisk">
                <a:avLst/>
              </a:prstGeom>
              <a:solidFill>
                <a:srgbClr val="33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600200" y="4952880"/>
              <a:ext cx="0" cy="8384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62520" y="4495680"/>
              <a:ext cx="0" cy="1295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6324480" y="1905120"/>
            <a:ext cx="0" cy="10666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4724280"/>
            <a:ext cx="34290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rom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bservatio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imary commit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depend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secondary commit messag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sync. disk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994-98D1-480C-BB23-B878DB7539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0.20556 E">
                                      <p:cBhvr>
                                        <p:cTn id="483" dur="1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L -0.00034 0.2 E">
                                      <p:cBhvr>
                                        <p:cTn id="489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ility to analyze internal design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2999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ra-box techniques: Observation and perturbation by dela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Able to deduce Object Write protocol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Give ability to analyze internal design decisions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2999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rial vs. Parall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Primary SN handles the generation of 2</a:t>
            </a:r>
            <a:r>
              <a:rPr b="0" lang="en-US" sz="2000" spc="-1" strike="noStrike" baseline="30000">
                <a:solidFill>
                  <a:srgbClr val="333333"/>
                </a:solidFill>
                <a:latin typeface="Garamond"/>
              </a:rPr>
              <a:t>nd</a:t>
            </a: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 copy (Serial)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vs.</a:t>
            </a:r>
            <a:r>
              <a:rPr b="0" i="1" lang="en-US" sz="2000" spc="-1" strike="noStrike">
                <a:solidFill>
                  <a:srgbClr val="33333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AN handles both 1</a:t>
            </a:r>
            <a:r>
              <a:rPr b="0" lang="en-US" sz="2000" spc="-1" strike="noStrike" baseline="30000">
                <a:solidFill>
                  <a:srgbClr val="333333"/>
                </a:solidFill>
                <a:latin typeface="Garamond"/>
              </a:rPr>
              <a:t>st</a:t>
            </a: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 and 2</a:t>
            </a:r>
            <a:r>
              <a:rPr b="0" lang="en-US" sz="2000" spc="-1" strike="noStrike" baseline="30000">
                <a:solidFill>
                  <a:srgbClr val="333333"/>
                </a:solidFill>
                <a:latin typeface="Garamond"/>
              </a:rPr>
              <a:t>nd </a:t>
            </a:r>
            <a:r>
              <a:rPr b="0" i="1" lang="en-US" sz="20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(Parallel)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EMC Centera: write throughput is more important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Decrease load on access nodes – increase write throughput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2999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w TCP connections (internally) / object wri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Garamond"/>
              </a:rPr>
              <a:t>vs. </a:t>
            </a: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using persistent connection to remove TCP setup cost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Prefer simplicity – no need to manage persistent conn. for all requests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019920" y="2438280"/>
            <a:ext cx="2971800" cy="1752840"/>
            <a:chOff x="6019920" y="2438280"/>
            <a:chExt cx="2971800" cy="1752840"/>
          </a:xfrm>
        </p:grpSpPr>
        <p:sp>
          <p:nvSpPr>
            <p:cNvPr id="615" name=""/>
            <p:cNvSpPr/>
            <p:nvPr/>
          </p:nvSpPr>
          <p:spPr>
            <a:xfrm>
              <a:off x="6019920" y="2590920"/>
              <a:ext cx="685800" cy="30456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10280" y="2590920"/>
              <a:ext cx="457200" cy="30456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772400" y="2590920"/>
              <a:ext cx="457200" cy="30456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S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Documents"/>
            <p:cNvSpPr/>
            <p:nvPr/>
          </p:nvSpPr>
          <p:spPr>
            <a:xfrm>
              <a:off x="6553080" y="2438280"/>
              <a:ext cx="228600" cy="2286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5" idx="3"/>
              <a:endCxn id="616" idx="1"/>
            </p:cNvCxnSpPr>
            <p:nvPr/>
          </p:nvCxnSpPr>
          <p:spPr>
            <a:xfrm>
              <a:off x="6705720" y="2742840"/>
              <a:ext cx="305280" cy="1080"/>
            </a:xfrm>
            <a:prstGeom prst="straightConnector1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620" name=""/>
            <p:cNvCxnSpPr>
              <a:stCxn id="616" idx="3"/>
              <a:endCxn id="617" idx="1"/>
            </p:cNvCxnSpPr>
            <p:nvPr/>
          </p:nvCxnSpPr>
          <p:spPr>
            <a:xfrm>
              <a:off x="7467120" y="2742840"/>
              <a:ext cx="305640" cy="1080"/>
            </a:xfrm>
            <a:prstGeom prst="straightConnector1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621" name=""/>
            <p:cNvCxnSpPr>
              <a:stCxn id="617" idx="3"/>
              <a:endCxn id="622" idx="1"/>
            </p:cNvCxnSpPr>
            <p:nvPr/>
          </p:nvCxnSpPr>
          <p:spPr>
            <a:xfrm>
              <a:off x="8229240" y="2742840"/>
              <a:ext cx="305640" cy="1080"/>
            </a:xfrm>
            <a:prstGeom prst="straightConnector1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622" name=""/>
            <p:cNvSpPr/>
            <p:nvPr/>
          </p:nvSpPr>
          <p:spPr>
            <a:xfrm>
              <a:off x="8534520" y="2590920"/>
              <a:ext cx="457200" cy="30456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S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29400" y="3581280"/>
              <a:ext cx="685800" cy="30492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96080" y="3581280"/>
              <a:ext cx="457200" cy="30492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534520" y="3352680"/>
              <a:ext cx="457200" cy="30492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S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Documents"/>
            <p:cNvSpPr/>
            <p:nvPr/>
          </p:nvSpPr>
          <p:spPr>
            <a:xfrm>
              <a:off x="7238880" y="3429000"/>
              <a:ext cx="228600" cy="2286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7" name=""/>
            <p:cNvCxnSpPr>
              <a:stCxn id="623" idx="3"/>
              <a:endCxn id="624" idx="1"/>
            </p:cNvCxnSpPr>
            <p:nvPr/>
          </p:nvCxnSpPr>
          <p:spPr>
            <a:xfrm>
              <a:off x="7315200" y="3733560"/>
              <a:ext cx="381600" cy="1080"/>
            </a:xfrm>
            <a:prstGeom prst="straightConnector1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628" name=""/>
            <p:cNvCxnSpPr>
              <a:stCxn id="624" idx="3"/>
              <a:endCxn id="625" idx="1"/>
            </p:cNvCxnSpPr>
            <p:nvPr/>
          </p:nvCxnSpPr>
          <p:spPr>
            <a:xfrm flipV="1">
              <a:off x="8152920" y="3504600"/>
              <a:ext cx="381960" cy="229320"/>
            </a:xfrm>
            <a:prstGeom prst="straightConnector1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4" idx="3"/>
              <a:endCxn id="630" idx="1"/>
            </p:cNvCxnSpPr>
            <p:nvPr/>
          </p:nvCxnSpPr>
          <p:spPr>
            <a:xfrm>
              <a:off x="8152920" y="3733920"/>
              <a:ext cx="381960" cy="305280"/>
            </a:xfrm>
            <a:prstGeom prst="straightConnector1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630" name=""/>
            <p:cNvSpPr/>
            <p:nvPr/>
          </p:nvSpPr>
          <p:spPr>
            <a:xfrm>
              <a:off x="8534520" y="3886200"/>
              <a:ext cx="457200" cy="30492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S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Documents"/>
            <p:cNvSpPr/>
            <p:nvPr/>
          </p:nvSpPr>
          <p:spPr>
            <a:xfrm>
              <a:off x="7315200" y="2438280"/>
              <a:ext cx="228600" cy="2286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Documents"/>
            <p:cNvSpPr/>
            <p:nvPr/>
          </p:nvSpPr>
          <p:spPr>
            <a:xfrm>
              <a:off x="8153280" y="2438280"/>
              <a:ext cx="228600" cy="2286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Documents"/>
            <p:cNvSpPr/>
            <p:nvPr/>
          </p:nvSpPr>
          <p:spPr>
            <a:xfrm>
              <a:off x="8077320" y="3352680"/>
              <a:ext cx="228600" cy="2286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Documents"/>
            <p:cNvSpPr/>
            <p:nvPr/>
          </p:nvSpPr>
          <p:spPr>
            <a:xfrm>
              <a:off x="8077320" y="3886200"/>
              <a:ext cx="228600" cy="228600"/>
            </a:xfrm>
            <a:prstGeom prst="pi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9A0-3AD7-401C-AB06-15E37E89BF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MC Centera Overview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ducing Protoco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Inferring Polici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aramond"/>
              </a:rPr>
              <a:t>Various system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perturbation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2ED-09D0-43F5-90CA-65B7AFA9D8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ferring internal policie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rite polic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Level of replication, Load balancing, Caching/buffering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39480" indent="-33948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ad polic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Caching, Prefetching, Load balancing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39480" indent="-339480"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y to infe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Is particular policy implemented?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At which level it is being implemented?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x: Read Caching at Client, Access Node, Storage Node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9" name=""/>
          <p:cNvSpPr/>
          <p:nvPr/>
        </p:nvSpPr>
        <p:spPr>
          <a:xfrm>
            <a:off x="3581280" y="1676520"/>
            <a:ext cx="2057400" cy="457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8E0-B734-4D4B-91E7-E447812C2B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ystem Pertubation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erturb the syst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Delay and extra load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 common load-balancing factor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CPU load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2" marL="891360" indent="-178200">
              <a:lnSpc>
                <a:spcPct val="90000"/>
              </a:lnSpc>
              <a:spcBef>
                <a:spcPts val="60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igh priority while loo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Disk load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2" marL="891360" indent="-178200">
              <a:lnSpc>
                <a:spcPct val="90000"/>
              </a:lnSpc>
              <a:spcBef>
                <a:spcPts val="60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ackground file cop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Active TCP connection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Network delay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019920" y="1143000"/>
            <a:ext cx="1875240" cy="1371600"/>
            <a:chOff x="6019920" y="1143000"/>
            <a:chExt cx="1875240" cy="1371600"/>
          </a:xfrm>
        </p:grpSpPr>
        <p:sp>
          <p:nvSpPr>
            <p:cNvPr id="643" name=""/>
            <p:cNvSpPr/>
            <p:nvPr/>
          </p:nvSpPr>
          <p:spPr>
            <a:xfrm>
              <a:off x="6019920" y="2209680"/>
              <a:ext cx="1676160" cy="30492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Access N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324480" y="1143000"/>
              <a:ext cx="1067040" cy="38088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5" name=""/>
            <p:cNvCxnSpPr>
              <a:stCxn id="644" idx="2"/>
              <a:endCxn id="643" idx="0"/>
            </p:cNvCxnSpPr>
            <p:nvPr/>
          </p:nvCxnSpPr>
          <p:spPr>
            <a:xfrm>
              <a:off x="6857640" y="1523520"/>
              <a:ext cx="108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6" name=""/>
            <p:cNvSpPr/>
            <p:nvPr/>
          </p:nvSpPr>
          <p:spPr>
            <a:xfrm>
              <a:off x="6934320" y="175248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writ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181480" y="2514240"/>
            <a:ext cx="3276720" cy="1143360"/>
            <a:chOff x="5181480" y="2514240"/>
            <a:chExt cx="3276720" cy="1143360"/>
          </a:xfrm>
        </p:grpSpPr>
        <p:sp>
          <p:nvSpPr>
            <p:cNvPr id="648" name=""/>
            <p:cNvSpPr/>
            <p:nvPr/>
          </p:nvSpPr>
          <p:spPr>
            <a:xfrm>
              <a:off x="5181480" y="3276720"/>
              <a:ext cx="762120" cy="38088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S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19920" y="3276720"/>
              <a:ext cx="761760" cy="38088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S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0" name=""/>
            <p:cNvCxnSpPr>
              <a:stCxn id="643" idx="2"/>
              <a:endCxn id="648" idx="0"/>
            </p:cNvCxnSpPr>
            <p:nvPr/>
          </p:nvCxnSpPr>
          <p:spPr>
            <a:xfrm rot="5400000">
              <a:off x="5828760" y="2247840"/>
              <a:ext cx="762840" cy="1296000"/>
            </a:xfrm>
            <a:prstGeom prst="curvedConnector5">
              <a:avLst>
                <a:gd name="adj1" fmla="val 50000"/>
                <a:gd name="adj2" fmla="val 49986"/>
                <a:gd name="adj3" fmla="val 5000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stCxn id="643" idx="2"/>
              <a:endCxn id="649" idx="0"/>
            </p:cNvCxnSpPr>
            <p:nvPr/>
          </p:nvCxnSpPr>
          <p:spPr>
            <a:xfrm rot="5400000">
              <a:off x="6247800" y="2666880"/>
              <a:ext cx="762840" cy="457920"/>
            </a:xfrm>
            <a:prstGeom prst="curvedConnector5">
              <a:avLst>
                <a:gd name="adj1" fmla="val 50000"/>
                <a:gd name="adj2" fmla="val 49960"/>
                <a:gd name="adj3" fmla="val 5000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2" name=""/>
            <p:cNvCxnSpPr>
              <a:stCxn id="643" idx="2"/>
            </p:cNvCxnSpPr>
            <p:nvPr/>
          </p:nvCxnSpPr>
          <p:spPr>
            <a:xfrm flipH="1" rot="16200000">
              <a:off x="7143480" y="2228400"/>
              <a:ext cx="762840" cy="1334160"/>
            </a:xfrm>
            <a:prstGeom prst="curvedConnector5">
              <a:avLst>
                <a:gd name="adj1" fmla="val 50000"/>
                <a:gd name="adj2" fmla="val 49986"/>
                <a:gd name="adj3" fmla="val 5000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3" name=""/>
            <p:cNvSpPr/>
            <p:nvPr/>
          </p:nvSpPr>
          <p:spPr>
            <a:xfrm>
              <a:off x="7924680" y="2577960"/>
              <a:ext cx="244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867280" y="2577960"/>
              <a:ext cx="244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53080" y="2819520"/>
              <a:ext cx="244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58000" y="3276720"/>
              <a:ext cx="762120" cy="38088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SN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96080" y="3276720"/>
              <a:ext cx="762120" cy="380880"/>
            </a:xfrm>
            <a:prstGeom prst="rect">
              <a:avLst/>
            </a:prstGeom>
            <a:solidFill>
              <a:srgbClr val="00358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SN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643" idx="2"/>
              <a:endCxn id="656" idx="0"/>
            </p:cNvCxnSpPr>
            <p:nvPr/>
          </p:nvCxnSpPr>
          <p:spPr>
            <a:xfrm flipH="1" rot="16200000">
              <a:off x="6667200" y="2704680"/>
              <a:ext cx="762840" cy="381600"/>
            </a:xfrm>
            <a:prstGeom prst="curvedConnector5">
              <a:avLst>
                <a:gd name="adj1" fmla="val 50000"/>
                <a:gd name="adj2" fmla="val 49952"/>
                <a:gd name="adj3" fmla="val 5000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9" name=""/>
            <p:cNvSpPr/>
            <p:nvPr/>
          </p:nvSpPr>
          <p:spPr>
            <a:xfrm>
              <a:off x="7238880" y="2819520"/>
              <a:ext cx="304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334120" y="3733920"/>
            <a:ext cx="3053880" cy="1447920"/>
            <a:chOff x="5334120" y="3733920"/>
            <a:chExt cx="3053880" cy="1447920"/>
          </a:xfrm>
        </p:grpSpPr>
        <p:sp>
          <p:nvSpPr>
            <p:cNvPr id="661" name=""/>
            <p:cNvSpPr/>
            <p:nvPr/>
          </p:nvSpPr>
          <p:spPr>
            <a:xfrm>
              <a:off x="7849440" y="4876560"/>
              <a:ext cx="538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34840" y="4876560"/>
              <a:ext cx="538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334120" y="3809880"/>
              <a:ext cx="457200" cy="106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733920"/>
              <a:ext cx="457200" cy="1142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848720" y="4724280"/>
              <a:ext cx="45720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848720" y="3733920"/>
              <a:ext cx="457200" cy="1142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1000" y="4876560"/>
              <a:ext cx="538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10280" y="3733920"/>
              <a:ext cx="457200" cy="1142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10280" y="4724280"/>
              <a:ext cx="45720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72920" y="4876560"/>
              <a:ext cx="538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72200" y="3809880"/>
              <a:ext cx="457200" cy="106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172200" y="3733920"/>
              <a:ext cx="457200" cy="1142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5181480" y="3733920"/>
            <a:ext cx="1600200" cy="700920"/>
            <a:chOff x="5181480" y="3733920"/>
            <a:chExt cx="1600200" cy="700920"/>
          </a:xfrm>
        </p:grpSpPr>
        <p:sp>
          <p:nvSpPr>
            <p:cNvPr id="674" name=""/>
            <p:cNvSpPr/>
            <p:nvPr/>
          </p:nvSpPr>
          <p:spPr>
            <a:xfrm>
              <a:off x="52578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341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100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864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627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386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150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913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11160" y="419112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ctive TC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8672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958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722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485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244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008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771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530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6294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81480" y="4114800"/>
              <a:ext cx="1600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057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257800" y="3733920"/>
            <a:ext cx="1523520" cy="837720"/>
            <a:chOff x="5257800" y="3733920"/>
            <a:chExt cx="1523520" cy="837720"/>
          </a:xfrm>
        </p:grpSpPr>
        <p:sp>
          <p:nvSpPr>
            <p:cNvPr id="695" name=""/>
            <p:cNvSpPr/>
            <p:nvPr/>
          </p:nvSpPr>
          <p:spPr>
            <a:xfrm>
              <a:off x="60958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722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2485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244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008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4771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530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6294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057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6095880" y="4114800"/>
              <a:ext cx="685440" cy="456840"/>
              <a:chOff x="6095880" y="4114800"/>
              <a:chExt cx="685440" cy="456840"/>
            </a:xfrm>
          </p:grpSpPr>
          <p:sp>
            <p:nvSpPr>
              <p:cNvPr id="705" name=""/>
              <p:cNvSpPr/>
              <p:nvPr/>
            </p:nvSpPr>
            <p:spPr>
              <a:xfrm>
                <a:off x="6095880" y="4114800"/>
                <a:ext cx="249120" cy="326520"/>
              </a:xfrm>
              <a:prstGeom prst="flowChartMagneticDisk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407640" y="4114800"/>
                <a:ext cx="249120" cy="326520"/>
              </a:xfrm>
              <a:prstGeom prst="flowChartMagneticDisk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20440" y="4245480"/>
                <a:ext cx="249120" cy="326160"/>
              </a:xfrm>
              <a:prstGeom prst="flowChartMagneticDisk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32200" y="4245480"/>
                <a:ext cx="249120" cy="326160"/>
              </a:xfrm>
              <a:prstGeom prst="flowChartMagneticDisk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52578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100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864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627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386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1500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9132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67280" y="37339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257800" y="4114800"/>
              <a:ext cx="685440" cy="456840"/>
              <a:chOff x="5257800" y="4114800"/>
              <a:chExt cx="685440" cy="456840"/>
            </a:xfrm>
          </p:grpSpPr>
          <p:sp>
            <p:nvSpPr>
              <p:cNvPr id="719" name=""/>
              <p:cNvSpPr/>
              <p:nvPr/>
            </p:nvSpPr>
            <p:spPr>
              <a:xfrm>
                <a:off x="5257800" y="4114800"/>
                <a:ext cx="249120" cy="326520"/>
              </a:xfrm>
              <a:prstGeom prst="flowChartMagneticDisk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69560" y="4114800"/>
                <a:ext cx="249120" cy="326520"/>
              </a:xfrm>
              <a:prstGeom prst="flowChartMagneticDisk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82360" y="4245480"/>
                <a:ext cx="249120" cy="326160"/>
              </a:xfrm>
              <a:prstGeom prst="flowChartMagneticDisk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94120" y="4245480"/>
                <a:ext cx="249120" cy="326160"/>
              </a:xfrm>
              <a:prstGeom prst="flowChartMagneticDisk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3" name=""/>
          <p:cNvSpPr/>
          <p:nvPr/>
        </p:nvSpPr>
        <p:spPr>
          <a:xfrm>
            <a:off x="4876560" y="2590920"/>
            <a:ext cx="686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 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"/>
          <p:cNvCxnSpPr>
            <a:stCxn id="643" idx="2"/>
            <a:endCxn id="648" idx="0"/>
          </p:cNvCxnSpPr>
          <p:nvPr/>
        </p:nvCxnSpPr>
        <p:spPr>
          <a:xfrm rot="5400000">
            <a:off x="5828760" y="2247840"/>
            <a:ext cx="76284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0AD-29E3-4BCA-A718-4243B03C64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3429000" cy="240012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rite Load Balancing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325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hat factors determined which storage nodes are selected?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Observe which primary storage nodes selected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Without load: writes are balanced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aramond"/>
              </a:rPr>
              <a:t>With load: writes skew toward unloaded nodes</a:t>
            </a:r>
            <a:endParaRPr b="0" lang="en-US" sz="2000" spc="-1" strike="noStrike">
              <a:solidFill>
                <a:srgbClr val="333333"/>
              </a:solidFill>
              <a:latin typeface="Garamond"/>
            </a:endParaRPr>
          </a:p>
        </p:txBody>
      </p:sp>
      <p:sp>
        <p:nvSpPr>
          <p:cNvPr id="728" name=""/>
          <p:cNvSpPr/>
          <p:nvPr/>
        </p:nvSpPr>
        <p:spPr>
          <a:xfrm>
            <a:off x="7391520" y="3581280"/>
            <a:ext cx="13716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Documents"/>
          <p:cNvSpPr/>
          <p:nvPr/>
        </p:nvSpPr>
        <p:spPr>
          <a:xfrm>
            <a:off x="1371600" y="4648320"/>
            <a:ext cx="380880" cy="38088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rot="20080800">
            <a:off x="1905120" y="4419720"/>
            <a:ext cx="761760" cy="257040"/>
          </a:xfrm>
          <a:prstGeom prst="rightArrow">
            <a:avLst>
              <a:gd name="adj1" fmla="val 51852"/>
              <a:gd name="adj2" fmla="val 11175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rot="1482000">
            <a:off x="1904760" y="4952880"/>
            <a:ext cx="761760" cy="257400"/>
          </a:xfrm>
          <a:prstGeom prst="rightArrow">
            <a:avLst>
              <a:gd name="adj1" fmla="val 51852"/>
              <a:gd name="adj2" fmla="val 11159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7400" y="4191120"/>
            <a:ext cx="22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3520" y="4648320"/>
            <a:ext cx="761760" cy="38088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66880" y="4191120"/>
            <a:ext cx="1752840" cy="3808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n#1 U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666880" y="5029200"/>
            <a:ext cx="175284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n#2 U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7400" y="4952880"/>
            <a:ext cx="22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666880" y="5029200"/>
            <a:ext cx="17528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n#2 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452-406B-4666-8381-07E7380553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8763120" cy="28796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rite Load Balancing Result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"/>
          <p:cNvSpPr/>
          <p:nvPr/>
        </p:nvSpPr>
        <p:spPr>
          <a:xfrm>
            <a:off x="1219320" y="11430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No Pertu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590920" y="114300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Ad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CPU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038480" y="114300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Disk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86400" y="114300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934320" y="114300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In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886"/>
                </a:solidFill>
                <a:latin typeface="Garamond"/>
              </a:rPr>
              <a:t>Net.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20481600">
            <a:off x="1442880" y="2335320"/>
            <a:ext cx="285840" cy="257040"/>
          </a:xfrm>
          <a:prstGeom prst="rightArrow">
            <a:avLst>
              <a:gd name="adj1" fmla="val 51852"/>
              <a:gd name="adj2" fmla="val 419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797400">
            <a:off x="1442520" y="2758680"/>
            <a:ext cx="304920" cy="257040"/>
          </a:xfrm>
          <a:prstGeom prst="rightArrow">
            <a:avLst>
              <a:gd name="adj1" fmla="val 51852"/>
              <a:gd name="adj2" fmla="val 4473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752480" y="2286000"/>
            <a:ext cx="60984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n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752480" y="2819520"/>
            <a:ext cx="60984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n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rot="20481600">
            <a:off x="2890800" y="2335320"/>
            <a:ext cx="285840" cy="257040"/>
          </a:xfrm>
          <a:prstGeom prst="rightArrow">
            <a:avLst>
              <a:gd name="adj1" fmla="val 51852"/>
              <a:gd name="adj2" fmla="val 419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2286000"/>
            <a:ext cx="60948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n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00400" y="2819520"/>
            <a:ext cx="6858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+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Documents"/>
          <p:cNvSpPr/>
          <p:nvPr/>
        </p:nvSpPr>
        <p:spPr>
          <a:xfrm>
            <a:off x="2666880" y="2514600"/>
            <a:ext cx="228600" cy="30492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20481600">
            <a:off x="4338720" y="2335320"/>
            <a:ext cx="285840" cy="257040"/>
          </a:xfrm>
          <a:prstGeom prst="rightArrow">
            <a:avLst>
              <a:gd name="adj1" fmla="val 51852"/>
              <a:gd name="adj2" fmla="val 419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48320" y="2286000"/>
            <a:ext cx="60948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n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648320" y="2819520"/>
            <a:ext cx="6858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+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rot="20481600">
            <a:off x="5786280" y="2335320"/>
            <a:ext cx="285840" cy="257040"/>
          </a:xfrm>
          <a:prstGeom prst="rightArrow">
            <a:avLst>
              <a:gd name="adj1" fmla="val 51852"/>
              <a:gd name="adj2" fmla="val 419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095880" y="2286000"/>
            <a:ext cx="60984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n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2819520"/>
            <a:ext cx="6858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+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rot="20481600">
            <a:off x="7234200" y="2335320"/>
            <a:ext cx="285840" cy="257040"/>
          </a:xfrm>
          <a:prstGeom prst="rightArrow">
            <a:avLst>
              <a:gd name="adj1" fmla="val 51852"/>
              <a:gd name="adj2" fmla="val 419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2286000"/>
            <a:ext cx="60948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n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2819520"/>
            <a:ext cx="7621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+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ocuments"/>
          <p:cNvSpPr/>
          <p:nvPr/>
        </p:nvSpPr>
        <p:spPr>
          <a:xfrm>
            <a:off x="1219320" y="2514600"/>
            <a:ext cx="228600" cy="30492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Documents"/>
          <p:cNvSpPr/>
          <p:nvPr/>
        </p:nvSpPr>
        <p:spPr>
          <a:xfrm>
            <a:off x="5562720" y="2514600"/>
            <a:ext cx="228600" cy="30492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Documents"/>
          <p:cNvSpPr/>
          <p:nvPr/>
        </p:nvSpPr>
        <p:spPr>
          <a:xfrm>
            <a:off x="4114800" y="2514600"/>
            <a:ext cx="228600" cy="30492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Documents"/>
          <p:cNvSpPr/>
          <p:nvPr/>
        </p:nvSpPr>
        <p:spPr>
          <a:xfrm>
            <a:off x="7010280" y="2514600"/>
            <a:ext cx="228600" cy="30492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797400">
            <a:off x="7238520" y="2742840"/>
            <a:ext cx="304920" cy="257040"/>
          </a:xfrm>
          <a:prstGeom prst="rightArrow">
            <a:avLst>
              <a:gd name="adj1" fmla="val 51852"/>
              <a:gd name="adj2" fmla="val 4473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590920" y="914400"/>
            <a:ext cx="144756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038480" y="914400"/>
            <a:ext cx="14479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86400" y="914400"/>
            <a:ext cx="14479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934320" y="914400"/>
            <a:ext cx="182880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290-8079-4D5A-99A2-C63A26A81A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mmary of finding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57200" y="1143000"/>
          <a:ext cx="8153280" cy="2371680"/>
        </p:xfrm>
        <a:graphic>
          <a:graphicData uri="http://schemas.openxmlformats.org/drawingml/2006/table">
            <a:tbl>
              <a:tblPr/>
              <a:tblGrid>
                <a:gridCol w="2567160"/>
                <a:gridCol w="558612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rite Polic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pl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wo copies in two nodes attached to different power (reliability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oad balanc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PU usage (locally observable statu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etwork status is not incorpora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rite buff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orage nodes write synchronous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457200" y="3962520"/>
          <a:ext cx="8153280" cy="2706480"/>
        </p:xfrm>
        <a:graphic>
          <a:graphicData uri="http://schemas.openxmlformats.org/drawingml/2006/table">
            <a:tbl>
              <a:tblPr/>
              <a:tblGrid>
                <a:gridCol w="2567160"/>
                <a:gridCol w="558612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ad Polic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ac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orage node only (commodity filesyste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ess node and client does not cach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fetc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orage node only (commodity filesyste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ess node and client does not prefet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oad Balanc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ot implemented in earlier ver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ill reads from busy nod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74" name=""/>
          <p:cNvSpPr/>
          <p:nvPr/>
        </p:nvSpPr>
        <p:spPr>
          <a:xfrm>
            <a:off x="2209680" y="2133720"/>
            <a:ext cx="4724640" cy="3124080"/>
          </a:xfrm>
          <a:prstGeom prst="rect">
            <a:avLst/>
          </a:prstGeom>
          <a:solidFill>
            <a:srgbClr val="004886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MC Cente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Simp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824-6A14-4362-AD86-A802436BEA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tra-box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Observe and perturb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Deconstruct protocol and infer policies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No access to source code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wer of probe point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More observation places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Ability to control the system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stems built with more externally visible probe poin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Systems more readily understood, analyzed, and debugged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Higher-performing, more robust and reliable computer systems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D7A-6649-405D-8CDC-D2751CFB8D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rcRect l="0" t="0" r="0" b="29871"/>
          <a:stretch/>
        </p:blipFill>
        <p:spPr>
          <a:xfrm>
            <a:off x="4724280" y="3200400"/>
            <a:ext cx="2349720" cy="68580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85428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DF4-5496-4105-AA89-2FFD232F3E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y need to know?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tter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How system behaves under different workload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Example in storage industry: capacity model for capacity planning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Model is limited if the information is limited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duc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Validate what product specs say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Performance numbers cannot confirm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ritical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valuati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f design and implementation choice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Control what is occurring inside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65F-E6DD-45A1-A415-D5FD59E8C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362320" y="4343400"/>
            <a:ext cx="457200" cy="457200"/>
            <a:chOff x="2362320" y="4343400"/>
            <a:chExt cx="457200" cy="4572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rcRect l="31361" t="32431" r="45118" b="37640"/>
            <a:stretch/>
          </p:blipFill>
          <p:spPr>
            <a:xfrm>
              <a:off x="2362320" y="43434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8362200">
              <a:off x="2453400" y="4411440"/>
              <a:ext cx="274320" cy="274320"/>
            </a:xfrm>
            <a:prstGeom prst="blockArc">
              <a:avLst>
                <a:gd name="adj1" fmla="val 11487722"/>
                <a:gd name="adj2" fmla="val 20912278"/>
                <a:gd name="adj3" fmla="val 329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362320" y="5257800"/>
            <a:ext cx="457200" cy="457200"/>
            <a:chOff x="2362320" y="5257800"/>
            <a:chExt cx="457200" cy="4572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rcRect l="31361" t="32431" r="45118" b="37640"/>
            <a:stretch/>
          </p:blipFill>
          <p:spPr>
            <a:xfrm>
              <a:off x="2362320" y="52578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476440" y="5349960"/>
              <a:ext cx="250920" cy="297000"/>
            </a:xfrm>
            <a:prstGeom prst="blockArc">
              <a:avLst>
                <a:gd name="adj1" fmla="val 11560620"/>
                <a:gd name="adj2" fmla="val 20839380"/>
                <a:gd name="adj3" fmla="val 34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raditionally black box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ighly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ustomize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oprietar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hardware and O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Hitachi Lightning, NetApp Filers, EMC Symmetrix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EMC Symmetrix: disk/cache manager, proprietary OS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ternal information is hidden behind standard interfa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876920"/>
            <a:ext cx="1067040" cy="30456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029200" y="3733920"/>
            <a:ext cx="3048120" cy="2514600"/>
            <a:chOff x="5029200" y="3733920"/>
            <a:chExt cx="3048120" cy="2514600"/>
          </a:xfrm>
        </p:grpSpPr>
        <p:sp>
          <p:nvSpPr>
            <p:cNvPr id="64" name=""/>
            <p:cNvSpPr/>
            <p:nvPr/>
          </p:nvSpPr>
          <p:spPr>
            <a:xfrm>
              <a:off x="5105520" y="3733920"/>
              <a:ext cx="2971800" cy="251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Storag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9200" y="4953240"/>
              <a:ext cx="152640" cy="152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4191120"/>
              <a:ext cx="387360" cy="54468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15200" y="4191120"/>
              <a:ext cx="389160" cy="54468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0" y="4191120"/>
              <a:ext cx="389160" cy="54468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53440" y="4572000"/>
              <a:ext cx="387360" cy="54468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562720" y="4343400"/>
              <a:ext cx="533520" cy="444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71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5562720" y="4876920"/>
              <a:ext cx="533520" cy="44460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pic>
          <p:nvPicPr>
            <p:cNvPr id="72" name="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5562720" y="5410440"/>
              <a:ext cx="533520" cy="44424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7010640" y="4572000"/>
              <a:ext cx="387360" cy="54468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840" y="4572000"/>
              <a:ext cx="387360" cy="54468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5029200"/>
              <a:ext cx="387360" cy="54468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15200" y="5029200"/>
              <a:ext cx="389160" cy="54468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0" y="5029200"/>
              <a:ext cx="389160" cy="54468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53440" y="5410440"/>
              <a:ext cx="387360" cy="54432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10640" y="5410440"/>
              <a:ext cx="387360" cy="54432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67840" y="5410440"/>
              <a:ext cx="387360" cy="544320"/>
            </a:xfrm>
            <a:prstGeom prst="flowChartMagneticDisk">
              <a:avLst/>
            </a:prstGeom>
            <a:solidFill>
              <a:srgbClr val="3333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286000" y="4952880"/>
            <a:ext cx="152280" cy="15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1" idx="3"/>
            <a:endCxn id="65" idx="1"/>
          </p:cNvCxnSpPr>
          <p:nvPr/>
        </p:nvCxnSpPr>
        <p:spPr>
          <a:xfrm>
            <a:off x="2437920" y="5028840"/>
            <a:ext cx="2591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3" name="Documents"/>
          <p:cNvSpPr/>
          <p:nvPr/>
        </p:nvSpPr>
        <p:spPr>
          <a:xfrm>
            <a:off x="2514600" y="4876920"/>
            <a:ext cx="228600" cy="304560"/>
          </a:xfrm>
          <a:prstGeom prst="pi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657600"/>
            <a:ext cx="1676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ffff00"/>
                </a:solidFill>
                <a:latin typeface="Courier New"/>
              </a:rPr>
              <a:t>?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4952880"/>
            <a:ext cx="380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621-1E5F-4B4D-ACBB-0AAA300844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-1.11111E-006 L 0.3125 -1.11111E-006 E">
                                      <p:cBhvr>
                                        <p:cTn id="36" dur="1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4.44444E-006 L -0.25834 4.44444E-006 E">
                                      <p:cBhvr>
                                        <p:cTn id="41" dur="1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odern graybox storage system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uster of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modity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PCs running commodity O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aramond"/>
              </a:rPr>
              <a:t>Google FS cluster, HP FAB, </a:t>
            </a: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EMC Centera</a:t>
            </a:r>
            <a:endParaRPr b="0" lang="en-US" sz="1800" spc="-1" strike="noStrike">
              <a:solidFill>
                <a:srgbClr val="333333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vantages of commodity storage cluster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aramond"/>
              </a:rPr>
              <a:t>Direct internal observation – visible probe points</a:t>
            </a:r>
            <a:endParaRPr b="0" lang="en-US" sz="1800" spc="-1" strike="noStrike">
              <a:solidFill>
                <a:srgbClr val="333333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aramond"/>
              </a:rPr>
              <a:t>Leverage existing standardized tools</a:t>
            </a:r>
            <a:endParaRPr b="0" lang="en-US" sz="1800" spc="-1" strike="noStrike">
              <a:solidFill>
                <a:srgbClr val="333333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800600"/>
            <a:ext cx="1066680" cy="30492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3"/>
            <a:endCxn id="90" idx="1"/>
          </p:cNvCxnSpPr>
          <p:nvPr/>
        </p:nvCxnSpPr>
        <p:spPr>
          <a:xfrm>
            <a:off x="2057040" y="4952520"/>
            <a:ext cx="1981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4114800" y="3352680"/>
            <a:ext cx="4724280" cy="327672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torag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0" y="4800600"/>
            <a:ext cx="380880" cy="2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38680" y="4343400"/>
            <a:ext cx="30492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934320" y="4572000"/>
            <a:ext cx="380880" cy="2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4343400"/>
            <a:ext cx="30456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791320" y="42670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172200" y="42670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638680" y="411480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99" name=""/>
          <p:cNvSpPr txBox="1"/>
          <p:nvPr/>
        </p:nvSpPr>
        <p:spPr>
          <a:xfrm>
            <a:off x="5791320" y="411480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95680" y="5105520"/>
            <a:ext cx="60984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wit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3886200"/>
            <a:ext cx="30492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05920" y="3886200"/>
            <a:ext cx="30456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077320" y="38098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58200" y="38098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924680" y="365760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8077320" y="365760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4648320"/>
            <a:ext cx="30492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4648320"/>
            <a:ext cx="30456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8077320" y="457164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458200" y="457164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924680" y="441972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8077320" y="441972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5410080"/>
            <a:ext cx="304920" cy="38124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5410080"/>
            <a:ext cx="304560" cy="38124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077320" y="533376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458200" y="533376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924680" y="518148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18" name=""/>
          <p:cNvSpPr txBox="1"/>
          <p:nvPr/>
        </p:nvSpPr>
        <p:spPr>
          <a:xfrm>
            <a:off x="8077320" y="5181480"/>
            <a:ext cx="30456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6172200"/>
            <a:ext cx="30492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6172200"/>
            <a:ext cx="30456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077320" y="60958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58200" y="60958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7924680" y="594360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8077320" y="594360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5715000"/>
            <a:ext cx="30492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5715000"/>
            <a:ext cx="304560" cy="380880"/>
          </a:xfrm>
          <a:prstGeom prst="flowChartMagneticDisk">
            <a:avLst/>
          </a:prstGeom>
          <a:solidFill>
            <a:srgbClr val="33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56386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172200" y="56386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5638680" y="5486400"/>
            <a:ext cx="685800" cy="1936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30" name=""/>
          <p:cNvSpPr txBox="1"/>
          <p:nvPr/>
        </p:nvSpPr>
        <p:spPr>
          <a:xfrm>
            <a:off x="5791320" y="5486400"/>
            <a:ext cx="30456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934320" y="5029200"/>
            <a:ext cx="380880" cy="2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6858000" y="5334120"/>
            <a:ext cx="60948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wit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6483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51814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98" idx="3"/>
            <a:endCxn id="129" idx="3"/>
          </p:cNvCxnSpPr>
          <p:nvPr/>
        </p:nvCxnSpPr>
        <p:spPr>
          <a:xfrm>
            <a:off x="6324120" y="4211640"/>
            <a:ext cx="2520" cy="1372320"/>
          </a:xfrm>
          <a:prstGeom prst="bentConnector3">
            <a:avLst>
              <a:gd name="adj1" fmla="val 19200000"/>
            </a:avLst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6" name=""/>
          <p:cNvCxnSpPr>
            <a:stCxn id="105" idx="1"/>
            <a:endCxn id="123" idx="1"/>
          </p:cNvCxnSpPr>
          <p:nvPr/>
        </p:nvCxnSpPr>
        <p:spPr>
          <a:xfrm flipH="1" flipV="1" rot="10800000">
            <a:off x="7923600" y="3754080"/>
            <a:ext cx="2520" cy="2286720"/>
          </a:xfrm>
          <a:prstGeom prst="bentConnector3">
            <a:avLst>
              <a:gd name="adj1" fmla="val -192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7315200" y="46483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51814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25780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4495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98" idx="1"/>
            <a:endCxn id="129" idx="1"/>
          </p:cNvCxnSpPr>
          <p:nvPr/>
        </p:nvCxnSpPr>
        <p:spPr>
          <a:xfrm flipH="1" flipV="1" rot="10800000">
            <a:off x="5637600" y="4211280"/>
            <a:ext cx="2520" cy="1372320"/>
          </a:xfrm>
          <a:prstGeom prst="bentConnector3">
            <a:avLst>
              <a:gd name="adj1" fmla="val -144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4952880" y="4952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876920"/>
            <a:ext cx="15264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4952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86400" y="3962520"/>
            <a:ext cx="99072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Commodity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Documents"/>
          <p:cNvSpPr/>
          <p:nvPr/>
        </p:nvSpPr>
        <p:spPr>
          <a:xfrm>
            <a:off x="2133720" y="4724280"/>
            <a:ext cx="304560" cy="381240"/>
          </a:xfrm>
          <a:prstGeom prst="pi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cuments"/>
          <p:cNvSpPr/>
          <p:nvPr/>
        </p:nvSpPr>
        <p:spPr>
          <a:xfrm>
            <a:off x="6172200" y="4191120"/>
            <a:ext cx="304920" cy="380880"/>
          </a:xfrm>
          <a:prstGeom prst="pi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3505320"/>
            <a:ext cx="838080" cy="228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pdat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3505320"/>
            <a:ext cx="838080" cy="228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pdat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0120" y="6019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5562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5867280"/>
            <a:ext cx="0" cy="4572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5943600"/>
            <a:ext cx="0" cy="4572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6248520"/>
            <a:ext cx="0" cy="3045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E1B-A403-4EF5-84B5-DEEB9170C4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L 0.34288 -3.7037E-006 L 0.34288 -0.10532 L 0.42431 -0.10417 E">
                                      <p:cBhvr>
                                        <p:cTn id="52" dur="1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431 -0.10417 L 0.46059 -0.10417 L 0.46059 -0.04375 L 0.56979 -0.04375 L 0.56979 -0.17084 L 0.625 -0.17084 L 0.625 -0.11273 E">
                                      <p:cBhvr>
                                        <p:cTn id="56" dur="1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0.03472 3.7037E-006 L 0.03472 0.13101 L 0.13871 0.13101 L 0.13871 0.25787 L 0.25087 0.25787 L 0.25087 0.30208 E">
                                      <p:cBhvr>
                                        <p:cTn id="60" dur="1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3333E-006 L -0.03785 -3.33333E-006 L -0.03785 0.13033 L -0.13872 0.13033 L -0.13872 0.07431 L -0.19202 0.07431 L -0.19202 0.12477 E">
                                      <p:cBhvr>
                                        <p:cTn id="68" dur="1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2 0.00555 L -0.07812 0.00555 L -0.07812 0.22616 L -0.17482 0.22616 L -0.17482 0.27546 L -0.29583 0.27546 L -0.29583 0.325 E">
                                      <p:cBhvr>
                                        <p:cTn id="70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ra-box Techniques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wo “Intra-box” techniqu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Observation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ystem perturbation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marL="343080" indent="-343080"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wo components of analysi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Deduce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structure</a:t>
            </a:r>
            <a:r>
              <a:rPr b="1" i="1" lang="en-US" sz="2800" spc="-1" strike="noStrike">
                <a:solidFill>
                  <a:srgbClr val="3333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of main communication protocol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bject Read and Write protoco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Internal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policy</a:t>
            </a: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 decisions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4886"/>
              </a:buClr>
              <a:buSzPct val="75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ching, prefetching, write buffering, load balancing, etc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CCA-26FD-47FA-84E1-77F2DAA817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oal and EMC Author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Feasibility of deconstructing commodity storage clusters, no source code</a:t>
            </a: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Results achieved without EMC assistance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marL="308520" indent="-308520">
              <a:spcBef>
                <a:spcPts val="4000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MC Autho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Evaluate correctness of our findings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aramond"/>
              </a:rPr>
              <a:t>Give insights behind their design decisions</a:t>
            </a: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C86-81EC-44B7-BA39-63E1CAA293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EMC Centera Overview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tra-box tools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ducing Protoco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bservation and Delay Pertubation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ferring Polic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aramond"/>
              </a:rPr>
              <a:t>System Perturbation</a:t>
            </a:r>
            <a:endParaRPr b="0" lang="en-US" sz="2400" spc="-1" strike="noStrike">
              <a:solidFill>
                <a:srgbClr val="333333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00488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856-7452-4679-888B-FB3A9AE3BF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733920" y="1219320"/>
            <a:ext cx="0" cy="5410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loud"/>
          <p:cNvSpPr/>
          <p:nvPr/>
        </p:nvSpPr>
        <p:spPr>
          <a:xfrm>
            <a:off x="2057400" y="3048120"/>
            <a:ext cx="2133720" cy="160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886"/>
                </a:solidFill>
                <a:latin typeface="Garamond"/>
              </a:rPr>
              <a:t>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loud"/>
          <p:cNvSpPr/>
          <p:nvPr/>
        </p:nvSpPr>
        <p:spPr>
          <a:xfrm>
            <a:off x="5029200" y="2743200"/>
            <a:ext cx="2133720" cy="25146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886"/>
                </a:solidFill>
                <a:latin typeface="Garamond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entera Topology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9810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86"/>
                </a:solidFill>
                <a:latin typeface="Garamond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733920"/>
            <a:ext cx="1143000" cy="28404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3429000"/>
            <a:ext cx="1143000" cy="304920"/>
          </a:xfrm>
          <a:prstGeom prst="rect">
            <a:avLst/>
          </a:prstGeom>
          <a:solidFill>
            <a:srgbClr val="3399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3809880"/>
            <a:ext cx="1143000" cy="304920"/>
          </a:xfrm>
          <a:prstGeom prst="rect">
            <a:avLst/>
          </a:prstGeom>
          <a:solidFill>
            <a:srgbClr val="3399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666880"/>
            <a:ext cx="1143000" cy="30492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828800"/>
            <a:ext cx="914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86"/>
                </a:solidFill>
                <a:latin typeface="Garamond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86"/>
                </a:solidFill>
                <a:latin typeface="Garamond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3048120"/>
            <a:ext cx="1143000" cy="30456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3429000"/>
            <a:ext cx="1143000" cy="30492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3809880"/>
            <a:ext cx="1143000" cy="30492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4191120"/>
            <a:ext cx="1143000" cy="30456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4572000"/>
            <a:ext cx="1143000" cy="304920"/>
          </a:xfrm>
          <a:prstGeom prst="rect">
            <a:avLst/>
          </a:prstGeom>
          <a:solidFill>
            <a:srgbClr val="00358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1676520"/>
            <a:ext cx="137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86"/>
                </a:solidFill>
                <a:latin typeface="Garamond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86"/>
                </a:solidFill>
                <a:latin typeface="Garamond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B09-F2EB-468B-A08D-35555EE59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2:53:55Z</dcterms:created>
  <dc:creator>Haryadi Gunawi</dc:creator>
  <dc:description/>
  <dc:language>en-US</dc:language>
  <cp:lastModifiedBy>Remzi Arpaci</cp:lastModifiedBy>
  <dcterms:modified xsi:type="dcterms:W3CDTF">2009-02-19T18:51:00Z</dcterms:modified>
  <cp:revision>878</cp:revision>
  <dc:subject/>
  <dc:title>Slide 1</dc:title>
</cp:coreProperties>
</file>