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90B-C536-4107-AB27-20EC06D6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13C-EC1A-48B0-AA61-DEFF5DF8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61F-6748-46FC-BBC0-AD754E9C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45B-67CA-4E4F-99DE-27484EDA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210-0361-4CC5-A18A-8806AA41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874-4FB7-41A2-92AF-80E29B52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868-1FFC-4638-BC84-5C3EB9DB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1A5-0779-4F3E-92CF-D8077100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C6E-C5FC-4E4C-A4B6-F74847E4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D9F-75D3-484C-BE7C-F853050A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568-BBF7-46E6-BB7E-41420EB2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8CD-4845-4EDD-972C-37977D83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D8BC-80DE-429C-8143-A4E451761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ntroduction to CS739: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tribution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73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Distributed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96252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distributed system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the benefits and challen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will CS739 be struct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dings, Writeups,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earning by Do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arm-up Projec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oal: Become familiar with existing distributed programming environm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s: Hadoop (open-source MapReduce), MPI, PV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ask 0: Get environment runn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ask 1: Implement simple application (e.g., sorting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ask 2: Report sufficient numbers to indicate did someth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nal Projec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oal 1: Experience with “research process” in genera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ork on open-ended project, unknown resul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ew idea where don’t know if it will wor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oal 2: Learn about specific topic in dept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opic from my list or your own choice; work with project partn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liverables: 20 minute talk, short research pap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genda for Next Clas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e websit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ww.cs.wisc.edu/~cs739-1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urvey : Distributed Operating Syste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rew S. Tanenbaum and Robbert Van Renes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CM Computing Surveys, Volume 17, Issue 4 (December 1985), pp 419-470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ng paper: Focus on Sections 1 and 2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nswer question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were the goals of distributed systems at this time?  Which design issue (I.e., communication primitives, naming and protection, resource management, fault tolerance, services) seems most challenging (or interesting)? Why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mail answer to me with Subject 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cs739: Surve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ink about group presentation pape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Goals of Cours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earn about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challenge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nd existing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techniques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or building distributed systems and servic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ad and discuss influential papers from SOSP, OSDI, NSDI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ain some experience programming in distributed environm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rm-up projec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nal projec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s a Distributed System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eslie Lamport say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“You know you have one when the crash of a computer you never heard of stops you from doing any work”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ore technical defini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“Collection of </a:t>
            </a: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computers that appears to its users as a </a:t>
            </a: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single coherent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system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are parallel, distributed, networked systems different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l contain nodes (processing, memory, disk) connected with networ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487692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47242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47242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7242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9160" y="5029200"/>
            <a:ext cx="8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36720" y="510552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distrib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34880" y="51055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networ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3120" y="5562720"/>
            <a:ext cx="47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sider distributed 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services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as wel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3840" y="4495680"/>
            <a:ext cx="101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More</a:t>
            </a:r>
            <a:br>
              <a:rPr sz="2000"/>
            </a:b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un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50960" y="4572000"/>
            <a:ext cx="101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Less</a:t>
            </a:r>
            <a:br>
              <a:rPr sz="2000"/>
            </a:b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un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enefits of Distributed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reat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price/perform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everage commodity components (nodes and network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 many, many of the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cremental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 add x% new nodes (or disks or memory) to improve performance x%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roved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availability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tinue operating when some nodes stop working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roved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 reliabil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liver correct results when some nodes misbehave, corrupt dat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ow geographically-distributed individuals to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data or cooperat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tributed System Challeng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ack of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global stat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inform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fferent nodes have different view of syste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at are the contents of file A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ow many jobs are running on node X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ich nodes are currently part of the system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e delays, different ordering of messages, lost messages, network parti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ension with goal of “single coherent system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ndling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slow, failed and misbehaving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do you avoid slow node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do you get back data or work from failed nod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nodes disagree, how do you know who is wrong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ension with goal of “available and reliable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en is it okay to have some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centralized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component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ifies state management, but single point-of-failure and performance bottlene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tent of 739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tributed system courses can be very different…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Theoretical: distributed algorithm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(e.g., to allow nodes to come to consensus or agreement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4 lectur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Practical: distributed programming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(e.g., using RPC, JAVA RMI, CORBA, DCOM, MPI, PVM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rm-up projec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Research systems: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new ideas for making distributed systems bett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ocus of cours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emented systems with new conceptual idea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ent papers in top systems conferences (SOSP, OSDI, NSDI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earning by Read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ense reading list; assume sophisticated reader (736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ually cover 1 fascinating paper per clas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exa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ree types of cla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af67ff"/>
              </a:buClr>
              <a:buFont typeface="Chalk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Formal lectur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: Only for 4 theory topic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af67ff"/>
              </a:buClr>
              <a:buFont typeface="Chalk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Discussions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: Most pap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 ask questions, expect everyone to enthusiastically participate; fairly casual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ask 1: Read paper 2-3 times before cla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ask 2: Email write-up to me BEFORE cla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ask 3: Take turns being scribe (about 2 times in semester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765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Write-up notes from discussion in latex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76520" indent="-304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ost to web page within 72 hour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earning by Reading (cont)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ypes of classes (cont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af67ff"/>
              </a:buClr>
              <a:buFont typeface="Chalkboard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Group-led lectures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: 4 topic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mall group gives overview of about 3-4 related pape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opics: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8012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Distributed system analysi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8012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rocess migration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8012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rogramming environment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8012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pecialized distributed service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8012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Good practice for giving presentation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8012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Learn about topic in slightly more depth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8012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Group: 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4" marL="212832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Finalize related papers (1 week before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4" marL="212832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resent to me (2 days before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4" marL="212832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se slide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8012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Everyone else: Skim paper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andout: State preferences by next wee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urse Topics: Reading Lis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stributed Operating Systems (Survey, Amoeba vs Sprite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etwork File Systems (NFS, Coda, LBF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heory: Time, Ordering, and Distributed Snapshots (2 Lamport paper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nalysis of Distributed Systems (1 + Group Presentation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gramming Environments (DSM, MapReduce, Group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cess Migration (1 + Group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pecialized Distributed Services (Porcupine + Group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SPRING BREA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heory: Consensus (Byzantine failures and fail-stop processor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uster-based File Systems (Petal+Frangipani and GoogleF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mmunication Primitives (RPC vs U-Net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2P Systems (Measurement, CFS, Amazon, Pangaea, LOCKS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iscellaneous: Trust, Recovery, Mistakes, Speculation, Sensor Network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0T03:29:41Z</dcterms:created>
  <dc:creator>Andrea Arpaci-Dusseau</dc:creator>
  <dc:description/>
  <dc:language>en-US</dc:language>
  <cp:lastModifiedBy>Remzi Arpaci</cp:lastModifiedBy>
  <cp:lastPrinted>2008-01-22T16:15:15Z</cp:lastPrinted>
  <dcterms:modified xsi:type="dcterms:W3CDTF">2008-02-12T14:58:47Z</dcterms:modified>
  <cp:revision>20</cp:revision>
  <dc:subject/>
  <dc:title>Introduction and Overview</dc:title>
</cp:coreProperties>
</file>