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862A-70DC-4F0B-9572-4D31F1D0D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560" y="391212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DAC5-CC60-4FFC-B30C-CC6F9C5B7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860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73B3-664B-4501-BAB6-854B7DD93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440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460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56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440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460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59A2-A8C3-4386-B09B-E696CD22E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AF80-C218-4F81-8BA6-872122A48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FE87-9303-40D4-9DF2-7464BE277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FBD4-D8C1-46BD-8024-60746C56D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46F6-B578-4FC3-9FC6-044BC6669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560" y="304560"/>
            <a:ext cx="84582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3A1A-3701-4285-92F8-A6E9FA589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56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7C1E-211F-49A2-9D75-B2B05BBD5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860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0513-6212-4D86-81B9-D47ADD64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560" y="391212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ADAC-6000-4F97-AB57-1C17E30B5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Click to edit the title text format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4279D-6E45-45A2-87DB-578F93FA86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1599840"/>
            <a:ext cx="78483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Fail-Stop Processor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42" name=""/>
          <p:cNvSpPr/>
          <p:nvPr/>
        </p:nvSpPr>
        <p:spPr>
          <a:xfrm>
            <a:off x="2286000" y="380880"/>
            <a:ext cx="419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UNIVERSITY of WISCONSIN-MADIS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Computer Sciences Depart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143000"/>
            <a:ext cx="358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CS 739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Distributed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57800" y="1143000"/>
            <a:ext cx="358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Andrea C. Arpaci-Dusseau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743200"/>
            <a:ext cx="8305920" cy="41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Byzantine Generals in Action: Implementing Fail-Stop Processors, Fred Schneider, TOCS, May 198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Example usage of byzantine agre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hy fail-stop processors can simplify replicated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hy fail-top processors are expensive (impractical?) to bu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Remaining Time: Byzantine Werewolves (improved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FSP Algorithm Details: Write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halkboard"/>
              </a:rPr>
              <a:t>Each p-process, on a write: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Broadcast write to all s-processe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Byzantine agreement across all s-processe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(all s-processes must agree on same input value from particular p-process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halkboard"/>
              </a:rPr>
              <a:t>Each s-process, on a write (Fig 1):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Ensure each p-process writes same value and receive within time bound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971280" indent="-19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Initial code: Handle messages after at least tim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 has transpired since receipt (every s-process should receive by then)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971280" indent="-19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If receive write request from all k+1 p-processes (|M| = k+1)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then update value in stable storage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971280" indent="-19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If not, then </a:t>
            </a:r>
            <a:r>
              <a:rPr b="0" lang="en-US" sz="1800" spc="-1" strike="noStrike">
                <a:solidFill>
                  <a:srgbClr val="3333cc"/>
                </a:solidFill>
                <a:latin typeface="Chalkboard"/>
              </a:rPr>
              <a:t>halt</a:t>
            </a: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 all p-processe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3" marL="1360080" indent="-19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Set failed variable to true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lvl="3" marL="1360080" indent="-19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Do not allow future writes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lvl="2" marL="971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FSP Algorithm Details: Read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halkboard"/>
              </a:rPr>
              <a:t>Each p-process, on a read: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Broadcast request to all s-processe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Use result from majority (k+1 out of 2k+1)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an read from other FSPs as well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Useful if FSP failed and re-balancing work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halkboard"/>
              </a:rPr>
              <a:t>Each p-process, determine if halted/failed: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Read failed variable from s-proces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(use majority)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FSP Example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k=2, SM code: “b=a+1”; How many p and s processes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676520" y="2133720"/>
            <a:ext cx="5333400" cy="1600200"/>
            <a:chOff x="1676520" y="2133720"/>
            <a:chExt cx="5333400" cy="1600200"/>
          </a:xfrm>
        </p:grpSpPr>
        <p:sp>
          <p:nvSpPr>
            <p:cNvPr id="89" name=""/>
            <p:cNvSpPr/>
            <p:nvPr/>
          </p:nvSpPr>
          <p:spPr>
            <a:xfrm>
              <a:off x="1676520" y="2133720"/>
              <a:ext cx="685440" cy="457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819160" y="2133720"/>
              <a:ext cx="685440" cy="457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114440" y="2133720"/>
              <a:ext cx="685440" cy="457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676520" y="3276720"/>
              <a:ext cx="685440" cy="457200"/>
            </a:xfrm>
            <a:prstGeom prst="rect">
              <a:avLst/>
            </a:prstGeom>
            <a:solidFill>
              <a:srgbClr val="af6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819160" y="3276720"/>
              <a:ext cx="685440" cy="457200"/>
            </a:xfrm>
            <a:prstGeom prst="rect">
              <a:avLst/>
            </a:prstGeom>
            <a:solidFill>
              <a:srgbClr val="af6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038480" y="3276720"/>
              <a:ext cx="685440" cy="457200"/>
            </a:xfrm>
            <a:prstGeom prst="rect">
              <a:avLst/>
            </a:prstGeom>
            <a:solidFill>
              <a:srgbClr val="af6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181480" y="3276720"/>
              <a:ext cx="685440" cy="457200"/>
            </a:xfrm>
            <a:prstGeom prst="rect">
              <a:avLst/>
            </a:prstGeom>
            <a:solidFill>
              <a:srgbClr val="af6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324480" y="3276720"/>
              <a:ext cx="685440" cy="457200"/>
            </a:xfrm>
            <a:prstGeom prst="rect">
              <a:avLst/>
            </a:prstGeom>
            <a:solidFill>
              <a:srgbClr val="af6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228600" y="4572000"/>
            <a:ext cx="8686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3962520"/>
            <a:ext cx="84582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How do p-processes read 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halkboar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Broadcast request to each s-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2)  Each s-process responds to read reque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3)  Each p-process uses majority of responses from s-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3200400"/>
            <a:ext cx="112068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a: 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failed: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3920" y="2133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p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2600" y="3200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FSP Example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k=2, SM code: “b=a+1”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676520" y="2133720"/>
            <a:ext cx="5333400" cy="1600200"/>
            <a:chOff x="1676520" y="2133720"/>
            <a:chExt cx="5333400" cy="1600200"/>
          </a:xfrm>
        </p:grpSpPr>
        <p:sp>
          <p:nvSpPr>
            <p:cNvPr id="105" name=""/>
            <p:cNvSpPr/>
            <p:nvPr/>
          </p:nvSpPr>
          <p:spPr>
            <a:xfrm>
              <a:off x="1676520" y="2133720"/>
              <a:ext cx="685440" cy="457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819160" y="2133720"/>
              <a:ext cx="685440" cy="457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114440" y="2133720"/>
              <a:ext cx="685440" cy="457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676520" y="3276720"/>
              <a:ext cx="685440" cy="457200"/>
            </a:xfrm>
            <a:prstGeom prst="rect">
              <a:avLst/>
            </a:prstGeom>
            <a:solidFill>
              <a:srgbClr val="af6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819160" y="3276720"/>
              <a:ext cx="685440" cy="457200"/>
            </a:xfrm>
            <a:prstGeom prst="rect">
              <a:avLst/>
            </a:prstGeom>
            <a:solidFill>
              <a:srgbClr val="af6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038480" y="3276720"/>
              <a:ext cx="685440" cy="457200"/>
            </a:xfrm>
            <a:prstGeom prst="rect">
              <a:avLst/>
            </a:prstGeom>
            <a:solidFill>
              <a:srgbClr val="af6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181480" y="3276720"/>
              <a:ext cx="685440" cy="457200"/>
            </a:xfrm>
            <a:prstGeom prst="rect">
              <a:avLst/>
            </a:prstGeom>
            <a:solidFill>
              <a:srgbClr val="af6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24480" y="3276720"/>
              <a:ext cx="685440" cy="457200"/>
            </a:xfrm>
            <a:prstGeom prst="rect">
              <a:avLst/>
            </a:prstGeom>
            <a:solidFill>
              <a:srgbClr val="af6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228600" y="4572000"/>
            <a:ext cx="8686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3962520"/>
            <a:ext cx="84582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How do p-processes read 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What if 2 s-processes fail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E.g., think a=5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What if 3 s-processes fail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86600" y="3200400"/>
            <a:ext cx="11206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fail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3920" y="2133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p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2600" y="3200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FSP Example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k=2, SM code: “b=a+1”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676520" y="2133720"/>
            <a:ext cx="5333400" cy="1600200"/>
            <a:chOff x="1676520" y="2133720"/>
            <a:chExt cx="5333400" cy="1600200"/>
          </a:xfrm>
        </p:grpSpPr>
        <p:sp>
          <p:nvSpPr>
            <p:cNvPr id="121" name=""/>
            <p:cNvSpPr/>
            <p:nvPr/>
          </p:nvSpPr>
          <p:spPr>
            <a:xfrm>
              <a:off x="1676520" y="2133720"/>
              <a:ext cx="685440" cy="457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819160" y="2133720"/>
              <a:ext cx="685440" cy="457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14440" y="2133720"/>
              <a:ext cx="685440" cy="457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676520" y="3276720"/>
              <a:ext cx="685440" cy="457200"/>
            </a:xfrm>
            <a:prstGeom prst="rect">
              <a:avLst/>
            </a:prstGeom>
            <a:solidFill>
              <a:srgbClr val="af6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819160" y="3276720"/>
              <a:ext cx="685440" cy="457200"/>
            </a:xfrm>
            <a:prstGeom prst="rect">
              <a:avLst/>
            </a:prstGeom>
            <a:solidFill>
              <a:srgbClr val="af6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38480" y="3276720"/>
              <a:ext cx="685440" cy="457200"/>
            </a:xfrm>
            <a:prstGeom prst="rect">
              <a:avLst/>
            </a:prstGeom>
            <a:solidFill>
              <a:srgbClr val="af6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3276720"/>
              <a:ext cx="685440" cy="457200"/>
            </a:xfrm>
            <a:prstGeom prst="rect">
              <a:avLst/>
            </a:prstGeom>
            <a:solidFill>
              <a:srgbClr val="af6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324480" y="3276720"/>
              <a:ext cx="685440" cy="457200"/>
            </a:xfrm>
            <a:prstGeom prst="rect">
              <a:avLst/>
            </a:prstGeom>
            <a:solidFill>
              <a:srgbClr val="af6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228600" y="4572000"/>
            <a:ext cx="8686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3962520"/>
            <a:ext cx="84582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How do p-processes write b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Each p-process j performs byzantine agreement using signed message protocol SM(2) across s-proc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Each s-process must agree on what p-process j is doing, even if j is faul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Each s-process looks at requests after time delta elap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f see same write from all k+1 processes, perform wr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Otherwise, halt all p-processes; forbid future wri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086600" y="3200400"/>
            <a:ext cx="11206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fail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13920" y="2133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p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72600" y="3200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FSP Example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k=2, SM code: “b=a+1”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676520" y="2133720"/>
            <a:ext cx="5333400" cy="1600200"/>
            <a:chOff x="1676520" y="2133720"/>
            <a:chExt cx="5333400" cy="1600200"/>
          </a:xfrm>
        </p:grpSpPr>
        <p:sp>
          <p:nvSpPr>
            <p:cNvPr id="137" name=""/>
            <p:cNvSpPr/>
            <p:nvPr/>
          </p:nvSpPr>
          <p:spPr>
            <a:xfrm>
              <a:off x="1676520" y="2133720"/>
              <a:ext cx="685440" cy="457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819160" y="2133720"/>
              <a:ext cx="685440" cy="457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114440" y="2133720"/>
              <a:ext cx="685440" cy="457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76520" y="3276720"/>
              <a:ext cx="685440" cy="457200"/>
            </a:xfrm>
            <a:prstGeom prst="rect">
              <a:avLst/>
            </a:prstGeom>
            <a:solidFill>
              <a:srgbClr val="af6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819160" y="3276720"/>
              <a:ext cx="685440" cy="457200"/>
            </a:xfrm>
            <a:prstGeom prst="rect">
              <a:avLst/>
            </a:prstGeom>
            <a:solidFill>
              <a:srgbClr val="af6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38480" y="3276720"/>
              <a:ext cx="685440" cy="457200"/>
            </a:xfrm>
            <a:prstGeom prst="rect">
              <a:avLst/>
            </a:prstGeom>
            <a:solidFill>
              <a:srgbClr val="af6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81480" y="3276720"/>
              <a:ext cx="685440" cy="457200"/>
            </a:xfrm>
            <a:prstGeom prst="rect">
              <a:avLst/>
            </a:prstGeom>
            <a:solidFill>
              <a:srgbClr val="af6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324480" y="3276720"/>
              <a:ext cx="685440" cy="457200"/>
            </a:xfrm>
            <a:prstGeom prst="rect">
              <a:avLst/>
            </a:prstGeom>
            <a:solidFill>
              <a:srgbClr val="af6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228600" y="4572000"/>
            <a:ext cx="8686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3962520"/>
            <a:ext cx="84582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How do p-processes write b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What if 1 p-process (or network) is very slow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What if 1 p-process gives incorrect request to all s-process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What if 1 p-process gives incorrect request to som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Byzantine agreement catches: All s-processes agree that p-process is faulty (giving different requests); agree to treat it similar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When see doesn’t agree with other p-processes, will hal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What if 3 p-processes give bad resul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86600" y="3200400"/>
            <a:ext cx="11206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fail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13920" y="2133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p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72600" y="3200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3) Higher-Level Example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Goal: Service handling k faults; N nodes for performanc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Solution: Use N+k k-failstop processor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Example: N=2, k=3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371600" y="2819520"/>
            <a:ext cx="6324120" cy="1828800"/>
            <a:chOff x="1371600" y="2819520"/>
            <a:chExt cx="6324120" cy="1828800"/>
          </a:xfrm>
        </p:grpSpPr>
        <p:sp>
          <p:nvSpPr>
            <p:cNvPr id="153" name=""/>
            <p:cNvSpPr/>
            <p:nvPr/>
          </p:nvSpPr>
          <p:spPr>
            <a:xfrm>
              <a:off x="1371600" y="2819520"/>
              <a:ext cx="990360" cy="6858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FSP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42840" y="2819520"/>
              <a:ext cx="990360" cy="6858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FSP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38480" y="2819520"/>
              <a:ext cx="990000" cy="6858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FSP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33760" y="2819520"/>
              <a:ext cx="990360" cy="6858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FSP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705360" y="2819520"/>
              <a:ext cx="990360" cy="6858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FSP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523880" y="3733920"/>
              <a:ext cx="609120" cy="914400"/>
            </a:xfrm>
            <a:prstGeom prst="can">
              <a:avLst>
                <a:gd name="adj" fmla="val 25000"/>
              </a:avLst>
            </a:prstGeom>
            <a:solidFill>
              <a:srgbClr val="af6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SS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895480" y="3733920"/>
              <a:ext cx="609120" cy="914400"/>
            </a:xfrm>
            <a:prstGeom prst="can">
              <a:avLst>
                <a:gd name="adj" fmla="val 25000"/>
              </a:avLst>
            </a:prstGeom>
            <a:solidFill>
              <a:srgbClr val="af6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SS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267080" y="3733920"/>
              <a:ext cx="609120" cy="914400"/>
            </a:xfrm>
            <a:prstGeom prst="can">
              <a:avLst>
                <a:gd name="adj" fmla="val 25000"/>
              </a:avLst>
            </a:prstGeom>
            <a:solidFill>
              <a:srgbClr val="af6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SS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562360" y="3733920"/>
              <a:ext cx="609120" cy="914400"/>
            </a:xfrm>
            <a:prstGeom prst="can">
              <a:avLst>
                <a:gd name="adj" fmla="val 25000"/>
              </a:avLst>
            </a:prstGeom>
            <a:solidFill>
              <a:srgbClr val="af6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SS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933960" y="3733920"/>
              <a:ext cx="609120" cy="914400"/>
            </a:xfrm>
            <a:prstGeom prst="can">
              <a:avLst>
                <a:gd name="adj" fmla="val 25000"/>
              </a:avLst>
            </a:prstGeom>
            <a:solidFill>
              <a:srgbClr val="af6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SS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304920" y="4724280"/>
            <a:ext cx="84582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hat happens i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3 p-processes in FSP0 fail? 4 p-processes in FSP0 fail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1 p-process in FSP0, FSP1, and FSP2 fail? also in FSP3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2 p-processes in FSP0, FSP1, and FSP2 fail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1 s-process in SS0 fails? also in SS1, SS2, and SS3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4 s-processes in SS0 fail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Should we use </a:t>
            </a:r>
            <a:br>
              <a:rPr sz="4000"/>
            </a:b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Fail Stop Processors?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halkboard"/>
              </a:rPr>
              <a:t>Metric: Hardware cost for state machines: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Fail-stop components: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Worst-case (assuming 1 process per processor):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3" marL="1455840" indent="-207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(N+k) * [2k+1 + k+1] = (N+k) * (3k+2) processors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Best-case (assuming s-processes from different FSP share same processor)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3" marL="1455840" indent="-207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(N+k)(k+1) + (2k+1) processors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Byzantine components: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N * (2k+1)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Fail-stop can be better if s-processes share and N&gt;k…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halkboard"/>
              </a:rPr>
              <a:t>Metric: Frequency of byzantine agreement protocol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Fail-Stop: On every access to stable storag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Byzantine: On every input read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robably fewer input read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Summary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halkboard"/>
              </a:rPr>
              <a:t>Why build fail-stop components?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Easier for higher layers to model and deal with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Matches assumptions of many distributed protocol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halkboard"/>
              </a:rPr>
              <a:t>Why not?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Usually more hardwar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Usually more agreements needed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Higher-levels may be able to cope with “slightly faulty” component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Violates end-to-end argument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Conclusion: Probably shouldn’t assume fail-stop components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Byzantine Werewolve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revious :Too easy for villagers to identify werewolve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Villager A had reliable information  that Z was werewolf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Villager B could validate that A was villager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Hard for Z to lie that C was werewolf, because D could have checked C too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igned Protocol: Many could hear what one said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Difficult for werewolves to tell different lies to other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Have to tell everyone same thing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New Changes to give more advantage to werewolves: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Unknown number of werewolves (1 &lt;= w &lt; 1/2 N)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Night: Werewolves </a:t>
            </a:r>
            <a:r>
              <a:rPr b="1" lang="en-US" sz="1800" spc="-1" strike="noStrike">
                <a:solidFill>
                  <a:srgbClr val="3333cc"/>
                </a:solidFill>
                <a:latin typeface="Chalkboard"/>
              </a:rPr>
              <a:t>convert</a:t>
            </a: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 multiple villagers to wolves (1 &lt;= v &lt;= w)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0844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Key: Info told by moderator will then be stale and wrong!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Day: Villagers can vote to lynch multiple victim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Motivation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Goal: Build systems that continue to work in presence of component failur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Difficulty/cost of building those systems depends upon </a:t>
            </a:r>
            <a:r>
              <a:rPr b="0" lang="en-US" sz="2800" spc="-1" strike="noStrike">
                <a:solidFill>
                  <a:srgbClr val="af67ff"/>
                </a:solidFill>
                <a:latin typeface="Chalkboard"/>
              </a:rPr>
              <a:t>how</a:t>
            </a: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 components can fail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halkboard"/>
              </a:rPr>
              <a:t>Fail-stop</a:t>
            </a: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 components make building reliable systems easier than components with </a:t>
            </a:r>
            <a:r>
              <a:rPr b="0" lang="en-US" sz="2800" spc="-1" strike="noStrike">
                <a:solidFill>
                  <a:srgbClr val="3333cc"/>
                </a:solidFill>
                <a:latin typeface="Chalkboard"/>
              </a:rPr>
              <a:t>byzantine failures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Byzantine-Werewolf Game Rule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Everyone secretly assigned as werewolf or villager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W werewolves, rest are “seeing” villager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I am moderator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Night round (changed order):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af67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f67ff"/>
                </a:solidFill>
                <a:latin typeface="Chalkboard"/>
              </a:rPr>
              <a:t>“</a:t>
            </a:r>
            <a:r>
              <a:rPr b="0" lang="en-US" sz="1800" spc="-1" strike="noStrike">
                <a:solidFill>
                  <a:srgbClr val="af67ff"/>
                </a:solidFill>
                <a:latin typeface="Chalkboard"/>
              </a:rPr>
              <a:t>Close your eyes”;</a:t>
            </a: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 make noises </a:t>
            </a:r>
            <a:r>
              <a:rPr b="0" lang="en-US" sz="1800" spc="-1" strike="noStrike">
                <a:solidFill>
                  <a:srgbClr val="3333cc"/>
                </a:solidFill>
                <a:latin typeface="Chalkboard"/>
              </a:rPr>
              <a:t>with one hand</a:t>
            </a: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 to hide activity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For all:</a:t>
            </a:r>
            <a:r>
              <a:rPr b="0" lang="en-US" sz="1800" spc="-1" strike="noStrike">
                <a:solidFill>
                  <a:srgbClr val="af67ff"/>
                </a:solidFill>
                <a:latin typeface="Chalkboard"/>
              </a:rPr>
              <a:t> “NAME, open your eyes”  “Pick someone to ask about”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028520" indent="-205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Useless for Werewolves, but hides their identity…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lvl="2" marL="1028520" indent="-205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Point to another player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lvl="2" marL="1028520" indent="-205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Moderator signs </a:t>
            </a:r>
            <a:r>
              <a:rPr b="0" lang="en-US" sz="1600" spc="-1" strike="noStrike">
                <a:solidFill>
                  <a:srgbClr val="ff0000"/>
                </a:solidFill>
                <a:latin typeface="Chalkboard"/>
              </a:rPr>
              <a:t>thumbs up for werewolf</a:t>
            </a: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, down for villager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lvl="2" marL="1028520" indent="-205560">
              <a:lnSpc>
                <a:spcPct val="90000"/>
              </a:lnSpc>
              <a:spcBef>
                <a:spcPts val="400"/>
              </a:spcBef>
              <a:buClr>
                <a:srgbClr val="af67ff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f67ff"/>
                </a:solidFill>
                <a:latin typeface="Chalkboard"/>
              </a:rPr>
              <a:t>“</a:t>
            </a:r>
            <a:r>
              <a:rPr b="0" lang="en-US" sz="1600" spc="-1" strike="noStrike">
                <a:solidFill>
                  <a:srgbClr val="af67ff"/>
                </a:solidFill>
                <a:latin typeface="Chalkboard"/>
              </a:rPr>
              <a:t>NAME, close your eyes”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af67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f67ff"/>
                </a:solidFill>
                <a:latin typeface="Chalkboard"/>
              </a:rPr>
              <a:t>“</a:t>
            </a:r>
            <a:r>
              <a:rPr b="0" lang="en-US" sz="1800" spc="-1" strike="noStrike">
                <a:solidFill>
                  <a:srgbClr val="af67ff"/>
                </a:solidFill>
                <a:latin typeface="Chalkboard"/>
              </a:rPr>
              <a:t>Werewolves, open your eyes”:</a:t>
            </a: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 W can see who is who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028520" indent="-205560">
              <a:lnSpc>
                <a:spcPct val="90000"/>
              </a:lnSpc>
              <a:spcBef>
                <a:spcPts val="400"/>
              </a:spcBef>
              <a:buClr>
                <a:srgbClr val="af67ff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f67ff"/>
                </a:solidFill>
                <a:latin typeface="Chalkboard"/>
              </a:rPr>
              <a:t>“</a:t>
            </a:r>
            <a:r>
              <a:rPr b="0" lang="en-US" sz="1600" spc="-1" strike="noStrike">
                <a:solidFill>
                  <a:srgbClr val="af67ff"/>
                </a:solidFill>
                <a:latin typeface="Chalkboard"/>
              </a:rPr>
              <a:t>Werewolves, pick villagers to convert” 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lvl="2" marL="1028520" indent="-205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Moderator picks secret number between 1 and W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lvl="2" marL="1028520" indent="-205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Silently agree on villagers by pointing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lvl="2" marL="1028520" indent="-205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Moderator taps converts on shoulder; should open eyes to see other werewolves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lvl="2" marL="1028520" indent="-205560">
              <a:lnSpc>
                <a:spcPct val="90000"/>
              </a:lnSpc>
              <a:spcBef>
                <a:spcPts val="400"/>
              </a:spcBef>
              <a:buClr>
                <a:srgbClr val="af67ff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f67ff"/>
                </a:solidFill>
                <a:latin typeface="Chalkboard"/>
              </a:rPr>
              <a:t>“</a:t>
            </a:r>
            <a:r>
              <a:rPr b="0" lang="en-US" sz="1600" spc="-1" strike="noStrike">
                <a:solidFill>
                  <a:srgbClr val="af67ff"/>
                </a:solidFill>
                <a:latin typeface="Chalkboard"/>
              </a:rPr>
              <a:t>Werewolves, close your eyes”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Rules: Day Time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Day Time: </a:t>
            </a:r>
            <a:r>
              <a:rPr b="0" lang="en-US" sz="2400" spc="-1" strike="noStrike">
                <a:solidFill>
                  <a:srgbClr val="af67ff"/>
                </a:solidFill>
                <a:latin typeface="Chalkboard"/>
              </a:rPr>
              <a:t>“Everyone open your eyes; its daytime”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greement time: Everyone talks and votes on who should be “decommissioned”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Villagers try to decommission werewolve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Werewolves try to trick villagers with bad info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halkboard"/>
              </a:rPr>
              <a:t>Someone must propose who should be killed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halkboard"/>
              </a:rPr>
              <a:t>Vote until kill villager or no more proposals or no majority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3" marL="1504080" indent="-21456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halkboard"/>
              </a:rPr>
              <a:t>Werewolves really spread at night, so large incentive to kill as many as possible now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Moderator: Uses majority voting to determine  who is decommissioned </a:t>
            </a:r>
            <a:r>
              <a:rPr b="0" lang="en-US" sz="1800" spc="-1" strike="noStrike">
                <a:solidFill>
                  <a:srgbClr val="af67ff"/>
                </a:solidFill>
                <a:latin typeface="Chalkboard"/>
              </a:rPr>
              <a:t>“Okay, NAME is dead”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Person is out of game (can’t talk anymore) and shows card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Repeat cycle until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ll werewolves dead OR werewolves &gt;= villager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Fail-Stop Processor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hat is a failure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Output (or behavior) that is inconsistent with specification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hat is a </a:t>
            </a:r>
            <a:r>
              <a:rPr b="0" lang="en-US" sz="2400" spc="-1" strike="noStrike">
                <a:solidFill>
                  <a:srgbClr val="3333cc"/>
                </a:solidFill>
                <a:latin typeface="Chalkboard"/>
              </a:rPr>
              <a:t>Byzantine failure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rbitrary, even malicious, behavior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omponents may collude with each other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annot necessarily detect output is faulty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hat is a </a:t>
            </a:r>
            <a:r>
              <a:rPr b="0" lang="en-US" sz="2400" spc="-1" strike="noStrike">
                <a:solidFill>
                  <a:srgbClr val="3333cc"/>
                </a:solidFill>
                <a:latin typeface="Chalkboard"/>
              </a:rPr>
              <a:t>fail-stop processor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Halts instead of performing erroneous transformation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Others can detect halted stat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f67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f67ff"/>
                </a:solidFill>
                <a:latin typeface="Chalkboard"/>
              </a:rPr>
              <a:t>Others can access uncorrupted stable storage even after failur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Questions to Answer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Chalkboar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hat are the advantages of fail-stop processors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2) 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Real processors are not fail-stop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an we build one?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How can we build an approximation of one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3) 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pproximations of fail-stop processors are expensive to build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Under what circumstances is replicated service with fail-stop processors “better”?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343400" y="3276720"/>
            <a:ext cx="2971800" cy="1447560"/>
          </a:xfrm>
          <a:prstGeom prst="ellipse">
            <a:avLst/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1) Distributed State Machine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ommon approach for building a reliable system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Idea: Replicate faulty servers, coordinate client interactions with replica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halkboard"/>
              </a:rPr>
              <a:t>T-fault tolerant: Satisfies specification as long as no more than t components f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Failure model of components determines how many replicas, R, are needed and their inte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733920"/>
            <a:ext cx="60948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486400" y="3733920"/>
            <a:ext cx="60948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24480" y="3733920"/>
            <a:ext cx="60984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6000" y="3200400"/>
            <a:ext cx="134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Cl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2959200"/>
            <a:ext cx="2210040" cy="317520"/>
          </a:xfrm>
          <a:custGeom>
            <a:avLst/>
            <a:gdLst/>
            <a:ahLst/>
            <a:rect l="l" t="t" r="r" b="b"/>
            <a:pathLst>
              <a:path w="1392" h="200">
                <a:moveTo>
                  <a:pt x="0" y="200"/>
                </a:moveTo>
                <a:cubicBezTo>
                  <a:pt x="244" y="108"/>
                  <a:pt x="488" y="16"/>
                  <a:pt x="720" y="8"/>
                </a:cubicBezTo>
                <a:cubicBezTo>
                  <a:pt x="952" y="0"/>
                  <a:pt x="1172" y="76"/>
                  <a:pt x="1392" y="152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16600" y="266688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halkboard"/>
              </a:rPr>
              <a:t>input sequ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5880" y="274320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f67ff"/>
                </a:solidFill>
                <a:latin typeface="Chalkboard"/>
              </a:rPr>
              <a:t>State mach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238880" y="4343400"/>
            <a:ext cx="134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halkboard"/>
              </a:rPr>
              <a:t>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791320" y="4724280"/>
            <a:ext cx="2209680" cy="152640"/>
          </a:xfrm>
          <a:custGeom>
            <a:avLst/>
            <a:gdLst/>
            <a:ahLst/>
            <a:rect l="l" t="t" r="r" b="b"/>
            <a:pathLst>
              <a:path w="1392" h="200">
                <a:moveTo>
                  <a:pt x="0" y="200"/>
                </a:moveTo>
                <a:cubicBezTo>
                  <a:pt x="244" y="108"/>
                  <a:pt x="488" y="16"/>
                  <a:pt x="720" y="8"/>
                </a:cubicBezTo>
                <a:cubicBezTo>
                  <a:pt x="952" y="0"/>
                  <a:pt x="1172" y="76"/>
                  <a:pt x="1392" y="152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956120" y="3333600"/>
            <a:ext cx="622440" cy="393840"/>
          </a:xfrm>
          <a:custGeom>
            <a:avLst/>
            <a:gdLst/>
            <a:ahLst/>
            <a:rect l="l" t="t" r="r" b="b"/>
            <a:pathLst>
              <a:path w="392" h="248">
                <a:moveTo>
                  <a:pt x="252" y="2"/>
                </a:moveTo>
                <a:cubicBezTo>
                  <a:pt x="293" y="5"/>
                  <a:pt x="335" y="0"/>
                  <a:pt x="375" y="13"/>
                </a:cubicBezTo>
                <a:cubicBezTo>
                  <a:pt x="385" y="16"/>
                  <a:pt x="392" y="34"/>
                  <a:pt x="386" y="43"/>
                </a:cubicBezTo>
                <a:cubicBezTo>
                  <a:pt x="377" y="54"/>
                  <a:pt x="358" y="50"/>
                  <a:pt x="345" y="54"/>
                </a:cubicBezTo>
                <a:cubicBezTo>
                  <a:pt x="327" y="64"/>
                  <a:pt x="309" y="72"/>
                  <a:pt x="293" y="84"/>
                </a:cubicBezTo>
                <a:cubicBezTo>
                  <a:pt x="275" y="96"/>
                  <a:pt x="260" y="113"/>
                  <a:pt x="242" y="125"/>
                </a:cubicBezTo>
                <a:cubicBezTo>
                  <a:pt x="192" y="156"/>
                  <a:pt x="114" y="161"/>
                  <a:pt x="57" y="177"/>
                </a:cubicBezTo>
                <a:cubicBezTo>
                  <a:pt x="50" y="187"/>
                  <a:pt x="45" y="198"/>
                  <a:pt x="37" y="207"/>
                </a:cubicBezTo>
                <a:cubicBezTo>
                  <a:pt x="0" y="243"/>
                  <a:pt x="6" y="209"/>
                  <a:pt x="6" y="2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40240" y="3271680"/>
            <a:ext cx="622440" cy="473400"/>
          </a:xfrm>
          <a:custGeom>
            <a:avLst/>
            <a:gdLst/>
            <a:ahLst/>
            <a:rect l="l" t="t" r="r" b="b"/>
            <a:pathLst>
              <a:path w="392" h="298">
                <a:moveTo>
                  <a:pt x="0" y="0"/>
                </a:moveTo>
                <a:cubicBezTo>
                  <a:pt x="189" y="11"/>
                  <a:pt x="150" y="3"/>
                  <a:pt x="287" y="52"/>
                </a:cubicBezTo>
                <a:cubicBezTo>
                  <a:pt x="300" y="62"/>
                  <a:pt x="317" y="69"/>
                  <a:pt x="328" y="82"/>
                </a:cubicBezTo>
                <a:cubicBezTo>
                  <a:pt x="392" y="159"/>
                  <a:pt x="270" y="67"/>
                  <a:pt x="369" y="134"/>
                </a:cubicBezTo>
                <a:cubicBezTo>
                  <a:pt x="345" y="148"/>
                  <a:pt x="316" y="155"/>
                  <a:pt x="297" y="175"/>
                </a:cubicBezTo>
                <a:cubicBezTo>
                  <a:pt x="279" y="192"/>
                  <a:pt x="256" y="236"/>
                  <a:pt x="256" y="236"/>
                </a:cubicBezTo>
                <a:cubicBezTo>
                  <a:pt x="263" y="256"/>
                  <a:pt x="277" y="298"/>
                  <a:pt x="277" y="29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54720" y="3352680"/>
            <a:ext cx="1022400" cy="374760"/>
          </a:xfrm>
          <a:custGeom>
            <a:avLst/>
            <a:gdLst/>
            <a:ahLst/>
            <a:rect l="l" t="t" r="r" b="b"/>
            <a:pathLst>
              <a:path w="718" h="297">
                <a:moveTo>
                  <a:pt x="0" y="10"/>
                </a:moveTo>
                <a:cubicBezTo>
                  <a:pt x="215" y="20"/>
                  <a:pt x="432" y="0"/>
                  <a:pt x="646" y="31"/>
                </a:cubicBezTo>
                <a:cubicBezTo>
                  <a:pt x="663" y="33"/>
                  <a:pt x="653" y="64"/>
                  <a:pt x="656" y="82"/>
                </a:cubicBezTo>
                <a:cubicBezTo>
                  <a:pt x="667" y="155"/>
                  <a:pt x="657" y="242"/>
                  <a:pt x="718" y="29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900680" y="4184640"/>
            <a:ext cx="928800" cy="536760"/>
          </a:xfrm>
          <a:custGeom>
            <a:avLst/>
            <a:gdLst/>
            <a:ahLst/>
            <a:rect l="l" t="t" r="r" b="b"/>
            <a:pathLst>
              <a:path w="585" h="338">
                <a:moveTo>
                  <a:pt x="0" y="0"/>
                </a:moveTo>
                <a:cubicBezTo>
                  <a:pt x="20" y="23"/>
                  <a:pt x="32" y="60"/>
                  <a:pt x="62" y="71"/>
                </a:cubicBezTo>
                <a:cubicBezTo>
                  <a:pt x="116" y="90"/>
                  <a:pt x="186" y="52"/>
                  <a:pt x="236" y="82"/>
                </a:cubicBezTo>
                <a:cubicBezTo>
                  <a:pt x="269" y="101"/>
                  <a:pt x="235" y="171"/>
                  <a:pt x="267" y="194"/>
                </a:cubicBezTo>
                <a:cubicBezTo>
                  <a:pt x="352" y="256"/>
                  <a:pt x="310" y="235"/>
                  <a:pt x="390" y="266"/>
                </a:cubicBezTo>
                <a:cubicBezTo>
                  <a:pt x="415" y="263"/>
                  <a:pt x="510" y="235"/>
                  <a:pt x="544" y="276"/>
                </a:cubicBezTo>
                <a:cubicBezTo>
                  <a:pt x="553" y="286"/>
                  <a:pt x="546" y="305"/>
                  <a:pt x="554" y="317"/>
                </a:cubicBezTo>
                <a:cubicBezTo>
                  <a:pt x="560" y="327"/>
                  <a:pt x="585" y="338"/>
                  <a:pt x="585" y="33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811840" y="4216320"/>
            <a:ext cx="468360" cy="505080"/>
          </a:xfrm>
          <a:custGeom>
            <a:avLst/>
            <a:gdLst/>
            <a:ahLst/>
            <a:rect l="l" t="t" r="r" b="b"/>
            <a:pathLst>
              <a:path w="295" h="318">
                <a:moveTo>
                  <a:pt x="0" y="0"/>
                </a:moveTo>
                <a:cubicBezTo>
                  <a:pt x="26" y="15"/>
                  <a:pt x="57" y="23"/>
                  <a:pt x="82" y="41"/>
                </a:cubicBezTo>
                <a:cubicBezTo>
                  <a:pt x="97" y="52"/>
                  <a:pt x="107" y="70"/>
                  <a:pt x="123" y="82"/>
                </a:cubicBezTo>
                <a:cubicBezTo>
                  <a:pt x="151" y="102"/>
                  <a:pt x="191" y="97"/>
                  <a:pt x="226" y="103"/>
                </a:cubicBezTo>
                <a:cubicBezTo>
                  <a:pt x="243" y="109"/>
                  <a:pt x="262" y="111"/>
                  <a:pt x="277" y="123"/>
                </a:cubicBezTo>
                <a:cubicBezTo>
                  <a:pt x="285" y="129"/>
                  <a:pt x="295" y="146"/>
                  <a:pt x="288" y="154"/>
                </a:cubicBezTo>
                <a:cubicBezTo>
                  <a:pt x="275" y="166"/>
                  <a:pt x="253" y="161"/>
                  <a:pt x="236" y="164"/>
                </a:cubicBezTo>
                <a:cubicBezTo>
                  <a:pt x="43" y="192"/>
                  <a:pt x="248" y="156"/>
                  <a:pt x="93" y="185"/>
                </a:cubicBezTo>
                <a:cubicBezTo>
                  <a:pt x="72" y="198"/>
                  <a:pt x="25" y="201"/>
                  <a:pt x="31" y="226"/>
                </a:cubicBezTo>
                <a:cubicBezTo>
                  <a:pt x="38" y="256"/>
                  <a:pt x="52" y="286"/>
                  <a:pt x="52" y="31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77000" y="4232160"/>
            <a:ext cx="765000" cy="439920"/>
          </a:xfrm>
          <a:custGeom>
            <a:avLst/>
            <a:gdLst/>
            <a:ahLst/>
            <a:rect l="l" t="t" r="r" b="b"/>
            <a:pathLst>
              <a:path w="482" h="277">
                <a:moveTo>
                  <a:pt x="482" y="0"/>
                </a:moveTo>
                <a:cubicBezTo>
                  <a:pt x="466" y="64"/>
                  <a:pt x="443" y="52"/>
                  <a:pt x="400" y="103"/>
                </a:cubicBezTo>
                <a:cubicBezTo>
                  <a:pt x="347" y="163"/>
                  <a:pt x="395" y="127"/>
                  <a:pt x="339" y="164"/>
                </a:cubicBezTo>
                <a:cubicBezTo>
                  <a:pt x="326" y="183"/>
                  <a:pt x="308" y="213"/>
                  <a:pt x="288" y="226"/>
                </a:cubicBezTo>
                <a:cubicBezTo>
                  <a:pt x="222" y="266"/>
                  <a:pt x="70" y="277"/>
                  <a:pt x="0" y="27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7440" y="3397320"/>
            <a:ext cx="27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arker Felt"/>
              </a:rPr>
              <a:t>Byzantine agre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26040" y="43434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arker Felt"/>
              </a:rPr>
              <a:t>Combine outp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How to build t-fault tolerant state machine?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nput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Key: All replicas receive and process same sequence of input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1) </a:t>
            </a:r>
            <a:r>
              <a:rPr b="0" lang="en-US" sz="1800" spc="-1" strike="noStrike">
                <a:solidFill>
                  <a:srgbClr val="3333cc"/>
                </a:solidFill>
                <a:latin typeface="Chalkboard"/>
              </a:rPr>
              <a:t>Agreement:</a:t>
            </a: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 Every nonfaulty replica receives same request (interactive consistency or byzantine agreement)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2) </a:t>
            </a:r>
            <a:r>
              <a:rPr b="0" lang="en-US" sz="1800" spc="-1" strike="noStrike">
                <a:solidFill>
                  <a:srgbClr val="3333cc"/>
                </a:solidFill>
                <a:latin typeface="Chalkboard"/>
              </a:rPr>
              <a:t>Ordering:</a:t>
            </a: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 Every nonfaulty replica processes requests in same order (logical clocks)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Output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066680" y="4952880"/>
          <a:ext cx="6477120" cy="1479600"/>
        </p:xfrm>
        <a:graphic>
          <a:graphicData uri="http://schemas.openxmlformats.org/drawingml/2006/table">
            <a:tbl>
              <a:tblPr/>
              <a:tblGrid>
                <a:gridCol w="3124440"/>
                <a:gridCol w="1752480"/>
                <a:gridCol w="16002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Byzant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Fail-Sto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Combine output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major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Number of replicas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2t+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t+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2) Building a Fail-Stop Processor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halkboard"/>
              </a:rPr>
              <a:t>Must provide stable storag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Volatile: Lost on failur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tabl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Not affected (lost or corrupted) by failure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Can be read by any processor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Benefit: Recover work of failed proces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Drawback: Minimize interactions since slow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Chalkboard"/>
              </a:rPr>
              <a:t>Can only build</a:t>
            </a:r>
            <a:r>
              <a:rPr b="0" lang="en-US" sz="2400" spc="-1" strike="noStrike">
                <a:solidFill>
                  <a:srgbClr val="af67ff"/>
                </a:solidFill>
                <a:latin typeface="Chalkboard"/>
              </a:rPr>
              <a:t> approximation </a:t>
            </a:r>
            <a:r>
              <a:rPr b="0" lang="en-US" sz="2400" spc="-1" strike="noStrike">
                <a:solidFill>
                  <a:srgbClr val="3333cc"/>
                </a:solidFill>
                <a:latin typeface="Chalkboard"/>
              </a:rPr>
              <a:t>of fail-stop processor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Finite hardware -&gt; Finite failures could disable all error detection hardwa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k-fail-stop</a:t>
            </a:r>
            <a:r>
              <a:rPr b="0" lang="en-US" sz="2400" spc="-1" strike="noStrike">
                <a:solidFill>
                  <a:srgbClr val="3333cc"/>
                </a:solidFill>
                <a:latin typeface="Chalkboard"/>
              </a:rPr>
              <a:t> processor: behaves fail-stop unless 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k+1</a:t>
            </a:r>
            <a:r>
              <a:rPr b="0" lang="en-US" sz="2400" spc="-1" strike="noStrike">
                <a:solidFill>
                  <a:srgbClr val="3333cc"/>
                </a:solidFill>
                <a:latin typeface="Chalkboard"/>
              </a:rPr>
              <a:t> or more failure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2" marL="104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Implementation of k-FSP: Overview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halkboard"/>
              </a:rPr>
              <a:t>Two component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k+1 p-processes (program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2k+1 s-processes (storage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Each process runs on own processor, all connected with network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halkboard"/>
              </a:rPr>
              <a:t>P-Processes (k+1)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Each runs program for state machin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nteracts with s-processes to read and write data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f any fail (if any disagreement), then all STOP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annot necessarily detect k+1 failure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halkboard"/>
              </a:rPr>
              <a:t>S-Processes (2k+1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Each replicates contents of stable storage for this FSP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Provides reliable data with k failures (cannot just stop)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Detects disagreements/failures across p-processe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040040" indent="-207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How???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lvl="1" marL="676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Interactive Consistency Requirement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halkboard"/>
              </a:rPr>
              <a:t>IC1.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 If nonfaulty p-process, then </a:t>
            </a:r>
            <a:r>
              <a:rPr b="0" lang="en-US" sz="2400" spc="-1" strike="noStrike">
                <a:solidFill>
                  <a:srgbClr val="3333cc"/>
                </a:solidFill>
                <a:latin typeface="Chalkboard"/>
              </a:rPr>
              <a:t>every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nonfaulty s-process receives request </a:t>
            </a:r>
            <a:r>
              <a:rPr b="0" lang="en-US" sz="2400" spc="-1" strike="noStrike">
                <a:solidFill>
                  <a:srgbClr val="af67ff"/>
                </a:solidFill>
                <a:latin typeface="Chalkboard"/>
              </a:rPr>
              <a:t>within </a:t>
            </a:r>
            <a:r>
              <a:rPr b="0" lang="en-US" sz="2400" spc="-1" strike="noStrike">
                <a:solidFill>
                  <a:srgbClr val="af67ff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af67ff"/>
                </a:solidFill>
                <a:latin typeface="Chalkboard"/>
              </a:rPr>
              <a:t> seconds (as measured on s-process clock)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halkboard"/>
              </a:rPr>
              <a:t>IC2.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 Non-faulty s-processes in same k-FSP </a:t>
            </a:r>
            <a:r>
              <a:rPr b="0" lang="en-US" sz="2400" spc="-1" strike="noStrike">
                <a:solidFill>
                  <a:srgbClr val="3333cc"/>
                </a:solidFill>
                <a:latin typeface="Chalkboard"/>
              </a:rPr>
              <a:t>agree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on every request from p-process j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-processes must agree even when p-process is faulty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To provide IC1 and IC2: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ssuming can authenticate sender of messages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use signed message (SM) protocol for byzantine agreement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994320" indent="-198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Need just k+1 processes for agreeement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646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halkboard"/>
              </a:rPr>
              <a:t>IC3.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 For each k-FSP, clocks of all p-processes are synchronized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ll non-faulty p-processes must send requests at same time to s-processe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70-02-10T03:29:41Z</dcterms:created>
  <dc:creator>Andrea Arpaci-Dusseau</dc:creator>
  <dc:description/>
  <dc:language>en-US</dc:language>
  <cp:lastModifiedBy>Remzi Arpaci</cp:lastModifiedBy>
  <cp:lastPrinted>1970-01-04T00:48:46Z</cp:lastPrinted>
  <dcterms:modified xsi:type="dcterms:W3CDTF">2009-04-09T19:21:42Z</dcterms:modified>
  <cp:revision>19</cp:revision>
  <dc:subject/>
  <dc:title>Introduction and Overview</dc:title>
</cp:coreProperties>
</file>