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DDD-C620-4AE8-B8A4-3C6FBD07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s between process and external environment pass through OS, so Speculator can handle this at system call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nchronous writes meant to help hide disk latency, not network latency; enables group batching of multiple writes within sam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more writes, all can be overl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 returns once write makes it to disk (persistent st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 returns only after data has been written to disk, but client can continue to execute speculatively before commi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ar and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antees of safety and consis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63D-20AE-4333-858A-4088EE30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0AB-850B-4850-A559-0B1D59FE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811-83CA-4C53-9499-8D178DD4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6E8-C19C-48B4-BE72-9D965F5B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DEE9-5A2F-4111-86FA-F4DA1DAE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2C4-1A7E-4D29-B3BC-75A0C7CA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EF25-EB08-48CD-8A93-156E085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8825-717C-4EBF-97D8-78CC445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E8F-D1EC-4AB3-9928-E2FDB7A7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4536-A2BB-4657-8952-7478D0B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95F-D5DD-455E-B70E-2B32A82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25A-A388-482D-ACB5-0AA449BA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9A59-226F-4ADE-87DF-64BAA23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FAAC-74BB-4B6D-B4BF-48ADAB10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FD5-9D9D-479B-89E7-3D02D58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1430-406D-48A2-A092-70010229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9F35-F105-4E18-A170-6F1B509F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4A5-9DAF-4FB1-BA17-0DAF85F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630-53D8-4FFF-9F39-E6256A54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C77-7F5E-4323-82C9-92C9B2E8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C5E-451B-4CB1-8450-E24958AE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719-8982-44EC-AA70-5A4FC85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DA5-7877-48D0-A177-6A2CA39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B05-D299-4F7E-8274-1058A5E1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652B-108E-4709-BAF4-B335DD350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20B9-7F08-452E-839E-7421F843B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ulative Execution in a Distributed Fil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Nighting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on Fl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afcfc"/>
                </a:solidFill>
                <a:latin typeface="Arial"/>
              </a:rPr>
              <a:t>Best Paper at SOSP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fcfc"/>
                </a:solidFill>
                <a:latin typeface="Arial"/>
              </a:rPr>
              <a:t>Modified for CS7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ulation Fail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54480" y="4341960"/>
            <a:ext cx="1676160" cy="2364480"/>
            <a:chOff x="3354480" y="4341960"/>
            <a:chExt cx="1676160" cy="2364480"/>
          </a:xfrm>
        </p:grpSpPr>
        <p:sp>
          <p:nvSpPr>
            <p:cNvPr id="174" name=""/>
            <p:cNvSpPr/>
            <p:nvPr/>
          </p:nvSpPr>
          <p:spPr>
            <a:xfrm>
              <a:off x="3354480" y="4341960"/>
              <a:ext cx="1599840" cy="1828800"/>
            </a:xfrm>
            <a:prstGeom prst="verticalScrol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4480" y="6246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do lo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581280" y="4724280"/>
            <a:ext cx="114300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5131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6765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2193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) System c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352320" y="1676520"/>
            <a:ext cx="1800" cy="7617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165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eate spec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792000">
            <a:off x="2088360" y="3234240"/>
            <a:ext cx="160020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414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86600" y="17521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1219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il spec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8792000">
            <a:off x="-45000" y="3234240"/>
            <a:ext cx="160020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414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133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800240" y="4952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4572000"/>
            <a:ext cx="1676520" cy="838080"/>
            <a:chOff x="5181480" y="4572000"/>
            <a:chExt cx="1676520" cy="838080"/>
          </a:xfrm>
        </p:grpSpPr>
        <p:sp>
          <p:nvSpPr>
            <p:cNvPr id="189" name=""/>
            <p:cNvSpPr/>
            <p:nvPr/>
          </p:nvSpPr>
          <p:spPr>
            <a:xfrm>
              <a:off x="5562360" y="457200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81480" y="478476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5EC-B498-43B7-8BA7-44E5B15D8159}" type="slidenum">
              <a:t>10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18 0.01018 L 0.42275 0.00949 E">
                                      <p:cBhvr>
                                        <p:cTn id="15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08922E-006 L -0.37917 -0.27254 E">
                                      <p:cBhvr>
                                        <p:cTn id="16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0.23993 -0.00093 E">
                                      <p:cBhvr>
                                        <p:cTn id="18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eplay after Fail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oes code after checkpoint need to be deterministic for correct resul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632-FF18-4172-9E02-D9B7665428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suring Correc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 processes often affect external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ulative state should never be visible to user or any external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cess should never view speculative state unless it is already speculatively dependent on tha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ways to ensure correct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agate speculations (depend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B96-1083-4449-AAB2-5CF9648F19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C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dify system call jump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calls that externaliz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read-only calls (e.g. getp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calls that modify only task state (e.g. dup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system calls -- need to dig dee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file systems that support Spe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4836960"/>
            <a:ext cx="14475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294160"/>
            <a:ext cx="14475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065560"/>
            <a:ext cx="1447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751360"/>
            <a:ext cx="144756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kd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5522760"/>
            <a:ext cx="141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97996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8200" y="483084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sys_getp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8560" y="530388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 until specs res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7840" y="57754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only if fs supports Spe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66B-06B9-4412-B111-21E3078720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60280" y="5486400"/>
            <a:ext cx="2667240" cy="83808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0280" y="4572000"/>
            <a:ext cx="2667240" cy="83808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put Commits: 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uf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784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 work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000" y="57308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kdir work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334120" y="5867280"/>
            <a:ext cx="17524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334120" y="5029200"/>
            <a:ext cx="17524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4495680"/>
            <a:ext cx="1676520" cy="2364480"/>
            <a:chOff x="3886200" y="4495680"/>
            <a:chExt cx="1676520" cy="2364480"/>
          </a:xfrm>
        </p:grpSpPr>
        <p:sp>
          <p:nvSpPr>
            <p:cNvPr id="214" name=""/>
            <p:cNvSpPr/>
            <p:nvPr/>
          </p:nvSpPr>
          <p:spPr>
            <a:xfrm>
              <a:off x="3886200" y="4495680"/>
              <a:ext cx="1600200" cy="1828800"/>
            </a:xfrm>
            <a:prstGeom prst="verticalScrol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86200" y="64004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do lo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114800" y="4876920"/>
            <a:ext cx="114300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638680"/>
            <a:ext cx="114300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781680" y="4572000"/>
            <a:ext cx="1676520" cy="838080"/>
            <a:chOff x="6781680" y="4572000"/>
            <a:chExt cx="1676520" cy="838080"/>
          </a:xfrm>
        </p:grpSpPr>
        <p:sp>
          <p:nvSpPr>
            <p:cNvPr id="219" name=""/>
            <p:cNvSpPr/>
            <p:nvPr/>
          </p:nvSpPr>
          <p:spPr>
            <a:xfrm>
              <a:off x="7162920" y="457200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1680" y="463248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sta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781680" y="5486400"/>
            <a:ext cx="1676520" cy="838080"/>
            <a:chOff x="6781680" y="5486400"/>
            <a:chExt cx="1676520" cy="838080"/>
          </a:xfrm>
        </p:grpSpPr>
        <p:sp>
          <p:nvSpPr>
            <p:cNvPr id="222" name=""/>
            <p:cNvSpPr/>
            <p:nvPr/>
          </p:nvSpPr>
          <p:spPr>
            <a:xfrm>
              <a:off x="7162920" y="548640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81680" y="5546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579096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mkdi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H="1">
            <a:off x="2971440" y="50292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971440" y="58672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438280" y="17521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sys_s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876920" y="17521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19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sys_mkd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8792000">
            <a:off x="-97200" y="3143880"/>
            <a:ext cx="160020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414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2133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81680" y="167652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12193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) Commit spec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4FA-1486-4E53-BFBE-E2E7D927D576}" type="slidenum">
              <a:t>14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4.44444E-006 L 0.1559 -0.00023 E">
                                      <p:cBhvr>
                                        <p:cTn id="19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9 -0.00023 L 0.40608 -0.00023 E">
                                      <p:cBhvr>
                                        <p:cTn id="22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1 -0.00023 L 0.63108 -0.00023 E">
                                      <p:cBhvr>
                                        <p:cTn id="24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-Process Spe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es often coop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“make” forks children to compile, link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block if speculation limited to one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kernel objects to have speculativ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inodes, signals, pipes, Unix socke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agate dependencies among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olled back to prior states when specs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D97-3999-49D7-B82C-A9714D751B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2057400" y="1676520"/>
            <a:ext cx="1676520" cy="838080"/>
            <a:chOff x="2057400" y="1676520"/>
            <a:chExt cx="1676520" cy="838080"/>
          </a:xfrm>
        </p:grpSpPr>
        <p:sp>
          <p:nvSpPr>
            <p:cNvPr id="239" name=""/>
            <p:cNvSpPr/>
            <p:nvPr/>
          </p:nvSpPr>
          <p:spPr>
            <a:xfrm>
              <a:off x="2454120" y="167652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18892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057400" y="1676520"/>
            <a:ext cx="1676520" cy="838080"/>
            <a:chOff x="2057400" y="1676520"/>
            <a:chExt cx="1676520" cy="838080"/>
          </a:xfrm>
        </p:grpSpPr>
        <p:sp>
          <p:nvSpPr>
            <p:cNvPr id="242" name=""/>
            <p:cNvSpPr/>
            <p:nvPr/>
          </p:nvSpPr>
          <p:spPr>
            <a:xfrm>
              <a:off x="2454480" y="167652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18892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-Process Spe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105520" y="1676520"/>
            <a:ext cx="1676160" cy="838080"/>
            <a:chOff x="5105520" y="1676520"/>
            <a:chExt cx="1676160" cy="838080"/>
          </a:xfrm>
        </p:grpSpPr>
        <p:sp>
          <p:nvSpPr>
            <p:cNvPr id="246" name=""/>
            <p:cNvSpPr/>
            <p:nvPr/>
          </p:nvSpPr>
          <p:spPr>
            <a:xfrm>
              <a:off x="5502240" y="167652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188928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238880" y="1447920"/>
            <a:ext cx="1600200" cy="182880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888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d 8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1828800"/>
            <a:ext cx="114300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2438280"/>
            <a:ext cx="114300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4114800"/>
            <a:ext cx="1600200" cy="182880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6095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ode 34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419720"/>
            <a:ext cx="114300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w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4952880"/>
            <a:ext cx="114300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3276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d 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1600200" cy="182880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1828800"/>
            <a:ext cx="114300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20574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0080" y="2438280"/>
            <a:ext cx="1369800" cy="2212920"/>
          </a:xfrm>
          <a:custGeom>
            <a:avLst/>
            <a:gdLst/>
            <a:ahLst/>
            <a:rect l="l" t="t" r="r" b="b"/>
            <a:pathLst>
              <a:path w="863" h="1394">
                <a:moveTo>
                  <a:pt x="863" y="1344"/>
                </a:moveTo>
                <a:cubicBezTo>
                  <a:pt x="742" y="1315"/>
                  <a:pt x="272" y="1394"/>
                  <a:pt x="136" y="1170"/>
                </a:cubicBezTo>
                <a:cubicBezTo>
                  <a:pt x="0" y="946"/>
                  <a:pt x="66" y="244"/>
                  <a:pt x="47" y="0"/>
                </a:cubicBezTo>
              </a:path>
            </a:pathLst>
          </a:custGeom>
          <a:noFill/>
          <a:ln w="540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2514600"/>
            <a:ext cx="990720" cy="2817720"/>
          </a:xfrm>
          <a:custGeom>
            <a:avLst/>
            <a:gdLst/>
            <a:ahLst/>
            <a:rect l="l" t="t" r="r" b="b"/>
            <a:pathLst>
              <a:path w="881" h="1871">
                <a:moveTo>
                  <a:pt x="0" y="1776"/>
                </a:moveTo>
                <a:cubicBezTo>
                  <a:pt x="124" y="1743"/>
                  <a:pt x="609" y="1871"/>
                  <a:pt x="745" y="1575"/>
                </a:cubicBezTo>
                <a:cubicBezTo>
                  <a:pt x="881" y="1279"/>
                  <a:pt x="801" y="328"/>
                  <a:pt x="816" y="0"/>
                </a:cubicBezTo>
              </a:path>
            </a:pathLst>
          </a:custGeom>
          <a:noFill/>
          <a:ln w="540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4240" y="2467080"/>
            <a:ext cx="4337280" cy="961920"/>
          </a:xfrm>
          <a:custGeom>
            <a:avLst/>
            <a:gdLst/>
            <a:ahLst/>
            <a:rect l="l" t="t" r="r" b="b"/>
            <a:pathLst>
              <a:path w="2732" h="606">
                <a:moveTo>
                  <a:pt x="124" y="0"/>
                </a:moveTo>
                <a:cubicBezTo>
                  <a:pt x="176" y="98"/>
                  <a:pt x="0" y="564"/>
                  <a:pt x="435" y="585"/>
                </a:cubicBezTo>
                <a:cubicBezTo>
                  <a:pt x="870" y="606"/>
                  <a:pt x="2254" y="222"/>
                  <a:pt x="2732" y="126"/>
                </a:cubicBezTo>
              </a:path>
            </a:pathLst>
          </a:custGeom>
          <a:noFill/>
          <a:ln w="540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828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2438280"/>
            <a:ext cx="114300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441972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w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952880"/>
            <a:ext cx="114300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5680" y="12952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63800" y="12952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2EB-0709-4186-8874-18BEAF96FA71}" type="slidenum">
              <a:t>16</a:t>
            </a:fld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-Process Spe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hand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S objects, RAMFS, Ext3, Pipes &amp; FIF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Sockets, Signals, Fork &amp; Ex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don’t (i.e. we b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V I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process write-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AAC-9ABD-4765-A8F7-02B29707E9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ing 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process 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ing Spe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2CA-7041-40CA-ACAB-860E38F5E8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 NFSv3 Linu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35560" y="198108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30240" y="12477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32280" y="12477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7280" y="12477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64360" y="3809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14"/>
                </a:solidFill>
                <a:latin typeface="Arial"/>
              </a:rPr>
              <a:t>Open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435560" y="3809880"/>
            <a:ext cx="1828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35560" y="4343400"/>
            <a:ext cx="1828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06400" y="41292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at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2057400"/>
            <a:ext cx="1082880" cy="113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14"/>
                </a:solidFill>
                <a:latin typeface="Arial"/>
              </a:rPr>
              <a:t>Modify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06760" y="2062080"/>
            <a:ext cx="1828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606760" y="2320920"/>
            <a:ext cx="1828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84520" y="215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06760" y="2595600"/>
            <a:ext cx="1828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606760" y="2854440"/>
            <a:ext cx="1828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84880" y="26859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4160" y="5533920"/>
            <a:ext cx="66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were asynchronous writes added to NFSv3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is situation of no overlap expected to be the common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can the commit return from the serv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37D-B51D-4C1C-B211-CB13F311DA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distributed file systems slow(er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 network messages provid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 disk writes provid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rifice guarantees for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DFS can be safe, consistent and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Yes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ith OS support for speculative exec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5C1-7605-420C-A21F-A5059271A47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 SpecN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2057400"/>
            <a:ext cx="9144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14"/>
                </a:solidFill>
                <a:latin typeface="Arial"/>
              </a:rPr>
              <a:t>Modify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2209680"/>
            <a:ext cx="1600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590920" y="2514600"/>
            <a:ext cx="1828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286000"/>
            <a:ext cx="1600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590920" y="2620800"/>
            <a:ext cx="1828800" cy="27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20574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6400" y="2376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u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2536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at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3581280"/>
            <a:ext cx="9144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14"/>
                </a:solidFill>
                <a:latin typeface="Arial"/>
              </a:rPr>
              <a:t>Ope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495680" y="3581280"/>
            <a:ext cx="1828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1828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3276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03920" y="37339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u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24480" y="4572000"/>
            <a:ext cx="9144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14"/>
                </a:solidFill>
                <a:latin typeface="Arial"/>
              </a:rPr>
              <a:t>Ope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495680" y="4572000"/>
            <a:ext cx="1828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01680" y="45100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at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457200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03920" y="481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u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21320" y="19051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+Co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35560" y="198108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0240" y="12477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32280" y="12477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7280" y="12477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1280" y="553392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can the commit return from the serv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CCF-7C21-47FE-A70E-9791FA93E14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Mutating Op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depends on cat f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lient 2 view in b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1447920"/>
            <a:ext cx="4495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at foo &gt; b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1447920"/>
            <a:ext cx="4114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at b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14300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B3C-602F-4358-8983-755E47D2CB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ution: Mutating Op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 determines speculation success/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at server never specul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server hypothesis speculation ba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speculations an operation depends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server t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iled spe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ould like to be convinced OK when server crash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-order processing of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D7D-9208-40D5-91D4-382B9B539F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Comm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sequential ops now con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c ops usually committed to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ulator makes group commit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434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43434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44197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48769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371600" y="46483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57913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371600" y="51055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371600" y="55627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371600" y="60199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3040" y="44226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73040" y="52754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73040" y="4879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3040" y="5794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5029200"/>
            <a:ext cx="304560" cy="2286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5943600"/>
            <a:ext cx="304560" cy="2286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43434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48720" y="43434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44197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19920" y="449568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9920" y="457200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46483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019920" y="51055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019920" y="502920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019920" y="487692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4800600"/>
            <a:ext cx="304920" cy="22860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019920" y="4952880"/>
            <a:ext cx="1828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39654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93240" y="39654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5360" y="39798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74600" y="3965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9080" y="3581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dating different fil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26200" y="617220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significantly improve disk through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90B-C408-44C0-ABE8-1B710DB5CD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ting it all Together: SpecN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Speculator to an existing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ied NFSv3 in Linux 2.4 ker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RPCs issued (but many now asynchrono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NFS has same consistency, safety as 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attr, lookup, access speculate if data in 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, mkdir, commit, etc. always spe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oose aliases for unknown fil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D5B-E8E3-4CCE-8EB7-DE06FD5B128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ting it all Together: Blue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 new file system for Spe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opy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ous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file, directory, etc. has version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ed on each mutating op (e.g. on wr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ed prior to all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ps speculate and check version asy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514-7977-4606-98B9-9664E27616E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ing 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process 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pe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8A1-F861-4860-8BC3-AAD8D79B28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ache Benchm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2280" y="6248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NFS up to 14 times fas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1076400"/>
          <a:ext cx="4533840" cy="51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76400"/>
                    <a:ext cx="453384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600440" y="1076400"/>
          <a:ext cx="4543560" cy="517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0440" y="1076400"/>
                    <a:ext cx="454356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120-D743-4EFA-B80F-40355C4E9D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ache Benchm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47680" y="1066680"/>
          <a:ext cx="440064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066680"/>
                    <a:ext cx="440064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572000" y="1066680"/>
          <a:ext cx="4438800" cy="522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66680"/>
                    <a:ext cx="44388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14B-EF81-4BAC-B7EB-D0A1908F6D8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st of Rollback 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Q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5943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iles out of date SpecNFS up to 11x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-76320" y="1066680"/>
          <a:ext cx="4667400" cy="474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066680"/>
                    <a:ext cx="466740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495680" y="1066680"/>
          <a:ext cx="4667400" cy="475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066680"/>
                    <a:ext cx="46674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400-A22F-4C99-86A9-F853E60000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 Idea: Slow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209680"/>
            <a:ext cx="2590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3200400"/>
            <a:ext cx="2514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17880" y="25146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C R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1828800"/>
            <a:ext cx="14400" cy="434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8520" y="121932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70160" y="34290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C Re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95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17220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s without blocking I/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1219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82880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133720"/>
            <a:ext cx="762120" cy="15238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Specula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752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Check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3800" y="2057400"/>
            <a:ext cx="0" cy="4038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 Idea: Spe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505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Corre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95480" y="373392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: discard ck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114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: restor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re-exec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209680"/>
            <a:ext cx="0" cy="1447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038480"/>
            <a:ext cx="2590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38120" y="5029200"/>
            <a:ext cx="2514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17880" y="43434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C R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70160" y="52578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C Re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209680"/>
            <a:ext cx="2590920" cy="457200"/>
          </a:xfrm>
          <a:prstGeom prst="line">
            <a:avLst/>
          </a:prstGeom>
          <a:ln w="9360">
            <a:solidFill>
              <a:srgbClr val="77777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38120" y="3200400"/>
            <a:ext cx="2514600" cy="457200"/>
          </a:xfrm>
          <a:prstGeom prst="line">
            <a:avLst/>
          </a:prstGeom>
          <a:ln w="9360">
            <a:solidFill>
              <a:srgbClr val="77777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17880" y="25146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RPC R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70160" y="34290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RPC Re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D09-281D-4E4B-96B7-3DC50FF0E47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ther experiments you would like to s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61F-A351-431C-BF00-1C6D46298BF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ther experiments you would like to s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mpact of checkpoin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ource constraints: Sca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many clients can server hand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network a constrai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rver must still handle poll requests, even if in b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rver now maintains state: per-client list of failed spec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A58-8AAC-4B78-80D0-2650853D875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tor greatly improves performance of existing distributed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specially in wide-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tor enables new file systems to be safe, consistent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ow general do you think Speculator 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ulation clearly improves poll-based consistency (NFSv3, BlueF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How much improvement with callbacks and leases? (AFS, Coda, NFSv4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5DE-6E5B-4471-B226-06691B3CC28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Commit &amp; Sharing S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5913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0" y="1143000"/>
          <a:ext cx="4581360" cy="46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458136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572000" y="1133640"/>
          <a:ext cx="4591080" cy="463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133640"/>
                    <a:ext cx="45910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8D7-54E8-4F52-B8AB-CB18B1F388A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 &amp; Gibson, Fraser &amp; Ch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tive pre-fe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W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ime: distributed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branch 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al 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389-8414-47FF-B71C-7AFC15BEE261}" type="slidenum">
              <a:t>34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itions for Su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s are highly predic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s are 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points are cheaper than network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µs for small process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(6.3 ms for 64 MB pro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have resources to sp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memory and CPU cycles for spe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1C0-BB59-4823-87D8-B63BC577F5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ssumptions --&gt; Experi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perations are high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hat happens if not (lots of sharing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ill cost of checkpointing and rolling back ever harm performance?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heckpoints are cheaper than network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hat happens with large memory processes?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puters have resources to spare (Cli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What happens when running multiple proces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an network become bottlenec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an server become bottlenec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3DD-B4AE-4708-828D-1814F39BC4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lementing 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process 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pe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80C-C4EB-4371-9C31-92FD46EA4D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mplementing Spe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ll within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o changes needed to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hree new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reate_specula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it_specula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ail_specula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Goal: Ensure speculative state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ever externalized (sent to terminal, disk, net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ever directly observed by non-speculative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FD4-FE17-4D82-B37F-82D591D9C9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842400" y="4343400"/>
            <a:ext cx="4186800" cy="2364480"/>
            <a:chOff x="842400" y="4343400"/>
            <a:chExt cx="4186800" cy="2364480"/>
          </a:xfrm>
        </p:grpSpPr>
        <p:grpSp>
          <p:nvGrpSpPr>
            <p:cNvPr id="133" name=""/>
            <p:cNvGrpSpPr/>
            <p:nvPr/>
          </p:nvGrpSpPr>
          <p:grpSpPr>
            <a:xfrm>
              <a:off x="3352680" y="4343400"/>
              <a:ext cx="1676520" cy="2364480"/>
              <a:chOff x="3352680" y="4343400"/>
              <a:chExt cx="1676520" cy="23644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4343400"/>
                <a:ext cx="1600200" cy="1828800"/>
              </a:xfrm>
              <a:prstGeom prst="verticalScroll">
                <a:avLst>
                  <a:gd name="adj" fmla="val 125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52680" y="624816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ndo lo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842400" y="6248520"/>
              <a:ext cx="24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or each kernel 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lementing Spe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792000">
            <a:off x="-21240" y="3067560"/>
            <a:ext cx="160020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414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800240" y="4952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19320" y="1600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1428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) System c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52680" y="1600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4560" y="121428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) Create spec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4680" y="212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81480" y="4572000"/>
            <a:ext cx="3977280" cy="838080"/>
            <a:chOff x="5181480" y="4572000"/>
            <a:chExt cx="3977280" cy="838080"/>
          </a:xfrm>
        </p:grpSpPr>
        <p:grpSp>
          <p:nvGrpSpPr>
            <p:cNvPr id="147" name=""/>
            <p:cNvGrpSpPr/>
            <p:nvPr/>
          </p:nvGrpSpPr>
          <p:grpSpPr>
            <a:xfrm>
              <a:off x="5181480" y="4572000"/>
              <a:ext cx="1676520" cy="838080"/>
              <a:chOff x="5181480" y="4572000"/>
              <a:chExt cx="1676520" cy="838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562360" y="4572000"/>
                <a:ext cx="914400" cy="838080"/>
              </a:xfrm>
              <a:prstGeom prst="octagon">
                <a:avLst>
                  <a:gd name="adj" fmla="val 29287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81480" y="4784760"/>
                <a:ext cx="167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539760" y="4794120"/>
              <a:ext cx="261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racks objects that depend</a:t>
              </a:r>
              <a:br>
                <a:rPr sz="16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on specul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451160" y="4724280"/>
            <a:ext cx="3273120" cy="381240"/>
            <a:chOff x="1451160" y="4724280"/>
            <a:chExt cx="3273120" cy="381240"/>
          </a:xfrm>
        </p:grpSpPr>
        <p:sp>
          <p:nvSpPr>
            <p:cNvPr id="152" name=""/>
            <p:cNvSpPr/>
            <p:nvPr/>
          </p:nvSpPr>
          <p:spPr>
            <a:xfrm>
              <a:off x="3581280" y="4724280"/>
              <a:ext cx="1143000" cy="3812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poi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51160" y="47242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Copy-on-write f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ADD-5085-48C1-BF8E-87535A155202}" type="slidenum">
              <a:t>8</a:t>
            </a:fld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23664 -3.33333E-006 E">
                                      <p:cBhvr>
                                        <p:cTn id="11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ulation Su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354480" y="4341960"/>
            <a:ext cx="1676160" cy="2364480"/>
            <a:chOff x="3354480" y="4341960"/>
            <a:chExt cx="1676160" cy="2364480"/>
          </a:xfrm>
        </p:grpSpPr>
        <p:sp>
          <p:nvSpPr>
            <p:cNvPr id="156" name=""/>
            <p:cNvSpPr/>
            <p:nvPr/>
          </p:nvSpPr>
          <p:spPr>
            <a:xfrm>
              <a:off x="3354480" y="4341960"/>
              <a:ext cx="1599840" cy="1828800"/>
            </a:xfrm>
            <a:prstGeom prst="verticalScrol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54480" y="62467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do lo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581280" y="4724280"/>
            <a:ext cx="114300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5131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14280" y="1676520"/>
            <a:ext cx="5040" cy="7617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193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) System c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352320" y="1676520"/>
            <a:ext cx="1800" cy="7617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219320"/>
            <a:ext cx="35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) Create spec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8792000">
            <a:off x="2104200" y="3066120"/>
            <a:ext cx="1600200" cy="459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414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81680" y="167652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2193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) Commit spec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2133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800240" y="4952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81480" y="4572000"/>
            <a:ext cx="1676520" cy="838080"/>
            <a:chOff x="5181480" y="4572000"/>
            <a:chExt cx="1676520" cy="838080"/>
          </a:xfrm>
        </p:grpSpPr>
        <p:sp>
          <p:nvSpPr>
            <p:cNvPr id="170" name=""/>
            <p:cNvSpPr/>
            <p:nvPr/>
          </p:nvSpPr>
          <p:spPr>
            <a:xfrm>
              <a:off x="5562360" y="4572000"/>
              <a:ext cx="914400" cy="838080"/>
            </a:xfrm>
            <a:prstGeom prst="octagon">
              <a:avLst>
                <a:gd name="adj" fmla="val 2928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478476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A92-5CC8-4FC0-9B1F-A48D052C9E62}" type="slidenum">
              <a:t>9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0.38195 -0.0007 E">
                                      <p:cBhvr>
                                        <p:cTn id="13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3:28:00Z</dcterms:created>
  <dc:creator>Ed Nightingale</dc:creator>
  <dc:description/>
  <dc:language>en-US</dc:language>
  <cp:lastModifiedBy>Andrea Arpaci-Dusseau User</cp:lastModifiedBy>
  <cp:lastPrinted>2008-05-06T15:38:16Z</cp:lastPrinted>
  <dcterms:modified xsi:type="dcterms:W3CDTF">2009-02-10T20:11:17Z</dcterms:modified>
  <cp:revision>84</cp:revision>
  <dc:subject/>
  <dc:title>Speculative Execution in a Distributed File System</dc:title>
</cp:coreProperties>
</file>