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rker Fel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arker Fel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rker Fel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move the slid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arker Fel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rker Fel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arker Fel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699-AE9B-4135-BE9A-28456BE07049}" type="slidenum">
              <a:rPr b="0" lang="en-US" sz="1200" spc="-1" strike="noStrike">
                <a:solidFill>
                  <a:srgbClr val="000000"/>
                </a:solidFill>
                <a:latin typeface="Marker Fe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: Faulty nodes, slow no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: S and S2 also S and S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snapshots are valid and can make a meaningful global snapsho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needed to reconcile S2 and S; need to record m1 in fight to reconcile S and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reconcile S and S3 --&gt; better make sure can’t happen --&gt; when take S, send marker to B before m2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 to tree failing in for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” instead of “independent comput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otion of working together, cooperatively, or coll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more abstract and theore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, p1 -&gt; q3, concurrent, q3-&gt;r4, 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577-3C26-48F6-8D7C-A8B4B3B2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FFE-5355-4A17-B3F9-15C90229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2BC-35A4-4532-83AA-D82D99E1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14A-1F49-47DA-A636-32C272FE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DE3-16C9-4B6C-ABF8-A3DBF5E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973-72D6-448F-A60C-91060C5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D10-F465-4DB4-AB83-0790D8A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D13-BB1F-441D-8666-FDD1B46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13C-CC6B-4B2A-B421-35200F9D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C6F-D530-4EAB-A9A5-897F606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4B4-C019-491F-BD20-1F6663F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FD4-6937-4871-B36A-42B0420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4E6-3206-4DDD-A259-AB6D62F6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rdering of Events in Distributed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962520"/>
            <a:ext cx="8305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pap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ime, Clocks, and the Ordering of Events in a Distributed System, Lamport, 19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Snapshots: Determining Global States of Distributed Systems, Chandy and Lamport, 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gical Clocks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752480" y="4800240"/>
            <a:ext cx="22100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962520" y="2285640"/>
            <a:ext cx="2286000" cy="33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62520" y="3047760"/>
            <a:ext cx="22860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52120" y="4495320"/>
            <a:ext cx="2210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752120" y="2209320"/>
            <a:ext cx="2210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62520" y="2209320"/>
            <a:ext cx="228600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66480" y="5334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6280" y="441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628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628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3300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28760" y="4648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0" y="4114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5600" y="3581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28760" y="312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1560" y="2590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560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39680" y="5334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831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8316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83160" y="2971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943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logical clock values are possible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e initial C(p1)=5, C(q1)=50, C(r1)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7360" y="5715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7080" y="5715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3280" y="5715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2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0080" y="441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2960" y="5334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100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1000" y="4114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6080" y="3581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39080" y="3048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8200" y="2666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428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77720" y="2895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140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4520" y="1905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640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057400"/>
            <a:ext cx="4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122"/>
                </a:solidFill>
                <a:latin typeface="Chalkboard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otal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logical clocks to obtain total ordering across all processes and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 =&gt; 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f and only if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(a) &lt; Cj(b)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(a) = Cj(b)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i &lt; Pj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(i.e., use process ids to break ti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rtial ordering is unique, but total ordering is not!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current operations can go in any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tal ordering depends upon implementation of each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tal ordering depends upon tie breaking ru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tate Machin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runs same distributed algorith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ies upon total ordering of reques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greed upon by all participa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be used to ensure all see events (inputs) in same order and therefore make same decis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a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 requests are time-stamped, responses (acks) are time-stamped to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nd time-stamped request to all 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ndle next request in total ord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o know next request, must have received greater timestamp from all possible participant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blem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Mutual exclus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tual Exclusion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8" name=""/>
          <p:cNvSpPr/>
          <p:nvPr/>
        </p:nvSpPr>
        <p:spPr>
          <a:xfrm>
            <a:off x="1137240" y="1454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576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1640" y="15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9800" y="15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32960" y="147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78200" y="152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37480" y="160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66280" y="152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3480" y="5638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est que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13372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A and C want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 and C each send request before see other’s (concurren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 sends request out earlier in “physical 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will all nodes agree who should get resou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tual Exclusion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9" name=""/>
          <p:cNvSpPr/>
          <p:nvPr/>
        </p:nvSpPr>
        <p:spPr>
          <a:xfrm>
            <a:off x="1137240" y="1454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576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1640" y="15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99800" y="15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32960" y="147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8200" y="152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7480" y="160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66280" y="152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57240" y="2057400"/>
            <a:ext cx="2133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828440" y="2209680"/>
            <a:ext cx="3886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23623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2514600"/>
            <a:ext cx="1981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590920"/>
            <a:ext cx="380988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743200"/>
            <a:ext cx="571500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79132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3200400"/>
            <a:ext cx="3733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828440" y="2895480"/>
            <a:ext cx="19810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828440" y="3352680"/>
            <a:ext cx="3809880" cy="1981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828440" y="3886200"/>
            <a:ext cx="563868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6760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8120" y="25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0132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0120" y="25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1320" y="281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1400" y="243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79680" y="3048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08480" y="3505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2360" y="396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4784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236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4840" y="373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200" y="563868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est queue:  A - 2, C -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hys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Can observe anomalous behavior if other communication channels exist between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ful to have physical clock with meaning in physical worl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ynchronize independent physical clocks, each running at slightly different rates (skew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ementation Idea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timestamp with each messag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iver may update clock to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timestamp+minimal network dela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ock must always increas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ts of work in this are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tributed, replicated state machines useful for tolerating faults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eed to construct </a:t>
            </a: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total ordering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of events to obtain same results everywhe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ogical clocks very simple to implemen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ill see logical clocks used to update replica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napsho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nt to record global state of distributed system (i.e., state of each process, state of each communication channel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ful so can observe system proper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putation terminated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ystem deadlocked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umber of token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ication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tributed system has no shared state nor shared c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record global state simultaneously everywhe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snapshot: Record local state at different times and combine into meaningful pic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btain cut in logical time, remain consistent by preserving logical ordering  (if not ordering in physical tim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Mode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tributed system: Finite set of processes and channels; described by graph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t of states, initial state, set of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anne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FO, error-free, infinite buffers, arbitrary but finite dela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te: Sequence of messages sent but not yet receiv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napshot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Record local state (each process plus adjoining channels) that produces a “meaningful” global system sta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fter local snapshot, send marker along channel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iver records messages in channel before mar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itial: Some process decides to initiate snapshot (performed periodicall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: Time, Clocks,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 develop distributed algorithms, want all participants see messages in same order (if want same decisions!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distributed nodes agree on order of messag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800600"/>
            <a:ext cx="2590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37920" y="4724280"/>
            <a:ext cx="2590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400" y="443880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Proces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280" y="457200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Proces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3341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aïve: Each process believes sent messag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uition with Logical Tim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2193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638680" y="1371600"/>
            <a:ext cx="76320" cy="335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2057400"/>
            <a:ext cx="3276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3352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666880"/>
            <a:ext cx="1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4419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80" y="4807080"/>
            <a:ext cx="679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ich snapshots are concur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reconcile S2 and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reconcile S1 and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reconcile S3 and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905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200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8520" y="1295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rker Fel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2440" y="121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rker Fel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rker Ru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rker-sending rule for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 marker along each channel (after recording state o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) before sending more mess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rking-receiving rule for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n channel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as not recorded state yet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</a:t>
            </a: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</a:t>
            </a: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s emp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has recorded state alread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state of </a:t>
            </a:r>
            <a:r>
              <a:rPr b="0" lang="en-US" sz="1800" spc="-1" strike="noStrike">
                <a:solidFill>
                  <a:srgbClr val="ff3122"/>
                </a:solidFill>
                <a:latin typeface="Chalkboard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s the msg sequence that arrived since it recorded its st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state recorded of all processes and all channe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have algorithm to collect and assemble information to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609588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able prope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73400" y="1204920"/>
            <a:ext cx="8260200" cy="4662360"/>
            <a:chOff x="473400" y="1204920"/>
            <a:chExt cx="8260200" cy="4662360"/>
          </a:xfrm>
        </p:grpSpPr>
        <p:sp>
          <p:nvSpPr>
            <p:cNvPr id="251" name=""/>
            <p:cNvSpPr/>
            <p:nvPr/>
          </p:nvSpPr>
          <p:spPr>
            <a:xfrm>
              <a:off x="1143000" y="1676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2400" y="1752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19720" y="1600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43000" y="1828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3000" y="2666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2362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419360" y="2133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142640" y="2666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419360" y="3657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3400" y="12049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79320" y="1219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46120" y="12193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9960" y="1905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2819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95680" y="2133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8880" y="1905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2438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9152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2590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9240" y="1447920"/>
            <a:ext cx="8260200" cy="4662360"/>
            <a:chOff x="489240" y="1447920"/>
            <a:chExt cx="8260200" cy="4662360"/>
          </a:xfrm>
        </p:grpSpPr>
        <p:sp>
          <p:nvSpPr>
            <p:cNvPr id="272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9240" y="14479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95160" y="1462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61960" y="14623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35800" y="2148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495680" y="2895480"/>
            <a:ext cx="327672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62485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 state: $20+1-3 = 18, empty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5" name=""/>
          <p:cNvSpPr/>
          <p:nvPr/>
        </p:nvSpPr>
        <p:spPr>
          <a:xfrm>
            <a:off x="1158840" y="191916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88240" y="1995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35560" y="18432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58840" y="2071800"/>
            <a:ext cx="32767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58840" y="2909880"/>
            <a:ext cx="6689880" cy="15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35560" y="2604960"/>
            <a:ext cx="3276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435200" y="237636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158480" y="2909880"/>
            <a:ext cx="662940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35200" y="390060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92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95160" y="1461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: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61960" y="146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3:  $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35800" y="214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11120" y="3062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11520" y="237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4720" y="2147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07360" y="26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07360" y="3595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59240" y="2833560"/>
            <a:ext cx="152280" cy="15264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2895480"/>
            <a:ext cx="3276720" cy="129564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571500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1 state: $10-1-3=6, empty channel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3 state: $30-2-5-4+3=22, empty channel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otal mone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6338880"/>
            <a:ext cx="28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18+6+22 = $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19" name=""/>
          <p:cNvSpPr/>
          <p:nvPr/>
        </p:nvSpPr>
        <p:spPr>
          <a:xfrm>
            <a:off x="1158840" y="191916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88240" y="1995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35560" y="18432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58840" y="2071800"/>
            <a:ext cx="32767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58840" y="2909880"/>
            <a:ext cx="6689880" cy="14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35560" y="2604960"/>
            <a:ext cx="3276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35200" y="237636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158480" y="2909880"/>
            <a:ext cx="662940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435200" y="3900600"/>
            <a:ext cx="3352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92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95160" y="1461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: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61960" y="146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3:  $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35800" y="214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11120" y="3062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11520" y="237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54720" y="2147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07360" y="26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07360" y="3595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59240" y="2833560"/>
            <a:ext cx="152280" cy="15264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5715000"/>
            <a:ext cx="815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9240" y="1447920"/>
            <a:ext cx="8260200" cy="4662360"/>
            <a:chOff x="489240" y="1447920"/>
            <a:chExt cx="8260200" cy="4662360"/>
          </a:xfrm>
        </p:grpSpPr>
        <p:sp>
          <p:nvSpPr>
            <p:cNvPr id="347" name=""/>
            <p:cNvSpPr/>
            <p:nvPr/>
          </p:nvSpPr>
          <p:spPr>
            <a:xfrm>
              <a:off x="1158840" y="19195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88240" y="199548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5560" y="184320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58840" y="2071800"/>
              <a:ext cx="32767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58840" y="2909880"/>
              <a:ext cx="670572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5560" y="2605320"/>
              <a:ext cx="3276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35200" y="237672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158480" y="2909880"/>
              <a:ext cx="662940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35200" y="3900600"/>
              <a:ext cx="3352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240" y="14479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1: $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95160" y="1462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2: $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1960" y="14623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3:  $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5800" y="2148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1120" y="30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11520" y="23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4720" y="214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07360" y="2681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07360" y="3595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59240" y="2833920"/>
              <a:ext cx="152280" cy="152280"/>
            </a:xfrm>
            <a:prstGeom prst="ellipse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5483160"/>
            <a:ext cx="304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2 from p1: noth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2 f p3: 4 +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3 f p1: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: p1 f p3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5627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6, p2: 18, p3: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75" name=""/>
          <p:cNvSpPr/>
          <p:nvPr/>
        </p:nvSpPr>
        <p:spPr>
          <a:xfrm>
            <a:off x="1158840" y="191916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88240" y="1995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35560" y="18432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58840" y="2071800"/>
            <a:ext cx="32767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3124080"/>
            <a:ext cx="670572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35560" y="2604960"/>
            <a:ext cx="3276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435200" y="2376360"/>
            <a:ext cx="3352680" cy="914400"/>
          </a:xfrm>
          <a:prstGeom prst="line">
            <a:avLst/>
          </a:prstGeom>
          <a:ln w="19080">
            <a:solidFill>
              <a:srgbClr val="ff31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158480" y="2909880"/>
            <a:ext cx="662940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35200" y="3809880"/>
            <a:ext cx="3336840" cy="1005120"/>
          </a:xfrm>
          <a:prstGeom prst="line">
            <a:avLst/>
          </a:prstGeom>
          <a:ln w="19080">
            <a:solidFill>
              <a:srgbClr val="ff31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92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95160" y="1461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: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61960" y="146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3:  $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35800" y="214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11120" y="3062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11520" y="237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54720" y="2147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07360" y="26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07360" y="3595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59240" y="2833560"/>
            <a:ext cx="152280" cy="15264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60958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 p2 from p3: Never $2 and $4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perties of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corded Global Stat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ed global state, S*, may not have occur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it bothers you that S* doesn’t actually exist..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iven a permutation of the actual sequence of ev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* is reachable from Sin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final is reachable from S*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ble properties will hold in S* as we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permute sequence of ev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Want snapshot to correspond to single logical c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ide events so snapshots taken at same “logical time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me events across processes will switch order with oth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ecifically, postrecorded events and prerecorded event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erecorded events occurred before state of p was record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’t tell ordering of concurrent pre and post ev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ing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04" name=""/>
          <p:cNvSpPr/>
          <p:nvPr/>
        </p:nvSpPr>
        <p:spPr>
          <a:xfrm>
            <a:off x="1158840" y="191916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88240" y="1995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35560" y="18432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58840" y="2071800"/>
            <a:ext cx="32767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58840" y="2909880"/>
            <a:ext cx="670572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35560" y="2604960"/>
            <a:ext cx="3276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35200" y="2376360"/>
            <a:ext cx="3352680" cy="914400"/>
          </a:xfrm>
          <a:prstGeom prst="line">
            <a:avLst/>
          </a:prstGeom>
          <a:ln w="19080">
            <a:solidFill>
              <a:srgbClr val="ff31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158480" y="2909880"/>
            <a:ext cx="662940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419360" y="3886200"/>
            <a:ext cx="3352680" cy="914400"/>
          </a:xfrm>
          <a:prstGeom prst="line">
            <a:avLst/>
          </a:prstGeom>
          <a:ln w="19080">
            <a:solidFill>
              <a:srgbClr val="ff31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9240" y="144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1: 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5160" y="1461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2: 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61960" y="14619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3:  $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35800" y="2147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11120" y="30621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11520" y="237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2147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07360" y="26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7360" y="3595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$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59240" y="2833560"/>
            <a:ext cx="152280" cy="15264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2895480"/>
            <a:ext cx="3200400" cy="114300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143000" y="297180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95680" y="4038480"/>
            <a:ext cx="3276720" cy="9907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142640" y="4038480"/>
            <a:ext cx="6629400" cy="167652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3962520"/>
            <a:ext cx="3200400" cy="30456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962520"/>
            <a:ext cx="6629400" cy="1066680"/>
          </a:xfrm>
          <a:prstGeom prst="line">
            <a:avLst/>
          </a:prstGeom>
          <a:ln w="50760">
            <a:solidFill>
              <a:srgbClr val="af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787320" y="6019920"/>
            <a:ext cx="10604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Need to swap sending $4 from p3 and receiving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ill logically consistent; could not observ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3809880"/>
            <a:ext cx="7632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9720" y="3276720"/>
            <a:ext cx="7596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84000" y="3649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122"/>
                </a:solidFill>
                <a:latin typeface="Chalkboard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04320" y="32004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122"/>
                </a:solidFill>
                <a:latin typeface="Chalkboard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: Time, Clocks,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does an event precede (“happen before”) another in a distributed syste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metimes impossible to tell; sometimes it doesn’t mat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event A occurs on machine 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nd event B occurs on machine B,</a:t>
            </a:r>
            <a:br>
              <a:rPr sz="1800"/>
            </a:b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but there is no communication between A and B,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en did event A or event B happen first?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a process identify which events happened before othe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gical clock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tributed snapshots: Allow one to reconstruct valid picture of system from snapshots taken at different points in tim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rd individual process states plus channel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napshots useful for determining if stable properties hold or no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corded state S* may not correspond to “reality”, but if stable properties hold in beginning and end states, then hold in S* too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erminolog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Distributed system: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 collection of distinct processes which are spatially separated and which communicate with one another by exchanging mess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this differ from our previous definitio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 sequence of </a:t>
            </a: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events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instructions, sending messages, receiving message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events within a process have a total orde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rtial Ord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ppened before: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ules for ordering events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re events in same process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comes before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-&gt;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s the sending of a message by a process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receiving that message,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-&gt;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-&gt;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-&gt;c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-&gt;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-&gt;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It is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causally affect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b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current: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‡&g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 ‡&gt; 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 ‡&gt; 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then do not know ordering o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t is not possible for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to causally affect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pace-Time Diagra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5840" y="17445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981080"/>
            <a:ext cx="0" cy="3733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800240"/>
            <a:ext cx="2210040" cy="685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962520" y="2285640"/>
            <a:ext cx="2286000" cy="3352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962520" y="3047760"/>
            <a:ext cx="2286000" cy="685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752120" y="4495320"/>
            <a:ext cx="221004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52120" y="2209320"/>
            <a:ext cx="221004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962520" y="2209320"/>
            <a:ext cx="2286000" cy="1676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66480" y="5334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86280" y="4419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628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8628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300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8760" y="4648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0" y="4114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5600" y="3581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8760" y="312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71560" y="2590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560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q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39680" y="5334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31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83160" y="21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3160" y="2971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225440" y="5952960"/>
            <a:ext cx="119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s the relationship between (q3,p3)? (p1,q3)? (p2,q3)? (q3,r4)? (r1,q6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135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616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0128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g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bstract view: Logical clock is a way to assign a number to an event to express orde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relation between logical clock and physical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ock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C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or process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s a function that assigns a number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Ci(a)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any event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in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ock condition: For any events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-&gt;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then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C(a) &lt; C(b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verse condition does not hol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’t say concurrent events have same logical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C(a) &lt; C(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) can’t conclude </a:t>
            </a:r>
            <a:r>
              <a:rPr b="0" lang="en-US" sz="2400" spc="-1" strike="noStrike">
                <a:solidFill>
                  <a:srgbClr val="ff3122"/>
                </a:solidFill>
                <a:latin typeface="Chalkboard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of Logical C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1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&amp;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re i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&amp;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efore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(a) &lt; Ci(b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R1. (Implementation Rul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 Pi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ncrements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etween any two successive ev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2.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sent by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nd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received by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j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i(a) &lt; Cj(b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R2.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a) If event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the sending of message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y process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the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contains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timestamp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Tm=Ci(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b) Upon receiving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, process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Pj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sets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Cj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greater than or equal to its presents value and greater than </a:t>
            </a:r>
            <a:r>
              <a:rPr b="0" lang="en-US" sz="2000" spc="-1" strike="noStrike">
                <a:solidFill>
                  <a:srgbClr val="ff3122"/>
                </a:solidFill>
                <a:latin typeface="Chalkboard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gical Clocks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66480" y="1981080"/>
            <a:ext cx="5597640" cy="3842640"/>
            <a:chOff x="1266480" y="1981080"/>
            <a:chExt cx="5597640" cy="3842640"/>
          </a:xfrm>
        </p:grpSpPr>
        <p:sp>
          <p:nvSpPr>
            <p:cNvPr id="105" name=""/>
            <p:cNvSpPr/>
            <p:nvPr/>
          </p:nvSpPr>
          <p:spPr>
            <a:xfrm>
              <a:off x="1752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252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24480" y="1981080"/>
              <a:ext cx="0" cy="373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752480" y="4800240"/>
              <a:ext cx="2210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962520" y="2285640"/>
              <a:ext cx="228600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962520" y="3047760"/>
              <a:ext cx="2286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752120" y="4495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752120" y="2209320"/>
              <a:ext cx="2210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962520" y="2209320"/>
              <a:ext cx="228600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6480" y="5334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6280" y="4419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6280" y="3200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6280" y="2133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33000" y="5486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8760" y="4648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52800" y="4114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95600" y="3581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28760" y="3124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560" y="2590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5600" y="2133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q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39680" y="5334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83160" y="3733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83160" y="2133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8316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halkboard"/>
                </a:rPr>
                <a:t>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04920" y="5943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logical clock values are possible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e initial C(p1)=5, C(q1)=50, C(r1)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Remzi Arpaci</cp:lastModifiedBy>
  <cp:lastPrinted>1970-01-04T00:48:46Z</cp:lastPrinted>
  <dcterms:modified xsi:type="dcterms:W3CDTF">2009-02-12T20:21:19Z</dcterms:modified>
  <cp:revision>17</cp:revision>
  <dc:subject/>
  <dc:title>Introduction and Overview</dc:title>
</cp:coreProperties>
</file>