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37F3-10D9-4D60-B428-C4D3DA5BCA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raid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013-CF7E-4FDA-85AA-5947E75A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0A5-7165-4166-8638-FE4BEF08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29D-FDF2-4D7F-8953-36AD797D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852-EAA5-4B6F-87A8-9B367B51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515-7472-4843-B032-36FA604E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C71-A417-402C-82F7-8721C32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E3E-5A54-4062-BC70-A2B83408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57F-58F6-40F2-9D0B-DB707BC8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03D-871B-4906-9238-854A0E8F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0E3-25BA-4999-ACCC-C7B92EE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AD2-F88E-466E-999B-F6CBAD5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A48-4D2F-4281-8AE5-121C3EC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23EF-9068-490B-AB09-1A680F7C0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utomatic RAID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Ba-Quy Vuong(Bryan) and Yiying Zha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epartment of Computer Sci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niversity of Wisconsin-Madi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utomatic Pa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Goal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Allows any parity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wo data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Layout matrix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 How blocks are laid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 whole matrix corresponds to a stri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Each row corresponds to one str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Zeros mean data blocks, ones mean parity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Number of columns is the number of d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95280" y="4724280"/>
          <a:ext cx="1524240" cy="146376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81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191120" y="5257800"/>
          <a:ext cx="1218960" cy="36504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81680" y="5257800"/>
          <a:ext cx="1219320" cy="36504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Box 8"/>
          <p:cNvSpPr/>
          <p:nvPr/>
        </p:nvSpPr>
        <p:spPr>
          <a:xfrm>
            <a:off x="137160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-disk RAI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038480" y="5943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-disk RAI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6553080" y="5908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-disk RAID 0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utomatic Pa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wo data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arity matrix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What data blocks contribute to a parity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#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: #parity blocks in one stri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#colum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: #data blocks in one stri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 element at row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 colum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is one means the data block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is used to calculate the parity block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4876920"/>
          <a:ext cx="3352680" cy="146340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79360"/>
                <a:gridCol w="279360"/>
                <a:gridCol w="279360"/>
                <a:gridCol w="279360"/>
                <a:gridCol w="279360"/>
                <a:gridCol w="279720"/>
                <a:gridCol w="279360"/>
                <a:gridCol w="279360"/>
                <a:gridCol w="279360"/>
                <a:gridCol w="27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29200" y="5410080"/>
          <a:ext cx="838080" cy="36540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7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7238880" y="5181480"/>
          <a:ext cx="457200" cy="731880"/>
        </p:xfrm>
        <a:graphic>
          <a:graphicData uri="http://schemas.openxmlformats.org/drawingml/2006/table">
            <a:tbl>
              <a:tblPr/>
              <a:tblGrid>
                <a:gridCol w="228600"/>
                <a:gridCol w="22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Box 8"/>
          <p:cNvSpPr/>
          <p:nvPr/>
        </p:nvSpPr>
        <p:spPr>
          <a:xfrm>
            <a:off x="1676520" y="63356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-disk RAI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724280" y="5943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-disk RAI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6642000" y="6031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-disk RAID 0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utomatic Checksum -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ecksum over data and parity bl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lexible number of blocks as a checksum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lexible checksum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lexibl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lexible lo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utomatic Checksum -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User specified parame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#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f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blocks as a checksum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ecksum size for each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Checksum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 blocks as a checksum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 block for checks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One more level ma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0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52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chitecture and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anc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clusion &amp;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ID driver is implemented as a device driver in Lin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ecksums and parities are specified by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ecksum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rovided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sum, hash-b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emory-based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Uses each memory chunk as a dis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Easy to build and debu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No significant effect on the overal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Disk-based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Uses real dis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Communicates with disk drivers throug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bi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Problems of synchronization due to asynchronous 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chitecture and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anc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clusion &amp;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erformance Evaluation: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os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VMWare, Fedora 8, Intel Core 2 Duo 2.2GHz, 1GB 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emory-b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mulating disk de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ach low-level disk read: 15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Each low-level disk write: 17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mulating disk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Unable to read (2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Read inconsistency (2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erformance Evaluation: Set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Evaluation set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With and without reco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ifferent layouts, parity logics, and checksum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ifferent work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ystem 1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-disk no parity, no checks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ystem 2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-disk Raid 0+1 with hash-based checks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ystem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4-disk Raid 0+1 with sum checks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ystem 4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-disk Raid 5 with hash-based checks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ystem 5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-disk Raid 5 with sum checks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Workloa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reading, writing 30KB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mkfs, m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chitecture and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anc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clusion &amp;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erformance: Avg Read and Write 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9067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erformance: Deviation of Read &amp; Wr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21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erformance: 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erformance: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chitecture and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anc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clusion &amp;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hy automatic RA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Flexible vs. fixed raid driv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Robustnes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Automatic Parity with two matr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Automatic Checksum with user-defined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essons learn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Performance is a big iss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宋体"/>
              </a:rPr>
              <a:t>Disk-based RAID is much harder to implement than Memory-based RA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mplete the disk-based 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rove the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eck for input correc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tend the parity and checksum layers to handle more sche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Questions &amp;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What is RAI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dundan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ray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expensi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urpo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4734000" y="3124080"/>
            <a:ext cx="341928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315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RAID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rdware RAI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ing dedicated hardware to control the disk arr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 in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ftware RAID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ing a software layer sitting above the disk drivers to control the disk arr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 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514600" cy="209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34080" y="3924360"/>
            <a:ext cx="2495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roblems with Software RA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here are many ways to build RAID systems,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ifferent checksum-based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ifferent parity-based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t Flexibl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Each RAID level requires a specific RAID d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Not Robus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Writing a new RAID driver is time-consuming a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y have lots of 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r Solution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tomatic RAID 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 way to describe checksum and parity-based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Mapping the specified scheme to a RAID d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Flexibi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rchitecture and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erformanc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clusion &amp;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ign Consid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ity on top of Checks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sum on top of Pa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49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-disk RAID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Mirroring check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924440" y="1371600"/>
            <a:ext cx="3152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3:03:59Z</dcterms:created>
  <dc:creator>Campus User</dc:creator>
  <dc:description/>
  <dc:language>en-US</dc:language>
  <cp:lastModifiedBy>Campus User</cp:lastModifiedBy>
  <dcterms:modified xsi:type="dcterms:W3CDTF">2008-05-12T19:53:44Z</dcterms:modified>
  <cp:revision>230</cp:revision>
  <dc:subject/>
  <dc:title>Slide 1</dc:title>
</cp:coreProperties>
</file>