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B85-3C8A-458C-90AC-F023229A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468-98B8-4107-963E-094327EB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291-0A9F-4EA8-AFF4-BA4CF891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A9B-BBCA-4434-9784-D0285646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878C-3704-4AFD-BC77-FE055B1B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A3C9-4EB3-42F4-8190-6A433BA5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ACB3-222E-4040-8D4A-D691F92E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512D-2FC0-48C3-9503-BC1AA6DC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4D4C-A27E-453C-9185-24790AC0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2CDB-6446-4E1B-B67C-EE124A2E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DAE1-575E-496D-8E52-3A298D58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5B0-AC46-4016-A429-A7E34783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C374-1A33-4F93-BF8F-DA2A188D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4669-4DC4-4993-B3BD-AD084B19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13AC-5914-445A-976D-BA55D663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BC17-FD24-4209-8457-C71777AF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3B93-7204-46FE-93C9-7AB74BE1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66543-287A-41F6-8DEA-AEC492A2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10E5E-D736-41A6-A42A-85D198EB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E77C6-48D8-4CD2-A3A9-8075F3A9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40102-A85C-4BE8-8929-8BE95B87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6BF5C-BC73-4401-B487-1291DD46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D3D-09BF-4FAD-A491-3758A887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B556C-DEF2-4C85-9202-146E002E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71007-760B-434F-A700-8E271FD6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1A69F-8891-4082-80F7-11F8DFD4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0E33A-131F-4B68-A617-D4204752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A2D03-C4B4-4CC6-8C4E-28251BCB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A9CEE-7BAD-4615-AC30-3ED6033A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767E6-D7B5-4979-B286-FBEFEC06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7F382-C098-4749-94DB-45D54237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AD479-043E-4924-B039-0A4E3530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AD9A3-A75F-46BD-AD1E-F4F3FA4F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5C2-C6C9-4740-A2F0-5E62A675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FCE74-7A27-4F04-A8BB-690E17C0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2B63C-C662-47EE-9E88-D1EB19D6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41D28-70AC-44A5-A076-2A54BFE5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2765C-9D78-4BF2-999C-EF2919FD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3D033-827A-41B4-9235-507D9160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42312-DCD0-4623-9E2D-B55348BE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76F2D-5132-409B-B9C7-01791DDF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FFBE6-B793-42CC-811B-40919E04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1938E-561C-4809-A12A-EA288D7F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C5263-0703-4408-8A12-5CE12810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309-68AB-4430-9CB2-B059176B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2A0B0-5B19-462C-B3EE-3D5A4D1A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290B9-D488-414A-8235-71F3F045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5B478-B31B-4480-9D64-224E03EE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7013D-9CF2-406B-A049-55793D1A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A2357-B8E2-4AC5-A09E-4E812E99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0A2C41-1922-46E9-B94D-54E9EE0D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20943-0882-46A4-9AC0-EF6A8EAF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6422E-7EA3-406D-93D1-7FDA8684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480650-2AD4-43A0-87B8-05815B1E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256A7-B055-48EF-A958-B1031B20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125-8C9B-4D73-904C-5ECC1C5D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9E93E-46E3-422C-A80D-631F3AE7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499B09-D625-48A3-8D3F-50F5D7CB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5FA69F-3A3B-4827-A187-A71D5499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57DDE7-53AF-4928-8037-2F885881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414BF4-C766-4DE6-85BB-4E821B6E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0ED79-2C89-41FF-89A1-618DC3C6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1ED887-BEEA-4A01-A4F5-39938775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FD4D03-59B7-425C-AB97-D99FB178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D657A8-5FCC-4522-B3FC-88D6F9BA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9C4FC-C59C-4BFD-9DCA-64857F4C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F97E-F5AE-42DD-8B40-281E7BF3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6C4DD9-C3D0-44CF-9106-BEFD22AC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5FA37-367D-490E-8607-C7DDB496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4297F4-AAF2-4A65-AC38-6CC311F4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F4CE61-7648-4D25-97F3-0F1CFBE5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BD1B2-A835-43B1-9040-42AEEAEE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B69B0-693B-4A2D-9C8A-716BD10B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44B2E3-BF86-4F57-BFC1-80D580C3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449CC-DE12-4EA9-937D-44CB839D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AA456-7AA1-407F-81F4-A840107C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8A3AA-F143-45A2-ACEC-36C5700B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6A5-AB3E-4257-9798-3E01C90C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6E953-6729-44BA-B0CB-CE9594D0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8CA81-980E-4513-933E-DC5D7DFF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AA7F7-7EEB-48DB-B597-234514CD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1B2D50-F3C3-4293-91C0-DFBA703D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EE352-61E6-413C-8124-CC64B430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45E-1B83-4299-B3D0-FCD3C01D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88AD-85E9-462C-AA19-F680C17E813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2067-8DF6-4E97-99AD-6C113A05C0C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5D3D-EA7B-4327-9260-B41D3D4557A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814D-3DAE-4BB9-AEF9-CE083DE9EF1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D182-8BDD-486F-8EB8-E35237BB989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B0C6-F8AA-4645-9FBF-A67BDFF56FD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F774-F72A-437E-96EF-D591752F6B9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CALABILITY OF EXT2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Yancan Huang, Guoliang Ji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ay 13, 200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THE FILE CREATE PROCESS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The process of sys_op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sys_open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 {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// fs/open.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do_sys_ope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 {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 // fs/open.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getna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get_unused_fd_flag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do_filp_ope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 {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 // fs/open.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open_namei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 // fs/namei.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inameidata_to_fil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fsnotify_op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fd_instal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putna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prevent_tail_cal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THE FILE CREATE PROCES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7696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open_namei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meets file cre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open_namei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{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……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ath_lookup_crea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ookup_hash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pen_namei_create   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f (! error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turn 0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……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Title 1"/>
          <p:cNvSpPr/>
          <p:nvPr/>
        </p:nvSpPr>
        <p:spPr>
          <a:xfrm>
            <a:off x="5334120" y="28195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  <a:ea typeface="华文楷体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5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THE FILE CREATE PROCES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696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The process of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okup_has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lookup_hash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{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ermiss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__lookup_hash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{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ched_lookup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// always fail for crea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ruct dentry *new = d_allo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ntry = inode-&gt;i_op-&gt;lookup       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f (!dentry)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// always true for crea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ntry = new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turn dentr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THE FILE CREATE PROCES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7696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The process of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pen_namei_cre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open_namei_creat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{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vfs_creat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{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y_crea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urity_inode_crea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dir-&gt;i_op-&gt;creat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// dir is an inod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snotify_crea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y_op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E ARE NOW IN EXT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anks to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node-&gt;i_op-&gt;looku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anks to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node-&gt;i_op-&gt;cre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ing to ext2_looku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ing to ext2_cre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Down Arrow 3"/>
          <p:cNvSpPr/>
          <p:nvPr/>
        </p:nvSpPr>
        <p:spPr>
          <a:xfrm>
            <a:off x="2971800" y="3048120"/>
            <a:ext cx="1143000" cy="838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DOES EXT2_LOOKUP DO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The process of ext2_looku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ext2_lookup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{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ext2_inode_by_nam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ext2_find_entry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ge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_splice_ali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DOES EXT2_FIND_ENTRY DO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The process of ext2_find_ent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ext2_find_entry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{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t2_get_pa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t2_last_by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ile () {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ext2_match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ext2_next_entry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} while (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NOW WHERE WE ARE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7696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open_namei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meets file cre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open_namei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{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……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ath_lookup_crea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ookup_hash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pen_namei_create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f (! error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turn 0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……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Right Arrow 4"/>
          <p:cNvSpPr/>
          <p:nvPr/>
        </p:nvSpPr>
        <p:spPr>
          <a:xfrm>
            <a:off x="914400" y="3733920"/>
            <a:ext cx="380880" cy="1522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indefinite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1" dur="indefinite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2" dur="indefinite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DOES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EXT2_CREATE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DO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The process of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t2_cre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ext2_creat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{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t2_new_ino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rk_inode_dir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ext2_add_nondir {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ext2_add_lin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_instanti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DOES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EXT2_ADD_LINK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DO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The process of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t2_add_lin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ext2_add_lin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{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r () {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t2_get_pa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t2_last_by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ile () {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ext2_match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ext2_rec_len_from_disk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__ext2_write_begi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t2_commit_chun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p2create.jpg"/>
          <p:cNvPicPr/>
          <p:nvPr/>
        </p:nvPicPr>
        <p:blipFill>
          <a:blip r:embed="rId1"/>
          <a:stretch/>
        </p:blipFill>
        <p:spPr>
          <a:xfrm>
            <a:off x="628560" y="1219320"/>
            <a:ext cx="7524720" cy="56386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OTIV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aph for cre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ontent Placeholder 3" descr="p3mylog1.jpg"/>
          <p:cNvPicPr/>
          <p:nvPr/>
        </p:nvPicPr>
        <p:blipFill>
          <a:blip r:embed="rId1"/>
          <a:stretch/>
        </p:blipFill>
        <p:spPr>
          <a:xfrm>
            <a:off x="457200" y="685800"/>
            <a:ext cx="3965400" cy="29718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HOW OFTEN THESE WHILE LOOP EXECUTED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6" name="Picture 5" descr="p3mylog3.jpg"/>
          <p:cNvPicPr/>
          <p:nvPr/>
        </p:nvPicPr>
        <p:blipFill>
          <a:blip r:embed="rId2"/>
          <a:stretch/>
        </p:blipFill>
        <p:spPr>
          <a:xfrm>
            <a:off x="457200" y="3657600"/>
            <a:ext cx="3962520" cy="29685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p3mylog4.jpg"/>
          <p:cNvPicPr/>
          <p:nvPr/>
        </p:nvPicPr>
        <p:blipFill>
          <a:blip r:embed="rId3"/>
          <a:stretch/>
        </p:blipFill>
        <p:spPr>
          <a:xfrm>
            <a:off x="4114800" y="3657600"/>
            <a:ext cx="3965400" cy="29718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p3mylog2.jpg"/>
          <p:cNvPicPr/>
          <p:nvPr/>
        </p:nvPicPr>
        <p:blipFill>
          <a:blip r:embed="rId4"/>
          <a:stretch/>
        </p:blipFill>
        <p:spPr>
          <a:xfrm>
            <a:off x="4114800" y="685800"/>
            <a:ext cx="3965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REVISIT THE CREATE GRAPH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Content Placeholder 3" descr="p2create.jpg"/>
          <p:cNvPicPr/>
          <p:nvPr/>
        </p:nvPicPr>
        <p:blipFill>
          <a:blip r:embed="rId1"/>
          <a:stretch/>
        </p:blipFill>
        <p:spPr>
          <a:xfrm>
            <a:off x="939960" y="1600200"/>
            <a:ext cx="65023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THE FILE OPEN PROCESS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The process of sys_op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sys_open {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// fs/open.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do_sys_open {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 // fs/open.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getna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get_unused_fd_flag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do_filp_open {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 // fs/open.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open_namei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 // fs/namei.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inameidata_to_fil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fsnotify_op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fd_instal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putna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宋体"/>
              </a:rPr>
              <a:t>prevent_tail_cal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THE FILE OPEN PROCES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open_namei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meets file op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open_namei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{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……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f (!(flag &amp; O_CREAT)) {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rror = path_lookup_open(dfd, pathname,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ookup_flags(flag), nd, flag)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f (error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turn error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oto ok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……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THE FILE OPEN PROCES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The process of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th_lookup_op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ath_lookup_open {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__path_lookup_intent_open {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t_empty_fil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o_path_lookup {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path_walk {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nk_path_walk {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THE FILE OPEN PROCES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The process of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nk_path_wal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ink_path_walk {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__link_path_open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// in the dcach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f (fail) {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// force real lookup reques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ge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ntgr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__link_path_op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REVISIT THE OPEN GRAPH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0" name="Content Placeholder 5" descr="p1read.jpg"/>
          <p:cNvPicPr/>
          <p:nvPr/>
        </p:nvPicPr>
        <p:blipFill>
          <a:blip r:embed="rId1"/>
          <a:stretch/>
        </p:blipFill>
        <p:spPr>
          <a:xfrm>
            <a:off x="939960" y="1600200"/>
            <a:ext cx="65023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OVERVIE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9d"/>
                </a:solidFill>
                <a:latin typeface="Century Schoolbook"/>
                <a:ea typeface="宋体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9d"/>
                </a:solidFill>
                <a:latin typeface="Century Schoolbook"/>
                <a:ea typeface="宋体"/>
              </a:rPr>
              <a:t>What is scalability of file 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9d"/>
                </a:solidFill>
                <a:latin typeface="Century Schoolbook"/>
                <a:ea typeface="宋体"/>
              </a:rPr>
              <a:t>Experiment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39d"/>
                </a:solidFill>
                <a:latin typeface="Century Schoolbook"/>
                <a:ea typeface="宋体"/>
              </a:rPr>
              <a:t>Setu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39d"/>
                </a:solidFill>
                <a:latin typeface="Century Schoolbook"/>
                <a:ea typeface="宋体"/>
              </a:rPr>
              <a:t>Techniqu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39d"/>
                </a:solidFill>
                <a:latin typeface="Century Schoolbook"/>
                <a:ea typeface="宋体"/>
              </a:rPr>
              <a:t>Benchmar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9d"/>
                </a:solidFill>
                <a:latin typeface="Century Schoolbook"/>
                <a:ea typeface="宋体"/>
              </a:rPr>
              <a:t>Create: where does the time 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39d"/>
                </a:solidFill>
                <a:latin typeface="Century Schoolbook"/>
                <a:ea typeface="宋体"/>
              </a:rPr>
              <a:t>The file create proces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39d"/>
                </a:solidFill>
                <a:latin typeface="Century Schoolbook"/>
                <a:ea typeface="宋体"/>
              </a:rPr>
              <a:t>What does ext2_lookup d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39d"/>
                </a:solidFill>
                <a:latin typeface="Century Schoolbook"/>
                <a:ea typeface="宋体"/>
              </a:rPr>
              <a:t>What dose ext2_create d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39d"/>
                </a:solidFill>
                <a:latin typeface="Century Schoolbook"/>
                <a:ea typeface="宋体"/>
              </a:rPr>
              <a:t>The file open proces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Conclusion &amp; Future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CLUS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create, ext2_lookup makes sure there won’t be two files with the same name, and ext2_add_link performs a similar routine aga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dentry structure of ext2 is line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sing B-tree to manage this in memory structure would show better performa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other scalability issue in ext2 is that its inode number is determined when the disk is format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UTURE 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y to use B-tree to manage the dentry structure and test the performa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t the B-tree itself is complex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y more worklo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p1read.jpg"/>
          <p:cNvPicPr/>
          <p:nvPr/>
        </p:nvPicPr>
        <p:blipFill>
          <a:blip r:embed="rId1"/>
          <a:stretch/>
        </p:blipFill>
        <p:spPr>
          <a:xfrm>
            <a:off x="609480" y="1204920"/>
            <a:ext cx="7543800" cy="56530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OTIV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aph for op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QUESTION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Action Button: Help 5"/>
          <p:cNvSpPr/>
          <p:nvPr/>
        </p:nvSpPr>
        <p:spPr>
          <a:xfrm>
            <a:off x="2819520" y="2286000"/>
            <a:ext cx="3429000" cy="2666880"/>
          </a:xfrm>
          <a:custGeom>
            <a:avLst/>
            <a:gdLst>
              <a:gd name="textAreaLeft" fmla="*/ 172800 w 3429000"/>
              <a:gd name="textAreaRight" fmla="*/ 3256200 w 3429000"/>
              <a:gd name="textAreaTop" fmla="*/ 172800 h 2666880"/>
              <a:gd name="textAreaBottom" fmla="*/ 2494080 h 26668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2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3" y="10800"/>
                </a:cubicBezTo>
                <a:cubicBezTo>
                  <a:pt x="17054" y="10800"/>
                  <a:pt x="17951" y="9434"/>
                  <a:pt x="17951" y="7849"/>
                </a:cubicBezTo>
                <a:cubicBezTo>
                  <a:pt x="17951" y="5534"/>
                  <a:pt x="16097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1" y="5821"/>
                  <a:pt x="13886" y="5821"/>
                </a:cubicBezTo>
                <a:cubicBezTo>
                  <a:pt x="14991" y="5821"/>
                  <a:pt x="15923" y="6709"/>
                  <a:pt x="15923" y="7849"/>
                </a:cubicBezTo>
                <a:cubicBezTo>
                  <a:pt x="15923" y="8589"/>
                  <a:pt x="15453" y="9320"/>
                  <a:pt x="14991" y="9320"/>
                </a:cubicBezTo>
                <a:cubicBezTo>
                  <a:pt x="13886" y="9320"/>
                  <a:pt x="12781" y="10800"/>
                  <a:pt x="12781" y="12323"/>
                </a:cubicBezTo>
                <a:lnTo>
                  <a:pt x="12781" y="14281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OTIV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e method, different graph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de for create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asmlinkage long sys_creat(const char __user * pathname,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int mode)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return sys_open(pathname,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O_CREAT | O_WRONLY | O_TRUNC, 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mode)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de for open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sys_open(pathname, O_RDWR)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00000"/>
                </a:solidFill>
                <a:latin typeface="Century Schoolbook"/>
                <a:ea typeface="宋体"/>
              </a:rPr>
              <a:t>Create: where does the time go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OVERVIE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9d"/>
                </a:solidFill>
                <a:latin typeface="Century Schoolbook"/>
                <a:ea typeface="宋体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What is scalability of file 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Experiment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宋体"/>
              </a:rPr>
              <a:t>Setu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宋体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宋体"/>
              </a:rPr>
              <a:t>Benchmar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Create: where does the time 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宋体"/>
              </a:rPr>
              <a:t>The file create proces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宋体"/>
              </a:rPr>
              <a:t>What does ext2_lookup d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宋体"/>
              </a:rPr>
              <a:t>What dose ext2_create d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宋体"/>
              </a:rPr>
              <a:t>The file open proces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Conclusion &amp; Future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WHAT IS SCALABILITY OF FILE SYSTE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Large File Syste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Large, Sparse Fi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Large, Contiguous Fi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Large Director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Large Numbers of Fi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EXPERIMENT ENVIRONME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Setup: U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Mount our own ext2 file system called ext2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With 1GB empty virtual dis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Measuring techniqu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gettimeofda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long long c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__asm__ __volatile__ (“rdtsc” : “=A” (c))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Output techniqu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print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write to log on hos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Benchma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宋体"/>
              </a:rPr>
              <a:t>Sequential create and open on a 1GB dis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OVERVIE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9d"/>
                </a:solidFill>
                <a:latin typeface="Century Schoolbook"/>
                <a:ea typeface="宋体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9d"/>
                </a:solidFill>
                <a:latin typeface="Century Schoolbook"/>
                <a:ea typeface="宋体"/>
              </a:rPr>
              <a:t>What is scalability of file 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9d"/>
                </a:solidFill>
                <a:latin typeface="Century Schoolbook"/>
                <a:ea typeface="宋体"/>
              </a:rPr>
              <a:t>Experiment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39d"/>
                </a:solidFill>
                <a:latin typeface="Century Schoolbook"/>
                <a:ea typeface="宋体"/>
              </a:rPr>
              <a:t>Setu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39d"/>
                </a:solidFill>
                <a:latin typeface="Century Schoolbook"/>
                <a:ea typeface="宋体"/>
              </a:rPr>
              <a:t>Techniqu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39d"/>
                </a:solidFill>
                <a:latin typeface="Century Schoolbook"/>
                <a:ea typeface="宋体"/>
              </a:rPr>
              <a:t>Benchmar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Create: where does the time 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宋体"/>
              </a:rPr>
              <a:t>The file create proces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宋体"/>
              </a:rPr>
              <a:t>What does ext2_lookup d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宋体"/>
              </a:rPr>
              <a:t>What dose ext2_create d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宋体"/>
              </a:rPr>
              <a:t>The file open proces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宋体"/>
              </a:rPr>
              <a:t>Conclusion &amp; Future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CREATE: WHERE DOES THE TIME G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mlinkage long sys_creat(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 char __user * pathname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 mod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turn sys_open(pathname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_CREAT | O_WRONLY | O_TRUNC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de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liang</dc:creator>
  <dc:description/>
  <dc:language>en-US</dc:language>
  <cp:lastModifiedBy>aliang</cp:lastModifiedBy>
  <dcterms:modified xsi:type="dcterms:W3CDTF">2008-05-16T20:11:45Z</dcterms:modified>
  <cp:revision>76</cp:revision>
  <dc:subject/>
  <dc:title>Slide 1</dc:title>
</cp:coreProperties>
</file>