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D1FE-33EA-42D5-A3CE-53183E791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9B83-C996-45F0-8F06-9A5C1E0E7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UW_logo_150[1]"/>
          <p:cNvPicPr/>
          <p:nvPr/>
        </p:nvPicPr>
        <p:blipFill>
          <a:blip r:embed="rId2"/>
          <a:stretch/>
        </p:blipFill>
        <p:spPr>
          <a:xfrm>
            <a:off x="8229600" y="76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owards Automatic Fil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chan Dam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In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. Remzi Arpaci-Duss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2286000" y="533520"/>
            <a:ext cx="4343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 736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ring 2008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nterface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133720" y="4876920"/>
            <a:ext cx="2438280" cy="1218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981080" y="2438280"/>
            <a:ext cx="243864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S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6"/>
          <p:cNvCxnSpPr/>
          <p:nvPr/>
        </p:nvCxnSpPr>
        <p:spPr>
          <a:xfrm>
            <a:off x="837720" y="5334120"/>
            <a:ext cx="12963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Curved Connector 9"/>
          <p:cNvCxnSpPr/>
          <p:nvPr/>
        </p:nvCxnSpPr>
        <p:spPr>
          <a:xfrm flipH="1" rot="16200000">
            <a:off x="2095200" y="3619080"/>
            <a:ext cx="1296360" cy="121968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Rectangle 18"/>
          <p:cNvSpPr/>
          <p:nvPr/>
        </p:nvSpPr>
        <p:spPr>
          <a:xfrm>
            <a:off x="1981080" y="838080"/>
            <a:ext cx="2438640" cy="99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21"/>
          <p:cNvCxnSpPr/>
          <p:nvPr/>
        </p:nvCxnSpPr>
        <p:spPr>
          <a:xfrm flipV="1">
            <a:off x="2513160" y="1829880"/>
            <a:ext cx="3600" cy="61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Straight Arrow Connector 23"/>
          <p:cNvCxnSpPr/>
          <p:nvPr/>
        </p:nvCxnSpPr>
        <p:spPr>
          <a:xfrm flipH="1">
            <a:off x="3809160" y="1829880"/>
            <a:ext cx="2520" cy="608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Curved Connector 28"/>
          <p:cNvCxnSpPr/>
          <p:nvPr/>
        </p:nvCxnSpPr>
        <p:spPr>
          <a:xfrm flipH="1" flipV="1" rot="5400000">
            <a:off x="3160440" y="4228560"/>
            <a:ext cx="12978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Curved Connector 32"/>
          <p:cNvCxnSpPr/>
          <p:nvPr/>
        </p:nvCxnSpPr>
        <p:spPr>
          <a:xfrm rot="5400000">
            <a:off x="3618720" y="4228560"/>
            <a:ext cx="129780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Straight Arrow Connector 35"/>
          <p:cNvCxnSpPr/>
          <p:nvPr/>
        </p:nvCxnSpPr>
        <p:spPr>
          <a:xfrm flipH="1" flipV="1">
            <a:off x="837360" y="5714640"/>
            <a:ext cx="12963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TextBox 44"/>
          <p:cNvSpPr/>
          <p:nvPr/>
        </p:nvSpPr>
        <p:spPr>
          <a:xfrm>
            <a:off x="990720" y="5943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5"/>
          <p:cNvSpPr/>
          <p:nvPr/>
        </p:nvSpPr>
        <p:spPr>
          <a:xfrm>
            <a:off x="762120" y="4800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6"/>
          <p:cNvSpPr/>
          <p:nvPr/>
        </p:nvSpPr>
        <p:spPr>
          <a:xfrm>
            <a:off x="167940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8"/>
          <p:cNvSpPr/>
          <p:nvPr/>
        </p:nvSpPr>
        <p:spPr>
          <a:xfrm>
            <a:off x="304812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0"/>
          <p:cNvSpPr/>
          <p:nvPr/>
        </p:nvSpPr>
        <p:spPr>
          <a:xfrm>
            <a:off x="129528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1"/>
          <p:cNvSpPr/>
          <p:nvPr/>
        </p:nvSpPr>
        <p:spPr>
          <a:xfrm>
            <a:off x="4191120" y="1905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2"/>
          <p:cNvSpPr/>
          <p:nvPr/>
        </p:nvSpPr>
        <p:spPr>
          <a:xfrm>
            <a:off x="4419720" y="3733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3"/>
          <p:cNvSpPr/>
          <p:nvPr/>
        </p:nvSpPr>
        <p:spPr>
          <a:xfrm>
            <a:off x="152280" y="1219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ser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5"/>
          <p:cNvSpPr/>
          <p:nvPr/>
        </p:nvSpPr>
        <p:spPr>
          <a:xfrm>
            <a:off x="304920" y="6324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ernel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7"/>
          <p:cNvSpPr/>
          <p:nvPr/>
        </p:nvSpPr>
        <p:spPr>
          <a:xfrm>
            <a:off x="304920" y="28954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4"/>
          <p:cNvSpPr/>
          <p:nvPr/>
        </p:nvSpPr>
        <p:spPr>
          <a:xfrm>
            <a:off x="5562720" y="762120"/>
            <a:ext cx="297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0] Blocking read call on kernel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Request from V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 Unblocks the thread and sends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 Fuse Library invokes respective Simple 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 Module returns with requested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 Transfer data to kernel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6] Transfer data to V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26"/>
          <p:cNvSpPr/>
          <p:nvPr/>
        </p:nvSpPr>
        <p:spPr>
          <a:xfrm>
            <a:off x="304920" y="4419720"/>
            <a:ext cx="4876560" cy="1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nternal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 System Call M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nk() -&gt; sys_un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se kernel call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_unlink -&gt; fuse_read_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Level FS call invo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ing Calls : Queue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ding, processing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ost-Benefi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ied to any particular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Kernel re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privileged mount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city : Coding in user space is sim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verhead: More user and kernel switching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Performance Measures .. Simple 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hart 4" descr=""/>
          <p:cNvPicPr/>
          <p:nvPr/>
        </p:nvPicPr>
        <p:blipFill>
          <a:blip r:embed="rId1"/>
          <a:stretch/>
        </p:blipFill>
        <p:spPr>
          <a:xfrm>
            <a:off x="1212840" y="1060560"/>
            <a:ext cx="6566040" cy="50418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2971800" y="6248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extBox 6" descr=""/>
          <p:cNvPicPr/>
          <p:nvPr/>
        </p:nvPicPr>
        <p:blipFill>
          <a:blip r:embed="rId2"/>
          <a:stretch/>
        </p:blipFill>
        <p:spPr>
          <a:xfrm>
            <a:off x="682560" y="2054160"/>
            <a:ext cx="46980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Performance Measures .. Simple 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File System API" descr=""/>
          <p:cNvPicPr/>
          <p:nvPr/>
        </p:nvPicPr>
        <p:blipFill>
          <a:blip r:embed="rId1"/>
          <a:stretch/>
        </p:blipFill>
        <p:spPr>
          <a:xfrm>
            <a:off x="0" y="0"/>
            <a:ext cx="8467560" cy="64072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373392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writes, fewer wr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worry about positioning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orm access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gets what he requ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redirected hence easy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remember erratic name and be uni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 FS_Sync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file dele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t not secure for sensi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Lessons Lear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does not imply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things can be bigger hurdl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work hel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it “time” and “thou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 that you can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hank you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File System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of Fil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usual questions for any new idea 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:Specif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r: Will be Don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knows his needs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um Resource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the user specif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redirect the system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mplementation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user wants : “Simple F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 picked another ,“S”- S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uperbloc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o redundancy like 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de and Data Bitma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o problems of free-lis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to 100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not sure of how he will access the data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Othe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Number of Open Files: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File Size : 15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reserved bl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Filename length = 1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Pathname length = 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Exists !(Inode  #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istent Storage on F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e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on existing fil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Implementation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80880" y="2057400"/>
            <a:ext cx="8458200" cy="1600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6"/>
          <p:cNvSpPr/>
          <p:nvPr/>
        </p:nvSpPr>
        <p:spPr>
          <a:xfrm flipH="1">
            <a:off x="1598760" y="2057400"/>
            <a:ext cx="1440" cy="16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2"/>
          <p:cNvSpPr/>
          <p:nvPr/>
        </p:nvSpPr>
        <p:spPr>
          <a:xfrm flipH="1">
            <a:off x="2895120" y="2057400"/>
            <a:ext cx="1800" cy="16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3"/>
          <p:cNvSpPr/>
          <p:nvPr/>
        </p:nvSpPr>
        <p:spPr>
          <a:xfrm flipH="1">
            <a:off x="4191120" y="2057400"/>
            <a:ext cx="1440" cy="16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4"/>
          <p:cNvSpPr/>
          <p:nvPr/>
        </p:nvSpPr>
        <p:spPr>
          <a:xfrm flipH="1">
            <a:off x="5486400" y="2057400"/>
            <a:ext cx="1440" cy="16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ight Brace 16"/>
          <p:cNvSpPr/>
          <p:nvPr/>
        </p:nvSpPr>
        <p:spPr>
          <a:xfrm rot="5400000">
            <a:off x="7104960" y="3562200"/>
            <a:ext cx="1409760" cy="1600200"/>
          </a:xfrm>
          <a:custGeom>
            <a:avLst/>
            <a:gdLst>
              <a:gd name="textAreaLeft" fmla="*/ 0 w 1409760"/>
              <a:gd name="textAreaRight" fmla="*/ 509040 w 1409760"/>
              <a:gd name="textAreaTop" fmla="*/ 36720 h 1600200"/>
              <a:gd name="textAreaBottom" fmla="*/ 1563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93"/>
                  <a:pt x="10800" y="1586"/>
                </a:cubicBezTo>
                <a:lnTo>
                  <a:pt x="10800" y="9214"/>
                </a:lnTo>
                <a:cubicBezTo>
                  <a:pt x="10800" y="10007"/>
                  <a:pt x="16200" y="10800"/>
                  <a:pt x="21600" y="10800"/>
                </a:cubicBezTo>
                <a:cubicBezTo>
                  <a:pt x="16200" y="10800"/>
                  <a:pt x="10800" y="11593"/>
                  <a:pt x="10800" y="12386"/>
                </a:cubicBezTo>
                <a:lnTo>
                  <a:pt x="10800" y="20014"/>
                </a:lnTo>
                <a:cubicBezTo>
                  <a:pt x="10800" y="2080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380880" y="2057400"/>
            <a:ext cx="1219320" cy="1600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1600200" y="2057400"/>
            <a:ext cx="1295280" cy="1600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2895480" y="2057400"/>
            <a:ext cx="1295640" cy="1600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4191120" y="2057400"/>
            <a:ext cx="1295280" cy="1600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5486400" y="2057400"/>
            <a:ext cx="1295280" cy="1600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6781680" y="2057400"/>
            <a:ext cx="2057400" cy="1600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26"/>
          <p:cNvCxnSpPr/>
          <p:nvPr/>
        </p:nvCxnSpPr>
        <p:spPr>
          <a:xfrm flipV="1">
            <a:off x="987840" y="3733560"/>
            <a:ext cx="2520" cy="175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TextBox 31"/>
          <p:cNvSpPr/>
          <p:nvPr/>
        </p:nvSpPr>
        <p:spPr>
          <a:xfrm>
            <a:off x="380880" y="57913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35"/>
          <p:cNvCxnSpPr/>
          <p:nvPr/>
        </p:nvCxnSpPr>
        <p:spPr>
          <a:xfrm flipV="1">
            <a:off x="1978560" y="3886920"/>
            <a:ext cx="39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36"/>
          <p:cNvSpPr/>
          <p:nvPr/>
        </p:nvSpPr>
        <p:spPr>
          <a:xfrm>
            <a:off x="1600200" y="4876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-BIT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ight Brace 37"/>
          <p:cNvSpPr/>
          <p:nvPr/>
        </p:nvSpPr>
        <p:spPr>
          <a:xfrm flipH="1" rot="16200000">
            <a:off x="4097160" y="2759760"/>
            <a:ext cx="1444680" cy="3544920"/>
          </a:xfrm>
          <a:custGeom>
            <a:avLst/>
            <a:gdLst>
              <a:gd name="textAreaLeft" fmla="*/ 0 w 1444680"/>
              <a:gd name="textAreaRight" fmla="*/ 521640 w 1444680"/>
              <a:gd name="textAreaTop" fmla="*/ 37440 h 3544920"/>
              <a:gd name="textAreaBottom" fmla="*/ 3507480 h 354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7"/>
                  <a:pt x="10800" y="734"/>
                </a:cubicBezTo>
                <a:lnTo>
                  <a:pt x="10800" y="10066"/>
                </a:lnTo>
                <a:cubicBezTo>
                  <a:pt x="10800" y="10433"/>
                  <a:pt x="16200" y="10800"/>
                  <a:pt x="21600" y="10800"/>
                </a:cubicBezTo>
                <a:cubicBezTo>
                  <a:pt x="16200" y="10800"/>
                  <a:pt x="10800" y="11167"/>
                  <a:pt x="10800" y="11534"/>
                </a:cubicBezTo>
                <a:lnTo>
                  <a:pt x="10800" y="20866"/>
                </a:lnTo>
                <a:cubicBezTo>
                  <a:pt x="10800" y="2123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8"/>
          <p:cNvSpPr/>
          <p:nvPr/>
        </p:nvSpPr>
        <p:spPr>
          <a:xfrm>
            <a:off x="3657600" y="5334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-BLOCK BIT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9"/>
          <p:cNvSpPr/>
          <p:nvPr/>
        </p:nvSpPr>
        <p:spPr>
          <a:xfrm>
            <a:off x="6324480" y="5410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S 5-3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2"/>
          <p:cNvSpPr/>
          <p:nvPr/>
        </p:nvSpPr>
        <p:spPr>
          <a:xfrm>
            <a:off x="2895480" y="12952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METADATA  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2971800" y="63244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Data blocks follow 40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mplementation Details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Why FUS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level FS implementation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how can we have system level calls directed to implemented F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? -perhaps Uniformity, hassle to remember the new calls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: Indirectio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SE can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USE unveil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FU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ramework: Redirects FS calls to (User level ) Simple 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wo modules + Mount Ut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Library : Interfaces with the Simple FS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Module :  Binds to VFS, Calls FUSE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Basic Call Flow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FUSE structure"/>
          <p:cNvPicPr/>
          <p:nvPr/>
        </p:nvPicPr>
        <p:blipFill>
          <a:blip r:embed="rId1"/>
          <a:stretch/>
        </p:blipFill>
        <p:spPr>
          <a:xfrm>
            <a:off x="1295280" y="1143000"/>
            <a:ext cx="6782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06:53:38Z</dcterms:created>
  <dc:creator>kanchan</dc:creator>
  <dc:description/>
  <dc:language>en-US</dc:language>
  <cp:lastModifiedBy>Kanchan</cp:lastModifiedBy>
  <dcterms:modified xsi:type="dcterms:W3CDTF">2008-05-16T10:12:43Z</dcterms:modified>
  <cp:revision>29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