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n-US" sz="2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350MB File Sequential Read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852755905511811"/>
          <c:y val="0.091496062992126"/>
          <c:w val="0.815354330708661"/>
          <c:h val="0.790971128608924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Linux</c:v>
                </c:pt>
              </c:strCache>
            </c:strRef>
          </c:tx>
          <c:spPr>
            <a:solidFill>
              <a:srgbClr val="9192a5"/>
            </a:solidFill>
            <a:ln w="28440">
              <a:solidFill>
                <a:srgbClr val="9192a5"/>
              </a:solidFill>
              <a:round/>
            </a:ln>
          </c:spP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1001"/>
              </c:numCache>
            </c:numRef>
          </c:xVal>
          <c:yVal>
            <c:numRef>
              <c:f>0</c:f>
              <c:numCache>
                <c:formatCode>General</c:formatCode>
                <c:ptCount val="1001"/>
              </c:numCache>
            </c:numRef>
          </c:yVal>
          <c:smooth val="0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Average</c:v>
                </c:pt>
              </c:strCache>
            </c:strRef>
          </c:tx>
          <c:spPr>
            <a:solidFill>
              <a:srgbClr val="8d9bba"/>
            </a:solidFill>
            <a:ln w="28440">
              <a:solidFill>
                <a:srgbClr val="8d9bba"/>
              </a:solidFill>
              <a:round/>
            </a:ln>
          </c:spPr>
          <c:marker>
            <c:symbol val="square"/>
            <c:size val="7"/>
            <c:spPr>
              <a:solidFill>
                <a:srgbClr val="8d9bba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1001"/>
              </c:numCache>
            </c:numRef>
          </c:xVal>
          <c:yVal>
            <c:numRef>
              <c:f>2</c:f>
              <c:numCache>
                <c:formatCode>General</c:formatCode>
                <c:ptCount val="1001"/>
              </c:numCache>
            </c:numRef>
          </c:yVal>
          <c:smooth val="0"/>
        </c:ser>
        <c:ser>
          <c:idx val="2"/>
          <c:order val="2"/>
          <c:tx>
            <c:strRef>
              <c:f>label 4</c:f>
              <c:strCache>
                <c:ptCount val="1"/>
                <c:pt idx="0">
                  <c:v>4 K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5</c:f>
              <c:numCache>
                <c:formatCode>General</c:formatCode>
                <c:ptCount val="1001"/>
                <c:pt idx="0">
                  <c:v>4096</c:v>
                </c:pt>
                <c:pt idx="1">
                  <c:v>4096</c:v>
                </c:pt>
                <c:pt idx="2">
                  <c:v>4096</c:v>
                </c:pt>
                <c:pt idx="3">
                  <c:v>4096</c:v>
                </c:pt>
                <c:pt idx="4">
                  <c:v>4096</c:v>
                </c:pt>
                <c:pt idx="5">
                  <c:v>4096</c:v>
                </c:pt>
                <c:pt idx="6">
                  <c:v>4096</c:v>
                </c:pt>
                <c:pt idx="7">
                  <c:v>4096</c:v>
                </c:pt>
                <c:pt idx="8">
                  <c:v>4096</c:v>
                </c:pt>
                <c:pt idx="9">
                  <c:v>4096</c:v>
                </c:pt>
                <c:pt idx="10">
                  <c:v>4096</c:v>
                </c:pt>
                <c:pt idx="11">
                  <c:v>4096</c:v>
                </c:pt>
                <c:pt idx="12">
                  <c:v>4096</c:v>
                </c:pt>
                <c:pt idx="13">
                  <c:v>4096</c:v>
                </c:pt>
                <c:pt idx="14">
                  <c:v>4096</c:v>
                </c:pt>
                <c:pt idx="15">
                  <c:v>4096</c:v>
                </c:pt>
                <c:pt idx="16">
                  <c:v>4096</c:v>
                </c:pt>
                <c:pt idx="17">
                  <c:v>4096</c:v>
                </c:pt>
                <c:pt idx="18">
                  <c:v>4096</c:v>
                </c:pt>
                <c:pt idx="19">
                  <c:v>4096</c:v>
                </c:pt>
                <c:pt idx="20">
                  <c:v>4096</c:v>
                </c:pt>
                <c:pt idx="21">
                  <c:v>4096</c:v>
                </c:pt>
                <c:pt idx="22">
                  <c:v>4096</c:v>
                </c:pt>
                <c:pt idx="23">
                  <c:v>4096</c:v>
                </c:pt>
                <c:pt idx="24">
                  <c:v>4096</c:v>
                </c:pt>
                <c:pt idx="25">
                  <c:v>4096</c:v>
                </c:pt>
                <c:pt idx="26">
                  <c:v>4096</c:v>
                </c:pt>
                <c:pt idx="27">
                  <c:v>4096</c:v>
                </c:pt>
                <c:pt idx="28">
                  <c:v>4096</c:v>
                </c:pt>
                <c:pt idx="29">
                  <c:v>4096</c:v>
                </c:pt>
                <c:pt idx="30">
                  <c:v>4096</c:v>
                </c:pt>
                <c:pt idx="31">
                  <c:v>4096</c:v>
                </c:pt>
                <c:pt idx="32">
                  <c:v>4096</c:v>
                </c:pt>
                <c:pt idx="33">
                  <c:v>4096</c:v>
                </c:pt>
                <c:pt idx="34">
                  <c:v>4096</c:v>
                </c:pt>
                <c:pt idx="35">
                  <c:v>4096</c:v>
                </c:pt>
                <c:pt idx="36">
                  <c:v>4096</c:v>
                </c:pt>
                <c:pt idx="37">
                  <c:v>4096</c:v>
                </c:pt>
                <c:pt idx="38">
                  <c:v>4096</c:v>
                </c:pt>
                <c:pt idx="39">
                  <c:v>4096</c:v>
                </c:pt>
                <c:pt idx="40">
                  <c:v>4096</c:v>
                </c:pt>
                <c:pt idx="41">
                  <c:v>4096</c:v>
                </c:pt>
                <c:pt idx="42">
                  <c:v>4096</c:v>
                </c:pt>
                <c:pt idx="43">
                  <c:v>4096</c:v>
                </c:pt>
                <c:pt idx="44">
                  <c:v>4096</c:v>
                </c:pt>
                <c:pt idx="45">
                  <c:v>4096</c:v>
                </c:pt>
                <c:pt idx="46">
                  <c:v>4096</c:v>
                </c:pt>
                <c:pt idx="47">
                  <c:v>4096</c:v>
                </c:pt>
                <c:pt idx="48">
                  <c:v>4096</c:v>
                </c:pt>
                <c:pt idx="49">
                  <c:v>4096</c:v>
                </c:pt>
                <c:pt idx="50">
                  <c:v>4096</c:v>
                </c:pt>
                <c:pt idx="51">
                  <c:v>4096</c:v>
                </c:pt>
                <c:pt idx="52">
                  <c:v>4096</c:v>
                </c:pt>
                <c:pt idx="53">
                  <c:v>4096</c:v>
                </c:pt>
                <c:pt idx="54">
                  <c:v>4096</c:v>
                </c:pt>
                <c:pt idx="55">
                  <c:v>4096</c:v>
                </c:pt>
                <c:pt idx="56">
                  <c:v>4096</c:v>
                </c:pt>
                <c:pt idx="57">
                  <c:v>4096</c:v>
                </c:pt>
                <c:pt idx="58">
                  <c:v>4096</c:v>
                </c:pt>
                <c:pt idx="59">
                  <c:v>4096</c:v>
                </c:pt>
                <c:pt idx="60">
                  <c:v>4096</c:v>
                </c:pt>
                <c:pt idx="61">
                  <c:v>4096</c:v>
                </c:pt>
                <c:pt idx="62">
                  <c:v>4096</c:v>
                </c:pt>
                <c:pt idx="63">
                  <c:v>4096</c:v>
                </c:pt>
                <c:pt idx="64">
                  <c:v>4096</c:v>
                </c:pt>
                <c:pt idx="65">
                  <c:v>4096</c:v>
                </c:pt>
                <c:pt idx="66">
                  <c:v>4096</c:v>
                </c:pt>
                <c:pt idx="67">
                  <c:v>4096</c:v>
                </c:pt>
                <c:pt idx="68">
                  <c:v>4096</c:v>
                </c:pt>
                <c:pt idx="69">
                  <c:v>4096</c:v>
                </c:pt>
                <c:pt idx="70">
                  <c:v>4096</c:v>
                </c:pt>
                <c:pt idx="71">
                  <c:v>4096</c:v>
                </c:pt>
                <c:pt idx="72">
                  <c:v>4096</c:v>
                </c:pt>
                <c:pt idx="73">
                  <c:v>4096</c:v>
                </c:pt>
                <c:pt idx="74">
                  <c:v>4096</c:v>
                </c:pt>
                <c:pt idx="75">
                  <c:v>4096</c:v>
                </c:pt>
                <c:pt idx="76">
                  <c:v>4096</c:v>
                </c:pt>
                <c:pt idx="77">
                  <c:v>4096</c:v>
                </c:pt>
                <c:pt idx="78">
                  <c:v>4096</c:v>
                </c:pt>
                <c:pt idx="79">
                  <c:v>4096</c:v>
                </c:pt>
                <c:pt idx="80">
                  <c:v>4096</c:v>
                </c:pt>
                <c:pt idx="81">
                  <c:v>4096</c:v>
                </c:pt>
                <c:pt idx="82">
                  <c:v>4096</c:v>
                </c:pt>
                <c:pt idx="83">
                  <c:v>4096</c:v>
                </c:pt>
                <c:pt idx="84">
                  <c:v>4096</c:v>
                </c:pt>
                <c:pt idx="85">
                  <c:v>4096</c:v>
                </c:pt>
                <c:pt idx="86">
                  <c:v>4096</c:v>
                </c:pt>
                <c:pt idx="87">
                  <c:v>4096</c:v>
                </c:pt>
                <c:pt idx="88">
                  <c:v>4096</c:v>
                </c:pt>
                <c:pt idx="89">
                  <c:v>4096</c:v>
                </c:pt>
                <c:pt idx="90">
                  <c:v>4096</c:v>
                </c:pt>
                <c:pt idx="91">
                  <c:v>4096</c:v>
                </c:pt>
                <c:pt idx="92">
                  <c:v>4096</c:v>
                </c:pt>
                <c:pt idx="93">
                  <c:v>4096</c:v>
                </c:pt>
                <c:pt idx="94">
                  <c:v>4096</c:v>
                </c:pt>
                <c:pt idx="95">
                  <c:v>4096</c:v>
                </c:pt>
                <c:pt idx="96">
                  <c:v>4096</c:v>
                </c:pt>
                <c:pt idx="97">
                  <c:v>4096</c:v>
                </c:pt>
                <c:pt idx="98">
                  <c:v>4096</c:v>
                </c:pt>
                <c:pt idx="99">
                  <c:v>4096</c:v>
                </c:pt>
                <c:pt idx="100">
                  <c:v>4096</c:v>
                </c:pt>
                <c:pt idx="101">
                  <c:v>4096</c:v>
                </c:pt>
                <c:pt idx="102">
                  <c:v>4096</c:v>
                </c:pt>
                <c:pt idx="103">
                  <c:v>4096</c:v>
                </c:pt>
                <c:pt idx="104">
                  <c:v>4096</c:v>
                </c:pt>
                <c:pt idx="105">
                  <c:v>4096</c:v>
                </c:pt>
                <c:pt idx="106">
                  <c:v>4096</c:v>
                </c:pt>
                <c:pt idx="107">
                  <c:v>4096</c:v>
                </c:pt>
                <c:pt idx="108">
                  <c:v>4096</c:v>
                </c:pt>
                <c:pt idx="109">
                  <c:v>4096</c:v>
                </c:pt>
                <c:pt idx="110">
                  <c:v>4096</c:v>
                </c:pt>
                <c:pt idx="111">
                  <c:v>4096</c:v>
                </c:pt>
                <c:pt idx="112">
                  <c:v>4096</c:v>
                </c:pt>
                <c:pt idx="113">
                  <c:v>4096</c:v>
                </c:pt>
                <c:pt idx="114">
                  <c:v>4096</c:v>
                </c:pt>
                <c:pt idx="115">
                  <c:v>4096</c:v>
                </c:pt>
                <c:pt idx="116">
                  <c:v>4096</c:v>
                </c:pt>
                <c:pt idx="117">
                  <c:v>4096</c:v>
                </c:pt>
                <c:pt idx="118">
                  <c:v>4096</c:v>
                </c:pt>
                <c:pt idx="119">
                  <c:v>4096</c:v>
                </c:pt>
                <c:pt idx="120">
                  <c:v>4096</c:v>
                </c:pt>
                <c:pt idx="121">
                  <c:v>4096</c:v>
                </c:pt>
                <c:pt idx="122">
                  <c:v>4096</c:v>
                </c:pt>
                <c:pt idx="123">
                  <c:v>4096</c:v>
                </c:pt>
                <c:pt idx="124">
                  <c:v>4096</c:v>
                </c:pt>
                <c:pt idx="125">
                  <c:v>4096</c:v>
                </c:pt>
                <c:pt idx="126">
                  <c:v>4096</c:v>
                </c:pt>
                <c:pt idx="127">
                  <c:v>4096</c:v>
                </c:pt>
                <c:pt idx="128">
                  <c:v>4096</c:v>
                </c:pt>
                <c:pt idx="129">
                  <c:v>4096</c:v>
                </c:pt>
                <c:pt idx="130">
                  <c:v>4096</c:v>
                </c:pt>
                <c:pt idx="131">
                  <c:v>4096</c:v>
                </c:pt>
                <c:pt idx="132">
                  <c:v>4096</c:v>
                </c:pt>
                <c:pt idx="133">
                  <c:v>4096</c:v>
                </c:pt>
                <c:pt idx="134">
                  <c:v>4096</c:v>
                </c:pt>
                <c:pt idx="135">
                  <c:v>4096</c:v>
                </c:pt>
                <c:pt idx="136">
                  <c:v>4096</c:v>
                </c:pt>
                <c:pt idx="137">
                  <c:v>4096</c:v>
                </c:pt>
                <c:pt idx="138">
                  <c:v>4096</c:v>
                </c:pt>
                <c:pt idx="139">
                  <c:v>4096</c:v>
                </c:pt>
                <c:pt idx="140">
                  <c:v>4096</c:v>
                </c:pt>
                <c:pt idx="141">
                  <c:v>4096</c:v>
                </c:pt>
                <c:pt idx="142">
                  <c:v>4096</c:v>
                </c:pt>
                <c:pt idx="143">
                  <c:v>4096</c:v>
                </c:pt>
                <c:pt idx="144">
                  <c:v>4096</c:v>
                </c:pt>
                <c:pt idx="145">
                  <c:v>4096</c:v>
                </c:pt>
                <c:pt idx="146">
                  <c:v>4096</c:v>
                </c:pt>
                <c:pt idx="147">
                  <c:v>4096</c:v>
                </c:pt>
                <c:pt idx="148">
                  <c:v>4096</c:v>
                </c:pt>
                <c:pt idx="149">
                  <c:v>4096</c:v>
                </c:pt>
                <c:pt idx="150">
                  <c:v>4096</c:v>
                </c:pt>
                <c:pt idx="151">
                  <c:v>4096</c:v>
                </c:pt>
                <c:pt idx="152">
                  <c:v>4096</c:v>
                </c:pt>
                <c:pt idx="153">
                  <c:v>4096</c:v>
                </c:pt>
                <c:pt idx="154">
                  <c:v>4096</c:v>
                </c:pt>
                <c:pt idx="155">
                  <c:v>4096</c:v>
                </c:pt>
                <c:pt idx="156">
                  <c:v>4096</c:v>
                </c:pt>
                <c:pt idx="157">
                  <c:v>4096</c:v>
                </c:pt>
                <c:pt idx="158">
                  <c:v>4096</c:v>
                </c:pt>
                <c:pt idx="159">
                  <c:v>4096</c:v>
                </c:pt>
                <c:pt idx="160">
                  <c:v>4096</c:v>
                </c:pt>
                <c:pt idx="161">
                  <c:v>4096</c:v>
                </c:pt>
                <c:pt idx="162">
                  <c:v>4096</c:v>
                </c:pt>
                <c:pt idx="163">
                  <c:v>4096</c:v>
                </c:pt>
                <c:pt idx="164">
                  <c:v>4096</c:v>
                </c:pt>
                <c:pt idx="165">
                  <c:v>4096</c:v>
                </c:pt>
                <c:pt idx="166">
                  <c:v>4096</c:v>
                </c:pt>
                <c:pt idx="167">
                  <c:v>4096</c:v>
                </c:pt>
                <c:pt idx="168">
                  <c:v>4096</c:v>
                </c:pt>
                <c:pt idx="169">
                  <c:v>4096</c:v>
                </c:pt>
                <c:pt idx="170">
                  <c:v>4096</c:v>
                </c:pt>
                <c:pt idx="171">
                  <c:v>4096</c:v>
                </c:pt>
                <c:pt idx="172">
                  <c:v>4096</c:v>
                </c:pt>
                <c:pt idx="173">
                  <c:v>4096</c:v>
                </c:pt>
                <c:pt idx="174">
                  <c:v>4096</c:v>
                </c:pt>
                <c:pt idx="175">
                  <c:v>4096</c:v>
                </c:pt>
                <c:pt idx="176">
                  <c:v>4096</c:v>
                </c:pt>
                <c:pt idx="177">
                  <c:v>4096</c:v>
                </c:pt>
                <c:pt idx="178">
                  <c:v>4096</c:v>
                </c:pt>
                <c:pt idx="179">
                  <c:v>4096</c:v>
                </c:pt>
                <c:pt idx="180">
                  <c:v>4096</c:v>
                </c:pt>
                <c:pt idx="181">
                  <c:v>4096</c:v>
                </c:pt>
                <c:pt idx="182">
                  <c:v>4096</c:v>
                </c:pt>
                <c:pt idx="183">
                  <c:v>4096</c:v>
                </c:pt>
                <c:pt idx="184">
                  <c:v>4096</c:v>
                </c:pt>
                <c:pt idx="185">
                  <c:v>4096</c:v>
                </c:pt>
                <c:pt idx="186">
                  <c:v>4096</c:v>
                </c:pt>
                <c:pt idx="187">
                  <c:v>4096</c:v>
                </c:pt>
                <c:pt idx="188">
                  <c:v>4096</c:v>
                </c:pt>
                <c:pt idx="189">
                  <c:v>4096</c:v>
                </c:pt>
                <c:pt idx="190">
                  <c:v>4096</c:v>
                </c:pt>
                <c:pt idx="191">
                  <c:v>4096</c:v>
                </c:pt>
                <c:pt idx="192">
                  <c:v>4096</c:v>
                </c:pt>
                <c:pt idx="193">
                  <c:v>4096</c:v>
                </c:pt>
                <c:pt idx="194">
                  <c:v>4096</c:v>
                </c:pt>
                <c:pt idx="195">
                  <c:v>4096</c:v>
                </c:pt>
                <c:pt idx="196">
                  <c:v>4096</c:v>
                </c:pt>
                <c:pt idx="197">
                  <c:v>4096</c:v>
                </c:pt>
                <c:pt idx="198">
                  <c:v>4096</c:v>
                </c:pt>
                <c:pt idx="199">
                  <c:v>4096</c:v>
                </c:pt>
                <c:pt idx="200">
                  <c:v>4096</c:v>
                </c:pt>
                <c:pt idx="201">
                  <c:v>4096</c:v>
                </c:pt>
                <c:pt idx="202">
                  <c:v>4096</c:v>
                </c:pt>
                <c:pt idx="203">
                  <c:v>4096</c:v>
                </c:pt>
                <c:pt idx="204">
                  <c:v>4096</c:v>
                </c:pt>
                <c:pt idx="205">
                  <c:v>4096</c:v>
                </c:pt>
                <c:pt idx="206">
                  <c:v>4096</c:v>
                </c:pt>
                <c:pt idx="207">
                  <c:v>4096</c:v>
                </c:pt>
                <c:pt idx="208">
                  <c:v>4096</c:v>
                </c:pt>
                <c:pt idx="209">
                  <c:v>4096</c:v>
                </c:pt>
                <c:pt idx="210">
                  <c:v>4096</c:v>
                </c:pt>
                <c:pt idx="211">
                  <c:v>4096</c:v>
                </c:pt>
                <c:pt idx="212">
                  <c:v>4096</c:v>
                </c:pt>
                <c:pt idx="213">
                  <c:v>4096</c:v>
                </c:pt>
                <c:pt idx="214">
                  <c:v>4096</c:v>
                </c:pt>
                <c:pt idx="215">
                  <c:v>4096</c:v>
                </c:pt>
                <c:pt idx="216">
                  <c:v>4096</c:v>
                </c:pt>
                <c:pt idx="217">
                  <c:v>4096</c:v>
                </c:pt>
                <c:pt idx="218">
                  <c:v>4096</c:v>
                </c:pt>
                <c:pt idx="219">
                  <c:v>4096</c:v>
                </c:pt>
                <c:pt idx="220">
                  <c:v>4096</c:v>
                </c:pt>
                <c:pt idx="221">
                  <c:v>4096</c:v>
                </c:pt>
                <c:pt idx="222">
                  <c:v>4096</c:v>
                </c:pt>
                <c:pt idx="223">
                  <c:v>4096</c:v>
                </c:pt>
                <c:pt idx="224">
                  <c:v>4096</c:v>
                </c:pt>
                <c:pt idx="225">
                  <c:v>4096</c:v>
                </c:pt>
                <c:pt idx="226">
                  <c:v>4096</c:v>
                </c:pt>
                <c:pt idx="227">
                  <c:v>4096</c:v>
                </c:pt>
                <c:pt idx="228">
                  <c:v>4096</c:v>
                </c:pt>
                <c:pt idx="229">
                  <c:v>4096</c:v>
                </c:pt>
                <c:pt idx="230">
                  <c:v>4096</c:v>
                </c:pt>
                <c:pt idx="231">
                  <c:v>4096</c:v>
                </c:pt>
                <c:pt idx="232">
                  <c:v>4096</c:v>
                </c:pt>
                <c:pt idx="233">
                  <c:v>4096</c:v>
                </c:pt>
                <c:pt idx="234">
                  <c:v>4096</c:v>
                </c:pt>
                <c:pt idx="235">
                  <c:v>4096</c:v>
                </c:pt>
                <c:pt idx="236">
                  <c:v>4096</c:v>
                </c:pt>
                <c:pt idx="237">
                  <c:v>4096</c:v>
                </c:pt>
                <c:pt idx="238">
                  <c:v>4096</c:v>
                </c:pt>
                <c:pt idx="239">
                  <c:v>4096</c:v>
                </c:pt>
                <c:pt idx="240">
                  <c:v>4096</c:v>
                </c:pt>
                <c:pt idx="241">
                  <c:v>4096</c:v>
                </c:pt>
                <c:pt idx="242">
                  <c:v>4096</c:v>
                </c:pt>
                <c:pt idx="243">
                  <c:v>4096</c:v>
                </c:pt>
                <c:pt idx="244">
                  <c:v>4096</c:v>
                </c:pt>
                <c:pt idx="245">
                  <c:v>4096</c:v>
                </c:pt>
                <c:pt idx="246">
                  <c:v>4096</c:v>
                </c:pt>
                <c:pt idx="247">
                  <c:v>4096</c:v>
                </c:pt>
                <c:pt idx="248">
                  <c:v>4096</c:v>
                </c:pt>
                <c:pt idx="249">
                  <c:v>4096</c:v>
                </c:pt>
                <c:pt idx="250">
                  <c:v>4096</c:v>
                </c:pt>
                <c:pt idx="251">
                  <c:v>4096</c:v>
                </c:pt>
                <c:pt idx="252">
                  <c:v>4096</c:v>
                </c:pt>
                <c:pt idx="253">
                  <c:v>4096</c:v>
                </c:pt>
                <c:pt idx="254">
                  <c:v>4096</c:v>
                </c:pt>
                <c:pt idx="255">
                  <c:v>4096</c:v>
                </c:pt>
                <c:pt idx="256">
                  <c:v>4096</c:v>
                </c:pt>
                <c:pt idx="257">
                  <c:v>4096</c:v>
                </c:pt>
                <c:pt idx="258">
                  <c:v>4096</c:v>
                </c:pt>
                <c:pt idx="259">
                  <c:v>4096</c:v>
                </c:pt>
                <c:pt idx="260">
                  <c:v>4096</c:v>
                </c:pt>
                <c:pt idx="261">
                  <c:v>4096</c:v>
                </c:pt>
                <c:pt idx="262">
                  <c:v>4096</c:v>
                </c:pt>
                <c:pt idx="263">
                  <c:v>4096</c:v>
                </c:pt>
                <c:pt idx="264">
                  <c:v>4096</c:v>
                </c:pt>
                <c:pt idx="265">
                  <c:v>4096</c:v>
                </c:pt>
                <c:pt idx="266">
                  <c:v>4096</c:v>
                </c:pt>
                <c:pt idx="267">
                  <c:v>4096</c:v>
                </c:pt>
                <c:pt idx="268">
                  <c:v>4096</c:v>
                </c:pt>
                <c:pt idx="269">
                  <c:v>4096</c:v>
                </c:pt>
                <c:pt idx="270">
                  <c:v>4096</c:v>
                </c:pt>
                <c:pt idx="271">
                  <c:v>4096</c:v>
                </c:pt>
                <c:pt idx="272">
                  <c:v>4096</c:v>
                </c:pt>
                <c:pt idx="273">
                  <c:v>4096</c:v>
                </c:pt>
                <c:pt idx="274">
                  <c:v>4096</c:v>
                </c:pt>
                <c:pt idx="275">
                  <c:v>4096</c:v>
                </c:pt>
                <c:pt idx="276">
                  <c:v>4096</c:v>
                </c:pt>
                <c:pt idx="277">
                  <c:v>4096</c:v>
                </c:pt>
                <c:pt idx="278">
                  <c:v>4096</c:v>
                </c:pt>
                <c:pt idx="279">
                  <c:v>4096</c:v>
                </c:pt>
                <c:pt idx="280">
                  <c:v>4096</c:v>
                </c:pt>
                <c:pt idx="281">
                  <c:v>4096</c:v>
                </c:pt>
                <c:pt idx="282">
                  <c:v>4096</c:v>
                </c:pt>
                <c:pt idx="283">
                  <c:v>4096</c:v>
                </c:pt>
                <c:pt idx="284">
                  <c:v>4096</c:v>
                </c:pt>
                <c:pt idx="285">
                  <c:v>4096</c:v>
                </c:pt>
                <c:pt idx="286">
                  <c:v>4096</c:v>
                </c:pt>
                <c:pt idx="287">
                  <c:v>4096</c:v>
                </c:pt>
                <c:pt idx="288">
                  <c:v>4096</c:v>
                </c:pt>
                <c:pt idx="289">
                  <c:v>4096</c:v>
                </c:pt>
                <c:pt idx="290">
                  <c:v>4096</c:v>
                </c:pt>
                <c:pt idx="291">
                  <c:v>4096</c:v>
                </c:pt>
                <c:pt idx="292">
                  <c:v>4096</c:v>
                </c:pt>
                <c:pt idx="293">
                  <c:v>4096</c:v>
                </c:pt>
                <c:pt idx="294">
                  <c:v>4096</c:v>
                </c:pt>
                <c:pt idx="295">
                  <c:v>4096</c:v>
                </c:pt>
                <c:pt idx="296">
                  <c:v>4096</c:v>
                </c:pt>
                <c:pt idx="297">
                  <c:v>4096</c:v>
                </c:pt>
                <c:pt idx="298">
                  <c:v>4096</c:v>
                </c:pt>
                <c:pt idx="299">
                  <c:v>4096</c:v>
                </c:pt>
                <c:pt idx="300">
                  <c:v>4096</c:v>
                </c:pt>
                <c:pt idx="301">
                  <c:v>4096</c:v>
                </c:pt>
                <c:pt idx="302">
                  <c:v>4096</c:v>
                </c:pt>
                <c:pt idx="303">
                  <c:v>4096</c:v>
                </c:pt>
                <c:pt idx="304">
                  <c:v>4096</c:v>
                </c:pt>
                <c:pt idx="305">
                  <c:v>4096</c:v>
                </c:pt>
                <c:pt idx="306">
                  <c:v>4096</c:v>
                </c:pt>
                <c:pt idx="307">
                  <c:v>4096</c:v>
                </c:pt>
                <c:pt idx="308">
                  <c:v>4096</c:v>
                </c:pt>
                <c:pt idx="309">
                  <c:v>4096</c:v>
                </c:pt>
                <c:pt idx="310">
                  <c:v>4096</c:v>
                </c:pt>
                <c:pt idx="311">
                  <c:v>4096</c:v>
                </c:pt>
                <c:pt idx="312">
                  <c:v>4096</c:v>
                </c:pt>
                <c:pt idx="313">
                  <c:v>4096</c:v>
                </c:pt>
                <c:pt idx="314">
                  <c:v>4096</c:v>
                </c:pt>
                <c:pt idx="315">
                  <c:v>4096</c:v>
                </c:pt>
                <c:pt idx="316">
                  <c:v>4096</c:v>
                </c:pt>
                <c:pt idx="317">
                  <c:v>4096</c:v>
                </c:pt>
                <c:pt idx="318">
                  <c:v>4096</c:v>
                </c:pt>
                <c:pt idx="319">
                  <c:v>4096</c:v>
                </c:pt>
                <c:pt idx="320">
                  <c:v>4096</c:v>
                </c:pt>
                <c:pt idx="321">
                  <c:v>4096</c:v>
                </c:pt>
                <c:pt idx="322">
                  <c:v>4096</c:v>
                </c:pt>
                <c:pt idx="323">
                  <c:v>4096</c:v>
                </c:pt>
                <c:pt idx="324">
                  <c:v>4096</c:v>
                </c:pt>
                <c:pt idx="325">
                  <c:v>4096</c:v>
                </c:pt>
                <c:pt idx="326">
                  <c:v>4096</c:v>
                </c:pt>
                <c:pt idx="327">
                  <c:v>4096</c:v>
                </c:pt>
                <c:pt idx="328">
                  <c:v>4096</c:v>
                </c:pt>
                <c:pt idx="329">
                  <c:v>4096</c:v>
                </c:pt>
                <c:pt idx="330">
                  <c:v>4096</c:v>
                </c:pt>
                <c:pt idx="331">
                  <c:v>4096</c:v>
                </c:pt>
                <c:pt idx="332">
                  <c:v>4096</c:v>
                </c:pt>
                <c:pt idx="333">
                  <c:v>4096</c:v>
                </c:pt>
                <c:pt idx="334">
                  <c:v>4096</c:v>
                </c:pt>
                <c:pt idx="335">
                  <c:v>4096</c:v>
                </c:pt>
                <c:pt idx="336">
                  <c:v>4096</c:v>
                </c:pt>
                <c:pt idx="337">
                  <c:v>4096</c:v>
                </c:pt>
                <c:pt idx="338">
                  <c:v>4096</c:v>
                </c:pt>
                <c:pt idx="339">
                  <c:v>4096</c:v>
                </c:pt>
                <c:pt idx="340">
                  <c:v>4096</c:v>
                </c:pt>
                <c:pt idx="341">
                  <c:v>4096</c:v>
                </c:pt>
                <c:pt idx="342">
                  <c:v>4096</c:v>
                </c:pt>
                <c:pt idx="343">
                  <c:v>4096</c:v>
                </c:pt>
                <c:pt idx="344">
                  <c:v>4096</c:v>
                </c:pt>
                <c:pt idx="345">
                  <c:v>4096</c:v>
                </c:pt>
                <c:pt idx="346">
                  <c:v>4096</c:v>
                </c:pt>
                <c:pt idx="347">
                  <c:v>4096</c:v>
                </c:pt>
                <c:pt idx="348">
                  <c:v>4096</c:v>
                </c:pt>
                <c:pt idx="349">
                  <c:v>4096</c:v>
                </c:pt>
                <c:pt idx="350">
                  <c:v>4096</c:v>
                </c:pt>
                <c:pt idx="351">
                  <c:v>4096</c:v>
                </c:pt>
                <c:pt idx="352">
                  <c:v>4096</c:v>
                </c:pt>
                <c:pt idx="353">
                  <c:v>4096</c:v>
                </c:pt>
                <c:pt idx="354">
                  <c:v>4096</c:v>
                </c:pt>
                <c:pt idx="355">
                  <c:v>4096</c:v>
                </c:pt>
                <c:pt idx="356">
                  <c:v>4096</c:v>
                </c:pt>
                <c:pt idx="357">
                  <c:v>4096</c:v>
                </c:pt>
                <c:pt idx="358">
                  <c:v>4096</c:v>
                </c:pt>
                <c:pt idx="359">
                  <c:v>4096</c:v>
                </c:pt>
                <c:pt idx="360">
                  <c:v>4096</c:v>
                </c:pt>
                <c:pt idx="361">
                  <c:v>4096</c:v>
                </c:pt>
                <c:pt idx="362">
                  <c:v>4096</c:v>
                </c:pt>
                <c:pt idx="363">
                  <c:v>4096</c:v>
                </c:pt>
                <c:pt idx="364">
                  <c:v>4096</c:v>
                </c:pt>
                <c:pt idx="365">
                  <c:v>4096</c:v>
                </c:pt>
                <c:pt idx="366">
                  <c:v>4096</c:v>
                </c:pt>
                <c:pt idx="367">
                  <c:v>4096</c:v>
                </c:pt>
                <c:pt idx="368">
                  <c:v>4096</c:v>
                </c:pt>
                <c:pt idx="369">
                  <c:v>4096</c:v>
                </c:pt>
                <c:pt idx="370">
                  <c:v>4096</c:v>
                </c:pt>
                <c:pt idx="371">
                  <c:v>4096</c:v>
                </c:pt>
                <c:pt idx="372">
                  <c:v>4096</c:v>
                </c:pt>
                <c:pt idx="373">
                  <c:v>4096</c:v>
                </c:pt>
                <c:pt idx="374">
                  <c:v>4096</c:v>
                </c:pt>
                <c:pt idx="375">
                  <c:v>4096</c:v>
                </c:pt>
                <c:pt idx="376">
                  <c:v>4096</c:v>
                </c:pt>
                <c:pt idx="377">
                  <c:v>4096</c:v>
                </c:pt>
                <c:pt idx="378">
                  <c:v>4096</c:v>
                </c:pt>
                <c:pt idx="379">
                  <c:v>4096</c:v>
                </c:pt>
                <c:pt idx="380">
                  <c:v>4096</c:v>
                </c:pt>
                <c:pt idx="381">
                  <c:v>4096</c:v>
                </c:pt>
                <c:pt idx="382">
                  <c:v>4096</c:v>
                </c:pt>
                <c:pt idx="383">
                  <c:v>4096</c:v>
                </c:pt>
                <c:pt idx="384">
                  <c:v>4096</c:v>
                </c:pt>
                <c:pt idx="385">
                  <c:v>4096</c:v>
                </c:pt>
                <c:pt idx="386">
                  <c:v>4096</c:v>
                </c:pt>
                <c:pt idx="387">
                  <c:v>4096</c:v>
                </c:pt>
                <c:pt idx="388">
                  <c:v>4096</c:v>
                </c:pt>
                <c:pt idx="389">
                  <c:v>4096</c:v>
                </c:pt>
                <c:pt idx="390">
                  <c:v>4096</c:v>
                </c:pt>
                <c:pt idx="391">
                  <c:v>4096</c:v>
                </c:pt>
                <c:pt idx="392">
                  <c:v>4096</c:v>
                </c:pt>
                <c:pt idx="393">
                  <c:v>4096</c:v>
                </c:pt>
                <c:pt idx="394">
                  <c:v>4096</c:v>
                </c:pt>
                <c:pt idx="395">
                  <c:v>4096</c:v>
                </c:pt>
                <c:pt idx="396">
                  <c:v>4096</c:v>
                </c:pt>
                <c:pt idx="397">
                  <c:v>4096</c:v>
                </c:pt>
                <c:pt idx="398">
                  <c:v>4096</c:v>
                </c:pt>
                <c:pt idx="399">
                  <c:v>4096</c:v>
                </c:pt>
                <c:pt idx="400">
                  <c:v>4096</c:v>
                </c:pt>
                <c:pt idx="401">
                  <c:v>4096</c:v>
                </c:pt>
                <c:pt idx="402">
                  <c:v>4096</c:v>
                </c:pt>
                <c:pt idx="403">
                  <c:v>4096</c:v>
                </c:pt>
                <c:pt idx="404">
                  <c:v>4096</c:v>
                </c:pt>
                <c:pt idx="405">
                  <c:v>4096</c:v>
                </c:pt>
                <c:pt idx="406">
                  <c:v>4096</c:v>
                </c:pt>
                <c:pt idx="407">
                  <c:v>4096</c:v>
                </c:pt>
                <c:pt idx="408">
                  <c:v>4096</c:v>
                </c:pt>
                <c:pt idx="409">
                  <c:v>4096</c:v>
                </c:pt>
                <c:pt idx="410">
                  <c:v>4096</c:v>
                </c:pt>
                <c:pt idx="411">
                  <c:v>4096</c:v>
                </c:pt>
                <c:pt idx="412">
                  <c:v>4096</c:v>
                </c:pt>
                <c:pt idx="413">
                  <c:v>4096</c:v>
                </c:pt>
                <c:pt idx="414">
                  <c:v>4096</c:v>
                </c:pt>
                <c:pt idx="415">
                  <c:v>4096</c:v>
                </c:pt>
                <c:pt idx="416">
                  <c:v>4096</c:v>
                </c:pt>
                <c:pt idx="417">
                  <c:v>4096</c:v>
                </c:pt>
                <c:pt idx="418">
                  <c:v>4096</c:v>
                </c:pt>
                <c:pt idx="419">
                  <c:v>4096</c:v>
                </c:pt>
                <c:pt idx="420">
                  <c:v>4096</c:v>
                </c:pt>
                <c:pt idx="421">
                  <c:v>4096</c:v>
                </c:pt>
                <c:pt idx="422">
                  <c:v>4096</c:v>
                </c:pt>
                <c:pt idx="423">
                  <c:v>4096</c:v>
                </c:pt>
                <c:pt idx="424">
                  <c:v>4096</c:v>
                </c:pt>
                <c:pt idx="425">
                  <c:v>4096</c:v>
                </c:pt>
                <c:pt idx="426">
                  <c:v>4096</c:v>
                </c:pt>
                <c:pt idx="427">
                  <c:v>4096</c:v>
                </c:pt>
                <c:pt idx="428">
                  <c:v>4096</c:v>
                </c:pt>
                <c:pt idx="429">
                  <c:v>4096</c:v>
                </c:pt>
                <c:pt idx="430">
                  <c:v>4096</c:v>
                </c:pt>
                <c:pt idx="431">
                  <c:v>4096</c:v>
                </c:pt>
                <c:pt idx="432">
                  <c:v>4096</c:v>
                </c:pt>
                <c:pt idx="433">
                  <c:v>4096</c:v>
                </c:pt>
                <c:pt idx="434">
                  <c:v>4096</c:v>
                </c:pt>
                <c:pt idx="435">
                  <c:v>4096</c:v>
                </c:pt>
                <c:pt idx="436">
                  <c:v>4096</c:v>
                </c:pt>
                <c:pt idx="437">
                  <c:v>4096</c:v>
                </c:pt>
                <c:pt idx="438">
                  <c:v>4096</c:v>
                </c:pt>
                <c:pt idx="439">
                  <c:v>4096</c:v>
                </c:pt>
                <c:pt idx="440">
                  <c:v>4096</c:v>
                </c:pt>
                <c:pt idx="441">
                  <c:v>4096</c:v>
                </c:pt>
                <c:pt idx="442">
                  <c:v>4096</c:v>
                </c:pt>
                <c:pt idx="443">
                  <c:v>4096</c:v>
                </c:pt>
                <c:pt idx="444">
                  <c:v>4096</c:v>
                </c:pt>
                <c:pt idx="445">
                  <c:v>4096</c:v>
                </c:pt>
                <c:pt idx="446">
                  <c:v>4096</c:v>
                </c:pt>
                <c:pt idx="447">
                  <c:v>4096</c:v>
                </c:pt>
                <c:pt idx="448">
                  <c:v>4096</c:v>
                </c:pt>
                <c:pt idx="449">
                  <c:v>4096</c:v>
                </c:pt>
                <c:pt idx="450">
                  <c:v>4096</c:v>
                </c:pt>
                <c:pt idx="451">
                  <c:v>4096</c:v>
                </c:pt>
                <c:pt idx="452">
                  <c:v>4096</c:v>
                </c:pt>
                <c:pt idx="453">
                  <c:v>4096</c:v>
                </c:pt>
                <c:pt idx="454">
                  <c:v>4096</c:v>
                </c:pt>
                <c:pt idx="455">
                  <c:v>4096</c:v>
                </c:pt>
                <c:pt idx="456">
                  <c:v>4096</c:v>
                </c:pt>
                <c:pt idx="457">
                  <c:v>4096</c:v>
                </c:pt>
                <c:pt idx="458">
                  <c:v>4096</c:v>
                </c:pt>
                <c:pt idx="459">
                  <c:v>4096</c:v>
                </c:pt>
                <c:pt idx="460">
                  <c:v>4096</c:v>
                </c:pt>
                <c:pt idx="461">
                  <c:v>4096</c:v>
                </c:pt>
                <c:pt idx="462">
                  <c:v>4096</c:v>
                </c:pt>
                <c:pt idx="463">
                  <c:v>4096</c:v>
                </c:pt>
                <c:pt idx="464">
                  <c:v>4096</c:v>
                </c:pt>
                <c:pt idx="465">
                  <c:v>4096</c:v>
                </c:pt>
                <c:pt idx="466">
                  <c:v>4096</c:v>
                </c:pt>
                <c:pt idx="467">
                  <c:v>4096</c:v>
                </c:pt>
                <c:pt idx="468">
                  <c:v>4096</c:v>
                </c:pt>
                <c:pt idx="469">
                  <c:v>4096</c:v>
                </c:pt>
                <c:pt idx="470">
                  <c:v>4096</c:v>
                </c:pt>
                <c:pt idx="471">
                  <c:v>4096</c:v>
                </c:pt>
                <c:pt idx="472">
                  <c:v>4096</c:v>
                </c:pt>
                <c:pt idx="473">
                  <c:v>4096</c:v>
                </c:pt>
                <c:pt idx="474">
                  <c:v>4096</c:v>
                </c:pt>
                <c:pt idx="475">
                  <c:v>4096</c:v>
                </c:pt>
                <c:pt idx="476">
                  <c:v>4096</c:v>
                </c:pt>
                <c:pt idx="477">
                  <c:v>4096</c:v>
                </c:pt>
                <c:pt idx="478">
                  <c:v>4096</c:v>
                </c:pt>
                <c:pt idx="479">
                  <c:v>4096</c:v>
                </c:pt>
                <c:pt idx="480">
                  <c:v>4096</c:v>
                </c:pt>
                <c:pt idx="481">
                  <c:v>4096</c:v>
                </c:pt>
                <c:pt idx="482">
                  <c:v>4096</c:v>
                </c:pt>
                <c:pt idx="483">
                  <c:v>4096</c:v>
                </c:pt>
                <c:pt idx="484">
                  <c:v>4096</c:v>
                </c:pt>
                <c:pt idx="485">
                  <c:v>4096</c:v>
                </c:pt>
                <c:pt idx="486">
                  <c:v>4096</c:v>
                </c:pt>
                <c:pt idx="487">
                  <c:v>4096</c:v>
                </c:pt>
                <c:pt idx="488">
                  <c:v>4096</c:v>
                </c:pt>
                <c:pt idx="489">
                  <c:v>4096</c:v>
                </c:pt>
                <c:pt idx="490">
                  <c:v>4096</c:v>
                </c:pt>
                <c:pt idx="491">
                  <c:v>4096</c:v>
                </c:pt>
                <c:pt idx="492">
                  <c:v>4096</c:v>
                </c:pt>
                <c:pt idx="493">
                  <c:v>4096</c:v>
                </c:pt>
                <c:pt idx="494">
                  <c:v>4096</c:v>
                </c:pt>
                <c:pt idx="495">
                  <c:v>4096</c:v>
                </c:pt>
                <c:pt idx="496">
                  <c:v>4096</c:v>
                </c:pt>
                <c:pt idx="497">
                  <c:v>4096</c:v>
                </c:pt>
                <c:pt idx="498">
                  <c:v>4096</c:v>
                </c:pt>
                <c:pt idx="499">
                  <c:v>4096</c:v>
                </c:pt>
                <c:pt idx="500">
                  <c:v>4096</c:v>
                </c:pt>
                <c:pt idx="501">
                  <c:v>4096</c:v>
                </c:pt>
                <c:pt idx="502">
                  <c:v>4096</c:v>
                </c:pt>
                <c:pt idx="503">
                  <c:v>4096</c:v>
                </c:pt>
                <c:pt idx="504">
                  <c:v>4096</c:v>
                </c:pt>
                <c:pt idx="505">
                  <c:v>4096</c:v>
                </c:pt>
                <c:pt idx="506">
                  <c:v>4096</c:v>
                </c:pt>
                <c:pt idx="507">
                  <c:v>4096</c:v>
                </c:pt>
                <c:pt idx="508">
                  <c:v>4096</c:v>
                </c:pt>
                <c:pt idx="509">
                  <c:v>4096</c:v>
                </c:pt>
                <c:pt idx="510">
                  <c:v>4096</c:v>
                </c:pt>
                <c:pt idx="511">
                  <c:v>4096</c:v>
                </c:pt>
                <c:pt idx="512">
                  <c:v>4096</c:v>
                </c:pt>
                <c:pt idx="513">
                  <c:v>4096</c:v>
                </c:pt>
                <c:pt idx="514">
                  <c:v>4096</c:v>
                </c:pt>
                <c:pt idx="515">
                  <c:v>4096</c:v>
                </c:pt>
                <c:pt idx="516">
                  <c:v>4096</c:v>
                </c:pt>
                <c:pt idx="517">
                  <c:v>4096</c:v>
                </c:pt>
                <c:pt idx="518">
                  <c:v>4096</c:v>
                </c:pt>
                <c:pt idx="519">
                  <c:v>4096</c:v>
                </c:pt>
                <c:pt idx="520">
                  <c:v>4096</c:v>
                </c:pt>
                <c:pt idx="521">
                  <c:v>4096</c:v>
                </c:pt>
                <c:pt idx="522">
                  <c:v>4096</c:v>
                </c:pt>
                <c:pt idx="523">
                  <c:v>4096</c:v>
                </c:pt>
                <c:pt idx="524">
                  <c:v>4096</c:v>
                </c:pt>
                <c:pt idx="525">
                  <c:v>4096</c:v>
                </c:pt>
                <c:pt idx="526">
                  <c:v>4096</c:v>
                </c:pt>
                <c:pt idx="527">
                  <c:v>4096</c:v>
                </c:pt>
                <c:pt idx="528">
                  <c:v>4096</c:v>
                </c:pt>
                <c:pt idx="529">
                  <c:v>4096</c:v>
                </c:pt>
                <c:pt idx="530">
                  <c:v>4096</c:v>
                </c:pt>
                <c:pt idx="531">
                  <c:v>4096</c:v>
                </c:pt>
                <c:pt idx="532">
                  <c:v>4096</c:v>
                </c:pt>
                <c:pt idx="533">
                  <c:v>4096</c:v>
                </c:pt>
                <c:pt idx="534">
                  <c:v>4096</c:v>
                </c:pt>
                <c:pt idx="535">
                  <c:v>4096</c:v>
                </c:pt>
                <c:pt idx="536">
                  <c:v>4096</c:v>
                </c:pt>
                <c:pt idx="537">
                  <c:v>4096</c:v>
                </c:pt>
                <c:pt idx="538">
                  <c:v>4096</c:v>
                </c:pt>
                <c:pt idx="539">
                  <c:v>4096</c:v>
                </c:pt>
                <c:pt idx="540">
                  <c:v>4096</c:v>
                </c:pt>
                <c:pt idx="541">
                  <c:v>4096</c:v>
                </c:pt>
                <c:pt idx="542">
                  <c:v>4096</c:v>
                </c:pt>
                <c:pt idx="543">
                  <c:v>4096</c:v>
                </c:pt>
                <c:pt idx="544">
                  <c:v>4096</c:v>
                </c:pt>
                <c:pt idx="545">
                  <c:v>4096</c:v>
                </c:pt>
                <c:pt idx="546">
                  <c:v>4096</c:v>
                </c:pt>
                <c:pt idx="547">
                  <c:v>4096</c:v>
                </c:pt>
                <c:pt idx="548">
                  <c:v>4096</c:v>
                </c:pt>
                <c:pt idx="549">
                  <c:v>4096</c:v>
                </c:pt>
                <c:pt idx="550">
                  <c:v>4096</c:v>
                </c:pt>
                <c:pt idx="551">
                  <c:v>4096</c:v>
                </c:pt>
                <c:pt idx="552">
                  <c:v>4096</c:v>
                </c:pt>
                <c:pt idx="553">
                  <c:v>4096</c:v>
                </c:pt>
                <c:pt idx="554">
                  <c:v>4096</c:v>
                </c:pt>
                <c:pt idx="555">
                  <c:v>4096</c:v>
                </c:pt>
                <c:pt idx="556">
                  <c:v>4096</c:v>
                </c:pt>
                <c:pt idx="557">
                  <c:v>4096</c:v>
                </c:pt>
                <c:pt idx="558">
                  <c:v>4096</c:v>
                </c:pt>
                <c:pt idx="559">
                  <c:v>4096</c:v>
                </c:pt>
                <c:pt idx="560">
                  <c:v>4096</c:v>
                </c:pt>
                <c:pt idx="561">
                  <c:v>4096</c:v>
                </c:pt>
                <c:pt idx="562">
                  <c:v>4096</c:v>
                </c:pt>
                <c:pt idx="563">
                  <c:v>4096</c:v>
                </c:pt>
                <c:pt idx="564">
                  <c:v>4096</c:v>
                </c:pt>
                <c:pt idx="565">
                  <c:v>4096</c:v>
                </c:pt>
                <c:pt idx="566">
                  <c:v>4096</c:v>
                </c:pt>
                <c:pt idx="567">
                  <c:v>4096</c:v>
                </c:pt>
                <c:pt idx="568">
                  <c:v>4096</c:v>
                </c:pt>
                <c:pt idx="569">
                  <c:v>4096</c:v>
                </c:pt>
                <c:pt idx="570">
                  <c:v>4096</c:v>
                </c:pt>
                <c:pt idx="571">
                  <c:v>4096</c:v>
                </c:pt>
                <c:pt idx="572">
                  <c:v>4096</c:v>
                </c:pt>
                <c:pt idx="573">
                  <c:v>4096</c:v>
                </c:pt>
                <c:pt idx="574">
                  <c:v>4096</c:v>
                </c:pt>
                <c:pt idx="575">
                  <c:v>4096</c:v>
                </c:pt>
                <c:pt idx="576">
                  <c:v>4096</c:v>
                </c:pt>
                <c:pt idx="577">
                  <c:v>4096</c:v>
                </c:pt>
                <c:pt idx="578">
                  <c:v>4096</c:v>
                </c:pt>
                <c:pt idx="579">
                  <c:v>4096</c:v>
                </c:pt>
                <c:pt idx="580">
                  <c:v>4096</c:v>
                </c:pt>
                <c:pt idx="581">
                  <c:v>4096</c:v>
                </c:pt>
                <c:pt idx="582">
                  <c:v>4096</c:v>
                </c:pt>
                <c:pt idx="583">
                  <c:v>4096</c:v>
                </c:pt>
                <c:pt idx="584">
                  <c:v>4096</c:v>
                </c:pt>
                <c:pt idx="585">
                  <c:v>4096</c:v>
                </c:pt>
                <c:pt idx="586">
                  <c:v>4096</c:v>
                </c:pt>
                <c:pt idx="587">
                  <c:v>4096</c:v>
                </c:pt>
                <c:pt idx="588">
                  <c:v>4096</c:v>
                </c:pt>
                <c:pt idx="589">
                  <c:v>4096</c:v>
                </c:pt>
                <c:pt idx="590">
                  <c:v>4096</c:v>
                </c:pt>
                <c:pt idx="591">
                  <c:v>4096</c:v>
                </c:pt>
                <c:pt idx="592">
                  <c:v>4096</c:v>
                </c:pt>
                <c:pt idx="593">
                  <c:v>4096</c:v>
                </c:pt>
                <c:pt idx="594">
                  <c:v>4096</c:v>
                </c:pt>
                <c:pt idx="595">
                  <c:v>4096</c:v>
                </c:pt>
                <c:pt idx="596">
                  <c:v>4096</c:v>
                </c:pt>
                <c:pt idx="597">
                  <c:v>4096</c:v>
                </c:pt>
                <c:pt idx="598">
                  <c:v>4096</c:v>
                </c:pt>
                <c:pt idx="599">
                  <c:v>4096</c:v>
                </c:pt>
                <c:pt idx="600">
                  <c:v>4096</c:v>
                </c:pt>
                <c:pt idx="601">
                  <c:v>4096</c:v>
                </c:pt>
                <c:pt idx="602">
                  <c:v>4096</c:v>
                </c:pt>
                <c:pt idx="603">
                  <c:v>4096</c:v>
                </c:pt>
                <c:pt idx="604">
                  <c:v>4096</c:v>
                </c:pt>
                <c:pt idx="605">
                  <c:v>4096</c:v>
                </c:pt>
                <c:pt idx="606">
                  <c:v>4096</c:v>
                </c:pt>
                <c:pt idx="607">
                  <c:v>4096</c:v>
                </c:pt>
                <c:pt idx="608">
                  <c:v>4096</c:v>
                </c:pt>
                <c:pt idx="609">
                  <c:v>4096</c:v>
                </c:pt>
                <c:pt idx="610">
                  <c:v>4096</c:v>
                </c:pt>
                <c:pt idx="611">
                  <c:v>4096</c:v>
                </c:pt>
                <c:pt idx="612">
                  <c:v>4096</c:v>
                </c:pt>
                <c:pt idx="613">
                  <c:v>4096</c:v>
                </c:pt>
                <c:pt idx="614">
                  <c:v>4096</c:v>
                </c:pt>
                <c:pt idx="615">
                  <c:v>4096</c:v>
                </c:pt>
                <c:pt idx="616">
                  <c:v>4096</c:v>
                </c:pt>
                <c:pt idx="617">
                  <c:v>4096</c:v>
                </c:pt>
                <c:pt idx="618">
                  <c:v>4096</c:v>
                </c:pt>
                <c:pt idx="619">
                  <c:v>4096</c:v>
                </c:pt>
                <c:pt idx="620">
                  <c:v>4096</c:v>
                </c:pt>
                <c:pt idx="621">
                  <c:v>4096</c:v>
                </c:pt>
                <c:pt idx="622">
                  <c:v>4096</c:v>
                </c:pt>
                <c:pt idx="623">
                  <c:v>4096</c:v>
                </c:pt>
                <c:pt idx="624">
                  <c:v>4096</c:v>
                </c:pt>
                <c:pt idx="625">
                  <c:v>4096</c:v>
                </c:pt>
                <c:pt idx="626">
                  <c:v>4096</c:v>
                </c:pt>
                <c:pt idx="627">
                  <c:v>4096</c:v>
                </c:pt>
                <c:pt idx="628">
                  <c:v>4096</c:v>
                </c:pt>
                <c:pt idx="629">
                  <c:v>4096</c:v>
                </c:pt>
                <c:pt idx="630">
                  <c:v>4096</c:v>
                </c:pt>
                <c:pt idx="631">
                  <c:v>4096</c:v>
                </c:pt>
                <c:pt idx="632">
                  <c:v>4096</c:v>
                </c:pt>
                <c:pt idx="633">
                  <c:v>4096</c:v>
                </c:pt>
                <c:pt idx="634">
                  <c:v>4096</c:v>
                </c:pt>
                <c:pt idx="635">
                  <c:v>4096</c:v>
                </c:pt>
                <c:pt idx="636">
                  <c:v>4096</c:v>
                </c:pt>
                <c:pt idx="637">
                  <c:v>4096</c:v>
                </c:pt>
                <c:pt idx="638">
                  <c:v>4096</c:v>
                </c:pt>
                <c:pt idx="639">
                  <c:v>4096</c:v>
                </c:pt>
                <c:pt idx="640">
                  <c:v>4096</c:v>
                </c:pt>
                <c:pt idx="641">
                  <c:v>4096</c:v>
                </c:pt>
                <c:pt idx="642">
                  <c:v>4096</c:v>
                </c:pt>
                <c:pt idx="643">
                  <c:v>4096</c:v>
                </c:pt>
                <c:pt idx="644">
                  <c:v>4096</c:v>
                </c:pt>
                <c:pt idx="645">
                  <c:v>4096</c:v>
                </c:pt>
                <c:pt idx="646">
                  <c:v>4096</c:v>
                </c:pt>
                <c:pt idx="647">
                  <c:v>4096</c:v>
                </c:pt>
                <c:pt idx="648">
                  <c:v>4096</c:v>
                </c:pt>
                <c:pt idx="649">
                  <c:v>4096</c:v>
                </c:pt>
                <c:pt idx="650">
                  <c:v>4096</c:v>
                </c:pt>
                <c:pt idx="651">
                  <c:v>4096</c:v>
                </c:pt>
                <c:pt idx="652">
                  <c:v>4096</c:v>
                </c:pt>
                <c:pt idx="653">
                  <c:v>4096</c:v>
                </c:pt>
                <c:pt idx="654">
                  <c:v>4096</c:v>
                </c:pt>
                <c:pt idx="655">
                  <c:v>4096</c:v>
                </c:pt>
                <c:pt idx="656">
                  <c:v>4096</c:v>
                </c:pt>
                <c:pt idx="657">
                  <c:v>4096</c:v>
                </c:pt>
                <c:pt idx="658">
                  <c:v>4096</c:v>
                </c:pt>
                <c:pt idx="659">
                  <c:v>4096</c:v>
                </c:pt>
                <c:pt idx="660">
                  <c:v>4096</c:v>
                </c:pt>
                <c:pt idx="661">
                  <c:v>4096</c:v>
                </c:pt>
                <c:pt idx="662">
                  <c:v>4096</c:v>
                </c:pt>
                <c:pt idx="663">
                  <c:v>4096</c:v>
                </c:pt>
                <c:pt idx="664">
                  <c:v>4096</c:v>
                </c:pt>
                <c:pt idx="665">
                  <c:v>4096</c:v>
                </c:pt>
                <c:pt idx="666">
                  <c:v>4096</c:v>
                </c:pt>
                <c:pt idx="667">
                  <c:v>4096</c:v>
                </c:pt>
                <c:pt idx="668">
                  <c:v>4096</c:v>
                </c:pt>
                <c:pt idx="669">
                  <c:v>4096</c:v>
                </c:pt>
                <c:pt idx="670">
                  <c:v>4096</c:v>
                </c:pt>
                <c:pt idx="671">
                  <c:v>4096</c:v>
                </c:pt>
                <c:pt idx="672">
                  <c:v>4096</c:v>
                </c:pt>
                <c:pt idx="673">
                  <c:v>4096</c:v>
                </c:pt>
                <c:pt idx="674">
                  <c:v>4096</c:v>
                </c:pt>
                <c:pt idx="675">
                  <c:v>4096</c:v>
                </c:pt>
                <c:pt idx="676">
                  <c:v>4096</c:v>
                </c:pt>
                <c:pt idx="677">
                  <c:v>4096</c:v>
                </c:pt>
                <c:pt idx="678">
                  <c:v>4096</c:v>
                </c:pt>
                <c:pt idx="679">
                  <c:v>4096</c:v>
                </c:pt>
                <c:pt idx="680">
                  <c:v>4096</c:v>
                </c:pt>
                <c:pt idx="681">
                  <c:v>4096</c:v>
                </c:pt>
                <c:pt idx="682">
                  <c:v>4096</c:v>
                </c:pt>
                <c:pt idx="683">
                  <c:v>4096</c:v>
                </c:pt>
                <c:pt idx="684">
                  <c:v>4096</c:v>
                </c:pt>
                <c:pt idx="685">
                  <c:v>4096</c:v>
                </c:pt>
                <c:pt idx="686">
                  <c:v>4096</c:v>
                </c:pt>
                <c:pt idx="687">
                  <c:v>4096</c:v>
                </c:pt>
                <c:pt idx="688">
                  <c:v>4096</c:v>
                </c:pt>
                <c:pt idx="689">
                  <c:v>4096</c:v>
                </c:pt>
                <c:pt idx="690">
                  <c:v>4096</c:v>
                </c:pt>
                <c:pt idx="691">
                  <c:v>4096</c:v>
                </c:pt>
                <c:pt idx="692">
                  <c:v>4096</c:v>
                </c:pt>
                <c:pt idx="693">
                  <c:v>4096</c:v>
                </c:pt>
                <c:pt idx="694">
                  <c:v>4096</c:v>
                </c:pt>
                <c:pt idx="695">
                  <c:v>4096</c:v>
                </c:pt>
                <c:pt idx="696">
                  <c:v>4096</c:v>
                </c:pt>
                <c:pt idx="697">
                  <c:v>4096</c:v>
                </c:pt>
                <c:pt idx="698">
                  <c:v>4096</c:v>
                </c:pt>
                <c:pt idx="699">
                  <c:v>4096</c:v>
                </c:pt>
                <c:pt idx="700">
                  <c:v>4096</c:v>
                </c:pt>
                <c:pt idx="701">
                  <c:v>4096</c:v>
                </c:pt>
                <c:pt idx="702">
                  <c:v>4096</c:v>
                </c:pt>
                <c:pt idx="703">
                  <c:v>4096</c:v>
                </c:pt>
                <c:pt idx="704">
                  <c:v>4096</c:v>
                </c:pt>
                <c:pt idx="705">
                  <c:v>4096</c:v>
                </c:pt>
                <c:pt idx="706">
                  <c:v>4096</c:v>
                </c:pt>
                <c:pt idx="707">
                  <c:v>4096</c:v>
                </c:pt>
                <c:pt idx="708">
                  <c:v>4096</c:v>
                </c:pt>
                <c:pt idx="709">
                  <c:v>4096</c:v>
                </c:pt>
                <c:pt idx="710">
                  <c:v>4096</c:v>
                </c:pt>
                <c:pt idx="711">
                  <c:v>4096</c:v>
                </c:pt>
                <c:pt idx="712">
                  <c:v>4096</c:v>
                </c:pt>
                <c:pt idx="713">
                  <c:v>4096</c:v>
                </c:pt>
                <c:pt idx="714">
                  <c:v>4096</c:v>
                </c:pt>
                <c:pt idx="715">
                  <c:v>4096</c:v>
                </c:pt>
                <c:pt idx="716">
                  <c:v>4096</c:v>
                </c:pt>
                <c:pt idx="717">
                  <c:v>4096</c:v>
                </c:pt>
                <c:pt idx="718">
                  <c:v>4096</c:v>
                </c:pt>
                <c:pt idx="719">
                  <c:v>4096</c:v>
                </c:pt>
                <c:pt idx="720">
                  <c:v>4096</c:v>
                </c:pt>
                <c:pt idx="721">
                  <c:v>4096</c:v>
                </c:pt>
                <c:pt idx="722">
                  <c:v>4096</c:v>
                </c:pt>
                <c:pt idx="723">
                  <c:v>4096</c:v>
                </c:pt>
                <c:pt idx="724">
                  <c:v>4096</c:v>
                </c:pt>
                <c:pt idx="725">
                  <c:v>4096</c:v>
                </c:pt>
                <c:pt idx="726">
                  <c:v>4096</c:v>
                </c:pt>
                <c:pt idx="727">
                  <c:v>4096</c:v>
                </c:pt>
                <c:pt idx="728">
                  <c:v>4096</c:v>
                </c:pt>
                <c:pt idx="729">
                  <c:v>4096</c:v>
                </c:pt>
                <c:pt idx="730">
                  <c:v>4096</c:v>
                </c:pt>
                <c:pt idx="731">
                  <c:v>4096</c:v>
                </c:pt>
                <c:pt idx="732">
                  <c:v>4096</c:v>
                </c:pt>
                <c:pt idx="733">
                  <c:v>4096</c:v>
                </c:pt>
                <c:pt idx="734">
                  <c:v>4096</c:v>
                </c:pt>
                <c:pt idx="735">
                  <c:v>4096</c:v>
                </c:pt>
                <c:pt idx="736">
                  <c:v>4096</c:v>
                </c:pt>
                <c:pt idx="737">
                  <c:v>4096</c:v>
                </c:pt>
                <c:pt idx="738">
                  <c:v>4096</c:v>
                </c:pt>
                <c:pt idx="739">
                  <c:v>4096</c:v>
                </c:pt>
                <c:pt idx="740">
                  <c:v>4096</c:v>
                </c:pt>
                <c:pt idx="741">
                  <c:v>4096</c:v>
                </c:pt>
                <c:pt idx="742">
                  <c:v>4096</c:v>
                </c:pt>
                <c:pt idx="743">
                  <c:v>4096</c:v>
                </c:pt>
                <c:pt idx="744">
                  <c:v>4096</c:v>
                </c:pt>
                <c:pt idx="745">
                  <c:v>4096</c:v>
                </c:pt>
                <c:pt idx="746">
                  <c:v>4096</c:v>
                </c:pt>
                <c:pt idx="747">
                  <c:v>4096</c:v>
                </c:pt>
                <c:pt idx="748">
                  <c:v>4096</c:v>
                </c:pt>
                <c:pt idx="749">
                  <c:v>4096</c:v>
                </c:pt>
                <c:pt idx="750">
                  <c:v>4096</c:v>
                </c:pt>
                <c:pt idx="751">
                  <c:v>4096</c:v>
                </c:pt>
                <c:pt idx="752">
                  <c:v>4096</c:v>
                </c:pt>
                <c:pt idx="753">
                  <c:v>4096</c:v>
                </c:pt>
                <c:pt idx="754">
                  <c:v>4096</c:v>
                </c:pt>
                <c:pt idx="755">
                  <c:v>4096</c:v>
                </c:pt>
                <c:pt idx="756">
                  <c:v>4096</c:v>
                </c:pt>
                <c:pt idx="757">
                  <c:v>4096</c:v>
                </c:pt>
                <c:pt idx="758">
                  <c:v>4096</c:v>
                </c:pt>
                <c:pt idx="759">
                  <c:v>4096</c:v>
                </c:pt>
                <c:pt idx="760">
                  <c:v>4096</c:v>
                </c:pt>
                <c:pt idx="761">
                  <c:v>4096</c:v>
                </c:pt>
                <c:pt idx="762">
                  <c:v>4096</c:v>
                </c:pt>
                <c:pt idx="763">
                  <c:v>4096</c:v>
                </c:pt>
                <c:pt idx="764">
                  <c:v>4096</c:v>
                </c:pt>
                <c:pt idx="765">
                  <c:v>4096</c:v>
                </c:pt>
                <c:pt idx="766">
                  <c:v>4096</c:v>
                </c:pt>
                <c:pt idx="767">
                  <c:v>4096</c:v>
                </c:pt>
                <c:pt idx="768">
                  <c:v>4096</c:v>
                </c:pt>
                <c:pt idx="769">
                  <c:v>4096</c:v>
                </c:pt>
                <c:pt idx="770">
                  <c:v>4096</c:v>
                </c:pt>
                <c:pt idx="771">
                  <c:v>4096</c:v>
                </c:pt>
                <c:pt idx="772">
                  <c:v>4096</c:v>
                </c:pt>
                <c:pt idx="773">
                  <c:v>4096</c:v>
                </c:pt>
                <c:pt idx="774">
                  <c:v>4096</c:v>
                </c:pt>
                <c:pt idx="775">
                  <c:v>4096</c:v>
                </c:pt>
                <c:pt idx="776">
                  <c:v>4096</c:v>
                </c:pt>
                <c:pt idx="777">
                  <c:v>4096</c:v>
                </c:pt>
                <c:pt idx="778">
                  <c:v>4096</c:v>
                </c:pt>
                <c:pt idx="779">
                  <c:v>4096</c:v>
                </c:pt>
                <c:pt idx="780">
                  <c:v>4096</c:v>
                </c:pt>
                <c:pt idx="781">
                  <c:v>4096</c:v>
                </c:pt>
                <c:pt idx="782">
                  <c:v>4096</c:v>
                </c:pt>
                <c:pt idx="783">
                  <c:v>4096</c:v>
                </c:pt>
                <c:pt idx="784">
                  <c:v>4096</c:v>
                </c:pt>
                <c:pt idx="785">
                  <c:v>4096</c:v>
                </c:pt>
                <c:pt idx="786">
                  <c:v>4096</c:v>
                </c:pt>
                <c:pt idx="787">
                  <c:v>4096</c:v>
                </c:pt>
                <c:pt idx="788">
                  <c:v>4096</c:v>
                </c:pt>
                <c:pt idx="789">
                  <c:v>4096</c:v>
                </c:pt>
                <c:pt idx="790">
                  <c:v>4096</c:v>
                </c:pt>
                <c:pt idx="791">
                  <c:v>4096</c:v>
                </c:pt>
                <c:pt idx="792">
                  <c:v>4096</c:v>
                </c:pt>
                <c:pt idx="793">
                  <c:v>4096</c:v>
                </c:pt>
                <c:pt idx="794">
                  <c:v>4096</c:v>
                </c:pt>
                <c:pt idx="795">
                  <c:v>4096</c:v>
                </c:pt>
                <c:pt idx="796">
                  <c:v>4096</c:v>
                </c:pt>
                <c:pt idx="797">
                  <c:v>4096</c:v>
                </c:pt>
                <c:pt idx="798">
                  <c:v>4096</c:v>
                </c:pt>
                <c:pt idx="799">
                  <c:v>4096</c:v>
                </c:pt>
                <c:pt idx="800">
                  <c:v>4096</c:v>
                </c:pt>
                <c:pt idx="801">
                  <c:v>4096</c:v>
                </c:pt>
                <c:pt idx="802">
                  <c:v>4096</c:v>
                </c:pt>
                <c:pt idx="803">
                  <c:v>4096</c:v>
                </c:pt>
                <c:pt idx="804">
                  <c:v>4096</c:v>
                </c:pt>
                <c:pt idx="805">
                  <c:v>4096</c:v>
                </c:pt>
                <c:pt idx="806">
                  <c:v>4096</c:v>
                </c:pt>
                <c:pt idx="807">
                  <c:v>4096</c:v>
                </c:pt>
                <c:pt idx="808">
                  <c:v>4096</c:v>
                </c:pt>
                <c:pt idx="809">
                  <c:v>4096</c:v>
                </c:pt>
                <c:pt idx="810">
                  <c:v>4096</c:v>
                </c:pt>
                <c:pt idx="811">
                  <c:v>4096</c:v>
                </c:pt>
                <c:pt idx="812">
                  <c:v>4096</c:v>
                </c:pt>
                <c:pt idx="813">
                  <c:v>4096</c:v>
                </c:pt>
                <c:pt idx="814">
                  <c:v>4096</c:v>
                </c:pt>
                <c:pt idx="815">
                  <c:v>4096</c:v>
                </c:pt>
                <c:pt idx="816">
                  <c:v>4096</c:v>
                </c:pt>
                <c:pt idx="817">
                  <c:v>4096</c:v>
                </c:pt>
                <c:pt idx="818">
                  <c:v>4096</c:v>
                </c:pt>
                <c:pt idx="819">
                  <c:v>4096</c:v>
                </c:pt>
                <c:pt idx="820">
                  <c:v>4096</c:v>
                </c:pt>
                <c:pt idx="821">
                  <c:v>4096</c:v>
                </c:pt>
                <c:pt idx="822">
                  <c:v>4096</c:v>
                </c:pt>
                <c:pt idx="823">
                  <c:v>4096</c:v>
                </c:pt>
                <c:pt idx="824">
                  <c:v>4096</c:v>
                </c:pt>
                <c:pt idx="825">
                  <c:v>4096</c:v>
                </c:pt>
                <c:pt idx="826">
                  <c:v>4096</c:v>
                </c:pt>
                <c:pt idx="827">
                  <c:v>4096</c:v>
                </c:pt>
                <c:pt idx="828">
                  <c:v>4096</c:v>
                </c:pt>
                <c:pt idx="829">
                  <c:v>4096</c:v>
                </c:pt>
                <c:pt idx="830">
                  <c:v>4096</c:v>
                </c:pt>
                <c:pt idx="831">
                  <c:v>4096</c:v>
                </c:pt>
                <c:pt idx="832">
                  <c:v>4096</c:v>
                </c:pt>
                <c:pt idx="833">
                  <c:v>4096</c:v>
                </c:pt>
                <c:pt idx="834">
                  <c:v>4096</c:v>
                </c:pt>
                <c:pt idx="835">
                  <c:v>4096</c:v>
                </c:pt>
                <c:pt idx="836">
                  <c:v>4096</c:v>
                </c:pt>
                <c:pt idx="837">
                  <c:v>4096</c:v>
                </c:pt>
                <c:pt idx="838">
                  <c:v>4096</c:v>
                </c:pt>
                <c:pt idx="839">
                  <c:v>4096</c:v>
                </c:pt>
                <c:pt idx="840">
                  <c:v>4096</c:v>
                </c:pt>
                <c:pt idx="841">
                  <c:v>4096</c:v>
                </c:pt>
                <c:pt idx="842">
                  <c:v>4096</c:v>
                </c:pt>
                <c:pt idx="843">
                  <c:v>4096</c:v>
                </c:pt>
                <c:pt idx="844">
                  <c:v>4096</c:v>
                </c:pt>
                <c:pt idx="845">
                  <c:v>4096</c:v>
                </c:pt>
                <c:pt idx="846">
                  <c:v>4096</c:v>
                </c:pt>
                <c:pt idx="847">
                  <c:v>4096</c:v>
                </c:pt>
                <c:pt idx="848">
                  <c:v>4096</c:v>
                </c:pt>
                <c:pt idx="849">
                  <c:v>4096</c:v>
                </c:pt>
                <c:pt idx="850">
                  <c:v>4096</c:v>
                </c:pt>
                <c:pt idx="851">
                  <c:v>4096</c:v>
                </c:pt>
                <c:pt idx="852">
                  <c:v>4096</c:v>
                </c:pt>
                <c:pt idx="853">
                  <c:v>4096</c:v>
                </c:pt>
                <c:pt idx="854">
                  <c:v>4096</c:v>
                </c:pt>
                <c:pt idx="855">
                  <c:v>4096</c:v>
                </c:pt>
                <c:pt idx="856">
                  <c:v>4096</c:v>
                </c:pt>
                <c:pt idx="857">
                  <c:v>4096</c:v>
                </c:pt>
                <c:pt idx="858">
                  <c:v>4096</c:v>
                </c:pt>
                <c:pt idx="859">
                  <c:v>4096</c:v>
                </c:pt>
                <c:pt idx="860">
                  <c:v>4096</c:v>
                </c:pt>
                <c:pt idx="861">
                  <c:v>4096</c:v>
                </c:pt>
                <c:pt idx="862">
                  <c:v>4096</c:v>
                </c:pt>
                <c:pt idx="863">
                  <c:v>4096</c:v>
                </c:pt>
                <c:pt idx="864">
                  <c:v>4096</c:v>
                </c:pt>
                <c:pt idx="865">
                  <c:v>4096</c:v>
                </c:pt>
                <c:pt idx="866">
                  <c:v>4096</c:v>
                </c:pt>
                <c:pt idx="867">
                  <c:v>4096</c:v>
                </c:pt>
                <c:pt idx="868">
                  <c:v>4096</c:v>
                </c:pt>
                <c:pt idx="869">
                  <c:v>4096</c:v>
                </c:pt>
                <c:pt idx="870">
                  <c:v>4096</c:v>
                </c:pt>
                <c:pt idx="871">
                  <c:v>4096</c:v>
                </c:pt>
                <c:pt idx="872">
                  <c:v>4096</c:v>
                </c:pt>
                <c:pt idx="873">
                  <c:v>4096</c:v>
                </c:pt>
                <c:pt idx="874">
                  <c:v>4096</c:v>
                </c:pt>
                <c:pt idx="875">
                  <c:v>4096</c:v>
                </c:pt>
                <c:pt idx="876">
                  <c:v>4096</c:v>
                </c:pt>
                <c:pt idx="877">
                  <c:v>4096</c:v>
                </c:pt>
                <c:pt idx="878">
                  <c:v>4096</c:v>
                </c:pt>
                <c:pt idx="879">
                  <c:v>4096</c:v>
                </c:pt>
                <c:pt idx="880">
                  <c:v>4096</c:v>
                </c:pt>
                <c:pt idx="881">
                  <c:v>4096</c:v>
                </c:pt>
                <c:pt idx="882">
                  <c:v>4096</c:v>
                </c:pt>
                <c:pt idx="883">
                  <c:v>4096</c:v>
                </c:pt>
                <c:pt idx="884">
                  <c:v>4096</c:v>
                </c:pt>
                <c:pt idx="885">
                  <c:v>4096</c:v>
                </c:pt>
                <c:pt idx="886">
                  <c:v>4096</c:v>
                </c:pt>
                <c:pt idx="887">
                  <c:v>4096</c:v>
                </c:pt>
                <c:pt idx="888">
                  <c:v>4096</c:v>
                </c:pt>
                <c:pt idx="889">
                  <c:v>4096</c:v>
                </c:pt>
                <c:pt idx="890">
                  <c:v>4096</c:v>
                </c:pt>
                <c:pt idx="891">
                  <c:v>4096</c:v>
                </c:pt>
                <c:pt idx="892">
                  <c:v>4096</c:v>
                </c:pt>
                <c:pt idx="893">
                  <c:v>4096</c:v>
                </c:pt>
                <c:pt idx="894">
                  <c:v>4096</c:v>
                </c:pt>
                <c:pt idx="895">
                  <c:v>4096</c:v>
                </c:pt>
                <c:pt idx="896">
                  <c:v>4096</c:v>
                </c:pt>
                <c:pt idx="897">
                  <c:v>4096</c:v>
                </c:pt>
                <c:pt idx="898">
                  <c:v>4096</c:v>
                </c:pt>
                <c:pt idx="899">
                  <c:v>4096</c:v>
                </c:pt>
                <c:pt idx="900">
                  <c:v>4096</c:v>
                </c:pt>
                <c:pt idx="901">
                  <c:v>4096</c:v>
                </c:pt>
                <c:pt idx="902">
                  <c:v>4096</c:v>
                </c:pt>
                <c:pt idx="903">
                  <c:v>4096</c:v>
                </c:pt>
                <c:pt idx="904">
                  <c:v>4096</c:v>
                </c:pt>
                <c:pt idx="905">
                  <c:v>4096</c:v>
                </c:pt>
                <c:pt idx="906">
                  <c:v>4096</c:v>
                </c:pt>
                <c:pt idx="907">
                  <c:v>4096</c:v>
                </c:pt>
                <c:pt idx="908">
                  <c:v>4096</c:v>
                </c:pt>
                <c:pt idx="909">
                  <c:v>4096</c:v>
                </c:pt>
                <c:pt idx="910">
                  <c:v>4096</c:v>
                </c:pt>
                <c:pt idx="911">
                  <c:v>4096</c:v>
                </c:pt>
                <c:pt idx="912">
                  <c:v>4096</c:v>
                </c:pt>
                <c:pt idx="913">
                  <c:v>4096</c:v>
                </c:pt>
                <c:pt idx="914">
                  <c:v>4096</c:v>
                </c:pt>
                <c:pt idx="915">
                  <c:v>4096</c:v>
                </c:pt>
                <c:pt idx="916">
                  <c:v>4096</c:v>
                </c:pt>
                <c:pt idx="917">
                  <c:v>4096</c:v>
                </c:pt>
                <c:pt idx="918">
                  <c:v>4096</c:v>
                </c:pt>
                <c:pt idx="919">
                  <c:v>4096</c:v>
                </c:pt>
                <c:pt idx="920">
                  <c:v>4096</c:v>
                </c:pt>
                <c:pt idx="921">
                  <c:v>4096</c:v>
                </c:pt>
                <c:pt idx="922">
                  <c:v>4096</c:v>
                </c:pt>
                <c:pt idx="923">
                  <c:v>4096</c:v>
                </c:pt>
                <c:pt idx="924">
                  <c:v>4096</c:v>
                </c:pt>
                <c:pt idx="925">
                  <c:v>4096</c:v>
                </c:pt>
                <c:pt idx="926">
                  <c:v>4096</c:v>
                </c:pt>
                <c:pt idx="927">
                  <c:v>4096</c:v>
                </c:pt>
                <c:pt idx="928">
                  <c:v>4096</c:v>
                </c:pt>
                <c:pt idx="929">
                  <c:v>4096</c:v>
                </c:pt>
                <c:pt idx="930">
                  <c:v>4096</c:v>
                </c:pt>
                <c:pt idx="931">
                  <c:v>4096</c:v>
                </c:pt>
                <c:pt idx="932">
                  <c:v>4096</c:v>
                </c:pt>
                <c:pt idx="933">
                  <c:v>4096</c:v>
                </c:pt>
                <c:pt idx="934">
                  <c:v>4096</c:v>
                </c:pt>
                <c:pt idx="935">
                  <c:v>4096</c:v>
                </c:pt>
                <c:pt idx="936">
                  <c:v>4096</c:v>
                </c:pt>
                <c:pt idx="937">
                  <c:v>4096</c:v>
                </c:pt>
                <c:pt idx="938">
                  <c:v>4096</c:v>
                </c:pt>
                <c:pt idx="939">
                  <c:v>4096</c:v>
                </c:pt>
                <c:pt idx="940">
                  <c:v>4096</c:v>
                </c:pt>
                <c:pt idx="941">
                  <c:v>4096</c:v>
                </c:pt>
                <c:pt idx="942">
                  <c:v>4096</c:v>
                </c:pt>
                <c:pt idx="943">
                  <c:v>4096</c:v>
                </c:pt>
                <c:pt idx="944">
                  <c:v>4096</c:v>
                </c:pt>
                <c:pt idx="945">
                  <c:v>4096</c:v>
                </c:pt>
                <c:pt idx="946">
                  <c:v>4096</c:v>
                </c:pt>
                <c:pt idx="947">
                  <c:v>4096</c:v>
                </c:pt>
                <c:pt idx="948">
                  <c:v>4096</c:v>
                </c:pt>
                <c:pt idx="949">
                  <c:v>4096</c:v>
                </c:pt>
                <c:pt idx="950">
                  <c:v>4096</c:v>
                </c:pt>
                <c:pt idx="951">
                  <c:v>4096</c:v>
                </c:pt>
                <c:pt idx="952">
                  <c:v>4096</c:v>
                </c:pt>
                <c:pt idx="953">
                  <c:v>4096</c:v>
                </c:pt>
                <c:pt idx="954">
                  <c:v>4096</c:v>
                </c:pt>
                <c:pt idx="955">
                  <c:v>4096</c:v>
                </c:pt>
                <c:pt idx="956">
                  <c:v>4096</c:v>
                </c:pt>
                <c:pt idx="957">
                  <c:v>4096</c:v>
                </c:pt>
                <c:pt idx="958">
                  <c:v>4096</c:v>
                </c:pt>
                <c:pt idx="959">
                  <c:v>4096</c:v>
                </c:pt>
                <c:pt idx="960">
                  <c:v>4096</c:v>
                </c:pt>
                <c:pt idx="961">
                  <c:v>4096</c:v>
                </c:pt>
                <c:pt idx="962">
                  <c:v>4096</c:v>
                </c:pt>
                <c:pt idx="963">
                  <c:v>4096</c:v>
                </c:pt>
                <c:pt idx="964">
                  <c:v>4096</c:v>
                </c:pt>
                <c:pt idx="965">
                  <c:v>4096</c:v>
                </c:pt>
                <c:pt idx="966">
                  <c:v>4096</c:v>
                </c:pt>
                <c:pt idx="967">
                  <c:v>4096</c:v>
                </c:pt>
                <c:pt idx="968">
                  <c:v>4096</c:v>
                </c:pt>
                <c:pt idx="969">
                  <c:v>4096</c:v>
                </c:pt>
                <c:pt idx="970">
                  <c:v>4096</c:v>
                </c:pt>
                <c:pt idx="971">
                  <c:v>4096</c:v>
                </c:pt>
                <c:pt idx="972">
                  <c:v>4096</c:v>
                </c:pt>
                <c:pt idx="973">
                  <c:v>4096</c:v>
                </c:pt>
                <c:pt idx="974">
                  <c:v>4096</c:v>
                </c:pt>
                <c:pt idx="975">
                  <c:v>4096</c:v>
                </c:pt>
                <c:pt idx="976">
                  <c:v>4096</c:v>
                </c:pt>
                <c:pt idx="977">
                  <c:v>4096</c:v>
                </c:pt>
                <c:pt idx="978">
                  <c:v>4096</c:v>
                </c:pt>
                <c:pt idx="979">
                  <c:v>4096</c:v>
                </c:pt>
                <c:pt idx="980">
                  <c:v>4096</c:v>
                </c:pt>
                <c:pt idx="981">
                  <c:v>4096</c:v>
                </c:pt>
                <c:pt idx="982">
                  <c:v>4096</c:v>
                </c:pt>
                <c:pt idx="983">
                  <c:v>4096</c:v>
                </c:pt>
                <c:pt idx="984">
                  <c:v>4096</c:v>
                </c:pt>
                <c:pt idx="985">
                  <c:v>4096</c:v>
                </c:pt>
                <c:pt idx="986">
                  <c:v>4096</c:v>
                </c:pt>
                <c:pt idx="987">
                  <c:v>4096</c:v>
                </c:pt>
                <c:pt idx="988">
                  <c:v>4096</c:v>
                </c:pt>
                <c:pt idx="989">
                  <c:v>4096</c:v>
                </c:pt>
                <c:pt idx="990">
                  <c:v>4096</c:v>
                </c:pt>
                <c:pt idx="991">
                  <c:v>4096</c:v>
                </c:pt>
                <c:pt idx="992">
                  <c:v>4096</c:v>
                </c:pt>
                <c:pt idx="993">
                  <c:v>4096</c:v>
                </c:pt>
                <c:pt idx="994">
                  <c:v>4096</c:v>
                </c:pt>
                <c:pt idx="995">
                  <c:v>4096</c:v>
                </c:pt>
                <c:pt idx="996">
                  <c:v>4096</c:v>
                </c:pt>
                <c:pt idx="997">
                  <c:v>4096</c:v>
                </c:pt>
                <c:pt idx="998">
                  <c:v>4096</c:v>
                </c:pt>
                <c:pt idx="999">
                  <c:v>4096</c:v>
                </c:pt>
                <c:pt idx="1000">
                  <c:v>4096</c:v>
                </c:pt>
              </c:numCache>
            </c:numRef>
          </c:xVal>
          <c:yVal>
            <c:numRef>
              <c:f>4</c:f>
              <c:numCache>
                <c:formatCode>General</c:formatCode>
                <c:ptCount val="1001"/>
                <c:pt idx="0">
                  <c:v>0.00549737200000001</c:v>
                </c:pt>
                <c:pt idx="1">
                  <c:v>25.978024624</c:v>
                </c:pt>
                <c:pt idx="2">
                  <c:v>26.510364788</c:v>
                </c:pt>
                <c:pt idx="3">
                  <c:v>27.312077446</c:v>
                </c:pt>
                <c:pt idx="4">
                  <c:v>27.274512253</c:v>
                </c:pt>
                <c:pt idx="5">
                  <c:v>27.152196988</c:v>
                </c:pt>
                <c:pt idx="6">
                  <c:v>26.528724449</c:v>
                </c:pt>
                <c:pt idx="7">
                  <c:v>27.32604845</c:v>
                </c:pt>
                <c:pt idx="8">
                  <c:v>24.896615861</c:v>
                </c:pt>
                <c:pt idx="9">
                  <c:v>27.241774625</c:v>
                </c:pt>
                <c:pt idx="10">
                  <c:v>25.676817825</c:v>
                </c:pt>
                <c:pt idx="11">
                  <c:v>27.277543986</c:v>
                </c:pt>
                <c:pt idx="12">
                  <c:v>27.209209771</c:v>
                </c:pt>
                <c:pt idx="13">
                  <c:v>26.248336889</c:v>
                </c:pt>
                <c:pt idx="14">
                  <c:v>27.156891968</c:v>
                </c:pt>
                <c:pt idx="15">
                  <c:v>26.989631335</c:v>
                </c:pt>
                <c:pt idx="16">
                  <c:v>24.844707379</c:v>
                </c:pt>
                <c:pt idx="17">
                  <c:v>26.345468803</c:v>
                </c:pt>
                <c:pt idx="18">
                  <c:v>27.040840471</c:v>
                </c:pt>
                <c:pt idx="19">
                  <c:v>26.935566531</c:v>
                </c:pt>
                <c:pt idx="20">
                  <c:v>27.057984471</c:v>
                </c:pt>
                <c:pt idx="21">
                  <c:v>26.232553742</c:v>
                </c:pt>
                <c:pt idx="22">
                  <c:v>27.037395659</c:v>
                </c:pt>
                <c:pt idx="23">
                  <c:v>26.956555692</c:v>
                </c:pt>
                <c:pt idx="24">
                  <c:v>0.407786004</c:v>
                </c:pt>
                <c:pt idx="25">
                  <c:v>26.203754656</c:v>
                </c:pt>
                <c:pt idx="26">
                  <c:v>26.98082177</c:v>
                </c:pt>
                <c:pt idx="27">
                  <c:v>26.96460867</c:v>
                </c:pt>
                <c:pt idx="28">
                  <c:v>26.991393938</c:v>
                </c:pt>
                <c:pt idx="29">
                  <c:v>26.346706286</c:v>
                </c:pt>
                <c:pt idx="30">
                  <c:v>26.860293805</c:v>
                </c:pt>
                <c:pt idx="31">
                  <c:v>26.88466293</c:v>
                </c:pt>
                <c:pt idx="32">
                  <c:v>24.602706905</c:v>
                </c:pt>
                <c:pt idx="33">
                  <c:v>26.118777986</c:v>
                </c:pt>
                <c:pt idx="34">
                  <c:v>26.824235162</c:v>
                </c:pt>
                <c:pt idx="35">
                  <c:v>26.747942474</c:v>
                </c:pt>
                <c:pt idx="36">
                  <c:v>26.744662966</c:v>
                </c:pt>
                <c:pt idx="37">
                  <c:v>26.017530673</c:v>
                </c:pt>
                <c:pt idx="38">
                  <c:v>25.891856623</c:v>
                </c:pt>
                <c:pt idx="39">
                  <c:v>24.356533322</c:v>
                </c:pt>
                <c:pt idx="40">
                  <c:v>26.703555248</c:v>
                </c:pt>
                <c:pt idx="41">
                  <c:v>25.937524592</c:v>
                </c:pt>
                <c:pt idx="42">
                  <c:v>26.760430182</c:v>
                </c:pt>
                <c:pt idx="43">
                  <c:v>26.730279073</c:v>
                </c:pt>
                <c:pt idx="44">
                  <c:v>26.776216001</c:v>
                </c:pt>
                <c:pt idx="45">
                  <c:v>25.92365325</c:v>
                </c:pt>
                <c:pt idx="46">
                  <c:v>26.7761247</c:v>
                </c:pt>
                <c:pt idx="47">
                  <c:v>24.279269326</c:v>
                </c:pt>
                <c:pt idx="48">
                  <c:v>26.669817911</c:v>
                </c:pt>
                <c:pt idx="49">
                  <c:v>25.881445676</c:v>
                </c:pt>
                <c:pt idx="50">
                  <c:v>26.518153344</c:v>
                </c:pt>
                <c:pt idx="51">
                  <c:v>25.68513234</c:v>
                </c:pt>
                <c:pt idx="52">
                  <c:v>26.571003375</c:v>
                </c:pt>
                <c:pt idx="53">
                  <c:v>25.719707832</c:v>
                </c:pt>
                <c:pt idx="54">
                  <c:v>26.482560308</c:v>
                </c:pt>
                <c:pt idx="55">
                  <c:v>24.16875039</c:v>
                </c:pt>
                <c:pt idx="56">
                  <c:v>26.468456889</c:v>
                </c:pt>
                <c:pt idx="57">
                  <c:v>25.727207247</c:v>
                </c:pt>
                <c:pt idx="58">
                  <c:v>26.521735825</c:v>
                </c:pt>
                <c:pt idx="59">
                  <c:v>26.35033101</c:v>
                </c:pt>
                <c:pt idx="60">
                  <c:v>26.454546725</c:v>
                </c:pt>
                <c:pt idx="61">
                  <c:v>24.587531414</c:v>
                </c:pt>
                <c:pt idx="62">
                  <c:v>27.455025122</c:v>
                </c:pt>
                <c:pt idx="63">
                  <c:v>24.533529518</c:v>
                </c:pt>
                <c:pt idx="64">
                  <c:v>27.628025076</c:v>
                </c:pt>
                <c:pt idx="65">
                  <c:v>27.074496781</c:v>
                </c:pt>
                <c:pt idx="66">
                  <c:v>26.562914187</c:v>
                </c:pt>
                <c:pt idx="67">
                  <c:v>26.606023382</c:v>
                </c:pt>
                <c:pt idx="68">
                  <c:v>27.458961243</c:v>
                </c:pt>
                <c:pt idx="69">
                  <c:v>27.158112929</c:v>
                </c:pt>
                <c:pt idx="70">
                  <c:v>24.955322353</c:v>
                </c:pt>
                <c:pt idx="71">
                  <c:v>26.423480071</c:v>
                </c:pt>
                <c:pt idx="72">
                  <c:v>27.110108697</c:v>
                </c:pt>
                <c:pt idx="73">
                  <c:v>27.122843262</c:v>
                </c:pt>
                <c:pt idx="74">
                  <c:v>27.032369671</c:v>
                </c:pt>
                <c:pt idx="75">
                  <c:v>26.327891437</c:v>
                </c:pt>
                <c:pt idx="76">
                  <c:v>27.124248542</c:v>
                </c:pt>
                <c:pt idx="77">
                  <c:v>26.940464159</c:v>
                </c:pt>
                <c:pt idx="78">
                  <c:v>24.866657363</c:v>
                </c:pt>
                <c:pt idx="79">
                  <c:v>26.521287962</c:v>
                </c:pt>
                <c:pt idx="80">
                  <c:v>27.142248997</c:v>
                </c:pt>
                <c:pt idx="81">
                  <c:v>26.998168187</c:v>
                </c:pt>
                <c:pt idx="82">
                  <c:v>27.17408945</c:v>
                </c:pt>
                <c:pt idx="83">
                  <c:v>26.441897614</c:v>
                </c:pt>
                <c:pt idx="84">
                  <c:v>27.038512799</c:v>
                </c:pt>
                <c:pt idx="85">
                  <c:v>25.467221005</c:v>
                </c:pt>
                <c:pt idx="86">
                  <c:v>24.786441327</c:v>
                </c:pt>
                <c:pt idx="87">
                  <c:v>26.157058093</c:v>
                </c:pt>
                <c:pt idx="88">
                  <c:v>27.105897687</c:v>
                </c:pt>
                <c:pt idx="89">
                  <c:v>26.719455846</c:v>
                </c:pt>
                <c:pt idx="90">
                  <c:v>26.921253494</c:v>
                </c:pt>
                <c:pt idx="91">
                  <c:v>26.105927119</c:v>
                </c:pt>
                <c:pt idx="92">
                  <c:v>26.947027924</c:v>
                </c:pt>
                <c:pt idx="93">
                  <c:v>9.297167775</c:v>
                </c:pt>
                <c:pt idx="94">
                  <c:v>25.194640694</c:v>
                </c:pt>
                <c:pt idx="95">
                  <c:v>25.84796562</c:v>
                </c:pt>
                <c:pt idx="96">
                  <c:v>27.436128263</c:v>
                </c:pt>
                <c:pt idx="97">
                  <c:v>27.231288736</c:v>
                </c:pt>
                <c:pt idx="98">
                  <c:v>27.266651835</c:v>
                </c:pt>
                <c:pt idx="99">
                  <c:v>26.550969179</c:v>
                </c:pt>
                <c:pt idx="100">
                  <c:v>27.395353819</c:v>
                </c:pt>
                <c:pt idx="101">
                  <c:v>27.129871119</c:v>
                </c:pt>
                <c:pt idx="102">
                  <c:v>24.985415505</c:v>
                </c:pt>
                <c:pt idx="103">
                  <c:v>26.49462261</c:v>
                </c:pt>
                <c:pt idx="104">
                  <c:v>27.41572588</c:v>
                </c:pt>
                <c:pt idx="105">
                  <c:v>27.099910948</c:v>
                </c:pt>
                <c:pt idx="106">
                  <c:v>27.162622043</c:v>
                </c:pt>
                <c:pt idx="107">
                  <c:v>26.477559909</c:v>
                </c:pt>
                <c:pt idx="108">
                  <c:v>27.279060105</c:v>
                </c:pt>
                <c:pt idx="109">
                  <c:v>27.048850723</c:v>
                </c:pt>
                <c:pt idx="110">
                  <c:v>24.968891022</c:v>
                </c:pt>
                <c:pt idx="111">
                  <c:v>26.413703406</c:v>
                </c:pt>
                <c:pt idx="112">
                  <c:v>27.136527513</c:v>
                </c:pt>
                <c:pt idx="113">
                  <c:v>26.89783144</c:v>
                </c:pt>
                <c:pt idx="114">
                  <c:v>27.190178926</c:v>
                </c:pt>
                <c:pt idx="115">
                  <c:v>26.316421396</c:v>
                </c:pt>
                <c:pt idx="116">
                  <c:v>27.170516597</c:v>
                </c:pt>
                <c:pt idx="117">
                  <c:v>26.944346563</c:v>
                </c:pt>
                <c:pt idx="118">
                  <c:v>24.485870801</c:v>
                </c:pt>
                <c:pt idx="119">
                  <c:v>26.067017631</c:v>
                </c:pt>
                <c:pt idx="120">
                  <c:v>26.982305083</c:v>
                </c:pt>
                <c:pt idx="121">
                  <c:v>26.831292459</c:v>
                </c:pt>
                <c:pt idx="122">
                  <c:v>26.859099475</c:v>
                </c:pt>
                <c:pt idx="123">
                  <c:v>25.456901097</c:v>
                </c:pt>
                <c:pt idx="124">
                  <c:v>26.921253494</c:v>
                </c:pt>
                <c:pt idx="125">
                  <c:v>9.269905864</c:v>
                </c:pt>
                <c:pt idx="126">
                  <c:v>27.520935579</c:v>
                </c:pt>
                <c:pt idx="127">
                  <c:v>26.521646251</c:v>
                </c:pt>
                <c:pt idx="128">
                  <c:v>27.580574583</c:v>
                </c:pt>
                <c:pt idx="129">
                  <c:v>26.267565346</c:v>
                </c:pt>
                <c:pt idx="130">
                  <c:v>27.484044503</c:v>
                </c:pt>
                <c:pt idx="131">
                  <c:v>26.570194234</c:v>
                </c:pt>
                <c:pt idx="132">
                  <c:v>27.525276542</c:v>
                </c:pt>
                <c:pt idx="133">
                  <c:v>24.802725122</c:v>
                </c:pt>
                <c:pt idx="134">
                  <c:v>27.212038407</c:v>
                </c:pt>
                <c:pt idx="135">
                  <c:v>26.622891068</c:v>
                </c:pt>
                <c:pt idx="136">
                  <c:v>27.208832665</c:v>
                </c:pt>
                <c:pt idx="137">
                  <c:v>26.844500492</c:v>
                </c:pt>
                <c:pt idx="138">
                  <c:v>27.322055277</c:v>
                </c:pt>
                <c:pt idx="139">
                  <c:v>26.525229677</c:v>
                </c:pt>
                <c:pt idx="140">
                  <c:v>27.343651333</c:v>
                </c:pt>
                <c:pt idx="141">
                  <c:v>24.825071826</c:v>
                </c:pt>
                <c:pt idx="142">
                  <c:v>27.118440993</c:v>
                </c:pt>
                <c:pt idx="143">
                  <c:v>26.437179566</c:v>
                </c:pt>
                <c:pt idx="144">
                  <c:v>27.267314587</c:v>
                </c:pt>
                <c:pt idx="145">
                  <c:v>26.866358964</c:v>
                </c:pt>
                <c:pt idx="146">
                  <c:v>27.043075413</c:v>
                </c:pt>
                <c:pt idx="147">
                  <c:v>26.244301612</c:v>
                </c:pt>
                <c:pt idx="148">
                  <c:v>27.215527867</c:v>
                </c:pt>
                <c:pt idx="149">
                  <c:v>24.437256126</c:v>
                </c:pt>
                <c:pt idx="150">
                  <c:v>26.808026612</c:v>
                </c:pt>
                <c:pt idx="151">
                  <c:v>25.566053606</c:v>
                </c:pt>
                <c:pt idx="152">
                  <c:v>26.904650979</c:v>
                </c:pt>
                <c:pt idx="153">
                  <c:v>26.706370546</c:v>
                </c:pt>
                <c:pt idx="154">
                  <c:v>26.966275404</c:v>
                </c:pt>
                <c:pt idx="155">
                  <c:v>26.084334917</c:v>
                </c:pt>
                <c:pt idx="156">
                  <c:v>24.690427845</c:v>
                </c:pt>
                <c:pt idx="157">
                  <c:v>9.32265325700001</c:v>
                </c:pt>
                <c:pt idx="158">
                  <c:v>27.300778045</c:v>
                </c:pt>
                <c:pt idx="159">
                  <c:v>26.573071402</c:v>
                </c:pt>
                <c:pt idx="160">
                  <c:v>27.64027805</c:v>
                </c:pt>
                <c:pt idx="161">
                  <c:v>27.36108624</c:v>
                </c:pt>
                <c:pt idx="162">
                  <c:v>27.391627002</c:v>
                </c:pt>
                <c:pt idx="163">
                  <c:v>26.759244717</c:v>
                </c:pt>
                <c:pt idx="164">
                  <c:v>24.955798197</c:v>
                </c:pt>
                <c:pt idx="165">
                  <c:v>27.117879104</c:v>
                </c:pt>
                <c:pt idx="166">
                  <c:v>27.268640188</c:v>
                </c:pt>
                <c:pt idx="167">
                  <c:v>26.71900128</c:v>
                </c:pt>
                <c:pt idx="168">
                  <c:v>27.362707005</c:v>
                </c:pt>
                <c:pt idx="169">
                  <c:v>27.33908192</c:v>
                </c:pt>
                <c:pt idx="170">
                  <c:v>27.217225766</c:v>
                </c:pt>
                <c:pt idx="171">
                  <c:v>26.424369217</c:v>
                </c:pt>
                <c:pt idx="172">
                  <c:v>24.941293113</c:v>
                </c:pt>
                <c:pt idx="173">
                  <c:v>26.95229974</c:v>
                </c:pt>
                <c:pt idx="174">
                  <c:v>27.139997634</c:v>
                </c:pt>
                <c:pt idx="175">
                  <c:v>26.250091744</c:v>
                </c:pt>
                <c:pt idx="176">
                  <c:v>27.075243576</c:v>
                </c:pt>
                <c:pt idx="177">
                  <c:v>26.983603116</c:v>
                </c:pt>
                <c:pt idx="178">
                  <c:v>27.116849035</c:v>
                </c:pt>
                <c:pt idx="179">
                  <c:v>26.344938489</c:v>
                </c:pt>
                <c:pt idx="180">
                  <c:v>24.16354454</c:v>
                </c:pt>
                <c:pt idx="181">
                  <c:v>26.848814262</c:v>
                </c:pt>
                <c:pt idx="182">
                  <c:v>26.631197461</c:v>
                </c:pt>
                <c:pt idx="183">
                  <c:v>26.158190803</c:v>
                </c:pt>
                <c:pt idx="184">
                  <c:v>27.027996721</c:v>
                </c:pt>
                <c:pt idx="185">
                  <c:v>25.169284305</c:v>
                </c:pt>
                <c:pt idx="186">
                  <c:v>26.847988113</c:v>
                </c:pt>
                <c:pt idx="187">
                  <c:v>26.086154567</c:v>
                </c:pt>
                <c:pt idx="188">
                  <c:v>24.760103784</c:v>
                </c:pt>
                <c:pt idx="189">
                  <c:v>9.844919783</c:v>
                </c:pt>
                <c:pt idx="190">
                  <c:v>27.468566275</c:v>
                </c:pt>
                <c:pt idx="191">
                  <c:v>26.721183336</c:v>
                </c:pt>
                <c:pt idx="192">
                  <c:v>27.500214305</c:v>
                </c:pt>
                <c:pt idx="193">
                  <c:v>27.428078628</c:v>
                </c:pt>
                <c:pt idx="194">
                  <c:v>27.497999458</c:v>
                </c:pt>
                <c:pt idx="195">
                  <c:v>26.687945662</c:v>
                </c:pt>
                <c:pt idx="196">
                  <c:v>25.263944031</c:v>
                </c:pt>
                <c:pt idx="197">
                  <c:v>27.066378043</c:v>
                </c:pt>
                <c:pt idx="198">
                  <c:v>27.431144598</c:v>
                </c:pt>
                <c:pt idx="199">
                  <c:v>26.71372945</c:v>
                </c:pt>
                <c:pt idx="200">
                  <c:v>27.316542812</c:v>
                </c:pt>
                <c:pt idx="201">
                  <c:v>27.053882842</c:v>
                </c:pt>
                <c:pt idx="202">
                  <c:v>27.403288626</c:v>
                </c:pt>
                <c:pt idx="203">
                  <c:v>26.600796036</c:v>
                </c:pt>
                <c:pt idx="204">
                  <c:v>24.988913872</c:v>
                </c:pt>
                <c:pt idx="205">
                  <c:v>27.070856745</c:v>
                </c:pt>
                <c:pt idx="206">
                  <c:v>27.190837966</c:v>
                </c:pt>
                <c:pt idx="207">
                  <c:v>26.371834622</c:v>
                </c:pt>
                <c:pt idx="208">
                  <c:v>26.38246664</c:v>
                </c:pt>
                <c:pt idx="209">
                  <c:v>26.835326868</c:v>
                </c:pt>
                <c:pt idx="210">
                  <c:v>27.025299223</c:v>
                </c:pt>
                <c:pt idx="211">
                  <c:v>24.215629495</c:v>
                </c:pt>
                <c:pt idx="212">
                  <c:v>26.99000239</c:v>
                </c:pt>
                <c:pt idx="213">
                  <c:v>26.754959678</c:v>
                </c:pt>
                <c:pt idx="214">
                  <c:v>27.165441</c:v>
                </c:pt>
                <c:pt idx="215">
                  <c:v>26.291310475</c:v>
                </c:pt>
                <c:pt idx="216">
                  <c:v>27.116849035</c:v>
                </c:pt>
                <c:pt idx="217">
                  <c:v>26.810955521</c:v>
                </c:pt>
                <c:pt idx="218">
                  <c:v>27.087478209</c:v>
                </c:pt>
                <c:pt idx="219">
                  <c:v>24.008698802</c:v>
                </c:pt>
                <c:pt idx="220">
                  <c:v>26.842665265</c:v>
                </c:pt>
                <c:pt idx="221">
                  <c:v>11.039472645</c:v>
                </c:pt>
                <c:pt idx="222">
                  <c:v>27.631913732</c:v>
                </c:pt>
                <c:pt idx="223">
                  <c:v>26.594940243</c:v>
                </c:pt>
                <c:pt idx="224">
                  <c:v>27.65468432</c:v>
                </c:pt>
                <c:pt idx="225">
                  <c:v>27.218829532</c:v>
                </c:pt>
                <c:pt idx="226">
                  <c:v>27.472602393</c:v>
                </c:pt>
                <c:pt idx="227">
                  <c:v>24.520046948</c:v>
                </c:pt>
                <c:pt idx="228">
                  <c:v>27.339748198</c:v>
                </c:pt>
                <c:pt idx="229">
                  <c:v>27.130152309</c:v>
                </c:pt>
                <c:pt idx="230">
                  <c:v>27.505030421</c:v>
                </c:pt>
                <c:pt idx="231">
                  <c:v>26.580986827</c:v>
                </c:pt>
                <c:pt idx="232">
                  <c:v>27.448115638</c:v>
                </c:pt>
                <c:pt idx="233">
                  <c:v>27.138684511</c:v>
                </c:pt>
                <c:pt idx="234">
                  <c:v>27.366044479</c:v>
                </c:pt>
                <c:pt idx="235">
                  <c:v>24.296697407</c:v>
                </c:pt>
                <c:pt idx="236">
                  <c:v>26.411304785</c:v>
                </c:pt>
                <c:pt idx="237">
                  <c:v>26.935936101</c:v>
                </c:pt>
                <c:pt idx="238">
                  <c:v>27.111980677</c:v>
                </c:pt>
                <c:pt idx="239">
                  <c:v>26.293071081</c:v>
                </c:pt>
                <c:pt idx="240">
                  <c:v>27.210812593</c:v>
                </c:pt>
                <c:pt idx="241">
                  <c:v>26.790192397</c:v>
                </c:pt>
                <c:pt idx="242">
                  <c:v>27.074776824</c:v>
                </c:pt>
                <c:pt idx="243">
                  <c:v>24.121089202</c:v>
                </c:pt>
                <c:pt idx="244">
                  <c:v>26.971091571</c:v>
                </c:pt>
                <c:pt idx="245">
                  <c:v>26.884386806</c:v>
                </c:pt>
                <c:pt idx="246">
                  <c:v>27.151727579</c:v>
                </c:pt>
                <c:pt idx="247">
                  <c:v>26.115129833</c:v>
                </c:pt>
                <c:pt idx="248">
                  <c:v>27.003367177</c:v>
                </c:pt>
                <c:pt idx="249">
                  <c:v>26.805555843</c:v>
                </c:pt>
                <c:pt idx="250">
                  <c:v>26.994827037</c:v>
                </c:pt>
                <c:pt idx="251">
                  <c:v>24.120051956</c:v>
                </c:pt>
                <c:pt idx="252">
                  <c:v>27.010147439</c:v>
                </c:pt>
                <c:pt idx="253">
                  <c:v>9.705418176</c:v>
                </c:pt>
                <c:pt idx="254">
                  <c:v>27.487892731</c:v>
                </c:pt>
                <c:pt idx="255">
                  <c:v>26.789004293</c:v>
                </c:pt>
                <c:pt idx="256">
                  <c:v>27.604716106</c:v>
                </c:pt>
                <c:pt idx="257">
                  <c:v>26.998353831</c:v>
                </c:pt>
                <c:pt idx="258">
                  <c:v>27.512546931</c:v>
                </c:pt>
                <c:pt idx="259">
                  <c:v>24.332156487</c:v>
                </c:pt>
                <c:pt idx="260">
                  <c:v>27.243570317</c:v>
                </c:pt>
                <c:pt idx="261">
                  <c:v>27.27214418</c:v>
                </c:pt>
                <c:pt idx="262">
                  <c:v>27.407975189</c:v>
                </c:pt>
                <c:pt idx="263">
                  <c:v>26.536882499</c:v>
                </c:pt>
                <c:pt idx="264">
                  <c:v>27.404531844</c:v>
                </c:pt>
                <c:pt idx="265">
                  <c:v>26.20156886</c:v>
                </c:pt>
                <c:pt idx="266">
                  <c:v>25.006738939</c:v>
                </c:pt>
                <c:pt idx="267">
                  <c:v>26.426681279</c:v>
                </c:pt>
                <c:pt idx="268">
                  <c:v>27.326238631</c:v>
                </c:pt>
                <c:pt idx="269">
                  <c:v>26.951097214</c:v>
                </c:pt>
                <c:pt idx="270">
                  <c:v>27.056306382</c:v>
                </c:pt>
                <c:pt idx="271">
                  <c:v>26.501418074</c:v>
                </c:pt>
                <c:pt idx="272">
                  <c:v>27.124810695</c:v>
                </c:pt>
                <c:pt idx="273">
                  <c:v>26.926053591</c:v>
                </c:pt>
                <c:pt idx="274">
                  <c:v>24.678323325</c:v>
                </c:pt>
                <c:pt idx="275">
                  <c:v>26.154357411</c:v>
                </c:pt>
                <c:pt idx="276">
                  <c:v>27.191214574</c:v>
                </c:pt>
                <c:pt idx="277">
                  <c:v>26.957295995</c:v>
                </c:pt>
                <c:pt idx="278">
                  <c:v>26.923007177</c:v>
                </c:pt>
                <c:pt idx="279">
                  <c:v>26.264666105</c:v>
                </c:pt>
                <c:pt idx="280">
                  <c:v>27.135683564</c:v>
                </c:pt>
                <c:pt idx="281">
                  <c:v>26.788638743</c:v>
                </c:pt>
                <c:pt idx="282">
                  <c:v>24.712883649</c:v>
                </c:pt>
                <c:pt idx="283">
                  <c:v>26.107923384</c:v>
                </c:pt>
                <c:pt idx="284">
                  <c:v>26.563363457</c:v>
                </c:pt>
                <c:pt idx="285">
                  <c:v>9.93245907000001</c:v>
                </c:pt>
                <c:pt idx="286">
                  <c:v>27.455121111</c:v>
                </c:pt>
                <c:pt idx="287">
                  <c:v>26.897186527</c:v>
                </c:pt>
                <c:pt idx="288">
                  <c:v>27.32614354</c:v>
                </c:pt>
                <c:pt idx="289">
                  <c:v>26.919130919</c:v>
                </c:pt>
                <c:pt idx="290">
                  <c:v>24.931949046</c:v>
                </c:pt>
                <c:pt idx="291">
                  <c:v>26.522631597</c:v>
                </c:pt>
                <c:pt idx="292">
                  <c:v>27.328140579</c:v>
                </c:pt>
                <c:pt idx="293">
                  <c:v>26.310601968</c:v>
                </c:pt>
                <c:pt idx="294">
                  <c:v>27.301917057</c:v>
                </c:pt>
                <c:pt idx="295">
                  <c:v>26.607555925</c:v>
                </c:pt>
                <c:pt idx="296">
                  <c:v>27.39019388</c:v>
                </c:pt>
                <c:pt idx="297">
                  <c:v>27.141404692</c:v>
                </c:pt>
                <c:pt idx="298">
                  <c:v>25.000927084</c:v>
                </c:pt>
                <c:pt idx="299">
                  <c:v>26.456953207</c:v>
                </c:pt>
                <c:pt idx="300">
                  <c:v>27.196017245</c:v>
                </c:pt>
                <c:pt idx="301">
                  <c:v>26.95581543</c:v>
                </c:pt>
                <c:pt idx="302">
                  <c:v>27.131745829</c:v>
                </c:pt>
                <c:pt idx="303">
                  <c:v>26.307164425</c:v>
                </c:pt>
                <c:pt idx="304">
                  <c:v>27.113478447</c:v>
                </c:pt>
                <c:pt idx="305">
                  <c:v>26.726094265</c:v>
                </c:pt>
                <c:pt idx="306">
                  <c:v>23.985598989</c:v>
                </c:pt>
                <c:pt idx="307">
                  <c:v>26.116432628</c:v>
                </c:pt>
                <c:pt idx="308">
                  <c:v>27.035906283</c:v>
                </c:pt>
                <c:pt idx="309">
                  <c:v>26.791014992</c:v>
                </c:pt>
                <c:pt idx="310">
                  <c:v>26.806287875</c:v>
                </c:pt>
                <c:pt idx="311">
                  <c:v>26.184357541</c:v>
                </c:pt>
                <c:pt idx="312">
                  <c:v>26.916824153</c:v>
                </c:pt>
                <c:pt idx="313">
                  <c:v>24.564995356</c:v>
                </c:pt>
                <c:pt idx="314">
                  <c:v>26.862499</c:v>
                </c:pt>
                <c:pt idx="315">
                  <c:v>26.103063448</c:v>
                </c:pt>
                <c:pt idx="316">
                  <c:v>27.027438574</c:v>
                </c:pt>
                <c:pt idx="317">
                  <c:v>9.728166274</c:v>
                </c:pt>
                <c:pt idx="318">
                  <c:v>27.575054149</c:v>
                </c:pt>
                <c:pt idx="319">
                  <c:v>26.69647422</c:v>
                </c:pt>
                <c:pt idx="320">
                  <c:v>27.700631408</c:v>
                </c:pt>
                <c:pt idx="321">
                  <c:v>24.205851133</c:v>
                </c:pt>
                <c:pt idx="322">
                  <c:v>27.235160962</c:v>
                </c:pt>
                <c:pt idx="323">
                  <c:v>26.581616665</c:v>
                </c:pt>
                <c:pt idx="324">
                  <c:v>27.388569858</c:v>
                </c:pt>
                <c:pt idx="325">
                  <c:v>27.242530677</c:v>
                </c:pt>
                <c:pt idx="326">
                  <c:v>27.498866095</c:v>
                </c:pt>
                <c:pt idx="327">
                  <c:v>26.431217651</c:v>
                </c:pt>
                <c:pt idx="328">
                  <c:v>27.435361428</c:v>
                </c:pt>
                <c:pt idx="329">
                  <c:v>24.848874107</c:v>
                </c:pt>
                <c:pt idx="330">
                  <c:v>27.282282418</c:v>
                </c:pt>
                <c:pt idx="331">
                  <c:v>26.479791996</c:v>
                </c:pt>
                <c:pt idx="332">
                  <c:v>27.299923849</c:v>
                </c:pt>
                <c:pt idx="333">
                  <c:v>26.138339032</c:v>
                </c:pt>
                <c:pt idx="334">
                  <c:v>27.143937765</c:v>
                </c:pt>
                <c:pt idx="335">
                  <c:v>26.4013596</c:v>
                </c:pt>
                <c:pt idx="336">
                  <c:v>24.90917256</c:v>
                </c:pt>
                <c:pt idx="337">
                  <c:v>26.978689793</c:v>
                </c:pt>
                <c:pt idx="338">
                  <c:v>27.161024894</c:v>
                </c:pt>
                <c:pt idx="339">
                  <c:v>26.421879758</c:v>
                </c:pt>
                <c:pt idx="340">
                  <c:v>27.152384756</c:v>
                </c:pt>
                <c:pt idx="341">
                  <c:v>26.993713504</c:v>
                </c:pt>
                <c:pt idx="342">
                  <c:v>26.748489137</c:v>
                </c:pt>
                <c:pt idx="343">
                  <c:v>26.296945245</c:v>
                </c:pt>
                <c:pt idx="344">
                  <c:v>24.801941757</c:v>
                </c:pt>
                <c:pt idx="345">
                  <c:v>26.588816941</c:v>
                </c:pt>
                <c:pt idx="346">
                  <c:v>26.853129419</c:v>
                </c:pt>
                <c:pt idx="347">
                  <c:v>26.003745866</c:v>
                </c:pt>
                <c:pt idx="348">
                  <c:v>27.02688045</c:v>
                </c:pt>
                <c:pt idx="349">
                  <c:v>9.374012127</c:v>
                </c:pt>
                <c:pt idx="350">
                  <c:v>26.591247914</c:v>
                </c:pt>
                <c:pt idx="351">
                  <c:v>26.827259263</c:v>
                </c:pt>
                <c:pt idx="352">
                  <c:v>25.122742367</c:v>
                </c:pt>
                <c:pt idx="353">
                  <c:v>27.247446037</c:v>
                </c:pt>
                <c:pt idx="354">
                  <c:v>27.548644783</c:v>
                </c:pt>
                <c:pt idx="355">
                  <c:v>26.679513193</c:v>
                </c:pt>
                <c:pt idx="356">
                  <c:v>27.274606984</c:v>
                </c:pt>
                <c:pt idx="357">
                  <c:v>27.081873188</c:v>
                </c:pt>
                <c:pt idx="358">
                  <c:v>27.199502597</c:v>
                </c:pt>
                <c:pt idx="359">
                  <c:v>26.646921558</c:v>
                </c:pt>
                <c:pt idx="360">
                  <c:v>24.980646583</c:v>
                </c:pt>
                <c:pt idx="361">
                  <c:v>27.070110191</c:v>
                </c:pt>
                <c:pt idx="362">
                  <c:v>27.306663961</c:v>
                </c:pt>
                <c:pt idx="363">
                  <c:v>26.467564773</c:v>
                </c:pt>
                <c:pt idx="364">
                  <c:v>27.26012072</c:v>
                </c:pt>
                <c:pt idx="365">
                  <c:v>27.050900619</c:v>
                </c:pt>
                <c:pt idx="366">
                  <c:v>27.220810915</c:v>
                </c:pt>
                <c:pt idx="367">
                  <c:v>26.464175281</c:v>
                </c:pt>
                <c:pt idx="368">
                  <c:v>24.926646633</c:v>
                </c:pt>
                <c:pt idx="369">
                  <c:v>26.864061233</c:v>
                </c:pt>
                <c:pt idx="370">
                  <c:v>27.077857683</c:v>
                </c:pt>
                <c:pt idx="371">
                  <c:v>26.313864058</c:v>
                </c:pt>
                <c:pt idx="372">
                  <c:v>27.177004843</c:v>
                </c:pt>
                <c:pt idx="373">
                  <c:v>26.876105712</c:v>
                </c:pt>
                <c:pt idx="374">
                  <c:v>26.975538791</c:v>
                </c:pt>
                <c:pt idx="375">
                  <c:v>26.277673766</c:v>
                </c:pt>
                <c:pt idx="376">
                  <c:v>24.73483495</c:v>
                </c:pt>
                <c:pt idx="377">
                  <c:v>26.631107146</c:v>
                </c:pt>
                <c:pt idx="378">
                  <c:v>26.113132466</c:v>
                </c:pt>
                <c:pt idx="379">
                  <c:v>26.202443135</c:v>
                </c:pt>
                <c:pt idx="380">
                  <c:v>27.014142885</c:v>
                </c:pt>
                <c:pt idx="381">
                  <c:v>3.804136097</c:v>
                </c:pt>
                <c:pt idx="382">
                  <c:v>27.469238879</c:v>
                </c:pt>
                <c:pt idx="383">
                  <c:v>24.493737392</c:v>
                </c:pt>
                <c:pt idx="384">
                  <c:v>27.423959808</c:v>
                </c:pt>
                <c:pt idx="385">
                  <c:v>27.277070233</c:v>
                </c:pt>
                <c:pt idx="386">
                  <c:v>27.394971534</c:v>
                </c:pt>
                <c:pt idx="387">
                  <c:v>26.696837258</c:v>
                </c:pt>
                <c:pt idx="388">
                  <c:v>27.510137346</c:v>
                </c:pt>
                <c:pt idx="389">
                  <c:v>26.99250728</c:v>
                </c:pt>
                <c:pt idx="390">
                  <c:v>27.343746545</c:v>
                </c:pt>
                <c:pt idx="391">
                  <c:v>24.419625889</c:v>
                </c:pt>
                <c:pt idx="392">
                  <c:v>27.240924117</c:v>
                </c:pt>
                <c:pt idx="393">
                  <c:v>27.011726893</c:v>
                </c:pt>
                <c:pt idx="394">
                  <c:v>27.247918761</c:v>
                </c:pt>
                <c:pt idx="395">
                  <c:v>26.328774162</c:v>
                </c:pt>
                <c:pt idx="396">
                  <c:v>27.167978561</c:v>
                </c:pt>
                <c:pt idx="397">
                  <c:v>26.980450967</c:v>
                </c:pt>
                <c:pt idx="398">
                  <c:v>27.226379203</c:v>
                </c:pt>
                <c:pt idx="399">
                  <c:v>24.14935141</c:v>
                </c:pt>
                <c:pt idx="400">
                  <c:v>27.034603213</c:v>
                </c:pt>
                <c:pt idx="401">
                  <c:v>26.949154899</c:v>
                </c:pt>
                <c:pt idx="402">
                  <c:v>27.220150422</c:v>
                </c:pt>
                <c:pt idx="403">
                  <c:v>26.34228724</c:v>
                </c:pt>
                <c:pt idx="404">
                  <c:v>27.006710442</c:v>
                </c:pt>
                <c:pt idx="405">
                  <c:v>26.44563764</c:v>
                </c:pt>
                <c:pt idx="406">
                  <c:v>26.300468204</c:v>
                </c:pt>
                <c:pt idx="407">
                  <c:v>24.056284909</c:v>
                </c:pt>
                <c:pt idx="408">
                  <c:v>27.02557825</c:v>
                </c:pt>
                <c:pt idx="409">
                  <c:v>26.687764262</c:v>
                </c:pt>
                <c:pt idx="410">
                  <c:v>26.99120839</c:v>
                </c:pt>
                <c:pt idx="411">
                  <c:v>26.203055162</c:v>
                </c:pt>
                <c:pt idx="412">
                  <c:v>27.075243576</c:v>
                </c:pt>
                <c:pt idx="413">
                  <c:v>4.082809571</c:v>
                </c:pt>
                <c:pt idx="414">
                  <c:v>27.640861796</c:v>
                </c:pt>
                <c:pt idx="415">
                  <c:v>24.61774679</c:v>
                </c:pt>
                <c:pt idx="416">
                  <c:v>27.567019572</c:v>
                </c:pt>
                <c:pt idx="417">
                  <c:v>27.208078482</c:v>
                </c:pt>
                <c:pt idx="418">
                  <c:v>27.492800785</c:v>
                </c:pt>
                <c:pt idx="419">
                  <c:v>26.68431814</c:v>
                </c:pt>
                <c:pt idx="420">
                  <c:v>27.562375206</c:v>
                </c:pt>
                <c:pt idx="421">
                  <c:v>27.200915832</c:v>
                </c:pt>
                <c:pt idx="422">
                  <c:v>27.559279832</c:v>
                </c:pt>
                <c:pt idx="423">
                  <c:v>24.442048043</c:v>
                </c:pt>
                <c:pt idx="424">
                  <c:v>27.492319525</c:v>
                </c:pt>
                <c:pt idx="425">
                  <c:v>27.093272502</c:v>
                </c:pt>
                <c:pt idx="426">
                  <c:v>27.390480493</c:v>
                </c:pt>
                <c:pt idx="427">
                  <c:v>26.473900099</c:v>
                </c:pt>
                <c:pt idx="428">
                  <c:v>27.315022524</c:v>
                </c:pt>
                <c:pt idx="429">
                  <c:v>26.836977657</c:v>
                </c:pt>
                <c:pt idx="430">
                  <c:v>27.29451518</c:v>
                </c:pt>
                <c:pt idx="431">
                  <c:v>24.23206896</c:v>
                </c:pt>
                <c:pt idx="432">
                  <c:v>27.070483463</c:v>
                </c:pt>
                <c:pt idx="433">
                  <c:v>26.948230086</c:v>
                </c:pt>
                <c:pt idx="434">
                  <c:v>27.214490367</c:v>
                </c:pt>
                <c:pt idx="435">
                  <c:v>25.39868877</c:v>
                </c:pt>
                <c:pt idx="436">
                  <c:v>27.177192954</c:v>
                </c:pt>
                <c:pt idx="437">
                  <c:v>26.865991301</c:v>
                </c:pt>
                <c:pt idx="438">
                  <c:v>24.834650097</c:v>
                </c:pt>
                <c:pt idx="439">
                  <c:v>26.40952831</c:v>
                </c:pt>
                <c:pt idx="440">
                  <c:v>26.915809301</c:v>
                </c:pt>
                <c:pt idx="441">
                  <c:v>26.75568895</c:v>
                </c:pt>
                <c:pt idx="442">
                  <c:v>26.973314998</c:v>
                </c:pt>
                <c:pt idx="443">
                  <c:v>26.155925481</c:v>
                </c:pt>
                <c:pt idx="444">
                  <c:v>26.802536633</c:v>
                </c:pt>
                <c:pt idx="445">
                  <c:v>10.358245379</c:v>
                </c:pt>
                <c:pt idx="446">
                  <c:v>25.112940627</c:v>
                </c:pt>
                <c:pt idx="447">
                  <c:v>26.662845292</c:v>
                </c:pt>
                <c:pt idx="448">
                  <c:v>27.597246142</c:v>
                </c:pt>
                <c:pt idx="449">
                  <c:v>27.341366436</c:v>
                </c:pt>
                <c:pt idx="450">
                  <c:v>27.364709392</c:v>
                </c:pt>
                <c:pt idx="451">
                  <c:v>26.818463771</c:v>
                </c:pt>
                <c:pt idx="452">
                  <c:v>27.646603279</c:v>
                </c:pt>
                <c:pt idx="453">
                  <c:v>27.265989116</c:v>
                </c:pt>
                <c:pt idx="454">
                  <c:v>25.09496389</c:v>
                </c:pt>
                <c:pt idx="455">
                  <c:v>26.677337938</c:v>
                </c:pt>
                <c:pt idx="456">
                  <c:v>27.298215616</c:v>
                </c:pt>
                <c:pt idx="457">
                  <c:v>27.047825891</c:v>
                </c:pt>
                <c:pt idx="458">
                  <c:v>27.229872343</c:v>
                </c:pt>
                <c:pt idx="459">
                  <c:v>26.565789778</c:v>
                </c:pt>
                <c:pt idx="460">
                  <c:v>27.206287466</c:v>
                </c:pt>
                <c:pt idx="461">
                  <c:v>26.753683549</c:v>
                </c:pt>
                <c:pt idx="462">
                  <c:v>24.858864221</c:v>
                </c:pt>
                <c:pt idx="463">
                  <c:v>25.397785165</c:v>
                </c:pt>
                <c:pt idx="464">
                  <c:v>27.214490367</c:v>
                </c:pt>
                <c:pt idx="465">
                  <c:v>26.898199975</c:v>
                </c:pt>
                <c:pt idx="466">
                  <c:v>27.04372734</c:v>
                </c:pt>
                <c:pt idx="467">
                  <c:v>26.349977335</c:v>
                </c:pt>
                <c:pt idx="468">
                  <c:v>26.876657626</c:v>
                </c:pt>
                <c:pt idx="469">
                  <c:v>26.857905251</c:v>
                </c:pt>
                <c:pt idx="470">
                  <c:v>24.846043724</c:v>
                </c:pt>
                <c:pt idx="471">
                  <c:v>26.108965034</c:v>
                </c:pt>
                <c:pt idx="472">
                  <c:v>27.090468503</c:v>
                </c:pt>
                <c:pt idx="473">
                  <c:v>26.799335183</c:v>
                </c:pt>
                <c:pt idx="474">
                  <c:v>26.882546122</c:v>
                </c:pt>
                <c:pt idx="475">
                  <c:v>26.123469966</c:v>
                </c:pt>
                <c:pt idx="476">
                  <c:v>26.954612591</c:v>
                </c:pt>
                <c:pt idx="477">
                  <c:v>9.16359320300001</c:v>
                </c:pt>
                <c:pt idx="478">
                  <c:v>25.082860158</c:v>
                </c:pt>
                <c:pt idx="479">
                  <c:v>26.316421396</c:v>
                </c:pt>
                <c:pt idx="480">
                  <c:v>27.601417182</c:v>
                </c:pt>
                <c:pt idx="481">
                  <c:v>27.160743064</c:v>
                </c:pt>
                <c:pt idx="482">
                  <c:v>27.381120928</c:v>
                </c:pt>
                <c:pt idx="483">
                  <c:v>26.595840966</c:v>
                </c:pt>
                <c:pt idx="484">
                  <c:v>27.466932946</c:v>
                </c:pt>
                <c:pt idx="485">
                  <c:v>27.269871218</c:v>
                </c:pt>
                <c:pt idx="486">
                  <c:v>25.16557396</c:v>
                </c:pt>
                <c:pt idx="487">
                  <c:v>26.332305654</c:v>
                </c:pt>
                <c:pt idx="488">
                  <c:v>27.381025455</c:v>
                </c:pt>
                <c:pt idx="489">
                  <c:v>27.124998084</c:v>
                </c:pt>
                <c:pt idx="490">
                  <c:v>27.266935868</c:v>
                </c:pt>
                <c:pt idx="491">
                  <c:v>25.679000913</c:v>
                </c:pt>
                <c:pt idx="492">
                  <c:v>27.321199748</c:v>
                </c:pt>
                <c:pt idx="493">
                  <c:v>24.610263114</c:v>
                </c:pt>
                <c:pt idx="494">
                  <c:v>26.981377993</c:v>
                </c:pt>
                <c:pt idx="495">
                  <c:v>26.480327754</c:v>
                </c:pt>
                <c:pt idx="496">
                  <c:v>27.263622523</c:v>
                </c:pt>
                <c:pt idx="497">
                  <c:v>26.814068187</c:v>
                </c:pt>
                <c:pt idx="498">
                  <c:v>27.090935796</c:v>
                </c:pt>
                <c:pt idx="499">
                  <c:v>26.284710301</c:v>
                </c:pt>
                <c:pt idx="500">
                  <c:v>27.18584889</c:v>
                </c:pt>
                <c:pt idx="501">
                  <c:v>24.636669141</c:v>
                </c:pt>
                <c:pt idx="502">
                  <c:v>26.995105434</c:v>
                </c:pt>
                <c:pt idx="503">
                  <c:v>26.191344182</c:v>
                </c:pt>
                <c:pt idx="504">
                  <c:v>27.067590879</c:v>
                </c:pt>
                <c:pt idx="505">
                  <c:v>26.744298625</c:v>
                </c:pt>
                <c:pt idx="506">
                  <c:v>26.514750883</c:v>
                </c:pt>
                <c:pt idx="507">
                  <c:v>26.072470095</c:v>
                </c:pt>
                <c:pt idx="508">
                  <c:v>26.9278079</c:v>
                </c:pt>
                <c:pt idx="509">
                  <c:v>9.223533524</c:v>
                </c:pt>
                <c:pt idx="510">
                  <c:v>27.438908401</c:v>
                </c:pt>
                <c:pt idx="511">
                  <c:v>26.703192027</c:v>
                </c:pt>
                <c:pt idx="512">
                  <c:v>27.430665495</c:v>
                </c:pt>
                <c:pt idx="513">
                  <c:v>26.85698669</c:v>
                </c:pt>
                <c:pt idx="514">
                  <c:v>27.419746483</c:v>
                </c:pt>
                <c:pt idx="515">
                  <c:v>26.667100873</c:v>
                </c:pt>
                <c:pt idx="516">
                  <c:v>27.290720902</c:v>
                </c:pt>
                <c:pt idx="517">
                  <c:v>24.759245045</c:v>
                </c:pt>
                <c:pt idx="518">
                  <c:v>27.143843939</c:v>
                </c:pt>
                <c:pt idx="519">
                  <c:v>26.328597613</c:v>
                </c:pt>
                <c:pt idx="520">
                  <c:v>26.51188633</c:v>
                </c:pt>
                <c:pt idx="521">
                  <c:v>26.923007177</c:v>
                </c:pt>
                <c:pt idx="522">
                  <c:v>27.174559633</c:v>
                </c:pt>
                <c:pt idx="523">
                  <c:v>26.56084774</c:v>
                </c:pt>
                <c:pt idx="524">
                  <c:v>27.292712766</c:v>
                </c:pt>
                <c:pt idx="525">
                  <c:v>24.673748426</c:v>
                </c:pt>
                <c:pt idx="526">
                  <c:v>26.866726638</c:v>
                </c:pt>
                <c:pt idx="527">
                  <c:v>26.312541492</c:v>
                </c:pt>
                <c:pt idx="528">
                  <c:v>27.199314177</c:v>
                </c:pt>
                <c:pt idx="529">
                  <c:v>26.842206498</c:v>
                </c:pt>
                <c:pt idx="530">
                  <c:v>27.09747959</c:v>
                </c:pt>
                <c:pt idx="531">
                  <c:v>26.249916248</c:v>
                </c:pt>
                <c:pt idx="532">
                  <c:v>27.193945296</c:v>
                </c:pt>
                <c:pt idx="533">
                  <c:v>24.669562717</c:v>
                </c:pt>
                <c:pt idx="534">
                  <c:v>26.997611271</c:v>
                </c:pt>
                <c:pt idx="535">
                  <c:v>26.304256437</c:v>
                </c:pt>
                <c:pt idx="536">
                  <c:v>27.09645107</c:v>
                </c:pt>
                <c:pt idx="537">
                  <c:v>25.867634235</c:v>
                </c:pt>
                <c:pt idx="538">
                  <c:v>26.659496109</c:v>
                </c:pt>
                <c:pt idx="539">
                  <c:v>26.090141354</c:v>
                </c:pt>
                <c:pt idx="540">
                  <c:v>24.59654201</c:v>
                </c:pt>
                <c:pt idx="541">
                  <c:v>9.904984688</c:v>
                </c:pt>
                <c:pt idx="542">
                  <c:v>27.505704812</c:v>
                </c:pt>
                <c:pt idx="543">
                  <c:v>26.600255393</c:v>
                </c:pt>
                <c:pt idx="544">
                  <c:v>27.491838283</c:v>
                </c:pt>
                <c:pt idx="545">
                  <c:v>27.386468467</c:v>
                </c:pt>
                <c:pt idx="546">
                  <c:v>27.356415698</c:v>
                </c:pt>
                <c:pt idx="547">
                  <c:v>26.768548885</c:v>
                </c:pt>
                <c:pt idx="548">
                  <c:v>24.437408222</c:v>
                </c:pt>
                <c:pt idx="549">
                  <c:v>27.273375527</c:v>
                </c:pt>
                <c:pt idx="550">
                  <c:v>27.321770095</c:v>
                </c:pt>
                <c:pt idx="551">
                  <c:v>26.647464099</c:v>
                </c:pt>
                <c:pt idx="552">
                  <c:v>27.368715044</c:v>
                </c:pt>
                <c:pt idx="553">
                  <c:v>27.218640844</c:v>
                </c:pt>
                <c:pt idx="554">
                  <c:v>27.363565135</c:v>
                </c:pt>
                <c:pt idx="555">
                  <c:v>26.455883605</c:v>
                </c:pt>
                <c:pt idx="556">
                  <c:v>25.004987137</c:v>
                </c:pt>
                <c:pt idx="557">
                  <c:v>26.960812989</c:v>
                </c:pt>
                <c:pt idx="558">
                  <c:v>27.121344457</c:v>
                </c:pt>
                <c:pt idx="559">
                  <c:v>26.434242764</c:v>
                </c:pt>
                <c:pt idx="560">
                  <c:v>27.210341155</c:v>
                </c:pt>
                <c:pt idx="561">
                  <c:v>26.157232349</c:v>
                </c:pt>
                <c:pt idx="562">
                  <c:v>27.027531597</c:v>
                </c:pt>
                <c:pt idx="563">
                  <c:v>24.262315996</c:v>
                </c:pt>
                <c:pt idx="564">
                  <c:v>27.222415104</c:v>
                </c:pt>
                <c:pt idx="565">
                  <c:v>26.864612653</c:v>
                </c:pt>
                <c:pt idx="566">
                  <c:v>27.122936942</c:v>
                </c:pt>
                <c:pt idx="567">
                  <c:v>26.173710088</c:v>
                </c:pt>
                <c:pt idx="568">
                  <c:v>27.156140662</c:v>
                </c:pt>
                <c:pt idx="569">
                  <c:v>26.737469085</c:v>
                </c:pt>
                <c:pt idx="570">
                  <c:v>27.094207298</c:v>
                </c:pt>
                <c:pt idx="571">
                  <c:v>24.048107586</c:v>
                </c:pt>
                <c:pt idx="572">
                  <c:v>26.952207234</c:v>
                </c:pt>
                <c:pt idx="573">
                  <c:v>10.429368938</c:v>
                </c:pt>
                <c:pt idx="574">
                  <c:v>27.564213414</c:v>
                </c:pt>
                <c:pt idx="575">
                  <c:v>26.856711134</c:v>
                </c:pt>
                <c:pt idx="576">
                  <c:v>26.863234146</c:v>
                </c:pt>
                <c:pt idx="577">
                  <c:v>27.173243163</c:v>
                </c:pt>
                <c:pt idx="578">
                  <c:v>27.443415339</c:v>
                </c:pt>
                <c:pt idx="579">
                  <c:v>24.445548091</c:v>
                </c:pt>
                <c:pt idx="580">
                  <c:v>27.468662359</c:v>
                </c:pt>
                <c:pt idx="581">
                  <c:v>27.100659145</c:v>
                </c:pt>
                <c:pt idx="582">
                  <c:v>27.323100995</c:v>
                </c:pt>
                <c:pt idx="583">
                  <c:v>26.492477398</c:v>
                </c:pt>
                <c:pt idx="584">
                  <c:v>27.444758117</c:v>
                </c:pt>
                <c:pt idx="585">
                  <c:v>27.061527789</c:v>
                </c:pt>
                <c:pt idx="586">
                  <c:v>27.359751637</c:v>
                </c:pt>
                <c:pt idx="587">
                  <c:v>24.334946405</c:v>
                </c:pt>
                <c:pt idx="588">
                  <c:v>27.138496932</c:v>
                </c:pt>
                <c:pt idx="589">
                  <c:v>26.947582754</c:v>
                </c:pt>
                <c:pt idx="590">
                  <c:v>27.298595205</c:v>
                </c:pt>
                <c:pt idx="591">
                  <c:v>26.421435261</c:v>
                </c:pt>
                <c:pt idx="592">
                  <c:v>27.158770415</c:v>
                </c:pt>
                <c:pt idx="593">
                  <c:v>26.971462117</c:v>
                </c:pt>
                <c:pt idx="594">
                  <c:v>27.289393154</c:v>
                </c:pt>
                <c:pt idx="595">
                  <c:v>24.105761861</c:v>
                </c:pt>
                <c:pt idx="596">
                  <c:v>27.186790085</c:v>
                </c:pt>
                <c:pt idx="597">
                  <c:v>26.816998417</c:v>
                </c:pt>
                <c:pt idx="598">
                  <c:v>26.9735003</c:v>
                </c:pt>
                <c:pt idx="599">
                  <c:v>26.221079048</c:v>
                </c:pt>
                <c:pt idx="600">
                  <c:v>27.069643617</c:v>
                </c:pt>
                <c:pt idx="601">
                  <c:v>26.706643026</c:v>
                </c:pt>
                <c:pt idx="602">
                  <c:v>26.779594577</c:v>
                </c:pt>
                <c:pt idx="603">
                  <c:v>24.015013151</c:v>
                </c:pt>
                <c:pt idx="604">
                  <c:v>26.770647778</c:v>
                </c:pt>
                <c:pt idx="605">
                  <c:v>3.849403695</c:v>
                </c:pt>
                <c:pt idx="606">
                  <c:v>27.505608468</c:v>
                </c:pt>
                <c:pt idx="607">
                  <c:v>26.757785826</c:v>
                </c:pt>
                <c:pt idx="608">
                  <c:v>27.57650668</c:v>
                </c:pt>
                <c:pt idx="609">
                  <c:v>27.312172439</c:v>
                </c:pt>
                <c:pt idx="610">
                  <c:v>25.057808112</c:v>
                </c:pt>
                <c:pt idx="611">
                  <c:v>26.636707819</c:v>
                </c:pt>
                <c:pt idx="612">
                  <c:v>27.489624785</c:v>
                </c:pt>
                <c:pt idx="613">
                  <c:v>27.153699205</c:v>
                </c:pt>
                <c:pt idx="614">
                  <c:v>27.060968256</c:v>
                </c:pt>
                <c:pt idx="615">
                  <c:v>26.574600151</c:v>
                </c:pt>
                <c:pt idx="616">
                  <c:v>27.372340216</c:v>
                </c:pt>
                <c:pt idx="617">
                  <c:v>27.080005363</c:v>
                </c:pt>
                <c:pt idx="618">
                  <c:v>24.763461245</c:v>
                </c:pt>
                <c:pt idx="619">
                  <c:v>26.376529373</c:v>
                </c:pt>
                <c:pt idx="620">
                  <c:v>27.370241315</c:v>
                </c:pt>
                <c:pt idx="621">
                  <c:v>26.952022224</c:v>
                </c:pt>
                <c:pt idx="622">
                  <c:v>27.16666273</c:v>
                </c:pt>
                <c:pt idx="623">
                  <c:v>26.157319479</c:v>
                </c:pt>
                <c:pt idx="624">
                  <c:v>27.169012519</c:v>
                </c:pt>
                <c:pt idx="625">
                  <c:v>26.986848745</c:v>
                </c:pt>
                <c:pt idx="626">
                  <c:v>24.692368776</c:v>
                </c:pt>
                <c:pt idx="627">
                  <c:v>26.33804635</c:v>
                </c:pt>
                <c:pt idx="628">
                  <c:v>27.196393996</c:v>
                </c:pt>
                <c:pt idx="629">
                  <c:v>26.792477508</c:v>
                </c:pt>
                <c:pt idx="630">
                  <c:v>26.995012634</c:v>
                </c:pt>
                <c:pt idx="631">
                  <c:v>26.191606253</c:v>
                </c:pt>
                <c:pt idx="632">
                  <c:v>26.84707023</c:v>
                </c:pt>
                <c:pt idx="633">
                  <c:v>25.841926297</c:v>
                </c:pt>
                <c:pt idx="634">
                  <c:v>24.549559342</c:v>
                </c:pt>
                <c:pt idx="635">
                  <c:v>25.991868197</c:v>
                </c:pt>
                <c:pt idx="636">
                  <c:v>27.049316581</c:v>
                </c:pt>
                <c:pt idx="637">
                  <c:v>9.195118096</c:v>
                </c:pt>
                <c:pt idx="638">
                  <c:v>27.440826066</c:v>
                </c:pt>
                <c:pt idx="639">
                  <c:v>26.728095532</c:v>
                </c:pt>
                <c:pt idx="640">
                  <c:v>27.661016145</c:v>
                </c:pt>
                <c:pt idx="641">
                  <c:v>27.315592612</c:v>
                </c:pt>
                <c:pt idx="642">
                  <c:v>25.160413561</c:v>
                </c:pt>
                <c:pt idx="643">
                  <c:v>26.634629875</c:v>
                </c:pt>
                <c:pt idx="644">
                  <c:v>27.429707339</c:v>
                </c:pt>
                <c:pt idx="645">
                  <c:v>27.055840283</c:v>
                </c:pt>
                <c:pt idx="646">
                  <c:v>27.363374435</c:v>
                </c:pt>
                <c:pt idx="647">
                  <c:v>26.556715811</c:v>
                </c:pt>
                <c:pt idx="648">
                  <c:v>27.289108654</c:v>
                </c:pt>
                <c:pt idx="649">
                  <c:v>27.138872092</c:v>
                </c:pt>
                <c:pt idx="650">
                  <c:v>24.843764163</c:v>
                </c:pt>
                <c:pt idx="651">
                  <c:v>26.376174994</c:v>
                </c:pt>
                <c:pt idx="652">
                  <c:v>27.347555583</c:v>
                </c:pt>
                <c:pt idx="653">
                  <c:v>26.995847856</c:v>
                </c:pt>
                <c:pt idx="654">
                  <c:v>27.113291217</c:v>
                </c:pt>
                <c:pt idx="655">
                  <c:v>26.360326268</c:v>
                </c:pt>
                <c:pt idx="656">
                  <c:v>27.344698705</c:v>
                </c:pt>
                <c:pt idx="657">
                  <c:v>26.83083408</c:v>
                </c:pt>
                <c:pt idx="658">
                  <c:v>24.770178899</c:v>
                </c:pt>
                <c:pt idx="659">
                  <c:v>26.39683347</c:v>
                </c:pt>
                <c:pt idx="660">
                  <c:v>27.077764314</c:v>
                </c:pt>
                <c:pt idx="661">
                  <c:v>26.050241819</c:v>
                </c:pt>
                <c:pt idx="662">
                  <c:v>27.052671235</c:v>
                </c:pt>
                <c:pt idx="663">
                  <c:v>26.208827107</c:v>
                </c:pt>
                <c:pt idx="664">
                  <c:v>26.946010793</c:v>
                </c:pt>
                <c:pt idx="665">
                  <c:v>24.621837732</c:v>
                </c:pt>
                <c:pt idx="666">
                  <c:v>26.891936247</c:v>
                </c:pt>
                <c:pt idx="667">
                  <c:v>26.22983745</c:v>
                </c:pt>
                <c:pt idx="668">
                  <c:v>27.095048669</c:v>
                </c:pt>
                <c:pt idx="669">
                  <c:v>9.138617833</c:v>
                </c:pt>
                <c:pt idx="670">
                  <c:v>27.623262964</c:v>
                </c:pt>
                <c:pt idx="671">
                  <c:v>26.687310774</c:v>
                </c:pt>
                <c:pt idx="672">
                  <c:v>27.546228871</c:v>
                </c:pt>
                <c:pt idx="673">
                  <c:v>23.632334587</c:v>
                </c:pt>
                <c:pt idx="674">
                  <c:v>27.504356063</c:v>
                </c:pt>
                <c:pt idx="675">
                  <c:v>26.520123589</c:v>
                </c:pt>
                <c:pt idx="676">
                  <c:v>27.349174745</c:v>
                </c:pt>
                <c:pt idx="677">
                  <c:v>27.045217579</c:v>
                </c:pt>
                <c:pt idx="678">
                  <c:v>27.379688906</c:v>
                </c:pt>
                <c:pt idx="679">
                  <c:v>26.374137498</c:v>
                </c:pt>
                <c:pt idx="680">
                  <c:v>27.452913521</c:v>
                </c:pt>
                <c:pt idx="681">
                  <c:v>24.713428068</c:v>
                </c:pt>
                <c:pt idx="682">
                  <c:v>27.400420093</c:v>
                </c:pt>
                <c:pt idx="683">
                  <c:v>26.530516997</c:v>
                </c:pt>
                <c:pt idx="684">
                  <c:v>27.310842603</c:v>
                </c:pt>
                <c:pt idx="685">
                  <c:v>26.873070589</c:v>
                </c:pt>
                <c:pt idx="686">
                  <c:v>27.231383167</c:v>
                </c:pt>
                <c:pt idx="687">
                  <c:v>26.304344548</c:v>
                </c:pt>
                <c:pt idx="688">
                  <c:v>27.245177189</c:v>
                </c:pt>
                <c:pt idx="689">
                  <c:v>24.649816039</c:v>
                </c:pt>
                <c:pt idx="690">
                  <c:v>26.003659757</c:v>
                </c:pt>
                <c:pt idx="691">
                  <c:v>26.291222451</c:v>
                </c:pt>
                <c:pt idx="692">
                  <c:v>27.120876114</c:v>
                </c:pt>
                <c:pt idx="693">
                  <c:v>26.821944631</c:v>
                </c:pt>
                <c:pt idx="694">
                  <c:v>27.163185788</c:v>
                </c:pt>
                <c:pt idx="695">
                  <c:v>26.20734015</c:v>
                </c:pt>
                <c:pt idx="696">
                  <c:v>27.0443793</c:v>
                </c:pt>
                <c:pt idx="697">
                  <c:v>24.428513819</c:v>
                </c:pt>
                <c:pt idx="698">
                  <c:v>26.998446654</c:v>
                </c:pt>
                <c:pt idx="699">
                  <c:v>26.089361234</c:v>
                </c:pt>
                <c:pt idx="700">
                  <c:v>26.870311981</c:v>
                </c:pt>
                <c:pt idx="701">
                  <c:v>9.612078343</c:v>
                </c:pt>
                <c:pt idx="702">
                  <c:v>27.443990799</c:v>
                </c:pt>
                <c:pt idx="703">
                  <c:v>26.665199275</c:v>
                </c:pt>
                <c:pt idx="704">
                  <c:v>27.670860582</c:v>
                </c:pt>
                <c:pt idx="705">
                  <c:v>24.894169175</c:v>
                </c:pt>
                <c:pt idx="706">
                  <c:v>27.523925874</c:v>
                </c:pt>
                <c:pt idx="707">
                  <c:v>26.586656449</c:v>
                </c:pt>
                <c:pt idx="708">
                  <c:v>27.516210309</c:v>
                </c:pt>
                <c:pt idx="709">
                  <c:v>27.02567126</c:v>
                </c:pt>
                <c:pt idx="710">
                  <c:v>27.361372244</c:v>
                </c:pt>
                <c:pt idx="711">
                  <c:v>26.564891089</c:v>
                </c:pt>
                <c:pt idx="712">
                  <c:v>27.302391673</c:v>
                </c:pt>
                <c:pt idx="713">
                  <c:v>24.705186578</c:v>
                </c:pt>
                <c:pt idx="714">
                  <c:v>27.216754106</c:v>
                </c:pt>
                <c:pt idx="715">
                  <c:v>26.467029533</c:v>
                </c:pt>
                <c:pt idx="716">
                  <c:v>27.354986259</c:v>
                </c:pt>
                <c:pt idx="717">
                  <c:v>27.088412605</c:v>
                </c:pt>
                <c:pt idx="718">
                  <c:v>26.307076295</c:v>
                </c:pt>
                <c:pt idx="719">
                  <c:v>26.426770212</c:v>
                </c:pt>
                <c:pt idx="720">
                  <c:v>24.912333472</c:v>
                </c:pt>
                <c:pt idx="721">
                  <c:v>26.857354107</c:v>
                </c:pt>
                <c:pt idx="722">
                  <c:v>27.140185233</c:v>
                </c:pt>
                <c:pt idx="723">
                  <c:v>26.334336691</c:v>
                </c:pt>
                <c:pt idx="724">
                  <c:v>26.996683129</c:v>
                </c:pt>
                <c:pt idx="725">
                  <c:v>26.920422881</c:v>
                </c:pt>
                <c:pt idx="726">
                  <c:v>27.102155665</c:v>
                </c:pt>
                <c:pt idx="727">
                  <c:v>26.343436049</c:v>
                </c:pt>
                <c:pt idx="728">
                  <c:v>24.6736709</c:v>
                </c:pt>
                <c:pt idx="729">
                  <c:v>26.599264272</c:v>
                </c:pt>
                <c:pt idx="730">
                  <c:v>26.731188988</c:v>
                </c:pt>
                <c:pt idx="731">
                  <c:v>26.232115593</c:v>
                </c:pt>
                <c:pt idx="732">
                  <c:v>26.957018377</c:v>
                </c:pt>
                <c:pt idx="733">
                  <c:v>9.746640067</c:v>
                </c:pt>
                <c:pt idx="734">
                  <c:v>27.563536151</c:v>
                </c:pt>
                <c:pt idx="735">
                  <c:v>26.998632301</c:v>
                </c:pt>
                <c:pt idx="736">
                  <c:v>25.281268436</c:v>
                </c:pt>
                <c:pt idx="737">
                  <c:v>27.221282716</c:v>
                </c:pt>
                <c:pt idx="738">
                  <c:v>27.488566281</c:v>
                </c:pt>
                <c:pt idx="739">
                  <c:v>26.669817911</c:v>
                </c:pt>
                <c:pt idx="740">
                  <c:v>27.390958193</c:v>
                </c:pt>
                <c:pt idx="741">
                  <c:v>26.382378004</c:v>
                </c:pt>
                <c:pt idx="742">
                  <c:v>27.03022954</c:v>
                </c:pt>
                <c:pt idx="743">
                  <c:v>26.576398904</c:v>
                </c:pt>
                <c:pt idx="744">
                  <c:v>24.948503915</c:v>
                </c:pt>
                <c:pt idx="745">
                  <c:v>26.875001952</c:v>
                </c:pt>
                <c:pt idx="746">
                  <c:v>26.210751653</c:v>
                </c:pt>
                <c:pt idx="747">
                  <c:v>26.269850048</c:v>
                </c:pt>
                <c:pt idx="748">
                  <c:v>27.262297411</c:v>
                </c:pt>
                <c:pt idx="749">
                  <c:v>26.852119364</c:v>
                </c:pt>
                <c:pt idx="750">
                  <c:v>27.2100583</c:v>
                </c:pt>
                <c:pt idx="751">
                  <c:v>24.251750907</c:v>
                </c:pt>
                <c:pt idx="752">
                  <c:v>26.865899387</c:v>
                </c:pt>
                <c:pt idx="753">
                  <c:v>26.843215807</c:v>
                </c:pt>
                <c:pt idx="754">
                  <c:v>27.256903639</c:v>
                </c:pt>
                <c:pt idx="755">
                  <c:v>26.312012502</c:v>
                </c:pt>
                <c:pt idx="756">
                  <c:v>27.2206222</c:v>
                </c:pt>
                <c:pt idx="757">
                  <c:v>26.729278239</c:v>
                </c:pt>
                <c:pt idx="758">
                  <c:v>27.082900602</c:v>
                </c:pt>
                <c:pt idx="759">
                  <c:v>24.078561296</c:v>
                </c:pt>
                <c:pt idx="760">
                  <c:v>26.82771752</c:v>
                </c:pt>
                <c:pt idx="761">
                  <c:v>26.659043581</c:v>
                </c:pt>
                <c:pt idx="762">
                  <c:v>26.792751748</c:v>
                </c:pt>
                <c:pt idx="763">
                  <c:v>26.260274534</c:v>
                </c:pt>
                <c:pt idx="764">
                  <c:v>26.660853784</c:v>
                </c:pt>
                <c:pt idx="765">
                  <c:v>8.970829501</c:v>
                </c:pt>
                <c:pt idx="766">
                  <c:v>27.552317781</c:v>
                </c:pt>
                <c:pt idx="767">
                  <c:v>24.468170374</c:v>
                </c:pt>
                <c:pt idx="768">
                  <c:v>27.490202185</c:v>
                </c:pt>
                <c:pt idx="769">
                  <c:v>27.25311981</c:v>
                </c:pt>
                <c:pt idx="770">
                  <c:v>27.595209581</c:v>
                </c:pt>
                <c:pt idx="771">
                  <c:v>26.477649185</c:v>
                </c:pt>
                <c:pt idx="772">
                  <c:v>27.573892234</c:v>
                </c:pt>
                <c:pt idx="773">
                  <c:v>25.647717481</c:v>
                </c:pt>
                <c:pt idx="774">
                  <c:v>27.383698945</c:v>
                </c:pt>
                <c:pt idx="775">
                  <c:v>23.617408812</c:v>
                </c:pt>
                <c:pt idx="776">
                  <c:v>27.339843383</c:v>
                </c:pt>
                <c:pt idx="777">
                  <c:v>27.00856817</c:v>
                </c:pt>
                <c:pt idx="778">
                  <c:v>27.407401238</c:v>
                </c:pt>
                <c:pt idx="779">
                  <c:v>26.572621803</c:v>
                </c:pt>
                <c:pt idx="780">
                  <c:v>27.261634903</c:v>
                </c:pt>
                <c:pt idx="781">
                  <c:v>26.902162368</c:v>
                </c:pt>
                <c:pt idx="782">
                  <c:v>27.387996719</c:v>
                </c:pt>
                <c:pt idx="783">
                  <c:v>24.223248654</c:v>
                </c:pt>
                <c:pt idx="784">
                  <c:v>27.127715522</c:v>
                </c:pt>
                <c:pt idx="785">
                  <c:v>26.844684028</c:v>
                </c:pt>
                <c:pt idx="786">
                  <c:v>27.046521672</c:v>
                </c:pt>
                <c:pt idx="787">
                  <c:v>26.254304354</c:v>
                </c:pt>
                <c:pt idx="788">
                  <c:v>27.205439172</c:v>
                </c:pt>
                <c:pt idx="789">
                  <c:v>26.839545956</c:v>
                </c:pt>
                <c:pt idx="790">
                  <c:v>27.048198548</c:v>
                </c:pt>
                <c:pt idx="791">
                  <c:v>24.025666962</c:v>
                </c:pt>
                <c:pt idx="792">
                  <c:v>27.08785196</c:v>
                </c:pt>
                <c:pt idx="793">
                  <c:v>26.750220383</c:v>
                </c:pt>
                <c:pt idx="794">
                  <c:v>27.034975506</c:v>
                </c:pt>
                <c:pt idx="795">
                  <c:v>26.115303531</c:v>
                </c:pt>
                <c:pt idx="796">
                  <c:v>27.099536864</c:v>
                </c:pt>
                <c:pt idx="797">
                  <c:v>10.186326802</c:v>
                </c:pt>
                <c:pt idx="798">
                  <c:v>27.680029029</c:v>
                </c:pt>
                <c:pt idx="799">
                  <c:v>24.509256256</c:v>
                </c:pt>
                <c:pt idx="800">
                  <c:v>27.646895282</c:v>
                </c:pt>
                <c:pt idx="801">
                  <c:v>27.203083078</c:v>
                </c:pt>
                <c:pt idx="802">
                  <c:v>27.490298421</c:v>
                </c:pt>
                <c:pt idx="803">
                  <c:v>25.699590571</c:v>
                </c:pt>
                <c:pt idx="804">
                  <c:v>27.50801726</c:v>
                </c:pt>
                <c:pt idx="805">
                  <c:v>27.123311672</c:v>
                </c:pt>
                <c:pt idx="806">
                  <c:v>25.071328397</c:v>
                </c:pt>
                <c:pt idx="807">
                  <c:v>26.585846355</c:v>
                </c:pt>
                <c:pt idx="808">
                  <c:v>27.432965343</c:v>
                </c:pt>
                <c:pt idx="809">
                  <c:v>27.237428142</c:v>
                </c:pt>
                <c:pt idx="810">
                  <c:v>27.264569111</c:v>
                </c:pt>
                <c:pt idx="811">
                  <c:v>26.701285279</c:v>
                </c:pt>
                <c:pt idx="812">
                  <c:v>27.258038993</c:v>
                </c:pt>
                <c:pt idx="813">
                  <c:v>27.086076737</c:v>
                </c:pt>
                <c:pt idx="814">
                  <c:v>24.869492445</c:v>
                </c:pt>
                <c:pt idx="815">
                  <c:v>26.48122073</c:v>
                </c:pt>
                <c:pt idx="816">
                  <c:v>26.350065753</c:v>
                </c:pt>
                <c:pt idx="817">
                  <c:v>26.853221246</c:v>
                </c:pt>
                <c:pt idx="818">
                  <c:v>27.185566544</c:v>
                </c:pt>
                <c:pt idx="819">
                  <c:v>26.492834909</c:v>
                </c:pt>
                <c:pt idx="820">
                  <c:v>27.128465256</c:v>
                </c:pt>
                <c:pt idx="821">
                  <c:v>26.919961452</c:v>
                </c:pt>
                <c:pt idx="822">
                  <c:v>24.610031732</c:v>
                </c:pt>
                <c:pt idx="823">
                  <c:v>26.111309051</c:v>
                </c:pt>
                <c:pt idx="824">
                  <c:v>27.055560631</c:v>
                </c:pt>
                <c:pt idx="825">
                  <c:v>26.821669793</c:v>
                </c:pt>
                <c:pt idx="826">
                  <c:v>26.749947014</c:v>
                </c:pt>
                <c:pt idx="827">
                  <c:v>26.398519494</c:v>
                </c:pt>
                <c:pt idx="828">
                  <c:v>27.005967423</c:v>
                </c:pt>
                <c:pt idx="829">
                  <c:v>8.631947056</c:v>
                </c:pt>
                <c:pt idx="830">
                  <c:v>25.193589893</c:v>
                </c:pt>
                <c:pt idx="831">
                  <c:v>26.100634158</c:v>
                </c:pt>
                <c:pt idx="832">
                  <c:v>27.523829402</c:v>
                </c:pt>
                <c:pt idx="833">
                  <c:v>27.222603844</c:v>
                </c:pt>
                <c:pt idx="834">
                  <c:v>27.495592421</c:v>
                </c:pt>
                <c:pt idx="835">
                  <c:v>26.549443148</c:v>
                </c:pt>
                <c:pt idx="836">
                  <c:v>27.437278597</c:v>
                </c:pt>
                <c:pt idx="837">
                  <c:v>24.700990196</c:v>
                </c:pt>
                <c:pt idx="838">
                  <c:v>27.091403105</c:v>
                </c:pt>
                <c:pt idx="839">
                  <c:v>26.551148723</c:v>
                </c:pt>
                <c:pt idx="840">
                  <c:v>27.229494663</c:v>
                </c:pt>
                <c:pt idx="841">
                  <c:v>26.860661312</c:v>
                </c:pt>
                <c:pt idx="842">
                  <c:v>27.123405356</c:v>
                </c:pt>
                <c:pt idx="843">
                  <c:v>26.469527508</c:v>
                </c:pt>
                <c:pt idx="844">
                  <c:v>27.387710159</c:v>
                </c:pt>
                <c:pt idx="845">
                  <c:v>24.793719418</c:v>
                </c:pt>
                <c:pt idx="846">
                  <c:v>27.394684828</c:v>
                </c:pt>
                <c:pt idx="847">
                  <c:v>26.378124197</c:v>
                </c:pt>
                <c:pt idx="848">
                  <c:v>27.269208342</c:v>
                </c:pt>
                <c:pt idx="849">
                  <c:v>26.91045953</c:v>
                </c:pt>
                <c:pt idx="850">
                  <c:v>27.122749581</c:v>
                </c:pt>
                <c:pt idx="851">
                  <c:v>26.326567461</c:v>
                </c:pt>
                <c:pt idx="852">
                  <c:v>27.1884844</c:v>
                </c:pt>
                <c:pt idx="853">
                  <c:v>24.54265398</c:v>
                </c:pt>
                <c:pt idx="854">
                  <c:v>26.900595701</c:v>
                </c:pt>
                <c:pt idx="855">
                  <c:v>26.290254224</c:v>
                </c:pt>
                <c:pt idx="856">
                  <c:v>27.08262039</c:v>
                </c:pt>
                <c:pt idx="857">
                  <c:v>26.716183319</c:v>
                </c:pt>
                <c:pt idx="858">
                  <c:v>27.101220321</c:v>
                </c:pt>
                <c:pt idx="859">
                  <c:v>26.165599401</c:v>
                </c:pt>
                <c:pt idx="860">
                  <c:v>26.034782247</c:v>
                </c:pt>
                <c:pt idx="861">
                  <c:v>9.685511087</c:v>
                </c:pt>
                <c:pt idx="862">
                  <c:v>27.4378538</c:v>
                </c:pt>
                <c:pt idx="863">
                  <c:v>26.6344492</c:v>
                </c:pt>
                <c:pt idx="864">
                  <c:v>27.630358138</c:v>
                </c:pt>
                <c:pt idx="865">
                  <c:v>27.153886994</c:v>
                </c:pt>
                <c:pt idx="866">
                  <c:v>27.429324096</c:v>
                </c:pt>
                <c:pt idx="867">
                  <c:v>26.734465192</c:v>
                </c:pt>
                <c:pt idx="868">
                  <c:v>27.590555713</c:v>
                </c:pt>
                <c:pt idx="869">
                  <c:v>24.807583085</c:v>
                </c:pt>
                <c:pt idx="870">
                  <c:v>27.42463023</c:v>
                </c:pt>
                <c:pt idx="871">
                  <c:v>26.743752134</c:v>
                </c:pt>
                <c:pt idx="872">
                  <c:v>27.396596316</c:v>
                </c:pt>
                <c:pt idx="873">
                  <c:v>27.062833456</c:v>
                </c:pt>
                <c:pt idx="874">
                  <c:v>27.446964395</c:v>
                </c:pt>
                <c:pt idx="875">
                  <c:v>26.498824657</c:v>
                </c:pt>
                <c:pt idx="876">
                  <c:v>27.268734878</c:v>
                </c:pt>
                <c:pt idx="877">
                  <c:v>24.827975931</c:v>
                </c:pt>
                <c:pt idx="878">
                  <c:v>27.282282418</c:v>
                </c:pt>
                <c:pt idx="879">
                  <c:v>26.356964185</c:v>
                </c:pt>
                <c:pt idx="880">
                  <c:v>27.096357572</c:v>
                </c:pt>
                <c:pt idx="881">
                  <c:v>26.962386678</c:v>
                </c:pt>
                <c:pt idx="882">
                  <c:v>27.091776964</c:v>
                </c:pt>
                <c:pt idx="883">
                  <c:v>26.314128587</c:v>
                </c:pt>
                <c:pt idx="884">
                  <c:v>27.23468868</c:v>
                </c:pt>
                <c:pt idx="885">
                  <c:v>24.307452185</c:v>
                </c:pt>
                <c:pt idx="886">
                  <c:v>26.999189259</c:v>
                </c:pt>
                <c:pt idx="887">
                  <c:v>26.28418243</c:v>
                </c:pt>
                <c:pt idx="888">
                  <c:v>26.089794628</c:v>
                </c:pt>
                <c:pt idx="889">
                  <c:v>26.873898282</c:v>
                </c:pt>
                <c:pt idx="890">
                  <c:v>26.924668772</c:v>
                </c:pt>
                <c:pt idx="891">
                  <c:v>26.091094896</c:v>
                </c:pt>
                <c:pt idx="892">
                  <c:v>24.824914867</c:v>
                </c:pt>
                <c:pt idx="893">
                  <c:v>9.739906524</c:v>
                </c:pt>
                <c:pt idx="894">
                  <c:v>27.472890732</c:v>
                </c:pt>
                <c:pt idx="895">
                  <c:v>26.655876317</c:v>
                </c:pt>
                <c:pt idx="896">
                  <c:v>27.603066545</c:v>
                </c:pt>
                <c:pt idx="897">
                  <c:v>27.217697442</c:v>
                </c:pt>
                <c:pt idx="898">
                  <c:v>27.340509697</c:v>
                </c:pt>
                <c:pt idx="899">
                  <c:v>26.571452918</c:v>
                </c:pt>
                <c:pt idx="900">
                  <c:v>25.002598711</c:v>
                </c:pt>
                <c:pt idx="901">
                  <c:v>26.977392232</c:v>
                </c:pt>
                <c:pt idx="902">
                  <c:v>27.42635432</c:v>
                </c:pt>
                <c:pt idx="903">
                  <c:v>26.536344451</c:v>
                </c:pt>
                <c:pt idx="904">
                  <c:v>27.309892799</c:v>
                </c:pt>
                <c:pt idx="905">
                  <c:v>27.240262648</c:v>
                </c:pt>
                <c:pt idx="906">
                  <c:v>27.195734688</c:v>
                </c:pt>
                <c:pt idx="907">
                  <c:v>26.575499497</c:v>
                </c:pt>
                <c:pt idx="908">
                  <c:v>24.927517024</c:v>
                </c:pt>
                <c:pt idx="909">
                  <c:v>26.99120839</c:v>
                </c:pt>
                <c:pt idx="910">
                  <c:v>27.181708407</c:v>
                </c:pt>
                <c:pt idx="911">
                  <c:v>26.496321149</c:v>
                </c:pt>
                <c:pt idx="912">
                  <c:v>27.169294521</c:v>
                </c:pt>
                <c:pt idx="913">
                  <c:v>26.839729425</c:v>
                </c:pt>
                <c:pt idx="914">
                  <c:v>27.151445942</c:v>
                </c:pt>
                <c:pt idx="915">
                  <c:v>26.470419756</c:v>
                </c:pt>
                <c:pt idx="916">
                  <c:v>24.001140635</c:v>
                </c:pt>
                <c:pt idx="917">
                  <c:v>26.786628401</c:v>
                </c:pt>
                <c:pt idx="918">
                  <c:v>27.083741271</c:v>
                </c:pt>
                <c:pt idx="919">
                  <c:v>26.313070502</c:v>
                </c:pt>
                <c:pt idx="920">
                  <c:v>27.176816734</c:v>
                </c:pt>
                <c:pt idx="921">
                  <c:v>26.962016382</c:v>
                </c:pt>
                <c:pt idx="922">
                  <c:v>26.711730334</c:v>
                </c:pt>
                <c:pt idx="923">
                  <c:v>26.123296159</c:v>
                </c:pt>
                <c:pt idx="924">
                  <c:v>24.794189119</c:v>
                </c:pt>
                <c:pt idx="925">
                  <c:v>9.35586359700001</c:v>
                </c:pt>
                <c:pt idx="926">
                  <c:v>27.245271717</c:v>
                </c:pt>
                <c:pt idx="927">
                  <c:v>26.671991941</c:v>
                </c:pt>
                <c:pt idx="928">
                  <c:v>27.507920901</c:v>
                </c:pt>
                <c:pt idx="929">
                  <c:v>27.294040837</c:v>
                </c:pt>
                <c:pt idx="930">
                  <c:v>27.311507505</c:v>
                </c:pt>
                <c:pt idx="931">
                  <c:v>26.688852696</c:v>
                </c:pt>
                <c:pt idx="932">
                  <c:v>25.127002884</c:v>
                </c:pt>
                <c:pt idx="933">
                  <c:v>27.085796459</c:v>
                </c:pt>
                <c:pt idx="934">
                  <c:v>27.070203508</c:v>
                </c:pt>
                <c:pt idx="935">
                  <c:v>26.709277283</c:v>
                </c:pt>
                <c:pt idx="936">
                  <c:v>27.258228227</c:v>
                </c:pt>
                <c:pt idx="937">
                  <c:v>27.068243989</c:v>
                </c:pt>
                <c:pt idx="938">
                  <c:v>27.227700826</c:v>
                </c:pt>
                <c:pt idx="939">
                  <c:v>26.530248099</c:v>
                </c:pt>
                <c:pt idx="940">
                  <c:v>24.951754101</c:v>
                </c:pt>
                <c:pt idx="941">
                  <c:v>27.082713794</c:v>
                </c:pt>
                <c:pt idx="942">
                  <c:v>27.192344461</c:v>
                </c:pt>
                <c:pt idx="943">
                  <c:v>26.379098907</c:v>
                </c:pt>
                <c:pt idx="944">
                  <c:v>27.135496027</c:v>
                </c:pt>
                <c:pt idx="945">
                  <c:v>25.181633109</c:v>
                </c:pt>
                <c:pt idx="946">
                  <c:v>27.054535291</c:v>
                </c:pt>
                <c:pt idx="947">
                  <c:v>24.089862767</c:v>
                </c:pt>
                <c:pt idx="948">
                  <c:v>26.846794878</c:v>
                </c:pt>
                <c:pt idx="949">
                  <c:v>26.805647345</c:v>
                </c:pt>
                <c:pt idx="950">
                  <c:v>27.101313852</c:v>
                </c:pt>
                <c:pt idx="951">
                  <c:v>26.266423144</c:v>
                </c:pt>
                <c:pt idx="952">
                  <c:v>27.093459456</c:v>
                </c:pt>
                <c:pt idx="953">
                  <c:v>26.762892639</c:v>
                </c:pt>
                <c:pt idx="954">
                  <c:v>27.075616989</c:v>
                </c:pt>
                <c:pt idx="955">
                  <c:v>23.97037013</c:v>
                </c:pt>
                <c:pt idx="956">
                  <c:v>26.9735003</c:v>
                </c:pt>
                <c:pt idx="957">
                  <c:v>4.110012103</c:v>
                </c:pt>
                <c:pt idx="958">
                  <c:v>27.531549241</c:v>
                </c:pt>
                <c:pt idx="959">
                  <c:v>26.770373991</c:v>
                </c:pt>
                <c:pt idx="960">
                  <c:v>27.74428065</c:v>
                </c:pt>
                <c:pt idx="961">
                  <c:v>27.282187634</c:v>
                </c:pt>
                <c:pt idx="962">
                  <c:v>27.642905101</c:v>
                </c:pt>
                <c:pt idx="963">
                  <c:v>24.386107551</c:v>
                </c:pt>
                <c:pt idx="964">
                  <c:v>27.371576942</c:v>
                </c:pt>
                <c:pt idx="965">
                  <c:v>27.145251396</c:v>
                </c:pt>
                <c:pt idx="966">
                  <c:v>27.539659733</c:v>
                </c:pt>
                <c:pt idx="967">
                  <c:v>26.560937579</c:v>
                </c:pt>
                <c:pt idx="968">
                  <c:v>27.506475585</c:v>
                </c:pt>
                <c:pt idx="969">
                  <c:v>27.118815599</c:v>
                </c:pt>
                <c:pt idx="970">
                  <c:v>27.413524621</c:v>
                </c:pt>
                <c:pt idx="971">
                  <c:v>24.340075491</c:v>
                </c:pt>
                <c:pt idx="972">
                  <c:v>27.350889361</c:v>
                </c:pt>
                <c:pt idx="973">
                  <c:v>26.033487586</c:v>
                </c:pt>
                <c:pt idx="974">
                  <c:v>27.053603231</c:v>
                </c:pt>
                <c:pt idx="975">
                  <c:v>26.470687442</c:v>
                </c:pt>
                <c:pt idx="976">
                  <c:v>27.165347025</c:v>
                </c:pt>
                <c:pt idx="977">
                  <c:v>26.894238749</c:v>
                </c:pt>
                <c:pt idx="978">
                  <c:v>24.83991344</c:v>
                </c:pt>
                <c:pt idx="979">
                  <c:v>26.306195024</c:v>
                </c:pt>
                <c:pt idx="980">
                  <c:v>27.235538799</c:v>
                </c:pt>
                <c:pt idx="981">
                  <c:v>26.932240856</c:v>
                </c:pt>
                <c:pt idx="982">
                  <c:v>27.036650951</c:v>
                </c:pt>
                <c:pt idx="983">
                  <c:v>26.306547526</c:v>
                </c:pt>
                <c:pt idx="984">
                  <c:v>27.156985884</c:v>
                </c:pt>
                <c:pt idx="985">
                  <c:v>26.987405217</c:v>
                </c:pt>
                <c:pt idx="986">
                  <c:v>24.708840145</c:v>
                </c:pt>
                <c:pt idx="987">
                  <c:v>26.149480174</c:v>
                </c:pt>
                <c:pt idx="988">
                  <c:v>26.992228936</c:v>
                </c:pt>
                <c:pt idx="989">
                  <c:v>9.98445155600001</c:v>
                </c:pt>
                <c:pt idx="990">
                  <c:v>27.632983304</c:v>
                </c:pt>
                <c:pt idx="991">
                  <c:v>26.808667256</c:v>
                </c:pt>
                <c:pt idx="992">
                  <c:v>27.603745752</c:v>
                </c:pt>
                <c:pt idx="993">
                  <c:v>27.271007652</c:v>
                </c:pt>
                <c:pt idx="994">
                  <c:v>25.085664619</c:v>
                </c:pt>
                <c:pt idx="995">
                  <c:v>26.49220927</c:v>
                </c:pt>
                <c:pt idx="996">
                  <c:v>27.430282225</c:v>
                </c:pt>
                <c:pt idx="997">
                  <c:v>27.265705103</c:v>
                </c:pt>
                <c:pt idx="998">
                  <c:v>27.34022413</c:v>
                </c:pt>
                <c:pt idx="999">
                  <c:v>26.652981191</c:v>
                </c:pt>
                <c:pt idx="1000">
                  <c:v>27.440058968</c:v>
                </c:pt>
              </c:numCache>
            </c:numRef>
          </c:yVal>
          <c:smooth val="0"/>
        </c:ser>
        <c:ser>
          <c:idx val="3"/>
          <c:order val="3"/>
          <c:tx>
            <c:strRef>
              <c:f>label 6</c:f>
              <c:strCache>
                <c:ptCount val="1"/>
                <c:pt idx="0">
                  <c:v>8 K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7</c:f>
              <c:numCache>
                <c:formatCode>General</c:formatCode>
                <c:ptCount val="1001"/>
                <c:pt idx="0">
                  <c:v>8192</c:v>
                </c:pt>
                <c:pt idx="1">
                  <c:v>8192</c:v>
                </c:pt>
                <c:pt idx="2">
                  <c:v>8192</c:v>
                </c:pt>
                <c:pt idx="3">
                  <c:v>8192</c:v>
                </c:pt>
                <c:pt idx="4">
                  <c:v>8192</c:v>
                </c:pt>
                <c:pt idx="5">
                  <c:v>8192</c:v>
                </c:pt>
                <c:pt idx="6">
                  <c:v>8192</c:v>
                </c:pt>
                <c:pt idx="7">
                  <c:v>8192</c:v>
                </c:pt>
                <c:pt idx="8">
                  <c:v>8192</c:v>
                </c:pt>
                <c:pt idx="9">
                  <c:v>8192</c:v>
                </c:pt>
                <c:pt idx="10">
                  <c:v>8192</c:v>
                </c:pt>
                <c:pt idx="11">
                  <c:v>8192</c:v>
                </c:pt>
                <c:pt idx="12">
                  <c:v>8192</c:v>
                </c:pt>
                <c:pt idx="13">
                  <c:v>8192</c:v>
                </c:pt>
                <c:pt idx="14">
                  <c:v>8192</c:v>
                </c:pt>
                <c:pt idx="15">
                  <c:v>8192</c:v>
                </c:pt>
                <c:pt idx="16">
                  <c:v>8192</c:v>
                </c:pt>
                <c:pt idx="17">
                  <c:v>8192</c:v>
                </c:pt>
                <c:pt idx="18">
                  <c:v>8192</c:v>
                </c:pt>
                <c:pt idx="19">
                  <c:v>8192</c:v>
                </c:pt>
                <c:pt idx="20">
                  <c:v>8192</c:v>
                </c:pt>
                <c:pt idx="21">
                  <c:v>8192</c:v>
                </c:pt>
                <c:pt idx="22">
                  <c:v>8192</c:v>
                </c:pt>
                <c:pt idx="23">
                  <c:v>8192</c:v>
                </c:pt>
                <c:pt idx="24">
                  <c:v>8192</c:v>
                </c:pt>
                <c:pt idx="25">
                  <c:v>8192</c:v>
                </c:pt>
                <c:pt idx="26">
                  <c:v>8192</c:v>
                </c:pt>
                <c:pt idx="27">
                  <c:v>8192</c:v>
                </c:pt>
                <c:pt idx="28">
                  <c:v>8192</c:v>
                </c:pt>
                <c:pt idx="29">
                  <c:v>8192</c:v>
                </c:pt>
                <c:pt idx="30">
                  <c:v>8192</c:v>
                </c:pt>
                <c:pt idx="31">
                  <c:v>8192</c:v>
                </c:pt>
                <c:pt idx="32">
                  <c:v>8192</c:v>
                </c:pt>
                <c:pt idx="33">
                  <c:v>8192</c:v>
                </c:pt>
                <c:pt idx="34">
                  <c:v>8192</c:v>
                </c:pt>
                <c:pt idx="35">
                  <c:v>8192</c:v>
                </c:pt>
                <c:pt idx="36">
                  <c:v>8192</c:v>
                </c:pt>
                <c:pt idx="37">
                  <c:v>8192</c:v>
                </c:pt>
                <c:pt idx="38">
                  <c:v>8192</c:v>
                </c:pt>
                <c:pt idx="39">
                  <c:v>8192</c:v>
                </c:pt>
                <c:pt idx="40">
                  <c:v>8192</c:v>
                </c:pt>
                <c:pt idx="41">
                  <c:v>8192</c:v>
                </c:pt>
                <c:pt idx="42">
                  <c:v>8192</c:v>
                </c:pt>
                <c:pt idx="43">
                  <c:v>8192</c:v>
                </c:pt>
                <c:pt idx="44">
                  <c:v>8192</c:v>
                </c:pt>
                <c:pt idx="45">
                  <c:v>8192</c:v>
                </c:pt>
                <c:pt idx="46">
                  <c:v>8192</c:v>
                </c:pt>
                <c:pt idx="47">
                  <c:v>8192</c:v>
                </c:pt>
                <c:pt idx="48">
                  <c:v>8192</c:v>
                </c:pt>
                <c:pt idx="49">
                  <c:v>8192</c:v>
                </c:pt>
                <c:pt idx="50">
                  <c:v>8192</c:v>
                </c:pt>
                <c:pt idx="51">
                  <c:v>8192</c:v>
                </c:pt>
                <c:pt idx="52">
                  <c:v>8192</c:v>
                </c:pt>
                <c:pt idx="53">
                  <c:v>8192</c:v>
                </c:pt>
                <c:pt idx="54">
                  <c:v>8192</c:v>
                </c:pt>
                <c:pt idx="55">
                  <c:v>8192</c:v>
                </c:pt>
                <c:pt idx="56">
                  <c:v>8192</c:v>
                </c:pt>
                <c:pt idx="57">
                  <c:v>8192</c:v>
                </c:pt>
                <c:pt idx="58">
                  <c:v>8192</c:v>
                </c:pt>
                <c:pt idx="59">
                  <c:v>8192</c:v>
                </c:pt>
                <c:pt idx="60">
                  <c:v>8192</c:v>
                </c:pt>
                <c:pt idx="61">
                  <c:v>8192</c:v>
                </c:pt>
                <c:pt idx="62">
                  <c:v>8192</c:v>
                </c:pt>
                <c:pt idx="63">
                  <c:v>8192</c:v>
                </c:pt>
                <c:pt idx="64">
                  <c:v>8192</c:v>
                </c:pt>
                <c:pt idx="65">
                  <c:v>8192</c:v>
                </c:pt>
                <c:pt idx="66">
                  <c:v>8192</c:v>
                </c:pt>
                <c:pt idx="67">
                  <c:v>8192</c:v>
                </c:pt>
                <c:pt idx="68">
                  <c:v>8192</c:v>
                </c:pt>
                <c:pt idx="69">
                  <c:v>8192</c:v>
                </c:pt>
                <c:pt idx="70">
                  <c:v>8192</c:v>
                </c:pt>
                <c:pt idx="71">
                  <c:v>8192</c:v>
                </c:pt>
                <c:pt idx="72">
                  <c:v>8192</c:v>
                </c:pt>
                <c:pt idx="73">
                  <c:v>8192</c:v>
                </c:pt>
                <c:pt idx="74">
                  <c:v>8192</c:v>
                </c:pt>
                <c:pt idx="75">
                  <c:v>8192</c:v>
                </c:pt>
                <c:pt idx="76">
                  <c:v>8192</c:v>
                </c:pt>
                <c:pt idx="77">
                  <c:v>8192</c:v>
                </c:pt>
                <c:pt idx="78">
                  <c:v>8192</c:v>
                </c:pt>
                <c:pt idx="79">
                  <c:v>8192</c:v>
                </c:pt>
                <c:pt idx="80">
                  <c:v>8192</c:v>
                </c:pt>
                <c:pt idx="81">
                  <c:v>8192</c:v>
                </c:pt>
                <c:pt idx="82">
                  <c:v>8192</c:v>
                </c:pt>
                <c:pt idx="83">
                  <c:v>8192</c:v>
                </c:pt>
                <c:pt idx="84">
                  <c:v>8192</c:v>
                </c:pt>
                <c:pt idx="85">
                  <c:v>8192</c:v>
                </c:pt>
                <c:pt idx="86">
                  <c:v>8192</c:v>
                </c:pt>
                <c:pt idx="87">
                  <c:v>8192</c:v>
                </c:pt>
                <c:pt idx="88">
                  <c:v>8192</c:v>
                </c:pt>
                <c:pt idx="89">
                  <c:v>8192</c:v>
                </c:pt>
                <c:pt idx="90">
                  <c:v>8192</c:v>
                </c:pt>
                <c:pt idx="91">
                  <c:v>8192</c:v>
                </c:pt>
                <c:pt idx="92">
                  <c:v>8192</c:v>
                </c:pt>
                <c:pt idx="93">
                  <c:v>8192</c:v>
                </c:pt>
                <c:pt idx="94">
                  <c:v>8192</c:v>
                </c:pt>
                <c:pt idx="95">
                  <c:v>8192</c:v>
                </c:pt>
                <c:pt idx="96">
                  <c:v>8192</c:v>
                </c:pt>
                <c:pt idx="97">
                  <c:v>8192</c:v>
                </c:pt>
                <c:pt idx="98">
                  <c:v>8192</c:v>
                </c:pt>
                <c:pt idx="99">
                  <c:v>8192</c:v>
                </c:pt>
                <c:pt idx="100">
                  <c:v>8192</c:v>
                </c:pt>
                <c:pt idx="101">
                  <c:v>8192</c:v>
                </c:pt>
                <c:pt idx="102">
                  <c:v>8192</c:v>
                </c:pt>
                <c:pt idx="103">
                  <c:v>8192</c:v>
                </c:pt>
                <c:pt idx="104">
                  <c:v>8192</c:v>
                </c:pt>
                <c:pt idx="105">
                  <c:v>8192</c:v>
                </c:pt>
                <c:pt idx="106">
                  <c:v>8192</c:v>
                </c:pt>
                <c:pt idx="107">
                  <c:v>8192</c:v>
                </c:pt>
                <c:pt idx="108">
                  <c:v>8192</c:v>
                </c:pt>
                <c:pt idx="109">
                  <c:v>8192</c:v>
                </c:pt>
                <c:pt idx="110">
                  <c:v>8192</c:v>
                </c:pt>
                <c:pt idx="111">
                  <c:v>8192</c:v>
                </c:pt>
                <c:pt idx="112">
                  <c:v>8192</c:v>
                </c:pt>
                <c:pt idx="113">
                  <c:v>8192</c:v>
                </c:pt>
                <c:pt idx="114">
                  <c:v>8192</c:v>
                </c:pt>
                <c:pt idx="115">
                  <c:v>8192</c:v>
                </c:pt>
                <c:pt idx="116">
                  <c:v>8192</c:v>
                </c:pt>
                <c:pt idx="117">
                  <c:v>8192</c:v>
                </c:pt>
                <c:pt idx="118">
                  <c:v>8192</c:v>
                </c:pt>
                <c:pt idx="119">
                  <c:v>8192</c:v>
                </c:pt>
                <c:pt idx="120">
                  <c:v>8192</c:v>
                </c:pt>
                <c:pt idx="121">
                  <c:v>8192</c:v>
                </c:pt>
                <c:pt idx="122">
                  <c:v>8192</c:v>
                </c:pt>
                <c:pt idx="123">
                  <c:v>8192</c:v>
                </c:pt>
                <c:pt idx="124">
                  <c:v>8192</c:v>
                </c:pt>
                <c:pt idx="125">
                  <c:v>8192</c:v>
                </c:pt>
                <c:pt idx="126">
                  <c:v>8192</c:v>
                </c:pt>
                <c:pt idx="127">
                  <c:v>8192</c:v>
                </c:pt>
                <c:pt idx="128">
                  <c:v>8192</c:v>
                </c:pt>
                <c:pt idx="129">
                  <c:v>8192</c:v>
                </c:pt>
                <c:pt idx="130">
                  <c:v>8192</c:v>
                </c:pt>
                <c:pt idx="131">
                  <c:v>8192</c:v>
                </c:pt>
                <c:pt idx="132">
                  <c:v>8192</c:v>
                </c:pt>
                <c:pt idx="133">
                  <c:v>8192</c:v>
                </c:pt>
                <c:pt idx="134">
                  <c:v>8192</c:v>
                </c:pt>
                <c:pt idx="135">
                  <c:v>8192</c:v>
                </c:pt>
                <c:pt idx="136">
                  <c:v>8192</c:v>
                </c:pt>
                <c:pt idx="137">
                  <c:v>8192</c:v>
                </c:pt>
                <c:pt idx="138">
                  <c:v>8192</c:v>
                </c:pt>
                <c:pt idx="139">
                  <c:v>8192</c:v>
                </c:pt>
                <c:pt idx="140">
                  <c:v>8192</c:v>
                </c:pt>
                <c:pt idx="141">
                  <c:v>8192</c:v>
                </c:pt>
                <c:pt idx="142">
                  <c:v>8192</c:v>
                </c:pt>
                <c:pt idx="143">
                  <c:v>8192</c:v>
                </c:pt>
                <c:pt idx="144">
                  <c:v>8192</c:v>
                </c:pt>
                <c:pt idx="145">
                  <c:v>8192</c:v>
                </c:pt>
                <c:pt idx="146">
                  <c:v>8192</c:v>
                </c:pt>
                <c:pt idx="147">
                  <c:v>8192</c:v>
                </c:pt>
                <c:pt idx="148">
                  <c:v>8192</c:v>
                </c:pt>
                <c:pt idx="149">
                  <c:v>8192</c:v>
                </c:pt>
                <c:pt idx="150">
                  <c:v>8192</c:v>
                </c:pt>
                <c:pt idx="151">
                  <c:v>8192</c:v>
                </c:pt>
                <c:pt idx="152">
                  <c:v>8192</c:v>
                </c:pt>
                <c:pt idx="153">
                  <c:v>8192</c:v>
                </c:pt>
                <c:pt idx="154">
                  <c:v>8192</c:v>
                </c:pt>
                <c:pt idx="155">
                  <c:v>8192</c:v>
                </c:pt>
                <c:pt idx="156">
                  <c:v>8192</c:v>
                </c:pt>
                <c:pt idx="157">
                  <c:v>8192</c:v>
                </c:pt>
                <c:pt idx="158">
                  <c:v>8192</c:v>
                </c:pt>
                <c:pt idx="159">
                  <c:v>8192</c:v>
                </c:pt>
                <c:pt idx="160">
                  <c:v>8192</c:v>
                </c:pt>
                <c:pt idx="161">
                  <c:v>8192</c:v>
                </c:pt>
                <c:pt idx="162">
                  <c:v>8192</c:v>
                </c:pt>
                <c:pt idx="163">
                  <c:v>8192</c:v>
                </c:pt>
                <c:pt idx="164">
                  <c:v>8192</c:v>
                </c:pt>
                <c:pt idx="165">
                  <c:v>8192</c:v>
                </c:pt>
                <c:pt idx="166">
                  <c:v>8192</c:v>
                </c:pt>
                <c:pt idx="167">
                  <c:v>8192</c:v>
                </c:pt>
                <c:pt idx="168">
                  <c:v>8192</c:v>
                </c:pt>
                <c:pt idx="169">
                  <c:v>8192</c:v>
                </c:pt>
                <c:pt idx="170">
                  <c:v>8192</c:v>
                </c:pt>
                <c:pt idx="171">
                  <c:v>8192</c:v>
                </c:pt>
                <c:pt idx="172">
                  <c:v>8192</c:v>
                </c:pt>
                <c:pt idx="173">
                  <c:v>8192</c:v>
                </c:pt>
                <c:pt idx="174">
                  <c:v>8192</c:v>
                </c:pt>
                <c:pt idx="175">
                  <c:v>8192</c:v>
                </c:pt>
                <c:pt idx="176">
                  <c:v>8192</c:v>
                </c:pt>
                <c:pt idx="177">
                  <c:v>8192</c:v>
                </c:pt>
                <c:pt idx="178">
                  <c:v>8192</c:v>
                </c:pt>
                <c:pt idx="179">
                  <c:v>8192</c:v>
                </c:pt>
                <c:pt idx="180">
                  <c:v>8192</c:v>
                </c:pt>
                <c:pt idx="181">
                  <c:v>8192</c:v>
                </c:pt>
                <c:pt idx="182">
                  <c:v>8192</c:v>
                </c:pt>
                <c:pt idx="183">
                  <c:v>8192</c:v>
                </c:pt>
                <c:pt idx="184">
                  <c:v>8192</c:v>
                </c:pt>
                <c:pt idx="185">
                  <c:v>8192</c:v>
                </c:pt>
                <c:pt idx="186">
                  <c:v>8192</c:v>
                </c:pt>
                <c:pt idx="187">
                  <c:v>8192</c:v>
                </c:pt>
                <c:pt idx="188">
                  <c:v>8192</c:v>
                </c:pt>
                <c:pt idx="189">
                  <c:v>8192</c:v>
                </c:pt>
                <c:pt idx="190">
                  <c:v>8192</c:v>
                </c:pt>
                <c:pt idx="191">
                  <c:v>8192</c:v>
                </c:pt>
                <c:pt idx="192">
                  <c:v>8192</c:v>
                </c:pt>
                <c:pt idx="193">
                  <c:v>8192</c:v>
                </c:pt>
                <c:pt idx="194">
                  <c:v>8192</c:v>
                </c:pt>
                <c:pt idx="195">
                  <c:v>8192</c:v>
                </c:pt>
                <c:pt idx="196">
                  <c:v>8192</c:v>
                </c:pt>
                <c:pt idx="197">
                  <c:v>8192</c:v>
                </c:pt>
                <c:pt idx="198">
                  <c:v>8192</c:v>
                </c:pt>
                <c:pt idx="199">
                  <c:v>8192</c:v>
                </c:pt>
                <c:pt idx="200">
                  <c:v>8192</c:v>
                </c:pt>
                <c:pt idx="201">
                  <c:v>8192</c:v>
                </c:pt>
                <c:pt idx="202">
                  <c:v>8192</c:v>
                </c:pt>
                <c:pt idx="203">
                  <c:v>8192</c:v>
                </c:pt>
                <c:pt idx="204">
                  <c:v>8192</c:v>
                </c:pt>
                <c:pt idx="205">
                  <c:v>8192</c:v>
                </c:pt>
                <c:pt idx="206">
                  <c:v>8192</c:v>
                </c:pt>
                <c:pt idx="207">
                  <c:v>8192</c:v>
                </c:pt>
                <c:pt idx="208">
                  <c:v>8192</c:v>
                </c:pt>
                <c:pt idx="209">
                  <c:v>8192</c:v>
                </c:pt>
                <c:pt idx="210">
                  <c:v>8192</c:v>
                </c:pt>
                <c:pt idx="211">
                  <c:v>8192</c:v>
                </c:pt>
                <c:pt idx="212">
                  <c:v>8192</c:v>
                </c:pt>
                <c:pt idx="213">
                  <c:v>8192</c:v>
                </c:pt>
                <c:pt idx="214">
                  <c:v>8192</c:v>
                </c:pt>
                <c:pt idx="215">
                  <c:v>8192</c:v>
                </c:pt>
                <c:pt idx="216">
                  <c:v>8192</c:v>
                </c:pt>
                <c:pt idx="217">
                  <c:v>8192</c:v>
                </c:pt>
                <c:pt idx="218">
                  <c:v>8192</c:v>
                </c:pt>
                <c:pt idx="219">
                  <c:v>8192</c:v>
                </c:pt>
                <c:pt idx="220">
                  <c:v>8192</c:v>
                </c:pt>
                <c:pt idx="221">
                  <c:v>8192</c:v>
                </c:pt>
                <c:pt idx="222">
                  <c:v>8192</c:v>
                </c:pt>
                <c:pt idx="223">
                  <c:v>8192</c:v>
                </c:pt>
                <c:pt idx="224">
                  <c:v>8192</c:v>
                </c:pt>
                <c:pt idx="225">
                  <c:v>8192</c:v>
                </c:pt>
                <c:pt idx="226">
                  <c:v>8192</c:v>
                </c:pt>
                <c:pt idx="227">
                  <c:v>8192</c:v>
                </c:pt>
                <c:pt idx="228">
                  <c:v>8192</c:v>
                </c:pt>
                <c:pt idx="229">
                  <c:v>8192</c:v>
                </c:pt>
                <c:pt idx="230">
                  <c:v>8192</c:v>
                </c:pt>
                <c:pt idx="231">
                  <c:v>8192</c:v>
                </c:pt>
                <c:pt idx="232">
                  <c:v>8192</c:v>
                </c:pt>
                <c:pt idx="233">
                  <c:v>8192</c:v>
                </c:pt>
                <c:pt idx="234">
                  <c:v>8192</c:v>
                </c:pt>
                <c:pt idx="235">
                  <c:v>8192</c:v>
                </c:pt>
                <c:pt idx="236">
                  <c:v>8192</c:v>
                </c:pt>
                <c:pt idx="237">
                  <c:v>8192</c:v>
                </c:pt>
                <c:pt idx="238">
                  <c:v>8192</c:v>
                </c:pt>
                <c:pt idx="239">
                  <c:v>8192</c:v>
                </c:pt>
                <c:pt idx="240">
                  <c:v>8192</c:v>
                </c:pt>
                <c:pt idx="241">
                  <c:v>8192</c:v>
                </c:pt>
                <c:pt idx="242">
                  <c:v>8192</c:v>
                </c:pt>
                <c:pt idx="243">
                  <c:v>8192</c:v>
                </c:pt>
                <c:pt idx="244">
                  <c:v>8192</c:v>
                </c:pt>
                <c:pt idx="245">
                  <c:v>8192</c:v>
                </c:pt>
                <c:pt idx="246">
                  <c:v>8192</c:v>
                </c:pt>
                <c:pt idx="247">
                  <c:v>8192</c:v>
                </c:pt>
                <c:pt idx="248">
                  <c:v>8192</c:v>
                </c:pt>
                <c:pt idx="249">
                  <c:v>8192</c:v>
                </c:pt>
                <c:pt idx="250">
                  <c:v>8192</c:v>
                </c:pt>
                <c:pt idx="251">
                  <c:v>8192</c:v>
                </c:pt>
                <c:pt idx="252">
                  <c:v>8192</c:v>
                </c:pt>
                <c:pt idx="253">
                  <c:v>8192</c:v>
                </c:pt>
                <c:pt idx="254">
                  <c:v>8192</c:v>
                </c:pt>
                <c:pt idx="255">
                  <c:v>8192</c:v>
                </c:pt>
                <c:pt idx="256">
                  <c:v>8192</c:v>
                </c:pt>
                <c:pt idx="257">
                  <c:v>8192</c:v>
                </c:pt>
                <c:pt idx="258">
                  <c:v>8192</c:v>
                </c:pt>
                <c:pt idx="259">
                  <c:v>8192</c:v>
                </c:pt>
                <c:pt idx="260">
                  <c:v>8192</c:v>
                </c:pt>
                <c:pt idx="261">
                  <c:v>8192</c:v>
                </c:pt>
                <c:pt idx="262">
                  <c:v>8192</c:v>
                </c:pt>
                <c:pt idx="263">
                  <c:v>8192</c:v>
                </c:pt>
                <c:pt idx="264">
                  <c:v>8192</c:v>
                </c:pt>
                <c:pt idx="265">
                  <c:v>8192</c:v>
                </c:pt>
                <c:pt idx="266">
                  <c:v>8192</c:v>
                </c:pt>
                <c:pt idx="267">
                  <c:v>8192</c:v>
                </c:pt>
                <c:pt idx="268">
                  <c:v>8192</c:v>
                </c:pt>
                <c:pt idx="269">
                  <c:v>8192</c:v>
                </c:pt>
                <c:pt idx="270">
                  <c:v>8192</c:v>
                </c:pt>
                <c:pt idx="271">
                  <c:v>8192</c:v>
                </c:pt>
                <c:pt idx="272">
                  <c:v>8192</c:v>
                </c:pt>
                <c:pt idx="273">
                  <c:v>8192</c:v>
                </c:pt>
                <c:pt idx="274">
                  <c:v>8192</c:v>
                </c:pt>
                <c:pt idx="275">
                  <c:v>8192</c:v>
                </c:pt>
                <c:pt idx="276">
                  <c:v>8192</c:v>
                </c:pt>
                <c:pt idx="277">
                  <c:v>8192</c:v>
                </c:pt>
                <c:pt idx="278">
                  <c:v>8192</c:v>
                </c:pt>
                <c:pt idx="279">
                  <c:v>8192</c:v>
                </c:pt>
                <c:pt idx="280">
                  <c:v>8192</c:v>
                </c:pt>
                <c:pt idx="281">
                  <c:v>8192</c:v>
                </c:pt>
                <c:pt idx="282">
                  <c:v>8192</c:v>
                </c:pt>
                <c:pt idx="283">
                  <c:v>8192</c:v>
                </c:pt>
                <c:pt idx="284">
                  <c:v>8192</c:v>
                </c:pt>
                <c:pt idx="285">
                  <c:v>8192</c:v>
                </c:pt>
                <c:pt idx="286">
                  <c:v>8192</c:v>
                </c:pt>
                <c:pt idx="287">
                  <c:v>8192</c:v>
                </c:pt>
                <c:pt idx="288">
                  <c:v>8192</c:v>
                </c:pt>
                <c:pt idx="289">
                  <c:v>8192</c:v>
                </c:pt>
                <c:pt idx="290">
                  <c:v>8192</c:v>
                </c:pt>
                <c:pt idx="291">
                  <c:v>8192</c:v>
                </c:pt>
                <c:pt idx="292">
                  <c:v>8192</c:v>
                </c:pt>
                <c:pt idx="293">
                  <c:v>8192</c:v>
                </c:pt>
                <c:pt idx="294">
                  <c:v>8192</c:v>
                </c:pt>
                <c:pt idx="295">
                  <c:v>8192</c:v>
                </c:pt>
                <c:pt idx="296">
                  <c:v>8192</c:v>
                </c:pt>
                <c:pt idx="297">
                  <c:v>8192</c:v>
                </c:pt>
                <c:pt idx="298">
                  <c:v>8192</c:v>
                </c:pt>
                <c:pt idx="299">
                  <c:v>8192</c:v>
                </c:pt>
                <c:pt idx="300">
                  <c:v>8192</c:v>
                </c:pt>
                <c:pt idx="301">
                  <c:v>8192</c:v>
                </c:pt>
                <c:pt idx="302">
                  <c:v>8192</c:v>
                </c:pt>
                <c:pt idx="303">
                  <c:v>8192</c:v>
                </c:pt>
                <c:pt idx="304">
                  <c:v>8192</c:v>
                </c:pt>
                <c:pt idx="305">
                  <c:v>8192</c:v>
                </c:pt>
                <c:pt idx="306">
                  <c:v>8192</c:v>
                </c:pt>
                <c:pt idx="307">
                  <c:v>8192</c:v>
                </c:pt>
                <c:pt idx="308">
                  <c:v>8192</c:v>
                </c:pt>
                <c:pt idx="309">
                  <c:v>8192</c:v>
                </c:pt>
                <c:pt idx="310">
                  <c:v>8192</c:v>
                </c:pt>
                <c:pt idx="311">
                  <c:v>8192</c:v>
                </c:pt>
                <c:pt idx="312">
                  <c:v>8192</c:v>
                </c:pt>
                <c:pt idx="313">
                  <c:v>8192</c:v>
                </c:pt>
                <c:pt idx="314">
                  <c:v>8192</c:v>
                </c:pt>
                <c:pt idx="315">
                  <c:v>8192</c:v>
                </c:pt>
                <c:pt idx="316">
                  <c:v>8192</c:v>
                </c:pt>
                <c:pt idx="317">
                  <c:v>8192</c:v>
                </c:pt>
                <c:pt idx="318">
                  <c:v>8192</c:v>
                </c:pt>
                <c:pt idx="319">
                  <c:v>8192</c:v>
                </c:pt>
                <c:pt idx="320">
                  <c:v>8192</c:v>
                </c:pt>
                <c:pt idx="321">
                  <c:v>8192</c:v>
                </c:pt>
                <c:pt idx="322">
                  <c:v>8192</c:v>
                </c:pt>
                <c:pt idx="323">
                  <c:v>8192</c:v>
                </c:pt>
                <c:pt idx="324">
                  <c:v>8192</c:v>
                </c:pt>
                <c:pt idx="325">
                  <c:v>8192</c:v>
                </c:pt>
                <c:pt idx="326">
                  <c:v>8192</c:v>
                </c:pt>
                <c:pt idx="327">
                  <c:v>8192</c:v>
                </c:pt>
                <c:pt idx="328">
                  <c:v>8192</c:v>
                </c:pt>
                <c:pt idx="329">
                  <c:v>8192</c:v>
                </c:pt>
                <c:pt idx="330">
                  <c:v>8192</c:v>
                </c:pt>
                <c:pt idx="331">
                  <c:v>8192</c:v>
                </c:pt>
                <c:pt idx="332">
                  <c:v>8192</c:v>
                </c:pt>
                <c:pt idx="333">
                  <c:v>8192</c:v>
                </c:pt>
                <c:pt idx="334">
                  <c:v>8192</c:v>
                </c:pt>
                <c:pt idx="335">
                  <c:v>8192</c:v>
                </c:pt>
                <c:pt idx="336">
                  <c:v>8192</c:v>
                </c:pt>
                <c:pt idx="337">
                  <c:v>8192</c:v>
                </c:pt>
                <c:pt idx="338">
                  <c:v>8192</c:v>
                </c:pt>
                <c:pt idx="339">
                  <c:v>8192</c:v>
                </c:pt>
                <c:pt idx="340">
                  <c:v>8192</c:v>
                </c:pt>
                <c:pt idx="341">
                  <c:v>8192</c:v>
                </c:pt>
                <c:pt idx="342">
                  <c:v>8192</c:v>
                </c:pt>
                <c:pt idx="343">
                  <c:v>8192</c:v>
                </c:pt>
                <c:pt idx="344">
                  <c:v>8192</c:v>
                </c:pt>
                <c:pt idx="345">
                  <c:v>8192</c:v>
                </c:pt>
                <c:pt idx="346">
                  <c:v>8192</c:v>
                </c:pt>
                <c:pt idx="347">
                  <c:v>8192</c:v>
                </c:pt>
                <c:pt idx="348">
                  <c:v>8192</c:v>
                </c:pt>
                <c:pt idx="349">
                  <c:v>8192</c:v>
                </c:pt>
                <c:pt idx="350">
                  <c:v>8192</c:v>
                </c:pt>
                <c:pt idx="351">
                  <c:v>8192</c:v>
                </c:pt>
                <c:pt idx="352">
                  <c:v>8192</c:v>
                </c:pt>
                <c:pt idx="353">
                  <c:v>8192</c:v>
                </c:pt>
                <c:pt idx="354">
                  <c:v>8192</c:v>
                </c:pt>
                <c:pt idx="355">
                  <c:v>8192</c:v>
                </c:pt>
                <c:pt idx="356">
                  <c:v>8192</c:v>
                </c:pt>
                <c:pt idx="357">
                  <c:v>8192</c:v>
                </c:pt>
                <c:pt idx="358">
                  <c:v>8192</c:v>
                </c:pt>
                <c:pt idx="359">
                  <c:v>8192</c:v>
                </c:pt>
                <c:pt idx="360">
                  <c:v>8192</c:v>
                </c:pt>
                <c:pt idx="361">
                  <c:v>8192</c:v>
                </c:pt>
                <c:pt idx="362">
                  <c:v>8192</c:v>
                </c:pt>
                <c:pt idx="363">
                  <c:v>8192</c:v>
                </c:pt>
                <c:pt idx="364">
                  <c:v>8192</c:v>
                </c:pt>
                <c:pt idx="365">
                  <c:v>8192</c:v>
                </c:pt>
                <c:pt idx="366">
                  <c:v>8192</c:v>
                </c:pt>
                <c:pt idx="367">
                  <c:v>8192</c:v>
                </c:pt>
                <c:pt idx="368">
                  <c:v>8192</c:v>
                </c:pt>
                <c:pt idx="369">
                  <c:v>8192</c:v>
                </c:pt>
                <c:pt idx="370">
                  <c:v>8192</c:v>
                </c:pt>
                <c:pt idx="371">
                  <c:v>8192</c:v>
                </c:pt>
                <c:pt idx="372">
                  <c:v>8192</c:v>
                </c:pt>
                <c:pt idx="373">
                  <c:v>8192</c:v>
                </c:pt>
                <c:pt idx="374">
                  <c:v>8192</c:v>
                </c:pt>
                <c:pt idx="375">
                  <c:v>8192</c:v>
                </c:pt>
                <c:pt idx="376">
                  <c:v>8192</c:v>
                </c:pt>
                <c:pt idx="377">
                  <c:v>8192</c:v>
                </c:pt>
                <c:pt idx="378">
                  <c:v>8192</c:v>
                </c:pt>
                <c:pt idx="379">
                  <c:v>8192</c:v>
                </c:pt>
                <c:pt idx="380">
                  <c:v>8192</c:v>
                </c:pt>
                <c:pt idx="381">
                  <c:v>8192</c:v>
                </c:pt>
                <c:pt idx="382">
                  <c:v>8192</c:v>
                </c:pt>
                <c:pt idx="383">
                  <c:v>8192</c:v>
                </c:pt>
                <c:pt idx="384">
                  <c:v>8192</c:v>
                </c:pt>
                <c:pt idx="385">
                  <c:v>8192</c:v>
                </c:pt>
                <c:pt idx="386">
                  <c:v>8192</c:v>
                </c:pt>
                <c:pt idx="387">
                  <c:v>8192</c:v>
                </c:pt>
                <c:pt idx="388">
                  <c:v>8192</c:v>
                </c:pt>
                <c:pt idx="389">
                  <c:v>8192</c:v>
                </c:pt>
                <c:pt idx="390">
                  <c:v>8192</c:v>
                </c:pt>
                <c:pt idx="391">
                  <c:v>8192</c:v>
                </c:pt>
                <c:pt idx="392">
                  <c:v>8192</c:v>
                </c:pt>
                <c:pt idx="393">
                  <c:v>8192</c:v>
                </c:pt>
                <c:pt idx="394">
                  <c:v>8192</c:v>
                </c:pt>
                <c:pt idx="395">
                  <c:v>8192</c:v>
                </c:pt>
                <c:pt idx="396">
                  <c:v>8192</c:v>
                </c:pt>
                <c:pt idx="397">
                  <c:v>8192</c:v>
                </c:pt>
                <c:pt idx="398">
                  <c:v>8192</c:v>
                </c:pt>
                <c:pt idx="399">
                  <c:v>8192</c:v>
                </c:pt>
                <c:pt idx="400">
                  <c:v>8192</c:v>
                </c:pt>
                <c:pt idx="401">
                  <c:v>8192</c:v>
                </c:pt>
                <c:pt idx="402">
                  <c:v>8192</c:v>
                </c:pt>
                <c:pt idx="403">
                  <c:v>8192</c:v>
                </c:pt>
                <c:pt idx="404">
                  <c:v>8192</c:v>
                </c:pt>
                <c:pt idx="405">
                  <c:v>8192</c:v>
                </c:pt>
                <c:pt idx="406">
                  <c:v>8192</c:v>
                </c:pt>
                <c:pt idx="407">
                  <c:v>8192</c:v>
                </c:pt>
                <c:pt idx="408">
                  <c:v>8192</c:v>
                </c:pt>
                <c:pt idx="409">
                  <c:v>8192</c:v>
                </c:pt>
                <c:pt idx="410">
                  <c:v>8192</c:v>
                </c:pt>
                <c:pt idx="411">
                  <c:v>8192</c:v>
                </c:pt>
                <c:pt idx="412">
                  <c:v>8192</c:v>
                </c:pt>
                <c:pt idx="413">
                  <c:v>8192</c:v>
                </c:pt>
                <c:pt idx="414">
                  <c:v>8192</c:v>
                </c:pt>
                <c:pt idx="415">
                  <c:v>8192</c:v>
                </c:pt>
                <c:pt idx="416">
                  <c:v>8192</c:v>
                </c:pt>
                <c:pt idx="417">
                  <c:v>8192</c:v>
                </c:pt>
                <c:pt idx="418">
                  <c:v>8192</c:v>
                </c:pt>
                <c:pt idx="419">
                  <c:v>8192</c:v>
                </c:pt>
                <c:pt idx="420">
                  <c:v>8192</c:v>
                </c:pt>
                <c:pt idx="421">
                  <c:v>8192</c:v>
                </c:pt>
                <c:pt idx="422">
                  <c:v>8192</c:v>
                </c:pt>
                <c:pt idx="423">
                  <c:v>8192</c:v>
                </c:pt>
                <c:pt idx="424">
                  <c:v>8192</c:v>
                </c:pt>
                <c:pt idx="425">
                  <c:v>8192</c:v>
                </c:pt>
                <c:pt idx="426">
                  <c:v>8192</c:v>
                </c:pt>
                <c:pt idx="427">
                  <c:v>8192</c:v>
                </c:pt>
                <c:pt idx="428">
                  <c:v>8192</c:v>
                </c:pt>
                <c:pt idx="429">
                  <c:v>8192</c:v>
                </c:pt>
                <c:pt idx="430">
                  <c:v>8192</c:v>
                </c:pt>
                <c:pt idx="431">
                  <c:v>8192</c:v>
                </c:pt>
                <c:pt idx="432">
                  <c:v>8192</c:v>
                </c:pt>
                <c:pt idx="433">
                  <c:v>8192</c:v>
                </c:pt>
                <c:pt idx="434">
                  <c:v>8192</c:v>
                </c:pt>
                <c:pt idx="435">
                  <c:v>8192</c:v>
                </c:pt>
                <c:pt idx="436">
                  <c:v>8192</c:v>
                </c:pt>
                <c:pt idx="437">
                  <c:v>8192</c:v>
                </c:pt>
                <c:pt idx="438">
                  <c:v>8192</c:v>
                </c:pt>
                <c:pt idx="439">
                  <c:v>8192</c:v>
                </c:pt>
                <c:pt idx="440">
                  <c:v>8192</c:v>
                </c:pt>
                <c:pt idx="441">
                  <c:v>8192</c:v>
                </c:pt>
                <c:pt idx="442">
                  <c:v>8192</c:v>
                </c:pt>
                <c:pt idx="443">
                  <c:v>8192</c:v>
                </c:pt>
                <c:pt idx="444">
                  <c:v>8192</c:v>
                </c:pt>
                <c:pt idx="445">
                  <c:v>8192</c:v>
                </c:pt>
                <c:pt idx="446">
                  <c:v>8192</c:v>
                </c:pt>
                <c:pt idx="447">
                  <c:v>8192</c:v>
                </c:pt>
                <c:pt idx="448">
                  <c:v>8192</c:v>
                </c:pt>
                <c:pt idx="449">
                  <c:v>8192</c:v>
                </c:pt>
                <c:pt idx="450">
                  <c:v>8192</c:v>
                </c:pt>
                <c:pt idx="451">
                  <c:v>8192</c:v>
                </c:pt>
                <c:pt idx="452">
                  <c:v>8192</c:v>
                </c:pt>
                <c:pt idx="453">
                  <c:v>8192</c:v>
                </c:pt>
                <c:pt idx="454">
                  <c:v>8192</c:v>
                </c:pt>
                <c:pt idx="455">
                  <c:v>8192</c:v>
                </c:pt>
                <c:pt idx="456">
                  <c:v>8192</c:v>
                </c:pt>
                <c:pt idx="457">
                  <c:v>8192</c:v>
                </c:pt>
                <c:pt idx="458">
                  <c:v>8192</c:v>
                </c:pt>
                <c:pt idx="459">
                  <c:v>8192</c:v>
                </c:pt>
                <c:pt idx="460">
                  <c:v>8192</c:v>
                </c:pt>
                <c:pt idx="461">
                  <c:v>8192</c:v>
                </c:pt>
                <c:pt idx="462">
                  <c:v>8192</c:v>
                </c:pt>
                <c:pt idx="463">
                  <c:v>8192</c:v>
                </c:pt>
                <c:pt idx="464">
                  <c:v>8192</c:v>
                </c:pt>
                <c:pt idx="465">
                  <c:v>8192</c:v>
                </c:pt>
                <c:pt idx="466">
                  <c:v>8192</c:v>
                </c:pt>
                <c:pt idx="467">
                  <c:v>8192</c:v>
                </c:pt>
                <c:pt idx="468">
                  <c:v>8192</c:v>
                </c:pt>
                <c:pt idx="469">
                  <c:v>8192</c:v>
                </c:pt>
                <c:pt idx="470">
                  <c:v>8192</c:v>
                </c:pt>
                <c:pt idx="471">
                  <c:v>8192</c:v>
                </c:pt>
                <c:pt idx="472">
                  <c:v>8192</c:v>
                </c:pt>
                <c:pt idx="473">
                  <c:v>8192</c:v>
                </c:pt>
                <c:pt idx="474">
                  <c:v>8192</c:v>
                </c:pt>
                <c:pt idx="475">
                  <c:v>8192</c:v>
                </c:pt>
                <c:pt idx="476">
                  <c:v>8192</c:v>
                </c:pt>
                <c:pt idx="477">
                  <c:v>8192</c:v>
                </c:pt>
                <c:pt idx="478">
                  <c:v>8192</c:v>
                </c:pt>
                <c:pt idx="479">
                  <c:v>8192</c:v>
                </c:pt>
                <c:pt idx="480">
                  <c:v>8192</c:v>
                </c:pt>
                <c:pt idx="481">
                  <c:v>8192</c:v>
                </c:pt>
                <c:pt idx="482">
                  <c:v>8192</c:v>
                </c:pt>
                <c:pt idx="483">
                  <c:v>8192</c:v>
                </c:pt>
                <c:pt idx="484">
                  <c:v>8192</c:v>
                </c:pt>
                <c:pt idx="485">
                  <c:v>8192</c:v>
                </c:pt>
                <c:pt idx="486">
                  <c:v>8192</c:v>
                </c:pt>
                <c:pt idx="487">
                  <c:v>8192</c:v>
                </c:pt>
                <c:pt idx="488">
                  <c:v>8192</c:v>
                </c:pt>
                <c:pt idx="489">
                  <c:v>8192</c:v>
                </c:pt>
                <c:pt idx="490">
                  <c:v>8192</c:v>
                </c:pt>
                <c:pt idx="491">
                  <c:v>8192</c:v>
                </c:pt>
                <c:pt idx="492">
                  <c:v>8192</c:v>
                </c:pt>
                <c:pt idx="493">
                  <c:v>8192</c:v>
                </c:pt>
                <c:pt idx="494">
                  <c:v>8192</c:v>
                </c:pt>
                <c:pt idx="495">
                  <c:v>8192</c:v>
                </c:pt>
                <c:pt idx="496">
                  <c:v>8192</c:v>
                </c:pt>
                <c:pt idx="497">
                  <c:v>8192</c:v>
                </c:pt>
                <c:pt idx="498">
                  <c:v>8192</c:v>
                </c:pt>
                <c:pt idx="499">
                  <c:v>8192</c:v>
                </c:pt>
                <c:pt idx="500">
                  <c:v>8192</c:v>
                </c:pt>
                <c:pt idx="501">
                  <c:v>8192</c:v>
                </c:pt>
                <c:pt idx="502">
                  <c:v>8192</c:v>
                </c:pt>
                <c:pt idx="503">
                  <c:v>8192</c:v>
                </c:pt>
                <c:pt idx="504">
                  <c:v>8192</c:v>
                </c:pt>
                <c:pt idx="505">
                  <c:v>8192</c:v>
                </c:pt>
                <c:pt idx="506">
                  <c:v>8192</c:v>
                </c:pt>
                <c:pt idx="507">
                  <c:v>8192</c:v>
                </c:pt>
                <c:pt idx="508">
                  <c:v>8192</c:v>
                </c:pt>
                <c:pt idx="509">
                  <c:v>8192</c:v>
                </c:pt>
                <c:pt idx="510">
                  <c:v>8192</c:v>
                </c:pt>
                <c:pt idx="511">
                  <c:v>8192</c:v>
                </c:pt>
                <c:pt idx="512">
                  <c:v>8192</c:v>
                </c:pt>
                <c:pt idx="513">
                  <c:v>8192</c:v>
                </c:pt>
                <c:pt idx="514">
                  <c:v>8192</c:v>
                </c:pt>
                <c:pt idx="515">
                  <c:v>8192</c:v>
                </c:pt>
                <c:pt idx="516">
                  <c:v>8192</c:v>
                </c:pt>
                <c:pt idx="517">
                  <c:v>8192</c:v>
                </c:pt>
                <c:pt idx="518">
                  <c:v>8192</c:v>
                </c:pt>
                <c:pt idx="519">
                  <c:v>8192</c:v>
                </c:pt>
                <c:pt idx="520">
                  <c:v>8192</c:v>
                </c:pt>
                <c:pt idx="521">
                  <c:v>8192</c:v>
                </c:pt>
                <c:pt idx="522">
                  <c:v>8192</c:v>
                </c:pt>
                <c:pt idx="523">
                  <c:v>8192</c:v>
                </c:pt>
                <c:pt idx="524">
                  <c:v>8192</c:v>
                </c:pt>
                <c:pt idx="525">
                  <c:v>8192</c:v>
                </c:pt>
                <c:pt idx="526">
                  <c:v>8192</c:v>
                </c:pt>
                <c:pt idx="527">
                  <c:v>8192</c:v>
                </c:pt>
                <c:pt idx="528">
                  <c:v>8192</c:v>
                </c:pt>
                <c:pt idx="529">
                  <c:v>8192</c:v>
                </c:pt>
                <c:pt idx="530">
                  <c:v>8192</c:v>
                </c:pt>
                <c:pt idx="531">
                  <c:v>8192</c:v>
                </c:pt>
                <c:pt idx="532">
                  <c:v>8192</c:v>
                </c:pt>
                <c:pt idx="533">
                  <c:v>8192</c:v>
                </c:pt>
                <c:pt idx="534">
                  <c:v>8192</c:v>
                </c:pt>
                <c:pt idx="535">
                  <c:v>8192</c:v>
                </c:pt>
                <c:pt idx="536">
                  <c:v>8192</c:v>
                </c:pt>
                <c:pt idx="537">
                  <c:v>8192</c:v>
                </c:pt>
                <c:pt idx="538">
                  <c:v>8192</c:v>
                </c:pt>
                <c:pt idx="539">
                  <c:v>8192</c:v>
                </c:pt>
                <c:pt idx="540">
                  <c:v>8192</c:v>
                </c:pt>
                <c:pt idx="541">
                  <c:v>8192</c:v>
                </c:pt>
                <c:pt idx="542">
                  <c:v>8192</c:v>
                </c:pt>
                <c:pt idx="543">
                  <c:v>8192</c:v>
                </c:pt>
                <c:pt idx="544">
                  <c:v>8192</c:v>
                </c:pt>
                <c:pt idx="545">
                  <c:v>8192</c:v>
                </c:pt>
                <c:pt idx="546">
                  <c:v>8192</c:v>
                </c:pt>
                <c:pt idx="547">
                  <c:v>8192</c:v>
                </c:pt>
                <c:pt idx="548">
                  <c:v>8192</c:v>
                </c:pt>
                <c:pt idx="549">
                  <c:v>8192</c:v>
                </c:pt>
                <c:pt idx="550">
                  <c:v>8192</c:v>
                </c:pt>
                <c:pt idx="551">
                  <c:v>8192</c:v>
                </c:pt>
                <c:pt idx="552">
                  <c:v>8192</c:v>
                </c:pt>
                <c:pt idx="553">
                  <c:v>8192</c:v>
                </c:pt>
                <c:pt idx="554">
                  <c:v>8192</c:v>
                </c:pt>
                <c:pt idx="555">
                  <c:v>8192</c:v>
                </c:pt>
                <c:pt idx="556">
                  <c:v>8192</c:v>
                </c:pt>
                <c:pt idx="557">
                  <c:v>8192</c:v>
                </c:pt>
                <c:pt idx="558">
                  <c:v>8192</c:v>
                </c:pt>
                <c:pt idx="559">
                  <c:v>8192</c:v>
                </c:pt>
                <c:pt idx="560">
                  <c:v>8192</c:v>
                </c:pt>
                <c:pt idx="561">
                  <c:v>8192</c:v>
                </c:pt>
                <c:pt idx="562">
                  <c:v>8192</c:v>
                </c:pt>
                <c:pt idx="563">
                  <c:v>8192</c:v>
                </c:pt>
                <c:pt idx="564">
                  <c:v>8192</c:v>
                </c:pt>
                <c:pt idx="565">
                  <c:v>8192</c:v>
                </c:pt>
                <c:pt idx="566">
                  <c:v>8192</c:v>
                </c:pt>
                <c:pt idx="567">
                  <c:v>8192</c:v>
                </c:pt>
                <c:pt idx="568">
                  <c:v>8192</c:v>
                </c:pt>
                <c:pt idx="569">
                  <c:v>8192</c:v>
                </c:pt>
                <c:pt idx="570">
                  <c:v>8192</c:v>
                </c:pt>
                <c:pt idx="571">
                  <c:v>8192</c:v>
                </c:pt>
                <c:pt idx="572">
                  <c:v>8192</c:v>
                </c:pt>
                <c:pt idx="573">
                  <c:v>8192</c:v>
                </c:pt>
                <c:pt idx="574">
                  <c:v>8192</c:v>
                </c:pt>
                <c:pt idx="575">
                  <c:v>8192</c:v>
                </c:pt>
                <c:pt idx="576">
                  <c:v>8192</c:v>
                </c:pt>
                <c:pt idx="577">
                  <c:v>8192</c:v>
                </c:pt>
                <c:pt idx="578">
                  <c:v>8192</c:v>
                </c:pt>
                <c:pt idx="579">
                  <c:v>8192</c:v>
                </c:pt>
                <c:pt idx="580">
                  <c:v>8192</c:v>
                </c:pt>
                <c:pt idx="581">
                  <c:v>8192</c:v>
                </c:pt>
                <c:pt idx="582">
                  <c:v>8192</c:v>
                </c:pt>
                <c:pt idx="583">
                  <c:v>8192</c:v>
                </c:pt>
                <c:pt idx="584">
                  <c:v>8192</c:v>
                </c:pt>
                <c:pt idx="585">
                  <c:v>8192</c:v>
                </c:pt>
                <c:pt idx="586">
                  <c:v>8192</c:v>
                </c:pt>
                <c:pt idx="587">
                  <c:v>8192</c:v>
                </c:pt>
                <c:pt idx="588">
                  <c:v>8192</c:v>
                </c:pt>
                <c:pt idx="589">
                  <c:v>8192</c:v>
                </c:pt>
                <c:pt idx="590">
                  <c:v>8192</c:v>
                </c:pt>
                <c:pt idx="591">
                  <c:v>8192</c:v>
                </c:pt>
                <c:pt idx="592">
                  <c:v>8192</c:v>
                </c:pt>
                <c:pt idx="593">
                  <c:v>8192</c:v>
                </c:pt>
                <c:pt idx="594">
                  <c:v>8192</c:v>
                </c:pt>
                <c:pt idx="595">
                  <c:v>8192</c:v>
                </c:pt>
                <c:pt idx="596">
                  <c:v>8192</c:v>
                </c:pt>
                <c:pt idx="597">
                  <c:v>8192</c:v>
                </c:pt>
                <c:pt idx="598">
                  <c:v>8192</c:v>
                </c:pt>
                <c:pt idx="599">
                  <c:v>8192</c:v>
                </c:pt>
                <c:pt idx="600">
                  <c:v>8192</c:v>
                </c:pt>
                <c:pt idx="601">
                  <c:v>8192</c:v>
                </c:pt>
                <c:pt idx="602">
                  <c:v>8192</c:v>
                </c:pt>
                <c:pt idx="603">
                  <c:v>8192</c:v>
                </c:pt>
                <c:pt idx="604">
                  <c:v>8192</c:v>
                </c:pt>
                <c:pt idx="605">
                  <c:v>8192</c:v>
                </c:pt>
                <c:pt idx="606">
                  <c:v>8192</c:v>
                </c:pt>
                <c:pt idx="607">
                  <c:v>8192</c:v>
                </c:pt>
                <c:pt idx="608">
                  <c:v>8192</c:v>
                </c:pt>
                <c:pt idx="609">
                  <c:v>8192</c:v>
                </c:pt>
                <c:pt idx="610">
                  <c:v>8192</c:v>
                </c:pt>
                <c:pt idx="611">
                  <c:v>8192</c:v>
                </c:pt>
                <c:pt idx="612">
                  <c:v>8192</c:v>
                </c:pt>
                <c:pt idx="613">
                  <c:v>8192</c:v>
                </c:pt>
                <c:pt idx="614">
                  <c:v>8192</c:v>
                </c:pt>
                <c:pt idx="615">
                  <c:v>8192</c:v>
                </c:pt>
                <c:pt idx="616">
                  <c:v>8192</c:v>
                </c:pt>
                <c:pt idx="617">
                  <c:v>8192</c:v>
                </c:pt>
                <c:pt idx="618">
                  <c:v>8192</c:v>
                </c:pt>
                <c:pt idx="619">
                  <c:v>8192</c:v>
                </c:pt>
                <c:pt idx="620">
                  <c:v>8192</c:v>
                </c:pt>
                <c:pt idx="621">
                  <c:v>8192</c:v>
                </c:pt>
                <c:pt idx="622">
                  <c:v>8192</c:v>
                </c:pt>
                <c:pt idx="623">
                  <c:v>8192</c:v>
                </c:pt>
                <c:pt idx="624">
                  <c:v>8192</c:v>
                </c:pt>
                <c:pt idx="625">
                  <c:v>8192</c:v>
                </c:pt>
                <c:pt idx="626">
                  <c:v>8192</c:v>
                </c:pt>
                <c:pt idx="627">
                  <c:v>8192</c:v>
                </c:pt>
                <c:pt idx="628">
                  <c:v>8192</c:v>
                </c:pt>
                <c:pt idx="629">
                  <c:v>8192</c:v>
                </c:pt>
                <c:pt idx="630">
                  <c:v>8192</c:v>
                </c:pt>
                <c:pt idx="631">
                  <c:v>8192</c:v>
                </c:pt>
                <c:pt idx="632">
                  <c:v>8192</c:v>
                </c:pt>
                <c:pt idx="633">
                  <c:v>8192</c:v>
                </c:pt>
                <c:pt idx="634">
                  <c:v>8192</c:v>
                </c:pt>
                <c:pt idx="635">
                  <c:v>8192</c:v>
                </c:pt>
                <c:pt idx="636">
                  <c:v>8192</c:v>
                </c:pt>
                <c:pt idx="637">
                  <c:v>8192</c:v>
                </c:pt>
                <c:pt idx="638">
                  <c:v>8192</c:v>
                </c:pt>
                <c:pt idx="639">
                  <c:v>8192</c:v>
                </c:pt>
                <c:pt idx="640">
                  <c:v>8192</c:v>
                </c:pt>
                <c:pt idx="641">
                  <c:v>8192</c:v>
                </c:pt>
                <c:pt idx="642">
                  <c:v>8192</c:v>
                </c:pt>
                <c:pt idx="643">
                  <c:v>8192</c:v>
                </c:pt>
                <c:pt idx="644">
                  <c:v>8192</c:v>
                </c:pt>
                <c:pt idx="645">
                  <c:v>8192</c:v>
                </c:pt>
                <c:pt idx="646">
                  <c:v>8192</c:v>
                </c:pt>
                <c:pt idx="647">
                  <c:v>8192</c:v>
                </c:pt>
                <c:pt idx="648">
                  <c:v>8192</c:v>
                </c:pt>
                <c:pt idx="649">
                  <c:v>8192</c:v>
                </c:pt>
                <c:pt idx="650">
                  <c:v>8192</c:v>
                </c:pt>
                <c:pt idx="651">
                  <c:v>8192</c:v>
                </c:pt>
                <c:pt idx="652">
                  <c:v>8192</c:v>
                </c:pt>
                <c:pt idx="653">
                  <c:v>8192</c:v>
                </c:pt>
                <c:pt idx="654">
                  <c:v>8192</c:v>
                </c:pt>
                <c:pt idx="655">
                  <c:v>8192</c:v>
                </c:pt>
                <c:pt idx="656">
                  <c:v>8192</c:v>
                </c:pt>
                <c:pt idx="657">
                  <c:v>8192</c:v>
                </c:pt>
                <c:pt idx="658">
                  <c:v>8192</c:v>
                </c:pt>
                <c:pt idx="659">
                  <c:v>8192</c:v>
                </c:pt>
                <c:pt idx="660">
                  <c:v>8192</c:v>
                </c:pt>
                <c:pt idx="661">
                  <c:v>8192</c:v>
                </c:pt>
                <c:pt idx="662">
                  <c:v>8192</c:v>
                </c:pt>
                <c:pt idx="663">
                  <c:v>8192</c:v>
                </c:pt>
                <c:pt idx="664">
                  <c:v>8192</c:v>
                </c:pt>
                <c:pt idx="665">
                  <c:v>8192</c:v>
                </c:pt>
                <c:pt idx="666">
                  <c:v>8192</c:v>
                </c:pt>
                <c:pt idx="667">
                  <c:v>8192</c:v>
                </c:pt>
                <c:pt idx="668">
                  <c:v>8192</c:v>
                </c:pt>
                <c:pt idx="669">
                  <c:v>8192</c:v>
                </c:pt>
                <c:pt idx="670">
                  <c:v>8192</c:v>
                </c:pt>
                <c:pt idx="671">
                  <c:v>8192</c:v>
                </c:pt>
                <c:pt idx="672">
                  <c:v>8192</c:v>
                </c:pt>
                <c:pt idx="673">
                  <c:v>8192</c:v>
                </c:pt>
                <c:pt idx="674">
                  <c:v>8192</c:v>
                </c:pt>
                <c:pt idx="675">
                  <c:v>8192</c:v>
                </c:pt>
                <c:pt idx="676">
                  <c:v>8192</c:v>
                </c:pt>
                <c:pt idx="677">
                  <c:v>8192</c:v>
                </c:pt>
                <c:pt idx="678">
                  <c:v>8192</c:v>
                </c:pt>
                <c:pt idx="679">
                  <c:v>8192</c:v>
                </c:pt>
                <c:pt idx="680">
                  <c:v>8192</c:v>
                </c:pt>
                <c:pt idx="681">
                  <c:v>8192</c:v>
                </c:pt>
                <c:pt idx="682">
                  <c:v>8192</c:v>
                </c:pt>
                <c:pt idx="683">
                  <c:v>8192</c:v>
                </c:pt>
                <c:pt idx="684">
                  <c:v>8192</c:v>
                </c:pt>
                <c:pt idx="685">
                  <c:v>8192</c:v>
                </c:pt>
                <c:pt idx="686">
                  <c:v>8192</c:v>
                </c:pt>
                <c:pt idx="687">
                  <c:v>8192</c:v>
                </c:pt>
                <c:pt idx="688">
                  <c:v>8192</c:v>
                </c:pt>
                <c:pt idx="689">
                  <c:v>8192</c:v>
                </c:pt>
                <c:pt idx="690">
                  <c:v>8192</c:v>
                </c:pt>
                <c:pt idx="691">
                  <c:v>8192</c:v>
                </c:pt>
                <c:pt idx="692">
                  <c:v>8192</c:v>
                </c:pt>
                <c:pt idx="693">
                  <c:v>8192</c:v>
                </c:pt>
                <c:pt idx="694">
                  <c:v>8192</c:v>
                </c:pt>
                <c:pt idx="695">
                  <c:v>8192</c:v>
                </c:pt>
                <c:pt idx="696">
                  <c:v>8192</c:v>
                </c:pt>
                <c:pt idx="697">
                  <c:v>8192</c:v>
                </c:pt>
                <c:pt idx="698">
                  <c:v>8192</c:v>
                </c:pt>
                <c:pt idx="699">
                  <c:v>8192</c:v>
                </c:pt>
                <c:pt idx="700">
                  <c:v>8192</c:v>
                </c:pt>
                <c:pt idx="701">
                  <c:v>8192</c:v>
                </c:pt>
                <c:pt idx="702">
                  <c:v>8192</c:v>
                </c:pt>
                <c:pt idx="703">
                  <c:v>8192</c:v>
                </c:pt>
                <c:pt idx="704">
                  <c:v>8192</c:v>
                </c:pt>
                <c:pt idx="705">
                  <c:v>8192</c:v>
                </c:pt>
                <c:pt idx="706">
                  <c:v>8192</c:v>
                </c:pt>
                <c:pt idx="707">
                  <c:v>8192</c:v>
                </c:pt>
                <c:pt idx="708">
                  <c:v>8192</c:v>
                </c:pt>
                <c:pt idx="709">
                  <c:v>8192</c:v>
                </c:pt>
                <c:pt idx="710">
                  <c:v>8192</c:v>
                </c:pt>
                <c:pt idx="711">
                  <c:v>8192</c:v>
                </c:pt>
                <c:pt idx="712">
                  <c:v>8192</c:v>
                </c:pt>
                <c:pt idx="713">
                  <c:v>8192</c:v>
                </c:pt>
                <c:pt idx="714">
                  <c:v>8192</c:v>
                </c:pt>
                <c:pt idx="715">
                  <c:v>8192</c:v>
                </c:pt>
                <c:pt idx="716">
                  <c:v>8192</c:v>
                </c:pt>
                <c:pt idx="717">
                  <c:v>8192</c:v>
                </c:pt>
                <c:pt idx="718">
                  <c:v>8192</c:v>
                </c:pt>
                <c:pt idx="719">
                  <c:v>8192</c:v>
                </c:pt>
                <c:pt idx="720">
                  <c:v>8192</c:v>
                </c:pt>
                <c:pt idx="721">
                  <c:v>8192</c:v>
                </c:pt>
                <c:pt idx="722">
                  <c:v>8192</c:v>
                </c:pt>
                <c:pt idx="723">
                  <c:v>8192</c:v>
                </c:pt>
                <c:pt idx="724">
                  <c:v>8192</c:v>
                </c:pt>
                <c:pt idx="725">
                  <c:v>8192</c:v>
                </c:pt>
                <c:pt idx="726">
                  <c:v>8192</c:v>
                </c:pt>
                <c:pt idx="727">
                  <c:v>8192</c:v>
                </c:pt>
                <c:pt idx="728">
                  <c:v>8192</c:v>
                </c:pt>
                <c:pt idx="729">
                  <c:v>8192</c:v>
                </c:pt>
                <c:pt idx="730">
                  <c:v>8192</c:v>
                </c:pt>
                <c:pt idx="731">
                  <c:v>8192</c:v>
                </c:pt>
                <c:pt idx="732">
                  <c:v>8192</c:v>
                </c:pt>
                <c:pt idx="733">
                  <c:v>8192</c:v>
                </c:pt>
                <c:pt idx="734">
                  <c:v>8192</c:v>
                </c:pt>
                <c:pt idx="735">
                  <c:v>8192</c:v>
                </c:pt>
                <c:pt idx="736">
                  <c:v>8192</c:v>
                </c:pt>
                <c:pt idx="737">
                  <c:v>8192</c:v>
                </c:pt>
                <c:pt idx="738">
                  <c:v>8192</c:v>
                </c:pt>
                <c:pt idx="739">
                  <c:v>8192</c:v>
                </c:pt>
                <c:pt idx="740">
                  <c:v>8192</c:v>
                </c:pt>
                <c:pt idx="741">
                  <c:v>8192</c:v>
                </c:pt>
                <c:pt idx="742">
                  <c:v>8192</c:v>
                </c:pt>
                <c:pt idx="743">
                  <c:v>8192</c:v>
                </c:pt>
                <c:pt idx="744">
                  <c:v>8192</c:v>
                </c:pt>
                <c:pt idx="745">
                  <c:v>8192</c:v>
                </c:pt>
                <c:pt idx="746">
                  <c:v>8192</c:v>
                </c:pt>
                <c:pt idx="747">
                  <c:v>8192</c:v>
                </c:pt>
                <c:pt idx="748">
                  <c:v>8192</c:v>
                </c:pt>
                <c:pt idx="749">
                  <c:v>8192</c:v>
                </c:pt>
                <c:pt idx="750">
                  <c:v>8192</c:v>
                </c:pt>
                <c:pt idx="751">
                  <c:v>8192</c:v>
                </c:pt>
                <c:pt idx="752">
                  <c:v>8192</c:v>
                </c:pt>
                <c:pt idx="753">
                  <c:v>8192</c:v>
                </c:pt>
                <c:pt idx="754">
                  <c:v>8192</c:v>
                </c:pt>
                <c:pt idx="755">
                  <c:v>8192</c:v>
                </c:pt>
                <c:pt idx="756">
                  <c:v>8192</c:v>
                </c:pt>
                <c:pt idx="757">
                  <c:v>8192</c:v>
                </c:pt>
                <c:pt idx="758">
                  <c:v>8192</c:v>
                </c:pt>
                <c:pt idx="759">
                  <c:v>8192</c:v>
                </c:pt>
                <c:pt idx="760">
                  <c:v>8192</c:v>
                </c:pt>
                <c:pt idx="761">
                  <c:v>8192</c:v>
                </c:pt>
                <c:pt idx="762">
                  <c:v>8192</c:v>
                </c:pt>
                <c:pt idx="763">
                  <c:v>8192</c:v>
                </c:pt>
                <c:pt idx="764">
                  <c:v>8192</c:v>
                </c:pt>
                <c:pt idx="765">
                  <c:v>8192</c:v>
                </c:pt>
                <c:pt idx="766">
                  <c:v>8192</c:v>
                </c:pt>
                <c:pt idx="767">
                  <c:v>8192</c:v>
                </c:pt>
                <c:pt idx="768">
                  <c:v>8192</c:v>
                </c:pt>
                <c:pt idx="769">
                  <c:v>8192</c:v>
                </c:pt>
                <c:pt idx="770">
                  <c:v>8192</c:v>
                </c:pt>
                <c:pt idx="771">
                  <c:v>8192</c:v>
                </c:pt>
                <c:pt idx="772">
                  <c:v>8192</c:v>
                </c:pt>
                <c:pt idx="773">
                  <c:v>8192</c:v>
                </c:pt>
                <c:pt idx="774">
                  <c:v>8192</c:v>
                </c:pt>
                <c:pt idx="775">
                  <c:v>8192</c:v>
                </c:pt>
                <c:pt idx="776">
                  <c:v>8192</c:v>
                </c:pt>
                <c:pt idx="777">
                  <c:v>8192</c:v>
                </c:pt>
                <c:pt idx="778">
                  <c:v>8192</c:v>
                </c:pt>
                <c:pt idx="779">
                  <c:v>8192</c:v>
                </c:pt>
                <c:pt idx="780">
                  <c:v>8192</c:v>
                </c:pt>
                <c:pt idx="781">
                  <c:v>8192</c:v>
                </c:pt>
                <c:pt idx="782">
                  <c:v>8192</c:v>
                </c:pt>
                <c:pt idx="783">
                  <c:v>8192</c:v>
                </c:pt>
                <c:pt idx="784">
                  <c:v>8192</c:v>
                </c:pt>
                <c:pt idx="785">
                  <c:v>8192</c:v>
                </c:pt>
                <c:pt idx="786">
                  <c:v>8192</c:v>
                </c:pt>
                <c:pt idx="787">
                  <c:v>8192</c:v>
                </c:pt>
                <c:pt idx="788">
                  <c:v>8192</c:v>
                </c:pt>
                <c:pt idx="789">
                  <c:v>8192</c:v>
                </c:pt>
                <c:pt idx="790">
                  <c:v>8192</c:v>
                </c:pt>
                <c:pt idx="791">
                  <c:v>8192</c:v>
                </c:pt>
                <c:pt idx="792">
                  <c:v>8192</c:v>
                </c:pt>
                <c:pt idx="793">
                  <c:v>8192</c:v>
                </c:pt>
                <c:pt idx="794">
                  <c:v>8192</c:v>
                </c:pt>
                <c:pt idx="795">
                  <c:v>8192</c:v>
                </c:pt>
                <c:pt idx="796">
                  <c:v>8192</c:v>
                </c:pt>
                <c:pt idx="797">
                  <c:v>8192</c:v>
                </c:pt>
                <c:pt idx="798">
                  <c:v>8192</c:v>
                </c:pt>
                <c:pt idx="799">
                  <c:v>8192</c:v>
                </c:pt>
                <c:pt idx="800">
                  <c:v>8192</c:v>
                </c:pt>
                <c:pt idx="801">
                  <c:v>8192</c:v>
                </c:pt>
                <c:pt idx="802">
                  <c:v>8192</c:v>
                </c:pt>
                <c:pt idx="803">
                  <c:v>8192</c:v>
                </c:pt>
                <c:pt idx="804">
                  <c:v>8192</c:v>
                </c:pt>
                <c:pt idx="805">
                  <c:v>8192</c:v>
                </c:pt>
                <c:pt idx="806">
                  <c:v>8192</c:v>
                </c:pt>
                <c:pt idx="807">
                  <c:v>8192</c:v>
                </c:pt>
                <c:pt idx="808">
                  <c:v>8192</c:v>
                </c:pt>
                <c:pt idx="809">
                  <c:v>8192</c:v>
                </c:pt>
                <c:pt idx="810">
                  <c:v>8192</c:v>
                </c:pt>
                <c:pt idx="811">
                  <c:v>8192</c:v>
                </c:pt>
                <c:pt idx="812">
                  <c:v>8192</c:v>
                </c:pt>
                <c:pt idx="813">
                  <c:v>8192</c:v>
                </c:pt>
                <c:pt idx="814">
                  <c:v>8192</c:v>
                </c:pt>
                <c:pt idx="815">
                  <c:v>8192</c:v>
                </c:pt>
                <c:pt idx="816">
                  <c:v>8192</c:v>
                </c:pt>
                <c:pt idx="817">
                  <c:v>8192</c:v>
                </c:pt>
                <c:pt idx="818">
                  <c:v>8192</c:v>
                </c:pt>
                <c:pt idx="819">
                  <c:v>8192</c:v>
                </c:pt>
                <c:pt idx="820">
                  <c:v>8192</c:v>
                </c:pt>
                <c:pt idx="821">
                  <c:v>8192</c:v>
                </c:pt>
                <c:pt idx="822">
                  <c:v>8192</c:v>
                </c:pt>
                <c:pt idx="823">
                  <c:v>8192</c:v>
                </c:pt>
                <c:pt idx="824">
                  <c:v>8192</c:v>
                </c:pt>
                <c:pt idx="825">
                  <c:v>8192</c:v>
                </c:pt>
                <c:pt idx="826">
                  <c:v>8192</c:v>
                </c:pt>
                <c:pt idx="827">
                  <c:v>8192</c:v>
                </c:pt>
                <c:pt idx="828">
                  <c:v>8192</c:v>
                </c:pt>
                <c:pt idx="829">
                  <c:v>8192</c:v>
                </c:pt>
                <c:pt idx="830">
                  <c:v>8192</c:v>
                </c:pt>
                <c:pt idx="831">
                  <c:v>8192</c:v>
                </c:pt>
                <c:pt idx="832">
                  <c:v>8192</c:v>
                </c:pt>
                <c:pt idx="833">
                  <c:v>8192</c:v>
                </c:pt>
                <c:pt idx="834">
                  <c:v>8192</c:v>
                </c:pt>
                <c:pt idx="835">
                  <c:v>8192</c:v>
                </c:pt>
                <c:pt idx="836">
                  <c:v>8192</c:v>
                </c:pt>
                <c:pt idx="837">
                  <c:v>8192</c:v>
                </c:pt>
                <c:pt idx="838">
                  <c:v>8192</c:v>
                </c:pt>
                <c:pt idx="839">
                  <c:v>8192</c:v>
                </c:pt>
                <c:pt idx="840">
                  <c:v>8192</c:v>
                </c:pt>
                <c:pt idx="841">
                  <c:v>8192</c:v>
                </c:pt>
                <c:pt idx="842">
                  <c:v>8192</c:v>
                </c:pt>
                <c:pt idx="843">
                  <c:v>8192</c:v>
                </c:pt>
                <c:pt idx="844">
                  <c:v>8192</c:v>
                </c:pt>
                <c:pt idx="845">
                  <c:v>8192</c:v>
                </c:pt>
                <c:pt idx="846">
                  <c:v>8192</c:v>
                </c:pt>
                <c:pt idx="847">
                  <c:v>8192</c:v>
                </c:pt>
                <c:pt idx="848">
                  <c:v>8192</c:v>
                </c:pt>
                <c:pt idx="849">
                  <c:v>8192</c:v>
                </c:pt>
                <c:pt idx="850">
                  <c:v>8192</c:v>
                </c:pt>
                <c:pt idx="851">
                  <c:v>8192</c:v>
                </c:pt>
                <c:pt idx="852">
                  <c:v>8192</c:v>
                </c:pt>
                <c:pt idx="853">
                  <c:v>8192</c:v>
                </c:pt>
                <c:pt idx="854">
                  <c:v>8192</c:v>
                </c:pt>
                <c:pt idx="855">
                  <c:v>8192</c:v>
                </c:pt>
                <c:pt idx="856">
                  <c:v>8192</c:v>
                </c:pt>
                <c:pt idx="857">
                  <c:v>8192</c:v>
                </c:pt>
                <c:pt idx="858">
                  <c:v>8192</c:v>
                </c:pt>
                <c:pt idx="859">
                  <c:v>8192</c:v>
                </c:pt>
                <c:pt idx="860">
                  <c:v>8192</c:v>
                </c:pt>
                <c:pt idx="861">
                  <c:v>8192</c:v>
                </c:pt>
                <c:pt idx="862">
                  <c:v>8192</c:v>
                </c:pt>
                <c:pt idx="863">
                  <c:v>8192</c:v>
                </c:pt>
                <c:pt idx="864">
                  <c:v>8192</c:v>
                </c:pt>
                <c:pt idx="865">
                  <c:v>8192</c:v>
                </c:pt>
                <c:pt idx="866">
                  <c:v>8192</c:v>
                </c:pt>
                <c:pt idx="867">
                  <c:v>8192</c:v>
                </c:pt>
                <c:pt idx="868">
                  <c:v>8192</c:v>
                </c:pt>
                <c:pt idx="869">
                  <c:v>8192</c:v>
                </c:pt>
                <c:pt idx="870">
                  <c:v>8192</c:v>
                </c:pt>
                <c:pt idx="871">
                  <c:v>8192</c:v>
                </c:pt>
                <c:pt idx="872">
                  <c:v>8192</c:v>
                </c:pt>
                <c:pt idx="873">
                  <c:v>8192</c:v>
                </c:pt>
                <c:pt idx="874">
                  <c:v>8192</c:v>
                </c:pt>
                <c:pt idx="875">
                  <c:v>8192</c:v>
                </c:pt>
                <c:pt idx="876">
                  <c:v>8192</c:v>
                </c:pt>
                <c:pt idx="877">
                  <c:v>8192</c:v>
                </c:pt>
                <c:pt idx="878">
                  <c:v>8192</c:v>
                </c:pt>
                <c:pt idx="879">
                  <c:v>8192</c:v>
                </c:pt>
                <c:pt idx="880">
                  <c:v>8192</c:v>
                </c:pt>
                <c:pt idx="881">
                  <c:v>8192</c:v>
                </c:pt>
                <c:pt idx="882">
                  <c:v>8192</c:v>
                </c:pt>
                <c:pt idx="883">
                  <c:v>8192</c:v>
                </c:pt>
                <c:pt idx="884">
                  <c:v>8192</c:v>
                </c:pt>
                <c:pt idx="885">
                  <c:v>8192</c:v>
                </c:pt>
                <c:pt idx="886">
                  <c:v>8192</c:v>
                </c:pt>
                <c:pt idx="887">
                  <c:v>8192</c:v>
                </c:pt>
                <c:pt idx="888">
                  <c:v>8192</c:v>
                </c:pt>
                <c:pt idx="889">
                  <c:v>8192</c:v>
                </c:pt>
                <c:pt idx="890">
                  <c:v>8192</c:v>
                </c:pt>
                <c:pt idx="891">
                  <c:v>8192</c:v>
                </c:pt>
                <c:pt idx="892">
                  <c:v>8192</c:v>
                </c:pt>
                <c:pt idx="893">
                  <c:v>8192</c:v>
                </c:pt>
                <c:pt idx="894">
                  <c:v>8192</c:v>
                </c:pt>
                <c:pt idx="895">
                  <c:v>8192</c:v>
                </c:pt>
                <c:pt idx="896">
                  <c:v>8192</c:v>
                </c:pt>
                <c:pt idx="897">
                  <c:v>8192</c:v>
                </c:pt>
                <c:pt idx="898">
                  <c:v>8192</c:v>
                </c:pt>
                <c:pt idx="899">
                  <c:v>8192</c:v>
                </c:pt>
                <c:pt idx="900">
                  <c:v>8192</c:v>
                </c:pt>
                <c:pt idx="901">
                  <c:v>8192</c:v>
                </c:pt>
                <c:pt idx="902">
                  <c:v>8192</c:v>
                </c:pt>
                <c:pt idx="903">
                  <c:v>8192</c:v>
                </c:pt>
                <c:pt idx="904">
                  <c:v>8192</c:v>
                </c:pt>
                <c:pt idx="905">
                  <c:v>8192</c:v>
                </c:pt>
                <c:pt idx="906">
                  <c:v>8192</c:v>
                </c:pt>
                <c:pt idx="907">
                  <c:v>8192</c:v>
                </c:pt>
                <c:pt idx="908">
                  <c:v>8192</c:v>
                </c:pt>
                <c:pt idx="909">
                  <c:v>8192</c:v>
                </c:pt>
                <c:pt idx="910">
                  <c:v>8192</c:v>
                </c:pt>
                <c:pt idx="911">
                  <c:v>8192</c:v>
                </c:pt>
                <c:pt idx="912">
                  <c:v>8192</c:v>
                </c:pt>
                <c:pt idx="913">
                  <c:v>8192</c:v>
                </c:pt>
                <c:pt idx="914">
                  <c:v>8192</c:v>
                </c:pt>
                <c:pt idx="915">
                  <c:v>8192</c:v>
                </c:pt>
                <c:pt idx="916">
                  <c:v>8192</c:v>
                </c:pt>
                <c:pt idx="917">
                  <c:v>8192</c:v>
                </c:pt>
                <c:pt idx="918">
                  <c:v>8192</c:v>
                </c:pt>
                <c:pt idx="919">
                  <c:v>8192</c:v>
                </c:pt>
                <c:pt idx="920">
                  <c:v>8192</c:v>
                </c:pt>
                <c:pt idx="921">
                  <c:v>8192</c:v>
                </c:pt>
                <c:pt idx="922">
                  <c:v>8192</c:v>
                </c:pt>
                <c:pt idx="923">
                  <c:v>8192</c:v>
                </c:pt>
                <c:pt idx="924">
                  <c:v>8192</c:v>
                </c:pt>
                <c:pt idx="925">
                  <c:v>8192</c:v>
                </c:pt>
                <c:pt idx="926">
                  <c:v>8192</c:v>
                </c:pt>
                <c:pt idx="927">
                  <c:v>8192</c:v>
                </c:pt>
                <c:pt idx="928">
                  <c:v>8192</c:v>
                </c:pt>
                <c:pt idx="929">
                  <c:v>8192</c:v>
                </c:pt>
                <c:pt idx="930">
                  <c:v>8192</c:v>
                </c:pt>
                <c:pt idx="931">
                  <c:v>8192</c:v>
                </c:pt>
                <c:pt idx="932">
                  <c:v>8192</c:v>
                </c:pt>
                <c:pt idx="933">
                  <c:v>8192</c:v>
                </c:pt>
                <c:pt idx="934">
                  <c:v>8192</c:v>
                </c:pt>
                <c:pt idx="935">
                  <c:v>8192</c:v>
                </c:pt>
                <c:pt idx="936">
                  <c:v>8192</c:v>
                </c:pt>
                <c:pt idx="937">
                  <c:v>8192</c:v>
                </c:pt>
                <c:pt idx="938">
                  <c:v>8192</c:v>
                </c:pt>
                <c:pt idx="939">
                  <c:v>8192</c:v>
                </c:pt>
                <c:pt idx="940">
                  <c:v>8192</c:v>
                </c:pt>
                <c:pt idx="941">
                  <c:v>8192</c:v>
                </c:pt>
                <c:pt idx="942">
                  <c:v>8192</c:v>
                </c:pt>
                <c:pt idx="943">
                  <c:v>8192</c:v>
                </c:pt>
                <c:pt idx="944">
                  <c:v>8192</c:v>
                </c:pt>
                <c:pt idx="945">
                  <c:v>8192</c:v>
                </c:pt>
                <c:pt idx="946">
                  <c:v>8192</c:v>
                </c:pt>
                <c:pt idx="947">
                  <c:v>8192</c:v>
                </c:pt>
                <c:pt idx="948">
                  <c:v>8192</c:v>
                </c:pt>
                <c:pt idx="949">
                  <c:v>8192</c:v>
                </c:pt>
                <c:pt idx="950">
                  <c:v>8192</c:v>
                </c:pt>
                <c:pt idx="951">
                  <c:v>8192</c:v>
                </c:pt>
                <c:pt idx="952">
                  <c:v>8192</c:v>
                </c:pt>
                <c:pt idx="953">
                  <c:v>8192</c:v>
                </c:pt>
                <c:pt idx="954">
                  <c:v>8192</c:v>
                </c:pt>
                <c:pt idx="955">
                  <c:v>8192</c:v>
                </c:pt>
                <c:pt idx="956">
                  <c:v>8192</c:v>
                </c:pt>
                <c:pt idx="957">
                  <c:v>8192</c:v>
                </c:pt>
                <c:pt idx="958">
                  <c:v>8192</c:v>
                </c:pt>
                <c:pt idx="959">
                  <c:v>8192</c:v>
                </c:pt>
                <c:pt idx="960">
                  <c:v>8192</c:v>
                </c:pt>
                <c:pt idx="961">
                  <c:v>8192</c:v>
                </c:pt>
                <c:pt idx="962">
                  <c:v>8192</c:v>
                </c:pt>
                <c:pt idx="963">
                  <c:v>8192</c:v>
                </c:pt>
                <c:pt idx="964">
                  <c:v>8192</c:v>
                </c:pt>
                <c:pt idx="965">
                  <c:v>8192</c:v>
                </c:pt>
                <c:pt idx="966">
                  <c:v>8192</c:v>
                </c:pt>
                <c:pt idx="967">
                  <c:v>8192</c:v>
                </c:pt>
                <c:pt idx="968">
                  <c:v>8192</c:v>
                </c:pt>
                <c:pt idx="969">
                  <c:v>8192</c:v>
                </c:pt>
                <c:pt idx="970">
                  <c:v>8192</c:v>
                </c:pt>
                <c:pt idx="971">
                  <c:v>8192</c:v>
                </c:pt>
                <c:pt idx="972">
                  <c:v>8192</c:v>
                </c:pt>
                <c:pt idx="973">
                  <c:v>8192</c:v>
                </c:pt>
                <c:pt idx="974">
                  <c:v>8192</c:v>
                </c:pt>
                <c:pt idx="975">
                  <c:v>8192</c:v>
                </c:pt>
                <c:pt idx="976">
                  <c:v>8192</c:v>
                </c:pt>
                <c:pt idx="977">
                  <c:v>8192</c:v>
                </c:pt>
                <c:pt idx="978">
                  <c:v>8192</c:v>
                </c:pt>
                <c:pt idx="979">
                  <c:v>8192</c:v>
                </c:pt>
                <c:pt idx="980">
                  <c:v>8192</c:v>
                </c:pt>
                <c:pt idx="981">
                  <c:v>8192</c:v>
                </c:pt>
                <c:pt idx="982">
                  <c:v>8192</c:v>
                </c:pt>
                <c:pt idx="983">
                  <c:v>8192</c:v>
                </c:pt>
                <c:pt idx="984">
                  <c:v>8192</c:v>
                </c:pt>
                <c:pt idx="985">
                  <c:v>8192</c:v>
                </c:pt>
                <c:pt idx="986">
                  <c:v>8192</c:v>
                </c:pt>
                <c:pt idx="987">
                  <c:v>8192</c:v>
                </c:pt>
                <c:pt idx="988">
                  <c:v>8192</c:v>
                </c:pt>
                <c:pt idx="989">
                  <c:v>8192</c:v>
                </c:pt>
                <c:pt idx="990">
                  <c:v>8192</c:v>
                </c:pt>
                <c:pt idx="991">
                  <c:v>8192</c:v>
                </c:pt>
                <c:pt idx="992">
                  <c:v>8192</c:v>
                </c:pt>
                <c:pt idx="993">
                  <c:v>8192</c:v>
                </c:pt>
                <c:pt idx="994">
                  <c:v>8192</c:v>
                </c:pt>
                <c:pt idx="995">
                  <c:v>8192</c:v>
                </c:pt>
                <c:pt idx="996">
                  <c:v>8192</c:v>
                </c:pt>
                <c:pt idx="997">
                  <c:v>8192</c:v>
                </c:pt>
                <c:pt idx="998">
                  <c:v>8192</c:v>
                </c:pt>
                <c:pt idx="999">
                  <c:v>8192</c:v>
                </c:pt>
                <c:pt idx="1000">
                  <c:v>8192</c:v>
                </c:pt>
              </c:numCache>
            </c:numRef>
          </c:xVal>
          <c:yVal>
            <c:numRef>
              <c:f>6</c:f>
              <c:numCache>
                <c:formatCode>General</c:formatCode>
                <c:ptCount val="1001"/>
                <c:pt idx="0">
                  <c:v>0.152796417</c:v>
                </c:pt>
                <c:pt idx="1">
                  <c:v>28.510738426</c:v>
                </c:pt>
                <c:pt idx="2">
                  <c:v>29.851407831</c:v>
                </c:pt>
                <c:pt idx="3">
                  <c:v>29.405343896</c:v>
                </c:pt>
                <c:pt idx="4">
                  <c:v>28.263079511</c:v>
                </c:pt>
                <c:pt idx="5">
                  <c:v>29.270637245</c:v>
                </c:pt>
                <c:pt idx="6">
                  <c:v>29.247089609</c:v>
                </c:pt>
                <c:pt idx="7">
                  <c:v>29.066517604</c:v>
                </c:pt>
                <c:pt idx="8">
                  <c:v>27.670860582</c:v>
                </c:pt>
                <c:pt idx="9">
                  <c:v>29.400499804</c:v>
                </c:pt>
                <c:pt idx="10">
                  <c:v>29.012608488</c:v>
                </c:pt>
                <c:pt idx="11">
                  <c:v>29.572501508</c:v>
                </c:pt>
                <c:pt idx="12">
                  <c:v>4.772701892</c:v>
                </c:pt>
                <c:pt idx="13">
                  <c:v>29.178408066</c:v>
                </c:pt>
                <c:pt idx="14">
                  <c:v>28.731205266</c:v>
                </c:pt>
                <c:pt idx="15">
                  <c:v>29.314836698</c:v>
                </c:pt>
                <c:pt idx="16">
                  <c:v>27.359942287</c:v>
                </c:pt>
                <c:pt idx="17">
                  <c:v>29.003285997</c:v>
                </c:pt>
                <c:pt idx="18">
                  <c:v>28.646779713</c:v>
                </c:pt>
                <c:pt idx="19">
                  <c:v>29.108591619</c:v>
                </c:pt>
                <c:pt idx="20">
                  <c:v>27.181379104</c:v>
                </c:pt>
                <c:pt idx="21">
                  <c:v>28.946996444</c:v>
                </c:pt>
                <c:pt idx="22">
                  <c:v>28.487983702</c:v>
                </c:pt>
                <c:pt idx="23">
                  <c:v>28.888958688</c:v>
                </c:pt>
                <c:pt idx="24">
                  <c:v>27.038559349</c:v>
                </c:pt>
                <c:pt idx="25">
                  <c:v>28.111063284</c:v>
                </c:pt>
                <c:pt idx="26">
                  <c:v>28.245644838</c:v>
                </c:pt>
                <c:pt idx="27">
                  <c:v>27.327902821</c:v>
                </c:pt>
                <c:pt idx="28">
                  <c:v>27.718426832</c:v>
                </c:pt>
                <c:pt idx="29">
                  <c:v>28.502097695</c:v>
                </c:pt>
                <c:pt idx="30">
                  <c:v>4.974311232</c:v>
                </c:pt>
                <c:pt idx="31">
                  <c:v>27.960126027</c:v>
                </c:pt>
                <c:pt idx="32">
                  <c:v>29.687487388</c:v>
                </c:pt>
                <c:pt idx="33">
                  <c:v>29.225483151</c:v>
                </c:pt>
                <c:pt idx="34">
                  <c:v>29.698939703</c:v>
                </c:pt>
                <c:pt idx="35">
                  <c:v>27.855045396</c:v>
                </c:pt>
                <c:pt idx="36">
                  <c:v>29.416304037</c:v>
                </c:pt>
                <c:pt idx="37">
                  <c:v>29.166378616</c:v>
                </c:pt>
                <c:pt idx="38">
                  <c:v>29.283462653</c:v>
                </c:pt>
                <c:pt idx="39">
                  <c:v>27.773915057</c:v>
                </c:pt>
                <c:pt idx="40">
                  <c:v>29.223144821</c:v>
                </c:pt>
                <c:pt idx="41">
                  <c:v>28.989474017</c:v>
                </c:pt>
                <c:pt idx="42">
                  <c:v>29.399784334</c:v>
                </c:pt>
                <c:pt idx="43">
                  <c:v>27.525807198</c:v>
                </c:pt>
                <c:pt idx="44">
                  <c:v>29.203908593</c:v>
                </c:pt>
                <c:pt idx="45">
                  <c:v>28.783386953</c:v>
                </c:pt>
                <c:pt idx="46">
                  <c:v>13.535265061</c:v>
                </c:pt>
                <c:pt idx="47">
                  <c:v>28.071972128</c:v>
                </c:pt>
                <c:pt idx="48">
                  <c:v>29.62041094</c:v>
                </c:pt>
                <c:pt idx="49">
                  <c:v>29.315657479</c:v>
                </c:pt>
                <c:pt idx="50">
                  <c:v>29.064150856</c:v>
                </c:pt>
                <c:pt idx="51">
                  <c:v>27.831401275</c:v>
                </c:pt>
                <c:pt idx="52">
                  <c:v>29.614769765</c:v>
                </c:pt>
                <c:pt idx="53">
                  <c:v>29.162479302</c:v>
                </c:pt>
                <c:pt idx="54">
                  <c:v>28.588585287</c:v>
                </c:pt>
                <c:pt idx="55">
                  <c:v>27.658970161</c:v>
                </c:pt>
                <c:pt idx="56">
                  <c:v>29.355493151</c:v>
                </c:pt>
                <c:pt idx="57">
                  <c:v>28.9188004</c:v>
                </c:pt>
                <c:pt idx="58">
                  <c:v>29.425949106</c:v>
                </c:pt>
                <c:pt idx="59">
                  <c:v>27.335655863</c:v>
                </c:pt>
                <c:pt idx="60">
                  <c:v>29.256133523</c:v>
                </c:pt>
                <c:pt idx="61">
                  <c:v>28.741247759</c:v>
                </c:pt>
                <c:pt idx="62">
                  <c:v>14.473071414</c:v>
                </c:pt>
                <c:pt idx="63">
                  <c:v>28.054371454</c:v>
                </c:pt>
                <c:pt idx="64">
                  <c:v>29.098776037</c:v>
                </c:pt>
                <c:pt idx="65">
                  <c:v>29.316587752</c:v>
                </c:pt>
                <c:pt idx="66">
                  <c:v>29.647193921</c:v>
                </c:pt>
                <c:pt idx="67">
                  <c:v>27.826174387</c:v>
                </c:pt>
                <c:pt idx="68">
                  <c:v>29.548688253</c:v>
                </c:pt>
                <c:pt idx="69">
                  <c:v>29.045714184</c:v>
                </c:pt>
                <c:pt idx="70">
                  <c:v>29.527744305</c:v>
                </c:pt>
                <c:pt idx="71">
                  <c:v>27.1516337</c:v>
                </c:pt>
                <c:pt idx="72">
                  <c:v>29.339918607</c:v>
                </c:pt>
                <c:pt idx="73">
                  <c:v>28.982679926</c:v>
                </c:pt>
                <c:pt idx="74">
                  <c:v>27.839245289</c:v>
                </c:pt>
                <c:pt idx="75">
                  <c:v>28.756298343</c:v>
                </c:pt>
                <c:pt idx="76">
                  <c:v>29.057429242</c:v>
                </c:pt>
                <c:pt idx="77">
                  <c:v>28.753560701</c:v>
                </c:pt>
                <c:pt idx="78">
                  <c:v>8.104825585</c:v>
                </c:pt>
                <c:pt idx="79">
                  <c:v>29.466748702</c:v>
                </c:pt>
                <c:pt idx="80">
                  <c:v>29.612033732</c:v>
                </c:pt>
                <c:pt idx="81">
                  <c:v>29.364494435</c:v>
                </c:pt>
                <c:pt idx="82">
                  <c:v>28.27167769</c:v>
                </c:pt>
                <c:pt idx="83">
                  <c:v>29.185565418</c:v>
                </c:pt>
                <c:pt idx="84">
                  <c:v>29.47897192</c:v>
                </c:pt>
                <c:pt idx="85">
                  <c:v>28.997234944</c:v>
                </c:pt>
                <c:pt idx="86">
                  <c:v>28.112270912</c:v>
                </c:pt>
                <c:pt idx="87">
                  <c:v>28.919599153</c:v>
                </c:pt>
                <c:pt idx="88">
                  <c:v>29.340685979</c:v>
                </c:pt>
                <c:pt idx="89">
                  <c:v>29.005964261</c:v>
                </c:pt>
                <c:pt idx="90">
                  <c:v>27.852822422</c:v>
                </c:pt>
                <c:pt idx="91">
                  <c:v>28.828877536</c:v>
                </c:pt>
                <c:pt idx="92">
                  <c:v>28.461809051</c:v>
                </c:pt>
                <c:pt idx="93">
                  <c:v>28.721957661</c:v>
                </c:pt>
                <c:pt idx="94">
                  <c:v>14.439154134</c:v>
                </c:pt>
                <c:pt idx="95">
                  <c:v>29.270855455</c:v>
                </c:pt>
                <c:pt idx="96">
                  <c:v>29.729860111</c:v>
                </c:pt>
                <c:pt idx="97">
                  <c:v>29.317791723</c:v>
                </c:pt>
                <c:pt idx="98">
                  <c:v>28.100500964</c:v>
                </c:pt>
                <c:pt idx="99">
                  <c:v>29.22559192</c:v>
                </c:pt>
                <c:pt idx="100">
                  <c:v>29.536629356</c:v>
                </c:pt>
                <c:pt idx="101">
                  <c:v>29.10940089</c:v>
                </c:pt>
                <c:pt idx="102">
                  <c:v>28.079600927</c:v>
                </c:pt>
                <c:pt idx="103">
                  <c:v>28.959379546</c:v>
                </c:pt>
                <c:pt idx="104">
                  <c:v>29.235275573</c:v>
                </c:pt>
                <c:pt idx="105">
                  <c:v>29.036799876</c:v>
                </c:pt>
                <c:pt idx="106">
                  <c:v>27.059289796</c:v>
                </c:pt>
                <c:pt idx="107">
                  <c:v>28.835123224</c:v>
                </c:pt>
                <c:pt idx="108">
                  <c:v>29.026710759</c:v>
                </c:pt>
                <c:pt idx="109">
                  <c:v>28.725792593</c:v>
                </c:pt>
                <c:pt idx="110">
                  <c:v>8.008633246</c:v>
                </c:pt>
                <c:pt idx="111">
                  <c:v>29.39774819</c:v>
                </c:pt>
                <c:pt idx="112">
                  <c:v>29.737797351</c:v>
                </c:pt>
                <c:pt idx="113">
                  <c:v>28.833164539</c:v>
                </c:pt>
                <c:pt idx="114">
                  <c:v>28.184767217</c:v>
                </c:pt>
                <c:pt idx="115">
                  <c:v>29.318010638</c:v>
                </c:pt>
                <c:pt idx="116">
                  <c:v>29.569160888</c:v>
                </c:pt>
                <c:pt idx="117">
                  <c:v>29.08309564</c:v>
                </c:pt>
                <c:pt idx="118">
                  <c:v>28.110358883</c:v>
                </c:pt>
                <c:pt idx="119">
                  <c:v>29.123975483</c:v>
                </c:pt>
                <c:pt idx="120">
                  <c:v>29.513650261</c:v>
                </c:pt>
                <c:pt idx="121">
                  <c:v>29.204831788</c:v>
                </c:pt>
                <c:pt idx="122">
                  <c:v>27.80602488</c:v>
                </c:pt>
                <c:pt idx="123">
                  <c:v>28.984819454</c:v>
                </c:pt>
                <c:pt idx="124">
                  <c:v>29.249431773</c:v>
                </c:pt>
                <c:pt idx="125">
                  <c:v>28.723481005</c:v>
                </c:pt>
                <c:pt idx="126">
                  <c:v>14.134910122</c:v>
                </c:pt>
                <c:pt idx="127">
                  <c:v>29.375588973</c:v>
                </c:pt>
                <c:pt idx="128">
                  <c:v>29.915432481</c:v>
                </c:pt>
                <c:pt idx="129">
                  <c:v>29.437972958</c:v>
                </c:pt>
                <c:pt idx="130">
                  <c:v>28.215654744</c:v>
                </c:pt>
                <c:pt idx="131">
                  <c:v>29.288486725</c:v>
                </c:pt>
                <c:pt idx="132">
                  <c:v>29.612480397</c:v>
                </c:pt>
                <c:pt idx="133">
                  <c:v>29.302749188</c:v>
                </c:pt>
                <c:pt idx="134">
                  <c:v>28.116448092</c:v>
                </c:pt>
                <c:pt idx="135">
                  <c:v>28.31556396</c:v>
                </c:pt>
                <c:pt idx="136">
                  <c:v>29.421704497</c:v>
                </c:pt>
                <c:pt idx="137">
                  <c:v>29.143593228</c:v>
                </c:pt>
                <c:pt idx="138">
                  <c:v>27.899480381</c:v>
                </c:pt>
                <c:pt idx="139">
                  <c:v>28.910017028</c:v>
                </c:pt>
                <c:pt idx="140">
                  <c:v>29.231956295</c:v>
                </c:pt>
                <c:pt idx="141">
                  <c:v>28.904058021</c:v>
                </c:pt>
                <c:pt idx="142">
                  <c:v>14.880887757</c:v>
                </c:pt>
                <c:pt idx="143">
                  <c:v>29.423523465</c:v>
                </c:pt>
                <c:pt idx="144">
                  <c:v>29.844997749</c:v>
                </c:pt>
                <c:pt idx="145">
                  <c:v>29.449785749</c:v>
                </c:pt>
                <c:pt idx="146">
                  <c:v>28.18673997</c:v>
                </c:pt>
                <c:pt idx="147">
                  <c:v>29.41040988</c:v>
                </c:pt>
                <c:pt idx="148">
                  <c:v>29.64394831</c:v>
                </c:pt>
                <c:pt idx="149">
                  <c:v>29.237343701</c:v>
                </c:pt>
                <c:pt idx="150">
                  <c:v>28.046856528</c:v>
                </c:pt>
                <c:pt idx="151">
                  <c:v>29.101364119</c:v>
                </c:pt>
                <c:pt idx="152">
                  <c:v>29.486332863</c:v>
                </c:pt>
                <c:pt idx="153">
                  <c:v>27.20525067</c:v>
                </c:pt>
                <c:pt idx="154">
                  <c:v>29.286247523</c:v>
                </c:pt>
                <c:pt idx="155">
                  <c:v>28.891243841</c:v>
                </c:pt>
                <c:pt idx="156">
                  <c:v>28.755403288</c:v>
                </c:pt>
                <c:pt idx="157">
                  <c:v>27.524263528</c:v>
                </c:pt>
                <c:pt idx="158">
                  <c:v>13.81658889</c:v>
                </c:pt>
                <c:pt idx="159">
                  <c:v>29.457850385</c:v>
                </c:pt>
                <c:pt idx="160">
                  <c:v>29.665337652</c:v>
                </c:pt>
                <c:pt idx="161">
                  <c:v>27.995811703</c:v>
                </c:pt>
                <c:pt idx="162">
                  <c:v>29.60678643</c:v>
                </c:pt>
                <c:pt idx="163">
                  <c:v>29.167407775</c:v>
                </c:pt>
                <c:pt idx="164">
                  <c:v>29.627451458</c:v>
                </c:pt>
                <c:pt idx="165">
                  <c:v>27.791657257</c:v>
                </c:pt>
                <c:pt idx="166">
                  <c:v>28.99439771</c:v>
                </c:pt>
                <c:pt idx="167">
                  <c:v>29.077657253</c:v>
                </c:pt>
                <c:pt idx="168">
                  <c:v>29.39945413</c:v>
                </c:pt>
                <c:pt idx="169">
                  <c:v>27.649134181</c:v>
                </c:pt>
                <c:pt idx="170">
                  <c:v>29.170278972</c:v>
                </c:pt>
                <c:pt idx="171">
                  <c:v>28.963972526</c:v>
                </c:pt>
                <c:pt idx="172">
                  <c:v>29.267146314</c:v>
                </c:pt>
                <c:pt idx="173">
                  <c:v>27.513992885</c:v>
                </c:pt>
                <c:pt idx="174">
                  <c:v>14.173957892</c:v>
                </c:pt>
                <c:pt idx="175">
                  <c:v>29.47958058</c:v>
                </c:pt>
                <c:pt idx="176">
                  <c:v>29.603940267</c:v>
                </c:pt>
                <c:pt idx="177">
                  <c:v>27.451713893</c:v>
                </c:pt>
                <c:pt idx="178">
                  <c:v>29.601931541</c:v>
                </c:pt>
                <c:pt idx="179">
                  <c:v>29.197773546</c:v>
                </c:pt>
                <c:pt idx="180">
                  <c:v>29.619349565</c:v>
                </c:pt>
                <c:pt idx="181">
                  <c:v>27.808191152</c:v>
                </c:pt>
                <c:pt idx="182">
                  <c:v>29.56404007</c:v>
                </c:pt>
                <c:pt idx="183">
                  <c:v>29.109023225</c:v>
                </c:pt>
                <c:pt idx="184">
                  <c:v>29.428595717</c:v>
                </c:pt>
                <c:pt idx="185">
                  <c:v>27.628268085</c:v>
                </c:pt>
                <c:pt idx="186">
                  <c:v>29.242515302</c:v>
                </c:pt>
                <c:pt idx="187">
                  <c:v>28.8952836</c:v>
                </c:pt>
                <c:pt idx="188">
                  <c:v>29.037336728</c:v>
                </c:pt>
                <c:pt idx="189">
                  <c:v>27.494244663</c:v>
                </c:pt>
                <c:pt idx="190">
                  <c:v>14.376543466</c:v>
                </c:pt>
                <c:pt idx="191">
                  <c:v>29.394777025</c:v>
                </c:pt>
                <c:pt idx="192">
                  <c:v>29.800543415</c:v>
                </c:pt>
                <c:pt idx="193">
                  <c:v>27.933868559</c:v>
                </c:pt>
                <c:pt idx="194">
                  <c:v>29.504889885</c:v>
                </c:pt>
                <c:pt idx="195">
                  <c:v>29.24001093</c:v>
                </c:pt>
                <c:pt idx="196">
                  <c:v>29.702085022</c:v>
                </c:pt>
                <c:pt idx="197">
                  <c:v>27.798101169</c:v>
                </c:pt>
                <c:pt idx="198">
                  <c:v>28.828612948</c:v>
                </c:pt>
                <c:pt idx="199">
                  <c:v>29.066033465</c:v>
                </c:pt>
                <c:pt idx="200">
                  <c:v>27.980798672</c:v>
                </c:pt>
                <c:pt idx="201">
                  <c:v>29.014484426</c:v>
                </c:pt>
                <c:pt idx="202">
                  <c:v>29.093385678</c:v>
                </c:pt>
                <c:pt idx="203">
                  <c:v>28.857905851</c:v>
                </c:pt>
                <c:pt idx="204">
                  <c:v>27.861765874</c:v>
                </c:pt>
                <c:pt idx="205">
                  <c:v>28.875361534</c:v>
                </c:pt>
                <c:pt idx="206">
                  <c:v>11.506952235</c:v>
                </c:pt>
                <c:pt idx="207">
                  <c:v>29.367459481</c:v>
                </c:pt>
                <c:pt idx="208">
                  <c:v>28.338095101</c:v>
                </c:pt>
                <c:pt idx="209">
                  <c:v>29.319050526</c:v>
                </c:pt>
                <c:pt idx="210">
                  <c:v>29.715010284</c:v>
                </c:pt>
                <c:pt idx="211">
                  <c:v>29.305264319</c:v>
                </c:pt>
                <c:pt idx="212">
                  <c:v>27.349365247</c:v>
                </c:pt>
                <c:pt idx="213">
                  <c:v>29.157985554</c:v>
                </c:pt>
                <c:pt idx="214">
                  <c:v>29.313359409</c:v>
                </c:pt>
                <c:pt idx="215">
                  <c:v>29.006178543</c:v>
                </c:pt>
                <c:pt idx="216">
                  <c:v>27.923538243</c:v>
                </c:pt>
                <c:pt idx="217">
                  <c:v>28.893529356</c:v>
                </c:pt>
                <c:pt idx="218">
                  <c:v>29.191152761</c:v>
                </c:pt>
                <c:pt idx="219">
                  <c:v>28.844920641</c:v>
                </c:pt>
                <c:pt idx="220">
                  <c:v>27.316827885</c:v>
                </c:pt>
                <c:pt idx="221">
                  <c:v>28.554591849</c:v>
                </c:pt>
                <c:pt idx="222">
                  <c:v>14.239433079</c:v>
                </c:pt>
                <c:pt idx="223">
                  <c:v>29.355438282</c:v>
                </c:pt>
                <c:pt idx="224">
                  <c:v>28.396094623</c:v>
                </c:pt>
                <c:pt idx="225">
                  <c:v>29.386746882</c:v>
                </c:pt>
                <c:pt idx="226">
                  <c:v>29.517477626</c:v>
                </c:pt>
                <c:pt idx="227">
                  <c:v>29.376797795</c:v>
                </c:pt>
                <c:pt idx="228">
                  <c:v>28.168388865</c:v>
                </c:pt>
                <c:pt idx="229">
                  <c:v>29.2542807</c:v>
                </c:pt>
                <c:pt idx="230">
                  <c:v>29.427382628</c:v>
                </c:pt>
                <c:pt idx="231">
                  <c:v>29.16161293</c:v>
                </c:pt>
                <c:pt idx="232">
                  <c:v>28.134378762</c:v>
                </c:pt>
                <c:pt idx="233">
                  <c:v>28.877485246</c:v>
                </c:pt>
                <c:pt idx="234">
                  <c:v>29.239575431</c:v>
                </c:pt>
                <c:pt idx="235">
                  <c:v>28.892838348</c:v>
                </c:pt>
                <c:pt idx="236">
                  <c:v>27.937545611</c:v>
                </c:pt>
                <c:pt idx="237">
                  <c:v>28.832846939</c:v>
                </c:pt>
                <c:pt idx="238">
                  <c:v>8.171639424</c:v>
                </c:pt>
                <c:pt idx="239">
                  <c:v>29.529021202</c:v>
                </c:pt>
                <c:pt idx="240">
                  <c:v>28.276258738</c:v>
                </c:pt>
                <c:pt idx="241">
                  <c:v>28.673871686</c:v>
                </c:pt>
                <c:pt idx="242">
                  <c:v>29.59328597</c:v>
                </c:pt>
                <c:pt idx="243">
                  <c:v>29.151978006</c:v>
                </c:pt>
                <c:pt idx="244">
                  <c:v>28.022585797</c:v>
                </c:pt>
                <c:pt idx="245">
                  <c:v>29.151869784</c:v>
                </c:pt>
                <c:pt idx="246">
                  <c:v>29.480133929</c:v>
                </c:pt>
                <c:pt idx="247">
                  <c:v>29.057859333</c:v>
                </c:pt>
                <c:pt idx="248">
                  <c:v>28.011440357</c:v>
                </c:pt>
                <c:pt idx="249">
                  <c:v>28.873450461</c:v>
                </c:pt>
                <c:pt idx="250">
                  <c:v>29.295370318</c:v>
                </c:pt>
                <c:pt idx="251">
                  <c:v>28.963865696</c:v>
                </c:pt>
                <c:pt idx="252">
                  <c:v>27.810111539</c:v>
                </c:pt>
                <c:pt idx="253">
                  <c:v>28.817557511</c:v>
                </c:pt>
                <c:pt idx="254">
                  <c:v>16.490322815</c:v>
                </c:pt>
                <c:pt idx="255">
                  <c:v>29.447908317</c:v>
                </c:pt>
                <c:pt idx="256">
                  <c:v>28.316074473</c:v>
                </c:pt>
                <c:pt idx="257">
                  <c:v>29.119007686</c:v>
                </c:pt>
                <c:pt idx="258">
                  <c:v>29.734982242</c:v>
                </c:pt>
                <c:pt idx="259">
                  <c:v>29.33295928</c:v>
                </c:pt>
                <c:pt idx="260">
                  <c:v>28.13800797</c:v>
                </c:pt>
                <c:pt idx="261">
                  <c:v>29.232010703</c:v>
                </c:pt>
                <c:pt idx="262">
                  <c:v>28.882211625</c:v>
                </c:pt>
                <c:pt idx="263">
                  <c:v>28.995682426</c:v>
                </c:pt>
                <c:pt idx="264">
                  <c:v>27.948184697</c:v>
                </c:pt>
                <c:pt idx="265">
                  <c:v>28.829935937</c:v>
                </c:pt>
                <c:pt idx="266">
                  <c:v>28.393938457</c:v>
                </c:pt>
                <c:pt idx="267">
                  <c:v>28.982252059</c:v>
                </c:pt>
                <c:pt idx="268">
                  <c:v>27.397838927</c:v>
                </c:pt>
                <c:pt idx="269">
                  <c:v>28.830994415</c:v>
                </c:pt>
                <c:pt idx="270">
                  <c:v>5.605241245</c:v>
                </c:pt>
                <c:pt idx="271">
                  <c:v>28.050563388</c:v>
                </c:pt>
                <c:pt idx="272">
                  <c:v>29.602991668</c:v>
                </c:pt>
                <c:pt idx="273">
                  <c:v>29.225537535</c:v>
                </c:pt>
                <c:pt idx="274">
                  <c:v>29.595293524</c:v>
                </c:pt>
                <c:pt idx="275">
                  <c:v>27.855292415</c:v>
                </c:pt>
                <c:pt idx="276">
                  <c:v>29.460944842</c:v>
                </c:pt>
                <c:pt idx="277">
                  <c:v>29.09742826</c:v>
                </c:pt>
                <c:pt idx="278">
                  <c:v>29.375698861</c:v>
                </c:pt>
                <c:pt idx="279">
                  <c:v>27.630017875</c:v>
                </c:pt>
                <c:pt idx="280">
                  <c:v>28.759510473</c:v>
                </c:pt>
                <c:pt idx="281">
                  <c:v>28.986477805</c:v>
                </c:pt>
                <c:pt idx="282">
                  <c:v>29.300999787</c:v>
                </c:pt>
                <c:pt idx="283">
                  <c:v>27.004249347</c:v>
                </c:pt>
                <c:pt idx="284">
                  <c:v>29.102334769</c:v>
                </c:pt>
                <c:pt idx="285">
                  <c:v>28.710406523</c:v>
                </c:pt>
                <c:pt idx="286">
                  <c:v>14.702685712</c:v>
                </c:pt>
                <c:pt idx="287">
                  <c:v>28.015937449</c:v>
                </c:pt>
                <c:pt idx="288">
                  <c:v>29.719058766</c:v>
                </c:pt>
                <c:pt idx="289">
                  <c:v>29.294823883</c:v>
                </c:pt>
                <c:pt idx="290">
                  <c:v>29.70129863</c:v>
                </c:pt>
                <c:pt idx="291">
                  <c:v>27.818485556</c:v>
                </c:pt>
                <c:pt idx="292">
                  <c:v>29.414265604</c:v>
                </c:pt>
                <c:pt idx="293">
                  <c:v>29.036746192</c:v>
                </c:pt>
                <c:pt idx="294">
                  <c:v>29.39945413</c:v>
                </c:pt>
                <c:pt idx="295">
                  <c:v>27.708597412</c:v>
                </c:pt>
                <c:pt idx="296">
                  <c:v>29.326550853</c:v>
                </c:pt>
                <c:pt idx="297">
                  <c:v>28.971452588</c:v>
                </c:pt>
                <c:pt idx="298">
                  <c:v>29.378391394</c:v>
                </c:pt>
                <c:pt idx="299">
                  <c:v>27.391913644</c:v>
                </c:pt>
                <c:pt idx="300">
                  <c:v>29.308819044</c:v>
                </c:pt>
                <c:pt idx="301">
                  <c:v>28.676541813</c:v>
                </c:pt>
                <c:pt idx="302">
                  <c:v>13.103768472</c:v>
                </c:pt>
                <c:pt idx="303">
                  <c:v>27.909495318</c:v>
                </c:pt>
                <c:pt idx="304">
                  <c:v>29.790199203</c:v>
                </c:pt>
                <c:pt idx="305">
                  <c:v>28.563056654</c:v>
                </c:pt>
                <c:pt idx="306">
                  <c:v>29.562036754</c:v>
                </c:pt>
                <c:pt idx="307">
                  <c:v>27.771115727</c:v>
                </c:pt>
                <c:pt idx="308">
                  <c:v>29.612424563</c:v>
                </c:pt>
                <c:pt idx="309">
                  <c:v>29.143214675</c:v>
                </c:pt>
                <c:pt idx="310">
                  <c:v>29.482900988</c:v>
                </c:pt>
                <c:pt idx="311">
                  <c:v>27.625060711</c:v>
                </c:pt>
                <c:pt idx="312">
                  <c:v>29.353133971</c:v>
                </c:pt>
                <c:pt idx="313">
                  <c:v>28.81718738</c:v>
                </c:pt>
                <c:pt idx="314">
                  <c:v>29.259785361</c:v>
                </c:pt>
                <c:pt idx="315">
                  <c:v>27.303246024</c:v>
                </c:pt>
                <c:pt idx="316">
                  <c:v>29.312210509</c:v>
                </c:pt>
                <c:pt idx="317">
                  <c:v>28.806827569</c:v>
                </c:pt>
                <c:pt idx="318">
                  <c:v>13.396113063</c:v>
                </c:pt>
                <c:pt idx="319">
                  <c:v>28.058280808</c:v>
                </c:pt>
                <c:pt idx="320">
                  <c:v>29.766936859</c:v>
                </c:pt>
                <c:pt idx="321">
                  <c:v>29.342549763</c:v>
                </c:pt>
                <c:pt idx="322">
                  <c:v>29.67638035</c:v>
                </c:pt>
                <c:pt idx="323">
                  <c:v>27.801053576</c:v>
                </c:pt>
                <c:pt idx="324">
                  <c:v>29.609968083</c:v>
                </c:pt>
                <c:pt idx="325">
                  <c:v>29.112530498</c:v>
                </c:pt>
                <c:pt idx="326">
                  <c:v>27.350984624</c:v>
                </c:pt>
                <c:pt idx="327">
                  <c:v>29.042008174</c:v>
                </c:pt>
                <c:pt idx="328">
                  <c:v>29.264201488</c:v>
                </c:pt>
                <c:pt idx="329">
                  <c:v>29.045929054</c:v>
                </c:pt>
                <c:pt idx="330">
                  <c:v>28.01233966</c:v>
                </c:pt>
                <c:pt idx="331">
                  <c:v>28.935157007</c:v>
                </c:pt>
                <c:pt idx="332">
                  <c:v>29.246272664</c:v>
                </c:pt>
                <c:pt idx="333">
                  <c:v>28.855678984</c:v>
                </c:pt>
                <c:pt idx="334">
                  <c:v>13.717812511</c:v>
                </c:pt>
                <c:pt idx="335">
                  <c:v>29.19706791</c:v>
                </c:pt>
                <c:pt idx="336">
                  <c:v>29.816101511</c:v>
                </c:pt>
                <c:pt idx="337">
                  <c:v>29.337342723</c:v>
                </c:pt>
                <c:pt idx="338">
                  <c:v>28.283642437</c:v>
                </c:pt>
                <c:pt idx="339">
                  <c:v>29.269600788</c:v>
                </c:pt>
                <c:pt idx="340">
                  <c:v>29.499846712</c:v>
                </c:pt>
                <c:pt idx="341">
                  <c:v>29.104276262</c:v>
                </c:pt>
                <c:pt idx="342">
                  <c:v>28.15944947</c:v>
                </c:pt>
                <c:pt idx="343">
                  <c:v>29.029768953</c:v>
                </c:pt>
                <c:pt idx="344">
                  <c:v>29.247743199</c:v>
                </c:pt>
                <c:pt idx="345">
                  <c:v>28.883380182</c:v>
                </c:pt>
                <c:pt idx="346">
                  <c:v>28.007094539</c:v>
                </c:pt>
                <c:pt idx="347">
                  <c:v>28.249251999</c:v>
                </c:pt>
                <c:pt idx="348">
                  <c:v>29.162912508</c:v>
                </c:pt>
                <c:pt idx="349">
                  <c:v>28.664922532</c:v>
                </c:pt>
                <c:pt idx="350">
                  <c:v>14.624675032</c:v>
                </c:pt>
                <c:pt idx="351">
                  <c:v>29.334383755</c:v>
                </c:pt>
                <c:pt idx="352">
                  <c:v>29.791894484</c:v>
                </c:pt>
                <c:pt idx="353">
                  <c:v>29.260603062</c:v>
                </c:pt>
                <c:pt idx="354">
                  <c:v>28.30535756</c:v>
                </c:pt>
                <c:pt idx="355">
                  <c:v>29.293731074</c:v>
                </c:pt>
                <c:pt idx="356">
                  <c:v>29.625998379</c:v>
                </c:pt>
                <c:pt idx="357">
                  <c:v>29.186324737</c:v>
                </c:pt>
                <c:pt idx="358">
                  <c:v>28.180519149</c:v>
                </c:pt>
                <c:pt idx="359">
                  <c:v>29.101148428</c:v>
                </c:pt>
                <c:pt idx="360">
                  <c:v>29.305920511</c:v>
                </c:pt>
                <c:pt idx="361">
                  <c:v>29.007089279</c:v>
                </c:pt>
                <c:pt idx="362">
                  <c:v>28.030087721</c:v>
                </c:pt>
                <c:pt idx="363">
                  <c:v>28.878759623</c:v>
                </c:pt>
                <c:pt idx="364">
                  <c:v>29.307943955</c:v>
                </c:pt>
                <c:pt idx="365">
                  <c:v>28.822899031</c:v>
                </c:pt>
                <c:pt idx="366">
                  <c:v>15.030176558</c:v>
                </c:pt>
                <c:pt idx="367">
                  <c:v>29.471891173</c:v>
                </c:pt>
                <c:pt idx="368">
                  <c:v>29.136618606</c:v>
                </c:pt>
                <c:pt idx="369">
                  <c:v>29.487827638</c:v>
                </c:pt>
                <c:pt idx="370">
                  <c:v>27.891354728</c:v>
                </c:pt>
                <c:pt idx="371">
                  <c:v>29.28832287</c:v>
                </c:pt>
                <c:pt idx="372">
                  <c:v>29.57010732</c:v>
                </c:pt>
                <c:pt idx="373">
                  <c:v>29.293512522</c:v>
                </c:pt>
                <c:pt idx="374">
                  <c:v>28.125058004</c:v>
                </c:pt>
                <c:pt idx="375">
                  <c:v>29.148136638</c:v>
                </c:pt>
                <c:pt idx="376">
                  <c:v>29.409363501</c:v>
                </c:pt>
                <c:pt idx="377">
                  <c:v>29.173313304</c:v>
                </c:pt>
                <c:pt idx="378">
                  <c:v>28.015537649</c:v>
                </c:pt>
                <c:pt idx="379">
                  <c:v>28.938782472</c:v>
                </c:pt>
                <c:pt idx="380">
                  <c:v>29.285810646</c:v>
                </c:pt>
                <c:pt idx="381">
                  <c:v>28.894060922</c:v>
                </c:pt>
                <c:pt idx="382">
                  <c:v>7.732675936</c:v>
                </c:pt>
                <c:pt idx="383">
                  <c:v>29.484395416</c:v>
                </c:pt>
                <c:pt idx="384">
                  <c:v>29.697254985</c:v>
                </c:pt>
                <c:pt idx="385">
                  <c:v>29.447797887</c:v>
                </c:pt>
                <c:pt idx="386">
                  <c:v>28.316227631</c:v>
                </c:pt>
                <c:pt idx="387">
                  <c:v>29.268946221</c:v>
                </c:pt>
                <c:pt idx="388">
                  <c:v>29.555639093</c:v>
                </c:pt>
                <c:pt idx="389">
                  <c:v>29.284063266</c:v>
                </c:pt>
                <c:pt idx="390">
                  <c:v>27.507005516</c:v>
                </c:pt>
                <c:pt idx="391">
                  <c:v>4.250937083</c:v>
                </c:pt>
                <c:pt idx="392">
                  <c:v>29.366910353</c:v>
                </c:pt>
                <c:pt idx="393">
                  <c:v>27.636921988</c:v>
                </c:pt>
                <c:pt idx="394">
                  <c:v>29.200759309</c:v>
                </c:pt>
                <c:pt idx="395">
                  <c:v>28.918693903</c:v>
                </c:pt>
                <c:pt idx="396">
                  <c:v>29.194788394</c:v>
                </c:pt>
                <c:pt idx="397">
                  <c:v>27.57791094</c:v>
                </c:pt>
                <c:pt idx="398">
                  <c:v>14.095343152</c:v>
                </c:pt>
                <c:pt idx="399">
                  <c:v>29.528577051</c:v>
                </c:pt>
                <c:pt idx="400">
                  <c:v>29.674081446</c:v>
                </c:pt>
                <c:pt idx="401">
                  <c:v>28.084722578</c:v>
                </c:pt>
                <c:pt idx="402">
                  <c:v>29.512762897</c:v>
                </c:pt>
                <c:pt idx="403">
                  <c:v>29.165132888</c:v>
                </c:pt>
                <c:pt idx="404">
                  <c:v>29.533963279</c:v>
                </c:pt>
                <c:pt idx="405">
                  <c:v>27.931036895</c:v>
                </c:pt>
                <c:pt idx="406">
                  <c:v>29.337561929</c:v>
                </c:pt>
                <c:pt idx="407">
                  <c:v>29.107944233</c:v>
                </c:pt>
                <c:pt idx="408">
                  <c:v>28.686755712</c:v>
                </c:pt>
                <c:pt idx="409">
                  <c:v>27.61063674</c:v>
                </c:pt>
                <c:pt idx="410">
                  <c:v>29.15960964</c:v>
                </c:pt>
                <c:pt idx="411">
                  <c:v>28.358972194</c:v>
                </c:pt>
                <c:pt idx="412">
                  <c:v>29.101957286</c:v>
                </c:pt>
                <c:pt idx="413">
                  <c:v>27.284130853</c:v>
                </c:pt>
                <c:pt idx="414">
                  <c:v>14.722918949</c:v>
                </c:pt>
                <c:pt idx="415">
                  <c:v>29.344413785</c:v>
                </c:pt>
                <c:pt idx="416">
                  <c:v>29.943436937</c:v>
                </c:pt>
                <c:pt idx="417">
                  <c:v>27.844427723</c:v>
                </c:pt>
                <c:pt idx="418">
                  <c:v>29.705231006</c:v>
                </c:pt>
                <c:pt idx="419">
                  <c:v>29.241208619</c:v>
                </c:pt>
                <c:pt idx="420">
                  <c:v>29.624321926</c:v>
                </c:pt>
                <c:pt idx="421">
                  <c:v>27.754478735</c:v>
                </c:pt>
                <c:pt idx="422">
                  <c:v>29.516978349</c:v>
                </c:pt>
                <c:pt idx="423">
                  <c:v>28.991239932</c:v>
                </c:pt>
                <c:pt idx="424">
                  <c:v>29.483454462</c:v>
                </c:pt>
                <c:pt idx="425">
                  <c:v>27.606268813</c:v>
                </c:pt>
                <c:pt idx="426">
                  <c:v>29.220698132</c:v>
                </c:pt>
                <c:pt idx="427">
                  <c:v>28.888692996</c:v>
                </c:pt>
                <c:pt idx="428">
                  <c:v>29.182474313</c:v>
                </c:pt>
                <c:pt idx="429">
                  <c:v>27.415438739</c:v>
                </c:pt>
                <c:pt idx="430">
                  <c:v>14.967523607</c:v>
                </c:pt>
                <c:pt idx="431">
                  <c:v>29.244802277</c:v>
                </c:pt>
                <c:pt idx="432">
                  <c:v>29.273965313</c:v>
                </c:pt>
                <c:pt idx="433">
                  <c:v>27.908701793</c:v>
                </c:pt>
                <c:pt idx="434">
                  <c:v>29.542685359</c:v>
                </c:pt>
                <c:pt idx="435">
                  <c:v>29.308162722</c:v>
                </c:pt>
                <c:pt idx="436">
                  <c:v>29.61331793</c:v>
                </c:pt>
                <c:pt idx="437">
                  <c:v>27.669641831</c:v>
                </c:pt>
                <c:pt idx="438">
                  <c:v>29.556640283</c:v>
                </c:pt>
                <c:pt idx="439">
                  <c:v>28.979952487</c:v>
                </c:pt>
                <c:pt idx="440">
                  <c:v>29.489820908</c:v>
                </c:pt>
                <c:pt idx="441">
                  <c:v>27.549031368</c:v>
                </c:pt>
                <c:pt idx="442">
                  <c:v>29.296681846</c:v>
                </c:pt>
                <c:pt idx="443">
                  <c:v>28.882902124</c:v>
                </c:pt>
                <c:pt idx="444">
                  <c:v>29.117010246</c:v>
                </c:pt>
                <c:pt idx="445">
                  <c:v>27.350413057</c:v>
                </c:pt>
                <c:pt idx="446">
                  <c:v>14.336530137</c:v>
                </c:pt>
                <c:pt idx="447">
                  <c:v>29.274292705</c:v>
                </c:pt>
                <c:pt idx="448">
                  <c:v>29.786922209</c:v>
                </c:pt>
                <c:pt idx="449">
                  <c:v>27.817155229</c:v>
                </c:pt>
                <c:pt idx="450">
                  <c:v>29.712817817</c:v>
                </c:pt>
                <c:pt idx="451">
                  <c:v>29.231031385</c:v>
                </c:pt>
                <c:pt idx="452">
                  <c:v>29.578627938</c:v>
                </c:pt>
                <c:pt idx="453">
                  <c:v>27.220763736</c:v>
                </c:pt>
                <c:pt idx="454">
                  <c:v>29.478805926</c:v>
                </c:pt>
                <c:pt idx="455">
                  <c:v>29.054956471</c:v>
                </c:pt>
                <c:pt idx="456">
                  <c:v>28.068058959</c:v>
                </c:pt>
                <c:pt idx="457">
                  <c:v>28.9477434</c:v>
                </c:pt>
                <c:pt idx="458">
                  <c:v>29.370315276</c:v>
                </c:pt>
                <c:pt idx="459">
                  <c:v>28.789612944</c:v>
                </c:pt>
                <c:pt idx="460">
                  <c:v>28.008343199</c:v>
                </c:pt>
                <c:pt idx="461">
                  <c:v>28.642704661</c:v>
                </c:pt>
                <c:pt idx="462">
                  <c:v>13.355581229</c:v>
                </c:pt>
                <c:pt idx="463">
                  <c:v>29.362298491</c:v>
                </c:pt>
                <c:pt idx="464">
                  <c:v>28.480492941</c:v>
                </c:pt>
                <c:pt idx="465">
                  <c:v>29.259458294</c:v>
                </c:pt>
                <c:pt idx="466">
                  <c:v>29.644228076</c:v>
                </c:pt>
                <c:pt idx="467">
                  <c:v>29.199510643</c:v>
                </c:pt>
                <c:pt idx="468">
                  <c:v>28.223869041</c:v>
                </c:pt>
                <c:pt idx="469">
                  <c:v>29.032613115</c:v>
                </c:pt>
                <c:pt idx="470">
                  <c:v>29.484118659</c:v>
                </c:pt>
                <c:pt idx="471">
                  <c:v>28.966910661</c:v>
                </c:pt>
                <c:pt idx="472">
                  <c:v>27.652298461</c:v>
                </c:pt>
                <c:pt idx="473">
                  <c:v>28.906717988</c:v>
                </c:pt>
                <c:pt idx="474">
                  <c:v>29.323813063</c:v>
                </c:pt>
                <c:pt idx="475">
                  <c:v>28.126468317</c:v>
                </c:pt>
                <c:pt idx="476">
                  <c:v>27.768906129</c:v>
                </c:pt>
                <c:pt idx="477">
                  <c:v>28.775687335</c:v>
                </c:pt>
                <c:pt idx="478">
                  <c:v>13.8384292</c:v>
                </c:pt>
                <c:pt idx="479">
                  <c:v>29.571666282</c:v>
                </c:pt>
                <c:pt idx="480">
                  <c:v>28.183199329</c:v>
                </c:pt>
                <c:pt idx="481">
                  <c:v>29.426004239</c:v>
                </c:pt>
                <c:pt idx="482">
                  <c:v>29.723502119</c:v>
                </c:pt>
                <c:pt idx="483">
                  <c:v>29.386307001</c:v>
                </c:pt>
                <c:pt idx="484">
                  <c:v>28.208559819</c:v>
                </c:pt>
                <c:pt idx="485">
                  <c:v>29.230813767</c:v>
                </c:pt>
                <c:pt idx="486">
                  <c:v>29.496854875</c:v>
                </c:pt>
                <c:pt idx="487">
                  <c:v>29.192183669</c:v>
                </c:pt>
                <c:pt idx="488">
                  <c:v>28.023285807</c:v>
                </c:pt>
                <c:pt idx="489">
                  <c:v>29.054633967</c:v>
                </c:pt>
                <c:pt idx="490">
                  <c:v>29.29526103</c:v>
                </c:pt>
                <c:pt idx="491">
                  <c:v>29.011000734</c:v>
                </c:pt>
                <c:pt idx="492">
                  <c:v>27.825434892</c:v>
                </c:pt>
                <c:pt idx="493">
                  <c:v>28.899005431</c:v>
                </c:pt>
                <c:pt idx="494">
                  <c:v>16.489422516</c:v>
                </c:pt>
                <c:pt idx="495">
                  <c:v>29.641542541</c:v>
                </c:pt>
                <c:pt idx="496">
                  <c:v>27.813805337</c:v>
                </c:pt>
                <c:pt idx="497">
                  <c:v>29.371798312</c:v>
                </c:pt>
                <c:pt idx="498">
                  <c:v>29.647697613</c:v>
                </c:pt>
                <c:pt idx="499">
                  <c:v>29.249159409</c:v>
                </c:pt>
                <c:pt idx="500">
                  <c:v>28.22873903</c:v>
                </c:pt>
                <c:pt idx="501">
                  <c:v>29.2017366</c:v>
                </c:pt>
                <c:pt idx="502">
                  <c:v>29.407381093</c:v>
                </c:pt>
                <c:pt idx="503">
                  <c:v>29.288377488</c:v>
                </c:pt>
                <c:pt idx="504">
                  <c:v>27.982044988</c:v>
                </c:pt>
                <c:pt idx="505">
                  <c:v>29.001197296</c:v>
                </c:pt>
                <c:pt idx="506">
                  <c:v>29.219665209</c:v>
                </c:pt>
                <c:pt idx="507">
                  <c:v>28.962423568</c:v>
                </c:pt>
                <c:pt idx="508">
                  <c:v>27.764684319</c:v>
                </c:pt>
                <c:pt idx="509">
                  <c:v>28.917362756</c:v>
                </c:pt>
                <c:pt idx="510">
                  <c:v>14.582742465</c:v>
                </c:pt>
                <c:pt idx="511">
                  <c:v>29.580522075</c:v>
                </c:pt>
                <c:pt idx="512">
                  <c:v>28.31066397</c:v>
                </c:pt>
                <c:pt idx="513">
                  <c:v>29.187409547</c:v>
                </c:pt>
                <c:pt idx="514">
                  <c:v>29.513761185</c:v>
                </c:pt>
                <c:pt idx="515">
                  <c:v>29.278931544</c:v>
                </c:pt>
                <c:pt idx="516">
                  <c:v>28.145672708</c:v>
                </c:pt>
                <c:pt idx="517">
                  <c:v>28.612856335</c:v>
                </c:pt>
                <c:pt idx="518">
                  <c:v>0.908253244</c:v>
                </c:pt>
                <c:pt idx="519">
                  <c:v>28.105227878</c:v>
                </c:pt>
                <c:pt idx="520">
                  <c:v>28.968940993</c:v>
                </c:pt>
                <c:pt idx="521">
                  <c:v>29.377567097</c:v>
                </c:pt>
                <c:pt idx="522">
                  <c:v>28.867877942</c:v>
                </c:pt>
                <c:pt idx="523">
                  <c:v>28.001002675</c:v>
                </c:pt>
                <c:pt idx="524">
                  <c:v>6.785823181</c:v>
                </c:pt>
                <c:pt idx="525">
                  <c:v>1.004849643</c:v>
                </c:pt>
                <c:pt idx="526">
                  <c:v>29.325072383</c:v>
                </c:pt>
                <c:pt idx="527">
                  <c:v>28.464697774</c:v>
                </c:pt>
                <c:pt idx="528">
                  <c:v>29.366031791</c:v>
                </c:pt>
                <c:pt idx="529">
                  <c:v>29.678511359</c:v>
                </c:pt>
                <c:pt idx="530">
                  <c:v>29.215805983</c:v>
                </c:pt>
                <c:pt idx="531">
                  <c:v>28.245086065</c:v>
                </c:pt>
                <c:pt idx="532">
                  <c:v>29.07173657</c:v>
                </c:pt>
                <c:pt idx="533">
                  <c:v>29.5168674</c:v>
                </c:pt>
                <c:pt idx="534">
                  <c:v>28.981128966</c:v>
                </c:pt>
                <c:pt idx="535">
                  <c:v>27.582899638</c:v>
                </c:pt>
                <c:pt idx="536">
                  <c:v>28.948010179</c:v>
                </c:pt>
                <c:pt idx="537">
                  <c:v>29.128188638</c:v>
                </c:pt>
                <c:pt idx="538">
                  <c:v>28.411608134</c:v>
                </c:pt>
                <c:pt idx="539">
                  <c:v>27.682956408</c:v>
                </c:pt>
                <c:pt idx="540">
                  <c:v>28.772840575</c:v>
                </c:pt>
                <c:pt idx="541">
                  <c:v>13.500987197</c:v>
                </c:pt>
                <c:pt idx="542">
                  <c:v>29.625048366</c:v>
                </c:pt>
                <c:pt idx="543">
                  <c:v>28.427035698</c:v>
                </c:pt>
                <c:pt idx="544">
                  <c:v>29.352914532</c:v>
                </c:pt>
                <c:pt idx="545">
                  <c:v>29.715347616</c:v>
                </c:pt>
                <c:pt idx="546">
                  <c:v>29.264637721</c:v>
                </c:pt>
                <c:pt idx="547">
                  <c:v>28.24833742</c:v>
                </c:pt>
                <c:pt idx="548">
                  <c:v>29.105408919</c:v>
                </c:pt>
                <c:pt idx="549">
                  <c:v>29.338822431</c:v>
                </c:pt>
                <c:pt idx="550">
                  <c:v>29.182636986</c:v>
                </c:pt>
                <c:pt idx="551">
                  <c:v>28.1280299</c:v>
                </c:pt>
                <c:pt idx="552">
                  <c:v>29.089398098</c:v>
                </c:pt>
                <c:pt idx="553">
                  <c:v>29.360322422</c:v>
                </c:pt>
                <c:pt idx="554">
                  <c:v>29.051086891</c:v>
                </c:pt>
                <c:pt idx="555">
                  <c:v>27.84018292</c:v>
                </c:pt>
                <c:pt idx="556">
                  <c:v>28.692101265</c:v>
                </c:pt>
                <c:pt idx="557">
                  <c:v>13.79292748</c:v>
                </c:pt>
                <c:pt idx="558">
                  <c:v>29.496577883</c:v>
                </c:pt>
                <c:pt idx="559">
                  <c:v>28.407342798</c:v>
                </c:pt>
                <c:pt idx="560">
                  <c:v>28.588116939</c:v>
                </c:pt>
                <c:pt idx="561">
                  <c:v>29.719227476</c:v>
                </c:pt>
                <c:pt idx="562">
                  <c:v>29.349733031</c:v>
                </c:pt>
                <c:pt idx="563">
                  <c:v>28.135689201</c:v>
                </c:pt>
                <c:pt idx="564">
                  <c:v>29.138726861</c:v>
                </c:pt>
                <c:pt idx="565">
                  <c:v>29.343701043</c:v>
                </c:pt>
                <c:pt idx="566">
                  <c:v>29.264310545</c:v>
                </c:pt>
                <c:pt idx="567">
                  <c:v>27.950820863</c:v>
                </c:pt>
                <c:pt idx="568">
                  <c:v>28.993541295</c:v>
                </c:pt>
                <c:pt idx="569">
                  <c:v>29.291327181</c:v>
                </c:pt>
                <c:pt idx="570">
                  <c:v>28.985942832</c:v>
                </c:pt>
                <c:pt idx="571">
                  <c:v>27.846649357</c:v>
                </c:pt>
                <c:pt idx="572">
                  <c:v>28.882689659</c:v>
                </c:pt>
                <c:pt idx="573">
                  <c:v>14.794524348</c:v>
                </c:pt>
                <c:pt idx="574">
                  <c:v>27.692132873</c:v>
                </c:pt>
                <c:pt idx="575">
                  <c:v>29.814120488</c:v>
                </c:pt>
                <c:pt idx="576">
                  <c:v>29.272328464</c:v>
                </c:pt>
                <c:pt idx="577">
                  <c:v>29.717315534</c:v>
                </c:pt>
                <c:pt idx="578">
                  <c:v>27.79628083</c:v>
                </c:pt>
                <c:pt idx="579">
                  <c:v>29.529132242</c:v>
                </c:pt>
                <c:pt idx="580">
                  <c:v>29.039699111</c:v>
                </c:pt>
                <c:pt idx="581">
                  <c:v>28.989206473</c:v>
                </c:pt>
                <c:pt idx="582">
                  <c:v>27.70825522</c:v>
                </c:pt>
                <c:pt idx="583">
                  <c:v>29.377237391</c:v>
                </c:pt>
                <c:pt idx="584">
                  <c:v>28.98471247</c:v>
                </c:pt>
                <c:pt idx="585">
                  <c:v>29.292419811</c:v>
                </c:pt>
                <c:pt idx="586">
                  <c:v>27.68437153</c:v>
                </c:pt>
                <c:pt idx="587">
                  <c:v>29.235003473</c:v>
                </c:pt>
                <c:pt idx="588">
                  <c:v>28.80455575</c:v>
                </c:pt>
                <c:pt idx="589">
                  <c:v>13.423959635</c:v>
                </c:pt>
                <c:pt idx="590">
                  <c:v>28.201924227</c:v>
                </c:pt>
                <c:pt idx="591">
                  <c:v>29.734644465</c:v>
                </c:pt>
                <c:pt idx="592">
                  <c:v>29.328358074</c:v>
                </c:pt>
                <c:pt idx="593">
                  <c:v>29.695402016</c:v>
                </c:pt>
                <c:pt idx="594">
                  <c:v>27.988328113</c:v>
                </c:pt>
                <c:pt idx="595">
                  <c:v>29.603214862</c:v>
                </c:pt>
                <c:pt idx="596">
                  <c:v>29.295807481</c:v>
                </c:pt>
                <c:pt idx="597">
                  <c:v>29.387516706</c:v>
                </c:pt>
                <c:pt idx="598">
                  <c:v>27.802234715</c:v>
                </c:pt>
                <c:pt idx="599">
                  <c:v>29.425122138</c:v>
                </c:pt>
                <c:pt idx="600">
                  <c:v>29.069907028</c:v>
                </c:pt>
                <c:pt idx="601">
                  <c:v>29.268400771</c:v>
                </c:pt>
                <c:pt idx="602">
                  <c:v>26.922084157</c:v>
                </c:pt>
                <c:pt idx="603">
                  <c:v>29.005321432</c:v>
                </c:pt>
                <c:pt idx="604">
                  <c:v>28.652005835</c:v>
                </c:pt>
                <c:pt idx="605">
                  <c:v>15.224081703</c:v>
                </c:pt>
                <c:pt idx="606">
                  <c:v>28.020935913</c:v>
                </c:pt>
                <c:pt idx="607">
                  <c:v>29.782008068</c:v>
                </c:pt>
                <c:pt idx="608">
                  <c:v>29.354725004</c:v>
                </c:pt>
                <c:pt idx="609">
                  <c:v>29.67038152</c:v>
                </c:pt>
                <c:pt idx="610">
                  <c:v>27.897944072</c:v>
                </c:pt>
                <c:pt idx="611">
                  <c:v>29.610805473</c:v>
                </c:pt>
                <c:pt idx="612">
                  <c:v>29.016575042</c:v>
                </c:pt>
                <c:pt idx="613">
                  <c:v>29.613373767</c:v>
                </c:pt>
                <c:pt idx="614">
                  <c:v>27.793624547</c:v>
                </c:pt>
                <c:pt idx="615">
                  <c:v>29.445258232</c:v>
                </c:pt>
                <c:pt idx="616">
                  <c:v>29.079272403</c:v>
                </c:pt>
                <c:pt idx="617">
                  <c:v>29.355767499</c:v>
                </c:pt>
                <c:pt idx="618">
                  <c:v>27.587163257</c:v>
                </c:pt>
                <c:pt idx="619">
                  <c:v>29.18014286</c:v>
                </c:pt>
                <c:pt idx="620">
                  <c:v>28.81845644</c:v>
                </c:pt>
                <c:pt idx="621">
                  <c:v>15.288087038</c:v>
                </c:pt>
                <c:pt idx="622">
                  <c:v>28.095373557</c:v>
                </c:pt>
                <c:pt idx="623">
                  <c:v>29.077334244</c:v>
                </c:pt>
                <c:pt idx="624">
                  <c:v>29.393126638</c:v>
                </c:pt>
                <c:pt idx="625">
                  <c:v>29.716359656</c:v>
                </c:pt>
                <c:pt idx="626">
                  <c:v>27.89586289</c:v>
                </c:pt>
                <c:pt idx="627">
                  <c:v>29.597636013</c:v>
                </c:pt>
                <c:pt idx="628">
                  <c:v>29.112314642</c:v>
                </c:pt>
                <c:pt idx="629">
                  <c:v>29.64775358</c:v>
                </c:pt>
                <c:pt idx="630">
                  <c:v>27.736783958</c:v>
                </c:pt>
                <c:pt idx="631">
                  <c:v>28.459900752</c:v>
                </c:pt>
                <c:pt idx="632">
                  <c:v>28.992899017</c:v>
                </c:pt>
                <c:pt idx="633">
                  <c:v>29.363176829</c:v>
                </c:pt>
                <c:pt idx="634">
                  <c:v>27.569245552</c:v>
                </c:pt>
                <c:pt idx="635">
                  <c:v>29.22950813</c:v>
                </c:pt>
                <c:pt idx="636">
                  <c:v>28.747929116</c:v>
                </c:pt>
                <c:pt idx="637">
                  <c:v>7.077841422</c:v>
                </c:pt>
                <c:pt idx="638">
                  <c:v>28.068058959</c:v>
                </c:pt>
                <c:pt idx="639">
                  <c:v>29.820517311</c:v>
                </c:pt>
                <c:pt idx="640">
                  <c:v>29.347374776</c:v>
                </c:pt>
                <c:pt idx="641">
                  <c:v>29.620355076</c:v>
                </c:pt>
                <c:pt idx="642">
                  <c:v>27.797117172</c:v>
                </c:pt>
                <c:pt idx="643">
                  <c:v>29.515314211</c:v>
                </c:pt>
                <c:pt idx="644">
                  <c:v>29.102226916</c:v>
                </c:pt>
                <c:pt idx="645">
                  <c:v>27.457809091</c:v>
                </c:pt>
                <c:pt idx="646">
                  <c:v>29.041847065</c:v>
                </c:pt>
                <c:pt idx="647">
                  <c:v>9.71385813</c:v>
                </c:pt>
                <c:pt idx="648">
                  <c:v>28.982786895</c:v>
                </c:pt>
                <c:pt idx="649">
                  <c:v>28.027036454</c:v>
                </c:pt>
                <c:pt idx="650">
                  <c:v>28.898154642</c:v>
                </c:pt>
                <c:pt idx="651">
                  <c:v>29.253245401</c:v>
                </c:pt>
                <c:pt idx="652">
                  <c:v>28.605612376</c:v>
                </c:pt>
                <c:pt idx="653">
                  <c:v>14.605158927</c:v>
                </c:pt>
                <c:pt idx="654">
                  <c:v>29.316806649</c:v>
                </c:pt>
                <c:pt idx="655">
                  <c:v>29.700736946</c:v>
                </c:pt>
                <c:pt idx="656">
                  <c:v>29.270964562</c:v>
                </c:pt>
                <c:pt idx="657">
                  <c:v>28.17849671</c:v>
                </c:pt>
                <c:pt idx="658">
                  <c:v>29.20847083</c:v>
                </c:pt>
                <c:pt idx="659">
                  <c:v>29.6160542</c:v>
                </c:pt>
                <c:pt idx="660">
                  <c:v>29.007678609</c:v>
                </c:pt>
                <c:pt idx="661">
                  <c:v>28.108598033</c:v>
                </c:pt>
                <c:pt idx="662">
                  <c:v>28.921835897</c:v>
                </c:pt>
                <c:pt idx="663">
                  <c:v>28.905919947</c:v>
                </c:pt>
                <c:pt idx="664">
                  <c:v>28.836023249</c:v>
                </c:pt>
                <c:pt idx="665">
                  <c:v>27.896556583</c:v>
                </c:pt>
                <c:pt idx="666">
                  <c:v>28.394913825</c:v>
                </c:pt>
                <c:pt idx="667">
                  <c:v>29.069422777</c:v>
                </c:pt>
                <c:pt idx="668">
                  <c:v>28.643488235</c:v>
                </c:pt>
                <c:pt idx="669">
                  <c:v>14.584204961</c:v>
                </c:pt>
                <c:pt idx="670">
                  <c:v>29.335589189</c:v>
                </c:pt>
                <c:pt idx="671">
                  <c:v>29.763213742</c:v>
                </c:pt>
                <c:pt idx="672">
                  <c:v>29.31582164</c:v>
                </c:pt>
                <c:pt idx="673">
                  <c:v>28.222854672</c:v>
                </c:pt>
                <c:pt idx="674">
                  <c:v>29.207384454</c:v>
                </c:pt>
                <c:pt idx="675">
                  <c:v>29.304881554</c:v>
                </c:pt>
                <c:pt idx="676">
                  <c:v>28.806140702</c:v>
                </c:pt>
                <c:pt idx="677">
                  <c:v>28.159197027</c:v>
                </c:pt>
                <c:pt idx="678">
                  <c:v>29.025852435</c:v>
                </c:pt>
                <c:pt idx="679">
                  <c:v>29.48196013</c:v>
                </c:pt>
                <c:pt idx="680">
                  <c:v>29.032827791</c:v>
                </c:pt>
                <c:pt idx="681">
                  <c:v>27.870368862</c:v>
                </c:pt>
                <c:pt idx="682">
                  <c:v>27.99601132</c:v>
                </c:pt>
                <c:pt idx="683">
                  <c:v>29.114635268</c:v>
                </c:pt>
                <c:pt idx="684">
                  <c:v>28.73609419</c:v>
                </c:pt>
                <c:pt idx="685">
                  <c:v>14.093117055</c:v>
                </c:pt>
                <c:pt idx="686">
                  <c:v>29.508271439</c:v>
                </c:pt>
                <c:pt idx="687">
                  <c:v>29.194734124</c:v>
                </c:pt>
                <c:pt idx="688">
                  <c:v>27.868489595</c:v>
                </c:pt>
                <c:pt idx="689">
                  <c:v>29.724345944</c:v>
                </c:pt>
                <c:pt idx="690">
                  <c:v>29.165836982</c:v>
                </c:pt>
                <c:pt idx="691">
                  <c:v>29.486111427</c:v>
                </c:pt>
                <c:pt idx="692">
                  <c:v>27.831697195</c:v>
                </c:pt>
                <c:pt idx="693">
                  <c:v>29.33306885</c:v>
                </c:pt>
                <c:pt idx="694">
                  <c:v>29.113933645</c:v>
                </c:pt>
                <c:pt idx="695">
                  <c:v>29.417626415</c:v>
                </c:pt>
                <c:pt idx="696">
                  <c:v>27.579702789</c:v>
                </c:pt>
                <c:pt idx="697">
                  <c:v>29.244094365</c:v>
                </c:pt>
                <c:pt idx="698">
                  <c:v>28.791618497</c:v>
                </c:pt>
                <c:pt idx="699">
                  <c:v>29.248995993</c:v>
                </c:pt>
                <c:pt idx="700">
                  <c:v>27.52768878</c:v>
                </c:pt>
                <c:pt idx="701">
                  <c:v>14.40408749</c:v>
                </c:pt>
                <c:pt idx="702">
                  <c:v>29.50943576</c:v>
                </c:pt>
                <c:pt idx="703">
                  <c:v>29.830485973</c:v>
                </c:pt>
                <c:pt idx="704">
                  <c:v>27.967046715</c:v>
                </c:pt>
                <c:pt idx="705">
                  <c:v>29.524524794</c:v>
                </c:pt>
                <c:pt idx="706">
                  <c:v>29.208416509</c:v>
                </c:pt>
                <c:pt idx="707">
                  <c:v>29.47128283</c:v>
                </c:pt>
                <c:pt idx="708">
                  <c:v>27.32647636</c:v>
                </c:pt>
                <c:pt idx="709">
                  <c:v>29.459673826</c:v>
                </c:pt>
                <c:pt idx="710">
                  <c:v>28.994611821</c:v>
                </c:pt>
                <c:pt idx="711">
                  <c:v>29.491371416</c:v>
                </c:pt>
                <c:pt idx="712">
                  <c:v>27.682175713</c:v>
                </c:pt>
                <c:pt idx="713">
                  <c:v>29.243604293</c:v>
                </c:pt>
                <c:pt idx="714">
                  <c:v>28.960180543</c:v>
                </c:pt>
                <c:pt idx="715">
                  <c:v>29.058719551</c:v>
                </c:pt>
                <c:pt idx="716">
                  <c:v>27.49068337</c:v>
                </c:pt>
                <c:pt idx="717">
                  <c:v>14.912169866</c:v>
                </c:pt>
                <c:pt idx="718">
                  <c:v>29.404242825</c:v>
                </c:pt>
                <c:pt idx="719">
                  <c:v>29.695458163</c:v>
                </c:pt>
                <c:pt idx="720">
                  <c:v>28.080805853</c:v>
                </c:pt>
                <c:pt idx="721">
                  <c:v>29.465753592</c:v>
                </c:pt>
                <c:pt idx="722">
                  <c:v>29.312757593</c:v>
                </c:pt>
                <c:pt idx="723">
                  <c:v>29.453872752</c:v>
                </c:pt>
                <c:pt idx="724">
                  <c:v>27.751732359</c:v>
                </c:pt>
                <c:pt idx="725">
                  <c:v>29.432125271</c:v>
                </c:pt>
                <c:pt idx="726">
                  <c:v>29.217871357</c:v>
                </c:pt>
                <c:pt idx="727">
                  <c:v>29.314672547</c:v>
                </c:pt>
                <c:pt idx="728">
                  <c:v>27.619376742</c:v>
                </c:pt>
                <c:pt idx="729">
                  <c:v>29.218632358</c:v>
                </c:pt>
                <c:pt idx="730">
                  <c:v>28.181935029</c:v>
                </c:pt>
                <c:pt idx="731">
                  <c:v>29.215588592</c:v>
                </c:pt>
                <c:pt idx="732">
                  <c:v>27.466404557</c:v>
                </c:pt>
                <c:pt idx="733">
                  <c:v>14.397775624</c:v>
                </c:pt>
                <c:pt idx="734">
                  <c:v>29.432621682</c:v>
                </c:pt>
                <c:pt idx="735">
                  <c:v>28.873450461</c:v>
                </c:pt>
                <c:pt idx="736">
                  <c:v>27.910288887</c:v>
                </c:pt>
                <c:pt idx="737">
                  <c:v>29.799469092</c:v>
                </c:pt>
                <c:pt idx="738">
                  <c:v>29.167299439</c:v>
                </c:pt>
                <c:pt idx="739">
                  <c:v>29.705455745</c:v>
                </c:pt>
                <c:pt idx="740">
                  <c:v>27.802087067</c:v>
                </c:pt>
                <c:pt idx="741">
                  <c:v>29.558809762</c:v>
                </c:pt>
                <c:pt idx="742">
                  <c:v>29.139916267</c:v>
                </c:pt>
                <c:pt idx="743">
                  <c:v>29.449730527</c:v>
                </c:pt>
                <c:pt idx="744">
                  <c:v>27.642272617</c:v>
                </c:pt>
                <c:pt idx="745">
                  <c:v>29.309530093</c:v>
                </c:pt>
                <c:pt idx="746">
                  <c:v>28.840365338</c:v>
                </c:pt>
                <c:pt idx="747">
                  <c:v>29.332904495</c:v>
                </c:pt>
                <c:pt idx="748">
                  <c:v>27.461986104</c:v>
                </c:pt>
                <c:pt idx="749">
                  <c:v>16.507343088</c:v>
                </c:pt>
                <c:pt idx="750">
                  <c:v>29.399509163</c:v>
                </c:pt>
                <c:pt idx="751">
                  <c:v>29.150841721</c:v>
                </c:pt>
                <c:pt idx="752">
                  <c:v>27.85158759</c:v>
                </c:pt>
                <c:pt idx="753">
                  <c:v>29.777321376</c:v>
                </c:pt>
                <c:pt idx="754">
                  <c:v>29.154088484</c:v>
                </c:pt>
                <c:pt idx="755">
                  <c:v>29.682942595</c:v>
                </c:pt>
                <c:pt idx="756">
                  <c:v>27.725130484</c:v>
                </c:pt>
                <c:pt idx="757">
                  <c:v>29.472444234</c:v>
                </c:pt>
                <c:pt idx="758">
                  <c:v>29.011375861</c:v>
                </c:pt>
                <c:pt idx="759">
                  <c:v>29.358730782</c:v>
                </c:pt>
                <c:pt idx="760">
                  <c:v>27.543088818</c:v>
                </c:pt>
                <c:pt idx="761">
                  <c:v>29.383228203</c:v>
                </c:pt>
                <c:pt idx="762">
                  <c:v>28.75750939</c:v>
                </c:pt>
                <c:pt idx="763">
                  <c:v>29.381414213</c:v>
                </c:pt>
                <c:pt idx="764">
                  <c:v>27.404866576</c:v>
                </c:pt>
                <c:pt idx="765">
                  <c:v>15.5080341</c:v>
                </c:pt>
                <c:pt idx="766">
                  <c:v>29.176890292</c:v>
                </c:pt>
                <c:pt idx="767">
                  <c:v>29.778168259</c:v>
                </c:pt>
                <c:pt idx="768">
                  <c:v>27.931334937</c:v>
                </c:pt>
                <c:pt idx="769">
                  <c:v>29.652287603</c:v>
                </c:pt>
                <c:pt idx="770">
                  <c:v>29.172283728</c:v>
                </c:pt>
                <c:pt idx="771">
                  <c:v>29.63723551</c:v>
                </c:pt>
                <c:pt idx="772">
                  <c:v>27.229825132</c:v>
                </c:pt>
                <c:pt idx="773">
                  <c:v>29.44569988</c:v>
                </c:pt>
                <c:pt idx="774">
                  <c:v>29.151436907</c:v>
                </c:pt>
                <c:pt idx="775">
                  <c:v>10.077151453</c:v>
                </c:pt>
                <c:pt idx="776">
                  <c:v>28.882902124</c:v>
                </c:pt>
                <c:pt idx="777">
                  <c:v>29.310788186</c:v>
                </c:pt>
                <c:pt idx="778">
                  <c:v>28.143403107</c:v>
                </c:pt>
                <c:pt idx="779">
                  <c:v>27.904387794</c:v>
                </c:pt>
                <c:pt idx="780">
                  <c:v>28.667957292</c:v>
                </c:pt>
                <c:pt idx="781">
                  <c:v>14.549280192</c:v>
                </c:pt>
                <c:pt idx="782">
                  <c:v>29.418452962</c:v>
                </c:pt>
                <c:pt idx="783">
                  <c:v>28.480854473</c:v>
                </c:pt>
                <c:pt idx="784">
                  <c:v>29.299906517</c:v>
                </c:pt>
                <c:pt idx="785">
                  <c:v>29.639920266</c:v>
                </c:pt>
                <c:pt idx="786">
                  <c:v>29.185348477</c:v>
                </c:pt>
                <c:pt idx="787">
                  <c:v>28.239042564</c:v>
                </c:pt>
                <c:pt idx="788">
                  <c:v>29.113933645</c:v>
                </c:pt>
                <c:pt idx="789">
                  <c:v>28.601236509</c:v>
                </c:pt>
                <c:pt idx="790">
                  <c:v>28.517364809</c:v>
                </c:pt>
                <c:pt idx="791">
                  <c:v>27.972525947</c:v>
                </c:pt>
                <c:pt idx="792">
                  <c:v>29.051409317</c:v>
                </c:pt>
                <c:pt idx="793">
                  <c:v>28.744088271</c:v>
                </c:pt>
                <c:pt idx="794">
                  <c:v>28.889011827</c:v>
                </c:pt>
                <c:pt idx="795">
                  <c:v>27.707033173</c:v>
                </c:pt>
                <c:pt idx="796">
                  <c:v>28.73435922</c:v>
                </c:pt>
                <c:pt idx="797">
                  <c:v>14.515206433</c:v>
                </c:pt>
                <c:pt idx="798">
                  <c:v>29.498793959</c:v>
                </c:pt>
                <c:pt idx="799">
                  <c:v>28.290877108</c:v>
                </c:pt>
                <c:pt idx="800">
                  <c:v>29.367184914</c:v>
                </c:pt>
                <c:pt idx="801">
                  <c:v>29.535351801</c:v>
                </c:pt>
                <c:pt idx="802">
                  <c:v>29.281278811</c:v>
                </c:pt>
                <c:pt idx="803">
                  <c:v>28.283082159</c:v>
                </c:pt>
                <c:pt idx="804">
                  <c:v>29.294496032</c:v>
                </c:pt>
                <c:pt idx="805">
                  <c:v>29.579797818</c:v>
                </c:pt>
                <c:pt idx="806">
                  <c:v>29.077980268</c:v>
                </c:pt>
                <c:pt idx="807">
                  <c:v>28.058431189</c:v>
                </c:pt>
                <c:pt idx="808">
                  <c:v>29.048830112</c:v>
                </c:pt>
                <c:pt idx="809">
                  <c:v>29.197339305</c:v>
                </c:pt>
                <c:pt idx="810">
                  <c:v>28.898739554</c:v>
                </c:pt>
                <c:pt idx="811">
                  <c:v>27.890760354</c:v>
                </c:pt>
                <c:pt idx="812">
                  <c:v>28.775687335</c:v>
                </c:pt>
                <c:pt idx="813">
                  <c:v>13.769093469</c:v>
                </c:pt>
                <c:pt idx="814">
                  <c:v>29.558698499</c:v>
                </c:pt>
                <c:pt idx="815">
                  <c:v>27.703563147</c:v>
                </c:pt>
                <c:pt idx="816">
                  <c:v>29.322553851</c:v>
                </c:pt>
                <c:pt idx="817">
                  <c:v>29.625271893</c:v>
                </c:pt>
                <c:pt idx="818">
                  <c:v>27.896011536</c:v>
                </c:pt>
                <c:pt idx="819">
                  <c:v>29.559366089</c:v>
                </c:pt>
                <c:pt idx="820">
                  <c:v>29.175481071</c:v>
                </c:pt>
                <c:pt idx="821">
                  <c:v>29.544019125</c:v>
                </c:pt>
                <c:pt idx="822">
                  <c:v>27.776518448</c:v>
                </c:pt>
                <c:pt idx="823">
                  <c:v>0.292749792</c:v>
                </c:pt>
                <c:pt idx="824">
                  <c:v>25.194357777</c:v>
                </c:pt>
                <c:pt idx="825">
                  <c:v>28.957190383</c:v>
                </c:pt>
                <c:pt idx="826">
                  <c:v>28.626520395</c:v>
                </c:pt>
                <c:pt idx="827">
                  <c:v>28.97669093</c:v>
                </c:pt>
                <c:pt idx="828">
                  <c:v>28.506391535</c:v>
                </c:pt>
                <c:pt idx="829">
                  <c:v>7.281452959</c:v>
                </c:pt>
                <c:pt idx="830">
                  <c:v>29.177161311</c:v>
                </c:pt>
                <c:pt idx="831">
                  <c:v>29.610303033</c:v>
                </c:pt>
                <c:pt idx="832">
                  <c:v>29.234350453</c:v>
                </c:pt>
                <c:pt idx="833">
                  <c:v>29.38641697</c:v>
                </c:pt>
                <c:pt idx="834">
                  <c:v>29.067539728</c:v>
                </c:pt>
                <c:pt idx="835">
                  <c:v>29.352036807</c:v>
                </c:pt>
                <c:pt idx="836">
                  <c:v>28.854088576</c:v>
                </c:pt>
                <c:pt idx="837">
                  <c:v>29.231466629</c:v>
                </c:pt>
                <c:pt idx="838">
                  <c:v>28.770468704</c:v>
                </c:pt>
                <c:pt idx="839">
                  <c:v>29.274510971</c:v>
                </c:pt>
                <c:pt idx="840">
                  <c:v>28.823216412</c:v>
                </c:pt>
                <c:pt idx="841">
                  <c:v>28.946249527</c:v>
                </c:pt>
                <c:pt idx="842">
                  <c:v>28.595404103</c:v>
                </c:pt>
                <c:pt idx="843">
                  <c:v>28.793360388</c:v>
                </c:pt>
                <c:pt idx="844">
                  <c:v>28.235590297</c:v>
                </c:pt>
                <c:pt idx="845">
                  <c:v>15.081239716</c:v>
                </c:pt>
                <c:pt idx="846">
                  <c:v>28.980005961</c:v>
                </c:pt>
                <c:pt idx="847">
                  <c:v>29.214284315</c:v>
                </c:pt>
                <c:pt idx="848">
                  <c:v>28.877113574</c:v>
                </c:pt>
                <c:pt idx="849">
                  <c:v>29.144350365</c:v>
                </c:pt>
                <c:pt idx="850">
                  <c:v>28.696767151</c:v>
                </c:pt>
                <c:pt idx="851">
                  <c:v>29.049045028</c:v>
                </c:pt>
                <c:pt idx="852">
                  <c:v>28.661626884</c:v>
                </c:pt>
                <c:pt idx="853">
                  <c:v>29.05522523</c:v>
                </c:pt>
                <c:pt idx="854">
                  <c:v>28.463717606</c:v>
                </c:pt>
                <c:pt idx="855">
                  <c:v>28.842536873</c:v>
                </c:pt>
                <c:pt idx="856">
                  <c:v>28.440007806</c:v>
                </c:pt>
                <c:pt idx="857">
                  <c:v>28.719594172</c:v>
                </c:pt>
                <c:pt idx="858">
                  <c:v>28.348939164</c:v>
                </c:pt>
                <c:pt idx="859">
                  <c:v>28.671568446</c:v>
                </c:pt>
                <c:pt idx="860">
                  <c:v>28.244933676</c:v>
                </c:pt>
                <c:pt idx="861">
                  <c:v>15.488152633</c:v>
                </c:pt>
                <c:pt idx="862">
                  <c:v>28.824750515</c:v>
                </c:pt>
                <c:pt idx="863">
                  <c:v>29.114473352</c:v>
                </c:pt>
                <c:pt idx="864">
                  <c:v>28.650594594</c:v>
                </c:pt>
                <c:pt idx="865">
                  <c:v>29.193974368</c:v>
                </c:pt>
                <c:pt idx="866">
                  <c:v>28.920344696</c:v>
                </c:pt>
                <c:pt idx="867">
                  <c:v>29.259894386</c:v>
                </c:pt>
                <c:pt idx="868">
                  <c:v>28.864111076</c:v>
                </c:pt>
                <c:pt idx="869">
                  <c:v>28.42204562</c:v>
                </c:pt>
                <c:pt idx="870">
                  <c:v>28.711036345</c:v>
                </c:pt>
                <c:pt idx="871">
                  <c:v>29.021722458</c:v>
                </c:pt>
                <c:pt idx="872">
                  <c:v>28.683245501</c:v>
                </c:pt>
                <c:pt idx="873">
                  <c:v>28.961836075</c:v>
                </c:pt>
                <c:pt idx="874">
                  <c:v>28.564719046</c:v>
                </c:pt>
                <c:pt idx="875">
                  <c:v>28.833588016</c:v>
                </c:pt>
                <c:pt idx="876">
                  <c:v>28.343055742</c:v>
                </c:pt>
                <c:pt idx="877">
                  <c:v>13.60691509</c:v>
                </c:pt>
                <c:pt idx="878">
                  <c:v>28.958525199</c:v>
                </c:pt>
                <c:pt idx="879">
                  <c:v>29.569940298</c:v>
                </c:pt>
                <c:pt idx="880">
                  <c:v>28.884283222</c:v>
                </c:pt>
                <c:pt idx="881">
                  <c:v>29.329563013</c:v>
                </c:pt>
                <c:pt idx="882">
                  <c:v>28.912092616</c:v>
                </c:pt>
                <c:pt idx="883">
                  <c:v>29.183992669</c:v>
                </c:pt>
                <c:pt idx="884">
                  <c:v>28.757404077</c:v>
                </c:pt>
                <c:pt idx="885">
                  <c:v>29.029393351</c:v>
                </c:pt>
                <c:pt idx="886">
                  <c:v>28.633566133</c:v>
                </c:pt>
                <c:pt idx="887">
                  <c:v>28.910708858</c:v>
                </c:pt>
                <c:pt idx="888">
                  <c:v>28.518193323</c:v>
                </c:pt>
                <c:pt idx="889">
                  <c:v>28.939902285</c:v>
                </c:pt>
                <c:pt idx="890">
                  <c:v>28.017736691</c:v>
                </c:pt>
                <c:pt idx="891">
                  <c:v>28.80238993</c:v>
                </c:pt>
                <c:pt idx="892">
                  <c:v>28.303317163</c:v>
                </c:pt>
                <c:pt idx="893">
                  <c:v>6.709169896</c:v>
                </c:pt>
                <c:pt idx="894">
                  <c:v>28.946569629</c:v>
                </c:pt>
                <c:pt idx="895">
                  <c:v>29.452768045</c:v>
                </c:pt>
                <c:pt idx="896">
                  <c:v>28.851703292</c:v>
                </c:pt>
                <c:pt idx="897">
                  <c:v>29.242733093</c:v>
                </c:pt>
                <c:pt idx="898">
                  <c:v>28.780538669</c:v>
                </c:pt>
                <c:pt idx="899">
                  <c:v>29.286411356</c:v>
                </c:pt>
                <c:pt idx="900">
                  <c:v>28.750139381</c:v>
                </c:pt>
                <c:pt idx="901">
                  <c:v>29.222166096</c:v>
                </c:pt>
                <c:pt idx="902">
                  <c:v>28.612439317</c:v>
                </c:pt>
                <c:pt idx="903">
                  <c:v>29.12370545</c:v>
                </c:pt>
                <c:pt idx="904">
                  <c:v>28.66262073</c:v>
                </c:pt>
                <c:pt idx="905">
                  <c:v>28.905121949</c:v>
                </c:pt>
                <c:pt idx="906">
                  <c:v>28.399740316</c:v>
                </c:pt>
                <c:pt idx="907">
                  <c:v>28.836605649</c:v>
                </c:pt>
                <c:pt idx="908">
                  <c:v>28.303266157</c:v>
                </c:pt>
                <c:pt idx="909">
                  <c:v>14.172538147</c:v>
                </c:pt>
                <c:pt idx="910">
                  <c:v>28.963438384</c:v>
                </c:pt>
                <c:pt idx="911">
                  <c:v>28.60233035</c:v>
                </c:pt>
                <c:pt idx="912">
                  <c:v>28.848417547</c:v>
                </c:pt>
                <c:pt idx="913">
                  <c:v>29.27107367</c:v>
                </c:pt>
                <c:pt idx="914">
                  <c:v>28.777321841</c:v>
                </c:pt>
                <c:pt idx="915">
                  <c:v>29.329234383</c:v>
                </c:pt>
                <c:pt idx="916">
                  <c:v>28.713083459</c:v>
                </c:pt>
                <c:pt idx="917">
                  <c:v>29.039215865</c:v>
                </c:pt>
                <c:pt idx="918">
                  <c:v>28.495013101</c:v>
                </c:pt>
                <c:pt idx="919">
                  <c:v>28.87074354</c:v>
                </c:pt>
                <c:pt idx="920">
                  <c:v>28.608999382</c:v>
                </c:pt>
                <c:pt idx="921">
                  <c:v>28.945555995</c:v>
                </c:pt>
                <c:pt idx="922">
                  <c:v>28.387266683</c:v>
                </c:pt>
                <c:pt idx="923">
                  <c:v>28.975621726</c:v>
                </c:pt>
                <c:pt idx="924">
                  <c:v>28.387420612</c:v>
                </c:pt>
                <c:pt idx="925">
                  <c:v>8.119885426</c:v>
                </c:pt>
                <c:pt idx="926">
                  <c:v>29.137159155</c:v>
                </c:pt>
                <c:pt idx="927">
                  <c:v>29.350665468</c:v>
                </c:pt>
                <c:pt idx="928">
                  <c:v>28.925138388</c:v>
                </c:pt>
                <c:pt idx="929">
                  <c:v>29.31341412</c:v>
                </c:pt>
                <c:pt idx="930">
                  <c:v>28.87366279</c:v>
                </c:pt>
                <c:pt idx="931">
                  <c:v>29.223906097</c:v>
                </c:pt>
                <c:pt idx="932">
                  <c:v>28.238077875</c:v>
                </c:pt>
                <c:pt idx="933">
                  <c:v>29.140619144</c:v>
                </c:pt>
                <c:pt idx="934">
                  <c:v>28.747297673</c:v>
                </c:pt>
                <c:pt idx="935">
                  <c:v>28.999108894</c:v>
                </c:pt>
                <c:pt idx="936">
                  <c:v>28.629286087</c:v>
                </c:pt>
                <c:pt idx="937">
                  <c:v>29.035565193</c:v>
                </c:pt>
                <c:pt idx="938">
                  <c:v>28.405236297</c:v>
                </c:pt>
                <c:pt idx="939">
                  <c:v>28.867824881</c:v>
                </c:pt>
                <c:pt idx="940">
                  <c:v>28.456084923</c:v>
                </c:pt>
                <c:pt idx="941">
                  <c:v>15.089266909</c:v>
                </c:pt>
                <c:pt idx="942">
                  <c:v>29.375149425</c:v>
                </c:pt>
                <c:pt idx="943">
                  <c:v>29.455088026</c:v>
                </c:pt>
                <c:pt idx="944">
                  <c:v>28.939422354</c:v>
                </c:pt>
                <c:pt idx="945">
                  <c:v>29.095487681</c:v>
                </c:pt>
                <c:pt idx="946">
                  <c:v>28.926949752</c:v>
                </c:pt>
                <c:pt idx="947">
                  <c:v>29.097536078</c:v>
                </c:pt>
                <c:pt idx="948">
                  <c:v>28.723270879</c:v>
                </c:pt>
                <c:pt idx="949">
                  <c:v>29.068615726</c:v>
                </c:pt>
                <c:pt idx="950">
                  <c:v>28.600142752</c:v>
                </c:pt>
                <c:pt idx="951">
                  <c:v>29.020328186</c:v>
                </c:pt>
                <c:pt idx="952">
                  <c:v>28.665498041</c:v>
                </c:pt>
                <c:pt idx="953">
                  <c:v>28.799221025</c:v>
                </c:pt>
                <c:pt idx="954">
                  <c:v>27.902652653</c:v>
                </c:pt>
                <c:pt idx="955">
                  <c:v>28.73320269</c:v>
                </c:pt>
                <c:pt idx="956">
                  <c:v>28.424514718</c:v>
                </c:pt>
                <c:pt idx="957">
                  <c:v>15.660364879</c:v>
                </c:pt>
                <c:pt idx="958">
                  <c:v>29.036531458</c:v>
                </c:pt>
                <c:pt idx="959">
                  <c:v>29.401820761</c:v>
                </c:pt>
                <c:pt idx="960">
                  <c:v>28.988136345</c:v>
                </c:pt>
                <c:pt idx="961">
                  <c:v>29.187626519</c:v>
                </c:pt>
                <c:pt idx="962">
                  <c:v>28.907941738</c:v>
                </c:pt>
                <c:pt idx="963">
                  <c:v>29.26643732</c:v>
                </c:pt>
                <c:pt idx="964">
                  <c:v>28.663980841</c:v>
                </c:pt>
                <c:pt idx="965">
                  <c:v>29.122679372</c:v>
                </c:pt>
                <c:pt idx="966">
                  <c:v>28.645316741</c:v>
                </c:pt>
                <c:pt idx="967">
                  <c:v>29.029339694</c:v>
                </c:pt>
                <c:pt idx="968">
                  <c:v>28.525962988</c:v>
                </c:pt>
                <c:pt idx="969">
                  <c:v>28.778851063</c:v>
                </c:pt>
                <c:pt idx="970">
                  <c:v>28.521197092</c:v>
                </c:pt>
                <c:pt idx="971">
                  <c:v>28.827395905</c:v>
                </c:pt>
                <c:pt idx="972">
                  <c:v>28.391731292</c:v>
                </c:pt>
                <c:pt idx="973">
                  <c:v>8.772199261</c:v>
                </c:pt>
                <c:pt idx="974">
                  <c:v>28.926044042</c:v>
                </c:pt>
                <c:pt idx="975">
                  <c:v>28.525548499</c:v>
                </c:pt>
                <c:pt idx="976">
                  <c:v>28.82162958</c:v>
                </c:pt>
                <c:pt idx="977">
                  <c:v>29.219067234</c:v>
                </c:pt>
                <c:pt idx="978">
                  <c:v>28.642965848</c:v>
                </c:pt>
                <c:pt idx="979">
                  <c:v>29.151815674</c:v>
                </c:pt>
                <c:pt idx="980">
                  <c:v>28.583174192</c:v>
                </c:pt>
                <c:pt idx="981">
                  <c:v>29.047970479</c:v>
                </c:pt>
                <c:pt idx="982">
                  <c:v>28.409038501</c:v>
                </c:pt>
                <c:pt idx="983">
                  <c:v>29.003553802</c:v>
                </c:pt>
                <c:pt idx="984">
                  <c:v>28.592072367</c:v>
                </c:pt>
                <c:pt idx="985">
                  <c:v>29.014377223</c:v>
                </c:pt>
                <c:pt idx="986">
                  <c:v>28.447168123</c:v>
                </c:pt>
                <c:pt idx="987">
                  <c:v>28.93345122</c:v>
                </c:pt>
                <c:pt idx="988">
                  <c:v>28.468825537</c:v>
                </c:pt>
                <c:pt idx="989">
                  <c:v>12.432118121</c:v>
                </c:pt>
                <c:pt idx="990">
                  <c:v>29.003660925</c:v>
                </c:pt>
                <c:pt idx="991">
                  <c:v>29.359554023</c:v>
                </c:pt>
                <c:pt idx="992">
                  <c:v>28.937342841</c:v>
                </c:pt>
                <c:pt idx="993">
                  <c:v>29.32578422</c:v>
                </c:pt>
                <c:pt idx="994">
                  <c:v>28.687174899</c:v>
                </c:pt>
                <c:pt idx="995">
                  <c:v>29.290070758</c:v>
                </c:pt>
                <c:pt idx="996">
                  <c:v>28.090298262</c:v>
                </c:pt>
                <c:pt idx="997">
                  <c:v>29.109131128</c:v>
                </c:pt>
                <c:pt idx="998">
                  <c:v>28.608478252</c:v>
                </c:pt>
                <c:pt idx="999">
                  <c:v>28.930359994</c:v>
                </c:pt>
                <c:pt idx="1000">
                  <c:v>27.745751065</c:v>
                </c:pt>
              </c:numCache>
            </c:numRef>
          </c:yVal>
          <c:smooth val="0"/>
        </c:ser>
        <c:ser>
          <c:idx val="4"/>
          <c:order val="4"/>
          <c:tx>
            <c:strRef>
              <c:f>label 8</c:f>
              <c:strCache>
                <c:ptCount val="1"/>
                <c:pt idx="0">
                  <c:v>16 K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9</c:f>
              <c:numCache>
                <c:formatCode>General</c:formatCode>
                <c:ptCount val="1001"/>
                <c:pt idx="0">
                  <c:v>16384</c:v>
                </c:pt>
                <c:pt idx="1">
                  <c:v>16384</c:v>
                </c:pt>
                <c:pt idx="2">
                  <c:v>16384</c:v>
                </c:pt>
                <c:pt idx="3">
                  <c:v>16384</c:v>
                </c:pt>
                <c:pt idx="4">
                  <c:v>16384</c:v>
                </c:pt>
                <c:pt idx="5">
                  <c:v>16384</c:v>
                </c:pt>
                <c:pt idx="6">
                  <c:v>16384</c:v>
                </c:pt>
                <c:pt idx="7">
                  <c:v>16384</c:v>
                </c:pt>
                <c:pt idx="8">
                  <c:v>16384</c:v>
                </c:pt>
                <c:pt idx="9">
                  <c:v>16384</c:v>
                </c:pt>
                <c:pt idx="10">
                  <c:v>16384</c:v>
                </c:pt>
                <c:pt idx="11">
                  <c:v>16384</c:v>
                </c:pt>
                <c:pt idx="12">
                  <c:v>16384</c:v>
                </c:pt>
                <c:pt idx="13">
                  <c:v>16384</c:v>
                </c:pt>
                <c:pt idx="14">
                  <c:v>16384</c:v>
                </c:pt>
                <c:pt idx="15">
                  <c:v>16384</c:v>
                </c:pt>
                <c:pt idx="16">
                  <c:v>16384</c:v>
                </c:pt>
                <c:pt idx="17">
                  <c:v>16384</c:v>
                </c:pt>
                <c:pt idx="18">
                  <c:v>16384</c:v>
                </c:pt>
                <c:pt idx="19">
                  <c:v>16384</c:v>
                </c:pt>
                <c:pt idx="20">
                  <c:v>16384</c:v>
                </c:pt>
                <c:pt idx="21">
                  <c:v>16384</c:v>
                </c:pt>
                <c:pt idx="22">
                  <c:v>16384</c:v>
                </c:pt>
                <c:pt idx="23">
                  <c:v>16384</c:v>
                </c:pt>
                <c:pt idx="24">
                  <c:v>16384</c:v>
                </c:pt>
                <c:pt idx="25">
                  <c:v>16384</c:v>
                </c:pt>
                <c:pt idx="26">
                  <c:v>16384</c:v>
                </c:pt>
                <c:pt idx="27">
                  <c:v>16384</c:v>
                </c:pt>
                <c:pt idx="28">
                  <c:v>16384</c:v>
                </c:pt>
                <c:pt idx="29">
                  <c:v>16384</c:v>
                </c:pt>
                <c:pt idx="30">
                  <c:v>16384</c:v>
                </c:pt>
                <c:pt idx="31">
                  <c:v>16384</c:v>
                </c:pt>
                <c:pt idx="32">
                  <c:v>16384</c:v>
                </c:pt>
                <c:pt idx="33">
                  <c:v>16384</c:v>
                </c:pt>
                <c:pt idx="34">
                  <c:v>16384</c:v>
                </c:pt>
                <c:pt idx="35">
                  <c:v>16384</c:v>
                </c:pt>
                <c:pt idx="36">
                  <c:v>16384</c:v>
                </c:pt>
                <c:pt idx="37">
                  <c:v>16384</c:v>
                </c:pt>
                <c:pt idx="38">
                  <c:v>16384</c:v>
                </c:pt>
                <c:pt idx="39">
                  <c:v>16384</c:v>
                </c:pt>
                <c:pt idx="40">
                  <c:v>16384</c:v>
                </c:pt>
                <c:pt idx="41">
                  <c:v>16384</c:v>
                </c:pt>
                <c:pt idx="42">
                  <c:v>16384</c:v>
                </c:pt>
                <c:pt idx="43">
                  <c:v>16384</c:v>
                </c:pt>
                <c:pt idx="44">
                  <c:v>16384</c:v>
                </c:pt>
                <c:pt idx="45">
                  <c:v>16384</c:v>
                </c:pt>
                <c:pt idx="46">
                  <c:v>16384</c:v>
                </c:pt>
                <c:pt idx="47">
                  <c:v>16384</c:v>
                </c:pt>
                <c:pt idx="48">
                  <c:v>16384</c:v>
                </c:pt>
                <c:pt idx="49">
                  <c:v>16384</c:v>
                </c:pt>
                <c:pt idx="50">
                  <c:v>16384</c:v>
                </c:pt>
                <c:pt idx="51">
                  <c:v>16384</c:v>
                </c:pt>
                <c:pt idx="52">
                  <c:v>16384</c:v>
                </c:pt>
                <c:pt idx="53">
                  <c:v>16384</c:v>
                </c:pt>
                <c:pt idx="54">
                  <c:v>16384</c:v>
                </c:pt>
                <c:pt idx="55">
                  <c:v>16384</c:v>
                </c:pt>
                <c:pt idx="56">
                  <c:v>16384</c:v>
                </c:pt>
                <c:pt idx="57">
                  <c:v>16384</c:v>
                </c:pt>
                <c:pt idx="58">
                  <c:v>16384</c:v>
                </c:pt>
                <c:pt idx="59">
                  <c:v>16384</c:v>
                </c:pt>
                <c:pt idx="60">
                  <c:v>16384</c:v>
                </c:pt>
                <c:pt idx="61">
                  <c:v>16384</c:v>
                </c:pt>
                <c:pt idx="62">
                  <c:v>16384</c:v>
                </c:pt>
                <c:pt idx="63">
                  <c:v>16384</c:v>
                </c:pt>
                <c:pt idx="64">
                  <c:v>16384</c:v>
                </c:pt>
                <c:pt idx="65">
                  <c:v>16384</c:v>
                </c:pt>
                <c:pt idx="66">
                  <c:v>16384</c:v>
                </c:pt>
                <c:pt idx="67">
                  <c:v>16384</c:v>
                </c:pt>
                <c:pt idx="68">
                  <c:v>16384</c:v>
                </c:pt>
                <c:pt idx="69">
                  <c:v>16384</c:v>
                </c:pt>
                <c:pt idx="70">
                  <c:v>16384</c:v>
                </c:pt>
                <c:pt idx="71">
                  <c:v>16384</c:v>
                </c:pt>
                <c:pt idx="72">
                  <c:v>16384</c:v>
                </c:pt>
                <c:pt idx="73">
                  <c:v>16384</c:v>
                </c:pt>
                <c:pt idx="74">
                  <c:v>16384</c:v>
                </c:pt>
                <c:pt idx="75">
                  <c:v>16384</c:v>
                </c:pt>
                <c:pt idx="76">
                  <c:v>16384</c:v>
                </c:pt>
                <c:pt idx="77">
                  <c:v>16384</c:v>
                </c:pt>
                <c:pt idx="78">
                  <c:v>16384</c:v>
                </c:pt>
                <c:pt idx="79">
                  <c:v>16384</c:v>
                </c:pt>
                <c:pt idx="80">
                  <c:v>16384</c:v>
                </c:pt>
                <c:pt idx="81">
                  <c:v>16384</c:v>
                </c:pt>
                <c:pt idx="82">
                  <c:v>16384</c:v>
                </c:pt>
                <c:pt idx="83">
                  <c:v>16384</c:v>
                </c:pt>
                <c:pt idx="84">
                  <c:v>16384</c:v>
                </c:pt>
                <c:pt idx="85">
                  <c:v>16384</c:v>
                </c:pt>
                <c:pt idx="86">
                  <c:v>16384</c:v>
                </c:pt>
                <c:pt idx="87">
                  <c:v>16384</c:v>
                </c:pt>
                <c:pt idx="88">
                  <c:v>16384</c:v>
                </c:pt>
                <c:pt idx="89">
                  <c:v>16384</c:v>
                </c:pt>
                <c:pt idx="90">
                  <c:v>16384</c:v>
                </c:pt>
                <c:pt idx="91">
                  <c:v>16384</c:v>
                </c:pt>
                <c:pt idx="92">
                  <c:v>16384</c:v>
                </c:pt>
                <c:pt idx="93">
                  <c:v>16384</c:v>
                </c:pt>
                <c:pt idx="94">
                  <c:v>16384</c:v>
                </c:pt>
                <c:pt idx="95">
                  <c:v>16384</c:v>
                </c:pt>
                <c:pt idx="96">
                  <c:v>16384</c:v>
                </c:pt>
                <c:pt idx="97">
                  <c:v>16384</c:v>
                </c:pt>
                <c:pt idx="98">
                  <c:v>16384</c:v>
                </c:pt>
                <c:pt idx="99">
                  <c:v>16384</c:v>
                </c:pt>
                <c:pt idx="100">
                  <c:v>16384</c:v>
                </c:pt>
                <c:pt idx="101">
                  <c:v>16384</c:v>
                </c:pt>
                <c:pt idx="102">
                  <c:v>16384</c:v>
                </c:pt>
                <c:pt idx="103">
                  <c:v>16384</c:v>
                </c:pt>
                <c:pt idx="104">
                  <c:v>16384</c:v>
                </c:pt>
                <c:pt idx="105">
                  <c:v>16384</c:v>
                </c:pt>
                <c:pt idx="106">
                  <c:v>16384</c:v>
                </c:pt>
                <c:pt idx="107">
                  <c:v>16384</c:v>
                </c:pt>
                <c:pt idx="108">
                  <c:v>16384</c:v>
                </c:pt>
                <c:pt idx="109">
                  <c:v>16384</c:v>
                </c:pt>
                <c:pt idx="110">
                  <c:v>16384</c:v>
                </c:pt>
                <c:pt idx="111">
                  <c:v>16384</c:v>
                </c:pt>
                <c:pt idx="112">
                  <c:v>16384</c:v>
                </c:pt>
                <c:pt idx="113">
                  <c:v>16384</c:v>
                </c:pt>
                <c:pt idx="114">
                  <c:v>16384</c:v>
                </c:pt>
                <c:pt idx="115">
                  <c:v>16384</c:v>
                </c:pt>
                <c:pt idx="116">
                  <c:v>16384</c:v>
                </c:pt>
                <c:pt idx="117">
                  <c:v>16384</c:v>
                </c:pt>
                <c:pt idx="118">
                  <c:v>16384</c:v>
                </c:pt>
                <c:pt idx="119">
                  <c:v>16384</c:v>
                </c:pt>
                <c:pt idx="120">
                  <c:v>16384</c:v>
                </c:pt>
                <c:pt idx="121">
                  <c:v>16384</c:v>
                </c:pt>
                <c:pt idx="122">
                  <c:v>16384</c:v>
                </c:pt>
                <c:pt idx="123">
                  <c:v>16384</c:v>
                </c:pt>
                <c:pt idx="124">
                  <c:v>16384</c:v>
                </c:pt>
                <c:pt idx="125">
                  <c:v>16384</c:v>
                </c:pt>
                <c:pt idx="126">
                  <c:v>16384</c:v>
                </c:pt>
                <c:pt idx="127">
                  <c:v>16384</c:v>
                </c:pt>
                <c:pt idx="128">
                  <c:v>16384</c:v>
                </c:pt>
                <c:pt idx="129">
                  <c:v>16384</c:v>
                </c:pt>
                <c:pt idx="130">
                  <c:v>16384</c:v>
                </c:pt>
                <c:pt idx="131">
                  <c:v>16384</c:v>
                </c:pt>
                <c:pt idx="132">
                  <c:v>16384</c:v>
                </c:pt>
                <c:pt idx="133">
                  <c:v>16384</c:v>
                </c:pt>
                <c:pt idx="134">
                  <c:v>16384</c:v>
                </c:pt>
                <c:pt idx="135">
                  <c:v>16384</c:v>
                </c:pt>
                <c:pt idx="136">
                  <c:v>16384</c:v>
                </c:pt>
                <c:pt idx="137">
                  <c:v>16384</c:v>
                </c:pt>
                <c:pt idx="138">
                  <c:v>16384</c:v>
                </c:pt>
                <c:pt idx="139">
                  <c:v>16384</c:v>
                </c:pt>
                <c:pt idx="140">
                  <c:v>16384</c:v>
                </c:pt>
                <c:pt idx="141">
                  <c:v>16384</c:v>
                </c:pt>
                <c:pt idx="142">
                  <c:v>16384</c:v>
                </c:pt>
                <c:pt idx="143">
                  <c:v>16384</c:v>
                </c:pt>
                <c:pt idx="144">
                  <c:v>16384</c:v>
                </c:pt>
                <c:pt idx="145">
                  <c:v>16384</c:v>
                </c:pt>
                <c:pt idx="146">
                  <c:v>16384</c:v>
                </c:pt>
                <c:pt idx="147">
                  <c:v>16384</c:v>
                </c:pt>
                <c:pt idx="148">
                  <c:v>16384</c:v>
                </c:pt>
                <c:pt idx="149">
                  <c:v>16384</c:v>
                </c:pt>
                <c:pt idx="150">
                  <c:v>16384</c:v>
                </c:pt>
                <c:pt idx="151">
                  <c:v>16384</c:v>
                </c:pt>
                <c:pt idx="152">
                  <c:v>16384</c:v>
                </c:pt>
                <c:pt idx="153">
                  <c:v>16384</c:v>
                </c:pt>
                <c:pt idx="154">
                  <c:v>16384</c:v>
                </c:pt>
                <c:pt idx="155">
                  <c:v>16384</c:v>
                </c:pt>
                <c:pt idx="156">
                  <c:v>16384</c:v>
                </c:pt>
                <c:pt idx="157">
                  <c:v>16384</c:v>
                </c:pt>
                <c:pt idx="158">
                  <c:v>16384</c:v>
                </c:pt>
                <c:pt idx="159">
                  <c:v>16384</c:v>
                </c:pt>
                <c:pt idx="160">
                  <c:v>16384</c:v>
                </c:pt>
                <c:pt idx="161">
                  <c:v>16384</c:v>
                </c:pt>
                <c:pt idx="162">
                  <c:v>16384</c:v>
                </c:pt>
                <c:pt idx="163">
                  <c:v>16384</c:v>
                </c:pt>
                <c:pt idx="164">
                  <c:v>16384</c:v>
                </c:pt>
                <c:pt idx="165">
                  <c:v>16384</c:v>
                </c:pt>
                <c:pt idx="166">
                  <c:v>16384</c:v>
                </c:pt>
                <c:pt idx="167">
                  <c:v>16384</c:v>
                </c:pt>
                <c:pt idx="168">
                  <c:v>16384</c:v>
                </c:pt>
                <c:pt idx="169">
                  <c:v>16384</c:v>
                </c:pt>
                <c:pt idx="170">
                  <c:v>16384</c:v>
                </c:pt>
                <c:pt idx="171">
                  <c:v>16384</c:v>
                </c:pt>
                <c:pt idx="172">
                  <c:v>16384</c:v>
                </c:pt>
                <c:pt idx="173">
                  <c:v>16384</c:v>
                </c:pt>
                <c:pt idx="174">
                  <c:v>16384</c:v>
                </c:pt>
                <c:pt idx="175">
                  <c:v>16384</c:v>
                </c:pt>
                <c:pt idx="176">
                  <c:v>16384</c:v>
                </c:pt>
                <c:pt idx="177">
                  <c:v>16384</c:v>
                </c:pt>
                <c:pt idx="178">
                  <c:v>16384</c:v>
                </c:pt>
                <c:pt idx="179">
                  <c:v>16384</c:v>
                </c:pt>
                <c:pt idx="180">
                  <c:v>16384</c:v>
                </c:pt>
                <c:pt idx="181">
                  <c:v>16384</c:v>
                </c:pt>
                <c:pt idx="182">
                  <c:v>16384</c:v>
                </c:pt>
                <c:pt idx="183">
                  <c:v>16384</c:v>
                </c:pt>
                <c:pt idx="184">
                  <c:v>16384</c:v>
                </c:pt>
                <c:pt idx="185">
                  <c:v>16384</c:v>
                </c:pt>
                <c:pt idx="186">
                  <c:v>16384</c:v>
                </c:pt>
                <c:pt idx="187">
                  <c:v>16384</c:v>
                </c:pt>
                <c:pt idx="188">
                  <c:v>16384</c:v>
                </c:pt>
                <c:pt idx="189">
                  <c:v>16384</c:v>
                </c:pt>
                <c:pt idx="190">
                  <c:v>16384</c:v>
                </c:pt>
                <c:pt idx="191">
                  <c:v>16384</c:v>
                </c:pt>
                <c:pt idx="192">
                  <c:v>16384</c:v>
                </c:pt>
                <c:pt idx="193">
                  <c:v>16384</c:v>
                </c:pt>
                <c:pt idx="194">
                  <c:v>16384</c:v>
                </c:pt>
                <c:pt idx="195">
                  <c:v>16384</c:v>
                </c:pt>
                <c:pt idx="196">
                  <c:v>16384</c:v>
                </c:pt>
                <c:pt idx="197">
                  <c:v>16384</c:v>
                </c:pt>
                <c:pt idx="198">
                  <c:v>16384</c:v>
                </c:pt>
                <c:pt idx="199">
                  <c:v>16384</c:v>
                </c:pt>
                <c:pt idx="200">
                  <c:v>16384</c:v>
                </c:pt>
                <c:pt idx="201">
                  <c:v>16384</c:v>
                </c:pt>
                <c:pt idx="202">
                  <c:v>16384</c:v>
                </c:pt>
                <c:pt idx="203">
                  <c:v>16384</c:v>
                </c:pt>
                <c:pt idx="204">
                  <c:v>16384</c:v>
                </c:pt>
                <c:pt idx="205">
                  <c:v>16384</c:v>
                </c:pt>
                <c:pt idx="206">
                  <c:v>16384</c:v>
                </c:pt>
                <c:pt idx="207">
                  <c:v>16384</c:v>
                </c:pt>
                <c:pt idx="208">
                  <c:v>16384</c:v>
                </c:pt>
                <c:pt idx="209">
                  <c:v>16384</c:v>
                </c:pt>
                <c:pt idx="210">
                  <c:v>16384</c:v>
                </c:pt>
                <c:pt idx="211">
                  <c:v>16384</c:v>
                </c:pt>
                <c:pt idx="212">
                  <c:v>16384</c:v>
                </c:pt>
                <c:pt idx="213">
                  <c:v>16384</c:v>
                </c:pt>
                <c:pt idx="214">
                  <c:v>16384</c:v>
                </c:pt>
                <c:pt idx="215">
                  <c:v>16384</c:v>
                </c:pt>
                <c:pt idx="216">
                  <c:v>16384</c:v>
                </c:pt>
                <c:pt idx="217">
                  <c:v>16384</c:v>
                </c:pt>
                <c:pt idx="218">
                  <c:v>16384</c:v>
                </c:pt>
                <c:pt idx="219">
                  <c:v>16384</c:v>
                </c:pt>
                <c:pt idx="220">
                  <c:v>16384</c:v>
                </c:pt>
                <c:pt idx="221">
                  <c:v>16384</c:v>
                </c:pt>
                <c:pt idx="222">
                  <c:v>16384</c:v>
                </c:pt>
                <c:pt idx="223">
                  <c:v>16384</c:v>
                </c:pt>
                <c:pt idx="224">
                  <c:v>16384</c:v>
                </c:pt>
                <c:pt idx="225">
                  <c:v>16384</c:v>
                </c:pt>
                <c:pt idx="226">
                  <c:v>16384</c:v>
                </c:pt>
                <c:pt idx="227">
                  <c:v>16384</c:v>
                </c:pt>
                <c:pt idx="228">
                  <c:v>16384</c:v>
                </c:pt>
                <c:pt idx="229">
                  <c:v>16384</c:v>
                </c:pt>
                <c:pt idx="230">
                  <c:v>16384</c:v>
                </c:pt>
                <c:pt idx="231">
                  <c:v>16384</c:v>
                </c:pt>
                <c:pt idx="232">
                  <c:v>16384</c:v>
                </c:pt>
                <c:pt idx="233">
                  <c:v>16384</c:v>
                </c:pt>
                <c:pt idx="234">
                  <c:v>16384</c:v>
                </c:pt>
                <c:pt idx="235">
                  <c:v>16384</c:v>
                </c:pt>
                <c:pt idx="236">
                  <c:v>16384</c:v>
                </c:pt>
                <c:pt idx="237">
                  <c:v>16384</c:v>
                </c:pt>
                <c:pt idx="238">
                  <c:v>16384</c:v>
                </c:pt>
                <c:pt idx="239">
                  <c:v>16384</c:v>
                </c:pt>
                <c:pt idx="240">
                  <c:v>16384</c:v>
                </c:pt>
                <c:pt idx="241">
                  <c:v>16384</c:v>
                </c:pt>
                <c:pt idx="242">
                  <c:v>16384</c:v>
                </c:pt>
                <c:pt idx="243">
                  <c:v>16384</c:v>
                </c:pt>
                <c:pt idx="244">
                  <c:v>16384</c:v>
                </c:pt>
                <c:pt idx="245">
                  <c:v>16384</c:v>
                </c:pt>
                <c:pt idx="246">
                  <c:v>16384</c:v>
                </c:pt>
                <c:pt idx="247">
                  <c:v>16384</c:v>
                </c:pt>
                <c:pt idx="248">
                  <c:v>16384</c:v>
                </c:pt>
                <c:pt idx="249">
                  <c:v>16384</c:v>
                </c:pt>
                <c:pt idx="250">
                  <c:v>16384</c:v>
                </c:pt>
                <c:pt idx="251">
                  <c:v>16384</c:v>
                </c:pt>
                <c:pt idx="252">
                  <c:v>16384</c:v>
                </c:pt>
                <c:pt idx="253">
                  <c:v>16384</c:v>
                </c:pt>
                <c:pt idx="254">
                  <c:v>16384</c:v>
                </c:pt>
                <c:pt idx="255">
                  <c:v>16384</c:v>
                </c:pt>
                <c:pt idx="256">
                  <c:v>16384</c:v>
                </c:pt>
                <c:pt idx="257">
                  <c:v>16384</c:v>
                </c:pt>
                <c:pt idx="258">
                  <c:v>16384</c:v>
                </c:pt>
                <c:pt idx="259">
                  <c:v>16384</c:v>
                </c:pt>
                <c:pt idx="260">
                  <c:v>16384</c:v>
                </c:pt>
                <c:pt idx="261">
                  <c:v>16384</c:v>
                </c:pt>
                <c:pt idx="262">
                  <c:v>16384</c:v>
                </c:pt>
                <c:pt idx="263">
                  <c:v>16384</c:v>
                </c:pt>
                <c:pt idx="264">
                  <c:v>16384</c:v>
                </c:pt>
                <c:pt idx="265">
                  <c:v>16384</c:v>
                </c:pt>
                <c:pt idx="266">
                  <c:v>16384</c:v>
                </c:pt>
                <c:pt idx="267">
                  <c:v>16384</c:v>
                </c:pt>
                <c:pt idx="268">
                  <c:v>16384</c:v>
                </c:pt>
                <c:pt idx="269">
                  <c:v>16384</c:v>
                </c:pt>
                <c:pt idx="270">
                  <c:v>16384</c:v>
                </c:pt>
                <c:pt idx="271">
                  <c:v>16384</c:v>
                </c:pt>
                <c:pt idx="272">
                  <c:v>16384</c:v>
                </c:pt>
                <c:pt idx="273">
                  <c:v>16384</c:v>
                </c:pt>
                <c:pt idx="274">
                  <c:v>16384</c:v>
                </c:pt>
                <c:pt idx="275">
                  <c:v>16384</c:v>
                </c:pt>
                <c:pt idx="276">
                  <c:v>16384</c:v>
                </c:pt>
                <c:pt idx="277">
                  <c:v>16384</c:v>
                </c:pt>
                <c:pt idx="278">
                  <c:v>16384</c:v>
                </c:pt>
                <c:pt idx="279">
                  <c:v>16384</c:v>
                </c:pt>
                <c:pt idx="280">
                  <c:v>16384</c:v>
                </c:pt>
                <c:pt idx="281">
                  <c:v>16384</c:v>
                </c:pt>
                <c:pt idx="282">
                  <c:v>16384</c:v>
                </c:pt>
                <c:pt idx="283">
                  <c:v>16384</c:v>
                </c:pt>
                <c:pt idx="284">
                  <c:v>16384</c:v>
                </c:pt>
                <c:pt idx="285">
                  <c:v>16384</c:v>
                </c:pt>
                <c:pt idx="286">
                  <c:v>16384</c:v>
                </c:pt>
                <c:pt idx="287">
                  <c:v>16384</c:v>
                </c:pt>
                <c:pt idx="288">
                  <c:v>16384</c:v>
                </c:pt>
                <c:pt idx="289">
                  <c:v>16384</c:v>
                </c:pt>
                <c:pt idx="290">
                  <c:v>16384</c:v>
                </c:pt>
                <c:pt idx="291">
                  <c:v>16384</c:v>
                </c:pt>
                <c:pt idx="292">
                  <c:v>16384</c:v>
                </c:pt>
                <c:pt idx="293">
                  <c:v>16384</c:v>
                </c:pt>
                <c:pt idx="294">
                  <c:v>16384</c:v>
                </c:pt>
                <c:pt idx="295">
                  <c:v>16384</c:v>
                </c:pt>
                <c:pt idx="296">
                  <c:v>16384</c:v>
                </c:pt>
                <c:pt idx="297">
                  <c:v>16384</c:v>
                </c:pt>
                <c:pt idx="298">
                  <c:v>16384</c:v>
                </c:pt>
                <c:pt idx="299">
                  <c:v>16384</c:v>
                </c:pt>
                <c:pt idx="300">
                  <c:v>16384</c:v>
                </c:pt>
                <c:pt idx="301">
                  <c:v>16384</c:v>
                </c:pt>
                <c:pt idx="302">
                  <c:v>16384</c:v>
                </c:pt>
                <c:pt idx="303">
                  <c:v>16384</c:v>
                </c:pt>
                <c:pt idx="304">
                  <c:v>16384</c:v>
                </c:pt>
                <c:pt idx="305">
                  <c:v>16384</c:v>
                </c:pt>
                <c:pt idx="306">
                  <c:v>16384</c:v>
                </c:pt>
                <c:pt idx="307">
                  <c:v>16384</c:v>
                </c:pt>
                <c:pt idx="308">
                  <c:v>16384</c:v>
                </c:pt>
                <c:pt idx="309">
                  <c:v>16384</c:v>
                </c:pt>
                <c:pt idx="310">
                  <c:v>16384</c:v>
                </c:pt>
                <c:pt idx="311">
                  <c:v>16384</c:v>
                </c:pt>
                <c:pt idx="312">
                  <c:v>16384</c:v>
                </c:pt>
                <c:pt idx="313">
                  <c:v>16384</c:v>
                </c:pt>
                <c:pt idx="314">
                  <c:v>16384</c:v>
                </c:pt>
                <c:pt idx="315">
                  <c:v>16384</c:v>
                </c:pt>
                <c:pt idx="316">
                  <c:v>16384</c:v>
                </c:pt>
                <c:pt idx="317">
                  <c:v>16384</c:v>
                </c:pt>
                <c:pt idx="318">
                  <c:v>16384</c:v>
                </c:pt>
                <c:pt idx="319">
                  <c:v>16384</c:v>
                </c:pt>
                <c:pt idx="320">
                  <c:v>16384</c:v>
                </c:pt>
                <c:pt idx="321">
                  <c:v>16384</c:v>
                </c:pt>
                <c:pt idx="322">
                  <c:v>16384</c:v>
                </c:pt>
                <c:pt idx="323">
                  <c:v>16384</c:v>
                </c:pt>
                <c:pt idx="324">
                  <c:v>16384</c:v>
                </c:pt>
                <c:pt idx="325">
                  <c:v>16384</c:v>
                </c:pt>
                <c:pt idx="326">
                  <c:v>16384</c:v>
                </c:pt>
                <c:pt idx="327">
                  <c:v>16384</c:v>
                </c:pt>
                <c:pt idx="328">
                  <c:v>16384</c:v>
                </c:pt>
                <c:pt idx="329">
                  <c:v>16384</c:v>
                </c:pt>
                <c:pt idx="330">
                  <c:v>16384</c:v>
                </c:pt>
                <c:pt idx="331">
                  <c:v>16384</c:v>
                </c:pt>
                <c:pt idx="332">
                  <c:v>16384</c:v>
                </c:pt>
                <c:pt idx="333">
                  <c:v>16384</c:v>
                </c:pt>
                <c:pt idx="334">
                  <c:v>16384</c:v>
                </c:pt>
                <c:pt idx="335">
                  <c:v>16384</c:v>
                </c:pt>
                <c:pt idx="336">
                  <c:v>16384</c:v>
                </c:pt>
                <c:pt idx="337">
                  <c:v>16384</c:v>
                </c:pt>
                <c:pt idx="338">
                  <c:v>16384</c:v>
                </c:pt>
                <c:pt idx="339">
                  <c:v>16384</c:v>
                </c:pt>
                <c:pt idx="340">
                  <c:v>16384</c:v>
                </c:pt>
                <c:pt idx="341">
                  <c:v>16384</c:v>
                </c:pt>
                <c:pt idx="342">
                  <c:v>16384</c:v>
                </c:pt>
                <c:pt idx="343">
                  <c:v>16384</c:v>
                </c:pt>
                <c:pt idx="344">
                  <c:v>16384</c:v>
                </c:pt>
                <c:pt idx="345">
                  <c:v>16384</c:v>
                </c:pt>
                <c:pt idx="346">
                  <c:v>16384</c:v>
                </c:pt>
                <c:pt idx="347">
                  <c:v>16384</c:v>
                </c:pt>
                <c:pt idx="348">
                  <c:v>16384</c:v>
                </c:pt>
                <c:pt idx="349">
                  <c:v>16384</c:v>
                </c:pt>
                <c:pt idx="350">
                  <c:v>16384</c:v>
                </c:pt>
                <c:pt idx="351">
                  <c:v>16384</c:v>
                </c:pt>
                <c:pt idx="352">
                  <c:v>16384</c:v>
                </c:pt>
                <c:pt idx="353">
                  <c:v>16384</c:v>
                </c:pt>
                <c:pt idx="354">
                  <c:v>16384</c:v>
                </c:pt>
                <c:pt idx="355">
                  <c:v>16384</c:v>
                </c:pt>
                <c:pt idx="356">
                  <c:v>16384</c:v>
                </c:pt>
                <c:pt idx="357">
                  <c:v>16384</c:v>
                </c:pt>
                <c:pt idx="358">
                  <c:v>16384</c:v>
                </c:pt>
                <c:pt idx="359">
                  <c:v>16384</c:v>
                </c:pt>
                <c:pt idx="360">
                  <c:v>16384</c:v>
                </c:pt>
                <c:pt idx="361">
                  <c:v>16384</c:v>
                </c:pt>
                <c:pt idx="362">
                  <c:v>16384</c:v>
                </c:pt>
                <c:pt idx="363">
                  <c:v>16384</c:v>
                </c:pt>
                <c:pt idx="364">
                  <c:v>16384</c:v>
                </c:pt>
                <c:pt idx="365">
                  <c:v>16384</c:v>
                </c:pt>
                <c:pt idx="366">
                  <c:v>16384</c:v>
                </c:pt>
                <c:pt idx="367">
                  <c:v>16384</c:v>
                </c:pt>
                <c:pt idx="368">
                  <c:v>16384</c:v>
                </c:pt>
                <c:pt idx="369">
                  <c:v>16384</c:v>
                </c:pt>
                <c:pt idx="370">
                  <c:v>16384</c:v>
                </c:pt>
                <c:pt idx="371">
                  <c:v>16384</c:v>
                </c:pt>
                <c:pt idx="372">
                  <c:v>16384</c:v>
                </c:pt>
                <c:pt idx="373">
                  <c:v>16384</c:v>
                </c:pt>
                <c:pt idx="374">
                  <c:v>16384</c:v>
                </c:pt>
                <c:pt idx="375">
                  <c:v>16384</c:v>
                </c:pt>
                <c:pt idx="376">
                  <c:v>16384</c:v>
                </c:pt>
                <c:pt idx="377">
                  <c:v>16384</c:v>
                </c:pt>
                <c:pt idx="378">
                  <c:v>16384</c:v>
                </c:pt>
                <c:pt idx="379">
                  <c:v>16384</c:v>
                </c:pt>
                <c:pt idx="380">
                  <c:v>16384</c:v>
                </c:pt>
                <c:pt idx="381">
                  <c:v>16384</c:v>
                </c:pt>
                <c:pt idx="382">
                  <c:v>16384</c:v>
                </c:pt>
                <c:pt idx="383">
                  <c:v>16384</c:v>
                </c:pt>
                <c:pt idx="384">
                  <c:v>16384</c:v>
                </c:pt>
                <c:pt idx="385">
                  <c:v>16384</c:v>
                </c:pt>
                <c:pt idx="386">
                  <c:v>16384</c:v>
                </c:pt>
                <c:pt idx="387">
                  <c:v>16384</c:v>
                </c:pt>
                <c:pt idx="388">
                  <c:v>16384</c:v>
                </c:pt>
                <c:pt idx="389">
                  <c:v>16384</c:v>
                </c:pt>
                <c:pt idx="390">
                  <c:v>16384</c:v>
                </c:pt>
                <c:pt idx="391">
                  <c:v>16384</c:v>
                </c:pt>
                <c:pt idx="392">
                  <c:v>16384</c:v>
                </c:pt>
                <c:pt idx="393">
                  <c:v>16384</c:v>
                </c:pt>
                <c:pt idx="394">
                  <c:v>16384</c:v>
                </c:pt>
                <c:pt idx="395">
                  <c:v>16384</c:v>
                </c:pt>
                <c:pt idx="396">
                  <c:v>16384</c:v>
                </c:pt>
                <c:pt idx="397">
                  <c:v>16384</c:v>
                </c:pt>
                <c:pt idx="398">
                  <c:v>16384</c:v>
                </c:pt>
                <c:pt idx="399">
                  <c:v>16384</c:v>
                </c:pt>
                <c:pt idx="400">
                  <c:v>16384</c:v>
                </c:pt>
                <c:pt idx="401">
                  <c:v>16384</c:v>
                </c:pt>
                <c:pt idx="402">
                  <c:v>16384</c:v>
                </c:pt>
                <c:pt idx="403">
                  <c:v>16384</c:v>
                </c:pt>
                <c:pt idx="404">
                  <c:v>16384</c:v>
                </c:pt>
                <c:pt idx="405">
                  <c:v>16384</c:v>
                </c:pt>
                <c:pt idx="406">
                  <c:v>16384</c:v>
                </c:pt>
                <c:pt idx="407">
                  <c:v>16384</c:v>
                </c:pt>
                <c:pt idx="408">
                  <c:v>16384</c:v>
                </c:pt>
                <c:pt idx="409">
                  <c:v>16384</c:v>
                </c:pt>
                <c:pt idx="410">
                  <c:v>16384</c:v>
                </c:pt>
                <c:pt idx="411">
                  <c:v>16384</c:v>
                </c:pt>
                <c:pt idx="412">
                  <c:v>16384</c:v>
                </c:pt>
                <c:pt idx="413">
                  <c:v>16384</c:v>
                </c:pt>
                <c:pt idx="414">
                  <c:v>16384</c:v>
                </c:pt>
                <c:pt idx="415">
                  <c:v>16384</c:v>
                </c:pt>
                <c:pt idx="416">
                  <c:v>16384</c:v>
                </c:pt>
                <c:pt idx="417">
                  <c:v>16384</c:v>
                </c:pt>
                <c:pt idx="418">
                  <c:v>16384</c:v>
                </c:pt>
                <c:pt idx="419">
                  <c:v>16384</c:v>
                </c:pt>
                <c:pt idx="420">
                  <c:v>16384</c:v>
                </c:pt>
                <c:pt idx="421">
                  <c:v>16384</c:v>
                </c:pt>
                <c:pt idx="422">
                  <c:v>16384</c:v>
                </c:pt>
                <c:pt idx="423">
                  <c:v>16384</c:v>
                </c:pt>
                <c:pt idx="424">
                  <c:v>16384</c:v>
                </c:pt>
                <c:pt idx="425">
                  <c:v>16384</c:v>
                </c:pt>
                <c:pt idx="426">
                  <c:v>16384</c:v>
                </c:pt>
                <c:pt idx="427">
                  <c:v>16384</c:v>
                </c:pt>
                <c:pt idx="428">
                  <c:v>16384</c:v>
                </c:pt>
                <c:pt idx="429">
                  <c:v>16384</c:v>
                </c:pt>
                <c:pt idx="430">
                  <c:v>16384</c:v>
                </c:pt>
                <c:pt idx="431">
                  <c:v>16384</c:v>
                </c:pt>
                <c:pt idx="432">
                  <c:v>16384</c:v>
                </c:pt>
                <c:pt idx="433">
                  <c:v>16384</c:v>
                </c:pt>
                <c:pt idx="434">
                  <c:v>16384</c:v>
                </c:pt>
                <c:pt idx="435">
                  <c:v>16384</c:v>
                </c:pt>
                <c:pt idx="436">
                  <c:v>16384</c:v>
                </c:pt>
                <c:pt idx="437">
                  <c:v>16384</c:v>
                </c:pt>
                <c:pt idx="438">
                  <c:v>16384</c:v>
                </c:pt>
                <c:pt idx="439">
                  <c:v>16384</c:v>
                </c:pt>
                <c:pt idx="440">
                  <c:v>16384</c:v>
                </c:pt>
                <c:pt idx="441">
                  <c:v>16384</c:v>
                </c:pt>
                <c:pt idx="442">
                  <c:v>16384</c:v>
                </c:pt>
                <c:pt idx="443">
                  <c:v>16384</c:v>
                </c:pt>
                <c:pt idx="444">
                  <c:v>16384</c:v>
                </c:pt>
                <c:pt idx="445">
                  <c:v>16384</c:v>
                </c:pt>
                <c:pt idx="446">
                  <c:v>16384</c:v>
                </c:pt>
                <c:pt idx="447">
                  <c:v>16384</c:v>
                </c:pt>
                <c:pt idx="448">
                  <c:v>16384</c:v>
                </c:pt>
                <c:pt idx="449">
                  <c:v>16384</c:v>
                </c:pt>
                <c:pt idx="450">
                  <c:v>16384</c:v>
                </c:pt>
                <c:pt idx="451">
                  <c:v>16384</c:v>
                </c:pt>
                <c:pt idx="452">
                  <c:v>16384</c:v>
                </c:pt>
                <c:pt idx="453">
                  <c:v>16384</c:v>
                </c:pt>
                <c:pt idx="454">
                  <c:v>16384</c:v>
                </c:pt>
                <c:pt idx="455">
                  <c:v>16384</c:v>
                </c:pt>
                <c:pt idx="456">
                  <c:v>16384</c:v>
                </c:pt>
                <c:pt idx="457">
                  <c:v>16384</c:v>
                </c:pt>
                <c:pt idx="458">
                  <c:v>16384</c:v>
                </c:pt>
                <c:pt idx="459">
                  <c:v>16384</c:v>
                </c:pt>
                <c:pt idx="460">
                  <c:v>16384</c:v>
                </c:pt>
                <c:pt idx="461">
                  <c:v>16384</c:v>
                </c:pt>
                <c:pt idx="462">
                  <c:v>16384</c:v>
                </c:pt>
                <c:pt idx="463">
                  <c:v>16384</c:v>
                </c:pt>
                <c:pt idx="464">
                  <c:v>16384</c:v>
                </c:pt>
                <c:pt idx="465">
                  <c:v>16384</c:v>
                </c:pt>
                <c:pt idx="466">
                  <c:v>16384</c:v>
                </c:pt>
                <c:pt idx="467">
                  <c:v>16384</c:v>
                </c:pt>
                <c:pt idx="468">
                  <c:v>16384</c:v>
                </c:pt>
                <c:pt idx="469">
                  <c:v>16384</c:v>
                </c:pt>
                <c:pt idx="470">
                  <c:v>16384</c:v>
                </c:pt>
                <c:pt idx="471">
                  <c:v>16384</c:v>
                </c:pt>
                <c:pt idx="472">
                  <c:v>16384</c:v>
                </c:pt>
                <c:pt idx="473">
                  <c:v>16384</c:v>
                </c:pt>
                <c:pt idx="474">
                  <c:v>16384</c:v>
                </c:pt>
                <c:pt idx="475">
                  <c:v>16384</c:v>
                </c:pt>
                <c:pt idx="476">
                  <c:v>16384</c:v>
                </c:pt>
                <c:pt idx="477">
                  <c:v>16384</c:v>
                </c:pt>
                <c:pt idx="478">
                  <c:v>16384</c:v>
                </c:pt>
                <c:pt idx="479">
                  <c:v>16384</c:v>
                </c:pt>
                <c:pt idx="480">
                  <c:v>16384</c:v>
                </c:pt>
                <c:pt idx="481">
                  <c:v>16384</c:v>
                </c:pt>
                <c:pt idx="482">
                  <c:v>16384</c:v>
                </c:pt>
                <c:pt idx="483">
                  <c:v>16384</c:v>
                </c:pt>
                <c:pt idx="484">
                  <c:v>16384</c:v>
                </c:pt>
                <c:pt idx="485">
                  <c:v>16384</c:v>
                </c:pt>
                <c:pt idx="486">
                  <c:v>16384</c:v>
                </c:pt>
                <c:pt idx="487">
                  <c:v>16384</c:v>
                </c:pt>
                <c:pt idx="488">
                  <c:v>16384</c:v>
                </c:pt>
                <c:pt idx="489">
                  <c:v>16384</c:v>
                </c:pt>
                <c:pt idx="490">
                  <c:v>16384</c:v>
                </c:pt>
                <c:pt idx="491">
                  <c:v>16384</c:v>
                </c:pt>
                <c:pt idx="492">
                  <c:v>16384</c:v>
                </c:pt>
                <c:pt idx="493">
                  <c:v>16384</c:v>
                </c:pt>
                <c:pt idx="494">
                  <c:v>16384</c:v>
                </c:pt>
                <c:pt idx="495">
                  <c:v>16384</c:v>
                </c:pt>
                <c:pt idx="496">
                  <c:v>16384</c:v>
                </c:pt>
                <c:pt idx="497">
                  <c:v>16384</c:v>
                </c:pt>
                <c:pt idx="498">
                  <c:v>16384</c:v>
                </c:pt>
                <c:pt idx="499">
                  <c:v>16384</c:v>
                </c:pt>
                <c:pt idx="500">
                  <c:v>16384</c:v>
                </c:pt>
                <c:pt idx="501">
                  <c:v>16384</c:v>
                </c:pt>
                <c:pt idx="502">
                  <c:v>16384</c:v>
                </c:pt>
                <c:pt idx="503">
                  <c:v>16384</c:v>
                </c:pt>
                <c:pt idx="504">
                  <c:v>16384</c:v>
                </c:pt>
                <c:pt idx="505">
                  <c:v>16384</c:v>
                </c:pt>
                <c:pt idx="506">
                  <c:v>16384</c:v>
                </c:pt>
                <c:pt idx="507">
                  <c:v>16384</c:v>
                </c:pt>
                <c:pt idx="508">
                  <c:v>16384</c:v>
                </c:pt>
                <c:pt idx="509">
                  <c:v>16384</c:v>
                </c:pt>
                <c:pt idx="510">
                  <c:v>16384</c:v>
                </c:pt>
                <c:pt idx="511">
                  <c:v>16384</c:v>
                </c:pt>
                <c:pt idx="512">
                  <c:v>16384</c:v>
                </c:pt>
                <c:pt idx="513">
                  <c:v>16384</c:v>
                </c:pt>
                <c:pt idx="514">
                  <c:v>16384</c:v>
                </c:pt>
                <c:pt idx="515">
                  <c:v>16384</c:v>
                </c:pt>
                <c:pt idx="516">
                  <c:v>16384</c:v>
                </c:pt>
                <c:pt idx="517">
                  <c:v>16384</c:v>
                </c:pt>
                <c:pt idx="518">
                  <c:v>16384</c:v>
                </c:pt>
                <c:pt idx="519">
                  <c:v>16384</c:v>
                </c:pt>
                <c:pt idx="520">
                  <c:v>16384</c:v>
                </c:pt>
                <c:pt idx="521">
                  <c:v>16384</c:v>
                </c:pt>
                <c:pt idx="522">
                  <c:v>16384</c:v>
                </c:pt>
                <c:pt idx="523">
                  <c:v>16384</c:v>
                </c:pt>
                <c:pt idx="524">
                  <c:v>16384</c:v>
                </c:pt>
                <c:pt idx="525">
                  <c:v>16384</c:v>
                </c:pt>
                <c:pt idx="526">
                  <c:v>16384</c:v>
                </c:pt>
                <c:pt idx="527">
                  <c:v>16384</c:v>
                </c:pt>
                <c:pt idx="528">
                  <c:v>16384</c:v>
                </c:pt>
                <c:pt idx="529">
                  <c:v>16384</c:v>
                </c:pt>
                <c:pt idx="530">
                  <c:v>16384</c:v>
                </c:pt>
                <c:pt idx="531">
                  <c:v>16384</c:v>
                </c:pt>
                <c:pt idx="532">
                  <c:v>16384</c:v>
                </c:pt>
                <c:pt idx="533">
                  <c:v>16384</c:v>
                </c:pt>
                <c:pt idx="534">
                  <c:v>16384</c:v>
                </c:pt>
                <c:pt idx="535">
                  <c:v>16384</c:v>
                </c:pt>
                <c:pt idx="536">
                  <c:v>16384</c:v>
                </c:pt>
                <c:pt idx="537">
                  <c:v>16384</c:v>
                </c:pt>
                <c:pt idx="538">
                  <c:v>16384</c:v>
                </c:pt>
                <c:pt idx="539">
                  <c:v>16384</c:v>
                </c:pt>
                <c:pt idx="540">
                  <c:v>16384</c:v>
                </c:pt>
                <c:pt idx="541">
                  <c:v>16384</c:v>
                </c:pt>
                <c:pt idx="542">
                  <c:v>16384</c:v>
                </c:pt>
                <c:pt idx="543">
                  <c:v>16384</c:v>
                </c:pt>
                <c:pt idx="544">
                  <c:v>16384</c:v>
                </c:pt>
                <c:pt idx="545">
                  <c:v>16384</c:v>
                </c:pt>
                <c:pt idx="546">
                  <c:v>16384</c:v>
                </c:pt>
                <c:pt idx="547">
                  <c:v>16384</c:v>
                </c:pt>
                <c:pt idx="548">
                  <c:v>16384</c:v>
                </c:pt>
                <c:pt idx="549">
                  <c:v>16384</c:v>
                </c:pt>
                <c:pt idx="550">
                  <c:v>16384</c:v>
                </c:pt>
                <c:pt idx="551">
                  <c:v>16384</c:v>
                </c:pt>
                <c:pt idx="552">
                  <c:v>16384</c:v>
                </c:pt>
                <c:pt idx="553">
                  <c:v>16384</c:v>
                </c:pt>
                <c:pt idx="554">
                  <c:v>16384</c:v>
                </c:pt>
                <c:pt idx="555">
                  <c:v>16384</c:v>
                </c:pt>
                <c:pt idx="556">
                  <c:v>16384</c:v>
                </c:pt>
                <c:pt idx="557">
                  <c:v>16384</c:v>
                </c:pt>
                <c:pt idx="558">
                  <c:v>16384</c:v>
                </c:pt>
                <c:pt idx="559">
                  <c:v>16384</c:v>
                </c:pt>
                <c:pt idx="560">
                  <c:v>16384</c:v>
                </c:pt>
                <c:pt idx="561">
                  <c:v>16384</c:v>
                </c:pt>
                <c:pt idx="562">
                  <c:v>16384</c:v>
                </c:pt>
                <c:pt idx="563">
                  <c:v>16384</c:v>
                </c:pt>
                <c:pt idx="564">
                  <c:v>16384</c:v>
                </c:pt>
                <c:pt idx="565">
                  <c:v>16384</c:v>
                </c:pt>
                <c:pt idx="566">
                  <c:v>16384</c:v>
                </c:pt>
                <c:pt idx="567">
                  <c:v>16384</c:v>
                </c:pt>
                <c:pt idx="568">
                  <c:v>16384</c:v>
                </c:pt>
                <c:pt idx="569">
                  <c:v>16384</c:v>
                </c:pt>
                <c:pt idx="570">
                  <c:v>16384</c:v>
                </c:pt>
                <c:pt idx="571">
                  <c:v>16384</c:v>
                </c:pt>
                <c:pt idx="572">
                  <c:v>16384</c:v>
                </c:pt>
                <c:pt idx="573">
                  <c:v>16384</c:v>
                </c:pt>
                <c:pt idx="574">
                  <c:v>16384</c:v>
                </c:pt>
                <c:pt idx="575">
                  <c:v>16384</c:v>
                </c:pt>
                <c:pt idx="576">
                  <c:v>16384</c:v>
                </c:pt>
                <c:pt idx="577">
                  <c:v>16384</c:v>
                </c:pt>
                <c:pt idx="578">
                  <c:v>16384</c:v>
                </c:pt>
                <c:pt idx="579">
                  <c:v>16384</c:v>
                </c:pt>
                <c:pt idx="580">
                  <c:v>16384</c:v>
                </c:pt>
                <c:pt idx="581">
                  <c:v>16384</c:v>
                </c:pt>
                <c:pt idx="582">
                  <c:v>16384</c:v>
                </c:pt>
                <c:pt idx="583">
                  <c:v>16384</c:v>
                </c:pt>
                <c:pt idx="584">
                  <c:v>16384</c:v>
                </c:pt>
                <c:pt idx="585">
                  <c:v>16384</c:v>
                </c:pt>
                <c:pt idx="586">
                  <c:v>16384</c:v>
                </c:pt>
                <c:pt idx="587">
                  <c:v>16384</c:v>
                </c:pt>
                <c:pt idx="588">
                  <c:v>16384</c:v>
                </c:pt>
                <c:pt idx="589">
                  <c:v>16384</c:v>
                </c:pt>
                <c:pt idx="590">
                  <c:v>16384</c:v>
                </c:pt>
                <c:pt idx="591">
                  <c:v>16384</c:v>
                </c:pt>
                <c:pt idx="592">
                  <c:v>16384</c:v>
                </c:pt>
                <c:pt idx="593">
                  <c:v>16384</c:v>
                </c:pt>
                <c:pt idx="594">
                  <c:v>16384</c:v>
                </c:pt>
                <c:pt idx="595">
                  <c:v>16384</c:v>
                </c:pt>
                <c:pt idx="596">
                  <c:v>16384</c:v>
                </c:pt>
                <c:pt idx="597">
                  <c:v>16384</c:v>
                </c:pt>
                <c:pt idx="598">
                  <c:v>16384</c:v>
                </c:pt>
                <c:pt idx="599">
                  <c:v>16384</c:v>
                </c:pt>
                <c:pt idx="600">
                  <c:v>16384</c:v>
                </c:pt>
                <c:pt idx="601">
                  <c:v>16384</c:v>
                </c:pt>
                <c:pt idx="602">
                  <c:v>16384</c:v>
                </c:pt>
                <c:pt idx="603">
                  <c:v>16384</c:v>
                </c:pt>
                <c:pt idx="604">
                  <c:v>16384</c:v>
                </c:pt>
                <c:pt idx="605">
                  <c:v>16384</c:v>
                </c:pt>
                <c:pt idx="606">
                  <c:v>16384</c:v>
                </c:pt>
                <c:pt idx="607">
                  <c:v>16384</c:v>
                </c:pt>
                <c:pt idx="608">
                  <c:v>16384</c:v>
                </c:pt>
                <c:pt idx="609">
                  <c:v>16384</c:v>
                </c:pt>
                <c:pt idx="610">
                  <c:v>16384</c:v>
                </c:pt>
                <c:pt idx="611">
                  <c:v>16384</c:v>
                </c:pt>
                <c:pt idx="612">
                  <c:v>16384</c:v>
                </c:pt>
                <c:pt idx="613">
                  <c:v>16384</c:v>
                </c:pt>
                <c:pt idx="614">
                  <c:v>16384</c:v>
                </c:pt>
                <c:pt idx="615">
                  <c:v>16384</c:v>
                </c:pt>
                <c:pt idx="616">
                  <c:v>16384</c:v>
                </c:pt>
                <c:pt idx="617">
                  <c:v>16384</c:v>
                </c:pt>
                <c:pt idx="618">
                  <c:v>16384</c:v>
                </c:pt>
                <c:pt idx="619">
                  <c:v>16384</c:v>
                </c:pt>
                <c:pt idx="620">
                  <c:v>16384</c:v>
                </c:pt>
                <c:pt idx="621">
                  <c:v>16384</c:v>
                </c:pt>
                <c:pt idx="622">
                  <c:v>16384</c:v>
                </c:pt>
                <c:pt idx="623">
                  <c:v>16384</c:v>
                </c:pt>
                <c:pt idx="624">
                  <c:v>16384</c:v>
                </c:pt>
                <c:pt idx="625">
                  <c:v>16384</c:v>
                </c:pt>
                <c:pt idx="626">
                  <c:v>16384</c:v>
                </c:pt>
                <c:pt idx="627">
                  <c:v>16384</c:v>
                </c:pt>
                <c:pt idx="628">
                  <c:v>16384</c:v>
                </c:pt>
                <c:pt idx="629">
                  <c:v>16384</c:v>
                </c:pt>
                <c:pt idx="630">
                  <c:v>16384</c:v>
                </c:pt>
                <c:pt idx="631">
                  <c:v>16384</c:v>
                </c:pt>
                <c:pt idx="632">
                  <c:v>16384</c:v>
                </c:pt>
                <c:pt idx="633">
                  <c:v>16384</c:v>
                </c:pt>
                <c:pt idx="634">
                  <c:v>16384</c:v>
                </c:pt>
                <c:pt idx="635">
                  <c:v>16384</c:v>
                </c:pt>
                <c:pt idx="636">
                  <c:v>16384</c:v>
                </c:pt>
                <c:pt idx="637">
                  <c:v>16384</c:v>
                </c:pt>
                <c:pt idx="638">
                  <c:v>16384</c:v>
                </c:pt>
                <c:pt idx="639">
                  <c:v>16384</c:v>
                </c:pt>
                <c:pt idx="640">
                  <c:v>16384</c:v>
                </c:pt>
                <c:pt idx="641">
                  <c:v>16384</c:v>
                </c:pt>
                <c:pt idx="642">
                  <c:v>16384</c:v>
                </c:pt>
                <c:pt idx="643">
                  <c:v>16384</c:v>
                </c:pt>
                <c:pt idx="644">
                  <c:v>16384</c:v>
                </c:pt>
                <c:pt idx="645">
                  <c:v>16384</c:v>
                </c:pt>
                <c:pt idx="646">
                  <c:v>16384</c:v>
                </c:pt>
                <c:pt idx="647">
                  <c:v>16384</c:v>
                </c:pt>
                <c:pt idx="648">
                  <c:v>16384</c:v>
                </c:pt>
                <c:pt idx="649">
                  <c:v>16384</c:v>
                </c:pt>
                <c:pt idx="650">
                  <c:v>16384</c:v>
                </c:pt>
                <c:pt idx="651">
                  <c:v>16384</c:v>
                </c:pt>
                <c:pt idx="652">
                  <c:v>16384</c:v>
                </c:pt>
                <c:pt idx="653">
                  <c:v>16384</c:v>
                </c:pt>
                <c:pt idx="654">
                  <c:v>16384</c:v>
                </c:pt>
                <c:pt idx="655">
                  <c:v>16384</c:v>
                </c:pt>
                <c:pt idx="656">
                  <c:v>16384</c:v>
                </c:pt>
                <c:pt idx="657">
                  <c:v>16384</c:v>
                </c:pt>
                <c:pt idx="658">
                  <c:v>16384</c:v>
                </c:pt>
                <c:pt idx="659">
                  <c:v>16384</c:v>
                </c:pt>
                <c:pt idx="660">
                  <c:v>16384</c:v>
                </c:pt>
                <c:pt idx="661">
                  <c:v>16384</c:v>
                </c:pt>
                <c:pt idx="662">
                  <c:v>16384</c:v>
                </c:pt>
                <c:pt idx="663">
                  <c:v>16384</c:v>
                </c:pt>
                <c:pt idx="664">
                  <c:v>16384</c:v>
                </c:pt>
                <c:pt idx="665">
                  <c:v>16384</c:v>
                </c:pt>
                <c:pt idx="666">
                  <c:v>16384</c:v>
                </c:pt>
                <c:pt idx="667">
                  <c:v>16384</c:v>
                </c:pt>
                <c:pt idx="668">
                  <c:v>16384</c:v>
                </c:pt>
                <c:pt idx="669">
                  <c:v>16384</c:v>
                </c:pt>
                <c:pt idx="670">
                  <c:v>16384</c:v>
                </c:pt>
                <c:pt idx="671">
                  <c:v>16384</c:v>
                </c:pt>
                <c:pt idx="672">
                  <c:v>16384</c:v>
                </c:pt>
                <c:pt idx="673">
                  <c:v>16384</c:v>
                </c:pt>
                <c:pt idx="674">
                  <c:v>16384</c:v>
                </c:pt>
                <c:pt idx="675">
                  <c:v>16384</c:v>
                </c:pt>
                <c:pt idx="676">
                  <c:v>16384</c:v>
                </c:pt>
                <c:pt idx="677">
                  <c:v>16384</c:v>
                </c:pt>
                <c:pt idx="678">
                  <c:v>16384</c:v>
                </c:pt>
                <c:pt idx="679">
                  <c:v>16384</c:v>
                </c:pt>
                <c:pt idx="680">
                  <c:v>16384</c:v>
                </c:pt>
                <c:pt idx="681">
                  <c:v>16384</c:v>
                </c:pt>
                <c:pt idx="682">
                  <c:v>16384</c:v>
                </c:pt>
                <c:pt idx="683">
                  <c:v>16384</c:v>
                </c:pt>
                <c:pt idx="684">
                  <c:v>16384</c:v>
                </c:pt>
                <c:pt idx="685">
                  <c:v>16384</c:v>
                </c:pt>
                <c:pt idx="686">
                  <c:v>16384</c:v>
                </c:pt>
                <c:pt idx="687">
                  <c:v>16384</c:v>
                </c:pt>
                <c:pt idx="688">
                  <c:v>16384</c:v>
                </c:pt>
                <c:pt idx="689">
                  <c:v>16384</c:v>
                </c:pt>
                <c:pt idx="690">
                  <c:v>16384</c:v>
                </c:pt>
                <c:pt idx="691">
                  <c:v>16384</c:v>
                </c:pt>
                <c:pt idx="692">
                  <c:v>16384</c:v>
                </c:pt>
                <c:pt idx="693">
                  <c:v>16384</c:v>
                </c:pt>
                <c:pt idx="694">
                  <c:v>16384</c:v>
                </c:pt>
                <c:pt idx="695">
                  <c:v>16384</c:v>
                </c:pt>
                <c:pt idx="696">
                  <c:v>16384</c:v>
                </c:pt>
                <c:pt idx="697">
                  <c:v>16384</c:v>
                </c:pt>
                <c:pt idx="698">
                  <c:v>16384</c:v>
                </c:pt>
                <c:pt idx="699">
                  <c:v>16384</c:v>
                </c:pt>
                <c:pt idx="700">
                  <c:v>16384</c:v>
                </c:pt>
                <c:pt idx="701">
                  <c:v>16384</c:v>
                </c:pt>
                <c:pt idx="702">
                  <c:v>16384</c:v>
                </c:pt>
                <c:pt idx="703">
                  <c:v>16384</c:v>
                </c:pt>
                <c:pt idx="704">
                  <c:v>16384</c:v>
                </c:pt>
                <c:pt idx="705">
                  <c:v>16384</c:v>
                </c:pt>
                <c:pt idx="706">
                  <c:v>16384</c:v>
                </c:pt>
                <c:pt idx="707">
                  <c:v>16384</c:v>
                </c:pt>
                <c:pt idx="708">
                  <c:v>16384</c:v>
                </c:pt>
                <c:pt idx="709">
                  <c:v>16384</c:v>
                </c:pt>
                <c:pt idx="710">
                  <c:v>16384</c:v>
                </c:pt>
                <c:pt idx="711">
                  <c:v>16384</c:v>
                </c:pt>
                <c:pt idx="712">
                  <c:v>16384</c:v>
                </c:pt>
                <c:pt idx="713">
                  <c:v>16384</c:v>
                </c:pt>
                <c:pt idx="714">
                  <c:v>16384</c:v>
                </c:pt>
                <c:pt idx="715">
                  <c:v>16384</c:v>
                </c:pt>
                <c:pt idx="716">
                  <c:v>16384</c:v>
                </c:pt>
                <c:pt idx="717">
                  <c:v>16384</c:v>
                </c:pt>
                <c:pt idx="718">
                  <c:v>16384</c:v>
                </c:pt>
                <c:pt idx="719">
                  <c:v>16384</c:v>
                </c:pt>
                <c:pt idx="720">
                  <c:v>16384</c:v>
                </c:pt>
                <c:pt idx="721">
                  <c:v>16384</c:v>
                </c:pt>
                <c:pt idx="722">
                  <c:v>16384</c:v>
                </c:pt>
                <c:pt idx="723">
                  <c:v>16384</c:v>
                </c:pt>
                <c:pt idx="724">
                  <c:v>16384</c:v>
                </c:pt>
                <c:pt idx="725">
                  <c:v>16384</c:v>
                </c:pt>
                <c:pt idx="726">
                  <c:v>16384</c:v>
                </c:pt>
                <c:pt idx="727">
                  <c:v>16384</c:v>
                </c:pt>
                <c:pt idx="728">
                  <c:v>16384</c:v>
                </c:pt>
                <c:pt idx="729">
                  <c:v>16384</c:v>
                </c:pt>
                <c:pt idx="730">
                  <c:v>16384</c:v>
                </c:pt>
                <c:pt idx="731">
                  <c:v>16384</c:v>
                </c:pt>
                <c:pt idx="732">
                  <c:v>16384</c:v>
                </c:pt>
                <c:pt idx="733">
                  <c:v>16384</c:v>
                </c:pt>
                <c:pt idx="734">
                  <c:v>16384</c:v>
                </c:pt>
                <c:pt idx="735">
                  <c:v>16384</c:v>
                </c:pt>
                <c:pt idx="736">
                  <c:v>16384</c:v>
                </c:pt>
                <c:pt idx="737">
                  <c:v>16384</c:v>
                </c:pt>
                <c:pt idx="738">
                  <c:v>16384</c:v>
                </c:pt>
                <c:pt idx="739">
                  <c:v>16384</c:v>
                </c:pt>
                <c:pt idx="740">
                  <c:v>16384</c:v>
                </c:pt>
                <c:pt idx="741">
                  <c:v>16384</c:v>
                </c:pt>
                <c:pt idx="742">
                  <c:v>16384</c:v>
                </c:pt>
                <c:pt idx="743">
                  <c:v>16384</c:v>
                </c:pt>
                <c:pt idx="744">
                  <c:v>16384</c:v>
                </c:pt>
                <c:pt idx="745">
                  <c:v>16384</c:v>
                </c:pt>
                <c:pt idx="746">
                  <c:v>16384</c:v>
                </c:pt>
                <c:pt idx="747">
                  <c:v>16384</c:v>
                </c:pt>
                <c:pt idx="748">
                  <c:v>16384</c:v>
                </c:pt>
                <c:pt idx="749">
                  <c:v>16384</c:v>
                </c:pt>
                <c:pt idx="750">
                  <c:v>16384</c:v>
                </c:pt>
                <c:pt idx="751">
                  <c:v>16384</c:v>
                </c:pt>
                <c:pt idx="752">
                  <c:v>16384</c:v>
                </c:pt>
                <c:pt idx="753">
                  <c:v>16384</c:v>
                </c:pt>
                <c:pt idx="754">
                  <c:v>16384</c:v>
                </c:pt>
                <c:pt idx="755">
                  <c:v>16384</c:v>
                </c:pt>
                <c:pt idx="756">
                  <c:v>16384</c:v>
                </c:pt>
                <c:pt idx="757">
                  <c:v>16384</c:v>
                </c:pt>
                <c:pt idx="758">
                  <c:v>16384</c:v>
                </c:pt>
                <c:pt idx="759">
                  <c:v>16384</c:v>
                </c:pt>
                <c:pt idx="760">
                  <c:v>16384</c:v>
                </c:pt>
                <c:pt idx="761">
                  <c:v>16384</c:v>
                </c:pt>
                <c:pt idx="762">
                  <c:v>16384</c:v>
                </c:pt>
                <c:pt idx="763">
                  <c:v>16384</c:v>
                </c:pt>
                <c:pt idx="764">
                  <c:v>16384</c:v>
                </c:pt>
                <c:pt idx="765">
                  <c:v>16384</c:v>
                </c:pt>
                <c:pt idx="766">
                  <c:v>16384</c:v>
                </c:pt>
                <c:pt idx="767">
                  <c:v>16384</c:v>
                </c:pt>
                <c:pt idx="768">
                  <c:v>16384</c:v>
                </c:pt>
                <c:pt idx="769">
                  <c:v>16384</c:v>
                </c:pt>
                <c:pt idx="770">
                  <c:v>16384</c:v>
                </c:pt>
                <c:pt idx="771">
                  <c:v>16384</c:v>
                </c:pt>
                <c:pt idx="772">
                  <c:v>16384</c:v>
                </c:pt>
                <c:pt idx="773">
                  <c:v>16384</c:v>
                </c:pt>
                <c:pt idx="774">
                  <c:v>16384</c:v>
                </c:pt>
                <c:pt idx="775">
                  <c:v>16384</c:v>
                </c:pt>
                <c:pt idx="776">
                  <c:v>16384</c:v>
                </c:pt>
                <c:pt idx="777">
                  <c:v>16384</c:v>
                </c:pt>
                <c:pt idx="778">
                  <c:v>16384</c:v>
                </c:pt>
                <c:pt idx="779">
                  <c:v>16384</c:v>
                </c:pt>
                <c:pt idx="780">
                  <c:v>16384</c:v>
                </c:pt>
                <c:pt idx="781">
                  <c:v>16384</c:v>
                </c:pt>
                <c:pt idx="782">
                  <c:v>16384</c:v>
                </c:pt>
                <c:pt idx="783">
                  <c:v>16384</c:v>
                </c:pt>
                <c:pt idx="784">
                  <c:v>16384</c:v>
                </c:pt>
                <c:pt idx="785">
                  <c:v>16384</c:v>
                </c:pt>
                <c:pt idx="786">
                  <c:v>16384</c:v>
                </c:pt>
                <c:pt idx="787">
                  <c:v>16384</c:v>
                </c:pt>
                <c:pt idx="788">
                  <c:v>16384</c:v>
                </c:pt>
                <c:pt idx="789">
                  <c:v>16384</c:v>
                </c:pt>
                <c:pt idx="790">
                  <c:v>16384</c:v>
                </c:pt>
                <c:pt idx="791">
                  <c:v>16384</c:v>
                </c:pt>
                <c:pt idx="792">
                  <c:v>16384</c:v>
                </c:pt>
                <c:pt idx="793">
                  <c:v>16384</c:v>
                </c:pt>
                <c:pt idx="794">
                  <c:v>16384</c:v>
                </c:pt>
                <c:pt idx="795">
                  <c:v>16384</c:v>
                </c:pt>
                <c:pt idx="796">
                  <c:v>16384</c:v>
                </c:pt>
                <c:pt idx="797">
                  <c:v>16384</c:v>
                </c:pt>
                <c:pt idx="798">
                  <c:v>16384</c:v>
                </c:pt>
                <c:pt idx="799">
                  <c:v>16384</c:v>
                </c:pt>
                <c:pt idx="800">
                  <c:v>16384</c:v>
                </c:pt>
                <c:pt idx="801">
                  <c:v>16384</c:v>
                </c:pt>
                <c:pt idx="802">
                  <c:v>16384</c:v>
                </c:pt>
                <c:pt idx="803">
                  <c:v>16384</c:v>
                </c:pt>
                <c:pt idx="804">
                  <c:v>16384</c:v>
                </c:pt>
                <c:pt idx="805">
                  <c:v>16384</c:v>
                </c:pt>
                <c:pt idx="806">
                  <c:v>16384</c:v>
                </c:pt>
                <c:pt idx="807">
                  <c:v>16384</c:v>
                </c:pt>
                <c:pt idx="808">
                  <c:v>16384</c:v>
                </c:pt>
                <c:pt idx="809">
                  <c:v>16384</c:v>
                </c:pt>
                <c:pt idx="810">
                  <c:v>16384</c:v>
                </c:pt>
                <c:pt idx="811">
                  <c:v>16384</c:v>
                </c:pt>
                <c:pt idx="812">
                  <c:v>16384</c:v>
                </c:pt>
                <c:pt idx="813">
                  <c:v>16384</c:v>
                </c:pt>
                <c:pt idx="814">
                  <c:v>16384</c:v>
                </c:pt>
                <c:pt idx="815">
                  <c:v>16384</c:v>
                </c:pt>
                <c:pt idx="816">
                  <c:v>16384</c:v>
                </c:pt>
                <c:pt idx="817">
                  <c:v>16384</c:v>
                </c:pt>
                <c:pt idx="818">
                  <c:v>16384</c:v>
                </c:pt>
                <c:pt idx="819">
                  <c:v>16384</c:v>
                </c:pt>
                <c:pt idx="820">
                  <c:v>16384</c:v>
                </c:pt>
                <c:pt idx="821">
                  <c:v>16384</c:v>
                </c:pt>
                <c:pt idx="822">
                  <c:v>16384</c:v>
                </c:pt>
                <c:pt idx="823">
                  <c:v>16384</c:v>
                </c:pt>
                <c:pt idx="824">
                  <c:v>16384</c:v>
                </c:pt>
                <c:pt idx="825">
                  <c:v>16384</c:v>
                </c:pt>
                <c:pt idx="826">
                  <c:v>16384</c:v>
                </c:pt>
                <c:pt idx="827">
                  <c:v>16384</c:v>
                </c:pt>
                <c:pt idx="828">
                  <c:v>16384</c:v>
                </c:pt>
                <c:pt idx="829">
                  <c:v>16384</c:v>
                </c:pt>
                <c:pt idx="830">
                  <c:v>16384</c:v>
                </c:pt>
                <c:pt idx="831">
                  <c:v>16384</c:v>
                </c:pt>
                <c:pt idx="832">
                  <c:v>16384</c:v>
                </c:pt>
                <c:pt idx="833">
                  <c:v>16384</c:v>
                </c:pt>
                <c:pt idx="834">
                  <c:v>16384</c:v>
                </c:pt>
                <c:pt idx="835">
                  <c:v>16384</c:v>
                </c:pt>
                <c:pt idx="836">
                  <c:v>16384</c:v>
                </c:pt>
                <c:pt idx="837">
                  <c:v>16384</c:v>
                </c:pt>
                <c:pt idx="838">
                  <c:v>16384</c:v>
                </c:pt>
                <c:pt idx="839">
                  <c:v>16384</c:v>
                </c:pt>
                <c:pt idx="840">
                  <c:v>16384</c:v>
                </c:pt>
                <c:pt idx="841">
                  <c:v>16384</c:v>
                </c:pt>
                <c:pt idx="842">
                  <c:v>16384</c:v>
                </c:pt>
                <c:pt idx="843">
                  <c:v>16384</c:v>
                </c:pt>
                <c:pt idx="844">
                  <c:v>16384</c:v>
                </c:pt>
                <c:pt idx="845">
                  <c:v>16384</c:v>
                </c:pt>
                <c:pt idx="846">
                  <c:v>16384</c:v>
                </c:pt>
                <c:pt idx="847">
                  <c:v>16384</c:v>
                </c:pt>
                <c:pt idx="848">
                  <c:v>16384</c:v>
                </c:pt>
                <c:pt idx="849">
                  <c:v>16384</c:v>
                </c:pt>
                <c:pt idx="850">
                  <c:v>16384</c:v>
                </c:pt>
                <c:pt idx="851">
                  <c:v>16384</c:v>
                </c:pt>
                <c:pt idx="852">
                  <c:v>16384</c:v>
                </c:pt>
                <c:pt idx="853">
                  <c:v>16384</c:v>
                </c:pt>
                <c:pt idx="854">
                  <c:v>16384</c:v>
                </c:pt>
                <c:pt idx="855">
                  <c:v>16384</c:v>
                </c:pt>
                <c:pt idx="856">
                  <c:v>16384</c:v>
                </c:pt>
                <c:pt idx="857">
                  <c:v>16384</c:v>
                </c:pt>
                <c:pt idx="858">
                  <c:v>16384</c:v>
                </c:pt>
                <c:pt idx="859">
                  <c:v>16384</c:v>
                </c:pt>
                <c:pt idx="860">
                  <c:v>16384</c:v>
                </c:pt>
                <c:pt idx="861">
                  <c:v>16384</c:v>
                </c:pt>
                <c:pt idx="862">
                  <c:v>16384</c:v>
                </c:pt>
                <c:pt idx="863">
                  <c:v>16384</c:v>
                </c:pt>
                <c:pt idx="864">
                  <c:v>16384</c:v>
                </c:pt>
                <c:pt idx="865">
                  <c:v>16384</c:v>
                </c:pt>
                <c:pt idx="866">
                  <c:v>16384</c:v>
                </c:pt>
                <c:pt idx="867">
                  <c:v>16384</c:v>
                </c:pt>
                <c:pt idx="868">
                  <c:v>16384</c:v>
                </c:pt>
                <c:pt idx="869">
                  <c:v>16384</c:v>
                </c:pt>
                <c:pt idx="870">
                  <c:v>16384</c:v>
                </c:pt>
                <c:pt idx="871">
                  <c:v>16384</c:v>
                </c:pt>
                <c:pt idx="872">
                  <c:v>16384</c:v>
                </c:pt>
                <c:pt idx="873">
                  <c:v>16384</c:v>
                </c:pt>
                <c:pt idx="874">
                  <c:v>16384</c:v>
                </c:pt>
                <c:pt idx="875">
                  <c:v>16384</c:v>
                </c:pt>
                <c:pt idx="876">
                  <c:v>16384</c:v>
                </c:pt>
                <c:pt idx="877">
                  <c:v>16384</c:v>
                </c:pt>
                <c:pt idx="878">
                  <c:v>16384</c:v>
                </c:pt>
                <c:pt idx="879">
                  <c:v>16384</c:v>
                </c:pt>
                <c:pt idx="880">
                  <c:v>16384</c:v>
                </c:pt>
                <c:pt idx="881">
                  <c:v>16384</c:v>
                </c:pt>
                <c:pt idx="882">
                  <c:v>16384</c:v>
                </c:pt>
                <c:pt idx="883">
                  <c:v>16384</c:v>
                </c:pt>
                <c:pt idx="884">
                  <c:v>16384</c:v>
                </c:pt>
                <c:pt idx="885">
                  <c:v>16384</c:v>
                </c:pt>
                <c:pt idx="886">
                  <c:v>16384</c:v>
                </c:pt>
                <c:pt idx="887">
                  <c:v>16384</c:v>
                </c:pt>
                <c:pt idx="888">
                  <c:v>16384</c:v>
                </c:pt>
                <c:pt idx="889">
                  <c:v>16384</c:v>
                </c:pt>
                <c:pt idx="890">
                  <c:v>16384</c:v>
                </c:pt>
                <c:pt idx="891">
                  <c:v>16384</c:v>
                </c:pt>
                <c:pt idx="892">
                  <c:v>16384</c:v>
                </c:pt>
                <c:pt idx="893">
                  <c:v>16384</c:v>
                </c:pt>
                <c:pt idx="894">
                  <c:v>16384</c:v>
                </c:pt>
                <c:pt idx="895">
                  <c:v>16384</c:v>
                </c:pt>
                <c:pt idx="896">
                  <c:v>16384</c:v>
                </c:pt>
                <c:pt idx="897">
                  <c:v>16384</c:v>
                </c:pt>
                <c:pt idx="898">
                  <c:v>16384</c:v>
                </c:pt>
                <c:pt idx="899">
                  <c:v>16384</c:v>
                </c:pt>
                <c:pt idx="900">
                  <c:v>16384</c:v>
                </c:pt>
                <c:pt idx="901">
                  <c:v>16384</c:v>
                </c:pt>
                <c:pt idx="902">
                  <c:v>16384</c:v>
                </c:pt>
                <c:pt idx="903">
                  <c:v>16384</c:v>
                </c:pt>
                <c:pt idx="904">
                  <c:v>16384</c:v>
                </c:pt>
                <c:pt idx="905">
                  <c:v>16384</c:v>
                </c:pt>
                <c:pt idx="906">
                  <c:v>16384</c:v>
                </c:pt>
                <c:pt idx="907">
                  <c:v>16384</c:v>
                </c:pt>
                <c:pt idx="908">
                  <c:v>16384</c:v>
                </c:pt>
                <c:pt idx="909">
                  <c:v>16384</c:v>
                </c:pt>
                <c:pt idx="910">
                  <c:v>16384</c:v>
                </c:pt>
                <c:pt idx="911">
                  <c:v>16384</c:v>
                </c:pt>
                <c:pt idx="912">
                  <c:v>16384</c:v>
                </c:pt>
                <c:pt idx="913">
                  <c:v>16384</c:v>
                </c:pt>
                <c:pt idx="914">
                  <c:v>16384</c:v>
                </c:pt>
                <c:pt idx="915">
                  <c:v>16384</c:v>
                </c:pt>
                <c:pt idx="916">
                  <c:v>16384</c:v>
                </c:pt>
                <c:pt idx="917">
                  <c:v>16384</c:v>
                </c:pt>
                <c:pt idx="918">
                  <c:v>16384</c:v>
                </c:pt>
                <c:pt idx="919">
                  <c:v>16384</c:v>
                </c:pt>
                <c:pt idx="920">
                  <c:v>16384</c:v>
                </c:pt>
                <c:pt idx="921">
                  <c:v>16384</c:v>
                </c:pt>
                <c:pt idx="922">
                  <c:v>16384</c:v>
                </c:pt>
                <c:pt idx="923">
                  <c:v>16384</c:v>
                </c:pt>
                <c:pt idx="924">
                  <c:v>16384</c:v>
                </c:pt>
                <c:pt idx="925">
                  <c:v>16384</c:v>
                </c:pt>
                <c:pt idx="926">
                  <c:v>16384</c:v>
                </c:pt>
                <c:pt idx="927">
                  <c:v>16384</c:v>
                </c:pt>
                <c:pt idx="928">
                  <c:v>16384</c:v>
                </c:pt>
                <c:pt idx="929">
                  <c:v>16384</c:v>
                </c:pt>
                <c:pt idx="930">
                  <c:v>16384</c:v>
                </c:pt>
                <c:pt idx="931">
                  <c:v>16384</c:v>
                </c:pt>
                <c:pt idx="932">
                  <c:v>16384</c:v>
                </c:pt>
                <c:pt idx="933">
                  <c:v>16384</c:v>
                </c:pt>
                <c:pt idx="934">
                  <c:v>16384</c:v>
                </c:pt>
                <c:pt idx="935">
                  <c:v>16384</c:v>
                </c:pt>
                <c:pt idx="936">
                  <c:v>16384</c:v>
                </c:pt>
                <c:pt idx="937">
                  <c:v>16384</c:v>
                </c:pt>
                <c:pt idx="938">
                  <c:v>16384</c:v>
                </c:pt>
                <c:pt idx="939">
                  <c:v>16384</c:v>
                </c:pt>
                <c:pt idx="940">
                  <c:v>16384</c:v>
                </c:pt>
                <c:pt idx="941">
                  <c:v>16384</c:v>
                </c:pt>
                <c:pt idx="942">
                  <c:v>16384</c:v>
                </c:pt>
                <c:pt idx="943">
                  <c:v>16384</c:v>
                </c:pt>
                <c:pt idx="944">
                  <c:v>16384</c:v>
                </c:pt>
                <c:pt idx="945">
                  <c:v>16384</c:v>
                </c:pt>
                <c:pt idx="946">
                  <c:v>16384</c:v>
                </c:pt>
                <c:pt idx="947">
                  <c:v>16384</c:v>
                </c:pt>
                <c:pt idx="948">
                  <c:v>16384</c:v>
                </c:pt>
                <c:pt idx="949">
                  <c:v>16384</c:v>
                </c:pt>
                <c:pt idx="950">
                  <c:v>16384</c:v>
                </c:pt>
                <c:pt idx="951">
                  <c:v>16384</c:v>
                </c:pt>
                <c:pt idx="952">
                  <c:v>16384</c:v>
                </c:pt>
                <c:pt idx="953">
                  <c:v>16384</c:v>
                </c:pt>
                <c:pt idx="954">
                  <c:v>16384</c:v>
                </c:pt>
                <c:pt idx="955">
                  <c:v>16384</c:v>
                </c:pt>
                <c:pt idx="956">
                  <c:v>16384</c:v>
                </c:pt>
                <c:pt idx="957">
                  <c:v>16384</c:v>
                </c:pt>
                <c:pt idx="958">
                  <c:v>16384</c:v>
                </c:pt>
                <c:pt idx="959">
                  <c:v>16384</c:v>
                </c:pt>
                <c:pt idx="960">
                  <c:v>16384</c:v>
                </c:pt>
                <c:pt idx="961">
                  <c:v>16384</c:v>
                </c:pt>
                <c:pt idx="962">
                  <c:v>16384</c:v>
                </c:pt>
                <c:pt idx="963">
                  <c:v>16384</c:v>
                </c:pt>
                <c:pt idx="964">
                  <c:v>16384</c:v>
                </c:pt>
                <c:pt idx="965">
                  <c:v>16384</c:v>
                </c:pt>
                <c:pt idx="966">
                  <c:v>16384</c:v>
                </c:pt>
                <c:pt idx="967">
                  <c:v>16384</c:v>
                </c:pt>
                <c:pt idx="968">
                  <c:v>16384</c:v>
                </c:pt>
                <c:pt idx="969">
                  <c:v>16384</c:v>
                </c:pt>
                <c:pt idx="970">
                  <c:v>16384</c:v>
                </c:pt>
                <c:pt idx="971">
                  <c:v>16384</c:v>
                </c:pt>
                <c:pt idx="972">
                  <c:v>16384</c:v>
                </c:pt>
                <c:pt idx="973">
                  <c:v>16384</c:v>
                </c:pt>
                <c:pt idx="974">
                  <c:v>16384</c:v>
                </c:pt>
                <c:pt idx="975">
                  <c:v>16384</c:v>
                </c:pt>
                <c:pt idx="976">
                  <c:v>16384</c:v>
                </c:pt>
                <c:pt idx="977">
                  <c:v>16384</c:v>
                </c:pt>
                <c:pt idx="978">
                  <c:v>16384</c:v>
                </c:pt>
                <c:pt idx="979">
                  <c:v>16384</c:v>
                </c:pt>
                <c:pt idx="980">
                  <c:v>16384</c:v>
                </c:pt>
                <c:pt idx="981">
                  <c:v>16384</c:v>
                </c:pt>
                <c:pt idx="982">
                  <c:v>16384</c:v>
                </c:pt>
                <c:pt idx="983">
                  <c:v>16384</c:v>
                </c:pt>
                <c:pt idx="984">
                  <c:v>16384</c:v>
                </c:pt>
                <c:pt idx="985">
                  <c:v>16384</c:v>
                </c:pt>
                <c:pt idx="986">
                  <c:v>16384</c:v>
                </c:pt>
                <c:pt idx="987">
                  <c:v>16384</c:v>
                </c:pt>
                <c:pt idx="988">
                  <c:v>16384</c:v>
                </c:pt>
                <c:pt idx="989">
                  <c:v>16384</c:v>
                </c:pt>
                <c:pt idx="990">
                  <c:v>16384</c:v>
                </c:pt>
                <c:pt idx="991">
                  <c:v>16384</c:v>
                </c:pt>
                <c:pt idx="992">
                  <c:v>16384</c:v>
                </c:pt>
                <c:pt idx="993">
                  <c:v>16384</c:v>
                </c:pt>
                <c:pt idx="994">
                  <c:v>16384</c:v>
                </c:pt>
                <c:pt idx="995">
                  <c:v>16384</c:v>
                </c:pt>
                <c:pt idx="996">
                  <c:v>16384</c:v>
                </c:pt>
                <c:pt idx="997">
                  <c:v>16384</c:v>
                </c:pt>
                <c:pt idx="998">
                  <c:v>16384</c:v>
                </c:pt>
                <c:pt idx="999">
                  <c:v>16384</c:v>
                </c:pt>
                <c:pt idx="1000">
                  <c:v>16384</c:v>
                </c:pt>
              </c:numCache>
            </c:numRef>
          </c:xVal>
          <c:yVal>
            <c:numRef>
              <c:f>8</c:f>
              <c:numCache>
                <c:formatCode>General</c:formatCode>
                <c:ptCount val="1001"/>
                <c:pt idx="0">
                  <c:v>0.259715559</c:v>
                </c:pt>
                <c:pt idx="1">
                  <c:v>30.666384955</c:v>
                </c:pt>
                <c:pt idx="2">
                  <c:v>30.018181209</c:v>
                </c:pt>
                <c:pt idx="3">
                  <c:v>30.781483445</c:v>
                </c:pt>
                <c:pt idx="4">
                  <c:v>29.74554165</c:v>
                </c:pt>
                <c:pt idx="5">
                  <c:v>30.284356437</c:v>
                </c:pt>
                <c:pt idx="6">
                  <c:v>8.01245751700001</c:v>
                </c:pt>
                <c:pt idx="7">
                  <c:v>30.370501761</c:v>
                </c:pt>
                <c:pt idx="8">
                  <c:v>29.454507997</c:v>
                </c:pt>
                <c:pt idx="9">
                  <c:v>30.269647714</c:v>
                </c:pt>
                <c:pt idx="10">
                  <c:v>29.315465959</c:v>
                </c:pt>
                <c:pt idx="11">
                  <c:v>30.052817838</c:v>
                </c:pt>
                <c:pt idx="12">
                  <c:v>28.837505767</c:v>
                </c:pt>
                <c:pt idx="13">
                  <c:v>29.020918054</c:v>
                </c:pt>
                <c:pt idx="14">
                  <c:v>29.753938208</c:v>
                </c:pt>
                <c:pt idx="15">
                  <c:v>9.544130534</c:v>
                </c:pt>
                <c:pt idx="16">
                  <c:v>30.841688888</c:v>
                </c:pt>
                <c:pt idx="17">
                  <c:v>30.090964444</c:v>
                </c:pt>
                <c:pt idx="18">
                  <c:v>30.645322055</c:v>
                </c:pt>
                <c:pt idx="19">
                  <c:v>29.465781233</c:v>
                </c:pt>
                <c:pt idx="20">
                  <c:v>30.474099539</c:v>
                </c:pt>
                <c:pt idx="21">
                  <c:v>29.582945811</c:v>
                </c:pt>
                <c:pt idx="22">
                  <c:v>30.324645023</c:v>
                </c:pt>
                <c:pt idx="23">
                  <c:v>13.103817671</c:v>
                </c:pt>
                <c:pt idx="24">
                  <c:v>30.754389324</c:v>
                </c:pt>
                <c:pt idx="25">
                  <c:v>30.07500307</c:v>
                </c:pt>
                <c:pt idx="26">
                  <c:v>30.710699413</c:v>
                </c:pt>
                <c:pt idx="27">
                  <c:v>29.847153045</c:v>
                </c:pt>
                <c:pt idx="28">
                  <c:v>30.462278056</c:v>
                </c:pt>
                <c:pt idx="29">
                  <c:v>29.646550338</c:v>
                </c:pt>
                <c:pt idx="30">
                  <c:v>30.295075954</c:v>
                </c:pt>
                <c:pt idx="31">
                  <c:v>19.962506963</c:v>
                </c:pt>
                <c:pt idx="32">
                  <c:v>30.504404387</c:v>
                </c:pt>
                <c:pt idx="33">
                  <c:v>29.852571016</c:v>
                </c:pt>
                <c:pt idx="34">
                  <c:v>30.702834604</c:v>
                </c:pt>
                <c:pt idx="35">
                  <c:v>29.873694344</c:v>
                </c:pt>
                <c:pt idx="36">
                  <c:v>29.902019187</c:v>
                </c:pt>
                <c:pt idx="37">
                  <c:v>29.639472773</c:v>
                </c:pt>
                <c:pt idx="38">
                  <c:v>30.277204579</c:v>
                </c:pt>
                <c:pt idx="39">
                  <c:v>10.810242461</c:v>
                </c:pt>
                <c:pt idx="40">
                  <c:v>30.907907676</c:v>
                </c:pt>
                <c:pt idx="41">
                  <c:v>30.049224093</c:v>
                </c:pt>
                <c:pt idx="42">
                  <c:v>30.66162532</c:v>
                </c:pt>
                <c:pt idx="43">
                  <c:v>29.810527017</c:v>
                </c:pt>
                <c:pt idx="44">
                  <c:v>30.487291316</c:v>
                </c:pt>
                <c:pt idx="45">
                  <c:v>29.574450551</c:v>
                </c:pt>
                <c:pt idx="46">
                  <c:v>30.348406377</c:v>
                </c:pt>
                <c:pt idx="47">
                  <c:v>19.684879131</c:v>
                </c:pt>
                <c:pt idx="48">
                  <c:v>30.888425291</c:v>
                </c:pt>
                <c:pt idx="49">
                  <c:v>29.917455486</c:v>
                </c:pt>
                <c:pt idx="50">
                  <c:v>30.770266296</c:v>
                </c:pt>
                <c:pt idx="51">
                  <c:v>29.776192273</c:v>
                </c:pt>
                <c:pt idx="52">
                  <c:v>30.502508569</c:v>
                </c:pt>
                <c:pt idx="53">
                  <c:v>29.452602346</c:v>
                </c:pt>
                <c:pt idx="54">
                  <c:v>30.393982139</c:v>
                </c:pt>
                <c:pt idx="55">
                  <c:v>11.057029704</c:v>
                </c:pt>
                <c:pt idx="56">
                  <c:v>30.940209494</c:v>
                </c:pt>
                <c:pt idx="57">
                  <c:v>29.909023355</c:v>
                </c:pt>
                <c:pt idx="58">
                  <c:v>30.703554877</c:v>
                </c:pt>
                <c:pt idx="59">
                  <c:v>29.758645735</c:v>
                </c:pt>
                <c:pt idx="60">
                  <c:v>30.452237004</c:v>
                </c:pt>
                <c:pt idx="61">
                  <c:v>29.299113947</c:v>
                </c:pt>
                <c:pt idx="62">
                  <c:v>29.833517541</c:v>
                </c:pt>
                <c:pt idx="63">
                  <c:v>19.768141972</c:v>
                </c:pt>
                <c:pt idx="64">
                  <c:v>30.919955882</c:v>
                </c:pt>
                <c:pt idx="65">
                  <c:v>30.042987393</c:v>
                </c:pt>
                <c:pt idx="66">
                  <c:v>30.796905287</c:v>
                </c:pt>
                <c:pt idx="67">
                  <c:v>29.934904572</c:v>
                </c:pt>
                <c:pt idx="68">
                  <c:v>30.527498961</c:v>
                </c:pt>
                <c:pt idx="69">
                  <c:v>29.688778139</c:v>
                </c:pt>
                <c:pt idx="70">
                  <c:v>30.458083635</c:v>
                </c:pt>
                <c:pt idx="71">
                  <c:v>21.193066741</c:v>
                </c:pt>
                <c:pt idx="72">
                  <c:v>30.969372499</c:v>
                </c:pt>
                <c:pt idx="73">
                  <c:v>30.065704882</c:v>
                </c:pt>
                <c:pt idx="74">
                  <c:v>30.892617551</c:v>
                </c:pt>
                <c:pt idx="75">
                  <c:v>29.514315818</c:v>
                </c:pt>
                <c:pt idx="76">
                  <c:v>30.311008591</c:v>
                </c:pt>
                <c:pt idx="77">
                  <c:v>29.625020425</c:v>
                </c:pt>
                <c:pt idx="78">
                  <c:v>30.479481352</c:v>
                </c:pt>
                <c:pt idx="79">
                  <c:v>13.423644111</c:v>
                </c:pt>
                <c:pt idx="80">
                  <c:v>30.893468294</c:v>
                </c:pt>
                <c:pt idx="81">
                  <c:v>30.004675639</c:v>
                </c:pt>
                <c:pt idx="82">
                  <c:v>30.845747308</c:v>
                </c:pt>
                <c:pt idx="83">
                  <c:v>29.547020538</c:v>
                </c:pt>
                <c:pt idx="84">
                  <c:v>29.773172344</c:v>
                </c:pt>
                <c:pt idx="85">
                  <c:v>30.358672476</c:v>
                </c:pt>
                <c:pt idx="86">
                  <c:v>29.590498154</c:v>
                </c:pt>
                <c:pt idx="87">
                  <c:v>16.430872552</c:v>
                </c:pt>
                <c:pt idx="88">
                  <c:v>30.122995848</c:v>
                </c:pt>
                <c:pt idx="89">
                  <c:v>30.833968725</c:v>
                </c:pt>
                <c:pt idx="90">
                  <c:v>29.771563846</c:v>
                </c:pt>
                <c:pt idx="91">
                  <c:v>30.692154522</c:v>
                </c:pt>
                <c:pt idx="92">
                  <c:v>29.829154545</c:v>
                </c:pt>
                <c:pt idx="93">
                  <c:v>30.445035151</c:v>
                </c:pt>
                <c:pt idx="94">
                  <c:v>29.609772698</c:v>
                </c:pt>
                <c:pt idx="95">
                  <c:v>20.311619416</c:v>
                </c:pt>
                <c:pt idx="96">
                  <c:v>30.187205651</c:v>
                </c:pt>
                <c:pt idx="97">
                  <c:v>30.877494312</c:v>
                </c:pt>
                <c:pt idx="98">
                  <c:v>30.055175801</c:v>
                </c:pt>
                <c:pt idx="99">
                  <c:v>30.590407685</c:v>
                </c:pt>
                <c:pt idx="100">
                  <c:v>29.865826387</c:v>
                </c:pt>
                <c:pt idx="101">
                  <c:v>30.477145057</c:v>
                </c:pt>
                <c:pt idx="102">
                  <c:v>29.702225453</c:v>
                </c:pt>
                <c:pt idx="103">
                  <c:v>10.631088457</c:v>
                </c:pt>
                <c:pt idx="104">
                  <c:v>29.784719117</c:v>
                </c:pt>
                <c:pt idx="105">
                  <c:v>30.816181659</c:v>
                </c:pt>
                <c:pt idx="106">
                  <c:v>30.000864164</c:v>
                </c:pt>
                <c:pt idx="107">
                  <c:v>30.615900462</c:v>
                </c:pt>
                <c:pt idx="108">
                  <c:v>29.696412698</c:v>
                </c:pt>
                <c:pt idx="109">
                  <c:v>30.507426335</c:v>
                </c:pt>
                <c:pt idx="110">
                  <c:v>29.505527332</c:v>
                </c:pt>
                <c:pt idx="111">
                  <c:v>19.949866326</c:v>
                </c:pt>
                <c:pt idx="112">
                  <c:v>30.230785159</c:v>
                </c:pt>
                <c:pt idx="113">
                  <c:v>30.861445876</c:v>
                </c:pt>
                <c:pt idx="114">
                  <c:v>29.99058088</c:v>
                </c:pt>
                <c:pt idx="115">
                  <c:v>30.661236233</c:v>
                </c:pt>
                <c:pt idx="116">
                  <c:v>29.815535478</c:v>
                </c:pt>
                <c:pt idx="117">
                  <c:v>30.489274027</c:v>
                </c:pt>
                <c:pt idx="118">
                  <c:v>29.232854058</c:v>
                </c:pt>
                <c:pt idx="119">
                  <c:v>19.907169137</c:v>
                </c:pt>
                <c:pt idx="120">
                  <c:v>30.196985567</c:v>
                </c:pt>
                <c:pt idx="121">
                  <c:v>31.014230742</c:v>
                </c:pt>
                <c:pt idx="122">
                  <c:v>29.97950345</c:v>
                </c:pt>
                <c:pt idx="123">
                  <c:v>30.659739836</c:v>
                </c:pt>
                <c:pt idx="124">
                  <c:v>29.767783151</c:v>
                </c:pt>
                <c:pt idx="125">
                  <c:v>30.434946483</c:v>
                </c:pt>
                <c:pt idx="126">
                  <c:v>29.604526197</c:v>
                </c:pt>
                <c:pt idx="127">
                  <c:v>20.281180328</c:v>
                </c:pt>
                <c:pt idx="128">
                  <c:v>30.213251082</c:v>
                </c:pt>
                <c:pt idx="129">
                  <c:v>30.912105227</c:v>
                </c:pt>
                <c:pt idx="130">
                  <c:v>30.017005082</c:v>
                </c:pt>
                <c:pt idx="131">
                  <c:v>30.629663329</c:v>
                </c:pt>
                <c:pt idx="132">
                  <c:v>29.529021202</c:v>
                </c:pt>
                <c:pt idx="133">
                  <c:v>30.541271533</c:v>
                </c:pt>
                <c:pt idx="134">
                  <c:v>29.356371082</c:v>
                </c:pt>
                <c:pt idx="135">
                  <c:v>19.630859176</c:v>
                </c:pt>
                <c:pt idx="136">
                  <c:v>30.177258115</c:v>
                </c:pt>
                <c:pt idx="137">
                  <c:v>30.948684284</c:v>
                </c:pt>
                <c:pt idx="138">
                  <c:v>30.031354392</c:v>
                </c:pt>
                <c:pt idx="139">
                  <c:v>30.630977568</c:v>
                </c:pt>
                <c:pt idx="140">
                  <c:v>29.514648608</c:v>
                </c:pt>
                <c:pt idx="141">
                  <c:v>30.53319645</c:v>
                </c:pt>
                <c:pt idx="142">
                  <c:v>29.605335377</c:v>
                </c:pt>
                <c:pt idx="143">
                  <c:v>21.735510818</c:v>
                </c:pt>
                <c:pt idx="144">
                  <c:v>30.107548779</c:v>
                </c:pt>
                <c:pt idx="145">
                  <c:v>30.960794825</c:v>
                </c:pt>
                <c:pt idx="146">
                  <c:v>29.781048023</c:v>
                </c:pt>
                <c:pt idx="147">
                  <c:v>30.75514213</c:v>
                </c:pt>
                <c:pt idx="148">
                  <c:v>29.709023928</c:v>
                </c:pt>
                <c:pt idx="149">
                  <c:v>30.541241837</c:v>
                </c:pt>
                <c:pt idx="150">
                  <c:v>29.60480522</c:v>
                </c:pt>
                <c:pt idx="151">
                  <c:v>20.518669901</c:v>
                </c:pt>
                <c:pt idx="152">
                  <c:v>30.197566177</c:v>
                </c:pt>
                <c:pt idx="153">
                  <c:v>10.894306203</c:v>
                </c:pt>
                <c:pt idx="154">
                  <c:v>29.892969878</c:v>
                </c:pt>
                <c:pt idx="155">
                  <c:v>30.591599383</c:v>
                </c:pt>
                <c:pt idx="156">
                  <c:v>29.749006769</c:v>
                </c:pt>
                <c:pt idx="157">
                  <c:v>30.488090288</c:v>
                </c:pt>
                <c:pt idx="158">
                  <c:v>29.576177061</c:v>
                </c:pt>
                <c:pt idx="159">
                  <c:v>20.637248124</c:v>
                </c:pt>
                <c:pt idx="160">
                  <c:v>29.745766999</c:v>
                </c:pt>
                <c:pt idx="161">
                  <c:v>30.140107163</c:v>
                </c:pt>
                <c:pt idx="162">
                  <c:v>30.805905982</c:v>
                </c:pt>
                <c:pt idx="163">
                  <c:v>29.956601724</c:v>
                </c:pt>
                <c:pt idx="164">
                  <c:v>30.65357622</c:v>
                </c:pt>
                <c:pt idx="165">
                  <c:v>29.798423114</c:v>
                </c:pt>
                <c:pt idx="166">
                  <c:v>30.341312162</c:v>
                </c:pt>
                <c:pt idx="167">
                  <c:v>19.97654833</c:v>
                </c:pt>
                <c:pt idx="168">
                  <c:v>31.041662127</c:v>
                </c:pt>
                <c:pt idx="169">
                  <c:v>30.135133629</c:v>
                </c:pt>
                <c:pt idx="170">
                  <c:v>30.728455066</c:v>
                </c:pt>
                <c:pt idx="171">
                  <c:v>29.907058441</c:v>
                </c:pt>
                <c:pt idx="172">
                  <c:v>29.909820786</c:v>
                </c:pt>
                <c:pt idx="173">
                  <c:v>29.744640288</c:v>
                </c:pt>
                <c:pt idx="174">
                  <c:v>30.387924902</c:v>
                </c:pt>
                <c:pt idx="175">
                  <c:v>20.257401548</c:v>
                </c:pt>
                <c:pt idx="176">
                  <c:v>30.91904281</c:v>
                </c:pt>
                <c:pt idx="177">
                  <c:v>30.19785649</c:v>
                </c:pt>
                <c:pt idx="178">
                  <c:v>30.776688018</c:v>
                </c:pt>
                <c:pt idx="179">
                  <c:v>30.004847608</c:v>
                </c:pt>
                <c:pt idx="180">
                  <c:v>30.452620805</c:v>
                </c:pt>
                <c:pt idx="181">
                  <c:v>29.640283864</c:v>
                </c:pt>
                <c:pt idx="182">
                  <c:v>30.427310682</c:v>
                </c:pt>
                <c:pt idx="183">
                  <c:v>19.757050951</c:v>
                </c:pt>
                <c:pt idx="184">
                  <c:v>31.051819438</c:v>
                </c:pt>
                <c:pt idx="185">
                  <c:v>29.682774296</c:v>
                </c:pt>
                <c:pt idx="186">
                  <c:v>30.901370284</c:v>
                </c:pt>
                <c:pt idx="187">
                  <c:v>29.978187298</c:v>
                </c:pt>
                <c:pt idx="188">
                  <c:v>30.665905931</c:v>
                </c:pt>
                <c:pt idx="189">
                  <c:v>29.444568184</c:v>
                </c:pt>
                <c:pt idx="190">
                  <c:v>30.425188668</c:v>
                </c:pt>
                <c:pt idx="191">
                  <c:v>19.564368146</c:v>
                </c:pt>
                <c:pt idx="192">
                  <c:v>31.056946646</c:v>
                </c:pt>
                <c:pt idx="193">
                  <c:v>30.078660589</c:v>
                </c:pt>
                <c:pt idx="194">
                  <c:v>30.735160081</c:v>
                </c:pt>
                <c:pt idx="195">
                  <c:v>29.921929864</c:v>
                </c:pt>
                <c:pt idx="196">
                  <c:v>30.573406315</c:v>
                </c:pt>
                <c:pt idx="197">
                  <c:v>29.701045869</c:v>
                </c:pt>
                <c:pt idx="198">
                  <c:v>30.326255282</c:v>
                </c:pt>
                <c:pt idx="199">
                  <c:v>20.17160738</c:v>
                </c:pt>
                <c:pt idx="200">
                  <c:v>30.44586142</c:v>
                </c:pt>
                <c:pt idx="201">
                  <c:v>30.090387926</c:v>
                </c:pt>
                <c:pt idx="202">
                  <c:v>30.830700173</c:v>
                </c:pt>
                <c:pt idx="203">
                  <c:v>29.509879335</c:v>
                </c:pt>
                <c:pt idx="204">
                  <c:v>30.15118785</c:v>
                </c:pt>
                <c:pt idx="205">
                  <c:v>29.634131869</c:v>
                </c:pt>
                <c:pt idx="206">
                  <c:v>30.409371318</c:v>
                </c:pt>
                <c:pt idx="207">
                  <c:v>20.076869345</c:v>
                </c:pt>
                <c:pt idx="208">
                  <c:v>30.914569538</c:v>
                </c:pt>
                <c:pt idx="209">
                  <c:v>29.933078878</c:v>
                </c:pt>
                <c:pt idx="210">
                  <c:v>30.690655106</c:v>
                </c:pt>
                <c:pt idx="211">
                  <c:v>29.800910965</c:v>
                </c:pt>
                <c:pt idx="212">
                  <c:v>30.550895958</c:v>
                </c:pt>
                <c:pt idx="213">
                  <c:v>29.580215654</c:v>
                </c:pt>
                <c:pt idx="214">
                  <c:v>30.386925395</c:v>
                </c:pt>
                <c:pt idx="215">
                  <c:v>20.332735074</c:v>
                </c:pt>
                <c:pt idx="216">
                  <c:v>30.861294269</c:v>
                </c:pt>
                <c:pt idx="217">
                  <c:v>29.711075318</c:v>
                </c:pt>
                <c:pt idx="218">
                  <c:v>30.836693047</c:v>
                </c:pt>
                <c:pt idx="219">
                  <c:v>29.867331488</c:v>
                </c:pt>
                <c:pt idx="220">
                  <c:v>30.655281439</c:v>
                </c:pt>
                <c:pt idx="221">
                  <c:v>29.598165914</c:v>
                </c:pt>
                <c:pt idx="222">
                  <c:v>30.440609473</c:v>
                </c:pt>
                <c:pt idx="223">
                  <c:v>20.46504909</c:v>
                </c:pt>
                <c:pt idx="224">
                  <c:v>31.052617574</c:v>
                </c:pt>
                <c:pt idx="225">
                  <c:v>30.07218134</c:v>
                </c:pt>
                <c:pt idx="226">
                  <c:v>30.855655548</c:v>
                </c:pt>
                <c:pt idx="227">
                  <c:v>29.852769618</c:v>
                </c:pt>
                <c:pt idx="228">
                  <c:v>30.57403125</c:v>
                </c:pt>
                <c:pt idx="229">
                  <c:v>29.630581652</c:v>
                </c:pt>
                <c:pt idx="230">
                  <c:v>30.353802546</c:v>
                </c:pt>
                <c:pt idx="231">
                  <c:v>9.611025439</c:v>
                </c:pt>
                <c:pt idx="232">
                  <c:v>30.96509833</c:v>
                </c:pt>
                <c:pt idx="233">
                  <c:v>29.974353945</c:v>
                </c:pt>
                <c:pt idx="234">
                  <c:v>30.750234493</c:v>
                </c:pt>
                <c:pt idx="235">
                  <c:v>29.915489463</c:v>
                </c:pt>
                <c:pt idx="236">
                  <c:v>29.55121798</c:v>
                </c:pt>
                <c:pt idx="237">
                  <c:v>30.474838686</c:v>
                </c:pt>
                <c:pt idx="238">
                  <c:v>17.759220847</c:v>
                </c:pt>
                <c:pt idx="239">
                  <c:v>19.339273948</c:v>
                </c:pt>
                <c:pt idx="240">
                  <c:v>30.217087648</c:v>
                </c:pt>
                <c:pt idx="241">
                  <c:v>30.81820738</c:v>
                </c:pt>
                <c:pt idx="242">
                  <c:v>30.022111864</c:v>
                </c:pt>
                <c:pt idx="243">
                  <c:v>30.602179772</c:v>
                </c:pt>
                <c:pt idx="244">
                  <c:v>29.770689123</c:v>
                </c:pt>
                <c:pt idx="245">
                  <c:v>30.024407613</c:v>
                </c:pt>
                <c:pt idx="246">
                  <c:v>29.571972526</c:v>
                </c:pt>
                <c:pt idx="247">
                  <c:v>20.575981919</c:v>
                </c:pt>
                <c:pt idx="248">
                  <c:v>30.252155948</c:v>
                </c:pt>
                <c:pt idx="249">
                  <c:v>30.789871493</c:v>
                </c:pt>
                <c:pt idx="250">
                  <c:v>29.95937323</c:v>
                </c:pt>
                <c:pt idx="251">
                  <c:v>30.546172103</c:v>
                </c:pt>
                <c:pt idx="252">
                  <c:v>29.716162865</c:v>
                </c:pt>
                <c:pt idx="253">
                  <c:v>30.38128236</c:v>
                </c:pt>
                <c:pt idx="254">
                  <c:v>29.647109973</c:v>
                </c:pt>
                <c:pt idx="255">
                  <c:v>20.412092465</c:v>
                </c:pt>
                <c:pt idx="256">
                  <c:v>30.161089243</c:v>
                </c:pt>
                <c:pt idx="257">
                  <c:v>30.701214113</c:v>
                </c:pt>
                <c:pt idx="258">
                  <c:v>29.973524468</c:v>
                </c:pt>
                <c:pt idx="259">
                  <c:v>2.498340439</c:v>
                </c:pt>
                <c:pt idx="260">
                  <c:v>29.324442709</c:v>
                </c:pt>
                <c:pt idx="261">
                  <c:v>30.357850932</c:v>
                </c:pt>
                <c:pt idx="262">
                  <c:v>1.734798626</c:v>
                </c:pt>
                <c:pt idx="263">
                  <c:v>30.974808503</c:v>
                </c:pt>
                <c:pt idx="264">
                  <c:v>30.135914249</c:v>
                </c:pt>
                <c:pt idx="265">
                  <c:v>30.567753306</c:v>
                </c:pt>
                <c:pt idx="266">
                  <c:v>29.960916352</c:v>
                </c:pt>
                <c:pt idx="267">
                  <c:v>30.2920375</c:v>
                </c:pt>
                <c:pt idx="268">
                  <c:v>29.668643994</c:v>
                </c:pt>
                <c:pt idx="269">
                  <c:v>30.384133006</c:v>
                </c:pt>
                <c:pt idx="270">
                  <c:v>19.336083422</c:v>
                </c:pt>
                <c:pt idx="271">
                  <c:v>30.930520999</c:v>
                </c:pt>
                <c:pt idx="272">
                  <c:v>30.128658929</c:v>
                </c:pt>
                <c:pt idx="273">
                  <c:v>30.809411031</c:v>
                </c:pt>
                <c:pt idx="274">
                  <c:v>29.676184088</c:v>
                </c:pt>
                <c:pt idx="275">
                  <c:v>30.57548953</c:v>
                </c:pt>
                <c:pt idx="276">
                  <c:v>29.740331405</c:v>
                </c:pt>
                <c:pt idx="277">
                  <c:v>30.464966637</c:v>
                </c:pt>
                <c:pt idx="278">
                  <c:v>18.790777775</c:v>
                </c:pt>
                <c:pt idx="279">
                  <c:v>31.027925047</c:v>
                </c:pt>
                <c:pt idx="280">
                  <c:v>30.100595555</c:v>
                </c:pt>
                <c:pt idx="281">
                  <c:v>30.81385392</c:v>
                </c:pt>
                <c:pt idx="282">
                  <c:v>29.948518715</c:v>
                </c:pt>
                <c:pt idx="283">
                  <c:v>30.509144965</c:v>
                </c:pt>
                <c:pt idx="284">
                  <c:v>29.723305233</c:v>
                </c:pt>
                <c:pt idx="285">
                  <c:v>30.449432599</c:v>
                </c:pt>
                <c:pt idx="286">
                  <c:v>19.760145734</c:v>
                </c:pt>
                <c:pt idx="287">
                  <c:v>30.706586396</c:v>
                </c:pt>
                <c:pt idx="288">
                  <c:v>29.895416635</c:v>
                </c:pt>
                <c:pt idx="289">
                  <c:v>30.710459207</c:v>
                </c:pt>
                <c:pt idx="290">
                  <c:v>29.864974511</c:v>
                </c:pt>
                <c:pt idx="291">
                  <c:v>30.490605844</c:v>
                </c:pt>
                <c:pt idx="292">
                  <c:v>29.689900622</c:v>
                </c:pt>
                <c:pt idx="293">
                  <c:v>30.466266781</c:v>
                </c:pt>
                <c:pt idx="294">
                  <c:v>20.432314447</c:v>
                </c:pt>
                <c:pt idx="295">
                  <c:v>31.054613096</c:v>
                </c:pt>
                <c:pt idx="296">
                  <c:v>30.106625345</c:v>
                </c:pt>
                <c:pt idx="297">
                  <c:v>30.723045079</c:v>
                </c:pt>
                <c:pt idx="298">
                  <c:v>29.92771719</c:v>
                </c:pt>
                <c:pt idx="299">
                  <c:v>30.584480368</c:v>
                </c:pt>
                <c:pt idx="300">
                  <c:v>29.643976287</c:v>
                </c:pt>
                <c:pt idx="301">
                  <c:v>30.520884234</c:v>
                </c:pt>
                <c:pt idx="302">
                  <c:v>18.689249033</c:v>
                </c:pt>
                <c:pt idx="303">
                  <c:v>30.955577284</c:v>
                </c:pt>
                <c:pt idx="304">
                  <c:v>30.000806856</c:v>
                </c:pt>
                <c:pt idx="305">
                  <c:v>30.778527596</c:v>
                </c:pt>
                <c:pt idx="306">
                  <c:v>29.999574786</c:v>
                </c:pt>
                <c:pt idx="307">
                  <c:v>30.608591172</c:v>
                </c:pt>
                <c:pt idx="308">
                  <c:v>29.734785204</c:v>
                </c:pt>
                <c:pt idx="309">
                  <c:v>30.550242256</c:v>
                </c:pt>
                <c:pt idx="310">
                  <c:v>10.211666879</c:v>
                </c:pt>
                <c:pt idx="311">
                  <c:v>31.061768381</c:v>
                </c:pt>
                <c:pt idx="312">
                  <c:v>30.113206053</c:v>
                </c:pt>
                <c:pt idx="313">
                  <c:v>30.858838444</c:v>
                </c:pt>
                <c:pt idx="314">
                  <c:v>29.937015808</c:v>
                </c:pt>
                <c:pt idx="315">
                  <c:v>30.599407301</c:v>
                </c:pt>
                <c:pt idx="316">
                  <c:v>29.416882563</c:v>
                </c:pt>
                <c:pt idx="317">
                  <c:v>29.589188061</c:v>
                </c:pt>
                <c:pt idx="318">
                  <c:v>20.445214744</c:v>
                </c:pt>
                <c:pt idx="319">
                  <c:v>30.262706894</c:v>
                </c:pt>
                <c:pt idx="320">
                  <c:v>30.87321512</c:v>
                </c:pt>
                <c:pt idx="321">
                  <c:v>30.073534553</c:v>
                </c:pt>
                <c:pt idx="322">
                  <c:v>30.67108617</c:v>
                </c:pt>
                <c:pt idx="323">
                  <c:v>29.881538021</c:v>
                </c:pt>
                <c:pt idx="324">
                  <c:v>30.511337981</c:v>
                </c:pt>
                <c:pt idx="325">
                  <c:v>29.723614626</c:v>
                </c:pt>
                <c:pt idx="326">
                  <c:v>20.275878243</c:v>
                </c:pt>
                <c:pt idx="327">
                  <c:v>30.270522833</c:v>
                </c:pt>
                <c:pt idx="328">
                  <c:v>30.923091172</c:v>
                </c:pt>
                <c:pt idx="329">
                  <c:v>30.122909185</c:v>
                </c:pt>
                <c:pt idx="330">
                  <c:v>30.439694993</c:v>
                </c:pt>
                <c:pt idx="331">
                  <c:v>29.568604191</c:v>
                </c:pt>
                <c:pt idx="332">
                  <c:v>30.409547957</c:v>
                </c:pt>
                <c:pt idx="333">
                  <c:v>29.636871987</c:v>
                </c:pt>
                <c:pt idx="334">
                  <c:v>18.251428972</c:v>
                </c:pt>
                <c:pt idx="335">
                  <c:v>30.240476883</c:v>
                </c:pt>
                <c:pt idx="336">
                  <c:v>30.890247873</c:v>
                </c:pt>
                <c:pt idx="337">
                  <c:v>29.991096309</c:v>
                </c:pt>
                <c:pt idx="338">
                  <c:v>30.396276286</c:v>
                </c:pt>
                <c:pt idx="339">
                  <c:v>29.803653735</c:v>
                </c:pt>
                <c:pt idx="340">
                  <c:v>30.460269316</c:v>
                </c:pt>
                <c:pt idx="341">
                  <c:v>29.635697589</c:v>
                </c:pt>
                <c:pt idx="342">
                  <c:v>12.029975888</c:v>
                </c:pt>
                <c:pt idx="343">
                  <c:v>30.232967438</c:v>
                </c:pt>
                <c:pt idx="344">
                  <c:v>30.927292848</c:v>
                </c:pt>
                <c:pt idx="345">
                  <c:v>29.714954063</c:v>
                </c:pt>
                <c:pt idx="346">
                  <c:v>30.654443764</c:v>
                </c:pt>
                <c:pt idx="347">
                  <c:v>29.855067917</c:v>
                </c:pt>
                <c:pt idx="348">
                  <c:v>30.541063665</c:v>
                </c:pt>
                <c:pt idx="349">
                  <c:v>29.623036774</c:v>
                </c:pt>
                <c:pt idx="350">
                  <c:v>19.775534607</c:v>
                </c:pt>
                <c:pt idx="351">
                  <c:v>30.272623326</c:v>
                </c:pt>
                <c:pt idx="352">
                  <c:v>31.019376176</c:v>
                </c:pt>
                <c:pt idx="353">
                  <c:v>30.02529731</c:v>
                </c:pt>
                <c:pt idx="354">
                  <c:v>30.689995409</c:v>
                </c:pt>
                <c:pt idx="355">
                  <c:v>29.906318105</c:v>
                </c:pt>
                <c:pt idx="356">
                  <c:v>30.532543505</c:v>
                </c:pt>
                <c:pt idx="357">
                  <c:v>29.636228853</c:v>
                </c:pt>
                <c:pt idx="358">
                  <c:v>10.839320985</c:v>
                </c:pt>
                <c:pt idx="359">
                  <c:v>29.995993763</c:v>
                </c:pt>
                <c:pt idx="360">
                  <c:v>31.013128371</c:v>
                </c:pt>
                <c:pt idx="361">
                  <c:v>30.024809405</c:v>
                </c:pt>
                <c:pt idx="362">
                  <c:v>30.70049395</c:v>
                </c:pt>
                <c:pt idx="363">
                  <c:v>29.755685739</c:v>
                </c:pt>
                <c:pt idx="364">
                  <c:v>30.427575954</c:v>
                </c:pt>
                <c:pt idx="365">
                  <c:v>29.635837393</c:v>
                </c:pt>
                <c:pt idx="366">
                  <c:v>20.650598646</c:v>
                </c:pt>
                <c:pt idx="367">
                  <c:v>29.722658342</c:v>
                </c:pt>
                <c:pt idx="368">
                  <c:v>30.82283428</c:v>
                </c:pt>
                <c:pt idx="369">
                  <c:v>30.113956668</c:v>
                </c:pt>
                <c:pt idx="370">
                  <c:v>30.780518207</c:v>
                </c:pt>
                <c:pt idx="371">
                  <c:v>29.827341727</c:v>
                </c:pt>
                <c:pt idx="372">
                  <c:v>30.551014816</c:v>
                </c:pt>
                <c:pt idx="373">
                  <c:v>29.369793503</c:v>
                </c:pt>
                <c:pt idx="374">
                  <c:v>10.440777673</c:v>
                </c:pt>
                <c:pt idx="375">
                  <c:v>30.291803798</c:v>
                </c:pt>
                <c:pt idx="376">
                  <c:v>31.000150783</c:v>
                </c:pt>
                <c:pt idx="377">
                  <c:v>30.028225073</c:v>
                </c:pt>
                <c:pt idx="378">
                  <c:v>30.737325554</c:v>
                </c:pt>
                <c:pt idx="379">
                  <c:v>29.732505387</c:v>
                </c:pt>
                <c:pt idx="380">
                  <c:v>30.539371129</c:v>
                </c:pt>
                <c:pt idx="381">
                  <c:v>29.582917949</c:v>
                </c:pt>
                <c:pt idx="382">
                  <c:v>20.210557026</c:v>
                </c:pt>
                <c:pt idx="383">
                  <c:v>30.075982161</c:v>
                </c:pt>
                <c:pt idx="384">
                  <c:v>31.0250749</c:v>
                </c:pt>
                <c:pt idx="385">
                  <c:v>30.052817838</c:v>
                </c:pt>
                <c:pt idx="386">
                  <c:v>30.812644844</c:v>
                </c:pt>
                <c:pt idx="387">
                  <c:v>29.604888927</c:v>
                </c:pt>
                <c:pt idx="388">
                  <c:v>30.613185176</c:v>
                </c:pt>
                <c:pt idx="389">
                  <c:v>29.399811852</c:v>
                </c:pt>
                <c:pt idx="390">
                  <c:v>20.620787282</c:v>
                </c:pt>
                <c:pt idx="391">
                  <c:v>30.993818972</c:v>
                </c:pt>
                <c:pt idx="392">
                  <c:v>30.237129189</c:v>
                </c:pt>
                <c:pt idx="393">
                  <c:v>30.781302458</c:v>
                </c:pt>
                <c:pt idx="394">
                  <c:v>29.95931608</c:v>
                </c:pt>
                <c:pt idx="395">
                  <c:v>30.288853621</c:v>
                </c:pt>
                <c:pt idx="396">
                  <c:v>29.756700529</c:v>
                </c:pt>
                <c:pt idx="397">
                  <c:v>30.42079822</c:v>
                </c:pt>
                <c:pt idx="398">
                  <c:v>16.167384568</c:v>
                </c:pt>
                <c:pt idx="399">
                  <c:v>30.865327521</c:v>
                </c:pt>
                <c:pt idx="400">
                  <c:v>30.156108783</c:v>
                </c:pt>
                <c:pt idx="401">
                  <c:v>30.430523737</c:v>
                </c:pt>
                <c:pt idx="402">
                  <c:v>29.928914847</c:v>
                </c:pt>
                <c:pt idx="403">
                  <c:v>30.592671991</c:v>
                </c:pt>
                <c:pt idx="404">
                  <c:v>29.772128212</c:v>
                </c:pt>
                <c:pt idx="405">
                  <c:v>30.291657736</c:v>
                </c:pt>
                <c:pt idx="406">
                  <c:v>12.914885575</c:v>
                </c:pt>
                <c:pt idx="407">
                  <c:v>31.067636332</c:v>
                </c:pt>
                <c:pt idx="408">
                  <c:v>30.17563465</c:v>
                </c:pt>
                <c:pt idx="409">
                  <c:v>30.805936194</c:v>
                </c:pt>
                <c:pt idx="410">
                  <c:v>29.951602882</c:v>
                </c:pt>
                <c:pt idx="411">
                  <c:v>30.517533471</c:v>
                </c:pt>
                <c:pt idx="412">
                  <c:v>29.732533531</c:v>
                </c:pt>
                <c:pt idx="413">
                  <c:v>0.481338298</c:v>
                </c:pt>
                <c:pt idx="414">
                  <c:v>12.202048522</c:v>
                </c:pt>
                <c:pt idx="415">
                  <c:v>30.68594789</c:v>
                </c:pt>
                <c:pt idx="416">
                  <c:v>30.617870092</c:v>
                </c:pt>
                <c:pt idx="417">
                  <c:v>30.491878577</c:v>
                </c:pt>
                <c:pt idx="418">
                  <c:v>30.496230352</c:v>
                </c:pt>
                <c:pt idx="419">
                  <c:v>30.281203365</c:v>
                </c:pt>
                <c:pt idx="420">
                  <c:v>30.08839911</c:v>
                </c:pt>
                <c:pt idx="421">
                  <c:v>29.918794809</c:v>
                </c:pt>
                <c:pt idx="422">
                  <c:v>20.001582236</c:v>
                </c:pt>
                <c:pt idx="423">
                  <c:v>30.537263145</c:v>
                </c:pt>
                <c:pt idx="424">
                  <c:v>30.438220142</c:v>
                </c:pt>
                <c:pt idx="425">
                  <c:v>30.391335476</c:v>
                </c:pt>
                <c:pt idx="426">
                  <c:v>30.223309607</c:v>
                </c:pt>
                <c:pt idx="427">
                  <c:v>30.174678047</c:v>
                </c:pt>
                <c:pt idx="428">
                  <c:v>29.92706137</c:v>
                </c:pt>
                <c:pt idx="429">
                  <c:v>29.828049833</c:v>
                </c:pt>
                <c:pt idx="430">
                  <c:v>20.041296679</c:v>
                </c:pt>
                <c:pt idx="431">
                  <c:v>30.325962495</c:v>
                </c:pt>
                <c:pt idx="432">
                  <c:v>30.199830768</c:v>
                </c:pt>
                <c:pt idx="433">
                  <c:v>30.107606496</c:v>
                </c:pt>
                <c:pt idx="434">
                  <c:v>30.016861658</c:v>
                </c:pt>
                <c:pt idx="435">
                  <c:v>29.993473236</c:v>
                </c:pt>
                <c:pt idx="436">
                  <c:v>30.01301841</c:v>
                </c:pt>
                <c:pt idx="437">
                  <c:v>29.604861025</c:v>
                </c:pt>
                <c:pt idx="438">
                  <c:v>19.736133785</c:v>
                </c:pt>
                <c:pt idx="439">
                  <c:v>30.501916174</c:v>
                </c:pt>
                <c:pt idx="440">
                  <c:v>30.340462252</c:v>
                </c:pt>
                <c:pt idx="441">
                  <c:v>30.230203272</c:v>
                </c:pt>
                <c:pt idx="442">
                  <c:v>30.312851426</c:v>
                </c:pt>
                <c:pt idx="443">
                  <c:v>30.136665996</c:v>
                </c:pt>
                <c:pt idx="444">
                  <c:v>30.175286787</c:v>
                </c:pt>
                <c:pt idx="445">
                  <c:v>29.886598809</c:v>
                </c:pt>
                <c:pt idx="446">
                  <c:v>19.732302742</c:v>
                </c:pt>
                <c:pt idx="447">
                  <c:v>30.578257668</c:v>
                </c:pt>
                <c:pt idx="448">
                  <c:v>30.524799332</c:v>
                </c:pt>
                <c:pt idx="449">
                  <c:v>30.241641472</c:v>
                </c:pt>
                <c:pt idx="450">
                  <c:v>30.290167985</c:v>
                </c:pt>
                <c:pt idx="451">
                  <c:v>29.844572399</c:v>
                </c:pt>
                <c:pt idx="452">
                  <c:v>30.021997086</c:v>
                </c:pt>
                <c:pt idx="453">
                  <c:v>29.926348556</c:v>
                </c:pt>
                <c:pt idx="454">
                  <c:v>20.028543325</c:v>
                </c:pt>
                <c:pt idx="455">
                  <c:v>30.549737141</c:v>
                </c:pt>
                <c:pt idx="456">
                  <c:v>30.409577398</c:v>
                </c:pt>
                <c:pt idx="457">
                  <c:v>30.288999656</c:v>
                </c:pt>
                <c:pt idx="458">
                  <c:v>30.214471702</c:v>
                </c:pt>
                <c:pt idx="459">
                  <c:v>30.06590633</c:v>
                </c:pt>
                <c:pt idx="460">
                  <c:v>30.09203106</c:v>
                </c:pt>
                <c:pt idx="461">
                  <c:v>29.988233041</c:v>
                </c:pt>
                <c:pt idx="462">
                  <c:v>18.386866749</c:v>
                </c:pt>
                <c:pt idx="463">
                  <c:v>30.566176787</c:v>
                </c:pt>
                <c:pt idx="464">
                  <c:v>30.35585594</c:v>
                </c:pt>
                <c:pt idx="465">
                  <c:v>30.330120603</c:v>
                </c:pt>
                <c:pt idx="466">
                  <c:v>29.803682014</c:v>
                </c:pt>
                <c:pt idx="467">
                  <c:v>30.082203759</c:v>
                </c:pt>
                <c:pt idx="468">
                  <c:v>30.052702824</c:v>
                </c:pt>
                <c:pt idx="469">
                  <c:v>29.95051764</c:v>
                </c:pt>
                <c:pt idx="470">
                  <c:v>20.223986019</c:v>
                </c:pt>
                <c:pt idx="471">
                  <c:v>30.58260436</c:v>
                </c:pt>
                <c:pt idx="472">
                  <c:v>30.551460542</c:v>
                </c:pt>
                <c:pt idx="473">
                  <c:v>30.353098589</c:v>
                </c:pt>
                <c:pt idx="474">
                  <c:v>30.581770652</c:v>
                </c:pt>
                <c:pt idx="475">
                  <c:v>30.195330952</c:v>
                </c:pt>
                <c:pt idx="476">
                  <c:v>30.094193351</c:v>
                </c:pt>
                <c:pt idx="477">
                  <c:v>30.001437256</c:v>
                </c:pt>
                <c:pt idx="478">
                  <c:v>21.286621746</c:v>
                </c:pt>
                <c:pt idx="479">
                  <c:v>30.653725793</c:v>
                </c:pt>
                <c:pt idx="480">
                  <c:v>30.109684439</c:v>
                </c:pt>
                <c:pt idx="481">
                  <c:v>30.282838209</c:v>
                </c:pt>
                <c:pt idx="482">
                  <c:v>30.395335056</c:v>
                </c:pt>
                <c:pt idx="483">
                  <c:v>30.149740823</c:v>
                </c:pt>
                <c:pt idx="484">
                  <c:v>30.020878044</c:v>
                </c:pt>
                <c:pt idx="485">
                  <c:v>29.968005325</c:v>
                </c:pt>
                <c:pt idx="486">
                  <c:v>20.467702801</c:v>
                </c:pt>
                <c:pt idx="487">
                  <c:v>30.516288243</c:v>
                </c:pt>
                <c:pt idx="488">
                  <c:v>30.470877276</c:v>
                </c:pt>
                <c:pt idx="489">
                  <c:v>30.364659349</c:v>
                </c:pt>
                <c:pt idx="490">
                  <c:v>30.294491588</c:v>
                </c:pt>
                <c:pt idx="491">
                  <c:v>30.036265005</c:v>
                </c:pt>
                <c:pt idx="492">
                  <c:v>30.165665767</c:v>
                </c:pt>
                <c:pt idx="493">
                  <c:v>30.009434177</c:v>
                </c:pt>
                <c:pt idx="494">
                  <c:v>15.512866879</c:v>
                </c:pt>
                <c:pt idx="495">
                  <c:v>30.519431158</c:v>
                </c:pt>
                <c:pt idx="496">
                  <c:v>30.418264712</c:v>
                </c:pt>
                <c:pt idx="497">
                  <c:v>30.402807679</c:v>
                </c:pt>
                <c:pt idx="498">
                  <c:v>30.111416278</c:v>
                </c:pt>
                <c:pt idx="499">
                  <c:v>30.212727989</c:v>
                </c:pt>
                <c:pt idx="500">
                  <c:v>29.721027176</c:v>
                </c:pt>
                <c:pt idx="501">
                  <c:v>29.96606124</c:v>
                </c:pt>
                <c:pt idx="502">
                  <c:v>20.361415222</c:v>
                </c:pt>
                <c:pt idx="503">
                  <c:v>30.546231513</c:v>
                </c:pt>
                <c:pt idx="504">
                  <c:v>30.00742738</c:v>
                </c:pt>
                <c:pt idx="505">
                  <c:v>30.394305652</c:v>
                </c:pt>
                <c:pt idx="506">
                  <c:v>30.252330765</c:v>
                </c:pt>
                <c:pt idx="507">
                  <c:v>30.241583241</c:v>
                </c:pt>
                <c:pt idx="508">
                  <c:v>29.68145602</c:v>
                </c:pt>
                <c:pt idx="509">
                  <c:v>29.967690823</c:v>
                </c:pt>
                <c:pt idx="510">
                  <c:v>16.565094858</c:v>
                </c:pt>
                <c:pt idx="511">
                  <c:v>30.544241388</c:v>
                </c:pt>
                <c:pt idx="512">
                  <c:v>30.395511532</c:v>
                </c:pt>
                <c:pt idx="513">
                  <c:v>30.202763628</c:v>
                </c:pt>
                <c:pt idx="514">
                  <c:v>30.205871338</c:v>
                </c:pt>
                <c:pt idx="515">
                  <c:v>2.658960921</c:v>
                </c:pt>
                <c:pt idx="516">
                  <c:v>30.062021742</c:v>
                </c:pt>
                <c:pt idx="517">
                  <c:v>29.906887591</c:v>
                </c:pt>
                <c:pt idx="518">
                  <c:v>1.713410617</c:v>
                </c:pt>
                <c:pt idx="519">
                  <c:v>30.604654552</c:v>
                </c:pt>
                <c:pt idx="520">
                  <c:v>30.397452906</c:v>
                </c:pt>
                <c:pt idx="521">
                  <c:v>30.237594911</c:v>
                </c:pt>
                <c:pt idx="522">
                  <c:v>29.757010617</c:v>
                </c:pt>
                <c:pt idx="523">
                  <c:v>30.145342713</c:v>
                </c:pt>
                <c:pt idx="524">
                  <c:v>29.91822487</c:v>
                </c:pt>
                <c:pt idx="525">
                  <c:v>29.856571933</c:v>
                </c:pt>
                <c:pt idx="526">
                  <c:v>19.614702383</c:v>
                </c:pt>
                <c:pt idx="527">
                  <c:v>30.588709676</c:v>
                </c:pt>
                <c:pt idx="528">
                  <c:v>30.493062611</c:v>
                </c:pt>
                <c:pt idx="529">
                  <c:v>30.278897367</c:v>
                </c:pt>
                <c:pt idx="530">
                  <c:v>30.125856015</c:v>
                </c:pt>
                <c:pt idx="531">
                  <c:v>30.213280143</c:v>
                </c:pt>
                <c:pt idx="532">
                  <c:v>30.091195057</c:v>
                </c:pt>
                <c:pt idx="533">
                  <c:v>29.965518085</c:v>
                </c:pt>
                <c:pt idx="534">
                  <c:v>18.811089867</c:v>
                </c:pt>
                <c:pt idx="535">
                  <c:v>30.526579254</c:v>
                </c:pt>
                <c:pt idx="536">
                  <c:v>29.592588967</c:v>
                </c:pt>
                <c:pt idx="537">
                  <c:v>30.277700721</c:v>
                </c:pt>
                <c:pt idx="538">
                  <c:v>30.323678949</c:v>
                </c:pt>
                <c:pt idx="539">
                  <c:v>30.160162521</c:v>
                </c:pt>
                <c:pt idx="540">
                  <c:v>30.050488993</c:v>
                </c:pt>
                <c:pt idx="541">
                  <c:v>29.877217805</c:v>
                </c:pt>
                <c:pt idx="542">
                  <c:v>20.572208645</c:v>
                </c:pt>
                <c:pt idx="543">
                  <c:v>30.581383589</c:v>
                </c:pt>
                <c:pt idx="544">
                  <c:v>30.379284287</c:v>
                </c:pt>
                <c:pt idx="545">
                  <c:v>30.230552402</c:v>
                </c:pt>
                <c:pt idx="546">
                  <c:v>30.301242382</c:v>
                </c:pt>
                <c:pt idx="547">
                  <c:v>30.102585984</c:v>
                </c:pt>
                <c:pt idx="548">
                  <c:v>30.037988407</c:v>
                </c:pt>
                <c:pt idx="549">
                  <c:v>29.929456676</c:v>
                </c:pt>
                <c:pt idx="550">
                  <c:v>14.367606767</c:v>
                </c:pt>
                <c:pt idx="551">
                  <c:v>30.202705546</c:v>
                </c:pt>
                <c:pt idx="552">
                  <c:v>30.340638091</c:v>
                </c:pt>
                <c:pt idx="553">
                  <c:v>30.226363374</c:v>
                </c:pt>
                <c:pt idx="554">
                  <c:v>30.256089832</c:v>
                </c:pt>
                <c:pt idx="555">
                  <c:v>30.123371394</c:v>
                </c:pt>
                <c:pt idx="556">
                  <c:v>29.87417735</c:v>
                </c:pt>
                <c:pt idx="557">
                  <c:v>29.909080313</c:v>
                </c:pt>
                <c:pt idx="558">
                  <c:v>19.688926263</c:v>
                </c:pt>
                <c:pt idx="559">
                  <c:v>30.589126714</c:v>
                </c:pt>
                <c:pt idx="560">
                  <c:v>30.460505624</c:v>
                </c:pt>
                <c:pt idx="561">
                  <c:v>30.262152932</c:v>
                </c:pt>
                <c:pt idx="562">
                  <c:v>30.187582801</c:v>
                </c:pt>
                <c:pt idx="563">
                  <c:v>29.744471288</c:v>
                </c:pt>
                <c:pt idx="564">
                  <c:v>29.436455646</c:v>
                </c:pt>
                <c:pt idx="565">
                  <c:v>29.634802871</c:v>
                </c:pt>
                <c:pt idx="566">
                  <c:v>11.055628688</c:v>
                </c:pt>
                <c:pt idx="567">
                  <c:v>30.469340289</c:v>
                </c:pt>
                <c:pt idx="568">
                  <c:v>30.380018842</c:v>
                </c:pt>
                <c:pt idx="569">
                  <c:v>30.303610255</c:v>
                </c:pt>
                <c:pt idx="570">
                  <c:v>30.143780535</c:v>
                </c:pt>
                <c:pt idx="571">
                  <c:v>30.108212533</c:v>
                </c:pt>
                <c:pt idx="572">
                  <c:v>30.064294823</c:v>
                </c:pt>
                <c:pt idx="573">
                  <c:v>29.786131318</c:v>
                </c:pt>
                <c:pt idx="574">
                  <c:v>19.540695643</c:v>
                </c:pt>
                <c:pt idx="575">
                  <c:v>30.549885703</c:v>
                </c:pt>
                <c:pt idx="576">
                  <c:v>30.44506466</c:v>
                </c:pt>
                <c:pt idx="577">
                  <c:v>30.270376977</c:v>
                </c:pt>
                <c:pt idx="578">
                  <c:v>30.331262819</c:v>
                </c:pt>
                <c:pt idx="579">
                  <c:v>29.785001547</c:v>
                </c:pt>
                <c:pt idx="580">
                  <c:v>30.042757518</c:v>
                </c:pt>
                <c:pt idx="581">
                  <c:v>29.875882202</c:v>
                </c:pt>
                <c:pt idx="582">
                  <c:v>21.528087281</c:v>
                </c:pt>
                <c:pt idx="583">
                  <c:v>30.587309706</c:v>
                </c:pt>
                <c:pt idx="584">
                  <c:v>30.411726678</c:v>
                </c:pt>
                <c:pt idx="585">
                  <c:v>30.311944606</c:v>
                </c:pt>
                <c:pt idx="586">
                  <c:v>30.349696591</c:v>
                </c:pt>
                <c:pt idx="587">
                  <c:v>30.233258432</c:v>
                </c:pt>
                <c:pt idx="588">
                  <c:v>29.622561854</c:v>
                </c:pt>
                <c:pt idx="589">
                  <c:v>29.892400922</c:v>
                </c:pt>
                <c:pt idx="590">
                  <c:v>20.310345467</c:v>
                </c:pt>
                <c:pt idx="591">
                  <c:v>30.378050314</c:v>
                </c:pt>
                <c:pt idx="592">
                  <c:v>30.507041152</c:v>
                </c:pt>
                <c:pt idx="593">
                  <c:v>30.046838321</c:v>
                </c:pt>
                <c:pt idx="594">
                  <c:v>30.25798429</c:v>
                </c:pt>
                <c:pt idx="595">
                  <c:v>30.032187073</c:v>
                </c:pt>
                <c:pt idx="596">
                  <c:v>30.020160754</c:v>
                </c:pt>
                <c:pt idx="597">
                  <c:v>29.927888278</c:v>
                </c:pt>
                <c:pt idx="598">
                  <c:v>13.288654808</c:v>
                </c:pt>
                <c:pt idx="599">
                  <c:v>30.6394631</c:v>
                </c:pt>
                <c:pt idx="600">
                  <c:v>30.501886554</c:v>
                </c:pt>
                <c:pt idx="601">
                  <c:v>30.306709513</c:v>
                </c:pt>
                <c:pt idx="602">
                  <c:v>30.191993246</c:v>
                </c:pt>
                <c:pt idx="603">
                  <c:v>30.032847508</c:v>
                </c:pt>
                <c:pt idx="604">
                  <c:v>30.076615725</c:v>
                </c:pt>
                <c:pt idx="605">
                  <c:v>29.893425058</c:v>
                </c:pt>
                <c:pt idx="606">
                  <c:v>20.28955148</c:v>
                </c:pt>
                <c:pt idx="607">
                  <c:v>30.103249519</c:v>
                </c:pt>
                <c:pt idx="608">
                  <c:v>30.476464937</c:v>
                </c:pt>
                <c:pt idx="609">
                  <c:v>30.359376691</c:v>
                </c:pt>
                <c:pt idx="610">
                  <c:v>30.25810088</c:v>
                </c:pt>
                <c:pt idx="611">
                  <c:v>30.090445577</c:v>
                </c:pt>
                <c:pt idx="612">
                  <c:v>30.089580839</c:v>
                </c:pt>
                <c:pt idx="613">
                  <c:v>29.90520767</c:v>
                </c:pt>
                <c:pt idx="614">
                  <c:v>11.034446644</c:v>
                </c:pt>
                <c:pt idx="615">
                  <c:v>30.522396767</c:v>
                </c:pt>
                <c:pt idx="616">
                  <c:v>30.463991602</c:v>
                </c:pt>
                <c:pt idx="617">
                  <c:v>30.267110154</c:v>
                </c:pt>
                <c:pt idx="618">
                  <c:v>30.212204915</c:v>
                </c:pt>
                <c:pt idx="619">
                  <c:v>30.076097352</c:v>
                </c:pt>
                <c:pt idx="620">
                  <c:v>29.998657963</c:v>
                </c:pt>
                <c:pt idx="621">
                  <c:v>29.533019159</c:v>
                </c:pt>
                <c:pt idx="622">
                  <c:v>20.491403322</c:v>
                </c:pt>
                <c:pt idx="623">
                  <c:v>30.54955887</c:v>
                </c:pt>
                <c:pt idx="624">
                  <c:v>30.462159887</c:v>
                </c:pt>
                <c:pt idx="625">
                  <c:v>30.337004485</c:v>
                </c:pt>
                <c:pt idx="626">
                  <c:v>30.263960672</c:v>
                </c:pt>
                <c:pt idx="627">
                  <c:v>29.838448696</c:v>
                </c:pt>
                <c:pt idx="628">
                  <c:v>29.975898611</c:v>
                </c:pt>
                <c:pt idx="629">
                  <c:v>29.912298787</c:v>
                </c:pt>
                <c:pt idx="630">
                  <c:v>19.774227426</c:v>
                </c:pt>
                <c:pt idx="631">
                  <c:v>30.600510267</c:v>
                </c:pt>
                <c:pt idx="632">
                  <c:v>30.57498358</c:v>
                </c:pt>
                <c:pt idx="633">
                  <c:v>30.326196724</c:v>
                </c:pt>
                <c:pt idx="634">
                  <c:v>30.232356368</c:v>
                </c:pt>
                <c:pt idx="635">
                  <c:v>30.109713301</c:v>
                </c:pt>
                <c:pt idx="636">
                  <c:v>29.774950359</c:v>
                </c:pt>
                <c:pt idx="637">
                  <c:v>29.8295228</c:v>
                </c:pt>
                <c:pt idx="638">
                  <c:v>20.26495553</c:v>
                </c:pt>
                <c:pt idx="639">
                  <c:v>30.340989777</c:v>
                </c:pt>
                <c:pt idx="640">
                  <c:v>30.40086562</c:v>
                </c:pt>
                <c:pt idx="641">
                  <c:v>30.355327898</c:v>
                </c:pt>
                <c:pt idx="642">
                  <c:v>30.324615747</c:v>
                </c:pt>
                <c:pt idx="643">
                  <c:v>30.250116558</c:v>
                </c:pt>
                <c:pt idx="644">
                  <c:v>30.126433893</c:v>
                </c:pt>
                <c:pt idx="645">
                  <c:v>30.003443251</c:v>
                </c:pt>
                <c:pt idx="646">
                  <c:v>21.101847232</c:v>
                </c:pt>
                <c:pt idx="647">
                  <c:v>30.658901917</c:v>
                </c:pt>
                <c:pt idx="648">
                  <c:v>30.511486169</c:v>
                </c:pt>
                <c:pt idx="649">
                  <c:v>30.444828591</c:v>
                </c:pt>
                <c:pt idx="650">
                  <c:v>29.809593423</c:v>
                </c:pt>
                <c:pt idx="651">
                  <c:v>30.166158261</c:v>
                </c:pt>
                <c:pt idx="652">
                  <c:v>30.074657524</c:v>
                </c:pt>
                <c:pt idx="653">
                  <c:v>30.006653402</c:v>
                </c:pt>
                <c:pt idx="654">
                  <c:v>9.47458388400001</c:v>
                </c:pt>
                <c:pt idx="655">
                  <c:v>30.546974164</c:v>
                </c:pt>
                <c:pt idx="656">
                  <c:v>30.377051458</c:v>
                </c:pt>
                <c:pt idx="657">
                  <c:v>30.372880472</c:v>
                </c:pt>
                <c:pt idx="658">
                  <c:v>30.147049722</c:v>
                </c:pt>
                <c:pt idx="659">
                  <c:v>30.034771549</c:v>
                </c:pt>
                <c:pt idx="660">
                  <c:v>29.854528778</c:v>
                </c:pt>
                <c:pt idx="661">
                  <c:v>30.005793473</c:v>
                </c:pt>
                <c:pt idx="662">
                  <c:v>10.91239357</c:v>
                </c:pt>
                <c:pt idx="663">
                  <c:v>30.505737526</c:v>
                </c:pt>
                <c:pt idx="664">
                  <c:v>30.056843852</c:v>
                </c:pt>
                <c:pt idx="665">
                  <c:v>30.323210572</c:v>
                </c:pt>
                <c:pt idx="666">
                  <c:v>30.189410658</c:v>
                </c:pt>
                <c:pt idx="667">
                  <c:v>29.996165633</c:v>
                </c:pt>
                <c:pt idx="668">
                  <c:v>29.911216391</c:v>
                </c:pt>
                <c:pt idx="669">
                  <c:v>29.896241794</c:v>
                </c:pt>
                <c:pt idx="670">
                  <c:v>19.196089753</c:v>
                </c:pt>
                <c:pt idx="671">
                  <c:v>30.024723306</c:v>
                </c:pt>
                <c:pt idx="672">
                  <c:v>30.382428432</c:v>
                </c:pt>
                <c:pt idx="673">
                  <c:v>30.339670998</c:v>
                </c:pt>
                <c:pt idx="674">
                  <c:v>30.208776319</c:v>
                </c:pt>
                <c:pt idx="675">
                  <c:v>30.142623471</c:v>
                </c:pt>
                <c:pt idx="676">
                  <c:v>29.904809072</c:v>
                </c:pt>
                <c:pt idx="677">
                  <c:v>29.992127219</c:v>
                </c:pt>
                <c:pt idx="678">
                  <c:v>10.146568275</c:v>
                </c:pt>
                <c:pt idx="679">
                  <c:v>30.428961341</c:v>
                </c:pt>
                <c:pt idx="680">
                  <c:v>30.258712991</c:v>
                </c:pt>
                <c:pt idx="681">
                  <c:v>30.382310882</c:v>
                </c:pt>
                <c:pt idx="682">
                  <c:v>30.168563019</c:v>
                </c:pt>
                <c:pt idx="683">
                  <c:v>30.077220515</c:v>
                </c:pt>
                <c:pt idx="684">
                  <c:v>29.924181808</c:v>
                </c:pt>
                <c:pt idx="685">
                  <c:v>29.864520196</c:v>
                </c:pt>
                <c:pt idx="686">
                  <c:v>20.303505645</c:v>
                </c:pt>
                <c:pt idx="687">
                  <c:v>30.438751072</c:v>
                </c:pt>
                <c:pt idx="688">
                  <c:v>30.343422491</c:v>
                </c:pt>
                <c:pt idx="689">
                  <c:v>30.44757312</c:v>
                </c:pt>
                <c:pt idx="690">
                  <c:v>29.82535921</c:v>
                </c:pt>
                <c:pt idx="691">
                  <c:v>29.91406497</c:v>
                </c:pt>
                <c:pt idx="692">
                  <c:v>29.758673929</c:v>
                </c:pt>
                <c:pt idx="693">
                  <c:v>29.897920708</c:v>
                </c:pt>
                <c:pt idx="694">
                  <c:v>10.732582992</c:v>
                </c:pt>
                <c:pt idx="695">
                  <c:v>30.532751257</c:v>
                </c:pt>
                <c:pt idx="696">
                  <c:v>30.491434588</c:v>
                </c:pt>
                <c:pt idx="697">
                  <c:v>29.879775677</c:v>
                </c:pt>
                <c:pt idx="698">
                  <c:v>30.240243976</c:v>
                </c:pt>
                <c:pt idx="699">
                  <c:v>30.161349894</c:v>
                </c:pt>
                <c:pt idx="700">
                  <c:v>30.099528332</c:v>
                </c:pt>
                <c:pt idx="701">
                  <c:v>29.967919551</c:v>
                </c:pt>
                <c:pt idx="702">
                  <c:v>20.579203772</c:v>
                </c:pt>
                <c:pt idx="703">
                  <c:v>30.576888419</c:v>
                </c:pt>
                <c:pt idx="704">
                  <c:v>30.615064938</c:v>
                </c:pt>
                <c:pt idx="705">
                  <c:v>30.49353625</c:v>
                </c:pt>
                <c:pt idx="706">
                  <c:v>29.942580627</c:v>
                </c:pt>
                <c:pt idx="707">
                  <c:v>30.147512673</c:v>
                </c:pt>
                <c:pt idx="708">
                  <c:v>30.117508158</c:v>
                </c:pt>
                <c:pt idx="709">
                  <c:v>30.038764003</c:v>
                </c:pt>
                <c:pt idx="710">
                  <c:v>21.395147436</c:v>
                </c:pt>
                <c:pt idx="711">
                  <c:v>30.630410042</c:v>
                </c:pt>
                <c:pt idx="712">
                  <c:v>30.506774492</c:v>
                </c:pt>
                <c:pt idx="713">
                  <c:v>30.462809825</c:v>
                </c:pt>
                <c:pt idx="714">
                  <c:v>30.350898934</c:v>
                </c:pt>
                <c:pt idx="715">
                  <c:v>30.239254161</c:v>
                </c:pt>
                <c:pt idx="716">
                  <c:v>30.148583301</c:v>
                </c:pt>
                <c:pt idx="717">
                  <c:v>30.087534489</c:v>
                </c:pt>
                <c:pt idx="718">
                  <c:v>20.45453436</c:v>
                </c:pt>
                <c:pt idx="719">
                  <c:v>30.630290566</c:v>
                </c:pt>
                <c:pt idx="720">
                  <c:v>30.540469771</c:v>
                </c:pt>
                <c:pt idx="721">
                  <c:v>29.965975478</c:v>
                </c:pt>
                <c:pt idx="722">
                  <c:v>30.205290409</c:v>
                </c:pt>
                <c:pt idx="723">
                  <c:v>30.158309248</c:v>
                </c:pt>
                <c:pt idx="724">
                  <c:v>30.061475102</c:v>
                </c:pt>
                <c:pt idx="725">
                  <c:v>29.954430594</c:v>
                </c:pt>
                <c:pt idx="726">
                  <c:v>11.017873164</c:v>
                </c:pt>
                <c:pt idx="727">
                  <c:v>30.515902835</c:v>
                </c:pt>
                <c:pt idx="728">
                  <c:v>30.432941345</c:v>
                </c:pt>
                <c:pt idx="729">
                  <c:v>30.373849684</c:v>
                </c:pt>
                <c:pt idx="730">
                  <c:v>30.275161811</c:v>
                </c:pt>
                <c:pt idx="731">
                  <c:v>30.156108783</c:v>
                </c:pt>
                <c:pt idx="732">
                  <c:v>30.067748263</c:v>
                </c:pt>
                <c:pt idx="733">
                  <c:v>29.900795218</c:v>
                </c:pt>
                <c:pt idx="734">
                  <c:v>19.986653564</c:v>
                </c:pt>
                <c:pt idx="735">
                  <c:v>30.148988424</c:v>
                </c:pt>
                <c:pt idx="736">
                  <c:v>30.434533639</c:v>
                </c:pt>
                <c:pt idx="737">
                  <c:v>30.393482178</c:v>
                </c:pt>
                <c:pt idx="738">
                  <c:v>30.227410522</c:v>
                </c:pt>
                <c:pt idx="739">
                  <c:v>30.195011662</c:v>
                </c:pt>
                <c:pt idx="740">
                  <c:v>30.09076266</c:v>
                </c:pt>
                <c:pt idx="741">
                  <c:v>29.651335903</c:v>
                </c:pt>
                <c:pt idx="742">
                  <c:v>10.676963546</c:v>
                </c:pt>
                <c:pt idx="743">
                  <c:v>30.562786335</c:v>
                </c:pt>
                <c:pt idx="744">
                  <c:v>30.42362682</c:v>
                </c:pt>
                <c:pt idx="745">
                  <c:v>30.383956662</c:v>
                </c:pt>
                <c:pt idx="746">
                  <c:v>30.203024999</c:v>
                </c:pt>
                <c:pt idx="747">
                  <c:v>30.184130785</c:v>
                </c:pt>
                <c:pt idx="748">
                  <c:v>30.056067322</c:v>
                </c:pt>
                <c:pt idx="749">
                  <c:v>29.660379522</c:v>
                </c:pt>
                <c:pt idx="750">
                  <c:v>18.591408075</c:v>
                </c:pt>
                <c:pt idx="751">
                  <c:v>30.568021033</c:v>
                </c:pt>
                <c:pt idx="752">
                  <c:v>30.509470934</c:v>
                </c:pt>
                <c:pt idx="753">
                  <c:v>30.37484833</c:v>
                </c:pt>
                <c:pt idx="754">
                  <c:v>30.153156031</c:v>
                </c:pt>
                <c:pt idx="755">
                  <c:v>29.650272311</c:v>
                </c:pt>
                <c:pt idx="756">
                  <c:v>30.04611979</c:v>
                </c:pt>
                <c:pt idx="757">
                  <c:v>29.954630553</c:v>
                </c:pt>
                <c:pt idx="758">
                  <c:v>20.182287025</c:v>
                </c:pt>
                <c:pt idx="759">
                  <c:v>30.426131749</c:v>
                </c:pt>
                <c:pt idx="760">
                  <c:v>30.496082312</c:v>
                </c:pt>
                <c:pt idx="761">
                  <c:v>30.258887884</c:v>
                </c:pt>
                <c:pt idx="762">
                  <c:v>30.220576282</c:v>
                </c:pt>
                <c:pt idx="763">
                  <c:v>29.771902463</c:v>
                </c:pt>
                <c:pt idx="764">
                  <c:v>30.026531494</c:v>
                </c:pt>
                <c:pt idx="765">
                  <c:v>29.887935371</c:v>
                </c:pt>
                <c:pt idx="766">
                  <c:v>20.496470997</c:v>
                </c:pt>
                <c:pt idx="767">
                  <c:v>30.446687734</c:v>
                </c:pt>
                <c:pt idx="768">
                  <c:v>30.539430513</c:v>
                </c:pt>
                <c:pt idx="769">
                  <c:v>30.393364543</c:v>
                </c:pt>
                <c:pt idx="770">
                  <c:v>30.295017516</c:v>
                </c:pt>
                <c:pt idx="771">
                  <c:v>1.466973595</c:v>
                </c:pt>
                <c:pt idx="772">
                  <c:v>30.134324139</c:v>
                </c:pt>
                <c:pt idx="773">
                  <c:v>29.943665294</c:v>
                </c:pt>
                <c:pt idx="774">
                  <c:v>1.686738459</c:v>
                </c:pt>
                <c:pt idx="775">
                  <c:v>30.390512164</c:v>
                </c:pt>
                <c:pt idx="776">
                  <c:v>30.512671726</c:v>
                </c:pt>
                <c:pt idx="777">
                  <c:v>29.993330037</c:v>
                </c:pt>
                <c:pt idx="778">
                  <c:v>30.09638479</c:v>
                </c:pt>
                <c:pt idx="779">
                  <c:v>30.125942696</c:v>
                </c:pt>
                <c:pt idx="780">
                  <c:v>30.072440457</c:v>
                </c:pt>
                <c:pt idx="781">
                  <c:v>29.913808576</c:v>
                </c:pt>
                <c:pt idx="782">
                  <c:v>20.067134213</c:v>
                </c:pt>
                <c:pt idx="783">
                  <c:v>30.382986806</c:v>
                </c:pt>
                <c:pt idx="784">
                  <c:v>30.450111512</c:v>
                </c:pt>
                <c:pt idx="785">
                  <c:v>30.254341313</c:v>
                </c:pt>
                <c:pt idx="786">
                  <c:v>30.194315051</c:v>
                </c:pt>
                <c:pt idx="787">
                  <c:v>29.917540971</c:v>
                </c:pt>
                <c:pt idx="788">
                  <c:v>30.064784012</c:v>
                </c:pt>
                <c:pt idx="789">
                  <c:v>29.919963252</c:v>
                </c:pt>
                <c:pt idx="790">
                  <c:v>18.744030279</c:v>
                </c:pt>
                <c:pt idx="791">
                  <c:v>30.14933568</c:v>
                </c:pt>
                <c:pt idx="792">
                  <c:v>30.127069584</c:v>
                </c:pt>
                <c:pt idx="793">
                  <c:v>30.352951936</c:v>
                </c:pt>
                <c:pt idx="794">
                  <c:v>30.171460828</c:v>
                </c:pt>
                <c:pt idx="795">
                  <c:v>30.125075916</c:v>
                </c:pt>
                <c:pt idx="796">
                  <c:v>30.074139219</c:v>
                </c:pt>
                <c:pt idx="797">
                  <c:v>29.911358807</c:v>
                </c:pt>
                <c:pt idx="798">
                  <c:v>20.414241555</c:v>
                </c:pt>
                <c:pt idx="799">
                  <c:v>30.508255995</c:v>
                </c:pt>
                <c:pt idx="800">
                  <c:v>30.445625339</c:v>
                </c:pt>
                <c:pt idx="801">
                  <c:v>30.271077102</c:v>
                </c:pt>
                <c:pt idx="802">
                  <c:v>30.283538911</c:v>
                </c:pt>
                <c:pt idx="803">
                  <c:v>29.61153125</c:v>
                </c:pt>
                <c:pt idx="804">
                  <c:v>30.013448575</c:v>
                </c:pt>
                <c:pt idx="805">
                  <c:v>29.920020252</c:v>
                </c:pt>
                <c:pt idx="806">
                  <c:v>14.239232973</c:v>
                </c:pt>
                <c:pt idx="807">
                  <c:v>30.538866374</c:v>
                </c:pt>
                <c:pt idx="808">
                  <c:v>30.461598599</c:v>
                </c:pt>
                <c:pt idx="809">
                  <c:v>30.262240398</c:v>
                </c:pt>
                <c:pt idx="810">
                  <c:v>30.176243429</c:v>
                </c:pt>
                <c:pt idx="811">
                  <c:v>30.080331248</c:v>
                </c:pt>
                <c:pt idx="812">
                  <c:v>30.064755236</c:v>
                </c:pt>
                <c:pt idx="813">
                  <c:v>29.853195202</c:v>
                </c:pt>
                <c:pt idx="814">
                  <c:v>20.34253206</c:v>
                </c:pt>
                <c:pt idx="815">
                  <c:v>30.594906831</c:v>
                </c:pt>
                <c:pt idx="816">
                  <c:v>30.487350498</c:v>
                </c:pt>
                <c:pt idx="817">
                  <c:v>30.31767896</c:v>
                </c:pt>
                <c:pt idx="818">
                  <c:v>29.888731677</c:v>
                </c:pt>
                <c:pt idx="819">
                  <c:v>30.26454386</c:v>
                </c:pt>
                <c:pt idx="820">
                  <c:v>29.627730913</c:v>
                </c:pt>
                <c:pt idx="821">
                  <c:v>29.930198158</c:v>
                </c:pt>
                <c:pt idx="822">
                  <c:v>10.498380265</c:v>
                </c:pt>
                <c:pt idx="823">
                  <c:v>30.555472658</c:v>
                </c:pt>
                <c:pt idx="824">
                  <c:v>30.378020935</c:v>
                </c:pt>
                <c:pt idx="825">
                  <c:v>30.267372641</c:v>
                </c:pt>
                <c:pt idx="826">
                  <c:v>30.016460079</c:v>
                </c:pt>
                <c:pt idx="827">
                  <c:v>30.076154948</c:v>
                </c:pt>
                <c:pt idx="828">
                  <c:v>29.967690823</c:v>
                </c:pt>
                <c:pt idx="829">
                  <c:v>29.861964936</c:v>
                </c:pt>
                <c:pt idx="830">
                  <c:v>19.313648557</c:v>
                </c:pt>
                <c:pt idx="831">
                  <c:v>30.627303955</c:v>
                </c:pt>
                <c:pt idx="832">
                  <c:v>30.51794857</c:v>
                </c:pt>
                <c:pt idx="833">
                  <c:v>30.360491766</c:v>
                </c:pt>
                <c:pt idx="834">
                  <c:v>29.811319204</c:v>
                </c:pt>
                <c:pt idx="835">
                  <c:v>30.187118618</c:v>
                </c:pt>
                <c:pt idx="836">
                  <c:v>30.03896509</c:v>
                </c:pt>
                <c:pt idx="837">
                  <c:v>29.876422112</c:v>
                </c:pt>
                <c:pt idx="838">
                  <c:v>21.498515328</c:v>
                </c:pt>
                <c:pt idx="839">
                  <c:v>30.60396873</c:v>
                </c:pt>
                <c:pt idx="840">
                  <c:v>30.443353242</c:v>
                </c:pt>
                <c:pt idx="841">
                  <c:v>30.272389924</c:v>
                </c:pt>
                <c:pt idx="842">
                  <c:v>30.140396372</c:v>
                </c:pt>
                <c:pt idx="843">
                  <c:v>29.797575079</c:v>
                </c:pt>
                <c:pt idx="844">
                  <c:v>30.081425919</c:v>
                </c:pt>
                <c:pt idx="845">
                  <c:v>29.962602537</c:v>
                </c:pt>
                <c:pt idx="846">
                  <c:v>20.303571264</c:v>
                </c:pt>
                <c:pt idx="847">
                  <c:v>30.589156503</c:v>
                </c:pt>
                <c:pt idx="848">
                  <c:v>30.069532851</c:v>
                </c:pt>
                <c:pt idx="849">
                  <c:v>30.322127505</c:v>
                </c:pt>
                <c:pt idx="850">
                  <c:v>30.127647508</c:v>
                </c:pt>
                <c:pt idx="851">
                  <c:v>30.134353049</c:v>
                </c:pt>
                <c:pt idx="852">
                  <c:v>29.948375945</c:v>
                </c:pt>
                <c:pt idx="853">
                  <c:v>29.912384243</c:v>
                </c:pt>
                <c:pt idx="854">
                  <c:v>12.082162637</c:v>
                </c:pt>
                <c:pt idx="855">
                  <c:v>30.578882801</c:v>
                </c:pt>
                <c:pt idx="856">
                  <c:v>30.430523737</c:v>
                </c:pt>
                <c:pt idx="857">
                  <c:v>30.283480518</c:v>
                </c:pt>
                <c:pt idx="858">
                  <c:v>30.190716406</c:v>
                </c:pt>
                <c:pt idx="859">
                  <c:v>30.168823799</c:v>
                </c:pt>
                <c:pt idx="860">
                  <c:v>30.05445687</c:v>
                </c:pt>
                <c:pt idx="861">
                  <c:v>29.860573923</c:v>
                </c:pt>
                <c:pt idx="862">
                  <c:v>20.14968736</c:v>
                </c:pt>
                <c:pt idx="863">
                  <c:v>30.649657928</c:v>
                </c:pt>
                <c:pt idx="864">
                  <c:v>30.389894709</c:v>
                </c:pt>
                <c:pt idx="865">
                  <c:v>30.293644299</c:v>
                </c:pt>
                <c:pt idx="866">
                  <c:v>30.11332153</c:v>
                </c:pt>
                <c:pt idx="867">
                  <c:v>30.193879685</c:v>
                </c:pt>
                <c:pt idx="868">
                  <c:v>30.048332977</c:v>
                </c:pt>
                <c:pt idx="869">
                  <c:v>29.915033611</c:v>
                </c:pt>
                <c:pt idx="870">
                  <c:v>10.234324885</c:v>
                </c:pt>
                <c:pt idx="871">
                  <c:v>30.624706077</c:v>
                </c:pt>
                <c:pt idx="872">
                  <c:v>30.477085915</c:v>
                </c:pt>
                <c:pt idx="873">
                  <c:v>30.423184817</c:v>
                </c:pt>
                <c:pt idx="874">
                  <c:v>30.238118865</c:v>
                </c:pt>
                <c:pt idx="875">
                  <c:v>30.154169165</c:v>
                </c:pt>
                <c:pt idx="876">
                  <c:v>29.713042671</c:v>
                </c:pt>
                <c:pt idx="877">
                  <c:v>29.327755642</c:v>
                </c:pt>
                <c:pt idx="878">
                  <c:v>19.992339866</c:v>
                </c:pt>
                <c:pt idx="879">
                  <c:v>30.094193351</c:v>
                </c:pt>
                <c:pt idx="880">
                  <c:v>30.917825465</c:v>
                </c:pt>
                <c:pt idx="881">
                  <c:v>30.063230173</c:v>
                </c:pt>
                <c:pt idx="882">
                  <c:v>30.40289596</c:v>
                </c:pt>
                <c:pt idx="883">
                  <c:v>29.276857529</c:v>
                </c:pt>
                <c:pt idx="884">
                  <c:v>30.416320679</c:v>
                </c:pt>
                <c:pt idx="885">
                  <c:v>29.588630611</c:v>
                </c:pt>
                <c:pt idx="886">
                  <c:v>20.415395882</c:v>
                </c:pt>
                <c:pt idx="887">
                  <c:v>30.053019113</c:v>
                </c:pt>
                <c:pt idx="888">
                  <c:v>30.781815259</c:v>
                </c:pt>
                <c:pt idx="889">
                  <c:v>29.942409371</c:v>
                </c:pt>
                <c:pt idx="890">
                  <c:v>30.658123891</c:v>
                </c:pt>
                <c:pt idx="891">
                  <c:v>29.372484953</c:v>
                </c:pt>
                <c:pt idx="892">
                  <c:v>30.390159329</c:v>
                </c:pt>
                <c:pt idx="893">
                  <c:v>29.383530556</c:v>
                </c:pt>
                <c:pt idx="894">
                  <c:v>19.806671624</c:v>
                </c:pt>
                <c:pt idx="895">
                  <c:v>30.091973403</c:v>
                </c:pt>
                <c:pt idx="896">
                  <c:v>30.8290359</c:v>
                </c:pt>
                <c:pt idx="897">
                  <c:v>29.898432956</c:v>
                </c:pt>
                <c:pt idx="898">
                  <c:v>30.555205151</c:v>
                </c:pt>
                <c:pt idx="899">
                  <c:v>29.649068864</c:v>
                </c:pt>
                <c:pt idx="900">
                  <c:v>30.358848527</c:v>
                </c:pt>
                <c:pt idx="901">
                  <c:v>29.387104296</c:v>
                </c:pt>
                <c:pt idx="902">
                  <c:v>20.475788193</c:v>
                </c:pt>
                <c:pt idx="903">
                  <c:v>30.077710125</c:v>
                </c:pt>
                <c:pt idx="904">
                  <c:v>30.901674287</c:v>
                </c:pt>
                <c:pt idx="905">
                  <c:v>29.623986658</c:v>
                </c:pt>
                <c:pt idx="906">
                  <c:v>29.841907145</c:v>
                </c:pt>
                <c:pt idx="907">
                  <c:v>30.430523737</c:v>
                </c:pt>
                <c:pt idx="908">
                  <c:v>29.676772881</c:v>
                </c:pt>
                <c:pt idx="909">
                  <c:v>30.259208527</c:v>
                </c:pt>
                <c:pt idx="910">
                  <c:v>20.415263194</c:v>
                </c:pt>
                <c:pt idx="911">
                  <c:v>30.792920082</c:v>
                </c:pt>
                <c:pt idx="912">
                  <c:v>30.047326943</c:v>
                </c:pt>
                <c:pt idx="913">
                  <c:v>30.707877224</c:v>
                </c:pt>
                <c:pt idx="914">
                  <c:v>29.810611892</c:v>
                </c:pt>
                <c:pt idx="915">
                  <c:v>30.473094356</c:v>
                </c:pt>
                <c:pt idx="916">
                  <c:v>29.736417881</c:v>
                </c:pt>
                <c:pt idx="917">
                  <c:v>30.31779601</c:v>
                </c:pt>
                <c:pt idx="918">
                  <c:v>0.532637352</c:v>
                </c:pt>
                <c:pt idx="919">
                  <c:v>30.064899118</c:v>
                </c:pt>
                <c:pt idx="920">
                  <c:v>30.497888498</c:v>
                </c:pt>
                <c:pt idx="921">
                  <c:v>30.416143961</c:v>
                </c:pt>
                <c:pt idx="922">
                  <c:v>30.109742164</c:v>
                </c:pt>
                <c:pt idx="923">
                  <c:v>30.114534089</c:v>
                </c:pt>
                <c:pt idx="924">
                  <c:v>29.969091835</c:v>
                </c:pt>
                <c:pt idx="925">
                  <c:v>29.904467426</c:v>
                </c:pt>
                <c:pt idx="926">
                  <c:v>11.649961773</c:v>
                </c:pt>
                <c:pt idx="927">
                  <c:v>30.424599273</c:v>
                </c:pt>
                <c:pt idx="928">
                  <c:v>30.405014864</c:v>
                </c:pt>
                <c:pt idx="929">
                  <c:v>30.234451567</c:v>
                </c:pt>
                <c:pt idx="930">
                  <c:v>30.164825668</c:v>
                </c:pt>
                <c:pt idx="931">
                  <c:v>30.019041849</c:v>
                </c:pt>
                <c:pt idx="932">
                  <c:v>29.864747352</c:v>
                </c:pt>
                <c:pt idx="933">
                  <c:v>29.72752478</c:v>
                </c:pt>
                <c:pt idx="934">
                  <c:v>21.827964496</c:v>
                </c:pt>
                <c:pt idx="935">
                  <c:v>30.259295976</c:v>
                </c:pt>
                <c:pt idx="936">
                  <c:v>30.282954991</c:v>
                </c:pt>
                <c:pt idx="937">
                  <c:v>30.224356543</c:v>
                </c:pt>
                <c:pt idx="938">
                  <c:v>30.075291031</c:v>
                </c:pt>
                <c:pt idx="939">
                  <c:v>29.97155107</c:v>
                </c:pt>
                <c:pt idx="940">
                  <c:v>29.967919551</c:v>
                </c:pt>
                <c:pt idx="941">
                  <c:v>29.512790627</c:v>
                </c:pt>
                <c:pt idx="942">
                  <c:v>19.689950649</c:v>
                </c:pt>
                <c:pt idx="943">
                  <c:v>30.525600271</c:v>
                </c:pt>
                <c:pt idx="944">
                  <c:v>30.27629989</c:v>
                </c:pt>
                <c:pt idx="945">
                  <c:v>30.076154948</c:v>
                </c:pt>
                <c:pt idx="946">
                  <c:v>30.169895942</c:v>
                </c:pt>
                <c:pt idx="947">
                  <c:v>30.009950254</c:v>
                </c:pt>
                <c:pt idx="948">
                  <c:v>29.879036691</c:v>
                </c:pt>
                <c:pt idx="949">
                  <c:v>29.778845801</c:v>
                </c:pt>
                <c:pt idx="950">
                  <c:v>10.950134591</c:v>
                </c:pt>
                <c:pt idx="951">
                  <c:v>30.438249638</c:v>
                </c:pt>
                <c:pt idx="952">
                  <c:v>30.377785905</c:v>
                </c:pt>
                <c:pt idx="953">
                  <c:v>30.279014117</c:v>
                </c:pt>
                <c:pt idx="954">
                  <c:v>30.254982413</c:v>
                </c:pt>
                <c:pt idx="955">
                  <c:v>29.779692771</c:v>
                </c:pt>
                <c:pt idx="956">
                  <c:v>29.976556573</c:v>
                </c:pt>
                <c:pt idx="957">
                  <c:v>29.830797602</c:v>
                </c:pt>
                <c:pt idx="958">
                  <c:v>12.812466004</c:v>
                </c:pt>
                <c:pt idx="959">
                  <c:v>30.569359738</c:v>
                </c:pt>
                <c:pt idx="960">
                  <c:v>30.409459638</c:v>
                </c:pt>
                <c:pt idx="961">
                  <c:v>30.262881833</c:v>
                </c:pt>
                <c:pt idx="962">
                  <c:v>30.177084164</c:v>
                </c:pt>
                <c:pt idx="963">
                  <c:v>30.142536695</c:v>
                </c:pt>
                <c:pt idx="964">
                  <c:v>30.033938725</c:v>
                </c:pt>
                <c:pt idx="965">
                  <c:v>29.960973507</c:v>
                </c:pt>
                <c:pt idx="966">
                  <c:v>20.904130639</c:v>
                </c:pt>
                <c:pt idx="967">
                  <c:v>30.497592387</c:v>
                </c:pt>
                <c:pt idx="968">
                  <c:v>30.38357459</c:v>
                </c:pt>
                <c:pt idx="969">
                  <c:v>29.976785436</c:v>
                </c:pt>
                <c:pt idx="970">
                  <c:v>29.615104825</c:v>
                </c:pt>
                <c:pt idx="971">
                  <c:v>30.20941549</c:v>
                </c:pt>
                <c:pt idx="972">
                  <c:v>30.164130449</c:v>
                </c:pt>
                <c:pt idx="973">
                  <c:v>30.257313916</c:v>
                </c:pt>
                <c:pt idx="974">
                  <c:v>19.937861783</c:v>
                </c:pt>
                <c:pt idx="975">
                  <c:v>30.53536324</c:v>
                </c:pt>
                <c:pt idx="976">
                  <c:v>30.385220507</c:v>
                </c:pt>
                <c:pt idx="977">
                  <c:v>30.284122854</c:v>
                </c:pt>
                <c:pt idx="978">
                  <c:v>30.076558127</c:v>
                </c:pt>
                <c:pt idx="979">
                  <c:v>30.131173325</c:v>
                </c:pt>
                <c:pt idx="980">
                  <c:v>30.017693536</c:v>
                </c:pt>
                <c:pt idx="981">
                  <c:v>29.940240297</c:v>
                </c:pt>
                <c:pt idx="982">
                  <c:v>17.170138096</c:v>
                </c:pt>
                <c:pt idx="983">
                  <c:v>30.024608508</c:v>
                </c:pt>
                <c:pt idx="984">
                  <c:v>30.32198115</c:v>
                </c:pt>
                <c:pt idx="985">
                  <c:v>30.210548631</c:v>
                </c:pt>
                <c:pt idx="986">
                  <c:v>30.192428557</c:v>
                </c:pt>
                <c:pt idx="987">
                  <c:v>29.835189417</c:v>
                </c:pt>
                <c:pt idx="988">
                  <c:v>29.930369274</c:v>
                </c:pt>
                <c:pt idx="989">
                  <c:v>29.871677252</c:v>
                </c:pt>
                <c:pt idx="990">
                  <c:v>19.716411749</c:v>
                </c:pt>
                <c:pt idx="991">
                  <c:v>30.566236276</c:v>
                </c:pt>
                <c:pt idx="992">
                  <c:v>30.299284049</c:v>
                </c:pt>
                <c:pt idx="993">
                  <c:v>30.290401662</c:v>
                </c:pt>
                <c:pt idx="994">
                  <c:v>30.066798488</c:v>
                </c:pt>
                <c:pt idx="995">
                  <c:v>30.059720237</c:v>
                </c:pt>
                <c:pt idx="996">
                  <c:v>29.945149703</c:v>
                </c:pt>
                <c:pt idx="997">
                  <c:v>29.558893209</c:v>
                </c:pt>
                <c:pt idx="998">
                  <c:v>10.801124019</c:v>
                </c:pt>
                <c:pt idx="999">
                  <c:v>30.364600643</c:v>
                </c:pt>
                <c:pt idx="1000">
                  <c:v>30.283100969</c:v>
                </c:pt>
              </c:numCache>
            </c:numRef>
          </c:yVal>
          <c:smooth val="0"/>
        </c:ser>
        <c:ser>
          <c:idx val="5"/>
          <c:order val="5"/>
          <c:tx>
            <c:strRef>
              <c:f>label 10</c:f>
              <c:strCache>
                <c:ptCount val="1"/>
                <c:pt idx="0">
                  <c:v>64 KB</c:v>
                </c:pt>
              </c:strCache>
            </c:strRef>
          </c:tx>
          <c:spPr>
            <a:solidFill>
              <a:srgbClr val="ffffff"/>
            </a:solidFill>
            <a:ln w="28440">
              <a:noFill/>
            </a:ln>
          </c:spPr>
          <c:marker>
            <c:symbol val="circle"/>
            <c:size val="5"/>
            <c:spPr>
              <a:noFill/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1</c:f>
              <c:numCache>
                <c:formatCode>General</c:formatCode>
                <c:ptCount val="1001"/>
                <c:pt idx="0">
                  <c:v>65536</c:v>
                </c:pt>
                <c:pt idx="1">
                  <c:v>65536</c:v>
                </c:pt>
                <c:pt idx="2">
                  <c:v>65536</c:v>
                </c:pt>
                <c:pt idx="3">
                  <c:v>65536</c:v>
                </c:pt>
                <c:pt idx="4">
                  <c:v>65536</c:v>
                </c:pt>
                <c:pt idx="5">
                  <c:v>65536</c:v>
                </c:pt>
                <c:pt idx="6">
                  <c:v>65536</c:v>
                </c:pt>
                <c:pt idx="7">
                  <c:v>65536</c:v>
                </c:pt>
                <c:pt idx="8">
                  <c:v>65536</c:v>
                </c:pt>
                <c:pt idx="9">
                  <c:v>65536</c:v>
                </c:pt>
                <c:pt idx="10">
                  <c:v>65536</c:v>
                </c:pt>
                <c:pt idx="11">
                  <c:v>65536</c:v>
                </c:pt>
                <c:pt idx="12">
                  <c:v>65536</c:v>
                </c:pt>
                <c:pt idx="13">
                  <c:v>65536</c:v>
                </c:pt>
                <c:pt idx="14">
                  <c:v>65536</c:v>
                </c:pt>
                <c:pt idx="15">
                  <c:v>65536</c:v>
                </c:pt>
                <c:pt idx="16">
                  <c:v>65536</c:v>
                </c:pt>
                <c:pt idx="17">
                  <c:v>65536</c:v>
                </c:pt>
                <c:pt idx="18">
                  <c:v>65536</c:v>
                </c:pt>
                <c:pt idx="19">
                  <c:v>65536</c:v>
                </c:pt>
                <c:pt idx="20">
                  <c:v>65536</c:v>
                </c:pt>
                <c:pt idx="21">
                  <c:v>65536</c:v>
                </c:pt>
                <c:pt idx="22">
                  <c:v>65536</c:v>
                </c:pt>
                <c:pt idx="23">
                  <c:v>65536</c:v>
                </c:pt>
                <c:pt idx="24">
                  <c:v>65536</c:v>
                </c:pt>
                <c:pt idx="25">
                  <c:v>65536</c:v>
                </c:pt>
                <c:pt idx="26">
                  <c:v>65536</c:v>
                </c:pt>
                <c:pt idx="27">
                  <c:v>65536</c:v>
                </c:pt>
                <c:pt idx="28">
                  <c:v>65536</c:v>
                </c:pt>
                <c:pt idx="29">
                  <c:v>65536</c:v>
                </c:pt>
                <c:pt idx="30">
                  <c:v>65536</c:v>
                </c:pt>
                <c:pt idx="31">
                  <c:v>65536</c:v>
                </c:pt>
                <c:pt idx="32">
                  <c:v>65536</c:v>
                </c:pt>
                <c:pt idx="33">
                  <c:v>65536</c:v>
                </c:pt>
                <c:pt idx="34">
                  <c:v>65536</c:v>
                </c:pt>
                <c:pt idx="35">
                  <c:v>65536</c:v>
                </c:pt>
                <c:pt idx="36">
                  <c:v>65536</c:v>
                </c:pt>
                <c:pt idx="37">
                  <c:v>65536</c:v>
                </c:pt>
                <c:pt idx="38">
                  <c:v>65536</c:v>
                </c:pt>
                <c:pt idx="39">
                  <c:v>65536</c:v>
                </c:pt>
                <c:pt idx="40">
                  <c:v>65536</c:v>
                </c:pt>
                <c:pt idx="41">
                  <c:v>65536</c:v>
                </c:pt>
                <c:pt idx="42">
                  <c:v>65536</c:v>
                </c:pt>
                <c:pt idx="43">
                  <c:v>65536</c:v>
                </c:pt>
                <c:pt idx="44">
                  <c:v>65536</c:v>
                </c:pt>
                <c:pt idx="45">
                  <c:v>65536</c:v>
                </c:pt>
                <c:pt idx="46">
                  <c:v>65536</c:v>
                </c:pt>
                <c:pt idx="47">
                  <c:v>65536</c:v>
                </c:pt>
                <c:pt idx="48">
                  <c:v>65536</c:v>
                </c:pt>
                <c:pt idx="49">
                  <c:v>65536</c:v>
                </c:pt>
                <c:pt idx="50">
                  <c:v>65536</c:v>
                </c:pt>
                <c:pt idx="51">
                  <c:v>65536</c:v>
                </c:pt>
                <c:pt idx="52">
                  <c:v>65536</c:v>
                </c:pt>
                <c:pt idx="53">
                  <c:v>65536</c:v>
                </c:pt>
                <c:pt idx="54">
                  <c:v>65536</c:v>
                </c:pt>
                <c:pt idx="55">
                  <c:v>65536</c:v>
                </c:pt>
                <c:pt idx="56">
                  <c:v>65536</c:v>
                </c:pt>
                <c:pt idx="57">
                  <c:v>65536</c:v>
                </c:pt>
                <c:pt idx="58">
                  <c:v>65536</c:v>
                </c:pt>
                <c:pt idx="59">
                  <c:v>65536</c:v>
                </c:pt>
                <c:pt idx="60">
                  <c:v>65536</c:v>
                </c:pt>
                <c:pt idx="61">
                  <c:v>65536</c:v>
                </c:pt>
                <c:pt idx="62">
                  <c:v>65536</c:v>
                </c:pt>
                <c:pt idx="63">
                  <c:v>65536</c:v>
                </c:pt>
                <c:pt idx="64">
                  <c:v>65536</c:v>
                </c:pt>
                <c:pt idx="65">
                  <c:v>65536</c:v>
                </c:pt>
                <c:pt idx="66">
                  <c:v>65536</c:v>
                </c:pt>
                <c:pt idx="67">
                  <c:v>65536</c:v>
                </c:pt>
                <c:pt idx="68">
                  <c:v>65536</c:v>
                </c:pt>
                <c:pt idx="69">
                  <c:v>65536</c:v>
                </c:pt>
                <c:pt idx="70">
                  <c:v>65536</c:v>
                </c:pt>
                <c:pt idx="71">
                  <c:v>65536</c:v>
                </c:pt>
                <c:pt idx="72">
                  <c:v>65536</c:v>
                </c:pt>
                <c:pt idx="73">
                  <c:v>65536</c:v>
                </c:pt>
                <c:pt idx="74">
                  <c:v>65536</c:v>
                </c:pt>
                <c:pt idx="75">
                  <c:v>65536</c:v>
                </c:pt>
                <c:pt idx="76">
                  <c:v>65536</c:v>
                </c:pt>
                <c:pt idx="77">
                  <c:v>65536</c:v>
                </c:pt>
                <c:pt idx="78">
                  <c:v>65536</c:v>
                </c:pt>
                <c:pt idx="79">
                  <c:v>65536</c:v>
                </c:pt>
                <c:pt idx="80">
                  <c:v>65536</c:v>
                </c:pt>
                <c:pt idx="81">
                  <c:v>65536</c:v>
                </c:pt>
                <c:pt idx="82">
                  <c:v>65536</c:v>
                </c:pt>
                <c:pt idx="83">
                  <c:v>65536</c:v>
                </c:pt>
                <c:pt idx="84">
                  <c:v>65536</c:v>
                </c:pt>
                <c:pt idx="85">
                  <c:v>65536</c:v>
                </c:pt>
                <c:pt idx="86">
                  <c:v>65536</c:v>
                </c:pt>
                <c:pt idx="87">
                  <c:v>65536</c:v>
                </c:pt>
                <c:pt idx="88">
                  <c:v>65536</c:v>
                </c:pt>
                <c:pt idx="89">
                  <c:v>65536</c:v>
                </c:pt>
                <c:pt idx="90">
                  <c:v>65536</c:v>
                </c:pt>
                <c:pt idx="91">
                  <c:v>65536</c:v>
                </c:pt>
                <c:pt idx="92">
                  <c:v>65536</c:v>
                </c:pt>
                <c:pt idx="93">
                  <c:v>65536</c:v>
                </c:pt>
                <c:pt idx="94">
                  <c:v>65536</c:v>
                </c:pt>
                <c:pt idx="95">
                  <c:v>65536</c:v>
                </c:pt>
                <c:pt idx="96">
                  <c:v>65536</c:v>
                </c:pt>
                <c:pt idx="97">
                  <c:v>65536</c:v>
                </c:pt>
                <c:pt idx="98">
                  <c:v>65536</c:v>
                </c:pt>
                <c:pt idx="99">
                  <c:v>65536</c:v>
                </c:pt>
                <c:pt idx="100">
                  <c:v>65536</c:v>
                </c:pt>
                <c:pt idx="101">
                  <c:v>65536</c:v>
                </c:pt>
                <c:pt idx="102">
                  <c:v>65536</c:v>
                </c:pt>
                <c:pt idx="103">
                  <c:v>65536</c:v>
                </c:pt>
                <c:pt idx="104">
                  <c:v>65536</c:v>
                </c:pt>
                <c:pt idx="105">
                  <c:v>65536</c:v>
                </c:pt>
                <c:pt idx="106">
                  <c:v>65536</c:v>
                </c:pt>
                <c:pt idx="107">
                  <c:v>65536</c:v>
                </c:pt>
                <c:pt idx="108">
                  <c:v>65536</c:v>
                </c:pt>
                <c:pt idx="109">
                  <c:v>65536</c:v>
                </c:pt>
                <c:pt idx="110">
                  <c:v>65536</c:v>
                </c:pt>
                <c:pt idx="111">
                  <c:v>65536</c:v>
                </c:pt>
                <c:pt idx="112">
                  <c:v>65536</c:v>
                </c:pt>
                <c:pt idx="113">
                  <c:v>65536</c:v>
                </c:pt>
                <c:pt idx="114">
                  <c:v>65536</c:v>
                </c:pt>
                <c:pt idx="115">
                  <c:v>65536</c:v>
                </c:pt>
                <c:pt idx="116">
                  <c:v>65536</c:v>
                </c:pt>
                <c:pt idx="117">
                  <c:v>65536</c:v>
                </c:pt>
                <c:pt idx="118">
                  <c:v>65536</c:v>
                </c:pt>
                <c:pt idx="119">
                  <c:v>65536</c:v>
                </c:pt>
                <c:pt idx="120">
                  <c:v>65536</c:v>
                </c:pt>
                <c:pt idx="121">
                  <c:v>65536</c:v>
                </c:pt>
                <c:pt idx="122">
                  <c:v>65536</c:v>
                </c:pt>
                <c:pt idx="123">
                  <c:v>65536</c:v>
                </c:pt>
                <c:pt idx="124">
                  <c:v>65536</c:v>
                </c:pt>
                <c:pt idx="125">
                  <c:v>65536</c:v>
                </c:pt>
                <c:pt idx="126">
                  <c:v>65536</c:v>
                </c:pt>
                <c:pt idx="127">
                  <c:v>65536</c:v>
                </c:pt>
                <c:pt idx="128">
                  <c:v>65536</c:v>
                </c:pt>
                <c:pt idx="129">
                  <c:v>65536</c:v>
                </c:pt>
                <c:pt idx="130">
                  <c:v>65536</c:v>
                </c:pt>
                <c:pt idx="131">
                  <c:v>65536</c:v>
                </c:pt>
                <c:pt idx="132">
                  <c:v>65536</c:v>
                </c:pt>
                <c:pt idx="133">
                  <c:v>65536</c:v>
                </c:pt>
                <c:pt idx="134">
                  <c:v>65536</c:v>
                </c:pt>
                <c:pt idx="135">
                  <c:v>65536</c:v>
                </c:pt>
                <c:pt idx="136">
                  <c:v>65536</c:v>
                </c:pt>
                <c:pt idx="137">
                  <c:v>65536</c:v>
                </c:pt>
                <c:pt idx="138">
                  <c:v>65536</c:v>
                </c:pt>
                <c:pt idx="139">
                  <c:v>65536</c:v>
                </c:pt>
                <c:pt idx="140">
                  <c:v>65536</c:v>
                </c:pt>
                <c:pt idx="141">
                  <c:v>65536</c:v>
                </c:pt>
                <c:pt idx="142">
                  <c:v>65536</c:v>
                </c:pt>
                <c:pt idx="143">
                  <c:v>65536</c:v>
                </c:pt>
                <c:pt idx="144">
                  <c:v>65536</c:v>
                </c:pt>
                <c:pt idx="145">
                  <c:v>65536</c:v>
                </c:pt>
                <c:pt idx="146">
                  <c:v>65536</c:v>
                </c:pt>
                <c:pt idx="147">
                  <c:v>65536</c:v>
                </c:pt>
                <c:pt idx="148">
                  <c:v>65536</c:v>
                </c:pt>
                <c:pt idx="149">
                  <c:v>65536</c:v>
                </c:pt>
                <c:pt idx="150">
                  <c:v>65536</c:v>
                </c:pt>
                <c:pt idx="151">
                  <c:v>65536</c:v>
                </c:pt>
                <c:pt idx="152">
                  <c:v>65536</c:v>
                </c:pt>
                <c:pt idx="153">
                  <c:v>65536</c:v>
                </c:pt>
                <c:pt idx="154">
                  <c:v>65536</c:v>
                </c:pt>
                <c:pt idx="155">
                  <c:v>65536</c:v>
                </c:pt>
                <c:pt idx="156">
                  <c:v>65536</c:v>
                </c:pt>
                <c:pt idx="157">
                  <c:v>65536</c:v>
                </c:pt>
                <c:pt idx="158">
                  <c:v>65536</c:v>
                </c:pt>
                <c:pt idx="159">
                  <c:v>65536</c:v>
                </c:pt>
                <c:pt idx="160">
                  <c:v>65536</c:v>
                </c:pt>
                <c:pt idx="161">
                  <c:v>65536</c:v>
                </c:pt>
                <c:pt idx="162">
                  <c:v>65536</c:v>
                </c:pt>
                <c:pt idx="163">
                  <c:v>65536</c:v>
                </c:pt>
                <c:pt idx="164">
                  <c:v>65536</c:v>
                </c:pt>
                <c:pt idx="165">
                  <c:v>65536</c:v>
                </c:pt>
                <c:pt idx="166">
                  <c:v>65536</c:v>
                </c:pt>
                <c:pt idx="167">
                  <c:v>65536</c:v>
                </c:pt>
                <c:pt idx="168">
                  <c:v>65536</c:v>
                </c:pt>
                <c:pt idx="169">
                  <c:v>65536</c:v>
                </c:pt>
                <c:pt idx="170">
                  <c:v>65536</c:v>
                </c:pt>
                <c:pt idx="171">
                  <c:v>65536</c:v>
                </c:pt>
                <c:pt idx="172">
                  <c:v>65536</c:v>
                </c:pt>
                <c:pt idx="173">
                  <c:v>65536</c:v>
                </c:pt>
                <c:pt idx="174">
                  <c:v>65536</c:v>
                </c:pt>
                <c:pt idx="175">
                  <c:v>65536</c:v>
                </c:pt>
                <c:pt idx="176">
                  <c:v>65536</c:v>
                </c:pt>
                <c:pt idx="177">
                  <c:v>65536</c:v>
                </c:pt>
                <c:pt idx="178">
                  <c:v>65536</c:v>
                </c:pt>
                <c:pt idx="179">
                  <c:v>65536</c:v>
                </c:pt>
                <c:pt idx="180">
                  <c:v>65536</c:v>
                </c:pt>
                <c:pt idx="181">
                  <c:v>65536</c:v>
                </c:pt>
                <c:pt idx="182">
                  <c:v>65536</c:v>
                </c:pt>
                <c:pt idx="183">
                  <c:v>65536</c:v>
                </c:pt>
                <c:pt idx="184">
                  <c:v>65536</c:v>
                </c:pt>
                <c:pt idx="185">
                  <c:v>65536</c:v>
                </c:pt>
                <c:pt idx="186">
                  <c:v>65536</c:v>
                </c:pt>
                <c:pt idx="187">
                  <c:v>65536</c:v>
                </c:pt>
                <c:pt idx="188">
                  <c:v>65536</c:v>
                </c:pt>
                <c:pt idx="189">
                  <c:v>65536</c:v>
                </c:pt>
                <c:pt idx="190">
                  <c:v>65536</c:v>
                </c:pt>
                <c:pt idx="191">
                  <c:v>65536</c:v>
                </c:pt>
                <c:pt idx="192">
                  <c:v>65536</c:v>
                </c:pt>
                <c:pt idx="193">
                  <c:v>65536</c:v>
                </c:pt>
                <c:pt idx="194">
                  <c:v>65536</c:v>
                </c:pt>
                <c:pt idx="195">
                  <c:v>65536</c:v>
                </c:pt>
                <c:pt idx="196">
                  <c:v>65536</c:v>
                </c:pt>
                <c:pt idx="197">
                  <c:v>65536</c:v>
                </c:pt>
                <c:pt idx="198">
                  <c:v>65536</c:v>
                </c:pt>
                <c:pt idx="199">
                  <c:v>65536</c:v>
                </c:pt>
                <c:pt idx="200">
                  <c:v>65536</c:v>
                </c:pt>
                <c:pt idx="201">
                  <c:v>65536</c:v>
                </c:pt>
                <c:pt idx="202">
                  <c:v>65536</c:v>
                </c:pt>
                <c:pt idx="203">
                  <c:v>65536</c:v>
                </c:pt>
                <c:pt idx="204">
                  <c:v>65536</c:v>
                </c:pt>
                <c:pt idx="205">
                  <c:v>65536</c:v>
                </c:pt>
                <c:pt idx="206">
                  <c:v>65536</c:v>
                </c:pt>
                <c:pt idx="207">
                  <c:v>65536</c:v>
                </c:pt>
                <c:pt idx="208">
                  <c:v>65536</c:v>
                </c:pt>
                <c:pt idx="209">
                  <c:v>65536</c:v>
                </c:pt>
                <c:pt idx="210">
                  <c:v>65536</c:v>
                </c:pt>
                <c:pt idx="211">
                  <c:v>65536</c:v>
                </c:pt>
                <c:pt idx="212">
                  <c:v>65536</c:v>
                </c:pt>
                <c:pt idx="213">
                  <c:v>65536</c:v>
                </c:pt>
                <c:pt idx="214">
                  <c:v>65536</c:v>
                </c:pt>
                <c:pt idx="215">
                  <c:v>65536</c:v>
                </c:pt>
                <c:pt idx="216">
                  <c:v>65536</c:v>
                </c:pt>
                <c:pt idx="217">
                  <c:v>65536</c:v>
                </c:pt>
                <c:pt idx="218">
                  <c:v>65536</c:v>
                </c:pt>
                <c:pt idx="219">
                  <c:v>65536</c:v>
                </c:pt>
                <c:pt idx="220">
                  <c:v>65536</c:v>
                </c:pt>
                <c:pt idx="221">
                  <c:v>65536</c:v>
                </c:pt>
                <c:pt idx="222">
                  <c:v>65536</c:v>
                </c:pt>
                <c:pt idx="223">
                  <c:v>65536</c:v>
                </c:pt>
                <c:pt idx="224">
                  <c:v>65536</c:v>
                </c:pt>
                <c:pt idx="225">
                  <c:v>65536</c:v>
                </c:pt>
                <c:pt idx="226">
                  <c:v>65536</c:v>
                </c:pt>
                <c:pt idx="227">
                  <c:v>65536</c:v>
                </c:pt>
                <c:pt idx="228">
                  <c:v>65536</c:v>
                </c:pt>
                <c:pt idx="229">
                  <c:v>65536</c:v>
                </c:pt>
                <c:pt idx="230">
                  <c:v>65536</c:v>
                </c:pt>
                <c:pt idx="231">
                  <c:v>65536</c:v>
                </c:pt>
                <c:pt idx="232">
                  <c:v>65536</c:v>
                </c:pt>
                <c:pt idx="233">
                  <c:v>65536</c:v>
                </c:pt>
                <c:pt idx="234">
                  <c:v>65536</c:v>
                </c:pt>
                <c:pt idx="235">
                  <c:v>65536</c:v>
                </c:pt>
                <c:pt idx="236">
                  <c:v>65536</c:v>
                </c:pt>
                <c:pt idx="237">
                  <c:v>65536</c:v>
                </c:pt>
                <c:pt idx="238">
                  <c:v>65536</c:v>
                </c:pt>
                <c:pt idx="239">
                  <c:v>65536</c:v>
                </c:pt>
                <c:pt idx="240">
                  <c:v>65536</c:v>
                </c:pt>
                <c:pt idx="241">
                  <c:v>65536</c:v>
                </c:pt>
                <c:pt idx="242">
                  <c:v>65536</c:v>
                </c:pt>
                <c:pt idx="243">
                  <c:v>65536</c:v>
                </c:pt>
                <c:pt idx="244">
                  <c:v>65536</c:v>
                </c:pt>
                <c:pt idx="245">
                  <c:v>65536</c:v>
                </c:pt>
                <c:pt idx="246">
                  <c:v>65536</c:v>
                </c:pt>
                <c:pt idx="247">
                  <c:v>65536</c:v>
                </c:pt>
                <c:pt idx="248">
                  <c:v>65536</c:v>
                </c:pt>
                <c:pt idx="249">
                  <c:v>65536</c:v>
                </c:pt>
                <c:pt idx="250">
                  <c:v>65536</c:v>
                </c:pt>
                <c:pt idx="251">
                  <c:v>65536</c:v>
                </c:pt>
                <c:pt idx="252">
                  <c:v>65536</c:v>
                </c:pt>
                <c:pt idx="253">
                  <c:v>65536</c:v>
                </c:pt>
                <c:pt idx="254">
                  <c:v>65536</c:v>
                </c:pt>
                <c:pt idx="255">
                  <c:v>65536</c:v>
                </c:pt>
                <c:pt idx="256">
                  <c:v>65536</c:v>
                </c:pt>
                <c:pt idx="257">
                  <c:v>65536</c:v>
                </c:pt>
                <c:pt idx="258">
                  <c:v>65536</c:v>
                </c:pt>
                <c:pt idx="259">
                  <c:v>65536</c:v>
                </c:pt>
                <c:pt idx="260">
                  <c:v>65536</c:v>
                </c:pt>
                <c:pt idx="261">
                  <c:v>65536</c:v>
                </c:pt>
                <c:pt idx="262">
                  <c:v>65536</c:v>
                </c:pt>
                <c:pt idx="263">
                  <c:v>65536</c:v>
                </c:pt>
                <c:pt idx="264">
                  <c:v>65536</c:v>
                </c:pt>
                <c:pt idx="265">
                  <c:v>65536</c:v>
                </c:pt>
                <c:pt idx="266">
                  <c:v>65536</c:v>
                </c:pt>
                <c:pt idx="267">
                  <c:v>65536</c:v>
                </c:pt>
                <c:pt idx="268">
                  <c:v>65536</c:v>
                </c:pt>
                <c:pt idx="269">
                  <c:v>65536</c:v>
                </c:pt>
                <c:pt idx="270">
                  <c:v>65536</c:v>
                </c:pt>
                <c:pt idx="271">
                  <c:v>65536</c:v>
                </c:pt>
                <c:pt idx="272">
                  <c:v>65536</c:v>
                </c:pt>
                <c:pt idx="273">
                  <c:v>65536</c:v>
                </c:pt>
                <c:pt idx="274">
                  <c:v>65536</c:v>
                </c:pt>
                <c:pt idx="275">
                  <c:v>65536</c:v>
                </c:pt>
                <c:pt idx="276">
                  <c:v>65536</c:v>
                </c:pt>
                <c:pt idx="277">
                  <c:v>65536</c:v>
                </c:pt>
                <c:pt idx="278">
                  <c:v>65536</c:v>
                </c:pt>
                <c:pt idx="279">
                  <c:v>65536</c:v>
                </c:pt>
                <c:pt idx="280">
                  <c:v>65536</c:v>
                </c:pt>
                <c:pt idx="281">
                  <c:v>65536</c:v>
                </c:pt>
                <c:pt idx="282">
                  <c:v>65536</c:v>
                </c:pt>
                <c:pt idx="283">
                  <c:v>65536</c:v>
                </c:pt>
                <c:pt idx="284">
                  <c:v>65536</c:v>
                </c:pt>
                <c:pt idx="285">
                  <c:v>65536</c:v>
                </c:pt>
                <c:pt idx="286">
                  <c:v>65536</c:v>
                </c:pt>
                <c:pt idx="287">
                  <c:v>65536</c:v>
                </c:pt>
                <c:pt idx="288">
                  <c:v>65536</c:v>
                </c:pt>
                <c:pt idx="289">
                  <c:v>65536</c:v>
                </c:pt>
                <c:pt idx="290">
                  <c:v>65536</c:v>
                </c:pt>
                <c:pt idx="291">
                  <c:v>65536</c:v>
                </c:pt>
                <c:pt idx="292">
                  <c:v>65536</c:v>
                </c:pt>
                <c:pt idx="293">
                  <c:v>65536</c:v>
                </c:pt>
                <c:pt idx="294">
                  <c:v>65536</c:v>
                </c:pt>
                <c:pt idx="295">
                  <c:v>65536</c:v>
                </c:pt>
                <c:pt idx="296">
                  <c:v>65536</c:v>
                </c:pt>
                <c:pt idx="297">
                  <c:v>65536</c:v>
                </c:pt>
                <c:pt idx="298">
                  <c:v>65536</c:v>
                </c:pt>
                <c:pt idx="299">
                  <c:v>65536</c:v>
                </c:pt>
                <c:pt idx="300">
                  <c:v>65536</c:v>
                </c:pt>
                <c:pt idx="301">
                  <c:v>65536</c:v>
                </c:pt>
                <c:pt idx="302">
                  <c:v>65536</c:v>
                </c:pt>
                <c:pt idx="303">
                  <c:v>65536</c:v>
                </c:pt>
                <c:pt idx="304">
                  <c:v>65536</c:v>
                </c:pt>
                <c:pt idx="305">
                  <c:v>65536</c:v>
                </c:pt>
                <c:pt idx="306">
                  <c:v>65536</c:v>
                </c:pt>
                <c:pt idx="307">
                  <c:v>65536</c:v>
                </c:pt>
                <c:pt idx="308">
                  <c:v>65536</c:v>
                </c:pt>
                <c:pt idx="309">
                  <c:v>65536</c:v>
                </c:pt>
                <c:pt idx="310">
                  <c:v>65536</c:v>
                </c:pt>
                <c:pt idx="311">
                  <c:v>65536</c:v>
                </c:pt>
                <c:pt idx="312">
                  <c:v>65536</c:v>
                </c:pt>
                <c:pt idx="313">
                  <c:v>65536</c:v>
                </c:pt>
                <c:pt idx="314">
                  <c:v>65536</c:v>
                </c:pt>
                <c:pt idx="315">
                  <c:v>65536</c:v>
                </c:pt>
                <c:pt idx="316">
                  <c:v>65536</c:v>
                </c:pt>
                <c:pt idx="317">
                  <c:v>65536</c:v>
                </c:pt>
                <c:pt idx="318">
                  <c:v>65536</c:v>
                </c:pt>
                <c:pt idx="319">
                  <c:v>65536</c:v>
                </c:pt>
                <c:pt idx="320">
                  <c:v>65536</c:v>
                </c:pt>
                <c:pt idx="321">
                  <c:v>65536</c:v>
                </c:pt>
                <c:pt idx="322">
                  <c:v>65536</c:v>
                </c:pt>
                <c:pt idx="323">
                  <c:v>65536</c:v>
                </c:pt>
                <c:pt idx="324">
                  <c:v>65536</c:v>
                </c:pt>
                <c:pt idx="325">
                  <c:v>65536</c:v>
                </c:pt>
                <c:pt idx="326">
                  <c:v>65536</c:v>
                </c:pt>
                <c:pt idx="327">
                  <c:v>65536</c:v>
                </c:pt>
                <c:pt idx="328">
                  <c:v>65536</c:v>
                </c:pt>
                <c:pt idx="329">
                  <c:v>65536</c:v>
                </c:pt>
                <c:pt idx="330">
                  <c:v>65536</c:v>
                </c:pt>
                <c:pt idx="331">
                  <c:v>65536</c:v>
                </c:pt>
                <c:pt idx="332">
                  <c:v>65536</c:v>
                </c:pt>
                <c:pt idx="333">
                  <c:v>65536</c:v>
                </c:pt>
                <c:pt idx="334">
                  <c:v>65536</c:v>
                </c:pt>
                <c:pt idx="335">
                  <c:v>65536</c:v>
                </c:pt>
                <c:pt idx="336">
                  <c:v>65536</c:v>
                </c:pt>
                <c:pt idx="337">
                  <c:v>65536</c:v>
                </c:pt>
                <c:pt idx="338">
                  <c:v>65536</c:v>
                </c:pt>
                <c:pt idx="339">
                  <c:v>65536</c:v>
                </c:pt>
                <c:pt idx="340">
                  <c:v>65536</c:v>
                </c:pt>
                <c:pt idx="341">
                  <c:v>65536</c:v>
                </c:pt>
                <c:pt idx="342">
                  <c:v>65536</c:v>
                </c:pt>
                <c:pt idx="343">
                  <c:v>65536</c:v>
                </c:pt>
                <c:pt idx="344">
                  <c:v>65536</c:v>
                </c:pt>
                <c:pt idx="345">
                  <c:v>65536</c:v>
                </c:pt>
                <c:pt idx="346">
                  <c:v>65536</c:v>
                </c:pt>
                <c:pt idx="347">
                  <c:v>65536</c:v>
                </c:pt>
                <c:pt idx="348">
                  <c:v>65536</c:v>
                </c:pt>
                <c:pt idx="349">
                  <c:v>65536</c:v>
                </c:pt>
                <c:pt idx="350">
                  <c:v>65536</c:v>
                </c:pt>
                <c:pt idx="351">
                  <c:v>65536</c:v>
                </c:pt>
                <c:pt idx="352">
                  <c:v>65536</c:v>
                </c:pt>
                <c:pt idx="353">
                  <c:v>65536</c:v>
                </c:pt>
                <c:pt idx="354">
                  <c:v>65536</c:v>
                </c:pt>
                <c:pt idx="355">
                  <c:v>65536</c:v>
                </c:pt>
                <c:pt idx="356">
                  <c:v>65536</c:v>
                </c:pt>
                <c:pt idx="357">
                  <c:v>65536</c:v>
                </c:pt>
                <c:pt idx="358">
                  <c:v>65536</c:v>
                </c:pt>
                <c:pt idx="359">
                  <c:v>65536</c:v>
                </c:pt>
                <c:pt idx="360">
                  <c:v>65536</c:v>
                </c:pt>
                <c:pt idx="361">
                  <c:v>65536</c:v>
                </c:pt>
                <c:pt idx="362">
                  <c:v>65536</c:v>
                </c:pt>
                <c:pt idx="363">
                  <c:v>65536</c:v>
                </c:pt>
                <c:pt idx="364">
                  <c:v>65536</c:v>
                </c:pt>
                <c:pt idx="365">
                  <c:v>65536</c:v>
                </c:pt>
                <c:pt idx="366">
                  <c:v>65536</c:v>
                </c:pt>
                <c:pt idx="367">
                  <c:v>65536</c:v>
                </c:pt>
                <c:pt idx="368">
                  <c:v>65536</c:v>
                </c:pt>
                <c:pt idx="369">
                  <c:v>65536</c:v>
                </c:pt>
                <c:pt idx="370">
                  <c:v>65536</c:v>
                </c:pt>
                <c:pt idx="371">
                  <c:v>65536</c:v>
                </c:pt>
                <c:pt idx="372">
                  <c:v>65536</c:v>
                </c:pt>
                <c:pt idx="373">
                  <c:v>65536</c:v>
                </c:pt>
                <c:pt idx="374">
                  <c:v>65536</c:v>
                </c:pt>
                <c:pt idx="375">
                  <c:v>65536</c:v>
                </c:pt>
                <c:pt idx="376">
                  <c:v>65536</c:v>
                </c:pt>
                <c:pt idx="377">
                  <c:v>65536</c:v>
                </c:pt>
                <c:pt idx="378">
                  <c:v>65536</c:v>
                </c:pt>
                <c:pt idx="379">
                  <c:v>65536</c:v>
                </c:pt>
                <c:pt idx="380">
                  <c:v>65536</c:v>
                </c:pt>
                <c:pt idx="381">
                  <c:v>65536</c:v>
                </c:pt>
                <c:pt idx="382">
                  <c:v>65536</c:v>
                </c:pt>
                <c:pt idx="383">
                  <c:v>65536</c:v>
                </c:pt>
                <c:pt idx="384">
                  <c:v>65536</c:v>
                </c:pt>
                <c:pt idx="385">
                  <c:v>65536</c:v>
                </c:pt>
                <c:pt idx="386">
                  <c:v>65536</c:v>
                </c:pt>
                <c:pt idx="387">
                  <c:v>65536</c:v>
                </c:pt>
                <c:pt idx="388">
                  <c:v>65536</c:v>
                </c:pt>
                <c:pt idx="389">
                  <c:v>65536</c:v>
                </c:pt>
                <c:pt idx="390">
                  <c:v>65536</c:v>
                </c:pt>
                <c:pt idx="391">
                  <c:v>65536</c:v>
                </c:pt>
                <c:pt idx="392">
                  <c:v>65536</c:v>
                </c:pt>
                <c:pt idx="393">
                  <c:v>65536</c:v>
                </c:pt>
                <c:pt idx="394">
                  <c:v>65536</c:v>
                </c:pt>
                <c:pt idx="395">
                  <c:v>65536</c:v>
                </c:pt>
                <c:pt idx="396">
                  <c:v>65536</c:v>
                </c:pt>
                <c:pt idx="397">
                  <c:v>65536</c:v>
                </c:pt>
                <c:pt idx="398">
                  <c:v>65536</c:v>
                </c:pt>
                <c:pt idx="399">
                  <c:v>65536</c:v>
                </c:pt>
                <c:pt idx="400">
                  <c:v>65536</c:v>
                </c:pt>
                <c:pt idx="401">
                  <c:v>65536</c:v>
                </c:pt>
                <c:pt idx="402">
                  <c:v>65536</c:v>
                </c:pt>
                <c:pt idx="403">
                  <c:v>65536</c:v>
                </c:pt>
                <c:pt idx="404">
                  <c:v>65536</c:v>
                </c:pt>
                <c:pt idx="405">
                  <c:v>65536</c:v>
                </c:pt>
                <c:pt idx="406">
                  <c:v>65536</c:v>
                </c:pt>
                <c:pt idx="407">
                  <c:v>65536</c:v>
                </c:pt>
                <c:pt idx="408">
                  <c:v>65536</c:v>
                </c:pt>
                <c:pt idx="409">
                  <c:v>65536</c:v>
                </c:pt>
                <c:pt idx="410">
                  <c:v>65536</c:v>
                </c:pt>
                <c:pt idx="411">
                  <c:v>65536</c:v>
                </c:pt>
                <c:pt idx="412">
                  <c:v>65536</c:v>
                </c:pt>
                <c:pt idx="413">
                  <c:v>65536</c:v>
                </c:pt>
                <c:pt idx="414">
                  <c:v>65536</c:v>
                </c:pt>
                <c:pt idx="415">
                  <c:v>65536</c:v>
                </c:pt>
                <c:pt idx="416">
                  <c:v>65536</c:v>
                </c:pt>
                <c:pt idx="417">
                  <c:v>65536</c:v>
                </c:pt>
                <c:pt idx="418">
                  <c:v>65536</c:v>
                </c:pt>
                <c:pt idx="419">
                  <c:v>65536</c:v>
                </c:pt>
                <c:pt idx="420">
                  <c:v>65536</c:v>
                </c:pt>
                <c:pt idx="421">
                  <c:v>65536</c:v>
                </c:pt>
                <c:pt idx="422">
                  <c:v>65536</c:v>
                </c:pt>
                <c:pt idx="423">
                  <c:v>65536</c:v>
                </c:pt>
                <c:pt idx="424">
                  <c:v>65536</c:v>
                </c:pt>
                <c:pt idx="425">
                  <c:v>65536</c:v>
                </c:pt>
                <c:pt idx="426">
                  <c:v>65536</c:v>
                </c:pt>
                <c:pt idx="427">
                  <c:v>65536</c:v>
                </c:pt>
                <c:pt idx="428">
                  <c:v>65536</c:v>
                </c:pt>
                <c:pt idx="429">
                  <c:v>65536</c:v>
                </c:pt>
                <c:pt idx="430">
                  <c:v>65536</c:v>
                </c:pt>
                <c:pt idx="431">
                  <c:v>65536</c:v>
                </c:pt>
                <c:pt idx="432">
                  <c:v>65536</c:v>
                </c:pt>
                <c:pt idx="433">
                  <c:v>65536</c:v>
                </c:pt>
                <c:pt idx="434">
                  <c:v>65536</c:v>
                </c:pt>
                <c:pt idx="435">
                  <c:v>65536</c:v>
                </c:pt>
                <c:pt idx="436">
                  <c:v>65536</c:v>
                </c:pt>
                <c:pt idx="437">
                  <c:v>65536</c:v>
                </c:pt>
                <c:pt idx="438">
                  <c:v>65536</c:v>
                </c:pt>
                <c:pt idx="439">
                  <c:v>65536</c:v>
                </c:pt>
                <c:pt idx="440">
                  <c:v>65536</c:v>
                </c:pt>
                <c:pt idx="441">
                  <c:v>65536</c:v>
                </c:pt>
                <c:pt idx="442">
                  <c:v>65536</c:v>
                </c:pt>
                <c:pt idx="443">
                  <c:v>65536</c:v>
                </c:pt>
                <c:pt idx="444">
                  <c:v>65536</c:v>
                </c:pt>
                <c:pt idx="445">
                  <c:v>65536</c:v>
                </c:pt>
                <c:pt idx="446">
                  <c:v>65536</c:v>
                </c:pt>
                <c:pt idx="447">
                  <c:v>65536</c:v>
                </c:pt>
                <c:pt idx="448">
                  <c:v>65536</c:v>
                </c:pt>
                <c:pt idx="449">
                  <c:v>65536</c:v>
                </c:pt>
                <c:pt idx="450">
                  <c:v>65536</c:v>
                </c:pt>
                <c:pt idx="451">
                  <c:v>65536</c:v>
                </c:pt>
                <c:pt idx="452">
                  <c:v>65536</c:v>
                </c:pt>
                <c:pt idx="453">
                  <c:v>65536</c:v>
                </c:pt>
                <c:pt idx="454">
                  <c:v>65536</c:v>
                </c:pt>
                <c:pt idx="455">
                  <c:v>65536</c:v>
                </c:pt>
                <c:pt idx="456">
                  <c:v>65536</c:v>
                </c:pt>
                <c:pt idx="457">
                  <c:v>65536</c:v>
                </c:pt>
                <c:pt idx="458">
                  <c:v>65536</c:v>
                </c:pt>
                <c:pt idx="459">
                  <c:v>65536</c:v>
                </c:pt>
                <c:pt idx="460">
                  <c:v>65536</c:v>
                </c:pt>
                <c:pt idx="461">
                  <c:v>65536</c:v>
                </c:pt>
                <c:pt idx="462">
                  <c:v>65536</c:v>
                </c:pt>
                <c:pt idx="463">
                  <c:v>65536</c:v>
                </c:pt>
                <c:pt idx="464">
                  <c:v>65536</c:v>
                </c:pt>
                <c:pt idx="465">
                  <c:v>65536</c:v>
                </c:pt>
                <c:pt idx="466">
                  <c:v>65536</c:v>
                </c:pt>
                <c:pt idx="467">
                  <c:v>65536</c:v>
                </c:pt>
                <c:pt idx="468">
                  <c:v>65536</c:v>
                </c:pt>
                <c:pt idx="469">
                  <c:v>65536</c:v>
                </c:pt>
                <c:pt idx="470">
                  <c:v>65536</c:v>
                </c:pt>
                <c:pt idx="471">
                  <c:v>65536</c:v>
                </c:pt>
                <c:pt idx="472">
                  <c:v>65536</c:v>
                </c:pt>
                <c:pt idx="473">
                  <c:v>65536</c:v>
                </c:pt>
                <c:pt idx="474">
                  <c:v>65536</c:v>
                </c:pt>
                <c:pt idx="475">
                  <c:v>65536</c:v>
                </c:pt>
                <c:pt idx="476">
                  <c:v>65536</c:v>
                </c:pt>
                <c:pt idx="477">
                  <c:v>65536</c:v>
                </c:pt>
                <c:pt idx="478">
                  <c:v>65536</c:v>
                </c:pt>
                <c:pt idx="479">
                  <c:v>65536</c:v>
                </c:pt>
                <c:pt idx="480">
                  <c:v>65536</c:v>
                </c:pt>
                <c:pt idx="481">
                  <c:v>65536</c:v>
                </c:pt>
                <c:pt idx="482">
                  <c:v>65536</c:v>
                </c:pt>
                <c:pt idx="483">
                  <c:v>65536</c:v>
                </c:pt>
                <c:pt idx="484">
                  <c:v>65536</c:v>
                </c:pt>
                <c:pt idx="485">
                  <c:v>65536</c:v>
                </c:pt>
                <c:pt idx="486">
                  <c:v>65536</c:v>
                </c:pt>
                <c:pt idx="487">
                  <c:v>65536</c:v>
                </c:pt>
                <c:pt idx="488">
                  <c:v>65536</c:v>
                </c:pt>
                <c:pt idx="489">
                  <c:v>65536</c:v>
                </c:pt>
                <c:pt idx="490">
                  <c:v>65536</c:v>
                </c:pt>
                <c:pt idx="491">
                  <c:v>65536</c:v>
                </c:pt>
                <c:pt idx="492">
                  <c:v>65536</c:v>
                </c:pt>
                <c:pt idx="493">
                  <c:v>65536</c:v>
                </c:pt>
                <c:pt idx="494">
                  <c:v>65536</c:v>
                </c:pt>
                <c:pt idx="495">
                  <c:v>65536</c:v>
                </c:pt>
                <c:pt idx="496">
                  <c:v>65536</c:v>
                </c:pt>
                <c:pt idx="497">
                  <c:v>65536</c:v>
                </c:pt>
                <c:pt idx="498">
                  <c:v>65536</c:v>
                </c:pt>
                <c:pt idx="499">
                  <c:v>65536</c:v>
                </c:pt>
                <c:pt idx="500">
                  <c:v>65536</c:v>
                </c:pt>
                <c:pt idx="501">
                  <c:v>65536</c:v>
                </c:pt>
                <c:pt idx="502">
                  <c:v>65536</c:v>
                </c:pt>
                <c:pt idx="503">
                  <c:v>65536</c:v>
                </c:pt>
                <c:pt idx="504">
                  <c:v>65536</c:v>
                </c:pt>
                <c:pt idx="505">
                  <c:v>65536</c:v>
                </c:pt>
                <c:pt idx="506">
                  <c:v>65536</c:v>
                </c:pt>
                <c:pt idx="507">
                  <c:v>65536</c:v>
                </c:pt>
                <c:pt idx="508">
                  <c:v>65536</c:v>
                </c:pt>
                <c:pt idx="509">
                  <c:v>65536</c:v>
                </c:pt>
                <c:pt idx="510">
                  <c:v>65536</c:v>
                </c:pt>
                <c:pt idx="511">
                  <c:v>65536</c:v>
                </c:pt>
                <c:pt idx="512">
                  <c:v>65536</c:v>
                </c:pt>
                <c:pt idx="513">
                  <c:v>65536</c:v>
                </c:pt>
                <c:pt idx="514">
                  <c:v>65536</c:v>
                </c:pt>
                <c:pt idx="515">
                  <c:v>65536</c:v>
                </c:pt>
                <c:pt idx="516">
                  <c:v>65536</c:v>
                </c:pt>
                <c:pt idx="517">
                  <c:v>65536</c:v>
                </c:pt>
                <c:pt idx="518">
                  <c:v>65536</c:v>
                </c:pt>
                <c:pt idx="519">
                  <c:v>65536</c:v>
                </c:pt>
                <c:pt idx="520">
                  <c:v>65536</c:v>
                </c:pt>
                <c:pt idx="521">
                  <c:v>65536</c:v>
                </c:pt>
                <c:pt idx="522">
                  <c:v>65536</c:v>
                </c:pt>
                <c:pt idx="523">
                  <c:v>65536</c:v>
                </c:pt>
                <c:pt idx="524">
                  <c:v>65536</c:v>
                </c:pt>
                <c:pt idx="525">
                  <c:v>65536</c:v>
                </c:pt>
                <c:pt idx="526">
                  <c:v>65536</c:v>
                </c:pt>
                <c:pt idx="527">
                  <c:v>65536</c:v>
                </c:pt>
                <c:pt idx="528">
                  <c:v>65536</c:v>
                </c:pt>
                <c:pt idx="529">
                  <c:v>65536</c:v>
                </c:pt>
                <c:pt idx="530">
                  <c:v>65536</c:v>
                </c:pt>
                <c:pt idx="531">
                  <c:v>65536</c:v>
                </c:pt>
                <c:pt idx="532">
                  <c:v>65536</c:v>
                </c:pt>
                <c:pt idx="533">
                  <c:v>65536</c:v>
                </c:pt>
                <c:pt idx="534">
                  <c:v>65536</c:v>
                </c:pt>
                <c:pt idx="535">
                  <c:v>65536</c:v>
                </c:pt>
                <c:pt idx="536">
                  <c:v>65536</c:v>
                </c:pt>
                <c:pt idx="537">
                  <c:v>65536</c:v>
                </c:pt>
                <c:pt idx="538">
                  <c:v>65536</c:v>
                </c:pt>
                <c:pt idx="539">
                  <c:v>65536</c:v>
                </c:pt>
                <c:pt idx="540">
                  <c:v>65536</c:v>
                </c:pt>
                <c:pt idx="541">
                  <c:v>65536</c:v>
                </c:pt>
                <c:pt idx="542">
                  <c:v>65536</c:v>
                </c:pt>
                <c:pt idx="543">
                  <c:v>65536</c:v>
                </c:pt>
                <c:pt idx="544">
                  <c:v>65536</c:v>
                </c:pt>
                <c:pt idx="545">
                  <c:v>65536</c:v>
                </c:pt>
                <c:pt idx="546">
                  <c:v>65536</c:v>
                </c:pt>
                <c:pt idx="547">
                  <c:v>65536</c:v>
                </c:pt>
                <c:pt idx="548">
                  <c:v>65536</c:v>
                </c:pt>
                <c:pt idx="549">
                  <c:v>65536</c:v>
                </c:pt>
                <c:pt idx="550">
                  <c:v>65536</c:v>
                </c:pt>
                <c:pt idx="551">
                  <c:v>65536</c:v>
                </c:pt>
                <c:pt idx="552">
                  <c:v>65536</c:v>
                </c:pt>
                <c:pt idx="553">
                  <c:v>65536</c:v>
                </c:pt>
                <c:pt idx="554">
                  <c:v>65536</c:v>
                </c:pt>
                <c:pt idx="555">
                  <c:v>65536</c:v>
                </c:pt>
                <c:pt idx="556">
                  <c:v>65536</c:v>
                </c:pt>
                <c:pt idx="557">
                  <c:v>65536</c:v>
                </c:pt>
                <c:pt idx="558">
                  <c:v>65536</c:v>
                </c:pt>
                <c:pt idx="559">
                  <c:v>65536</c:v>
                </c:pt>
                <c:pt idx="560">
                  <c:v>65536</c:v>
                </c:pt>
                <c:pt idx="561">
                  <c:v>65536</c:v>
                </c:pt>
                <c:pt idx="562">
                  <c:v>65536</c:v>
                </c:pt>
                <c:pt idx="563">
                  <c:v>65536</c:v>
                </c:pt>
                <c:pt idx="564">
                  <c:v>65536</c:v>
                </c:pt>
                <c:pt idx="565">
                  <c:v>65536</c:v>
                </c:pt>
                <c:pt idx="566">
                  <c:v>65536</c:v>
                </c:pt>
                <c:pt idx="567">
                  <c:v>65536</c:v>
                </c:pt>
                <c:pt idx="568">
                  <c:v>65536</c:v>
                </c:pt>
                <c:pt idx="569">
                  <c:v>65536</c:v>
                </c:pt>
                <c:pt idx="570">
                  <c:v>65536</c:v>
                </c:pt>
                <c:pt idx="571">
                  <c:v>65536</c:v>
                </c:pt>
                <c:pt idx="572">
                  <c:v>65536</c:v>
                </c:pt>
                <c:pt idx="573">
                  <c:v>65536</c:v>
                </c:pt>
                <c:pt idx="574">
                  <c:v>65536</c:v>
                </c:pt>
                <c:pt idx="575">
                  <c:v>65536</c:v>
                </c:pt>
                <c:pt idx="576">
                  <c:v>65536</c:v>
                </c:pt>
                <c:pt idx="577">
                  <c:v>65536</c:v>
                </c:pt>
                <c:pt idx="578">
                  <c:v>65536</c:v>
                </c:pt>
                <c:pt idx="579">
                  <c:v>65536</c:v>
                </c:pt>
                <c:pt idx="580">
                  <c:v>65536</c:v>
                </c:pt>
                <c:pt idx="581">
                  <c:v>65536</c:v>
                </c:pt>
                <c:pt idx="582">
                  <c:v>65536</c:v>
                </c:pt>
                <c:pt idx="583">
                  <c:v>65536</c:v>
                </c:pt>
                <c:pt idx="584">
                  <c:v>65536</c:v>
                </c:pt>
                <c:pt idx="585">
                  <c:v>65536</c:v>
                </c:pt>
                <c:pt idx="586">
                  <c:v>65536</c:v>
                </c:pt>
                <c:pt idx="587">
                  <c:v>65536</c:v>
                </c:pt>
                <c:pt idx="588">
                  <c:v>65536</c:v>
                </c:pt>
                <c:pt idx="589">
                  <c:v>65536</c:v>
                </c:pt>
                <c:pt idx="590">
                  <c:v>65536</c:v>
                </c:pt>
                <c:pt idx="591">
                  <c:v>65536</c:v>
                </c:pt>
                <c:pt idx="592">
                  <c:v>65536</c:v>
                </c:pt>
                <c:pt idx="593">
                  <c:v>65536</c:v>
                </c:pt>
                <c:pt idx="594">
                  <c:v>65536</c:v>
                </c:pt>
                <c:pt idx="595">
                  <c:v>65536</c:v>
                </c:pt>
                <c:pt idx="596">
                  <c:v>65536</c:v>
                </c:pt>
                <c:pt idx="597">
                  <c:v>65536</c:v>
                </c:pt>
                <c:pt idx="598">
                  <c:v>65536</c:v>
                </c:pt>
                <c:pt idx="599">
                  <c:v>65536</c:v>
                </c:pt>
                <c:pt idx="600">
                  <c:v>65536</c:v>
                </c:pt>
                <c:pt idx="601">
                  <c:v>65536</c:v>
                </c:pt>
                <c:pt idx="602">
                  <c:v>65536</c:v>
                </c:pt>
                <c:pt idx="603">
                  <c:v>65536</c:v>
                </c:pt>
                <c:pt idx="604">
                  <c:v>65536</c:v>
                </c:pt>
                <c:pt idx="605">
                  <c:v>65536</c:v>
                </c:pt>
                <c:pt idx="606">
                  <c:v>65536</c:v>
                </c:pt>
                <c:pt idx="607">
                  <c:v>65536</c:v>
                </c:pt>
                <c:pt idx="608">
                  <c:v>65536</c:v>
                </c:pt>
                <c:pt idx="609">
                  <c:v>65536</c:v>
                </c:pt>
                <c:pt idx="610">
                  <c:v>65536</c:v>
                </c:pt>
                <c:pt idx="611">
                  <c:v>65536</c:v>
                </c:pt>
                <c:pt idx="612">
                  <c:v>65536</c:v>
                </c:pt>
                <c:pt idx="613">
                  <c:v>65536</c:v>
                </c:pt>
                <c:pt idx="614">
                  <c:v>65536</c:v>
                </c:pt>
                <c:pt idx="615">
                  <c:v>65536</c:v>
                </c:pt>
                <c:pt idx="616">
                  <c:v>65536</c:v>
                </c:pt>
                <c:pt idx="617">
                  <c:v>65536</c:v>
                </c:pt>
                <c:pt idx="618">
                  <c:v>65536</c:v>
                </c:pt>
                <c:pt idx="619">
                  <c:v>65536</c:v>
                </c:pt>
                <c:pt idx="620">
                  <c:v>65536</c:v>
                </c:pt>
                <c:pt idx="621">
                  <c:v>65536</c:v>
                </c:pt>
                <c:pt idx="622">
                  <c:v>65536</c:v>
                </c:pt>
                <c:pt idx="623">
                  <c:v>65536</c:v>
                </c:pt>
                <c:pt idx="624">
                  <c:v>65536</c:v>
                </c:pt>
                <c:pt idx="625">
                  <c:v>65536</c:v>
                </c:pt>
                <c:pt idx="626">
                  <c:v>65536</c:v>
                </c:pt>
                <c:pt idx="627">
                  <c:v>65536</c:v>
                </c:pt>
                <c:pt idx="628">
                  <c:v>65536</c:v>
                </c:pt>
                <c:pt idx="629">
                  <c:v>65536</c:v>
                </c:pt>
                <c:pt idx="630">
                  <c:v>65536</c:v>
                </c:pt>
                <c:pt idx="631">
                  <c:v>65536</c:v>
                </c:pt>
                <c:pt idx="632">
                  <c:v>65536</c:v>
                </c:pt>
                <c:pt idx="633">
                  <c:v>65536</c:v>
                </c:pt>
                <c:pt idx="634">
                  <c:v>65536</c:v>
                </c:pt>
                <c:pt idx="635">
                  <c:v>65536</c:v>
                </c:pt>
                <c:pt idx="636">
                  <c:v>65536</c:v>
                </c:pt>
                <c:pt idx="637">
                  <c:v>65536</c:v>
                </c:pt>
                <c:pt idx="638">
                  <c:v>65536</c:v>
                </c:pt>
                <c:pt idx="639">
                  <c:v>65536</c:v>
                </c:pt>
                <c:pt idx="640">
                  <c:v>65536</c:v>
                </c:pt>
                <c:pt idx="641">
                  <c:v>65536</c:v>
                </c:pt>
                <c:pt idx="642">
                  <c:v>65536</c:v>
                </c:pt>
                <c:pt idx="643">
                  <c:v>65536</c:v>
                </c:pt>
                <c:pt idx="644">
                  <c:v>65536</c:v>
                </c:pt>
                <c:pt idx="645">
                  <c:v>65536</c:v>
                </c:pt>
                <c:pt idx="646">
                  <c:v>65536</c:v>
                </c:pt>
                <c:pt idx="647">
                  <c:v>65536</c:v>
                </c:pt>
                <c:pt idx="648">
                  <c:v>65536</c:v>
                </c:pt>
                <c:pt idx="649">
                  <c:v>65536</c:v>
                </c:pt>
                <c:pt idx="650">
                  <c:v>65536</c:v>
                </c:pt>
                <c:pt idx="651">
                  <c:v>65536</c:v>
                </c:pt>
                <c:pt idx="652">
                  <c:v>65536</c:v>
                </c:pt>
                <c:pt idx="653">
                  <c:v>65536</c:v>
                </c:pt>
                <c:pt idx="654">
                  <c:v>65536</c:v>
                </c:pt>
                <c:pt idx="655">
                  <c:v>65536</c:v>
                </c:pt>
                <c:pt idx="656">
                  <c:v>65536</c:v>
                </c:pt>
                <c:pt idx="657">
                  <c:v>65536</c:v>
                </c:pt>
                <c:pt idx="658">
                  <c:v>65536</c:v>
                </c:pt>
                <c:pt idx="659">
                  <c:v>65536</c:v>
                </c:pt>
                <c:pt idx="660">
                  <c:v>65536</c:v>
                </c:pt>
                <c:pt idx="661">
                  <c:v>65536</c:v>
                </c:pt>
                <c:pt idx="662">
                  <c:v>65536</c:v>
                </c:pt>
                <c:pt idx="663">
                  <c:v>65536</c:v>
                </c:pt>
                <c:pt idx="664">
                  <c:v>65536</c:v>
                </c:pt>
                <c:pt idx="665">
                  <c:v>65536</c:v>
                </c:pt>
                <c:pt idx="666">
                  <c:v>65536</c:v>
                </c:pt>
                <c:pt idx="667">
                  <c:v>65536</c:v>
                </c:pt>
                <c:pt idx="668">
                  <c:v>65536</c:v>
                </c:pt>
                <c:pt idx="669">
                  <c:v>65536</c:v>
                </c:pt>
                <c:pt idx="670">
                  <c:v>65536</c:v>
                </c:pt>
                <c:pt idx="671">
                  <c:v>65536</c:v>
                </c:pt>
                <c:pt idx="672">
                  <c:v>65536</c:v>
                </c:pt>
                <c:pt idx="673">
                  <c:v>65536</c:v>
                </c:pt>
                <c:pt idx="674">
                  <c:v>65536</c:v>
                </c:pt>
                <c:pt idx="675">
                  <c:v>65536</c:v>
                </c:pt>
                <c:pt idx="676">
                  <c:v>65536</c:v>
                </c:pt>
                <c:pt idx="677">
                  <c:v>65536</c:v>
                </c:pt>
                <c:pt idx="678">
                  <c:v>65536</c:v>
                </c:pt>
                <c:pt idx="679">
                  <c:v>65536</c:v>
                </c:pt>
                <c:pt idx="680">
                  <c:v>65536</c:v>
                </c:pt>
                <c:pt idx="681">
                  <c:v>65536</c:v>
                </c:pt>
                <c:pt idx="682">
                  <c:v>65536</c:v>
                </c:pt>
                <c:pt idx="683">
                  <c:v>65536</c:v>
                </c:pt>
                <c:pt idx="684">
                  <c:v>65536</c:v>
                </c:pt>
                <c:pt idx="685">
                  <c:v>65536</c:v>
                </c:pt>
                <c:pt idx="686">
                  <c:v>65536</c:v>
                </c:pt>
                <c:pt idx="687">
                  <c:v>65536</c:v>
                </c:pt>
                <c:pt idx="688">
                  <c:v>65536</c:v>
                </c:pt>
                <c:pt idx="689">
                  <c:v>65536</c:v>
                </c:pt>
                <c:pt idx="690">
                  <c:v>65536</c:v>
                </c:pt>
                <c:pt idx="691">
                  <c:v>65536</c:v>
                </c:pt>
                <c:pt idx="692">
                  <c:v>65536</c:v>
                </c:pt>
                <c:pt idx="693">
                  <c:v>65536</c:v>
                </c:pt>
                <c:pt idx="694">
                  <c:v>65536</c:v>
                </c:pt>
                <c:pt idx="695">
                  <c:v>65536</c:v>
                </c:pt>
                <c:pt idx="696">
                  <c:v>65536</c:v>
                </c:pt>
                <c:pt idx="697">
                  <c:v>65536</c:v>
                </c:pt>
                <c:pt idx="698">
                  <c:v>65536</c:v>
                </c:pt>
                <c:pt idx="699">
                  <c:v>65536</c:v>
                </c:pt>
                <c:pt idx="700">
                  <c:v>65536</c:v>
                </c:pt>
                <c:pt idx="701">
                  <c:v>65536</c:v>
                </c:pt>
                <c:pt idx="702">
                  <c:v>65536</c:v>
                </c:pt>
                <c:pt idx="703">
                  <c:v>65536</c:v>
                </c:pt>
                <c:pt idx="704">
                  <c:v>65536</c:v>
                </c:pt>
                <c:pt idx="705">
                  <c:v>65536</c:v>
                </c:pt>
                <c:pt idx="706">
                  <c:v>65536</c:v>
                </c:pt>
                <c:pt idx="707">
                  <c:v>65536</c:v>
                </c:pt>
                <c:pt idx="708">
                  <c:v>65536</c:v>
                </c:pt>
                <c:pt idx="709">
                  <c:v>65536</c:v>
                </c:pt>
                <c:pt idx="710">
                  <c:v>65536</c:v>
                </c:pt>
                <c:pt idx="711">
                  <c:v>65536</c:v>
                </c:pt>
                <c:pt idx="712">
                  <c:v>65536</c:v>
                </c:pt>
                <c:pt idx="713">
                  <c:v>65536</c:v>
                </c:pt>
                <c:pt idx="714">
                  <c:v>65536</c:v>
                </c:pt>
                <c:pt idx="715">
                  <c:v>65536</c:v>
                </c:pt>
                <c:pt idx="716">
                  <c:v>65536</c:v>
                </c:pt>
                <c:pt idx="717">
                  <c:v>65536</c:v>
                </c:pt>
                <c:pt idx="718">
                  <c:v>65536</c:v>
                </c:pt>
                <c:pt idx="719">
                  <c:v>65536</c:v>
                </c:pt>
                <c:pt idx="720">
                  <c:v>65536</c:v>
                </c:pt>
                <c:pt idx="721">
                  <c:v>65536</c:v>
                </c:pt>
                <c:pt idx="722">
                  <c:v>65536</c:v>
                </c:pt>
                <c:pt idx="723">
                  <c:v>65536</c:v>
                </c:pt>
                <c:pt idx="724">
                  <c:v>65536</c:v>
                </c:pt>
                <c:pt idx="725">
                  <c:v>65536</c:v>
                </c:pt>
                <c:pt idx="726">
                  <c:v>65536</c:v>
                </c:pt>
                <c:pt idx="727">
                  <c:v>65536</c:v>
                </c:pt>
                <c:pt idx="728">
                  <c:v>65536</c:v>
                </c:pt>
                <c:pt idx="729">
                  <c:v>65536</c:v>
                </c:pt>
                <c:pt idx="730">
                  <c:v>65536</c:v>
                </c:pt>
                <c:pt idx="731">
                  <c:v>65536</c:v>
                </c:pt>
                <c:pt idx="732">
                  <c:v>65536</c:v>
                </c:pt>
                <c:pt idx="733">
                  <c:v>65536</c:v>
                </c:pt>
                <c:pt idx="734">
                  <c:v>65536</c:v>
                </c:pt>
                <c:pt idx="735">
                  <c:v>65536</c:v>
                </c:pt>
                <c:pt idx="736">
                  <c:v>65536</c:v>
                </c:pt>
                <c:pt idx="737">
                  <c:v>65536</c:v>
                </c:pt>
                <c:pt idx="738">
                  <c:v>65536</c:v>
                </c:pt>
                <c:pt idx="739">
                  <c:v>65536</c:v>
                </c:pt>
                <c:pt idx="740">
                  <c:v>65536</c:v>
                </c:pt>
                <c:pt idx="741">
                  <c:v>65536</c:v>
                </c:pt>
                <c:pt idx="742">
                  <c:v>65536</c:v>
                </c:pt>
                <c:pt idx="743">
                  <c:v>65536</c:v>
                </c:pt>
                <c:pt idx="744">
                  <c:v>65536</c:v>
                </c:pt>
                <c:pt idx="745">
                  <c:v>65536</c:v>
                </c:pt>
                <c:pt idx="746">
                  <c:v>65536</c:v>
                </c:pt>
                <c:pt idx="747">
                  <c:v>65536</c:v>
                </c:pt>
                <c:pt idx="748">
                  <c:v>65536</c:v>
                </c:pt>
                <c:pt idx="749">
                  <c:v>65536</c:v>
                </c:pt>
                <c:pt idx="750">
                  <c:v>65536</c:v>
                </c:pt>
                <c:pt idx="751">
                  <c:v>65536</c:v>
                </c:pt>
                <c:pt idx="752">
                  <c:v>65536</c:v>
                </c:pt>
                <c:pt idx="753">
                  <c:v>65536</c:v>
                </c:pt>
                <c:pt idx="754">
                  <c:v>65536</c:v>
                </c:pt>
                <c:pt idx="755">
                  <c:v>65536</c:v>
                </c:pt>
                <c:pt idx="756">
                  <c:v>65536</c:v>
                </c:pt>
                <c:pt idx="757">
                  <c:v>65536</c:v>
                </c:pt>
                <c:pt idx="758">
                  <c:v>65536</c:v>
                </c:pt>
                <c:pt idx="759">
                  <c:v>65536</c:v>
                </c:pt>
                <c:pt idx="760">
                  <c:v>65536</c:v>
                </c:pt>
                <c:pt idx="761">
                  <c:v>65536</c:v>
                </c:pt>
                <c:pt idx="762">
                  <c:v>65536</c:v>
                </c:pt>
                <c:pt idx="763">
                  <c:v>65536</c:v>
                </c:pt>
                <c:pt idx="764">
                  <c:v>65536</c:v>
                </c:pt>
                <c:pt idx="765">
                  <c:v>65536</c:v>
                </c:pt>
                <c:pt idx="766">
                  <c:v>65536</c:v>
                </c:pt>
                <c:pt idx="767">
                  <c:v>65536</c:v>
                </c:pt>
                <c:pt idx="768">
                  <c:v>65536</c:v>
                </c:pt>
                <c:pt idx="769">
                  <c:v>65536</c:v>
                </c:pt>
                <c:pt idx="770">
                  <c:v>65536</c:v>
                </c:pt>
                <c:pt idx="771">
                  <c:v>65536</c:v>
                </c:pt>
                <c:pt idx="772">
                  <c:v>65536</c:v>
                </c:pt>
                <c:pt idx="773">
                  <c:v>65536</c:v>
                </c:pt>
                <c:pt idx="774">
                  <c:v>65536</c:v>
                </c:pt>
                <c:pt idx="775">
                  <c:v>65536</c:v>
                </c:pt>
                <c:pt idx="776">
                  <c:v>65536</c:v>
                </c:pt>
                <c:pt idx="777">
                  <c:v>65536</c:v>
                </c:pt>
                <c:pt idx="778">
                  <c:v>65536</c:v>
                </c:pt>
                <c:pt idx="779">
                  <c:v>65536</c:v>
                </c:pt>
                <c:pt idx="780">
                  <c:v>65536</c:v>
                </c:pt>
                <c:pt idx="781">
                  <c:v>65536</c:v>
                </c:pt>
                <c:pt idx="782">
                  <c:v>65536</c:v>
                </c:pt>
                <c:pt idx="783">
                  <c:v>65536</c:v>
                </c:pt>
                <c:pt idx="784">
                  <c:v>65536</c:v>
                </c:pt>
                <c:pt idx="785">
                  <c:v>65536</c:v>
                </c:pt>
                <c:pt idx="786">
                  <c:v>65536</c:v>
                </c:pt>
                <c:pt idx="787">
                  <c:v>65536</c:v>
                </c:pt>
                <c:pt idx="788">
                  <c:v>65536</c:v>
                </c:pt>
                <c:pt idx="789">
                  <c:v>65536</c:v>
                </c:pt>
                <c:pt idx="790">
                  <c:v>65536</c:v>
                </c:pt>
                <c:pt idx="791">
                  <c:v>65536</c:v>
                </c:pt>
                <c:pt idx="792">
                  <c:v>65536</c:v>
                </c:pt>
                <c:pt idx="793">
                  <c:v>65536</c:v>
                </c:pt>
                <c:pt idx="794">
                  <c:v>65536</c:v>
                </c:pt>
                <c:pt idx="795">
                  <c:v>65536</c:v>
                </c:pt>
                <c:pt idx="796">
                  <c:v>65536</c:v>
                </c:pt>
                <c:pt idx="797">
                  <c:v>65536</c:v>
                </c:pt>
                <c:pt idx="798">
                  <c:v>65536</c:v>
                </c:pt>
                <c:pt idx="799">
                  <c:v>65536</c:v>
                </c:pt>
                <c:pt idx="800">
                  <c:v>65536</c:v>
                </c:pt>
                <c:pt idx="801">
                  <c:v>65536</c:v>
                </c:pt>
                <c:pt idx="802">
                  <c:v>65536</c:v>
                </c:pt>
                <c:pt idx="803">
                  <c:v>65536</c:v>
                </c:pt>
                <c:pt idx="804">
                  <c:v>65536</c:v>
                </c:pt>
                <c:pt idx="805">
                  <c:v>65536</c:v>
                </c:pt>
                <c:pt idx="806">
                  <c:v>65536</c:v>
                </c:pt>
                <c:pt idx="807">
                  <c:v>65536</c:v>
                </c:pt>
                <c:pt idx="808">
                  <c:v>65536</c:v>
                </c:pt>
                <c:pt idx="809">
                  <c:v>65536</c:v>
                </c:pt>
                <c:pt idx="810">
                  <c:v>65536</c:v>
                </c:pt>
                <c:pt idx="811">
                  <c:v>65536</c:v>
                </c:pt>
                <c:pt idx="812">
                  <c:v>65536</c:v>
                </c:pt>
                <c:pt idx="813">
                  <c:v>65536</c:v>
                </c:pt>
                <c:pt idx="814">
                  <c:v>65536</c:v>
                </c:pt>
                <c:pt idx="815">
                  <c:v>65536</c:v>
                </c:pt>
                <c:pt idx="816">
                  <c:v>65536</c:v>
                </c:pt>
                <c:pt idx="817">
                  <c:v>65536</c:v>
                </c:pt>
                <c:pt idx="818">
                  <c:v>65536</c:v>
                </c:pt>
                <c:pt idx="819">
                  <c:v>65536</c:v>
                </c:pt>
                <c:pt idx="820">
                  <c:v>65536</c:v>
                </c:pt>
                <c:pt idx="821">
                  <c:v>65536</c:v>
                </c:pt>
                <c:pt idx="822">
                  <c:v>65536</c:v>
                </c:pt>
                <c:pt idx="823">
                  <c:v>65536</c:v>
                </c:pt>
                <c:pt idx="824">
                  <c:v>65536</c:v>
                </c:pt>
                <c:pt idx="825">
                  <c:v>65536</c:v>
                </c:pt>
                <c:pt idx="826">
                  <c:v>65536</c:v>
                </c:pt>
                <c:pt idx="827">
                  <c:v>65536</c:v>
                </c:pt>
                <c:pt idx="828">
                  <c:v>65536</c:v>
                </c:pt>
                <c:pt idx="829">
                  <c:v>65536</c:v>
                </c:pt>
                <c:pt idx="830">
                  <c:v>65536</c:v>
                </c:pt>
                <c:pt idx="831">
                  <c:v>65536</c:v>
                </c:pt>
                <c:pt idx="832">
                  <c:v>65536</c:v>
                </c:pt>
                <c:pt idx="833">
                  <c:v>65536</c:v>
                </c:pt>
                <c:pt idx="834">
                  <c:v>65536</c:v>
                </c:pt>
                <c:pt idx="835">
                  <c:v>65536</c:v>
                </c:pt>
                <c:pt idx="836">
                  <c:v>65536</c:v>
                </c:pt>
                <c:pt idx="837">
                  <c:v>65536</c:v>
                </c:pt>
                <c:pt idx="838">
                  <c:v>65536</c:v>
                </c:pt>
                <c:pt idx="839">
                  <c:v>65536</c:v>
                </c:pt>
                <c:pt idx="840">
                  <c:v>65536</c:v>
                </c:pt>
                <c:pt idx="841">
                  <c:v>65536</c:v>
                </c:pt>
                <c:pt idx="842">
                  <c:v>65536</c:v>
                </c:pt>
                <c:pt idx="843">
                  <c:v>65536</c:v>
                </c:pt>
                <c:pt idx="844">
                  <c:v>65536</c:v>
                </c:pt>
                <c:pt idx="845">
                  <c:v>65536</c:v>
                </c:pt>
                <c:pt idx="846">
                  <c:v>65536</c:v>
                </c:pt>
                <c:pt idx="847">
                  <c:v>65536</c:v>
                </c:pt>
                <c:pt idx="848">
                  <c:v>65536</c:v>
                </c:pt>
                <c:pt idx="849">
                  <c:v>65536</c:v>
                </c:pt>
                <c:pt idx="850">
                  <c:v>65536</c:v>
                </c:pt>
                <c:pt idx="851">
                  <c:v>65536</c:v>
                </c:pt>
                <c:pt idx="852">
                  <c:v>65536</c:v>
                </c:pt>
                <c:pt idx="853">
                  <c:v>65536</c:v>
                </c:pt>
                <c:pt idx="854">
                  <c:v>65536</c:v>
                </c:pt>
                <c:pt idx="855">
                  <c:v>65536</c:v>
                </c:pt>
                <c:pt idx="856">
                  <c:v>65536</c:v>
                </c:pt>
                <c:pt idx="857">
                  <c:v>65536</c:v>
                </c:pt>
                <c:pt idx="858">
                  <c:v>65536</c:v>
                </c:pt>
                <c:pt idx="859">
                  <c:v>65536</c:v>
                </c:pt>
                <c:pt idx="860">
                  <c:v>65536</c:v>
                </c:pt>
                <c:pt idx="861">
                  <c:v>65536</c:v>
                </c:pt>
                <c:pt idx="862">
                  <c:v>65536</c:v>
                </c:pt>
                <c:pt idx="863">
                  <c:v>65536</c:v>
                </c:pt>
                <c:pt idx="864">
                  <c:v>65536</c:v>
                </c:pt>
                <c:pt idx="865">
                  <c:v>65536</c:v>
                </c:pt>
                <c:pt idx="866">
                  <c:v>65536</c:v>
                </c:pt>
                <c:pt idx="867">
                  <c:v>65536</c:v>
                </c:pt>
                <c:pt idx="868">
                  <c:v>65536</c:v>
                </c:pt>
                <c:pt idx="869">
                  <c:v>65536</c:v>
                </c:pt>
                <c:pt idx="870">
                  <c:v>65536</c:v>
                </c:pt>
                <c:pt idx="871">
                  <c:v>65536</c:v>
                </c:pt>
                <c:pt idx="872">
                  <c:v>65536</c:v>
                </c:pt>
                <c:pt idx="873">
                  <c:v>65536</c:v>
                </c:pt>
                <c:pt idx="874">
                  <c:v>65536</c:v>
                </c:pt>
                <c:pt idx="875">
                  <c:v>65536</c:v>
                </c:pt>
                <c:pt idx="876">
                  <c:v>65536</c:v>
                </c:pt>
                <c:pt idx="877">
                  <c:v>65536</c:v>
                </c:pt>
                <c:pt idx="878">
                  <c:v>65536</c:v>
                </c:pt>
                <c:pt idx="879">
                  <c:v>65536</c:v>
                </c:pt>
                <c:pt idx="880">
                  <c:v>65536</c:v>
                </c:pt>
                <c:pt idx="881">
                  <c:v>65536</c:v>
                </c:pt>
                <c:pt idx="882">
                  <c:v>65536</c:v>
                </c:pt>
                <c:pt idx="883">
                  <c:v>65536</c:v>
                </c:pt>
                <c:pt idx="884">
                  <c:v>65536</c:v>
                </c:pt>
                <c:pt idx="885">
                  <c:v>65536</c:v>
                </c:pt>
                <c:pt idx="886">
                  <c:v>65536</c:v>
                </c:pt>
                <c:pt idx="887">
                  <c:v>65536</c:v>
                </c:pt>
                <c:pt idx="888">
                  <c:v>65536</c:v>
                </c:pt>
                <c:pt idx="889">
                  <c:v>65536</c:v>
                </c:pt>
                <c:pt idx="890">
                  <c:v>65536</c:v>
                </c:pt>
                <c:pt idx="891">
                  <c:v>65536</c:v>
                </c:pt>
                <c:pt idx="892">
                  <c:v>65536</c:v>
                </c:pt>
                <c:pt idx="893">
                  <c:v>65536</c:v>
                </c:pt>
                <c:pt idx="894">
                  <c:v>65536</c:v>
                </c:pt>
                <c:pt idx="895">
                  <c:v>65536</c:v>
                </c:pt>
                <c:pt idx="896">
                  <c:v>65536</c:v>
                </c:pt>
                <c:pt idx="897">
                  <c:v>65536</c:v>
                </c:pt>
                <c:pt idx="898">
                  <c:v>65536</c:v>
                </c:pt>
                <c:pt idx="899">
                  <c:v>65536</c:v>
                </c:pt>
                <c:pt idx="900">
                  <c:v>65536</c:v>
                </c:pt>
                <c:pt idx="901">
                  <c:v>65536</c:v>
                </c:pt>
                <c:pt idx="902">
                  <c:v>65536</c:v>
                </c:pt>
                <c:pt idx="903">
                  <c:v>65536</c:v>
                </c:pt>
                <c:pt idx="904">
                  <c:v>65536</c:v>
                </c:pt>
                <c:pt idx="905">
                  <c:v>65536</c:v>
                </c:pt>
                <c:pt idx="906">
                  <c:v>65536</c:v>
                </c:pt>
                <c:pt idx="907">
                  <c:v>65536</c:v>
                </c:pt>
                <c:pt idx="908">
                  <c:v>65536</c:v>
                </c:pt>
                <c:pt idx="909">
                  <c:v>65536</c:v>
                </c:pt>
                <c:pt idx="910">
                  <c:v>65536</c:v>
                </c:pt>
                <c:pt idx="911">
                  <c:v>65536</c:v>
                </c:pt>
                <c:pt idx="912">
                  <c:v>65536</c:v>
                </c:pt>
                <c:pt idx="913">
                  <c:v>65536</c:v>
                </c:pt>
                <c:pt idx="914">
                  <c:v>65536</c:v>
                </c:pt>
                <c:pt idx="915">
                  <c:v>65536</c:v>
                </c:pt>
                <c:pt idx="916">
                  <c:v>65536</c:v>
                </c:pt>
                <c:pt idx="917">
                  <c:v>65536</c:v>
                </c:pt>
                <c:pt idx="918">
                  <c:v>65536</c:v>
                </c:pt>
                <c:pt idx="919">
                  <c:v>65536</c:v>
                </c:pt>
                <c:pt idx="920">
                  <c:v>65536</c:v>
                </c:pt>
                <c:pt idx="921">
                  <c:v>65536</c:v>
                </c:pt>
                <c:pt idx="922">
                  <c:v>65536</c:v>
                </c:pt>
                <c:pt idx="923">
                  <c:v>65536</c:v>
                </c:pt>
                <c:pt idx="924">
                  <c:v>65536</c:v>
                </c:pt>
                <c:pt idx="925">
                  <c:v>65536</c:v>
                </c:pt>
                <c:pt idx="926">
                  <c:v>65536</c:v>
                </c:pt>
                <c:pt idx="927">
                  <c:v>65536</c:v>
                </c:pt>
                <c:pt idx="928">
                  <c:v>65536</c:v>
                </c:pt>
                <c:pt idx="929">
                  <c:v>65536</c:v>
                </c:pt>
                <c:pt idx="930">
                  <c:v>65536</c:v>
                </c:pt>
                <c:pt idx="931">
                  <c:v>65536</c:v>
                </c:pt>
                <c:pt idx="932">
                  <c:v>65536</c:v>
                </c:pt>
                <c:pt idx="933">
                  <c:v>65536</c:v>
                </c:pt>
                <c:pt idx="934">
                  <c:v>65536</c:v>
                </c:pt>
                <c:pt idx="935">
                  <c:v>65536</c:v>
                </c:pt>
                <c:pt idx="936">
                  <c:v>65536</c:v>
                </c:pt>
                <c:pt idx="937">
                  <c:v>65536</c:v>
                </c:pt>
                <c:pt idx="938">
                  <c:v>65536</c:v>
                </c:pt>
                <c:pt idx="939">
                  <c:v>65536</c:v>
                </c:pt>
                <c:pt idx="940">
                  <c:v>65536</c:v>
                </c:pt>
                <c:pt idx="941">
                  <c:v>65536</c:v>
                </c:pt>
                <c:pt idx="942">
                  <c:v>65536</c:v>
                </c:pt>
                <c:pt idx="943">
                  <c:v>65536</c:v>
                </c:pt>
                <c:pt idx="944">
                  <c:v>65536</c:v>
                </c:pt>
                <c:pt idx="945">
                  <c:v>65536</c:v>
                </c:pt>
                <c:pt idx="946">
                  <c:v>65536</c:v>
                </c:pt>
                <c:pt idx="947">
                  <c:v>65536</c:v>
                </c:pt>
                <c:pt idx="948">
                  <c:v>65536</c:v>
                </c:pt>
                <c:pt idx="949">
                  <c:v>65536</c:v>
                </c:pt>
                <c:pt idx="950">
                  <c:v>65536</c:v>
                </c:pt>
                <c:pt idx="951">
                  <c:v>65536</c:v>
                </c:pt>
                <c:pt idx="952">
                  <c:v>65536</c:v>
                </c:pt>
                <c:pt idx="953">
                  <c:v>65536</c:v>
                </c:pt>
                <c:pt idx="954">
                  <c:v>65536</c:v>
                </c:pt>
                <c:pt idx="955">
                  <c:v>65536</c:v>
                </c:pt>
                <c:pt idx="956">
                  <c:v>65536</c:v>
                </c:pt>
                <c:pt idx="957">
                  <c:v>65536</c:v>
                </c:pt>
                <c:pt idx="958">
                  <c:v>65536</c:v>
                </c:pt>
                <c:pt idx="959">
                  <c:v>65536</c:v>
                </c:pt>
                <c:pt idx="960">
                  <c:v>65536</c:v>
                </c:pt>
                <c:pt idx="961">
                  <c:v>65536</c:v>
                </c:pt>
                <c:pt idx="962">
                  <c:v>65536</c:v>
                </c:pt>
                <c:pt idx="963">
                  <c:v>65536</c:v>
                </c:pt>
                <c:pt idx="964">
                  <c:v>65536</c:v>
                </c:pt>
                <c:pt idx="965">
                  <c:v>65536</c:v>
                </c:pt>
                <c:pt idx="966">
                  <c:v>65536</c:v>
                </c:pt>
                <c:pt idx="967">
                  <c:v>65536</c:v>
                </c:pt>
                <c:pt idx="968">
                  <c:v>65536</c:v>
                </c:pt>
                <c:pt idx="969">
                  <c:v>65536</c:v>
                </c:pt>
                <c:pt idx="970">
                  <c:v>65536</c:v>
                </c:pt>
                <c:pt idx="971">
                  <c:v>65536</c:v>
                </c:pt>
                <c:pt idx="972">
                  <c:v>65536</c:v>
                </c:pt>
                <c:pt idx="973">
                  <c:v>65536</c:v>
                </c:pt>
                <c:pt idx="974">
                  <c:v>65536</c:v>
                </c:pt>
                <c:pt idx="975">
                  <c:v>65536</c:v>
                </c:pt>
                <c:pt idx="976">
                  <c:v>65536</c:v>
                </c:pt>
                <c:pt idx="977">
                  <c:v>65536</c:v>
                </c:pt>
                <c:pt idx="978">
                  <c:v>65536</c:v>
                </c:pt>
                <c:pt idx="979">
                  <c:v>65536</c:v>
                </c:pt>
                <c:pt idx="980">
                  <c:v>65536</c:v>
                </c:pt>
                <c:pt idx="981">
                  <c:v>65536</c:v>
                </c:pt>
                <c:pt idx="982">
                  <c:v>65536</c:v>
                </c:pt>
                <c:pt idx="983">
                  <c:v>65536</c:v>
                </c:pt>
                <c:pt idx="984">
                  <c:v>65536</c:v>
                </c:pt>
                <c:pt idx="985">
                  <c:v>65536</c:v>
                </c:pt>
                <c:pt idx="986">
                  <c:v>65536</c:v>
                </c:pt>
                <c:pt idx="987">
                  <c:v>65536</c:v>
                </c:pt>
                <c:pt idx="988">
                  <c:v>65536</c:v>
                </c:pt>
                <c:pt idx="989">
                  <c:v>65536</c:v>
                </c:pt>
                <c:pt idx="990">
                  <c:v>65536</c:v>
                </c:pt>
                <c:pt idx="991">
                  <c:v>65536</c:v>
                </c:pt>
                <c:pt idx="992">
                  <c:v>65536</c:v>
                </c:pt>
                <c:pt idx="993">
                  <c:v>65536</c:v>
                </c:pt>
                <c:pt idx="994">
                  <c:v>65536</c:v>
                </c:pt>
                <c:pt idx="995">
                  <c:v>65536</c:v>
                </c:pt>
                <c:pt idx="996">
                  <c:v>65536</c:v>
                </c:pt>
                <c:pt idx="997">
                  <c:v>65536</c:v>
                </c:pt>
                <c:pt idx="998">
                  <c:v>65536</c:v>
                </c:pt>
                <c:pt idx="999">
                  <c:v>65536</c:v>
                </c:pt>
                <c:pt idx="1000">
                  <c:v>65536</c:v>
                </c:pt>
              </c:numCache>
            </c:numRef>
          </c:xVal>
          <c:yVal>
            <c:numRef>
              <c:f>10</c:f>
              <c:numCache>
                <c:formatCode>General</c:formatCode>
                <c:ptCount val="1001"/>
                <c:pt idx="0">
                  <c:v>0.0931502210000001</c:v>
                </c:pt>
                <c:pt idx="1">
                  <c:v>5.093022807</c:v>
                </c:pt>
                <c:pt idx="2">
                  <c:v>30.562206464</c:v>
                </c:pt>
                <c:pt idx="3">
                  <c:v>29.881424315</c:v>
                </c:pt>
                <c:pt idx="4">
                  <c:v>31.201640774</c:v>
                </c:pt>
                <c:pt idx="5">
                  <c:v>26.76768775</c:v>
                </c:pt>
                <c:pt idx="6">
                  <c:v>31.107896103</c:v>
                </c:pt>
                <c:pt idx="7">
                  <c:v>27.283360642</c:v>
                </c:pt>
                <c:pt idx="8">
                  <c:v>31.107041212</c:v>
                </c:pt>
                <c:pt idx="9">
                  <c:v>20.936860595</c:v>
                </c:pt>
                <c:pt idx="10">
                  <c:v>31.199463617</c:v>
                </c:pt>
                <c:pt idx="11">
                  <c:v>27.239412234</c:v>
                </c:pt>
                <c:pt idx="12">
                  <c:v>31.088276246</c:v>
                </c:pt>
                <c:pt idx="13">
                  <c:v>27.68443863</c:v>
                </c:pt>
                <c:pt idx="14">
                  <c:v>31.178567533</c:v>
                </c:pt>
                <c:pt idx="15">
                  <c:v>27.138526241</c:v>
                </c:pt>
                <c:pt idx="16">
                  <c:v>31.176548314</c:v>
                </c:pt>
                <c:pt idx="17">
                  <c:v>27.524890623</c:v>
                </c:pt>
                <c:pt idx="18">
                  <c:v>31.200323597</c:v>
                </c:pt>
                <c:pt idx="19">
                  <c:v>27.285594375</c:v>
                </c:pt>
                <c:pt idx="20">
                  <c:v>31.064548469</c:v>
                </c:pt>
                <c:pt idx="21">
                  <c:v>22.061461006</c:v>
                </c:pt>
                <c:pt idx="22">
                  <c:v>20.221671759</c:v>
                </c:pt>
                <c:pt idx="23">
                  <c:v>27.509787991</c:v>
                </c:pt>
                <c:pt idx="24">
                  <c:v>31.204104968</c:v>
                </c:pt>
                <c:pt idx="25">
                  <c:v>27.576452208</c:v>
                </c:pt>
                <c:pt idx="26">
                  <c:v>31.23026646</c:v>
                </c:pt>
                <c:pt idx="27">
                  <c:v>26.611106243</c:v>
                </c:pt>
                <c:pt idx="28">
                  <c:v>31.193685167</c:v>
                </c:pt>
                <c:pt idx="29">
                  <c:v>27.295511353</c:v>
                </c:pt>
                <c:pt idx="30">
                  <c:v>31.127679552</c:v>
                </c:pt>
                <c:pt idx="31">
                  <c:v>27.220492459</c:v>
                </c:pt>
                <c:pt idx="32">
                  <c:v>31.195915736</c:v>
                </c:pt>
                <c:pt idx="33">
                  <c:v>27.375495136</c:v>
                </c:pt>
                <c:pt idx="34">
                  <c:v>31.105185258</c:v>
                </c:pt>
                <c:pt idx="35">
                  <c:v>27.095650515</c:v>
                </c:pt>
                <c:pt idx="36">
                  <c:v>31.153272698</c:v>
                </c:pt>
                <c:pt idx="37">
                  <c:v>27.268527743</c:v>
                </c:pt>
                <c:pt idx="38">
                  <c:v>31.256852868</c:v>
                </c:pt>
                <c:pt idx="39">
                  <c:v>27.391985305</c:v>
                </c:pt>
                <c:pt idx="40">
                  <c:v>31.121495967</c:v>
                </c:pt>
                <c:pt idx="41">
                  <c:v>20.255817625</c:v>
                </c:pt>
                <c:pt idx="42">
                  <c:v>31.199169221</c:v>
                </c:pt>
                <c:pt idx="43">
                  <c:v>22.961382627</c:v>
                </c:pt>
                <c:pt idx="44">
                  <c:v>31.104184212</c:v>
                </c:pt>
                <c:pt idx="45">
                  <c:v>27.34399053</c:v>
                </c:pt>
                <c:pt idx="46">
                  <c:v>31.119707657</c:v>
                </c:pt>
                <c:pt idx="47">
                  <c:v>25.969293994</c:v>
                </c:pt>
                <c:pt idx="48">
                  <c:v>30.902077101</c:v>
                </c:pt>
                <c:pt idx="49">
                  <c:v>27.055671326</c:v>
                </c:pt>
                <c:pt idx="50">
                  <c:v>31.176509635</c:v>
                </c:pt>
                <c:pt idx="51">
                  <c:v>27.421643516</c:v>
                </c:pt>
                <c:pt idx="52">
                  <c:v>31.207298152</c:v>
                </c:pt>
                <c:pt idx="53">
                  <c:v>26.69414874</c:v>
                </c:pt>
                <c:pt idx="54">
                  <c:v>31.11465217</c:v>
                </c:pt>
                <c:pt idx="55">
                  <c:v>27.076573907</c:v>
                </c:pt>
                <c:pt idx="56">
                  <c:v>31.206499795</c:v>
                </c:pt>
                <c:pt idx="57">
                  <c:v>27.118183458</c:v>
                </c:pt>
                <c:pt idx="58">
                  <c:v>31.064625274</c:v>
                </c:pt>
                <c:pt idx="59">
                  <c:v>26.95891555</c:v>
                </c:pt>
                <c:pt idx="60">
                  <c:v>31.183775386</c:v>
                </c:pt>
                <c:pt idx="61">
                  <c:v>27.676120723</c:v>
                </c:pt>
                <c:pt idx="62">
                  <c:v>31.246934001</c:v>
                </c:pt>
                <c:pt idx="63">
                  <c:v>18.799662431</c:v>
                </c:pt>
                <c:pt idx="64">
                  <c:v>5.816276897</c:v>
                </c:pt>
                <c:pt idx="65">
                  <c:v>5.935470096</c:v>
                </c:pt>
                <c:pt idx="66">
                  <c:v>31.011184101</c:v>
                </c:pt>
                <c:pt idx="67">
                  <c:v>27.21530975</c:v>
                </c:pt>
                <c:pt idx="68">
                  <c:v>31.178258058</c:v>
                </c:pt>
                <c:pt idx="69">
                  <c:v>26.71500745</c:v>
                </c:pt>
                <c:pt idx="70">
                  <c:v>31.087483967</c:v>
                </c:pt>
                <c:pt idx="71">
                  <c:v>27.321550271</c:v>
                </c:pt>
                <c:pt idx="72">
                  <c:v>30.987359826</c:v>
                </c:pt>
                <c:pt idx="73">
                  <c:v>23.577738585</c:v>
                </c:pt>
                <c:pt idx="74">
                  <c:v>31.131211928</c:v>
                </c:pt>
                <c:pt idx="75">
                  <c:v>27.358429078</c:v>
                </c:pt>
                <c:pt idx="76">
                  <c:v>31.112001778</c:v>
                </c:pt>
                <c:pt idx="77">
                  <c:v>27.396638133</c:v>
                </c:pt>
                <c:pt idx="78">
                  <c:v>31.163194016</c:v>
                </c:pt>
                <c:pt idx="79">
                  <c:v>27.235214095</c:v>
                </c:pt>
                <c:pt idx="80">
                  <c:v>31.112795307</c:v>
                </c:pt>
                <c:pt idx="81">
                  <c:v>27.256312347</c:v>
                </c:pt>
                <c:pt idx="82">
                  <c:v>31.096047336</c:v>
                </c:pt>
                <c:pt idx="83">
                  <c:v>27.454107255</c:v>
                </c:pt>
                <c:pt idx="84">
                  <c:v>31.076050417</c:v>
                </c:pt>
                <c:pt idx="85">
                  <c:v>25.246876714</c:v>
                </c:pt>
                <c:pt idx="86">
                  <c:v>20.610585275</c:v>
                </c:pt>
                <c:pt idx="87">
                  <c:v>27.329109485</c:v>
                </c:pt>
                <c:pt idx="88">
                  <c:v>30.883254884</c:v>
                </c:pt>
                <c:pt idx="89">
                  <c:v>27.264143138</c:v>
                </c:pt>
                <c:pt idx="90">
                  <c:v>31.159082548</c:v>
                </c:pt>
                <c:pt idx="91">
                  <c:v>27.185407727</c:v>
                </c:pt>
                <c:pt idx="92">
                  <c:v>31.030476832</c:v>
                </c:pt>
                <c:pt idx="93">
                  <c:v>27.446784522</c:v>
                </c:pt>
                <c:pt idx="94">
                  <c:v>31.081462428</c:v>
                </c:pt>
                <c:pt idx="95">
                  <c:v>26.884168212</c:v>
                </c:pt>
                <c:pt idx="96">
                  <c:v>30.683385014</c:v>
                </c:pt>
                <c:pt idx="97">
                  <c:v>27.236081958</c:v>
                </c:pt>
                <c:pt idx="98">
                  <c:v>31.055349969</c:v>
                </c:pt>
                <c:pt idx="99">
                  <c:v>26.917908284</c:v>
                </c:pt>
                <c:pt idx="100">
                  <c:v>30.991747165</c:v>
                </c:pt>
                <c:pt idx="101">
                  <c:v>27.287194356</c:v>
                </c:pt>
                <c:pt idx="102">
                  <c:v>31.191633016</c:v>
                </c:pt>
                <c:pt idx="103">
                  <c:v>2.151744373</c:v>
                </c:pt>
                <c:pt idx="104">
                  <c:v>31.243631701</c:v>
                </c:pt>
                <c:pt idx="105">
                  <c:v>27.871827941</c:v>
                </c:pt>
                <c:pt idx="106">
                  <c:v>31.357234161</c:v>
                </c:pt>
                <c:pt idx="107">
                  <c:v>27.11600631</c:v>
                </c:pt>
                <c:pt idx="108">
                  <c:v>30.863325926</c:v>
                </c:pt>
                <c:pt idx="109">
                  <c:v>27.440124889</c:v>
                </c:pt>
                <c:pt idx="110">
                  <c:v>30.918091751</c:v>
                </c:pt>
                <c:pt idx="111">
                  <c:v>27.328229739</c:v>
                </c:pt>
                <c:pt idx="112">
                  <c:v>31.010212058</c:v>
                </c:pt>
                <c:pt idx="113">
                  <c:v>27.232268494</c:v>
                </c:pt>
                <c:pt idx="114">
                  <c:v>31.215834599</c:v>
                </c:pt>
                <c:pt idx="115">
                  <c:v>21.470037048</c:v>
                </c:pt>
                <c:pt idx="116">
                  <c:v>31.20306655</c:v>
                </c:pt>
                <c:pt idx="117">
                  <c:v>27.097982191</c:v>
                </c:pt>
                <c:pt idx="118">
                  <c:v>31.211802271</c:v>
                </c:pt>
                <c:pt idx="119">
                  <c:v>27.760525128</c:v>
                </c:pt>
                <c:pt idx="120">
                  <c:v>31.183837302</c:v>
                </c:pt>
                <c:pt idx="121">
                  <c:v>17.630239552</c:v>
                </c:pt>
                <c:pt idx="122">
                  <c:v>31.044085776</c:v>
                </c:pt>
                <c:pt idx="123">
                  <c:v>22.864034349</c:v>
                </c:pt>
                <c:pt idx="124">
                  <c:v>31.169525636</c:v>
                </c:pt>
                <c:pt idx="125">
                  <c:v>27.157655056</c:v>
                </c:pt>
                <c:pt idx="126">
                  <c:v>31.013312094</c:v>
                </c:pt>
                <c:pt idx="127">
                  <c:v>24.931790733</c:v>
                </c:pt>
                <c:pt idx="128">
                  <c:v>8.219518187</c:v>
                </c:pt>
                <c:pt idx="129">
                  <c:v>5.874656299</c:v>
                </c:pt>
                <c:pt idx="130">
                  <c:v>31.158897093</c:v>
                </c:pt>
                <c:pt idx="131">
                  <c:v>27.487832594</c:v>
                </c:pt>
                <c:pt idx="132">
                  <c:v>31.195373555</c:v>
                </c:pt>
                <c:pt idx="133">
                  <c:v>27.474981374</c:v>
                </c:pt>
                <c:pt idx="134">
                  <c:v>30.959909855</c:v>
                </c:pt>
                <c:pt idx="135">
                  <c:v>27.203719183</c:v>
                </c:pt>
                <c:pt idx="136">
                  <c:v>30.947548454</c:v>
                </c:pt>
                <c:pt idx="137">
                  <c:v>21.398875133</c:v>
                </c:pt>
                <c:pt idx="138">
                  <c:v>31.083084861</c:v>
                </c:pt>
                <c:pt idx="139">
                  <c:v>27.234186899</c:v>
                </c:pt>
                <c:pt idx="140">
                  <c:v>31.019069853</c:v>
                </c:pt>
                <c:pt idx="141">
                  <c:v>27.503705821</c:v>
                </c:pt>
                <c:pt idx="142">
                  <c:v>31.159337551</c:v>
                </c:pt>
                <c:pt idx="143">
                  <c:v>27.234476159</c:v>
                </c:pt>
                <c:pt idx="144">
                  <c:v>31.078341066</c:v>
                </c:pt>
                <c:pt idx="145">
                  <c:v>27.663293875</c:v>
                </c:pt>
                <c:pt idx="146">
                  <c:v>31.154323255</c:v>
                </c:pt>
                <c:pt idx="147">
                  <c:v>17.865702662</c:v>
                </c:pt>
                <c:pt idx="148">
                  <c:v>31.080624365</c:v>
                </c:pt>
                <c:pt idx="149">
                  <c:v>21.423704885</c:v>
                </c:pt>
                <c:pt idx="150">
                  <c:v>30.986320499</c:v>
                </c:pt>
                <c:pt idx="151">
                  <c:v>26.851855385</c:v>
                </c:pt>
                <c:pt idx="152">
                  <c:v>31.121973912</c:v>
                </c:pt>
                <c:pt idx="153">
                  <c:v>27.703282162</c:v>
                </c:pt>
                <c:pt idx="154">
                  <c:v>31.126800438</c:v>
                </c:pt>
                <c:pt idx="155">
                  <c:v>27.128588263</c:v>
                </c:pt>
                <c:pt idx="156">
                  <c:v>30.947152076</c:v>
                </c:pt>
                <c:pt idx="157">
                  <c:v>27.53981668</c:v>
                </c:pt>
                <c:pt idx="158">
                  <c:v>31.151295371</c:v>
                </c:pt>
                <c:pt idx="159">
                  <c:v>27.053533329</c:v>
                </c:pt>
                <c:pt idx="160">
                  <c:v>31.052878513</c:v>
                </c:pt>
                <c:pt idx="161">
                  <c:v>27.476315226</c:v>
                </c:pt>
                <c:pt idx="162">
                  <c:v>31.230181071</c:v>
                </c:pt>
                <c:pt idx="163">
                  <c:v>27.351544306</c:v>
                </c:pt>
                <c:pt idx="164">
                  <c:v>31.105400876</c:v>
                </c:pt>
                <c:pt idx="165">
                  <c:v>18.766747004</c:v>
                </c:pt>
                <c:pt idx="166">
                  <c:v>21.086112765</c:v>
                </c:pt>
                <c:pt idx="167">
                  <c:v>27.290163707</c:v>
                </c:pt>
                <c:pt idx="168">
                  <c:v>31.066453347</c:v>
                </c:pt>
                <c:pt idx="169">
                  <c:v>27.081954912</c:v>
                </c:pt>
                <c:pt idx="170">
                  <c:v>31.145658278</c:v>
                </c:pt>
                <c:pt idx="171">
                  <c:v>27.276999172</c:v>
                </c:pt>
                <c:pt idx="172">
                  <c:v>30.88151662</c:v>
                </c:pt>
                <c:pt idx="173">
                  <c:v>27.441527279</c:v>
                </c:pt>
                <c:pt idx="174">
                  <c:v>31.051044363</c:v>
                </c:pt>
                <c:pt idx="175">
                  <c:v>27.307744113</c:v>
                </c:pt>
                <c:pt idx="176">
                  <c:v>31.089630137</c:v>
                </c:pt>
                <c:pt idx="177">
                  <c:v>27.505704812</c:v>
                </c:pt>
                <c:pt idx="178">
                  <c:v>30.996143394</c:v>
                </c:pt>
                <c:pt idx="179">
                  <c:v>26.719791098</c:v>
                </c:pt>
                <c:pt idx="180">
                  <c:v>31.062244493</c:v>
                </c:pt>
                <c:pt idx="181">
                  <c:v>27.452523631</c:v>
                </c:pt>
                <c:pt idx="182">
                  <c:v>31.168860656</c:v>
                </c:pt>
                <c:pt idx="183">
                  <c:v>27.560083837</c:v>
                </c:pt>
                <c:pt idx="184">
                  <c:v>31.177801592</c:v>
                </c:pt>
                <c:pt idx="185">
                  <c:v>19.665459415</c:v>
                </c:pt>
                <c:pt idx="186">
                  <c:v>31.090414832</c:v>
                </c:pt>
                <c:pt idx="187">
                  <c:v>26.817805487</c:v>
                </c:pt>
                <c:pt idx="188">
                  <c:v>30.959993772</c:v>
                </c:pt>
                <c:pt idx="189">
                  <c:v>27.388814643</c:v>
                </c:pt>
                <c:pt idx="190">
                  <c:v>31.131836733</c:v>
                </c:pt>
                <c:pt idx="191">
                  <c:v>20.607292751</c:v>
                </c:pt>
                <c:pt idx="192">
                  <c:v>8.46630945800001</c:v>
                </c:pt>
                <c:pt idx="193">
                  <c:v>5.805252027</c:v>
                </c:pt>
                <c:pt idx="194">
                  <c:v>31.08530733</c:v>
                </c:pt>
                <c:pt idx="195">
                  <c:v>27.549852898</c:v>
                </c:pt>
                <c:pt idx="196">
                  <c:v>31.135431778</c:v>
                </c:pt>
                <c:pt idx="197">
                  <c:v>27.365108712</c:v>
                </c:pt>
                <c:pt idx="198">
                  <c:v>30.986511546</c:v>
                </c:pt>
                <c:pt idx="199">
                  <c:v>27.247493309</c:v>
                </c:pt>
                <c:pt idx="200">
                  <c:v>31.074905219</c:v>
                </c:pt>
                <c:pt idx="201">
                  <c:v>21.039233033</c:v>
                </c:pt>
                <c:pt idx="202">
                  <c:v>30.943089792</c:v>
                </c:pt>
                <c:pt idx="203">
                  <c:v>27.28237128</c:v>
                </c:pt>
                <c:pt idx="204">
                  <c:v>30.903209596</c:v>
                </c:pt>
                <c:pt idx="205">
                  <c:v>27.604212726</c:v>
                </c:pt>
                <c:pt idx="206">
                  <c:v>31.125235123</c:v>
                </c:pt>
                <c:pt idx="207">
                  <c:v>27.203748634</c:v>
                </c:pt>
                <c:pt idx="208">
                  <c:v>31.189449513</c:v>
                </c:pt>
                <c:pt idx="209">
                  <c:v>27.773037136</c:v>
                </c:pt>
                <c:pt idx="210">
                  <c:v>31.08023226</c:v>
                </c:pt>
                <c:pt idx="211">
                  <c:v>18.159676397</c:v>
                </c:pt>
                <c:pt idx="212">
                  <c:v>31.009814074</c:v>
                </c:pt>
                <c:pt idx="213">
                  <c:v>21.201588809</c:v>
                </c:pt>
                <c:pt idx="214">
                  <c:v>31.104838735</c:v>
                </c:pt>
                <c:pt idx="215">
                  <c:v>27.466242442</c:v>
                </c:pt>
                <c:pt idx="216">
                  <c:v>31.05747635</c:v>
                </c:pt>
                <c:pt idx="217">
                  <c:v>27.383776532</c:v>
                </c:pt>
                <c:pt idx="218">
                  <c:v>31.158541646</c:v>
                </c:pt>
                <c:pt idx="219">
                  <c:v>27.345674738</c:v>
                </c:pt>
                <c:pt idx="220">
                  <c:v>30.990577596</c:v>
                </c:pt>
                <c:pt idx="221">
                  <c:v>27.022439534</c:v>
                </c:pt>
                <c:pt idx="222">
                  <c:v>31.134490506</c:v>
                </c:pt>
                <c:pt idx="223">
                  <c:v>27.155031388</c:v>
                </c:pt>
                <c:pt idx="224">
                  <c:v>31.048143933</c:v>
                </c:pt>
                <c:pt idx="225">
                  <c:v>26.728368455</c:v>
                </c:pt>
                <c:pt idx="226">
                  <c:v>30.906850864</c:v>
                </c:pt>
                <c:pt idx="227">
                  <c:v>21.36314568</c:v>
                </c:pt>
                <c:pt idx="228">
                  <c:v>30.991647787</c:v>
                </c:pt>
                <c:pt idx="229">
                  <c:v>27.432132801</c:v>
                </c:pt>
                <c:pt idx="230">
                  <c:v>2.134909333</c:v>
                </c:pt>
                <c:pt idx="231">
                  <c:v>22.090952205</c:v>
                </c:pt>
                <c:pt idx="232">
                  <c:v>31.027135841</c:v>
                </c:pt>
                <c:pt idx="233">
                  <c:v>27.268308775</c:v>
                </c:pt>
                <c:pt idx="234">
                  <c:v>30.909618497</c:v>
                </c:pt>
                <c:pt idx="235">
                  <c:v>26.999316899</c:v>
                </c:pt>
                <c:pt idx="236">
                  <c:v>30.805407484</c:v>
                </c:pt>
                <c:pt idx="237">
                  <c:v>27.430126524</c:v>
                </c:pt>
                <c:pt idx="238">
                  <c:v>30.942342997</c:v>
                </c:pt>
                <c:pt idx="239">
                  <c:v>27.24917156</c:v>
                </c:pt>
                <c:pt idx="240">
                  <c:v>31.082023724</c:v>
                </c:pt>
                <c:pt idx="241">
                  <c:v>27.276460301</c:v>
                </c:pt>
                <c:pt idx="242">
                  <c:v>30.949736336</c:v>
                </c:pt>
                <c:pt idx="243">
                  <c:v>25.061276794</c:v>
                </c:pt>
                <c:pt idx="244">
                  <c:v>31.021076383</c:v>
                </c:pt>
                <c:pt idx="245">
                  <c:v>27.120852697</c:v>
                </c:pt>
                <c:pt idx="246">
                  <c:v>30.97340351</c:v>
                </c:pt>
                <c:pt idx="247">
                  <c:v>27.912322615</c:v>
                </c:pt>
                <c:pt idx="248">
                  <c:v>30.888311386</c:v>
                </c:pt>
                <c:pt idx="249">
                  <c:v>19.956545992</c:v>
                </c:pt>
                <c:pt idx="250">
                  <c:v>31.006454575</c:v>
                </c:pt>
                <c:pt idx="251">
                  <c:v>25.739202758</c:v>
                </c:pt>
                <c:pt idx="252">
                  <c:v>30.888075987</c:v>
                </c:pt>
                <c:pt idx="253">
                  <c:v>27.384224156</c:v>
                </c:pt>
                <c:pt idx="254">
                  <c:v>31.03750599</c:v>
                </c:pt>
                <c:pt idx="255">
                  <c:v>21.062150735</c:v>
                </c:pt>
                <c:pt idx="256">
                  <c:v>8.693030735</c:v>
                </c:pt>
                <c:pt idx="257">
                  <c:v>21.088958317</c:v>
                </c:pt>
                <c:pt idx="258">
                  <c:v>31.087860871</c:v>
                </c:pt>
                <c:pt idx="259">
                  <c:v>30.723172793</c:v>
                </c:pt>
                <c:pt idx="260">
                  <c:v>30.983714845</c:v>
                </c:pt>
                <c:pt idx="261">
                  <c:v>26.652223586</c:v>
                </c:pt>
                <c:pt idx="262">
                  <c:v>30.932584627</c:v>
                </c:pt>
                <c:pt idx="263">
                  <c:v>27.006594343</c:v>
                </c:pt>
                <c:pt idx="264">
                  <c:v>31.03287574</c:v>
                </c:pt>
                <c:pt idx="265">
                  <c:v>20.635092495</c:v>
                </c:pt>
                <c:pt idx="266">
                  <c:v>30.711134797</c:v>
                </c:pt>
                <c:pt idx="267">
                  <c:v>27.41320164</c:v>
                </c:pt>
                <c:pt idx="268">
                  <c:v>30.953053053</c:v>
                </c:pt>
                <c:pt idx="269">
                  <c:v>27.55442053</c:v>
                </c:pt>
                <c:pt idx="270">
                  <c:v>31.007166208</c:v>
                </c:pt>
                <c:pt idx="271">
                  <c:v>27.166451269</c:v>
                </c:pt>
                <c:pt idx="272">
                  <c:v>31.034148154</c:v>
                </c:pt>
                <c:pt idx="273">
                  <c:v>27.553689365</c:v>
                </c:pt>
                <c:pt idx="274">
                  <c:v>31.005169128</c:v>
                </c:pt>
                <c:pt idx="275">
                  <c:v>20.464685758</c:v>
                </c:pt>
                <c:pt idx="276">
                  <c:v>30.962603067</c:v>
                </c:pt>
                <c:pt idx="277">
                  <c:v>27.625862485</c:v>
                </c:pt>
                <c:pt idx="278">
                  <c:v>30.796814702</c:v>
                </c:pt>
                <c:pt idx="279">
                  <c:v>27.441149698</c:v>
                </c:pt>
                <c:pt idx="280">
                  <c:v>30.74863157</c:v>
                </c:pt>
                <c:pt idx="281">
                  <c:v>27.644462108</c:v>
                </c:pt>
                <c:pt idx="282">
                  <c:v>31.028285183</c:v>
                </c:pt>
                <c:pt idx="283">
                  <c:v>27.096702349</c:v>
                </c:pt>
                <c:pt idx="284">
                  <c:v>31.013802032</c:v>
                </c:pt>
                <c:pt idx="285">
                  <c:v>27.436260067</c:v>
                </c:pt>
                <c:pt idx="286">
                  <c:v>30.902616736</c:v>
                </c:pt>
                <c:pt idx="287">
                  <c:v>27.111536058</c:v>
                </c:pt>
                <c:pt idx="288">
                  <c:v>30.985938411</c:v>
                </c:pt>
                <c:pt idx="289">
                  <c:v>27.129607508</c:v>
                </c:pt>
                <c:pt idx="290">
                  <c:v>30.882366751</c:v>
                </c:pt>
                <c:pt idx="291">
                  <c:v>26.389249027</c:v>
                </c:pt>
                <c:pt idx="292">
                  <c:v>31.002369058</c:v>
                </c:pt>
                <c:pt idx="293">
                  <c:v>27.608034017</c:v>
                </c:pt>
                <c:pt idx="294">
                  <c:v>30.738197845</c:v>
                </c:pt>
                <c:pt idx="295">
                  <c:v>27.514306195</c:v>
                </c:pt>
                <c:pt idx="296">
                  <c:v>31.025879324</c:v>
                </c:pt>
                <c:pt idx="297">
                  <c:v>21.994656451</c:v>
                </c:pt>
                <c:pt idx="298">
                  <c:v>30.88531221</c:v>
                </c:pt>
                <c:pt idx="299">
                  <c:v>25.808140145</c:v>
                </c:pt>
                <c:pt idx="300">
                  <c:v>30.95172628</c:v>
                </c:pt>
                <c:pt idx="301">
                  <c:v>27.20330689</c:v>
                </c:pt>
                <c:pt idx="302">
                  <c:v>30.897669522</c:v>
                </c:pt>
                <c:pt idx="303">
                  <c:v>27.499985582</c:v>
                </c:pt>
                <c:pt idx="304">
                  <c:v>30.83185014</c:v>
                </c:pt>
                <c:pt idx="305">
                  <c:v>27.496362627</c:v>
                </c:pt>
                <c:pt idx="306">
                  <c:v>30.907854453</c:v>
                </c:pt>
                <c:pt idx="307">
                  <c:v>27.5417847</c:v>
                </c:pt>
                <c:pt idx="308">
                  <c:v>31.00189478</c:v>
                </c:pt>
                <c:pt idx="309">
                  <c:v>26.886198976</c:v>
                </c:pt>
                <c:pt idx="310">
                  <c:v>30.871113895</c:v>
                </c:pt>
                <c:pt idx="311">
                  <c:v>27.357088777</c:v>
                </c:pt>
                <c:pt idx="312">
                  <c:v>30.981300614</c:v>
                </c:pt>
                <c:pt idx="313">
                  <c:v>26.753996873</c:v>
                </c:pt>
                <c:pt idx="314">
                  <c:v>30.987260475</c:v>
                </c:pt>
                <c:pt idx="315">
                  <c:v>27.353157986</c:v>
                </c:pt>
                <c:pt idx="316">
                  <c:v>30.931853568</c:v>
                </c:pt>
                <c:pt idx="317">
                  <c:v>28.099300631</c:v>
                </c:pt>
                <c:pt idx="318">
                  <c:v>30.966617052</c:v>
                </c:pt>
                <c:pt idx="319">
                  <c:v>22.916930525</c:v>
                </c:pt>
                <c:pt idx="320">
                  <c:v>6.180811576</c:v>
                </c:pt>
                <c:pt idx="321">
                  <c:v>20.965081484</c:v>
                </c:pt>
                <c:pt idx="322">
                  <c:v>31.037038303</c:v>
                </c:pt>
                <c:pt idx="323">
                  <c:v>30.711442576</c:v>
                </c:pt>
                <c:pt idx="324">
                  <c:v>30.883831819</c:v>
                </c:pt>
                <c:pt idx="325">
                  <c:v>26.153186926</c:v>
                </c:pt>
                <c:pt idx="326">
                  <c:v>30.850602156</c:v>
                </c:pt>
                <c:pt idx="327">
                  <c:v>27.505885458</c:v>
                </c:pt>
                <c:pt idx="328">
                  <c:v>30.877243901</c:v>
                </c:pt>
                <c:pt idx="329">
                  <c:v>27.460407571</c:v>
                </c:pt>
                <c:pt idx="330">
                  <c:v>30.900845892</c:v>
                </c:pt>
                <c:pt idx="331">
                  <c:v>27.586133569</c:v>
                </c:pt>
                <c:pt idx="332">
                  <c:v>30.861893125</c:v>
                </c:pt>
                <c:pt idx="333">
                  <c:v>27.151434207</c:v>
                </c:pt>
                <c:pt idx="334">
                  <c:v>30.949233172</c:v>
                </c:pt>
                <c:pt idx="335">
                  <c:v>27.563838497</c:v>
                </c:pt>
                <c:pt idx="336">
                  <c:v>30.996908083</c:v>
                </c:pt>
                <c:pt idx="337">
                  <c:v>27.381562498</c:v>
                </c:pt>
                <c:pt idx="338">
                  <c:v>31.047154228</c:v>
                </c:pt>
                <c:pt idx="339">
                  <c:v>27.511384254</c:v>
                </c:pt>
                <c:pt idx="340">
                  <c:v>31.000036053</c:v>
                </c:pt>
                <c:pt idx="341">
                  <c:v>22.667379969</c:v>
                </c:pt>
                <c:pt idx="342">
                  <c:v>22.099018489</c:v>
                </c:pt>
                <c:pt idx="343">
                  <c:v>27.577977525</c:v>
                </c:pt>
                <c:pt idx="344">
                  <c:v>30.936895528</c:v>
                </c:pt>
                <c:pt idx="345">
                  <c:v>27.023694933</c:v>
                </c:pt>
                <c:pt idx="346">
                  <c:v>30.895283874</c:v>
                </c:pt>
                <c:pt idx="347">
                  <c:v>26.793917329</c:v>
                </c:pt>
                <c:pt idx="348">
                  <c:v>30.973838739</c:v>
                </c:pt>
                <c:pt idx="349">
                  <c:v>27.307109068</c:v>
                </c:pt>
                <c:pt idx="350">
                  <c:v>30.969364865</c:v>
                </c:pt>
                <c:pt idx="351">
                  <c:v>27.224780447</c:v>
                </c:pt>
                <c:pt idx="352">
                  <c:v>30.948890115</c:v>
                </c:pt>
                <c:pt idx="353">
                  <c:v>27.529836028</c:v>
                </c:pt>
                <c:pt idx="354">
                  <c:v>30.967647425</c:v>
                </c:pt>
                <c:pt idx="355">
                  <c:v>21.462342659</c:v>
                </c:pt>
                <c:pt idx="356">
                  <c:v>2.176448593</c:v>
                </c:pt>
                <c:pt idx="357">
                  <c:v>22.10881007</c:v>
                </c:pt>
                <c:pt idx="358">
                  <c:v>31.272124367</c:v>
                </c:pt>
                <c:pt idx="359">
                  <c:v>27.774958811</c:v>
                </c:pt>
                <c:pt idx="360">
                  <c:v>31.097755958</c:v>
                </c:pt>
                <c:pt idx="361">
                  <c:v>27.493077516</c:v>
                </c:pt>
                <c:pt idx="362">
                  <c:v>31.011275951</c:v>
                </c:pt>
                <c:pt idx="363">
                  <c:v>27.380607769</c:v>
                </c:pt>
                <c:pt idx="364">
                  <c:v>31.00607199</c:v>
                </c:pt>
                <c:pt idx="365">
                  <c:v>27.282092849</c:v>
                </c:pt>
                <c:pt idx="366">
                  <c:v>30.978573596</c:v>
                </c:pt>
                <c:pt idx="367">
                  <c:v>27.518958483</c:v>
                </c:pt>
                <c:pt idx="368">
                  <c:v>30.703990058</c:v>
                </c:pt>
                <c:pt idx="369">
                  <c:v>27.043541072</c:v>
                </c:pt>
                <c:pt idx="370">
                  <c:v>30.680979897</c:v>
                </c:pt>
                <c:pt idx="371">
                  <c:v>22.411582587</c:v>
                </c:pt>
                <c:pt idx="372">
                  <c:v>30.852927875</c:v>
                </c:pt>
                <c:pt idx="373">
                  <c:v>27.562490087</c:v>
                </c:pt>
                <c:pt idx="374">
                  <c:v>31.043449148</c:v>
                </c:pt>
                <c:pt idx="375">
                  <c:v>27.876348347</c:v>
                </c:pt>
                <c:pt idx="376">
                  <c:v>30.996372797</c:v>
                </c:pt>
                <c:pt idx="377">
                  <c:v>22.703871235</c:v>
                </c:pt>
                <c:pt idx="378">
                  <c:v>30.978649976</c:v>
                </c:pt>
                <c:pt idx="379">
                  <c:v>23.670819758</c:v>
                </c:pt>
                <c:pt idx="380">
                  <c:v>30.940819036</c:v>
                </c:pt>
                <c:pt idx="381">
                  <c:v>27.546669743</c:v>
                </c:pt>
                <c:pt idx="382">
                  <c:v>30.853306689</c:v>
                </c:pt>
                <c:pt idx="383">
                  <c:v>27.501087101</c:v>
                </c:pt>
                <c:pt idx="384">
                  <c:v>8.40497427</c:v>
                </c:pt>
                <c:pt idx="385">
                  <c:v>21.116650469</c:v>
                </c:pt>
                <c:pt idx="386">
                  <c:v>31.026959616</c:v>
                </c:pt>
                <c:pt idx="387">
                  <c:v>30.783791211</c:v>
                </c:pt>
                <c:pt idx="388">
                  <c:v>30.917262475</c:v>
                </c:pt>
                <c:pt idx="389">
                  <c:v>22.214107633</c:v>
                </c:pt>
                <c:pt idx="390">
                  <c:v>30.91292662</c:v>
                </c:pt>
                <c:pt idx="391">
                  <c:v>27.253781905</c:v>
                </c:pt>
                <c:pt idx="392">
                  <c:v>30.924042538</c:v>
                </c:pt>
                <c:pt idx="393">
                  <c:v>27.619492099</c:v>
                </c:pt>
                <c:pt idx="394">
                  <c:v>30.938525758</c:v>
                </c:pt>
                <c:pt idx="395">
                  <c:v>27.163784792</c:v>
                </c:pt>
                <c:pt idx="396">
                  <c:v>30.716120071</c:v>
                </c:pt>
                <c:pt idx="397">
                  <c:v>27.282703034</c:v>
                </c:pt>
                <c:pt idx="398">
                  <c:v>30.916988596</c:v>
                </c:pt>
                <c:pt idx="399">
                  <c:v>26.656973462</c:v>
                </c:pt>
                <c:pt idx="400">
                  <c:v>30.784560543</c:v>
                </c:pt>
                <c:pt idx="401">
                  <c:v>27.203471806</c:v>
                </c:pt>
                <c:pt idx="402">
                  <c:v>30.98364608</c:v>
                </c:pt>
                <c:pt idx="403">
                  <c:v>27.720224757</c:v>
                </c:pt>
                <c:pt idx="404">
                  <c:v>31.04173115</c:v>
                </c:pt>
                <c:pt idx="405">
                  <c:v>18.750349264</c:v>
                </c:pt>
                <c:pt idx="406">
                  <c:v>22.624774867</c:v>
                </c:pt>
                <c:pt idx="407">
                  <c:v>27.444368458</c:v>
                </c:pt>
                <c:pt idx="408">
                  <c:v>30.888167109</c:v>
                </c:pt>
                <c:pt idx="409">
                  <c:v>27.780442878</c:v>
                </c:pt>
                <c:pt idx="410">
                  <c:v>30.877418429</c:v>
                </c:pt>
                <c:pt idx="411">
                  <c:v>27.488891041</c:v>
                </c:pt>
                <c:pt idx="412">
                  <c:v>30.821125492</c:v>
                </c:pt>
                <c:pt idx="413">
                  <c:v>27.120208754</c:v>
                </c:pt>
                <c:pt idx="414">
                  <c:v>30.866305668</c:v>
                </c:pt>
                <c:pt idx="415">
                  <c:v>27.263237991</c:v>
                </c:pt>
                <c:pt idx="416">
                  <c:v>30.810476301</c:v>
                </c:pt>
                <c:pt idx="417">
                  <c:v>27.581361667</c:v>
                </c:pt>
                <c:pt idx="418">
                  <c:v>30.872244121</c:v>
                </c:pt>
                <c:pt idx="419">
                  <c:v>21.418555414</c:v>
                </c:pt>
                <c:pt idx="420">
                  <c:v>30.843059242</c:v>
                </c:pt>
                <c:pt idx="421">
                  <c:v>27.451431996</c:v>
                </c:pt>
                <c:pt idx="422">
                  <c:v>30.980124194</c:v>
                </c:pt>
                <c:pt idx="423">
                  <c:v>27.810320828</c:v>
                </c:pt>
                <c:pt idx="424">
                  <c:v>30.747058912</c:v>
                </c:pt>
                <c:pt idx="425">
                  <c:v>22.655392053</c:v>
                </c:pt>
                <c:pt idx="426">
                  <c:v>30.894676125</c:v>
                </c:pt>
                <c:pt idx="427">
                  <c:v>22.813688869</c:v>
                </c:pt>
                <c:pt idx="428">
                  <c:v>30.916676684</c:v>
                </c:pt>
                <c:pt idx="429">
                  <c:v>27.190614359</c:v>
                </c:pt>
                <c:pt idx="430">
                  <c:v>30.953464833</c:v>
                </c:pt>
                <c:pt idx="431">
                  <c:v>27.026421177</c:v>
                </c:pt>
                <c:pt idx="432">
                  <c:v>30.797969692</c:v>
                </c:pt>
                <c:pt idx="433">
                  <c:v>26.950975811</c:v>
                </c:pt>
                <c:pt idx="434">
                  <c:v>30.847829934</c:v>
                </c:pt>
                <c:pt idx="435">
                  <c:v>27.540015884</c:v>
                </c:pt>
                <c:pt idx="436">
                  <c:v>30.928899226</c:v>
                </c:pt>
                <c:pt idx="437">
                  <c:v>26.669908489</c:v>
                </c:pt>
                <c:pt idx="438">
                  <c:v>30.772677896</c:v>
                </c:pt>
                <c:pt idx="439">
                  <c:v>27.55778076</c:v>
                </c:pt>
                <c:pt idx="440">
                  <c:v>30.991586631</c:v>
                </c:pt>
                <c:pt idx="441">
                  <c:v>27.593773259</c:v>
                </c:pt>
                <c:pt idx="442">
                  <c:v>30.95974965</c:v>
                </c:pt>
                <c:pt idx="443">
                  <c:v>14.325246665</c:v>
                </c:pt>
                <c:pt idx="444">
                  <c:v>30.906881274</c:v>
                </c:pt>
                <c:pt idx="445">
                  <c:v>27.349698633</c:v>
                </c:pt>
                <c:pt idx="446">
                  <c:v>30.918190659</c:v>
                </c:pt>
                <c:pt idx="447">
                  <c:v>27.412083227</c:v>
                </c:pt>
                <c:pt idx="448">
                  <c:v>7.99115855</c:v>
                </c:pt>
                <c:pt idx="449">
                  <c:v>21.192344665</c:v>
                </c:pt>
                <c:pt idx="450">
                  <c:v>30.850435506</c:v>
                </c:pt>
                <c:pt idx="451">
                  <c:v>30.810053206</c:v>
                </c:pt>
                <c:pt idx="452">
                  <c:v>30.937131673</c:v>
                </c:pt>
                <c:pt idx="453">
                  <c:v>20.582352457</c:v>
                </c:pt>
                <c:pt idx="454">
                  <c:v>30.885775336</c:v>
                </c:pt>
                <c:pt idx="455">
                  <c:v>27.480551966</c:v>
                </c:pt>
                <c:pt idx="456">
                  <c:v>30.955973877</c:v>
                </c:pt>
                <c:pt idx="457">
                  <c:v>27.421793136</c:v>
                </c:pt>
                <c:pt idx="458">
                  <c:v>30.859596373</c:v>
                </c:pt>
                <c:pt idx="459">
                  <c:v>27.45620104</c:v>
                </c:pt>
                <c:pt idx="460">
                  <c:v>30.922139864</c:v>
                </c:pt>
                <c:pt idx="461">
                  <c:v>27.431000866</c:v>
                </c:pt>
                <c:pt idx="462">
                  <c:v>30.816227008</c:v>
                </c:pt>
                <c:pt idx="463">
                  <c:v>26.697631439</c:v>
                </c:pt>
                <c:pt idx="464">
                  <c:v>30.912538735</c:v>
                </c:pt>
                <c:pt idx="465">
                  <c:v>28.182914851</c:v>
                </c:pt>
                <c:pt idx="466">
                  <c:v>31.029986366</c:v>
                </c:pt>
                <c:pt idx="467">
                  <c:v>17.604571097</c:v>
                </c:pt>
                <c:pt idx="468">
                  <c:v>30.921279932</c:v>
                </c:pt>
                <c:pt idx="469">
                  <c:v>27.72152748</c:v>
                </c:pt>
                <c:pt idx="470">
                  <c:v>30.929234226</c:v>
                </c:pt>
                <c:pt idx="471">
                  <c:v>26.869748835</c:v>
                </c:pt>
                <c:pt idx="472">
                  <c:v>30.843823968</c:v>
                </c:pt>
                <c:pt idx="473">
                  <c:v>27.517976068</c:v>
                </c:pt>
                <c:pt idx="474">
                  <c:v>30.930033687</c:v>
                </c:pt>
                <c:pt idx="475">
                  <c:v>27.318514688</c:v>
                </c:pt>
                <c:pt idx="476">
                  <c:v>30.752921456</c:v>
                </c:pt>
                <c:pt idx="477">
                  <c:v>27.56391106</c:v>
                </c:pt>
                <c:pt idx="478">
                  <c:v>30.999194728</c:v>
                </c:pt>
                <c:pt idx="479">
                  <c:v>26.841501173</c:v>
                </c:pt>
                <c:pt idx="480">
                  <c:v>30.816483989</c:v>
                </c:pt>
                <c:pt idx="481">
                  <c:v>27.245927521</c:v>
                </c:pt>
                <c:pt idx="482">
                  <c:v>30.905839737</c:v>
                </c:pt>
                <c:pt idx="483">
                  <c:v>2.013184304</c:v>
                </c:pt>
                <c:pt idx="484">
                  <c:v>31.060939059</c:v>
                </c:pt>
                <c:pt idx="485">
                  <c:v>22.119354074</c:v>
                </c:pt>
                <c:pt idx="486">
                  <c:v>31.01583085</c:v>
                </c:pt>
                <c:pt idx="487">
                  <c:v>27.235603741</c:v>
                </c:pt>
                <c:pt idx="488">
                  <c:v>30.643999111</c:v>
                </c:pt>
                <c:pt idx="489">
                  <c:v>27.506264822</c:v>
                </c:pt>
                <c:pt idx="490">
                  <c:v>30.687177024</c:v>
                </c:pt>
                <c:pt idx="491">
                  <c:v>27.532056007</c:v>
                </c:pt>
                <c:pt idx="492">
                  <c:v>30.75661021</c:v>
                </c:pt>
                <c:pt idx="493">
                  <c:v>27.258571222</c:v>
                </c:pt>
                <c:pt idx="494">
                  <c:v>30.947022494</c:v>
                </c:pt>
                <c:pt idx="495">
                  <c:v>27.345353353</c:v>
                </c:pt>
                <c:pt idx="496">
                  <c:v>30.958933395</c:v>
                </c:pt>
                <c:pt idx="497">
                  <c:v>27.949222939</c:v>
                </c:pt>
                <c:pt idx="498">
                  <c:v>30.846436436</c:v>
                </c:pt>
                <c:pt idx="499">
                  <c:v>17.545150651</c:v>
                </c:pt>
                <c:pt idx="500">
                  <c:v>30.835731911</c:v>
                </c:pt>
                <c:pt idx="501">
                  <c:v>27.457023042</c:v>
                </c:pt>
                <c:pt idx="502">
                  <c:v>30.959848824</c:v>
                </c:pt>
                <c:pt idx="503">
                  <c:v>26.674121022</c:v>
                </c:pt>
                <c:pt idx="504">
                  <c:v>30.957590863</c:v>
                </c:pt>
                <c:pt idx="505">
                  <c:v>27.596621807</c:v>
                </c:pt>
                <c:pt idx="506">
                  <c:v>30.923250997</c:v>
                </c:pt>
                <c:pt idx="507">
                  <c:v>27.325882045</c:v>
                </c:pt>
                <c:pt idx="508">
                  <c:v>31.065040028</c:v>
                </c:pt>
                <c:pt idx="509">
                  <c:v>27.369674906</c:v>
                </c:pt>
                <c:pt idx="510">
                  <c:v>31.01392452</c:v>
                </c:pt>
                <c:pt idx="511">
                  <c:v>27.788676114</c:v>
                </c:pt>
                <c:pt idx="512">
                  <c:v>11.801648886</c:v>
                </c:pt>
                <c:pt idx="513">
                  <c:v>21.279519536</c:v>
                </c:pt>
                <c:pt idx="514">
                  <c:v>31.074874476</c:v>
                </c:pt>
                <c:pt idx="515">
                  <c:v>31.067521102</c:v>
                </c:pt>
                <c:pt idx="516">
                  <c:v>31.00173414</c:v>
                </c:pt>
                <c:pt idx="517">
                  <c:v>27.675590352</c:v>
                </c:pt>
                <c:pt idx="518">
                  <c:v>31.013212577</c:v>
                </c:pt>
                <c:pt idx="519">
                  <c:v>27.434792319</c:v>
                </c:pt>
                <c:pt idx="520">
                  <c:v>31.051052037</c:v>
                </c:pt>
                <c:pt idx="521">
                  <c:v>27.800825973</c:v>
                </c:pt>
                <c:pt idx="522">
                  <c:v>30.940163779</c:v>
                </c:pt>
                <c:pt idx="523">
                  <c:v>27.496825975</c:v>
                </c:pt>
                <c:pt idx="524">
                  <c:v>30.959345331</c:v>
                </c:pt>
                <c:pt idx="525">
                  <c:v>27.407431131</c:v>
                </c:pt>
                <c:pt idx="526">
                  <c:v>30.737806812</c:v>
                </c:pt>
                <c:pt idx="527">
                  <c:v>27.368393118</c:v>
                </c:pt>
                <c:pt idx="528">
                  <c:v>30.914386983</c:v>
                </c:pt>
                <c:pt idx="529">
                  <c:v>27.408148575</c:v>
                </c:pt>
                <c:pt idx="530">
                  <c:v>31.011490269</c:v>
                </c:pt>
                <c:pt idx="531">
                  <c:v>27.551133615</c:v>
                </c:pt>
                <c:pt idx="532">
                  <c:v>31.019521682</c:v>
                </c:pt>
                <c:pt idx="533">
                  <c:v>18.770559978</c:v>
                </c:pt>
                <c:pt idx="534">
                  <c:v>23.540807802</c:v>
                </c:pt>
                <c:pt idx="535">
                  <c:v>27.46364886</c:v>
                </c:pt>
                <c:pt idx="536">
                  <c:v>30.842498972</c:v>
                </c:pt>
                <c:pt idx="537">
                  <c:v>27.373807253</c:v>
                </c:pt>
                <c:pt idx="538">
                  <c:v>30.773816001</c:v>
                </c:pt>
                <c:pt idx="539">
                  <c:v>27.587405547</c:v>
                </c:pt>
                <c:pt idx="540">
                  <c:v>30.836859549</c:v>
                </c:pt>
                <c:pt idx="541">
                  <c:v>27.63518348</c:v>
                </c:pt>
                <c:pt idx="542">
                  <c:v>30.991900057</c:v>
                </c:pt>
                <c:pt idx="543">
                  <c:v>23.126421498</c:v>
                </c:pt>
                <c:pt idx="544">
                  <c:v>30.991433743</c:v>
                </c:pt>
                <c:pt idx="545">
                  <c:v>27.419776403</c:v>
                </c:pt>
                <c:pt idx="546">
                  <c:v>30.97794729</c:v>
                </c:pt>
                <c:pt idx="547">
                  <c:v>21.234582901</c:v>
                </c:pt>
                <c:pt idx="548">
                  <c:v>30.989461619</c:v>
                </c:pt>
                <c:pt idx="549">
                  <c:v>27.938266227</c:v>
                </c:pt>
                <c:pt idx="550">
                  <c:v>30.938556232</c:v>
                </c:pt>
                <c:pt idx="551">
                  <c:v>27.574630522</c:v>
                </c:pt>
                <c:pt idx="552">
                  <c:v>31.021214245</c:v>
                </c:pt>
                <c:pt idx="553">
                  <c:v>25.253387189</c:v>
                </c:pt>
                <c:pt idx="554">
                  <c:v>30.637946415</c:v>
                </c:pt>
                <c:pt idx="555">
                  <c:v>21.131783693</c:v>
                </c:pt>
                <c:pt idx="556">
                  <c:v>30.96664758</c:v>
                </c:pt>
                <c:pt idx="557">
                  <c:v>27.519531088</c:v>
                </c:pt>
                <c:pt idx="558">
                  <c:v>30.9985217</c:v>
                </c:pt>
                <c:pt idx="559">
                  <c:v>27.714293714</c:v>
                </c:pt>
                <c:pt idx="560">
                  <c:v>31.036079971</c:v>
                </c:pt>
                <c:pt idx="561">
                  <c:v>27.424672132</c:v>
                </c:pt>
                <c:pt idx="562">
                  <c:v>30.990294772</c:v>
                </c:pt>
                <c:pt idx="563">
                  <c:v>27.67913874</c:v>
                </c:pt>
                <c:pt idx="564">
                  <c:v>30.764269081</c:v>
                </c:pt>
                <c:pt idx="565">
                  <c:v>27.259819086</c:v>
                </c:pt>
                <c:pt idx="566">
                  <c:v>30.943242204</c:v>
                </c:pt>
                <c:pt idx="567">
                  <c:v>27.503103772</c:v>
                </c:pt>
                <c:pt idx="568">
                  <c:v>30.807114529</c:v>
                </c:pt>
                <c:pt idx="569">
                  <c:v>25.821973019</c:v>
                </c:pt>
                <c:pt idx="570">
                  <c:v>30.797350667</c:v>
                </c:pt>
                <c:pt idx="571">
                  <c:v>27.742032442</c:v>
                </c:pt>
                <c:pt idx="572">
                  <c:v>30.938937152</c:v>
                </c:pt>
                <c:pt idx="573">
                  <c:v>27.650624953</c:v>
                </c:pt>
                <c:pt idx="574">
                  <c:v>30.939089523</c:v>
                </c:pt>
                <c:pt idx="575">
                  <c:v>19.539151924</c:v>
                </c:pt>
                <c:pt idx="576">
                  <c:v>6.504263134</c:v>
                </c:pt>
                <c:pt idx="577">
                  <c:v>20.676521304</c:v>
                </c:pt>
                <c:pt idx="578">
                  <c:v>30.769279157</c:v>
                </c:pt>
                <c:pt idx="579">
                  <c:v>31.062129304</c:v>
                </c:pt>
                <c:pt idx="580">
                  <c:v>30.946915779</c:v>
                </c:pt>
                <c:pt idx="581">
                  <c:v>27.581331394</c:v>
                </c:pt>
                <c:pt idx="582">
                  <c:v>30.906683605</c:v>
                </c:pt>
                <c:pt idx="583">
                  <c:v>27.678016814</c:v>
                </c:pt>
                <c:pt idx="584">
                  <c:v>30.886018293</c:v>
                </c:pt>
                <c:pt idx="585">
                  <c:v>27.683358971</c:v>
                </c:pt>
                <c:pt idx="586">
                  <c:v>30.86670756</c:v>
                </c:pt>
                <c:pt idx="587">
                  <c:v>26.937391382</c:v>
                </c:pt>
                <c:pt idx="588">
                  <c:v>30.904091327</c:v>
                </c:pt>
                <c:pt idx="589">
                  <c:v>27.314624664</c:v>
                </c:pt>
                <c:pt idx="590">
                  <c:v>30.921873508</c:v>
                </c:pt>
                <c:pt idx="591">
                  <c:v>26.895988914</c:v>
                </c:pt>
                <c:pt idx="592">
                  <c:v>30.880795563</c:v>
                </c:pt>
                <c:pt idx="593">
                  <c:v>27.61814431</c:v>
                </c:pt>
                <c:pt idx="594">
                  <c:v>31.079655652</c:v>
                </c:pt>
                <c:pt idx="595">
                  <c:v>28.180190483</c:v>
                </c:pt>
                <c:pt idx="596">
                  <c:v>31.005306849</c:v>
                </c:pt>
                <c:pt idx="597">
                  <c:v>18.650745113</c:v>
                </c:pt>
                <c:pt idx="598">
                  <c:v>24.005909798</c:v>
                </c:pt>
                <c:pt idx="599">
                  <c:v>27.177769061</c:v>
                </c:pt>
                <c:pt idx="600">
                  <c:v>30.958445188</c:v>
                </c:pt>
                <c:pt idx="601">
                  <c:v>27.434894158</c:v>
                </c:pt>
                <c:pt idx="602">
                  <c:v>30.676058449</c:v>
                </c:pt>
                <c:pt idx="603">
                  <c:v>26.752225265</c:v>
                </c:pt>
                <c:pt idx="604">
                  <c:v>30.896104374</c:v>
                </c:pt>
                <c:pt idx="605">
                  <c:v>27.288077389</c:v>
                </c:pt>
                <c:pt idx="606">
                  <c:v>30.870567775</c:v>
                </c:pt>
                <c:pt idx="607">
                  <c:v>22.39829831</c:v>
                </c:pt>
                <c:pt idx="608">
                  <c:v>30.915276959</c:v>
                </c:pt>
                <c:pt idx="609">
                  <c:v>27.502700415</c:v>
                </c:pt>
                <c:pt idx="610">
                  <c:v>2.175474942</c:v>
                </c:pt>
                <c:pt idx="611">
                  <c:v>22.654750712</c:v>
                </c:pt>
                <c:pt idx="612">
                  <c:v>31.186894739</c:v>
                </c:pt>
                <c:pt idx="613">
                  <c:v>27.638101381</c:v>
                </c:pt>
                <c:pt idx="614">
                  <c:v>30.839985578</c:v>
                </c:pt>
                <c:pt idx="615">
                  <c:v>27.448955146</c:v>
                </c:pt>
                <c:pt idx="616">
                  <c:v>30.640494234</c:v>
                </c:pt>
                <c:pt idx="617">
                  <c:v>27.441527279</c:v>
                </c:pt>
                <c:pt idx="618">
                  <c:v>30.863530623</c:v>
                </c:pt>
                <c:pt idx="619">
                  <c:v>27.599889271</c:v>
                </c:pt>
                <c:pt idx="620">
                  <c:v>30.912234518</c:v>
                </c:pt>
                <c:pt idx="621">
                  <c:v>27.499022577</c:v>
                </c:pt>
                <c:pt idx="622">
                  <c:v>30.971884123</c:v>
                </c:pt>
                <c:pt idx="623">
                  <c:v>21.611622844</c:v>
                </c:pt>
                <c:pt idx="624">
                  <c:v>30.927011179</c:v>
                </c:pt>
                <c:pt idx="625">
                  <c:v>27.564449254</c:v>
                </c:pt>
                <c:pt idx="626">
                  <c:v>30.949019713</c:v>
                </c:pt>
                <c:pt idx="627">
                  <c:v>27.559987112</c:v>
                </c:pt>
                <c:pt idx="628">
                  <c:v>30.671977167</c:v>
                </c:pt>
                <c:pt idx="629">
                  <c:v>27.556100542</c:v>
                </c:pt>
                <c:pt idx="630">
                  <c:v>31.012493012</c:v>
                </c:pt>
                <c:pt idx="631">
                  <c:v>27.831857488</c:v>
                </c:pt>
                <c:pt idx="632">
                  <c:v>30.966617052</c:v>
                </c:pt>
                <c:pt idx="633">
                  <c:v>20.569399803</c:v>
                </c:pt>
                <c:pt idx="634">
                  <c:v>30.926394568</c:v>
                </c:pt>
                <c:pt idx="635">
                  <c:v>27.730882551</c:v>
                </c:pt>
                <c:pt idx="636">
                  <c:v>30.987428607</c:v>
                </c:pt>
                <c:pt idx="637">
                  <c:v>26.966182802</c:v>
                </c:pt>
                <c:pt idx="638">
                  <c:v>30.956126416</c:v>
                </c:pt>
                <c:pt idx="639">
                  <c:v>27.67252435</c:v>
                </c:pt>
                <c:pt idx="640">
                  <c:v>8.549274064</c:v>
                </c:pt>
                <c:pt idx="641">
                  <c:v>20.850028962</c:v>
                </c:pt>
                <c:pt idx="642">
                  <c:v>30.895990413</c:v>
                </c:pt>
                <c:pt idx="643">
                  <c:v>31.048159278</c:v>
                </c:pt>
                <c:pt idx="644">
                  <c:v>30.840167256</c:v>
                </c:pt>
                <c:pt idx="645">
                  <c:v>27.76284995</c:v>
                </c:pt>
                <c:pt idx="646">
                  <c:v>30.900595102</c:v>
                </c:pt>
                <c:pt idx="647">
                  <c:v>27.400432044</c:v>
                </c:pt>
                <c:pt idx="648">
                  <c:v>30.850943038</c:v>
                </c:pt>
                <c:pt idx="649">
                  <c:v>27.342086375</c:v>
                </c:pt>
                <c:pt idx="650">
                  <c:v>30.984486562</c:v>
                </c:pt>
                <c:pt idx="651">
                  <c:v>26.860035407</c:v>
                </c:pt>
                <c:pt idx="652">
                  <c:v>30.857231757</c:v>
                </c:pt>
                <c:pt idx="653">
                  <c:v>27.503278364</c:v>
                </c:pt>
                <c:pt idx="654">
                  <c:v>30.923654374</c:v>
                </c:pt>
                <c:pt idx="655">
                  <c:v>27.054733362</c:v>
                </c:pt>
                <c:pt idx="656">
                  <c:v>30.805339508</c:v>
                </c:pt>
                <c:pt idx="657">
                  <c:v>27.471983685</c:v>
                </c:pt>
                <c:pt idx="658">
                  <c:v>30.989591557</c:v>
                </c:pt>
                <c:pt idx="659">
                  <c:v>27.852309954</c:v>
                </c:pt>
                <c:pt idx="660">
                  <c:v>30.923060729</c:v>
                </c:pt>
                <c:pt idx="661">
                  <c:v>18.16798203</c:v>
                </c:pt>
                <c:pt idx="662">
                  <c:v>24.553570071</c:v>
                </c:pt>
                <c:pt idx="663">
                  <c:v>27.610375839</c:v>
                </c:pt>
                <c:pt idx="664">
                  <c:v>30.88619292</c:v>
                </c:pt>
                <c:pt idx="665">
                  <c:v>27.442540206</c:v>
                </c:pt>
                <c:pt idx="666">
                  <c:v>30.772263376</c:v>
                </c:pt>
                <c:pt idx="667">
                  <c:v>27.445141792</c:v>
                </c:pt>
                <c:pt idx="668">
                  <c:v>30.846640909</c:v>
                </c:pt>
                <c:pt idx="669">
                  <c:v>27.123985041</c:v>
                </c:pt>
                <c:pt idx="670">
                  <c:v>30.819862925</c:v>
                </c:pt>
                <c:pt idx="671">
                  <c:v>21.325500949</c:v>
                </c:pt>
                <c:pt idx="672">
                  <c:v>30.91887542</c:v>
                </c:pt>
                <c:pt idx="673">
                  <c:v>27.393227497</c:v>
                </c:pt>
                <c:pt idx="674">
                  <c:v>30.856936206</c:v>
                </c:pt>
                <c:pt idx="675">
                  <c:v>27.462670391</c:v>
                </c:pt>
                <c:pt idx="676">
                  <c:v>30.806004173</c:v>
                </c:pt>
                <c:pt idx="677">
                  <c:v>27.584298493</c:v>
                </c:pt>
                <c:pt idx="678">
                  <c:v>30.980040168</c:v>
                </c:pt>
                <c:pt idx="679">
                  <c:v>27.90453653</c:v>
                </c:pt>
                <c:pt idx="680">
                  <c:v>30.891432667</c:v>
                </c:pt>
                <c:pt idx="681">
                  <c:v>21.340739369</c:v>
                </c:pt>
                <c:pt idx="682">
                  <c:v>31.01253894</c:v>
                </c:pt>
                <c:pt idx="683">
                  <c:v>27.51993494</c:v>
                </c:pt>
                <c:pt idx="684">
                  <c:v>30.999324748</c:v>
                </c:pt>
                <c:pt idx="685">
                  <c:v>27.337582914</c:v>
                </c:pt>
                <c:pt idx="686">
                  <c:v>30.947632304</c:v>
                </c:pt>
                <c:pt idx="687">
                  <c:v>27.396387234</c:v>
                </c:pt>
                <c:pt idx="688">
                  <c:v>30.974686324</c:v>
                </c:pt>
                <c:pt idx="689">
                  <c:v>27.328075195</c:v>
                </c:pt>
                <c:pt idx="690">
                  <c:v>30.8685655</c:v>
                </c:pt>
                <c:pt idx="691">
                  <c:v>27.345329547</c:v>
                </c:pt>
                <c:pt idx="692">
                  <c:v>30.909314337</c:v>
                </c:pt>
                <c:pt idx="693">
                  <c:v>26.902513742</c:v>
                </c:pt>
                <c:pt idx="694">
                  <c:v>30.853094552</c:v>
                </c:pt>
                <c:pt idx="695">
                  <c:v>27.585836791</c:v>
                </c:pt>
                <c:pt idx="696">
                  <c:v>30.959886968</c:v>
                </c:pt>
                <c:pt idx="697">
                  <c:v>25.412034693</c:v>
                </c:pt>
                <c:pt idx="698">
                  <c:v>30.941824833</c:v>
                </c:pt>
                <c:pt idx="699">
                  <c:v>27.429731292</c:v>
                </c:pt>
                <c:pt idx="700">
                  <c:v>31.02933499</c:v>
                </c:pt>
                <c:pt idx="701">
                  <c:v>28.222036889</c:v>
                </c:pt>
                <c:pt idx="702">
                  <c:v>30.95364785</c:v>
                </c:pt>
                <c:pt idx="703">
                  <c:v>22.095730651</c:v>
                </c:pt>
                <c:pt idx="704">
                  <c:v>6.676412409</c:v>
                </c:pt>
                <c:pt idx="705">
                  <c:v>20.576955783</c:v>
                </c:pt>
                <c:pt idx="706">
                  <c:v>30.93970664</c:v>
                </c:pt>
                <c:pt idx="707">
                  <c:v>31.067344418</c:v>
                </c:pt>
                <c:pt idx="708">
                  <c:v>30.747465229</c:v>
                </c:pt>
                <c:pt idx="709">
                  <c:v>27.689649014</c:v>
                </c:pt>
                <c:pt idx="710">
                  <c:v>30.969280897</c:v>
                </c:pt>
                <c:pt idx="711">
                  <c:v>26.97438052</c:v>
                </c:pt>
                <c:pt idx="712">
                  <c:v>30.962244454</c:v>
                </c:pt>
                <c:pt idx="713">
                  <c:v>27.360252098</c:v>
                </c:pt>
                <c:pt idx="714">
                  <c:v>30.948623298</c:v>
                </c:pt>
                <c:pt idx="715">
                  <c:v>26.937859185</c:v>
                </c:pt>
                <c:pt idx="716">
                  <c:v>30.689305756</c:v>
                </c:pt>
                <c:pt idx="717">
                  <c:v>27.539623515</c:v>
                </c:pt>
                <c:pt idx="718">
                  <c:v>30.825095313</c:v>
                </c:pt>
                <c:pt idx="719">
                  <c:v>27.572603349</c:v>
                </c:pt>
                <c:pt idx="720">
                  <c:v>30.934404808</c:v>
                </c:pt>
                <c:pt idx="721">
                  <c:v>27.521375642</c:v>
                </c:pt>
                <c:pt idx="722">
                  <c:v>30.883330795</c:v>
                </c:pt>
                <c:pt idx="723">
                  <c:v>27.922818386</c:v>
                </c:pt>
                <c:pt idx="724">
                  <c:v>30.87978614</c:v>
                </c:pt>
                <c:pt idx="725">
                  <c:v>17.952992884</c:v>
                </c:pt>
                <c:pt idx="726">
                  <c:v>24.728146183</c:v>
                </c:pt>
                <c:pt idx="727">
                  <c:v>27.503549286</c:v>
                </c:pt>
                <c:pt idx="728">
                  <c:v>30.833098556</c:v>
                </c:pt>
                <c:pt idx="729">
                  <c:v>27.434858215</c:v>
                </c:pt>
                <c:pt idx="730">
                  <c:v>30.880044182</c:v>
                </c:pt>
                <c:pt idx="731">
                  <c:v>26.612137703</c:v>
                </c:pt>
                <c:pt idx="732">
                  <c:v>30.850193109</c:v>
                </c:pt>
                <c:pt idx="733">
                  <c:v>27.544344753</c:v>
                </c:pt>
                <c:pt idx="734">
                  <c:v>30.9424573</c:v>
                </c:pt>
                <c:pt idx="735">
                  <c:v>27.37369394</c:v>
                </c:pt>
                <c:pt idx="736">
                  <c:v>2.178213045</c:v>
                </c:pt>
                <c:pt idx="737">
                  <c:v>22.706731104</c:v>
                </c:pt>
                <c:pt idx="738">
                  <c:v>30.965052542</c:v>
                </c:pt>
                <c:pt idx="739">
                  <c:v>27.388175822</c:v>
                </c:pt>
                <c:pt idx="740">
                  <c:v>30.878807139</c:v>
                </c:pt>
                <c:pt idx="741">
                  <c:v>26.805166967</c:v>
                </c:pt>
                <c:pt idx="742">
                  <c:v>30.86346239</c:v>
                </c:pt>
                <c:pt idx="743">
                  <c:v>28.034459443</c:v>
                </c:pt>
                <c:pt idx="744">
                  <c:v>30.925968284</c:v>
                </c:pt>
                <c:pt idx="745">
                  <c:v>19.811665522</c:v>
                </c:pt>
                <c:pt idx="746">
                  <c:v>30.949797326</c:v>
                </c:pt>
                <c:pt idx="747">
                  <c:v>27.516137996</c:v>
                </c:pt>
                <c:pt idx="748">
                  <c:v>30.752733278</c:v>
                </c:pt>
                <c:pt idx="749">
                  <c:v>26.985260608</c:v>
                </c:pt>
                <c:pt idx="750">
                  <c:v>30.880643766</c:v>
                </c:pt>
                <c:pt idx="751">
                  <c:v>27.838850516</c:v>
                </c:pt>
                <c:pt idx="752">
                  <c:v>30.945391368</c:v>
                </c:pt>
                <c:pt idx="753">
                  <c:v>26.835458694</c:v>
                </c:pt>
                <c:pt idx="754">
                  <c:v>30.980208221</c:v>
                </c:pt>
                <c:pt idx="755">
                  <c:v>27.420213237</c:v>
                </c:pt>
                <c:pt idx="756">
                  <c:v>31.050975299</c:v>
                </c:pt>
                <c:pt idx="757">
                  <c:v>27.316970424</c:v>
                </c:pt>
                <c:pt idx="758">
                  <c:v>30.883991239</c:v>
                </c:pt>
                <c:pt idx="759">
                  <c:v>27.507047671</c:v>
                </c:pt>
                <c:pt idx="760">
                  <c:v>30.91064508</c:v>
                </c:pt>
                <c:pt idx="761">
                  <c:v>22.728085929</c:v>
                </c:pt>
                <c:pt idx="762">
                  <c:v>30.969899219</c:v>
                </c:pt>
                <c:pt idx="763">
                  <c:v>27.663689776</c:v>
                </c:pt>
                <c:pt idx="764">
                  <c:v>31.06997184</c:v>
                </c:pt>
                <c:pt idx="765">
                  <c:v>17.175646917</c:v>
                </c:pt>
                <c:pt idx="766">
                  <c:v>30.837260674</c:v>
                </c:pt>
                <c:pt idx="767">
                  <c:v>27.526874603</c:v>
                </c:pt>
                <c:pt idx="768">
                  <c:v>7.733156152</c:v>
                </c:pt>
                <c:pt idx="769">
                  <c:v>20.87588272</c:v>
                </c:pt>
                <c:pt idx="770">
                  <c:v>30.978069494</c:v>
                </c:pt>
                <c:pt idx="771">
                  <c:v>31.176006806</c:v>
                </c:pt>
                <c:pt idx="772">
                  <c:v>30.819817565</c:v>
                </c:pt>
                <c:pt idx="773">
                  <c:v>27.776850047</c:v>
                </c:pt>
                <c:pt idx="774">
                  <c:v>30.946755709</c:v>
                </c:pt>
                <c:pt idx="775">
                  <c:v>27.005950009</c:v>
                </c:pt>
                <c:pt idx="776">
                  <c:v>30.907565534</c:v>
                </c:pt>
                <c:pt idx="777">
                  <c:v>27.815357025</c:v>
                </c:pt>
                <c:pt idx="778">
                  <c:v>30.857269649</c:v>
                </c:pt>
                <c:pt idx="779">
                  <c:v>27.575562517</c:v>
                </c:pt>
                <c:pt idx="780">
                  <c:v>30.912660423</c:v>
                </c:pt>
                <c:pt idx="781">
                  <c:v>27.508300321</c:v>
                </c:pt>
                <c:pt idx="782">
                  <c:v>30.699361262</c:v>
                </c:pt>
                <c:pt idx="783">
                  <c:v>25.478556739</c:v>
                </c:pt>
                <c:pt idx="784">
                  <c:v>30.903232399</c:v>
                </c:pt>
                <c:pt idx="785">
                  <c:v>27.849809625</c:v>
                </c:pt>
                <c:pt idx="786">
                  <c:v>30.761888925</c:v>
                </c:pt>
                <c:pt idx="787">
                  <c:v>27.712887757</c:v>
                </c:pt>
                <c:pt idx="788">
                  <c:v>30.848208623</c:v>
                </c:pt>
                <c:pt idx="789">
                  <c:v>27.824048444</c:v>
                </c:pt>
                <c:pt idx="790">
                  <c:v>30.887908931</c:v>
                </c:pt>
                <c:pt idx="791">
                  <c:v>27.861222185</c:v>
                </c:pt>
                <c:pt idx="792">
                  <c:v>30.925998732</c:v>
                </c:pt>
                <c:pt idx="793">
                  <c:v>23.772210626</c:v>
                </c:pt>
                <c:pt idx="794">
                  <c:v>30.841885727</c:v>
                </c:pt>
                <c:pt idx="795">
                  <c:v>28.050481977</c:v>
                </c:pt>
                <c:pt idx="796">
                  <c:v>30.745644409</c:v>
                </c:pt>
                <c:pt idx="797">
                  <c:v>27.677852192</c:v>
                </c:pt>
                <c:pt idx="798">
                  <c:v>30.68181153</c:v>
                </c:pt>
                <c:pt idx="799">
                  <c:v>27.044763504</c:v>
                </c:pt>
                <c:pt idx="800">
                  <c:v>30.710541777</c:v>
                </c:pt>
                <c:pt idx="801">
                  <c:v>26.90950279</c:v>
                </c:pt>
                <c:pt idx="802">
                  <c:v>30.797924397</c:v>
                </c:pt>
                <c:pt idx="803">
                  <c:v>27.662611735</c:v>
                </c:pt>
                <c:pt idx="804">
                  <c:v>30.757039367</c:v>
                </c:pt>
                <c:pt idx="805">
                  <c:v>26.88466293</c:v>
                </c:pt>
                <c:pt idx="806">
                  <c:v>30.76283793</c:v>
                </c:pt>
                <c:pt idx="807">
                  <c:v>27.319946259</c:v>
                </c:pt>
                <c:pt idx="808">
                  <c:v>30.74237199</c:v>
                </c:pt>
                <c:pt idx="809">
                  <c:v>23.362492623</c:v>
                </c:pt>
                <c:pt idx="810">
                  <c:v>30.683924531</c:v>
                </c:pt>
                <c:pt idx="811">
                  <c:v>27.674401662</c:v>
                </c:pt>
                <c:pt idx="812">
                  <c:v>30.791169334</c:v>
                </c:pt>
                <c:pt idx="813">
                  <c:v>27.707075942</c:v>
                </c:pt>
                <c:pt idx="814">
                  <c:v>30.716240218</c:v>
                </c:pt>
                <c:pt idx="815">
                  <c:v>25.753553021</c:v>
                </c:pt>
                <c:pt idx="816">
                  <c:v>30.652933073</c:v>
                </c:pt>
                <c:pt idx="817">
                  <c:v>21.656188935</c:v>
                </c:pt>
                <c:pt idx="818">
                  <c:v>30.799691014</c:v>
                </c:pt>
                <c:pt idx="819">
                  <c:v>27.226025219</c:v>
                </c:pt>
                <c:pt idx="820">
                  <c:v>30.72606542</c:v>
                </c:pt>
                <c:pt idx="821">
                  <c:v>27.837222196</c:v>
                </c:pt>
                <c:pt idx="822">
                  <c:v>30.743643261</c:v>
                </c:pt>
                <c:pt idx="823">
                  <c:v>27.432923415</c:v>
                </c:pt>
                <c:pt idx="824">
                  <c:v>30.632583184</c:v>
                </c:pt>
                <c:pt idx="825">
                  <c:v>27.709342932</c:v>
                </c:pt>
                <c:pt idx="826">
                  <c:v>30.814798577</c:v>
                </c:pt>
                <c:pt idx="827">
                  <c:v>26.886221989</c:v>
                </c:pt>
                <c:pt idx="828">
                  <c:v>30.813037783</c:v>
                </c:pt>
                <c:pt idx="829">
                  <c:v>26.958250352</c:v>
                </c:pt>
                <c:pt idx="830">
                  <c:v>30.724885763</c:v>
                </c:pt>
                <c:pt idx="831">
                  <c:v>27.683865241</c:v>
                </c:pt>
                <c:pt idx="832">
                  <c:v>5.54452226799999</c:v>
                </c:pt>
                <c:pt idx="833">
                  <c:v>20.749464538</c:v>
                </c:pt>
                <c:pt idx="834">
                  <c:v>30.6498598</c:v>
                </c:pt>
                <c:pt idx="835">
                  <c:v>31.150021055</c:v>
                </c:pt>
                <c:pt idx="836">
                  <c:v>27.052723658</c:v>
                </c:pt>
                <c:pt idx="837">
                  <c:v>31.170716484</c:v>
                </c:pt>
                <c:pt idx="838">
                  <c:v>27.196994466</c:v>
                </c:pt>
                <c:pt idx="839">
                  <c:v>31.123076325</c:v>
                </c:pt>
                <c:pt idx="840">
                  <c:v>27.248811073</c:v>
                </c:pt>
                <c:pt idx="841">
                  <c:v>31.133248422</c:v>
                </c:pt>
                <c:pt idx="842">
                  <c:v>26.813610397</c:v>
                </c:pt>
                <c:pt idx="843">
                  <c:v>31.038832459</c:v>
                </c:pt>
                <c:pt idx="844">
                  <c:v>27.319144323</c:v>
                </c:pt>
                <c:pt idx="845">
                  <c:v>31.063788119</c:v>
                </c:pt>
                <c:pt idx="846">
                  <c:v>21.930264655</c:v>
                </c:pt>
                <c:pt idx="847">
                  <c:v>31.169208607</c:v>
                </c:pt>
                <c:pt idx="848">
                  <c:v>27.318538448</c:v>
                </c:pt>
                <c:pt idx="849">
                  <c:v>31.229342731</c:v>
                </c:pt>
                <c:pt idx="850">
                  <c:v>27.671043403</c:v>
                </c:pt>
                <c:pt idx="851">
                  <c:v>31.217091037</c:v>
                </c:pt>
                <c:pt idx="852">
                  <c:v>18.962995543</c:v>
                </c:pt>
                <c:pt idx="853">
                  <c:v>31.159654379</c:v>
                </c:pt>
                <c:pt idx="854">
                  <c:v>25.181199081</c:v>
                </c:pt>
                <c:pt idx="855">
                  <c:v>31.070694075</c:v>
                </c:pt>
                <c:pt idx="856">
                  <c:v>27.149902907</c:v>
                </c:pt>
                <c:pt idx="857">
                  <c:v>31.037743673</c:v>
                </c:pt>
                <c:pt idx="858">
                  <c:v>22.075857359</c:v>
                </c:pt>
                <c:pt idx="859">
                  <c:v>31.212158935</c:v>
                </c:pt>
                <c:pt idx="860">
                  <c:v>27.113835362</c:v>
                </c:pt>
                <c:pt idx="861">
                  <c:v>31.076895919</c:v>
                </c:pt>
                <c:pt idx="862">
                  <c:v>27.318348375</c:v>
                </c:pt>
                <c:pt idx="863">
                  <c:v>2.185809178</c:v>
                </c:pt>
                <c:pt idx="864">
                  <c:v>21.796667337</c:v>
                </c:pt>
                <c:pt idx="865">
                  <c:v>31.429704743</c:v>
                </c:pt>
                <c:pt idx="866">
                  <c:v>22.533288508</c:v>
                </c:pt>
                <c:pt idx="867">
                  <c:v>31.303024128</c:v>
                </c:pt>
                <c:pt idx="868">
                  <c:v>27.229547773</c:v>
                </c:pt>
                <c:pt idx="869">
                  <c:v>30.992335805</c:v>
                </c:pt>
                <c:pt idx="870">
                  <c:v>27.212621886</c:v>
                </c:pt>
                <c:pt idx="871">
                  <c:v>30.984998514</c:v>
                </c:pt>
                <c:pt idx="872">
                  <c:v>26.95476294</c:v>
                </c:pt>
                <c:pt idx="873">
                  <c:v>31.085968749</c:v>
                </c:pt>
                <c:pt idx="874">
                  <c:v>22.68093631</c:v>
                </c:pt>
                <c:pt idx="875">
                  <c:v>31.043487498</c:v>
                </c:pt>
                <c:pt idx="876">
                  <c:v>27.195693482</c:v>
                </c:pt>
                <c:pt idx="877">
                  <c:v>31.19523414</c:v>
                </c:pt>
                <c:pt idx="878">
                  <c:v>20.996985098</c:v>
                </c:pt>
                <c:pt idx="879">
                  <c:v>31.105500985</c:v>
                </c:pt>
                <c:pt idx="880">
                  <c:v>27.260049746</c:v>
                </c:pt>
                <c:pt idx="881">
                  <c:v>31.18281571</c:v>
                </c:pt>
                <c:pt idx="882">
                  <c:v>27.589507597</c:v>
                </c:pt>
                <c:pt idx="883">
                  <c:v>31.119114169</c:v>
                </c:pt>
                <c:pt idx="884">
                  <c:v>18.150793607</c:v>
                </c:pt>
                <c:pt idx="885">
                  <c:v>31.162336083</c:v>
                </c:pt>
                <c:pt idx="886">
                  <c:v>27.380440698</c:v>
                </c:pt>
                <c:pt idx="887">
                  <c:v>30.715677037</c:v>
                </c:pt>
                <c:pt idx="888">
                  <c:v>26.957209239</c:v>
                </c:pt>
                <c:pt idx="889">
                  <c:v>31.201787995</c:v>
                </c:pt>
                <c:pt idx="890">
                  <c:v>21.168418903</c:v>
                </c:pt>
                <c:pt idx="891">
                  <c:v>31.169479241</c:v>
                </c:pt>
                <c:pt idx="892">
                  <c:v>27.277786791</c:v>
                </c:pt>
                <c:pt idx="893">
                  <c:v>31.032009638</c:v>
                </c:pt>
                <c:pt idx="894">
                  <c:v>27.293133704</c:v>
                </c:pt>
                <c:pt idx="895">
                  <c:v>31.24912556</c:v>
                </c:pt>
                <c:pt idx="896">
                  <c:v>12.415635426</c:v>
                </c:pt>
                <c:pt idx="897">
                  <c:v>20.830322329</c:v>
                </c:pt>
                <c:pt idx="898">
                  <c:v>30.698536178</c:v>
                </c:pt>
                <c:pt idx="899">
                  <c:v>31.111262215</c:v>
                </c:pt>
                <c:pt idx="900">
                  <c:v>27.48457357</c:v>
                </c:pt>
                <c:pt idx="901">
                  <c:v>30.990225978</c:v>
                </c:pt>
                <c:pt idx="902">
                  <c:v>27.483984383</c:v>
                </c:pt>
                <c:pt idx="903">
                  <c:v>31.181345354</c:v>
                </c:pt>
                <c:pt idx="904">
                  <c:v>27.161518111</c:v>
                </c:pt>
                <c:pt idx="905">
                  <c:v>31.060393881</c:v>
                </c:pt>
                <c:pt idx="906">
                  <c:v>21.007359059</c:v>
                </c:pt>
                <c:pt idx="907">
                  <c:v>31.102367095</c:v>
                </c:pt>
                <c:pt idx="908">
                  <c:v>27.174976933</c:v>
                </c:pt>
                <c:pt idx="909">
                  <c:v>31.204569954</c:v>
                </c:pt>
                <c:pt idx="910">
                  <c:v>27.176381743</c:v>
                </c:pt>
                <c:pt idx="911">
                  <c:v>31.174111674</c:v>
                </c:pt>
                <c:pt idx="912">
                  <c:v>27.188407916</c:v>
                </c:pt>
                <c:pt idx="913">
                  <c:v>31.115214666</c:v>
                </c:pt>
                <c:pt idx="914">
                  <c:v>27.378638851</c:v>
                </c:pt>
                <c:pt idx="915">
                  <c:v>31.166533451</c:v>
                </c:pt>
                <c:pt idx="916">
                  <c:v>27.28876489</c:v>
                </c:pt>
                <c:pt idx="917">
                  <c:v>31.108019335</c:v>
                </c:pt>
                <c:pt idx="918">
                  <c:v>20.044298889</c:v>
                </c:pt>
                <c:pt idx="919">
                  <c:v>19.767902488</c:v>
                </c:pt>
                <c:pt idx="920">
                  <c:v>26.671001128</c:v>
                </c:pt>
                <c:pt idx="921">
                  <c:v>31.090199421</c:v>
                </c:pt>
                <c:pt idx="922">
                  <c:v>20.792661813</c:v>
                </c:pt>
                <c:pt idx="923">
                  <c:v>31.190982579</c:v>
                </c:pt>
                <c:pt idx="924">
                  <c:v>27.295867146</c:v>
                </c:pt>
                <c:pt idx="925">
                  <c:v>31.146067477</c:v>
                </c:pt>
                <c:pt idx="926">
                  <c:v>27.340735776</c:v>
                </c:pt>
                <c:pt idx="927">
                  <c:v>31.261581315</c:v>
                </c:pt>
                <c:pt idx="928">
                  <c:v>27.307827205</c:v>
                </c:pt>
                <c:pt idx="929">
                  <c:v>31.230499341</c:v>
                </c:pt>
                <c:pt idx="930">
                  <c:v>27.38201005</c:v>
                </c:pt>
                <c:pt idx="931">
                  <c:v>31.108535377</c:v>
                </c:pt>
                <c:pt idx="932">
                  <c:v>27.730619372</c:v>
                </c:pt>
                <c:pt idx="933">
                  <c:v>31.2622347</c:v>
                </c:pt>
                <c:pt idx="934">
                  <c:v>19.042796799</c:v>
                </c:pt>
                <c:pt idx="935">
                  <c:v>19.718395176</c:v>
                </c:pt>
                <c:pt idx="936">
                  <c:v>27.549140097</c:v>
                </c:pt>
                <c:pt idx="937">
                  <c:v>31.120833035</c:v>
                </c:pt>
                <c:pt idx="938">
                  <c:v>27.252321793</c:v>
                </c:pt>
                <c:pt idx="939">
                  <c:v>31.181105467</c:v>
                </c:pt>
                <c:pt idx="940">
                  <c:v>27.207836917</c:v>
                </c:pt>
                <c:pt idx="941">
                  <c:v>31.156215981</c:v>
                </c:pt>
                <c:pt idx="942">
                  <c:v>27.122345593</c:v>
                </c:pt>
                <c:pt idx="943">
                  <c:v>31.067014101</c:v>
                </c:pt>
                <c:pt idx="944">
                  <c:v>27.303352821</c:v>
                </c:pt>
                <c:pt idx="945">
                  <c:v>31.04205326</c:v>
                </c:pt>
                <c:pt idx="946">
                  <c:v>27.391274679</c:v>
                </c:pt>
                <c:pt idx="947">
                  <c:v>31.128149975</c:v>
                </c:pt>
                <c:pt idx="948">
                  <c:v>26.639045893</c:v>
                </c:pt>
                <c:pt idx="949">
                  <c:v>31.020448357</c:v>
                </c:pt>
                <c:pt idx="950">
                  <c:v>27.481429525</c:v>
                </c:pt>
                <c:pt idx="951">
                  <c:v>31.046433087</c:v>
                </c:pt>
                <c:pt idx="952">
                  <c:v>27.362671251</c:v>
                </c:pt>
                <c:pt idx="953">
                  <c:v>31.194266014</c:v>
                </c:pt>
                <c:pt idx="954">
                  <c:v>21.114730622</c:v>
                </c:pt>
                <c:pt idx="955">
                  <c:v>31.083330932</c:v>
                </c:pt>
                <c:pt idx="956">
                  <c:v>22.3517422</c:v>
                </c:pt>
                <c:pt idx="957">
                  <c:v>31.096370574</c:v>
                </c:pt>
                <c:pt idx="958">
                  <c:v>27.384588235</c:v>
                </c:pt>
                <c:pt idx="959">
                  <c:v>31.056447667</c:v>
                </c:pt>
                <c:pt idx="960">
                  <c:v>8.55237985400001</c:v>
                </c:pt>
                <c:pt idx="961">
                  <c:v>20.797490593</c:v>
                </c:pt>
                <c:pt idx="962">
                  <c:v>30.182528332</c:v>
                </c:pt>
                <c:pt idx="963">
                  <c:v>31.10108908</c:v>
                </c:pt>
                <c:pt idx="964">
                  <c:v>27.149902907</c:v>
                </c:pt>
                <c:pt idx="965">
                  <c:v>31.172634405</c:v>
                </c:pt>
                <c:pt idx="966">
                  <c:v>26.960136128</c:v>
                </c:pt>
                <c:pt idx="967">
                  <c:v>31.02784076</c:v>
                </c:pt>
                <c:pt idx="968">
                  <c:v>27.016042298</c:v>
                </c:pt>
                <c:pt idx="969">
                  <c:v>31.177368349</c:v>
                </c:pt>
                <c:pt idx="970">
                  <c:v>27.187960787</c:v>
                </c:pt>
                <c:pt idx="971">
                  <c:v>31.128805506</c:v>
                </c:pt>
                <c:pt idx="972">
                  <c:v>27.230934624</c:v>
                </c:pt>
                <c:pt idx="973">
                  <c:v>30.992932113</c:v>
                </c:pt>
                <c:pt idx="974">
                  <c:v>27.266095622</c:v>
                </c:pt>
                <c:pt idx="975">
                  <c:v>31.009722233</c:v>
                </c:pt>
                <c:pt idx="976">
                  <c:v>27.456555035</c:v>
                </c:pt>
                <c:pt idx="977">
                  <c:v>31.096316701</c:v>
                </c:pt>
                <c:pt idx="978">
                  <c:v>27.333176076</c:v>
                </c:pt>
                <c:pt idx="979">
                  <c:v>31.199688292</c:v>
                </c:pt>
                <c:pt idx="980">
                  <c:v>27.572234253</c:v>
                </c:pt>
                <c:pt idx="981">
                  <c:v>31.135979593</c:v>
                </c:pt>
                <c:pt idx="982">
                  <c:v>21.970165125</c:v>
                </c:pt>
                <c:pt idx="983">
                  <c:v>19.908907207</c:v>
                </c:pt>
                <c:pt idx="984">
                  <c:v>26.970281038</c:v>
                </c:pt>
                <c:pt idx="985">
                  <c:v>31.111069626</c:v>
                </c:pt>
                <c:pt idx="986">
                  <c:v>27.448745265</c:v>
                </c:pt>
                <c:pt idx="987">
                  <c:v>31.079040627</c:v>
                </c:pt>
                <c:pt idx="988">
                  <c:v>27.146864287</c:v>
                </c:pt>
                <c:pt idx="989">
                  <c:v>2.078640666</c:v>
                </c:pt>
                <c:pt idx="990">
                  <c:v>21.845771767</c:v>
                </c:pt>
                <c:pt idx="991">
                  <c:v>31.342473641</c:v>
                </c:pt>
                <c:pt idx="992">
                  <c:v>22.553362738</c:v>
                </c:pt>
                <c:pt idx="993">
                  <c:v>31.191300051</c:v>
                </c:pt>
                <c:pt idx="994">
                  <c:v>27.620864307</c:v>
                </c:pt>
                <c:pt idx="995">
                  <c:v>31.015049915</c:v>
                </c:pt>
                <c:pt idx="996">
                  <c:v>27.304177564</c:v>
                </c:pt>
                <c:pt idx="997">
                  <c:v>30.911451186</c:v>
                </c:pt>
                <c:pt idx="998">
                  <c:v>27.028136261</c:v>
                </c:pt>
                <c:pt idx="999">
                  <c:v>30.986068319</c:v>
                </c:pt>
                <c:pt idx="1000">
                  <c:v>27.409386254</c:v>
                </c:pt>
              </c:numCache>
            </c:numRef>
          </c:yVal>
          <c:smooth val="0"/>
        </c:ser>
        <c:ser>
          <c:idx val="6"/>
          <c:order val="6"/>
          <c:tx>
            <c:strRef>
              <c:f>label 12</c:f>
              <c:strCache>
                <c:ptCount val="1"/>
                <c:pt idx="0">
                  <c:v>256 K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3</c:f>
              <c:numCache>
                <c:formatCode>General</c:formatCode>
                <c:ptCount val="1001"/>
                <c:pt idx="0">
                  <c:v>262144</c:v>
                </c:pt>
                <c:pt idx="1">
                  <c:v>262144</c:v>
                </c:pt>
                <c:pt idx="2">
                  <c:v>262144</c:v>
                </c:pt>
                <c:pt idx="3">
                  <c:v>262144</c:v>
                </c:pt>
                <c:pt idx="4">
                  <c:v>262144</c:v>
                </c:pt>
                <c:pt idx="5">
                  <c:v>262144</c:v>
                </c:pt>
                <c:pt idx="6">
                  <c:v>262144</c:v>
                </c:pt>
                <c:pt idx="7">
                  <c:v>262144</c:v>
                </c:pt>
                <c:pt idx="8">
                  <c:v>262144</c:v>
                </c:pt>
                <c:pt idx="9">
                  <c:v>262144</c:v>
                </c:pt>
                <c:pt idx="10">
                  <c:v>262144</c:v>
                </c:pt>
                <c:pt idx="11">
                  <c:v>262144</c:v>
                </c:pt>
                <c:pt idx="12">
                  <c:v>262144</c:v>
                </c:pt>
                <c:pt idx="13">
                  <c:v>262144</c:v>
                </c:pt>
                <c:pt idx="14">
                  <c:v>262144</c:v>
                </c:pt>
                <c:pt idx="15">
                  <c:v>262144</c:v>
                </c:pt>
                <c:pt idx="16">
                  <c:v>262144</c:v>
                </c:pt>
                <c:pt idx="17">
                  <c:v>262144</c:v>
                </c:pt>
                <c:pt idx="18">
                  <c:v>262144</c:v>
                </c:pt>
                <c:pt idx="19">
                  <c:v>262144</c:v>
                </c:pt>
                <c:pt idx="20">
                  <c:v>262144</c:v>
                </c:pt>
                <c:pt idx="21">
                  <c:v>262144</c:v>
                </c:pt>
                <c:pt idx="22">
                  <c:v>262144</c:v>
                </c:pt>
                <c:pt idx="23">
                  <c:v>262144</c:v>
                </c:pt>
                <c:pt idx="24">
                  <c:v>262144</c:v>
                </c:pt>
                <c:pt idx="25">
                  <c:v>262144</c:v>
                </c:pt>
                <c:pt idx="26">
                  <c:v>262144</c:v>
                </c:pt>
                <c:pt idx="27">
                  <c:v>262144</c:v>
                </c:pt>
                <c:pt idx="28">
                  <c:v>262144</c:v>
                </c:pt>
                <c:pt idx="29">
                  <c:v>262144</c:v>
                </c:pt>
                <c:pt idx="30">
                  <c:v>262144</c:v>
                </c:pt>
                <c:pt idx="31">
                  <c:v>262144</c:v>
                </c:pt>
                <c:pt idx="32">
                  <c:v>262144</c:v>
                </c:pt>
                <c:pt idx="33">
                  <c:v>262144</c:v>
                </c:pt>
                <c:pt idx="34">
                  <c:v>262144</c:v>
                </c:pt>
                <c:pt idx="35">
                  <c:v>262144</c:v>
                </c:pt>
                <c:pt idx="36">
                  <c:v>262144</c:v>
                </c:pt>
                <c:pt idx="37">
                  <c:v>262144</c:v>
                </c:pt>
                <c:pt idx="38">
                  <c:v>262144</c:v>
                </c:pt>
                <c:pt idx="39">
                  <c:v>262144</c:v>
                </c:pt>
                <c:pt idx="40">
                  <c:v>262144</c:v>
                </c:pt>
                <c:pt idx="41">
                  <c:v>262144</c:v>
                </c:pt>
                <c:pt idx="42">
                  <c:v>262144</c:v>
                </c:pt>
                <c:pt idx="43">
                  <c:v>262144</c:v>
                </c:pt>
                <c:pt idx="44">
                  <c:v>262144</c:v>
                </c:pt>
                <c:pt idx="45">
                  <c:v>262144</c:v>
                </c:pt>
                <c:pt idx="46">
                  <c:v>262144</c:v>
                </c:pt>
                <c:pt idx="47">
                  <c:v>262144</c:v>
                </c:pt>
                <c:pt idx="48">
                  <c:v>262144</c:v>
                </c:pt>
                <c:pt idx="49">
                  <c:v>262144</c:v>
                </c:pt>
                <c:pt idx="50">
                  <c:v>262144</c:v>
                </c:pt>
                <c:pt idx="51">
                  <c:v>262144</c:v>
                </c:pt>
                <c:pt idx="52">
                  <c:v>262144</c:v>
                </c:pt>
                <c:pt idx="53">
                  <c:v>262144</c:v>
                </c:pt>
                <c:pt idx="54">
                  <c:v>262144</c:v>
                </c:pt>
                <c:pt idx="55">
                  <c:v>262144</c:v>
                </c:pt>
                <c:pt idx="56">
                  <c:v>262144</c:v>
                </c:pt>
                <c:pt idx="57">
                  <c:v>262144</c:v>
                </c:pt>
                <c:pt idx="58">
                  <c:v>262144</c:v>
                </c:pt>
                <c:pt idx="59">
                  <c:v>262144</c:v>
                </c:pt>
                <c:pt idx="60">
                  <c:v>262144</c:v>
                </c:pt>
                <c:pt idx="61">
                  <c:v>262144</c:v>
                </c:pt>
                <c:pt idx="62">
                  <c:v>262144</c:v>
                </c:pt>
                <c:pt idx="63">
                  <c:v>262144</c:v>
                </c:pt>
                <c:pt idx="64">
                  <c:v>262144</c:v>
                </c:pt>
                <c:pt idx="65">
                  <c:v>262144</c:v>
                </c:pt>
                <c:pt idx="66">
                  <c:v>262144</c:v>
                </c:pt>
                <c:pt idx="67">
                  <c:v>262144</c:v>
                </c:pt>
                <c:pt idx="68">
                  <c:v>262144</c:v>
                </c:pt>
                <c:pt idx="69">
                  <c:v>262144</c:v>
                </c:pt>
                <c:pt idx="70">
                  <c:v>262144</c:v>
                </c:pt>
                <c:pt idx="71">
                  <c:v>262144</c:v>
                </c:pt>
                <c:pt idx="72">
                  <c:v>262144</c:v>
                </c:pt>
                <c:pt idx="73">
                  <c:v>262144</c:v>
                </c:pt>
                <c:pt idx="74">
                  <c:v>262144</c:v>
                </c:pt>
                <c:pt idx="75">
                  <c:v>262144</c:v>
                </c:pt>
                <c:pt idx="76">
                  <c:v>262144</c:v>
                </c:pt>
                <c:pt idx="77">
                  <c:v>262144</c:v>
                </c:pt>
                <c:pt idx="78">
                  <c:v>262144</c:v>
                </c:pt>
                <c:pt idx="79">
                  <c:v>262144</c:v>
                </c:pt>
                <c:pt idx="80">
                  <c:v>262144</c:v>
                </c:pt>
                <c:pt idx="81">
                  <c:v>262144</c:v>
                </c:pt>
                <c:pt idx="82">
                  <c:v>262144</c:v>
                </c:pt>
                <c:pt idx="83">
                  <c:v>262144</c:v>
                </c:pt>
                <c:pt idx="84">
                  <c:v>262144</c:v>
                </c:pt>
                <c:pt idx="85">
                  <c:v>262144</c:v>
                </c:pt>
                <c:pt idx="86">
                  <c:v>262144</c:v>
                </c:pt>
                <c:pt idx="87">
                  <c:v>262144</c:v>
                </c:pt>
                <c:pt idx="88">
                  <c:v>262144</c:v>
                </c:pt>
                <c:pt idx="89">
                  <c:v>262144</c:v>
                </c:pt>
                <c:pt idx="90">
                  <c:v>262144</c:v>
                </c:pt>
                <c:pt idx="91">
                  <c:v>262144</c:v>
                </c:pt>
                <c:pt idx="92">
                  <c:v>262144</c:v>
                </c:pt>
                <c:pt idx="93">
                  <c:v>262144</c:v>
                </c:pt>
                <c:pt idx="94">
                  <c:v>262144</c:v>
                </c:pt>
                <c:pt idx="95">
                  <c:v>262144</c:v>
                </c:pt>
                <c:pt idx="96">
                  <c:v>262144</c:v>
                </c:pt>
                <c:pt idx="97">
                  <c:v>262144</c:v>
                </c:pt>
                <c:pt idx="98">
                  <c:v>262144</c:v>
                </c:pt>
                <c:pt idx="99">
                  <c:v>262144</c:v>
                </c:pt>
                <c:pt idx="100">
                  <c:v>262144</c:v>
                </c:pt>
                <c:pt idx="101">
                  <c:v>262144</c:v>
                </c:pt>
                <c:pt idx="102">
                  <c:v>262144</c:v>
                </c:pt>
                <c:pt idx="103">
                  <c:v>262144</c:v>
                </c:pt>
                <c:pt idx="104">
                  <c:v>262144</c:v>
                </c:pt>
                <c:pt idx="105">
                  <c:v>262144</c:v>
                </c:pt>
                <c:pt idx="106">
                  <c:v>262144</c:v>
                </c:pt>
                <c:pt idx="107">
                  <c:v>262144</c:v>
                </c:pt>
                <c:pt idx="108">
                  <c:v>262144</c:v>
                </c:pt>
                <c:pt idx="109">
                  <c:v>262144</c:v>
                </c:pt>
                <c:pt idx="110">
                  <c:v>262144</c:v>
                </c:pt>
                <c:pt idx="111">
                  <c:v>262144</c:v>
                </c:pt>
                <c:pt idx="112">
                  <c:v>262144</c:v>
                </c:pt>
                <c:pt idx="113">
                  <c:v>262144</c:v>
                </c:pt>
                <c:pt idx="114">
                  <c:v>262144</c:v>
                </c:pt>
                <c:pt idx="115">
                  <c:v>262144</c:v>
                </c:pt>
                <c:pt idx="116">
                  <c:v>262144</c:v>
                </c:pt>
                <c:pt idx="117">
                  <c:v>262144</c:v>
                </c:pt>
                <c:pt idx="118">
                  <c:v>262144</c:v>
                </c:pt>
                <c:pt idx="119">
                  <c:v>262144</c:v>
                </c:pt>
                <c:pt idx="120">
                  <c:v>262144</c:v>
                </c:pt>
                <c:pt idx="121">
                  <c:v>262144</c:v>
                </c:pt>
                <c:pt idx="122">
                  <c:v>262144</c:v>
                </c:pt>
                <c:pt idx="123">
                  <c:v>262144</c:v>
                </c:pt>
                <c:pt idx="124">
                  <c:v>262144</c:v>
                </c:pt>
                <c:pt idx="125">
                  <c:v>262144</c:v>
                </c:pt>
                <c:pt idx="126">
                  <c:v>262144</c:v>
                </c:pt>
                <c:pt idx="127">
                  <c:v>262144</c:v>
                </c:pt>
                <c:pt idx="128">
                  <c:v>262144</c:v>
                </c:pt>
                <c:pt idx="129">
                  <c:v>262144</c:v>
                </c:pt>
                <c:pt idx="130">
                  <c:v>262144</c:v>
                </c:pt>
                <c:pt idx="131">
                  <c:v>262144</c:v>
                </c:pt>
                <c:pt idx="132">
                  <c:v>262144</c:v>
                </c:pt>
                <c:pt idx="133">
                  <c:v>262144</c:v>
                </c:pt>
                <c:pt idx="134">
                  <c:v>262144</c:v>
                </c:pt>
                <c:pt idx="135">
                  <c:v>262144</c:v>
                </c:pt>
                <c:pt idx="136">
                  <c:v>262144</c:v>
                </c:pt>
                <c:pt idx="137">
                  <c:v>262144</c:v>
                </c:pt>
                <c:pt idx="138">
                  <c:v>262144</c:v>
                </c:pt>
                <c:pt idx="139">
                  <c:v>262144</c:v>
                </c:pt>
                <c:pt idx="140">
                  <c:v>262144</c:v>
                </c:pt>
                <c:pt idx="141">
                  <c:v>262144</c:v>
                </c:pt>
                <c:pt idx="142">
                  <c:v>262144</c:v>
                </c:pt>
                <c:pt idx="143">
                  <c:v>262144</c:v>
                </c:pt>
                <c:pt idx="144">
                  <c:v>262144</c:v>
                </c:pt>
                <c:pt idx="145">
                  <c:v>262144</c:v>
                </c:pt>
                <c:pt idx="146">
                  <c:v>262144</c:v>
                </c:pt>
                <c:pt idx="147">
                  <c:v>262144</c:v>
                </c:pt>
                <c:pt idx="148">
                  <c:v>262144</c:v>
                </c:pt>
                <c:pt idx="149">
                  <c:v>262144</c:v>
                </c:pt>
                <c:pt idx="150">
                  <c:v>262144</c:v>
                </c:pt>
                <c:pt idx="151">
                  <c:v>262144</c:v>
                </c:pt>
                <c:pt idx="152">
                  <c:v>262144</c:v>
                </c:pt>
                <c:pt idx="153">
                  <c:v>262144</c:v>
                </c:pt>
                <c:pt idx="154">
                  <c:v>262144</c:v>
                </c:pt>
                <c:pt idx="155">
                  <c:v>262144</c:v>
                </c:pt>
                <c:pt idx="156">
                  <c:v>262144</c:v>
                </c:pt>
                <c:pt idx="157">
                  <c:v>262144</c:v>
                </c:pt>
                <c:pt idx="158">
                  <c:v>262144</c:v>
                </c:pt>
                <c:pt idx="159">
                  <c:v>262144</c:v>
                </c:pt>
                <c:pt idx="160">
                  <c:v>262144</c:v>
                </c:pt>
                <c:pt idx="161">
                  <c:v>262144</c:v>
                </c:pt>
                <c:pt idx="162">
                  <c:v>262144</c:v>
                </c:pt>
                <c:pt idx="163">
                  <c:v>262144</c:v>
                </c:pt>
                <c:pt idx="164">
                  <c:v>262144</c:v>
                </c:pt>
                <c:pt idx="165">
                  <c:v>262144</c:v>
                </c:pt>
                <c:pt idx="166">
                  <c:v>262144</c:v>
                </c:pt>
                <c:pt idx="167">
                  <c:v>262144</c:v>
                </c:pt>
                <c:pt idx="168">
                  <c:v>262144</c:v>
                </c:pt>
                <c:pt idx="169">
                  <c:v>262144</c:v>
                </c:pt>
                <c:pt idx="170">
                  <c:v>262144</c:v>
                </c:pt>
                <c:pt idx="171">
                  <c:v>262144</c:v>
                </c:pt>
                <c:pt idx="172">
                  <c:v>262144</c:v>
                </c:pt>
                <c:pt idx="173">
                  <c:v>262144</c:v>
                </c:pt>
                <c:pt idx="174">
                  <c:v>262144</c:v>
                </c:pt>
                <c:pt idx="175">
                  <c:v>262144</c:v>
                </c:pt>
                <c:pt idx="176">
                  <c:v>262144</c:v>
                </c:pt>
                <c:pt idx="177">
                  <c:v>262144</c:v>
                </c:pt>
                <c:pt idx="178">
                  <c:v>262144</c:v>
                </c:pt>
                <c:pt idx="179">
                  <c:v>262144</c:v>
                </c:pt>
                <c:pt idx="180">
                  <c:v>262144</c:v>
                </c:pt>
                <c:pt idx="181">
                  <c:v>262144</c:v>
                </c:pt>
                <c:pt idx="182">
                  <c:v>262144</c:v>
                </c:pt>
                <c:pt idx="183">
                  <c:v>262144</c:v>
                </c:pt>
                <c:pt idx="184">
                  <c:v>262144</c:v>
                </c:pt>
                <c:pt idx="185">
                  <c:v>262144</c:v>
                </c:pt>
                <c:pt idx="186">
                  <c:v>262144</c:v>
                </c:pt>
                <c:pt idx="187">
                  <c:v>262144</c:v>
                </c:pt>
                <c:pt idx="188">
                  <c:v>262144</c:v>
                </c:pt>
                <c:pt idx="189">
                  <c:v>262144</c:v>
                </c:pt>
                <c:pt idx="190">
                  <c:v>262144</c:v>
                </c:pt>
                <c:pt idx="191">
                  <c:v>262144</c:v>
                </c:pt>
                <c:pt idx="192">
                  <c:v>262144</c:v>
                </c:pt>
                <c:pt idx="193">
                  <c:v>262144</c:v>
                </c:pt>
                <c:pt idx="194">
                  <c:v>262144</c:v>
                </c:pt>
                <c:pt idx="195">
                  <c:v>262144</c:v>
                </c:pt>
                <c:pt idx="196">
                  <c:v>262144</c:v>
                </c:pt>
                <c:pt idx="197">
                  <c:v>262144</c:v>
                </c:pt>
                <c:pt idx="198">
                  <c:v>262144</c:v>
                </c:pt>
                <c:pt idx="199">
                  <c:v>262144</c:v>
                </c:pt>
                <c:pt idx="200">
                  <c:v>262144</c:v>
                </c:pt>
                <c:pt idx="201">
                  <c:v>262144</c:v>
                </c:pt>
                <c:pt idx="202">
                  <c:v>262144</c:v>
                </c:pt>
                <c:pt idx="203">
                  <c:v>262144</c:v>
                </c:pt>
                <c:pt idx="204">
                  <c:v>262144</c:v>
                </c:pt>
                <c:pt idx="205">
                  <c:v>262144</c:v>
                </c:pt>
                <c:pt idx="206">
                  <c:v>262144</c:v>
                </c:pt>
                <c:pt idx="207">
                  <c:v>262144</c:v>
                </c:pt>
                <c:pt idx="208">
                  <c:v>262144</c:v>
                </c:pt>
                <c:pt idx="209">
                  <c:v>262144</c:v>
                </c:pt>
                <c:pt idx="210">
                  <c:v>262144</c:v>
                </c:pt>
                <c:pt idx="211">
                  <c:v>262144</c:v>
                </c:pt>
                <c:pt idx="212">
                  <c:v>262144</c:v>
                </c:pt>
                <c:pt idx="213">
                  <c:v>262144</c:v>
                </c:pt>
                <c:pt idx="214">
                  <c:v>262144</c:v>
                </c:pt>
                <c:pt idx="215">
                  <c:v>262144</c:v>
                </c:pt>
                <c:pt idx="216">
                  <c:v>262144</c:v>
                </c:pt>
                <c:pt idx="217">
                  <c:v>262144</c:v>
                </c:pt>
                <c:pt idx="218">
                  <c:v>262144</c:v>
                </c:pt>
                <c:pt idx="219">
                  <c:v>262144</c:v>
                </c:pt>
                <c:pt idx="220">
                  <c:v>262144</c:v>
                </c:pt>
                <c:pt idx="221">
                  <c:v>262144</c:v>
                </c:pt>
                <c:pt idx="222">
                  <c:v>262144</c:v>
                </c:pt>
                <c:pt idx="223">
                  <c:v>262144</c:v>
                </c:pt>
                <c:pt idx="224">
                  <c:v>262144</c:v>
                </c:pt>
                <c:pt idx="225">
                  <c:v>262144</c:v>
                </c:pt>
                <c:pt idx="226">
                  <c:v>262144</c:v>
                </c:pt>
                <c:pt idx="227">
                  <c:v>262144</c:v>
                </c:pt>
                <c:pt idx="228">
                  <c:v>262144</c:v>
                </c:pt>
                <c:pt idx="229">
                  <c:v>262144</c:v>
                </c:pt>
                <c:pt idx="230">
                  <c:v>262144</c:v>
                </c:pt>
                <c:pt idx="231">
                  <c:v>262144</c:v>
                </c:pt>
                <c:pt idx="232">
                  <c:v>262144</c:v>
                </c:pt>
                <c:pt idx="233">
                  <c:v>262144</c:v>
                </c:pt>
                <c:pt idx="234">
                  <c:v>262144</c:v>
                </c:pt>
                <c:pt idx="235">
                  <c:v>262144</c:v>
                </c:pt>
                <c:pt idx="236">
                  <c:v>262144</c:v>
                </c:pt>
                <c:pt idx="237">
                  <c:v>262144</c:v>
                </c:pt>
                <c:pt idx="238">
                  <c:v>262144</c:v>
                </c:pt>
                <c:pt idx="239">
                  <c:v>262144</c:v>
                </c:pt>
                <c:pt idx="240">
                  <c:v>262144</c:v>
                </c:pt>
                <c:pt idx="241">
                  <c:v>262144</c:v>
                </c:pt>
                <c:pt idx="242">
                  <c:v>262144</c:v>
                </c:pt>
                <c:pt idx="243">
                  <c:v>262144</c:v>
                </c:pt>
                <c:pt idx="244">
                  <c:v>262144</c:v>
                </c:pt>
                <c:pt idx="245">
                  <c:v>262144</c:v>
                </c:pt>
                <c:pt idx="246">
                  <c:v>262144</c:v>
                </c:pt>
                <c:pt idx="247">
                  <c:v>262144</c:v>
                </c:pt>
                <c:pt idx="248">
                  <c:v>262144</c:v>
                </c:pt>
                <c:pt idx="249">
                  <c:v>262144</c:v>
                </c:pt>
                <c:pt idx="250">
                  <c:v>262144</c:v>
                </c:pt>
                <c:pt idx="251">
                  <c:v>262144</c:v>
                </c:pt>
                <c:pt idx="252">
                  <c:v>262144</c:v>
                </c:pt>
                <c:pt idx="253">
                  <c:v>262144</c:v>
                </c:pt>
                <c:pt idx="254">
                  <c:v>262144</c:v>
                </c:pt>
                <c:pt idx="255">
                  <c:v>262144</c:v>
                </c:pt>
                <c:pt idx="256">
                  <c:v>262144</c:v>
                </c:pt>
                <c:pt idx="257">
                  <c:v>262144</c:v>
                </c:pt>
                <c:pt idx="258">
                  <c:v>262144</c:v>
                </c:pt>
                <c:pt idx="259">
                  <c:v>262144</c:v>
                </c:pt>
                <c:pt idx="260">
                  <c:v>262144</c:v>
                </c:pt>
                <c:pt idx="261">
                  <c:v>262144</c:v>
                </c:pt>
                <c:pt idx="262">
                  <c:v>262144</c:v>
                </c:pt>
                <c:pt idx="263">
                  <c:v>262144</c:v>
                </c:pt>
                <c:pt idx="264">
                  <c:v>262144</c:v>
                </c:pt>
                <c:pt idx="265">
                  <c:v>262144</c:v>
                </c:pt>
                <c:pt idx="266">
                  <c:v>262144</c:v>
                </c:pt>
                <c:pt idx="267">
                  <c:v>262144</c:v>
                </c:pt>
                <c:pt idx="268">
                  <c:v>262144</c:v>
                </c:pt>
                <c:pt idx="269">
                  <c:v>262144</c:v>
                </c:pt>
                <c:pt idx="270">
                  <c:v>262144</c:v>
                </c:pt>
                <c:pt idx="271">
                  <c:v>262144</c:v>
                </c:pt>
                <c:pt idx="272">
                  <c:v>262144</c:v>
                </c:pt>
                <c:pt idx="273">
                  <c:v>262144</c:v>
                </c:pt>
                <c:pt idx="274">
                  <c:v>262144</c:v>
                </c:pt>
                <c:pt idx="275">
                  <c:v>262144</c:v>
                </c:pt>
                <c:pt idx="276">
                  <c:v>262144</c:v>
                </c:pt>
                <c:pt idx="277">
                  <c:v>262144</c:v>
                </c:pt>
                <c:pt idx="278">
                  <c:v>262144</c:v>
                </c:pt>
                <c:pt idx="279">
                  <c:v>262144</c:v>
                </c:pt>
                <c:pt idx="280">
                  <c:v>262144</c:v>
                </c:pt>
                <c:pt idx="281">
                  <c:v>262144</c:v>
                </c:pt>
                <c:pt idx="282">
                  <c:v>262144</c:v>
                </c:pt>
                <c:pt idx="283">
                  <c:v>262144</c:v>
                </c:pt>
                <c:pt idx="284">
                  <c:v>262144</c:v>
                </c:pt>
                <c:pt idx="285">
                  <c:v>262144</c:v>
                </c:pt>
                <c:pt idx="286">
                  <c:v>262144</c:v>
                </c:pt>
                <c:pt idx="287">
                  <c:v>262144</c:v>
                </c:pt>
                <c:pt idx="288">
                  <c:v>262144</c:v>
                </c:pt>
                <c:pt idx="289">
                  <c:v>262144</c:v>
                </c:pt>
                <c:pt idx="290">
                  <c:v>262144</c:v>
                </c:pt>
                <c:pt idx="291">
                  <c:v>262144</c:v>
                </c:pt>
                <c:pt idx="292">
                  <c:v>262144</c:v>
                </c:pt>
                <c:pt idx="293">
                  <c:v>262144</c:v>
                </c:pt>
                <c:pt idx="294">
                  <c:v>262144</c:v>
                </c:pt>
                <c:pt idx="295">
                  <c:v>262144</c:v>
                </c:pt>
                <c:pt idx="296">
                  <c:v>262144</c:v>
                </c:pt>
                <c:pt idx="297">
                  <c:v>262144</c:v>
                </c:pt>
                <c:pt idx="298">
                  <c:v>262144</c:v>
                </c:pt>
                <c:pt idx="299">
                  <c:v>262144</c:v>
                </c:pt>
                <c:pt idx="300">
                  <c:v>262144</c:v>
                </c:pt>
                <c:pt idx="301">
                  <c:v>262144</c:v>
                </c:pt>
                <c:pt idx="302">
                  <c:v>262144</c:v>
                </c:pt>
                <c:pt idx="303">
                  <c:v>262144</c:v>
                </c:pt>
                <c:pt idx="304">
                  <c:v>262144</c:v>
                </c:pt>
                <c:pt idx="305">
                  <c:v>262144</c:v>
                </c:pt>
                <c:pt idx="306">
                  <c:v>262144</c:v>
                </c:pt>
                <c:pt idx="307">
                  <c:v>262144</c:v>
                </c:pt>
                <c:pt idx="308">
                  <c:v>262144</c:v>
                </c:pt>
                <c:pt idx="309">
                  <c:v>262144</c:v>
                </c:pt>
                <c:pt idx="310">
                  <c:v>262144</c:v>
                </c:pt>
                <c:pt idx="311">
                  <c:v>262144</c:v>
                </c:pt>
                <c:pt idx="312">
                  <c:v>262144</c:v>
                </c:pt>
                <c:pt idx="313">
                  <c:v>262144</c:v>
                </c:pt>
                <c:pt idx="314">
                  <c:v>262144</c:v>
                </c:pt>
                <c:pt idx="315">
                  <c:v>262144</c:v>
                </c:pt>
                <c:pt idx="316">
                  <c:v>262144</c:v>
                </c:pt>
                <c:pt idx="317">
                  <c:v>262144</c:v>
                </c:pt>
                <c:pt idx="318">
                  <c:v>262144</c:v>
                </c:pt>
                <c:pt idx="319">
                  <c:v>262144</c:v>
                </c:pt>
                <c:pt idx="320">
                  <c:v>262144</c:v>
                </c:pt>
                <c:pt idx="321">
                  <c:v>262144</c:v>
                </c:pt>
                <c:pt idx="322">
                  <c:v>262144</c:v>
                </c:pt>
                <c:pt idx="323">
                  <c:v>262144</c:v>
                </c:pt>
                <c:pt idx="324">
                  <c:v>262144</c:v>
                </c:pt>
                <c:pt idx="325">
                  <c:v>262144</c:v>
                </c:pt>
                <c:pt idx="326">
                  <c:v>262144</c:v>
                </c:pt>
                <c:pt idx="327">
                  <c:v>262144</c:v>
                </c:pt>
                <c:pt idx="328">
                  <c:v>262144</c:v>
                </c:pt>
                <c:pt idx="329">
                  <c:v>262144</c:v>
                </c:pt>
                <c:pt idx="330">
                  <c:v>262144</c:v>
                </c:pt>
                <c:pt idx="331">
                  <c:v>262144</c:v>
                </c:pt>
                <c:pt idx="332">
                  <c:v>262144</c:v>
                </c:pt>
                <c:pt idx="333">
                  <c:v>262144</c:v>
                </c:pt>
                <c:pt idx="334">
                  <c:v>262144</c:v>
                </c:pt>
                <c:pt idx="335">
                  <c:v>262144</c:v>
                </c:pt>
                <c:pt idx="336">
                  <c:v>262144</c:v>
                </c:pt>
                <c:pt idx="337">
                  <c:v>262144</c:v>
                </c:pt>
                <c:pt idx="338">
                  <c:v>262144</c:v>
                </c:pt>
                <c:pt idx="339">
                  <c:v>262144</c:v>
                </c:pt>
                <c:pt idx="340">
                  <c:v>262144</c:v>
                </c:pt>
                <c:pt idx="341">
                  <c:v>262144</c:v>
                </c:pt>
                <c:pt idx="342">
                  <c:v>262144</c:v>
                </c:pt>
                <c:pt idx="343">
                  <c:v>262144</c:v>
                </c:pt>
                <c:pt idx="344">
                  <c:v>262144</c:v>
                </c:pt>
                <c:pt idx="345">
                  <c:v>262144</c:v>
                </c:pt>
                <c:pt idx="346">
                  <c:v>262144</c:v>
                </c:pt>
                <c:pt idx="347">
                  <c:v>262144</c:v>
                </c:pt>
                <c:pt idx="348">
                  <c:v>262144</c:v>
                </c:pt>
                <c:pt idx="349">
                  <c:v>262144</c:v>
                </c:pt>
                <c:pt idx="350">
                  <c:v>262144</c:v>
                </c:pt>
                <c:pt idx="351">
                  <c:v>262144</c:v>
                </c:pt>
                <c:pt idx="352">
                  <c:v>262144</c:v>
                </c:pt>
                <c:pt idx="353">
                  <c:v>262144</c:v>
                </c:pt>
                <c:pt idx="354">
                  <c:v>262144</c:v>
                </c:pt>
                <c:pt idx="355">
                  <c:v>262144</c:v>
                </c:pt>
                <c:pt idx="356">
                  <c:v>262144</c:v>
                </c:pt>
                <c:pt idx="357">
                  <c:v>262144</c:v>
                </c:pt>
                <c:pt idx="358">
                  <c:v>262144</c:v>
                </c:pt>
                <c:pt idx="359">
                  <c:v>262144</c:v>
                </c:pt>
                <c:pt idx="360">
                  <c:v>262144</c:v>
                </c:pt>
                <c:pt idx="361">
                  <c:v>262144</c:v>
                </c:pt>
                <c:pt idx="362">
                  <c:v>262144</c:v>
                </c:pt>
                <c:pt idx="363">
                  <c:v>262144</c:v>
                </c:pt>
                <c:pt idx="364">
                  <c:v>262144</c:v>
                </c:pt>
                <c:pt idx="365">
                  <c:v>262144</c:v>
                </c:pt>
                <c:pt idx="366">
                  <c:v>262144</c:v>
                </c:pt>
                <c:pt idx="367">
                  <c:v>262144</c:v>
                </c:pt>
                <c:pt idx="368">
                  <c:v>262144</c:v>
                </c:pt>
                <c:pt idx="369">
                  <c:v>262144</c:v>
                </c:pt>
                <c:pt idx="370">
                  <c:v>262144</c:v>
                </c:pt>
                <c:pt idx="371">
                  <c:v>262144</c:v>
                </c:pt>
                <c:pt idx="372">
                  <c:v>262144</c:v>
                </c:pt>
                <c:pt idx="373">
                  <c:v>262144</c:v>
                </c:pt>
                <c:pt idx="374">
                  <c:v>262144</c:v>
                </c:pt>
                <c:pt idx="375">
                  <c:v>262144</c:v>
                </c:pt>
                <c:pt idx="376">
                  <c:v>262144</c:v>
                </c:pt>
                <c:pt idx="377">
                  <c:v>262144</c:v>
                </c:pt>
                <c:pt idx="378">
                  <c:v>262144</c:v>
                </c:pt>
                <c:pt idx="379">
                  <c:v>262144</c:v>
                </c:pt>
                <c:pt idx="380">
                  <c:v>262144</c:v>
                </c:pt>
                <c:pt idx="381">
                  <c:v>262144</c:v>
                </c:pt>
                <c:pt idx="382">
                  <c:v>262144</c:v>
                </c:pt>
                <c:pt idx="383">
                  <c:v>262144</c:v>
                </c:pt>
                <c:pt idx="384">
                  <c:v>262144</c:v>
                </c:pt>
                <c:pt idx="385">
                  <c:v>262144</c:v>
                </c:pt>
                <c:pt idx="386">
                  <c:v>262144</c:v>
                </c:pt>
                <c:pt idx="387">
                  <c:v>262144</c:v>
                </c:pt>
                <c:pt idx="388">
                  <c:v>262144</c:v>
                </c:pt>
                <c:pt idx="389">
                  <c:v>262144</c:v>
                </c:pt>
                <c:pt idx="390">
                  <c:v>262144</c:v>
                </c:pt>
                <c:pt idx="391">
                  <c:v>262144</c:v>
                </c:pt>
                <c:pt idx="392">
                  <c:v>262144</c:v>
                </c:pt>
                <c:pt idx="393">
                  <c:v>262144</c:v>
                </c:pt>
                <c:pt idx="394">
                  <c:v>262144</c:v>
                </c:pt>
                <c:pt idx="395">
                  <c:v>262144</c:v>
                </c:pt>
                <c:pt idx="396">
                  <c:v>262144</c:v>
                </c:pt>
                <c:pt idx="397">
                  <c:v>262144</c:v>
                </c:pt>
                <c:pt idx="398">
                  <c:v>262144</c:v>
                </c:pt>
                <c:pt idx="399">
                  <c:v>262144</c:v>
                </c:pt>
                <c:pt idx="400">
                  <c:v>262144</c:v>
                </c:pt>
                <c:pt idx="401">
                  <c:v>262144</c:v>
                </c:pt>
                <c:pt idx="402">
                  <c:v>262144</c:v>
                </c:pt>
                <c:pt idx="403">
                  <c:v>262144</c:v>
                </c:pt>
                <c:pt idx="404">
                  <c:v>262144</c:v>
                </c:pt>
                <c:pt idx="405">
                  <c:v>262144</c:v>
                </c:pt>
                <c:pt idx="406">
                  <c:v>262144</c:v>
                </c:pt>
                <c:pt idx="407">
                  <c:v>262144</c:v>
                </c:pt>
                <c:pt idx="408">
                  <c:v>262144</c:v>
                </c:pt>
                <c:pt idx="409">
                  <c:v>262144</c:v>
                </c:pt>
                <c:pt idx="410">
                  <c:v>262144</c:v>
                </c:pt>
                <c:pt idx="411">
                  <c:v>262144</c:v>
                </c:pt>
                <c:pt idx="412">
                  <c:v>262144</c:v>
                </c:pt>
                <c:pt idx="413">
                  <c:v>262144</c:v>
                </c:pt>
                <c:pt idx="414">
                  <c:v>262144</c:v>
                </c:pt>
                <c:pt idx="415">
                  <c:v>262144</c:v>
                </c:pt>
                <c:pt idx="416">
                  <c:v>262144</c:v>
                </c:pt>
                <c:pt idx="417">
                  <c:v>262144</c:v>
                </c:pt>
                <c:pt idx="418">
                  <c:v>262144</c:v>
                </c:pt>
                <c:pt idx="419">
                  <c:v>262144</c:v>
                </c:pt>
                <c:pt idx="420">
                  <c:v>262144</c:v>
                </c:pt>
                <c:pt idx="421">
                  <c:v>262144</c:v>
                </c:pt>
                <c:pt idx="422">
                  <c:v>262144</c:v>
                </c:pt>
                <c:pt idx="423">
                  <c:v>262144</c:v>
                </c:pt>
                <c:pt idx="424">
                  <c:v>262144</c:v>
                </c:pt>
                <c:pt idx="425">
                  <c:v>262144</c:v>
                </c:pt>
                <c:pt idx="426">
                  <c:v>262144</c:v>
                </c:pt>
                <c:pt idx="427">
                  <c:v>262144</c:v>
                </c:pt>
                <c:pt idx="428">
                  <c:v>262144</c:v>
                </c:pt>
                <c:pt idx="429">
                  <c:v>262144</c:v>
                </c:pt>
                <c:pt idx="430">
                  <c:v>262144</c:v>
                </c:pt>
                <c:pt idx="431">
                  <c:v>262144</c:v>
                </c:pt>
                <c:pt idx="432">
                  <c:v>262144</c:v>
                </c:pt>
                <c:pt idx="433">
                  <c:v>262144</c:v>
                </c:pt>
                <c:pt idx="434">
                  <c:v>262144</c:v>
                </c:pt>
                <c:pt idx="435">
                  <c:v>262144</c:v>
                </c:pt>
                <c:pt idx="436">
                  <c:v>262144</c:v>
                </c:pt>
                <c:pt idx="437">
                  <c:v>262144</c:v>
                </c:pt>
                <c:pt idx="438">
                  <c:v>262144</c:v>
                </c:pt>
                <c:pt idx="439">
                  <c:v>262144</c:v>
                </c:pt>
                <c:pt idx="440">
                  <c:v>262144</c:v>
                </c:pt>
                <c:pt idx="441">
                  <c:v>262144</c:v>
                </c:pt>
                <c:pt idx="442">
                  <c:v>262144</c:v>
                </c:pt>
                <c:pt idx="443">
                  <c:v>262144</c:v>
                </c:pt>
                <c:pt idx="444">
                  <c:v>262144</c:v>
                </c:pt>
                <c:pt idx="445">
                  <c:v>262144</c:v>
                </c:pt>
                <c:pt idx="446">
                  <c:v>262144</c:v>
                </c:pt>
                <c:pt idx="447">
                  <c:v>262144</c:v>
                </c:pt>
                <c:pt idx="448">
                  <c:v>262144</c:v>
                </c:pt>
                <c:pt idx="449">
                  <c:v>262144</c:v>
                </c:pt>
                <c:pt idx="450">
                  <c:v>262144</c:v>
                </c:pt>
                <c:pt idx="451">
                  <c:v>262144</c:v>
                </c:pt>
                <c:pt idx="452">
                  <c:v>262144</c:v>
                </c:pt>
                <c:pt idx="453">
                  <c:v>262144</c:v>
                </c:pt>
                <c:pt idx="454">
                  <c:v>262144</c:v>
                </c:pt>
                <c:pt idx="455">
                  <c:v>262144</c:v>
                </c:pt>
                <c:pt idx="456">
                  <c:v>262144</c:v>
                </c:pt>
                <c:pt idx="457">
                  <c:v>262144</c:v>
                </c:pt>
                <c:pt idx="458">
                  <c:v>262144</c:v>
                </c:pt>
                <c:pt idx="459">
                  <c:v>262144</c:v>
                </c:pt>
                <c:pt idx="460">
                  <c:v>262144</c:v>
                </c:pt>
                <c:pt idx="461">
                  <c:v>262144</c:v>
                </c:pt>
                <c:pt idx="462">
                  <c:v>262144</c:v>
                </c:pt>
                <c:pt idx="463">
                  <c:v>262144</c:v>
                </c:pt>
                <c:pt idx="464">
                  <c:v>262144</c:v>
                </c:pt>
                <c:pt idx="465">
                  <c:v>262144</c:v>
                </c:pt>
                <c:pt idx="466">
                  <c:v>262144</c:v>
                </c:pt>
                <c:pt idx="467">
                  <c:v>262144</c:v>
                </c:pt>
                <c:pt idx="468">
                  <c:v>262144</c:v>
                </c:pt>
                <c:pt idx="469">
                  <c:v>262144</c:v>
                </c:pt>
                <c:pt idx="470">
                  <c:v>262144</c:v>
                </c:pt>
                <c:pt idx="471">
                  <c:v>262144</c:v>
                </c:pt>
                <c:pt idx="472">
                  <c:v>262144</c:v>
                </c:pt>
                <c:pt idx="473">
                  <c:v>262144</c:v>
                </c:pt>
                <c:pt idx="474">
                  <c:v>262144</c:v>
                </c:pt>
                <c:pt idx="475">
                  <c:v>262144</c:v>
                </c:pt>
                <c:pt idx="476">
                  <c:v>262144</c:v>
                </c:pt>
                <c:pt idx="477">
                  <c:v>262144</c:v>
                </c:pt>
                <c:pt idx="478">
                  <c:v>262144</c:v>
                </c:pt>
                <c:pt idx="479">
                  <c:v>262144</c:v>
                </c:pt>
                <c:pt idx="480">
                  <c:v>262144</c:v>
                </c:pt>
                <c:pt idx="481">
                  <c:v>262144</c:v>
                </c:pt>
                <c:pt idx="482">
                  <c:v>262144</c:v>
                </c:pt>
                <c:pt idx="483">
                  <c:v>262144</c:v>
                </c:pt>
                <c:pt idx="484">
                  <c:v>262144</c:v>
                </c:pt>
                <c:pt idx="485">
                  <c:v>262144</c:v>
                </c:pt>
                <c:pt idx="486">
                  <c:v>262144</c:v>
                </c:pt>
                <c:pt idx="487">
                  <c:v>262144</c:v>
                </c:pt>
                <c:pt idx="488">
                  <c:v>262144</c:v>
                </c:pt>
                <c:pt idx="489">
                  <c:v>262144</c:v>
                </c:pt>
                <c:pt idx="490">
                  <c:v>262144</c:v>
                </c:pt>
                <c:pt idx="491">
                  <c:v>262144</c:v>
                </c:pt>
                <c:pt idx="492">
                  <c:v>262144</c:v>
                </c:pt>
                <c:pt idx="493">
                  <c:v>262144</c:v>
                </c:pt>
                <c:pt idx="494">
                  <c:v>262144</c:v>
                </c:pt>
                <c:pt idx="495">
                  <c:v>262144</c:v>
                </c:pt>
                <c:pt idx="496">
                  <c:v>262144</c:v>
                </c:pt>
                <c:pt idx="497">
                  <c:v>262144</c:v>
                </c:pt>
                <c:pt idx="498">
                  <c:v>262144</c:v>
                </c:pt>
                <c:pt idx="499">
                  <c:v>262144</c:v>
                </c:pt>
                <c:pt idx="500">
                  <c:v>262144</c:v>
                </c:pt>
                <c:pt idx="501">
                  <c:v>262144</c:v>
                </c:pt>
                <c:pt idx="502">
                  <c:v>262144</c:v>
                </c:pt>
                <c:pt idx="503">
                  <c:v>262144</c:v>
                </c:pt>
                <c:pt idx="504">
                  <c:v>262144</c:v>
                </c:pt>
                <c:pt idx="505">
                  <c:v>262144</c:v>
                </c:pt>
                <c:pt idx="506">
                  <c:v>262144</c:v>
                </c:pt>
                <c:pt idx="507">
                  <c:v>262144</c:v>
                </c:pt>
                <c:pt idx="508">
                  <c:v>262144</c:v>
                </c:pt>
                <c:pt idx="509">
                  <c:v>262144</c:v>
                </c:pt>
                <c:pt idx="510">
                  <c:v>262144</c:v>
                </c:pt>
                <c:pt idx="511">
                  <c:v>262144</c:v>
                </c:pt>
                <c:pt idx="512">
                  <c:v>262144</c:v>
                </c:pt>
                <c:pt idx="513">
                  <c:v>262144</c:v>
                </c:pt>
                <c:pt idx="514">
                  <c:v>262144</c:v>
                </c:pt>
                <c:pt idx="515">
                  <c:v>262144</c:v>
                </c:pt>
                <c:pt idx="516">
                  <c:v>262144</c:v>
                </c:pt>
                <c:pt idx="517">
                  <c:v>262144</c:v>
                </c:pt>
                <c:pt idx="518">
                  <c:v>262144</c:v>
                </c:pt>
                <c:pt idx="519">
                  <c:v>262144</c:v>
                </c:pt>
                <c:pt idx="520">
                  <c:v>262144</c:v>
                </c:pt>
                <c:pt idx="521">
                  <c:v>262144</c:v>
                </c:pt>
                <c:pt idx="522">
                  <c:v>262144</c:v>
                </c:pt>
                <c:pt idx="523">
                  <c:v>262144</c:v>
                </c:pt>
                <c:pt idx="524">
                  <c:v>262144</c:v>
                </c:pt>
                <c:pt idx="525">
                  <c:v>262144</c:v>
                </c:pt>
                <c:pt idx="526">
                  <c:v>262144</c:v>
                </c:pt>
                <c:pt idx="527">
                  <c:v>262144</c:v>
                </c:pt>
                <c:pt idx="528">
                  <c:v>262144</c:v>
                </c:pt>
                <c:pt idx="529">
                  <c:v>262144</c:v>
                </c:pt>
                <c:pt idx="530">
                  <c:v>262144</c:v>
                </c:pt>
                <c:pt idx="531">
                  <c:v>262144</c:v>
                </c:pt>
                <c:pt idx="532">
                  <c:v>262144</c:v>
                </c:pt>
                <c:pt idx="533">
                  <c:v>262144</c:v>
                </c:pt>
                <c:pt idx="534">
                  <c:v>262144</c:v>
                </c:pt>
                <c:pt idx="535">
                  <c:v>262144</c:v>
                </c:pt>
                <c:pt idx="536">
                  <c:v>262144</c:v>
                </c:pt>
                <c:pt idx="537">
                  <c:v>262144</c:v>
                </c:pt>
                <c:pt idx="538">
                  <c:v>262144</c:v>
                </c:pt>
                <c:pt idx="539">
                  <c:v>262144</c:v>
                </c:pt>
                <c:pt idx="540">
                  <c:v>262144</c:v>
                </c:pt>
                <c:pt idx="541">
                  <c:v>262144</c:v>
                </c:pt>
                <c:pt idx="542">
                  <c:v>262144</c:v>
                </c:pt>
                <c:pt idx="543">
                  <c:v>262144</c:v>
                </c:pt>
                <c:pt idx="544">
                  <c:v>262144</c:v>
                </c:pt>
                <c:pt idx="545">
                  <c:v>262144</c:v>
                </c:pt>
                <c:pt idx="546">
                  <c:v>262144</c:v>
                </c:pt>
                <c:pt idx="547">
                  <c:v>262144</c:v>
                </c:pt>
                <c:pt idx="548">
                  <c:v>262144</c:v>
                </c:pt>
                <c:pt idx="549">
                  <c:v>262144</c:v>
                </c:pt>
                <c:pt idx="550">
                  <c:v>262144</c:v>
                </c:pt>
                <c:pt idx="551">
                  <c:v>262144</c:v>
                </c:pt>
                <c:pt idx="552">
                  <c:v>262144</c:v>
                </c:pt>
                <c:pt idx="553">
                  <c:v>262144</c:v>
                </c:pt>
                <c:pt idx="554">
                  <c:v>262144</c:v>
                </c:pt>
                <c:pt idx="555">
                  <c:v>262144</c:v>
                </c:pt>
                <c:pt idx="556">
                  <c:v>262144</c:v>
                </c:pt>
                <c:pt idx="557">
                  <c:v>262144</c:v>
                </c:pt>
                <c:pt idx="558">
                  <c:v>262144</c:v>
                </c:pt>
                <c:pt idx="559">
                  <c:v>262144</c:v>
                </c:pt>
                <c:pt idx="560">
                  <c:v>262144</c:v>
                </c:pt>
                <c:pt idx="561">
                  <c:v>262144</c:v>
                </c:pt>
                <c:pt idx="562">
                  <c:v>262144</c:v>
                </c:pt>
                <c:pt idx="563">
                  <c:v>262144</c:v>
                </c:pt>
                <c:pt idx="564">
                  <c:v>262144</c:v>
                </c:pt>
                <c:pt idx="565">
                  <c:v>262144</c:v>
                </c:pt>
                <c:pt idx="566">
                  <c:v>262144</c:v>
                </c:pt>
                <c:pt idx="567">
                  <c:v>262144</c:v>
                </c:pt>
                <c:pt idx="568">
                  <c:v>262144</c:v>
                </c:pt>
                <c:pt idx="569">
                  <c:v>262144</c:v>
                </c:pt>
                <c:pt idx="570">
                  <c:v>262144</c:v>
                </c:pt>
                <c:pt idx="571">
                  <c:v>262144</c:v>
                </c:pt>
                <c:pt idx="572">
                  <c:v>262144</c:v>
                </c:pt>
                <c:pt idx="573">
                  <c:v>262144</c:v>
                </c:pt>
                <c:pt idx="574">
                  <c:v>262144</c:v>
                </c:pt>
                <c:pt idx="575">
                  <c:v>262144</c:v>
                </c:pt>
                <c:pt idx="576">
                  <c:v>262144</c:v>
                </c:pt>
                <c:pt idx="577">
                  <c:v>262144</c:v>
                </c:pt>
                <c:pt idx="578">
                  <c:v>262144</c:v>
                </c:pt>
                <c:pt idx="579">
                  <c:v>262144</c:v>
                </c:pt>
                <c:pt idx="580">
                  <c:v>262144</c:v>
                </c:pt>
                <c:pt idx="581">
                  <c:v>262144</c:v>
                </c:pt>
                <c:pt idx="582">
                  <c:v>262144</c:v>
                </c:pt>
                <c:pt idx="583">
                  <c:v>262144</c:v>
                </c:pt>
                <c:pt idx="584">
                  <c:v>262144</c:v>
                </c:pt>
                <c:pt idx="585">
                  <c:v>262144</c:v>
                </c:pt>
                <c:pt idx="586">
                  <c:v>262144</c:v>
                </c:pt>
                <c:pt idx="587">
                  <c:v>262144</c:v>
                </c:pt>
                <c:pt idx="588">
                  <c:v>262144</c:v>
                </c:pt>
                <c:pt idx="589">
                  <c:v>262144</c:v>
                </c:pt>
                <c:pt idx="590">
                  <c:v>262144</c:v>
                </c:pt>
                <c:pt idx="591">
                  <c:v>262144</c:v>
                </c:pt>
                <c:pt idx="592">
                  <c:v>262144</c:v>
                </c:pt>
                <c:pt idx="593">
                  <c:v>262144</c:v>
                </c:pt>
                <c:pt idx="594">
                  <c:v>262144</c:v>
                </c:pt>
                <c:pt idx="595">
                  <c:v>262144</c:v>
                </c:pt>
                <c:pt idx="596">
                  <c:v>262144</c:v>
                </c:pt>
                <c:pt idx="597">
                  <c:v>262144</c:v>
                </c:pt>
                <c:pt idx="598">
                  <c:v>262144</c:v>
                </c:pt>
                <c:pt idx="599">
                  <c:v>262144</c:v>
                </c:pt>
                <c:pt idx="600">
                  <c:v>262144</c:v>
                </c:pt>
                <c:pt idx="601">
                  <c:v>262144</c:v>
                </c:pt>
                <c:pt idx="602">
                  <c:v>262144</c:v>
                </c:pt>
                <c:pt idx="603">
                  <c:v>262144</c:v>
                </c:pt>
                <c:pt idx="604">
                  <c:v>262144</c:v>
                </c:pt>
                <c:pt idx="605">
                  <c:v>262144</c:v>
                </c:pt>
                <c:pt idx="606">
                  <c:v>262144</c:v>
                </c:pt>
                <c:pt idx="607">
                  <c:v>262144</c:v>
                </c:pt>
                <c:pt idx="608">
                  <c:v>262144</c:v>
                </c:pt>
                <c:pt idx="609">
                  <c:v>262144</c:v>
                </c:pt>
                <c:pt idx="610">
                  <c:v>262144</c:v>
                </c:pt>
                <c:pt idx="611">
                  <c:v>262144</c:v>
                </c:pt>
                <c:pt idx="612">
                  <c:v>262144</c:v>
                </c:pt>
                <c:pt idx="613">
                  <c:v>262144</c:v>
                </c:pt>
                <c:pt idx="614">
                  <c:v>262144</c:v>
                </c:pt>
                <c:pt idx="615">
                  <c:v>262144</c:v>
                </c:pt>
                <c:pt idx="616">
                  <c:v>262144</c:v>
                </c:pt>
                <c:pt idx="617">
                  <c:v>262144</c:v>
                </c:pt>
                <c:pt idx="618">
                  <c:v>262144</c:v>
                </c:pt>
                <c:pt idx="619">
                  <c:v>262144</c:v>
                </c:pt>
                <c:pt idx="620">
                  <c:v>262144</c:v>
                </c:pt>
                <c:pt idx="621">
                  <c:v>262144</c:v>
                </c:pt>
                <c:pt idx="622">
                  <c:v>262144</c:v>
                </c:pt>
                <c:pt idx="623">
                  <c:v>262144</c:v>
                </c:pt>
                <c:pt idx="624">
                  <c:v>262144</c:v>
                </c:pt>
                <c:pt idx="625">
                  <c:v>262144</c:v>
                </c:pt>
                <c:pt idx="626">
                  <c:v>262144</c:v>
                </c:pt>
                <c:pt idx="627">
                  <c:v>262144</c:v>
                </c:pt>
                <c:pt idx="628">
                  <c:v>262144</c:v>
                </c:pt>
                <c:pt idx="629">
                  <c:v>262144</c:v>
                </c:pt>
                <c:pt idx="630">
                  <c:v>262144</c:v>
                </c:pt>
                <c:pt idx="631">
                  <c:v>262144</c:v>
                </c:pt>
                <c:pt idx="632">
                  <c:v>262144</c:v>
                </c:pt>
                <c:pt idx="633">
                  <c:v>262144</c:v>
                </c:pt>
                <c:pt idx="634">
                  <c:v>262144</c:v>
                </c:pt>
                <c:pt idx="635">
                  <c:v>262144</c:v>
                </c:pt>
                <c:pt idx="636">
                  <c:v>262144</c:v>
                </c:pt>
                <c:pt idx="637">
                  <c:v>262144</c:v>
                </c:pt>
                <c:pt idx="638">
                  <c:v>262144</c:v>
                </c:pt>
                <c:pt idx="639">
                  <c:v>262144</c:v>
                </c:pt>
                <c:pt idx="640">
                  <c:v>262144</c:v>
                </c:pt>
                <c:pt idx="641">
                  <c:v>262144</c:v>
                </c:pt>
                <c:pt idx="642">
                  <c:v>262144</c:v>
                </c:pt>
                <c:pt idx="643">
                  <c:v>262144</c:v>
                </c:pt>
                <c:pt idx="644">
                  <c:v>262144</c:v>
                </c:pt>
                <c:pt idx="645">
                  <c:v>262144</c:v>
                </c:pt>
                <c:pt idx="646">
                  <c:v>262144</c:v>
                </c:pt>
                <c:pt idx="647">
                  <c:v>262144</c:v>
                </c:pt>
                <c:pt idx="648">
                  <c:v>262144</c:v>
                </c:pt>
                <c:pt idx="649">
                  <c:v>262144</c:v>
                </c:pt>
                <c:pt idx="650">
                  <c:v>262144</c:v>
                </c:pt>
                <c:pt idx="651">
                  <c:v>262144</c:v>
                </c:pt>
                <c:pt idx="652">
                  <c:v>262144</c:v>
                </c:pt>
                <c:pt idx="653">
                  <c:v>262144</c:v>
                </c:pt>
                <c:pt idx="654">
                  <c:v>262144</c:v>
                </c:pt>
                <c:pt idx="655">
                  <c:v>262144</c:v>
                </c:pt>
                <c:pt idx="656">
                  <c:v>262144</c:v>
                </c:pt>
                <c:pt idx="657">
                  <c:v>262144</c:v>
                </c:pt>
                <c:pt idx="658">
                  <c:v>262144</c:v>
                </c:pt>
                <c:pt idx="659">
                  <c:v>262144</c:v>
                </c:pt>
                <c:pt idx="660">
                  <c:v>262144</c:v>
                </c:pt>
                <c:pt idx="661">
                  <c:v>262144</c:v>
                </c:pt>
                <c:pt idx="662">
                  <c:v>262144</c:v>
                </c:pt>
                <c:pt idx="663">
                  <c:v>262144</c:v>
                </c:pt>
                <c:pt idx="664">
                  <c:v>262144</c:v>
                </c:pt>
                <c:pt idx="665">
                  <c:v>262144</c:v>
                </c:pt>
                <c:pt idx="666">
                  <c:v>262144</c:v>
                </c:pt>
                <c:pt idx="667">
                  <c:v>262144</c:v>
                </c:pt>
                <c:pt idx="668">
                  <c:v>262144</c:v>
                </c:pt>
                <c:pt idx="669">
                  <c:v>262144</c:v>
                </c:pt>
                <c:pt idx="670">
                  <c:v>262144</c:v>
                </c:pt>
                <c:pt idx="671">
                  <c:v>262144</c:v>
                </c:pt>
                <c:pt idx="672">
                  <c:v>262144</c:v>
                </c:pt>
                <c:pt idx="673">
                  <c:v>262144</c:v>
                </c:pt>
                <c:pt idx="674">
                  <c:v>262144</c:v>
                </c:pt>
                <c:pt idx="675">
                  <c:v>262144</c:v>
                </c:pt>
                <c:pt idx="676">
                  <c:v>262144</c:v>
                </c:pt>
                <c:pt idx="677">
                  <c:v>262144</c:v>
                </c:pt>
                <c:pt idx="678">
                  <c:v>262144</c:v>
                </c:pt>
                <c:pt idx="679">
                  <c:v>262144</c:v>
                </c:pt>
                <c:pt idx="680">
                  <c:v>262144</c:v>
                </c:pt>
                <c:pt idx="681">
                  <c:v>262144</c:v>
                </c:pt>
                <c:pt idx="682">
                  <c:v>262144</c:v>
                </c:pt>
                <c:pt idx="683">
                  <c:v>262144</c:v>
                </c:pt>
                <c:pt idx="684">
                  <c:v>262144</c:v>
                </c:pt>
                <c:pt idx="685">
                  <c:v>262144</c:v>
                </c:pt>
                <c:pt idx="686">
                  <c:v>262144</c:v>
                </c:pt>
                <c:pt idx="687">
                  <c:v>262144</c:v>
                </c:pt>
                <c:pt idx="688">
                  <c:v>262144</c:v>
                </c:pt>
                <c:pt idx="689">
                  <c:v>262144</c:v>
                </c:pt>
                <c:pt idx="690">
                  <c:v>262144</c:v>
                </c:pt>
                <c:pt idx="691">
                  <c:v>262144</c:v>
                </c:pt>
                <c:pt idx="692">
                  <c:v>262144</c:v>
                </c:pt>
                <c:pt idx="693">
                  <c:v>262144</c:v>
                </c:pt>
                <c:pt idx="694">
                  <c:v>262144</c:v>
                </c:pt>
                <c:pt idx="695">
                  <c:v>262144</c:v>
                </c:pt>
                <c:pt idx="696">
                  <c:v>262144</c:v>
                </c:pt>
                <c:pt idx="697">
                  <c:v>262144</c:v>
                </c:pt>
                <c:pt idx="698">
                  <c:v>262144</c:v>
                </c:pt>
                <c:pt idx="699">
                  <c:v>262144</c:v>
                </c:pt>
                <c:pt idx="700">
                  <c:v>262144</c:v>
                </c:pt>
                <c:pt idx="701">
                  <c:v>262144</c:v>
                </c:pt>
                <c:pt idx="702">
                  <c:v>262144</c:v>
                </c:pt>
                <c:pt idx="703">
                  <c:v>262144</c:v>
                </c:pt>
                <c:pt idx="704">
                  <c:v>262144</c:v>
                </c:pt>
                <c:pt idx="705">
                  <c:v>262144</c:v>
                </c:pt>
                <c:pt idx="706">
                  <c:v>262144</c:v>
                </c:pt>
                <c:pt idx="707">
                  <c:v>262144</c:v>
                </c:pt>
                <c:pt idx="708">
                  <c:v>262144</c:v>
                </c:pt>
                <c:pt idx="709">
                  <c:v>262144</c:v>
                </c:pt>
                <c:pt idx="710">
                  <c:v>262144</c:v>
                </c:pt>
                <c:pt idx="711">
                  <c:v>262144</c:v>
                </c:pt>
                <c:pt idx="712">
                  <c:v>262144</c:v>
                </c:pt>
                <c:pt idx="713">
                  <c:v>262144</c:v>
                </c:pt>
                <c:pt idx="714">
                  <c:v>262144</c:v>
                </c:pt>
                <c:pt idx="715">
                  <c:v>262144</c:v>
                </c:pt>
                <c:pt idx="716">
                  <c:v>262144</c:v>
                </c:pt>
                <c:pt idx="717">
                  <c:v>262144</c:v>
                </c:pt>
                <c:pt idx="718">
                  <c:v>262144</c:v>
                </c:pt>
                <c:pt idx="719">
                  <c:v>262144</c:v>
                </c:pt>
                <c:pt idx="720">
                  <c:v>262144</c:v>
                </c:pt>
                <c:pt idx="721">
                  <c:v>262144</c:v>
                </c:pt>
                <c:pt idx="722">
                  <c:v>262144</c:v>
                </c:pt>
                <c:pt idx="723">
                  <c:v>262144</c:v>
                </c:pt>
                <c:pt idx="724">
                  <c:v>262144</c:v>
                </c:pt>
                <c:pt idx="725">
                  <c:v>262144</c:v>
                </c:pt>
                <c:pt idx="726">
                  <c:v>262144</c:v>
                </c:pt>
                <c:pt idx="727">
                  <c:v>262144</c:v>
                </c:pt>
                <c:pt idx="728">
                  <c:v>262144</c:v>
                </c:pt>
                <c:pt idx="729">
                  <c:v>262144</c:v>
                </c:pt>
                <c:pt idx="730">
                  <c:v>262144</c:v>
                </c:pt>
                <c:pt idx="731">
                  <c:v>262144</c:v>
                </c:pt>
                <c:pt idx="732">
                  <c:v>262144</c:v>
                </c:pt>
                <c:pt idx="733">
                  <c:v>262144</c:v>
                </c:pt>
                <c:pt idx="734">
                  <c:v>262144</c:v>
                </c:pt>
                <c:pt idx="735">
                  <c:v>262144</c:v>
                </c:pt>
                <c:pt idx="736">
                  <c:v>262144</c:v>
                </c:pt>
                <c:pt idx="737">
                  <c:v>262144</c:v>
                </c:pt>
                <c:pt idx="738">
                  <c:v>262144</c:v>
                </c:pt>
                <c:pt idx="739">
                  <c:v>262144</c:v>
                </c:pt>
                <c:pt idx="740">
                  <c:v>262144</c:v>
                </c:pt>
                <c:pt idx="741">
                  <c:v>262144</c:v>
                </c:pt>
                <c:pt idx="742">
                  <c:v>262144</c:v>
                </c:pt>
                <c:pt idx="743">
                  <c:v>262144</c:v>
                </c:pt>
                <c:pt idx="744">
                  <c:v>262144</c:v>
                </c:pt>
                <c:pt idx="745">
                  <c:v>262144</c:v>
                </c:pt>
                <c:pt idx="746">
                  <c:v>262144</c:v>
                </c:pt>
                <c:pt idx="747">
                  <c:v>262144</c:v>
                </c:pt>
                <c:pt idx="748">
                  <c:v>262144</c:v>
                </c:pt>
                <c:pt idx="749">
                  <c:v>262144</c:v>
                </c:pt>
                <c:pt idx="750">
                  <c:v>262144</c:v>
                </c:pt>
                <c:pt idx="751">
                  <c:v>262144</c:v>
                </c:pt>
                <c:pt idx="752">
                  <c:v>262144</c:v>
                </c:pt>
                <c:pt idx="753">
                  <c:v>262144</c:v>
                </c:pt>
                <c:pt idx="754">
                  <c:v>262144</c:v>
                </c:pt>
                <c:pt idx="755">
                  <c:v>262144</c:v>
                </c:pt>
                <c:pt idx="756">
                  <c:v>262144</c:v>
                </c:pt>
                <c:pt idx="757">
                  <c:v>262144</c:v>
                </c:pt>
                <c:pt idx="758">
                  <c:v>262144</c:v>
                </c:pt>
                <c:pt idx="759">
                  <c:v>262144</c:v>
                </c:pt>
                <c:pt idx="760">
                  <c:v>262144</c:v>
                </c:pt>
                <c:pt idx="761">
                  <c:v>262144</c:v>
                </c:pt>
                <c:pt idx="762">
                  <c:v>262144</c:v>
                </c:pt>
                <c:pt idx="763">
                  <c:v>262144</c:v>
                </c:pt>
                <c:pt idx="764">
                  <c:v>262144</c:v>
                </c:pt>
                <c:pt idx="765">
                  <c:v>262144</c:v>
                </c:pt>
                <c:pt idx="766">
                  <c:v>262144</c:v>
                </c:pt>
                <c:pt idx="767">
                  <c:v>262144</c:v>
                </c:pt>
                <c:pt idx="768">
                  <c:v>262144</c:v>
                </c:pt>
                <c:pt idx="769">
                  <c:v>262144</c:v>
                </c:pt>
                <c:pt idx="770">
                  <c:v>262144</c:v>
                </c:pt>
                <c:pt idx="771">
                  <c:v>262144</c:v>
                </c:pt>
                <c:pt idx="772">
                  <c:v>262144</c:v>
                </c:pt>
                <c:pt idx="773">
                  <c:v>262144</c:v>
                </c:pt>
                <c:pt idx="774">
                  <c:v>262144</c:v>
                </c:pt>
                <c:pt idx="775">
                  <c:v>262144</c:v>
                </c:pt>
                <c:pt idx="776">
                  <c:v>262144</c:v>
                </c:pt>
                <c:pt idx="777">
                  <c:v>262144</c:v>
                </c:pt>
                <c:pt idx="778">
                  <c:v>262144</c:v>
                </c:pt>
                <c:pt idx="779">
                  <c:v>262144</c:v>
                </c:pt>
                <c:pt idx="780">
                  <c:v>262144</c:v>
                </c:pt>
                <c:pt idx="781">
                  <c:v>262144</c:v>
                </c:pt>
                <c:pt idx="782">
                  <c:v>262144</c:v>
                </c:pt>
                <c:pt idx="783">
                  <c:v>262144</c:v>
                </c:pt>
                <c:pt idx="784">
                  <c:v>262144</c:v>
                </c:pt>
                <c:pt idx="785">
                  <c:v>262144</c:v>
                </c:pt>
                <c:pt idx="786">
                  <c:v>262144</c:v>
                </c:pt>
                <c:pt idx="787">
                  <c:v>262144</c:v>
                </c:pt>
                <c:pt idx="788">
                  <c:v>262144</c:v>
                </c:pt>
                <c:pt idx="789">
                  <c:v>262144</c:v>
                </c:pt>
                <c:pt idx="790">
                  <c:v>262144</c:v>
                </c:pt>
                <c:pt idx="791">
                  <c:v>262144</c:v>
                </c:pt>
                <c:pt idx="792">
                  <c:v>262144</c:v>
                </c:pt>
                <c:pt idx="793">
                  <c:v>262144</c:v>
                </c:pt>
                <c:pt idx="794">
                  <c:v>262144</c:v>
                </c:pt>
                <c:pt idx="795">
                  <c:v>262144</c:v>
                </c:pt>
                <c:pt idx="796">
                  <c:v>262144</c:v>
                </c:pt>
                <c:pt idx="797">
                  <c:v>262144</c:v>
                </c:pt>
                <c:pt idx="798">
                  <c:v>262144</c:v>
                </c:pt>
                <c:pt idx="799">
                  <c:v>262144</c:v>
                </c:pt>
                <c:pt idx="800">
                  <c:v>262144</c:v>
                </c:pt>
                <c:pt idx="801">
                  <c:v>262144</c:v>
                </c:pt>
                <c:pt idx="802">
                  <c:v>262144</c:v>
                </c:pt>
                <c:pt idx="803">
                  <c:v>262144</c:v>
                </c:pt>
                <c:pt idx="804">
                  <c:v>262144</c:v>
                </c:pt>
                <c:pt idx="805">
                  <c:v>262144</c:v>
                </c:pt>
                <c:pt idx="806">
                  <c:v>262144</c:v>
                </c:pt>
                <c:pt idx="807">
                  <c:v>262144</c:v>
                </c:pt>
                <c:pt idx="808">
                  <c:v>262144</c:v>
                </c:pt>
                <c:pt idx="809">
                  <c:v>262144</c:v>
                </c:pt>
                <c:pt idx="810">
                  <c:v>262144</c:v>
                </c:pt>
                <c:pt idx="811">
                  <c:v>262144</c:v>
                </c:pt>
                <c:pt idx="812">
                  <c:v>262144</c:v>
                </c:pt>
                <c:pt idx="813">
                  <c:v>262144</c:v>
                </c:pt>
                <c:pt idx="814">
                  <c:v>262144</c:v>
                </c:pt>
                <c:pt idx="815">
                  <c:v>262144</c:v>
                </c:pt>
                <c:pt idx="816">
                  <c:v>262144</c:v>
                </c:pt>
                <c:pt idx="817">
                  <c:v>262144</c:v>
                </c:pt>
                <c:pt idx="818">
                  <c:v>262144</c:v>
                </c:pt>
                <c:pt idx="819">
                  <c:v>262144</c:v>
                </c:pt>
                <c:pt idx="820">
                  <c:v>262144</c:v>
                </c:pt>
                <c:pt idx="821">
                  <c:v>262144</c:v>
                </c:pt>
                <c:pt idx="822">
                  <c:v>262144</c:v>
                </c:pt>
                <c:pt idx="823">
                  <c:v>262144</c:v>
                </c:pt>
                <c:pt idx="824">
                  <c:v>262144</c:v>
                </c:pt>
                <c:pt idx="825">
                  <c:v>262144</c:v>
                </c:pt>
                <c:pt idx="826">
                  <c:v>262144</c:v>
                </c:pt>
                <c:pt idx="827">
                  <c:v>262144</c:v>
                </c:pt>
                <c:pt idx="828">
                  <c:v>262144</c:v>
                </c:pt>
                <c:pt idx="829">
                  <c:v>262144</c:v>
                </c:pt>
                <c:pt idx="830">
                  <c:v>262144</c:v>
                </c:pt>
                <c:pt idx="831">
                  <c:v>262144</c:v>
                </c:pt>
                <c:pt idx="832">
                  <c:v>262144</c:v>
                </c:pt>
                <c:pt idx="833">
                  <c:v>262144</c:v>
                </c:pt>
                <c:pt idx="834">
                  <c:v>262144</c:v>
                </c:pt>
                <c:pt idx="835">
                  <c:v>262144</c:v>
                </c:pt>
                <c:pt idx="836">
                  <c:v>262144</c:v>
                </c:pt>
                <c:pt idx="837">
                  <c:v>262144</c:v>
                </c:pt>
                <c:pt idx="838">
                  <c:v>262144</c:v>
                </c:pt>
                <c:pt idx="839">
                  <c:v>262144</c:v>
                </c:pt>
                <c:pt idx="840">
                  <c:v>262144</c:v>
                </c:pt>
                <c:pt idx="841">
                  <c:v>262144</c:v>
                </c:pt>
                <c:pt idx="842">
                  <c:v>262144</c:v>
                </c:pt>
                <c:pt idx="843">
                  <c:v>262144</c:v>
                </c:pt>
                <c:pt idx="844">
                  <c:v>262144</c:v>
                </c:pt>
                <c:pt idx="845">
                  <c:v>262144</c:v>
                </c:pt>
                <c:pt idx="846">
                  <c:v>262144</c:v>
                </c:pt>
                <c:pt idx="847">
                  <c:v>262144</c:v>
                </c:pt>
                <c:pt idx="848">
                  <c:v>262144</c:v>
                </c:pt>
                <c:pt idx="849">
                  <c:v>262144</c:v>
                </c:pt>
                <c:pt idx="850">
                  <c:v>262144</c:v>
                </c:pt>
                <c:pt idx="851">
                  <c:v>262144</c:v>
                </c:pt>
                <c:pt idx="852">
                  <c:v>262144</c:v>
                </c:pt>
                <c:pt idx="853">
                  <c:v>262144</c:v>
                </c:pt>
                <c:pt idx="854">
                  <c:v>262144</c:v>
                </c:pt>
                <c:pt idx="855">
                  <c:v>262144</c:v>
                </c:pt>
                <c:pt idx="856">
                  <c:v>262144</c:v>
                </c:pt>
                <c:pt idx="857">
                  <c:v>262144</c:v>
                </c:pt>
                <c:pt idx="858">
                  <c:v>262144</c:v>
                </c:pt>
                <c:pt idx="859">
                  <c:v>262144</c:v>
                </c:pt>
                <c:pt idx="860">
                  <c:v>262144</c:v>
                </c:pt>
                <c:pt idx="861">
                  <c:v>262144</c:v>
                </c:pt>
                <c:pt idx="862">
                  <c:v>262144</c:v>
                </c:pt>
                <c:pt idx="863">
                  <c:v>262144</c:v>
                </c:pt>
                <c:pt idx="864">
                  <c:v>262144</c:v>
                </c:pt>
                <c:pt idx="865">
                  <c:v>262144</c:v>
                </c:pt>
                <c:pt idx="866">
                  <c:v>262144</c:v>
                </c:pt>
                <c:pt idx="867">
                  <c:v>262144</c:v>
                </c:pt>
                <c:pt idx="868">
                  <c:v>262144</c:v>
                </c:pt>
                <c:pt idx="869">
                  <c:v>262144</c:v>
                </c:pt>
                <c:pt idx="870">
                  <c:v>262144</c:v>
                </c:pt>
                <c:pt idx="871">
                  <c:v>262144</c:v>
                </c:pt>
                <c:pt idx="872">
                  <c:v>262144</c:v>
                </c:pt>
                <c:pt idx="873">
                  <c:v>262144</c:v>
                </c:pt>
                <c:pt idx="874">
                  <c:v>262144</c:v>
                </c:pt>
                <c:pt idx="875">
                  <c:v>262144</c:v>
                </c:pt>
                <c:pt idx="876">
                  <c:v>262144</c:v>
                </c:pt>
                <c:pt idx="877">
                  <c:v>262144</c:v>
                </c:pt>
                <c:pt idx="878">
                  <c:v>262144</c:v>
                </c:pt>
                <c:pt idx="879">
                  <c:v>262144</c:v>
                </c:pt>
                <c:pt idx="880">
                  <c:v>262144</c:v>
                </c:pt>
                <c:pt idx="881">
                  <c:v>262144</c:v>
                </c:pt>
                <c:pt idx="882">
                  <c:v>262144</c:v>
                </c:pt>
                <c:pt idx="883">
                  <c:v>262144</c:v>
                </c:pt>
                <c:pt idx="884">
                  <c:v>262144</c:v>
                </c:pt>
                <c:pt idx="885">
                  <c:v>262144</c:v>
                </c:pt>
                <c:pt idx="886">
                  <c:v>262144</c:v>
                </c:pt>
                <c:pt idx="887">
                  <c:v>262144</c:v>
                </c:pt>
                <c:pt idx="888">
                  <c:v>262144</c:v>
                </c:pt>
                <c:pt idx="889">
                  <c:v>262144</c:v>
                </c:pt>
                <c:pt idx="890">
                  <c:v>262144</c:v>
                </c:pt>
                <c:pt idx="891">
                  <c:v>262144</c:v>
                </c:pt>
                <c:pt idx="892">
                  <c:v>262144</c:v>
                </c:pt>
                <c:pt idx="893">
                  <c:v>262144</c:v>
                </c:pt>
                <c:pt idx="894">
                  <c:v>262144</c:v>
                </c:pt>
                <c:pt idx="895">
                  <c:v>262144</c:v>
                </c:pt>
                <c:pt idx="896">
                  <c:v>262144</c:v>
                </c:pt>
                <c:pt idx="897">
                  <c:v>262144</c:v>
                </c:pt>
                <c:pt idx="898">
                  <c:v>262144</c:v>
                </c:pt>
                <c:pt idx="899">
                  <c:v>262144</c:v>
                </c:pt>
                <c:pt idx="900">
                  <c:v>262144</c:v>
                </c:pt>
                <c:pt idx="901">
                  <c:v>262144</c:v>
                </c:pt>
                <c:pt idx="902">
                  <c:v>262144</c:v>
                </c:pt>
                <c:pt idx="903">
                  <c:v>262144</c:v>
                </c:pt>
                <c:pt idx="904">
                  <c:v>262144</c:v>
                </c:pt>
                <c:pt idx="905">
                  <c:v>262144</c:v>
                </c:pt>
                <c:pt idx="906">
                  <c:v>262144</c:v>
                </c:pt>
                <c:pt idx="907">
                  <c:v>262144</c:v>
                </c:pt>
                <c:pt idx="908">
                  <c:v>262144</c:v>
                </c:pt>
                <c:pt idx="909">
                  <c:v>262144</c:v>
                </c:pt>
                <c:pt idx="910">
                  <c:v>262144</c:v>
                </c:pt>
                <c:pt idx="911">
                  <c:v>262144</c:v>
                </c:pt>
                <c:pt idx="912">
                  <c:v>262144</c:v>
                </c:pt>
              </c:numCache>
            </c:numRef>
          </c:xVal>
          <c:yVal>
            <c:numRef>
              <c:f>12</c:f>
              <c:numCache>
                <c:formatCode>General</c:formatCode>
                <c:ptCount val="1001"/>
                <c:pt idx="0">
                  <c:v>0.417241981</c:v>
                </c:pt>
                <c:pt idx="1">
                  <c:v>29.00114709</c:v>
                </c:pt>
                <c:pt idx="2">
                  <c:v>27.130074688</c:v>
                </c:pt>
                <c:pt idx="3">
                  <c:v>29.415617067</c:v>
                </c:pt>
                <c:pt idx="4">
                  <c:v>29.542945851</c:v>
                </c:pt>
                <c:pt idx="5">
                  <c:v>23.726463116</c:v>
                </c:pt>
                <c:pt idx="6">
                  <c:v>29.380730589</c:v>
                </c:pt>
                <c:pt idx="7">
                  <c:v>29.388183461</c:v>
                </c:pt>
                <c:pt idx="8">
                  <c:v>29.247504908</c:v>
                </c:pt>
                <c:pt idx="9">
                  <c:v>29.690991617</c:v>
                </c:pt>
                <c:pt idx="10">
                  <c:v>24.348134123</c:v>
                </c:pt>
                <c:pt idx="11">
                  <c:v>28.775799372</c:v>
                </c:pt>
                <c:pt idx="12">
                  <c:v>29.329174478</c:v>
                </c:pt>
                <c:pt idx="13">
                  <c:v>29.396781808</c:v>
                </c:pt>
                <c:pt idx="14">
                  <c:v>29.235775571</c:v>
                </c:pt>
                <c:pt idx="15">
                  <c:v>28.746210803</c:v>
                </c:pt>
                <c:pt idx="16">
                  <c:v>9.33252797500001</c:v>
                </c:pt>
                <c:pt idx="17">
                  <c:v>29.367782103</c:v>
                </c:pt>
                <c:pt idx="18">
                  <c:v>27.579941921</c:v>
                </c:pt>
                <c:pt idx="19">
                  <c:v>29.367970874</c:v>
                </c:pt>
                <c:pt idx="20">
                  <c:v>29.340506122</c:v>
                </c:pt>
                <c:pt idx="21">
                  <c:v>24.984364695</c:v>
                </c:pt>
                <c:pt idx="22">
                  <c:v>29.372206859</c:v>
                </c:pt>
                <c:pt idx="23">
                  <c:v>29.393394813</c:v>
                </c:pt>
                <c:pt idx="24">
                  <c:v>29.296840672</c:v>
                </c:pt>
                <c:pt idx="25">
                  <c:v>7.098739285</c:v>
                </c:pt>
                <c:pt idx="26">
                  <c:v>29.451231949</c:v>
                </c:pt>
                <c:pt idx="27">
                  <c:v>28.481437141</c:v>
                </c:pt>
                <c:pt idx="28">
                  <c:v>29.266249852</c:v>
                </c:pt>
                <c:pt idx="29">
                  <c:v>29.203029576</c:v>
                </c:pt>
                <c:pt idx="30">
                  <c:v>29.196379269</c:v>
                </c:pt>
                <c:pt idx="31">
                  <c:v>28.338310814</c:v>
                </c:pt>
                <c:pt idx="32">
                  <c:v>9.85369656000001</c:v>
                </c:pt>
                <c:pt idx="33">
                  <c:v>29.186316262</c:v>
                </c:pt>
                <c:pt idx="34">
                  <c:v>27.18976263</c:v>
                </c:pt>
                <c:pt idx="35">
                  <c:v>29.209270386</c:v>
                </c:pt>
                <c:pt idx="36">
                  <c:v>29.503237502</c:v>
                </c:pt>
                <c:pt idx="37">
                  <c:v>25.540096354</c:v>
                </c:pt>
                <c:pt idx="38">
                  <c:v>29.191947978</c:v>
                </c:pt>
                <c:pt idx="39">
                  <c:v>29.384908405</c:v>
                </c:pt>
                <c:pt idx="40">
                  <c:v>29.176439733</c:v>
                </c:pt>
                <c:pt idx="41">
                  <c:v>29.393264163</c:v>
                </c:pt>
                <c:pt idx="42">
                  <c:v>25.177294766</c:v>
                </c:pt>
                <c:pt idx="43">
                  <c:v>27.180397125</c:v>
                </c:pt>
                <c:pt idx="44">
                  <c:v>29.32384386</c:v>
                </c:pt>
                <c:pt idx="45">
                  <c:v>29.38913381</c:v>
                </c:pt>
                <c:pt idx="46">
                  <c:v>22.905901799</c:v>
                </c:pt>
                <c:pt idx="47">
                  <c:v>27.148330717</c:v>
                </c:pt>
                <c:pt idx="48">
                  <c:v>11.090386978</c:v>
                </c:pt>
                <c:pt idx="49">
                  <c:v>29.351141994</c:v>
                </c:pt>
                <c:pt idx="50">
                  <c:v>27.058574474</c:v>
                </c:pt>
                <c:pt idx="51">
                  <c:v>29.299469232</c:v>
                </c:pt>
                <c:pt idx="52">
                  <c:v>29.442853555</c:v>
                </c:pt>
                <c:pt idx="53">
                  <c:v>25.698480146</c:v>
                </c:pt>
                <c:pt idx="54">
                  <c:v>29.348281357</c:v>
                </c:pt>
                <c:pt idx="55">
                  <c:v>27.033384607</c:v>
                </c:pt>
                <c:pt idx="56">
                  <c:v>29.386212497</c:v>
                </c:pt>
                <c:pt idx="57">
                  <c:v>6.765740151</c:v>
                </c:pt>
                <c:pt idx="58">
                  <c:v>29.343144237</c:v>
                </c:pt>
                <c:pt idx="59">
                  <c:v>28.631686931</c:v>
                </c:pt>
                <c:pt idx="60">
                  <c:v>26.995579594</c:v>
                </c:pt>
                <c:pt idx="61">
                  <c:v>29.517898905</c:v>
                </c:pt>
                <c:pt idx="62">
                  <c:v>25.286131212</c:v>
                </c:pt>
                <c:pt idx="63">
                  <c:v>29.352729382</c:v>
                </c:pt>
                <c:pt idx="64">
                  <c:v>16.753337697</c:v>
                </c:pt>
                <c:pt idx="65">
                  <c:v>28.9549832</c:v>
                </c:pt>
                <c:pt idx="66">
                  <c:v>27.148150338</c:v>
                </c:pt>
                <c:pt idx="67">
                  <c:v>29.229105243</c:v>
                </c:pt>
                <c:pt idx="68">
                  <c:v>25.721467748</c:v>
                </c:pt>
                <c:pt idx="69">
                  <c:v>29.241705417</c:v>
                </c:pt>
                <c:pt idx="70">
                  <c:v>29.242612287</c:v>
                </c:pt>
                <c:pt idx="71">
                  <c:v>29.339433881</c:v>
                </c:pt>
                <c:pt idx="72">
                  <c:v>27.895618248</c:v>
                </c:pt>
                <c:pt idx="73">
                  <c:v>29.256363439</c:v>
                </c:pt>
                <c:pt idx="74">
                  <c:v>26.970014731</c:v>
                </c:pt>
                <c:pt idx="75">
                  <c:v>29.377087996</c:v>
                </c:pt>
                <c:pt idx="76">
                  <c:v>29.119388986</c:v>
                </c:pt>
                <c:pt idx="77">
                  <c:v>29.169139568</c:v>
                </c:pt>
                <c:pt idx="78">
                  <c:v>28.968827448</c:v>
                </c:pt>
                <c:pt idx="79">
                  <c:v>27.03487516</c:v>
                </c:pt>
                <c:pt idx="80">
                  <c:v>14.667988947</c:v>
                </c:pt>
                <c:pt idx="81">
                  <c:v>28.545802917</c:v>
                </c:pt>
                <c:pt idx="82">
                  <c:v>29.360891887</c:v>
                </c:pt>
                <c:pt idx="83">
                  <c:v>29.226745937</c:v>
                </c:pt>
                <c:pt idx="84">
                  <c:v>29.442713841</c:v>
                </c:pt>
                <c:pt idx="85">
                  <c:v>24.577529783</c:v>
                </c:pt>
                <c:pt idx="86">
                  <c:v>29.138821469</c:v>
                </c:pt>
                <c:pt idx="87">
                  <c:v>29.383935995</c:v>
                </c:pt>
                <c:pt idx="88">
                  <c:v>27.040094118</c:v>
                </c:pt>
                <c:pt idx="89">
                  <c:v>7.026145873</c:v>
                </c:pt>
                <c:pt idx="90">
                  <c:v>29.219556484</c:v>
                </c:pt>
                <c:pt idx="91">
                  <c:v>28.797410771</c:v>
                </c:pt>
                <c:pt idx="92">
                  <c:v>29.382735174</c:v>
                </c:pt>
                <c:pt idx="93">
                  <c:v>29.397115391</c:v>
                </c:pt>
                <c:pt idx="94">
                  <c:v>24.993734427</c:v>
                </c:pt>
                <c:pt idx="95">
                  <c:v>29.28343194</c:v>
                </c:pt>
                <c:pt idx="96">
                  <c:v>16.824490843</c:v>
                </c:pt>
                <c:pt idx="97">
                  <c:v>27.449530839</c:v>
                </c:pt>
                <c:pt idx="98">
                  <c:v>29.300398478</c:v>
                </c:pt>
                <c:pt idx="99">
                  <c:v>29.152304366</c:v>
                </c:pt>
                <c:pt idx="100">
                  <c:v>28.362132981</c:v>
                </c:pt>
                <c:pt idx="101">
                  <c:v>25.229168779</c:v>
                </c:pt>
                <c:pt idx="102">
                  <c:v>29.197797294</c:v>
                </c:pt>
                <c:pt idx="103">
                  <c:v>27.901814595</c:v>
                </c:pt>
                <c:pt idx="104">
                  <c:v>29.259270915</c:v>
                </c:pt>
                <c:pt idx="105">
                  <c:v>29.326492669</c:v>
                </c:pt>
                <c:pt idx="106">
                  <c:v>25.104152183</c:v>
                </c:pt>
                <c:pt idx="107">
                  <c:v>29.426496998</c:v>
                </c:pt>
                <c:pt idx="108">
                  <c:v>29.354767868</c:v>
                </c:pt>
                <c:pt idx="109">
                  <c:v>29.238170354</c:v>
                </c:pt>
                <c:pt idx="110">
                  <c:v>29.271325984</c:v>
                </c:pt>
                <c:pt idx="111">
                  <c:v>25.808271349</c:v>
                </c:pt>
                <c:pt idx="112">
                  <c:v>14.90538817</c:v>
                </c:pt>
                <c:pt idx="113">
                  <c:v>27.302111351</c:v>
                </c:pt>
                <c:pt idx="114">
                  <c:v>29.366076405</c:v>
                </c:pt>
                <c:pt idx="115">
                  <c:v>29.220553722</c:v>
                </c:pt>
                <c:pt idx="116">
                  <c:v>29.42229357</c:v>
                </c:pt>
                <c:pt idx="117">
                  <c:v>25.231718498</c:v>
                </c:pt>
                <c:pt idx="118">
                  <c:v>29.408867874</c:v>
                </c:pt>
                <c:pt idx="119">
                  <c:v>28.654467673</c:v>
                </c:pt>
                <c:pt idx="120">
                  <c:v>7.139598495</c:v>
                </c:pt>
                <c:pt idx="121">
                  <c:v>27.679772912</c:v>
                </c:pt>
                <c:pt idx="122">
                  <c:v>28.621997946</c:v>
                </c:pt>
                <c:pt idx="123">
                  <c:v>29.46780608</c:v>
                </c:pt>
                <c:pt idx="124">
                  <c:v>29.297793662</c:v>
                </c:pt>
                <c:pt idx="125">
                  <c:v>29.358410074</c:v>
                </c:pt>
                <c:pt idx="126">
                  <c:v>25.741603466</c:v>
                </c:pt>
                <c:pt idx="127">
                  <c:v>26.516534548</c:v>
                </c:pt>
                <c:pt idx="128">
                  <c:v>16.925826551</c:v>
                </c:pt>
                <c:pt idx="129">
                  <c:v>29.159266198</c:v>
                </c:pt>
                <c:pt idx="130">
                  <c:v>29.389326294</c:v>
                </c:pt>
                <c:pt idx="131">
                  <c:v>29.390465778</c:v>
                </c:pt>
                <c:pt idx="132">
                  <c:v>28.11315154</c:v>
                </c:pt>
                <c:pt idx="133">
                  <c:v>29.531599621</c:v>
                </c:pt>
                <c:pt idx="134">
                  <c:v>26.813178372</c:v>
                </c:pt>
                <c:pt idx="135">
                  <c:v>29.332440545</c:v>
                </c:pt>
                <c:pt idx="136">
                  <c:v>29.114965853</c:v>
                </c:pt>
                <c:pt idx="137">
                  <c:v>29.320750766</c:v>
                </c:pt>
                <c:pt idx="138">
                  <c:v>25.506337031</c:v>
                </c:pt>
                <c:pt idx="139">
                  <c:v>26.554282729</c:v>
                </c:pt>
                <c:pt idx="140">
                  <c:v>29.537979935</c:v>
                </c:pt>
                <c:pt idx="141">
                  <c:v>28.017004159</c:v>
                </c:pt>
                <c:pt idx="142">
                  <c:v>29.397239198</c:v>
                </c:pt>
                <c:pt idx="143">
                  <c:v>29.531424358</c:v>
                </c:pt>
                <c:pt idx="144">
                  <c:v>13.399595068</c:v>
                </c:pt>
                <c:pt idx="145">
                  <c:v>29.322938789</c:v>
                </c:pt>
                <c:pt idx="146">
                  <c:v>29.230689659</c:v>
                </c:pt>
                <c:pt idx="147">
                  <c:v>29.262654329</c:v>
                </c:pt>
                <c:pt idx="148">
                  <c:v>27.392165954</c:v>
                </c:pt>
                <c:pt idx="149">
                  <c:v>27.899638358</c:v>
                </c:pt>
                <c:pt idx="150">
                  <c:v>27.691347083</c:v>
                </c:pt>
                <c:pt idx="151">
                  <c:v>29.452101808</c:v>
                </c:pt>
                <c:pt idx="152">
                  <c:v>7.037180075</c:v>
                </c:pt>
                <c:pt idx="153">
                  <c:v>29.487540436</c:v>
                </c:pt>
                <c:pt idx="154">
                  <c:v>28.916851961</c:v>
                </c:pt>
                <c:pt idx="155">
                  <c:v>29.305465958</c:v>
                </c:pt>
                <c:pt idx="156">
                  <c:v>29.254052519</c:v>
                </c:pt>
                <c:pt idx="157">
                  <c:v>29.113952197</c:v>
                </c:pt>
                <c:pt idx="158">
                  <c:v>28.410438893</c:v>
                </c:pt>
                <c:pt idx="159">
                  <c:v>26.940134899</c:v>
                </c:pt>
                <c:pt idx="160">
                  <c:v>15.174370416</c:v>
                </c:pt>
                <c:pt idx="161">
                  <c:v>29.097822472</c:v>
                </c:pt>
                <c:pt idx="162">
                  <c:v>29.398743871</c:v>
                </c:pt>
                <c:pt idx="163">
                  <c:v>29.342902676</c:v>
                </c:pt>
                <c:pt idx="164">
                  <c:v>27.059728332</c:v>
                </c:pt>
                <c:pt idx="165">
                  <c:v>27.847072125</c:v>
                </c:pt>
                <c:pt idx="166">
                  <c:v>27.186278302</c:v>
                </c:pt>
                <c:pt idx="167">
                  <c:v>29.213664485</c:v>
                </c:pt>
                <c:pt idx="168">
                  <c:v>29.181911748</c:v>
                </c:pt>
                <c:pt idx="169">
                  <c:v>29.067117757</c:v>
                </c:pt>
                <c:pt idx="170">
                  <c:v>27.430448407</c:v>
                </c:pt>
                <c:pt idx="171">
                  <c:v>26.803801702</c:v>
                </c:pt>
                <c:pt idx="172">
                  <c:v>29.231172498</c:v>
                </c:pt>
                <c:pt idx="173">
                  <c:v>29.296157562</c:v>
                </c:pt>
                <c:pt idx="174">
                  <c:v>27.072186644</c:v>
                </c:pt>
                <c:pt idx="175">
                  <c:v>27.049846514</c:v>
                </c:pt>
                <c:pt idx="176">
                  <c:v>15.301550623</c:v>
                </c:pt>
                <c:pt idx="177">
                  <c:v>29.14424727</c:v>
                </c:pt>
                <c:pt idx="178">
                  <c:v>29.257940592</c:v>
                </c:pt>
                <c:pt idx="179">
                  <c:v>28.613191913</c:v>
                </c:pt>
                <c:pt idx="180">
                  <c:v>29.513463078</c:v>
                </c:pt>
                <c:pt idx="181">
                  <c:v>23.905250884</c:v>
                </c:pt>
                <c:pt idx="182">
                  <c:v>28.515209602</c:v>
                </c:pt>
                <c:pt idx="183">
                  <c:v>29.088332346</c:v>
                </c:pt>
                <c:pt idx="184">
                  <c:v>7.02151377</c:v>
                </c:pt>
                <c:pt idx="185">
                  <c:v>29.369815815</c:v>
                </c:pt>
                <c:pt idx="186">
                  <c:v>26.078527004</c:v>
                </c:pt>
                <c:pt idx="187">
                  <c:v>29.375606143</c:v>
                </c:pt>
                <c:pt idx="188">
                  <c:v>29.101652274</c:v>
                </c:pt>
                <c:pt idx="189">
                  <c:v>29.513128582</c:v>
                </c:pt>
                <c:pt idx="190">
                  <c:v>27.182181793</c:v>
                </c:pt>
                <c:pt idx="191">
                  <c:v>27.773454602</c:v>
                </c:pt>
                <c:pt idx="192">
                  <c:v>15.445033277</c:v>
                </c:pt>
                <c:pt idx="193">
                  <c:v>29.355719487</c:v>
                </c:pt>
                <c:pt idx="194">
                  <c:v>29.097881436</c:v>
                </c:pt>
                <c:pt idx="195">
                  <c:v>28.012160107</c:v>
                </c:pt>
                <c:pt idx="196">
                  <c:v>29.370224307</c:v>
                </c:pt>
                <c:pt idx="197">
                  <c:v>29.507942258</c:v>
                </c:pt>
                <c:pt idx="198">
                  <c:v>27.76001605</c:v>
                </c:pt>
                <c:pt idx="199">
                  <c:v>29.184645136</c:v>
                </c:pt>
                <c:pt idx="200">
                  <c:v>29.412464993</c:v>
                </c:pt>
                <c:pt idx="201">
                  <c:v>29.33834973</c:v>
                </c:pt>
                <c:pt idx="202">
                  <c:v>27.035763754</c:v>
                </c:pt>
                <c:pt idx="203">
                  <c:v>28.177581967</c:v>
                </c:pt>
                <c:pt idx="204">
                  <c:v>27.31412587</c:v>
                </c:pt>
                <c:pt idx="205">
                  <c:v>29.352012808</c:v>
                </c:pt>
                <c:pt idx="206">
                  <c:v>29.382472347</c:v>
                </c:pt>
                <c:pt idx="207">
                  <c:v>29.412458107</c:v>
                </c:pt>
                <c:pt idx="208">
                  <c:v>13.356026307</c:v>
                </c:pt>
                <c:pt idx="209">
                  <c:v>29.207605117</c:v>
                </c:pt>
                <c:pt idx="210">
                  <c:v>29.375291933</c:v>
                </c:pt>
                <c:pt idx="211">
                  <c:v>27.198773955</c:v>
                </c:pt>
                <c:pt idx="212">
                  <c:v>29.627437486</c:v>
                </c:pt>
                <c:pt idx="213">
                  <c:v>24.89719554</c:v>
                </c:pt>
                <c:pt idx="214">
                  <c:v>27.227343857</c:v>
                </c:pt>
                <c:pt idx="215">
                  <c:v>7.12917747</c:v>
                </c:pt>
                <c:pt idx="216">
                  <c:v>25.8755479</c:v>
                </c:pt>
                <c:pt idx="217">
                  <c:v>29.387272695</c:v>
                </c:pt>
                <c:pt idx="218">
                  <c:v>27.507874226</c:v>
                </c:pt>
                <c:pt idx="219">
                  <c:v>29.26507908</c:v>
                </c:pt>
                <c:pt idx="220">
                  <c:v>29.343445766</c:v>
                </c:pt>
                <c:pt idx="221">
                  <c:v>23.029983769</c:v>
                </c:pt>
                <c:pt idx="222">
                  <c:v>27.051758232</c:v>
                </c:pt>
                <c:pt idx="223">
                  <c:v>29.340956624</c:v>
                </c:pt>
                <c:pt idx="224">
                  <c:v>20.649219887</c:v>
                </c:pt>
                <c:pt idx="225">
                  <c:v>29.260737647</c:v>
                </c:pt>
                <c:pt idx="226">
                  <c:v>27.105565833</c:v>
                </c:pt>
                <c:pt idx="227">
                  <c:v>29.417564426</c:v>
                </c:pt>
                <c:pt idx="228">
                  <c:v>29.410237773</c:v>
                </c:pt>
                <c:pt idx="229">
                  <c:v>22.783797331</c:v>
                </c:pt>
                <c:pt idx="230">
                  <c:v>29.44154788</c:v>
                </c:pt>
                <c:pt idx="231">
                  <c:v>29.395466461</c:v>
                </c:pt>
                <c:pt idx="232">
                  <c:v>29.322428962</c:v>
                </c:pt>
                <c:pt idx="233">
                  <c:v>29.351714531</c:v>
                </c:pt>
                <c:pt idx="234">
                  <c:v>26.059199923</c:v>
                </c:pt>
                <c:pt idx="235">
                  <c:v>27.513869371</c:v>
                </c:pt>
                <c:pt idx="236">
                  <c:v>29.573557788</c:v>
                </c:pt>
                <c:pt idx="237">
                  <c:v>27.157883991</c:v>
                </c:pt>
                <c:pt idx="238">
                  <c:v>29.419270945</c:v>
                </c:pt>
                <c:pt idx="239">
                  <c:v>26.066713431</c:v>
                </c:pt>
                <c:pt idx="240">
                  <c:v>15.671148862</c:v>
                </c:pt>
                <c:pt idx="241">
                  <c:v>29.282198373</c:v>
                </c:pt>
                <c:pt idx="242">
                  <c:v>28.167411632</c:v>
                </c:pt>
                <c:pt idx="243">
                  <c:v>29.515489283</c:v>
                </c:pt>
                <c:pt idx="244">
                  <c:v>29.418093064</c:v>
                </c:pt>
                <c:pt idx="245">
                  <c:v>24.097417998</c:v>
                </c:pt>
                <c:pt idx="246">
                  <c:v>29.570749328</c:v>
                </c:pt>
                <c:pt idx="247">
                  <c:v>7.019664815</c:v>
                </c:pt>
                <c:pt idx="248">
                  <c:v>29.559435632</c:v>
                </c:pt>
                <c:pt idx="249">
                  <c:v>25.208866697</c:v>
                </c:pt>
                <c:pt idx="250">
                  <c:v>29.510593241</c:v>
                </c:pt>
                <c:pt idx="251">
                  <c:v>29.261025559</c:v>
                </c:pt>
                <c:pt idx="252">
                  <c:v>29.286302134</c:v>
                </c:pt>
                <c:pt idx="253">
                  <c:v>29.323544445</c:v>
                </c:pt>
                <c:pt idx="254">
                  <c:v>26.617795247</c:v>
                </c:pt>
                <c:pt idx="255">
                  <c:v>27.741839493</c:v>
                </c:pt>
                <c:pt idx="256">
                  <c:v>10.946132649</c:v>
                </c:pt>
                <c:pt idx="257">
                  <c:v>29.300456558</c:v>
                </c:pt>
                <c:pt idx="258">
                  <c:v>27.6035244</c:v>
                </c:pt>
                <c:pt idx="259">
                  <c:v>29.492960163</c:v>
                </c:pt>
                <c:pt idx="260">
                  <c:v>29.476079397</c:v>
                </c:pt>
                <c:pt idx="261">
                  <c:v>24.683126613</c:v>
                </c:pt>
                <c:pt idx="262">
                  <c:v>29.503405503</c:v>
                </c:pt>
                <c:pt idx="263">
                  <c:v>29.347331934</c:v>
                </c:pt>
                <c:pt idx="264">
                  <c:v>29.225173845</c:v>
                </c:pt>
                <c:pt idx="265">
                  <c:v>29.529555588</c:v>
                </c:pt>
                <c:pt idx="266">
                  <c:v>25.674650847</c:v>
                </c:pt>
                <c:pt idx="267">
                  <c:v>27.831347332</c:v>
                </c:pt>
                <c:pt idx="268">
                  <c:v>28.81622244</c:v>
                </c:pt>
                <c:pt idx="269">
                  <c:v>29.494737755</c:v>
                </c:pt>
                <c:pt idx="270">
                  <c:v>29.244021194</c:v>
                </c:pt>
                <c:pt idx="271">
                  <c:v>28.455364735</c:v>
                </c:pt>
                <c:pt idx="272">
                  <c:v>13.661266411</c:v>
                </c:pt>
                <c:pt idx="273">
                  <c:v>29.441370234</c:v>
                </c:pt>
                <c:pt idx="274">
                  <c:v>27.392872147</c:v>
                </c:pt>
                <c:pt idx="275">
                  <c:v>29.347854623</c:v>
                </c:pt>
                <c:pt idx="276">
                  <c:v>29.537903549</c:v>
                </c:pt>
                <c:pt idx="277">
                  <c:v>24.893835012</c:v>
                </c:pt>
                <c:pt idx="278">
                  <c:v>29.473922045</c:v>
                </c:pt>
                <c:pt idx="279">
                  <c:v>7.038243245</c:v>
                </c:pt>
                <c:pt idx="280">
                  <c:v>29.530376291</c:v>
                </c:pt>
                <c:pt idx="281">
                  <c:v>23.875547897</c:v>
                </c:pt>
                <c:pt idx="282">
                  <c:v>29.303603464</c:v>
                </c:pt>
                <c:pt idx="283">
                  <c:v>29.463483749</c:v>
                </c:pt>
                <c:pt idx="284">
                  <c:v>29.333130484</c:v>
                </c:pt>
                <c:pt idx="285">
                  <c:v>29.428225231</c:v>
                </c:pt>
                <c:pt idx="286">
                  <c:v>27.524863489</c:v>
                </c:pt>
                <c:pt idx="287">
                  <c:v>28.057331562</c:v>
                </c:pt>
                <c:pt idx="288">
                  <c:v>10.905995672</c:v>
                </c:pt>
                <c:pt idx="289">
                  <c:v>29.262231786</c:v>
                </c:pt>
                <c:pt idx="290">
                  <c:v>26.983442304</c:v>
                </c:pt>
                <c:pt idx="291">
                  <c:v>29.551847004</c:v>
                </c:pt>
                <c:pt idx="292">
                  <c:v>29.538507701</c:v>
                </c:pt>
                <c:pt idx="293">
                  <c:v>25.364756643</c:v>
                </c:pt>
                <c:pt idx="294">
                  <c:v>29.382810759</c:v>
                </c:pt>
                <c:pt idx="295">
                  <c:v>29.326449888</c:v>
                </c:pt>
                <c:pt idx="296">
                  <c:v>29.257904823</c:v>
                </c:pt>
                <c:pt idx="297">
                  <c:v>28.755926494</c:v>
                </c:pt>
                <c:pt idx="298">
                  <c:v>26.095543877</c:v>
                </c:pt>
                <c:pt idx="299">
                  <c:v>28.786189635</c:v>
                </c:pt>
                <c:pt idx="300">
                  <c:v>27.03034875</c:v>
                </c:pt>
                <c:pt idx="301">
                  <c:v>29.231356117</c:v>
                </c:pt>
                <c:pt idx="302">
                  <c:v>29.475621279</c:v>
                </c:pt>
                <c:pt idx="303">
                  <c:v>22.961402559</c:v>
                </c:pt>
                <c:pt idx="304">
                  <c:v>10.753443404</c:v>
                </c:pt>
                <c:pt idx="305">
                  <c:v>29.178826499</c:v>
                </c:pt>
                <c:pt idx="306">
                  <c:v>27.099678606</c:v>
                </c:pt>
                <c:pt idx="307">
                  <c:v>29.42038003</c:v>
                </c:pt>
                <c:pt idx="308">
                  <c:v>29.391345802</c:v>
                </c:pt>
                <c:pt idx="309">
                  <c:v>23.518012562</c:v>
                </c:pt>
                <c:pt idx="310">
                  <c:v>7.126567466</c:v>
                </c:pt>
                <c:pt idx="311">
                  <c:v>27.754279482</c:v>
                </c:pt>
                <c:pt idx="312">
                  <c:v>29.482160749</c:v>
                </c:pt>
                <c:pt idx="313">
                  <c:v>23.684531713</c:v>
                </c:pt>
                <c:pt idx="314">
                  <c:v>29.274021583</c:v>
                </c:pt>
                <c:pt idx="315">
                  <c:v>29.178153964</c:v>
                </c:pt>
                <c:pt idx="316">
                  <c:v>29.217635251</c:v>
                </c:pt>
                <c:pt idx="317">
                  <c:v>28.011246764</c:v>
                </c:pt>
                <c:pt idx="318">
                  <c:v>26.791396316</c:v>
                </c:pt>
                <c:pt idx="319">
                  <c:v>29.344698206</c:v>
                </c:pt>
                <c:pt idx="320">
                  <c:v>10.723309943</c:v>
                </c:pt>
                <c:pt idx="321">
                  <c:v>28.681099521</c:v>
                </c:pt>
                <c:pt idx="322">
                  <c:v>29.46430942</c:v>
                </c:pt>
                <c:pt idx="323">
                  <c:v>29.439128289</c:v>
                </c:pt>
                <c:pt idx="324">
                  <c:v>29.465212875</c:v>
                </c:pt>
                <c:pt idx="325">
                  <c:v>24.280356676</c:v>
                </c:pt>
                <c:pt idx="326">
                  <c:v>29.381225269</c:v>
                </c:pt>
                <c:pt idx="327">
                  <c:v>29.392069455</c:v>
                </c:pt>
                <c:pt idx="328">
                  <c:v>29.388805563</c:v>
                </c:pt>
                <c:pt idx="329">
                  <c:v>27.617921209</c:v>
                </c:pt>
                <c:pt idx="330">
                  <c:v>26.6103327</c:v>
                </c:pt>
                <c:pt idx="331">
                  <c:v>28.246000433</c:v>
                </c:pt>
                <c:pt idx="332">
                  <c:v>27.078518584</c:v>
                </c:pt>
                <c:pt idx="333">
                  <c:v>29.09236342</c:v>
                </c:pt>
                <c:pt idx="334">
                  <c:v>29.519596278</c:v>
                </c:pt>
                <c:pt idx="335">
                  <c:v>23.606115969</c:v>
                </c:pt>
                <c:pt idx="336">
                  <c:v>10.696188323</c:v>
                </c:pt>
                <c:pt idx="337">
                  <c:v>28.117352578</c:v>
                </c:pt>
                <c:pt idx="338">
                  <c:v>26.98580832</c:v>
                </c:pt>
                <c:pt idx="339">
                  <c:v>29.367976023</c:v>
                </c:pt>
                <c:pt idx="340">
                  <c:v>29.395689975</c:v>
                </c:pt>
                <c:pt idx="341">
                  <c:v>26.364481672</c:v>
                </c:pt>
                <c:pt idx="342">
                  <c:v>7.021978196</c:v>
                </c:pt>
                <c:pt idx="343">
                  <c:v>29.494568121</c:v>
                </c:pt>
                <c:pt idx="344">
                  <c:v>29.527633276</c:v>
                </c:pt>
                <c:pt idx="345">
                  <c:v>25.593714929</c:v>
                </c:pt>
                <c:pt idx="346">
                  <c:v>29.225933527</c:v>
                </c:pt>
                <c:pt idx="347">
                  <c:v>29.227730068</c:v>
                </c:pt>
                <c:pt idx="348">
                  <c:v>29.399882365</c:v>
                </c:pt>
                <c:pt idx="349">
                  <c:v>27.755968626</c:v>
                </c:pt>
                <c:pt idx="350">
                  <c:v>27.425230344</c:v>
                </c:pt>
                <c:pt idx="351">
                  <c:v>28.146536513</c:v>
                </c:pt>
                <c:pt idx="352">
                  <c:v>10.904105067</c:v>
                </c:pt>
                <c:pt idx="353">
                  <c:v>27.71367477</c:v>
                </c:pt>
                <c:pt idx="354">
                  <c:v>29.376675878</c:v>
                </c:pt>
                <c:pt idx="355">
                  <c:v>29.375048125</c:v>
                </c:pt>
                <c:pt idx="356">
                  <c:v>29.274277359</c:v>
                </c:pt>
                <c:pt idx="357">
                  <c:v>28.778435784</c:v>
                </c:pt>
                <c:pt idx="358">
                  <c:v>24.996385966</c:v>
                </c:pt>
                <c:pt idx="359">
                  <c:v>29.376040552</c:v>
                </c:pt>
                <c:pt idx="360">
                  <c:v>27.399904717</c:v>
                </c:pt>
                <c:pt idx="361">
                  <c:v>29.241707118</c:v>
                </c:pt>
                <c:pt idx="362">
                  <c:v>29.405226903</c:v>
                </c:pt>
                <c:pt idx="363">
                  <c:v>25.381259518</c:v>
                </c:pt>
                <c:pt idx="364">
                  <c:v>29.239151852</c:v>
                </c:pt>
                <c:pt idx="365">
                  <c:v>29.351774529</c:v>
                </c:pt>
                <c:pt idx="366">
                  <c:v>29.242442138</c:v>
                </c:pt>
                <c:pt idx="367">
                  <c:v>29.526547314</c:v>
                </c:pt>
                <c:pt idx="368">
                  <c:v>9.385621767</c:v>
                </c:pt>
                <c:pt idx="369">
                  <c:v>27.538482691</c:v>
                </c:pt>
                <c:pt idx="370">
                  <c:v>29.155487182</c:v>
                </c:pt>
                <c:pt idx="371">
                  <c:v>29.298456352</c:v>
                </c:pt>
                <c:pt idx="372">
                  <c:v>29.285433508</c:v>
                </c:pt>
                <c:pt idx="373">
                  <c:v>26.082307064</c:v>
                </c:pt>
                <c:pt idx="374">
                  <c:v>7.043951296</c:v>
                </c:pt>
                <c:pt idx="375">
                  <c:v>29.379038843</c:v>
                </c:pt>
                <c:pt idx="376">
                  <c:v>29.291574723</c:v>
                </c:pt>
                <c:pt idx="377">
                  <c:v>25.788407042</c:v>
                </c:pt>
                <c:pt idx="378">
                  <c:v>29.333424959</c:v>
                </c:pt>
                <c:pt idx="379">
                  <c:v>29.511969168</c:v>
                </c:pt>
                <c:pt idx="380">
                  <c:v>27.919345285</c:v>
                </c:pt>
                <c:pt idx="381">
                  <c:v>29.522750547</c:v>
                </c:pt>
                <c:pt idx="382">
                  <c:v>25.768988163</c:v>
                </c:pt>
                <c:pt idx="383">
                  <c:v>27.325785471</c:v>
                </c:pt>
                <c:pt idx="384">
                  <c:v>11.015811015</c:v>
                </c:pt>
                <c:pt idx="385">
                  <c:v>26.974507925</c:v>
                </c:pt>
                <c:pt idx="386">
                  <c:v>29.416415953</c:v>
                </c:pt>
                <c:pt idx="387">
                  <c:v>29.417228656</c:v>
                </c:pt>
                <c:pt idx="388">
                  <c:v>22.746216016</c:v>
                </c:pt>
                <c:pt idx="389">
                  <c:v>27.124359799</c:v>
                </c:pt>
                <c:pt idx="390">
                  <c:v>29.29604656</c:v>
                </c:pt>
                <c:pt idx="391">
                  <c:v>29.383034082</c:v>
                </c:pt>
                <c:pt idx="392">
                  <c:v>22.713810016</c:v>
                </c:pt>
                <c:pt idx="393">
                  <c:v>26.999286439</c:v>
                </c:pt>
                <c:pt idx="394">
                  <c:v>29.311714732</c:v>
                </c:pt>
                <c:pt idx="395">
                  <c:v>29.293748149</c:v>
                </c:pt>
                <c:pt idx="396">
                  <c:v>20.969356352</c:v>
                </c:pt>
                <c:pt idx="397">
                  <c:v>29.426557302</c:v>
                </c:pt>
                <c:pt idx="398">
                  <c:v>29.444209372</c:v>
                </c:pt>
                <c:pt idx="399">
                  <c:v>29.3321906</c:v>
                </c:pt>
                <c:pt idx="400">
                  <c:v>12.367665516</c:v>
                </c:pt>
                <c:pt idx="401">
                  <c:v>29.213290901</c:v>
                </c:pt>
                <c:pt idx="402">
                  <c:v>29.277645483</c:v>
                </c:pt>
                <c:pt idx="403">
                  <c:v>29.399964918</c:v>
                </c:pt>
                <c:pt idx="404">
                  <c:v>29.332060494</c:v>
                </c:pt>
                <c:pt idx="405">
                  <c:v>6.815996313</c:v>
                </c:pt>
                <c:pt idx="406">
                  <c:v>27.801501106</c:v>
                </c:pt>
                <c:pt idx="407">
                  <c:v>29.185804396</c:v>
                </c:pt>
                <c:pt idx="408">
                  <c:v>29.290966973</c:v>
                </c:pt>
                <c:pt idx="409">
                  <c:v>26.035408046</c:v>
                </c:pt>
                <c:pt idx="410">
                  <c:v>29.525300119</c:v>
                </c:pt>
                <c:pt idx="411">
                  <c:v>29.525005248</c:v>
                </c:pt>
                <c:pt idx="412">
                  <c:v>27.300904103</c:v>
                </c:pt>
                <c:pt idx="413">
                  <c:v>29.222959606</c:v>
                </c:pt>
                <c:pt idx="414">
                  <c:v>26.037478524</c:v>
                </c:pt>
                <c:pt idx="415">
                  <c:v>29.322620573</c:v>
                </c:pt>
                <c:pt idx="416">
                  <c:v>10.771757329</c:v>
                </c:pt>
                <c:pt idx="417">
                  <c:v>29.520249966</c:v>
                </c:pt>
                <c:pt idx="418">
                  <c:v>29.273929505</c:v>
                </c:pt>
                <c:pt idx="419">
                  <c:v>29.361891934</c:v>
                </c:pt>
                <c:pt idx="420">
                  <c:v>29.548712575</c:v>
                </c:pt>
                <c:pt idx="421">
                  <c:v>24.337834786</c:v>
                </c:pt>
                <c:pt idx="422">
                  <c:v>29.388228141</c:v>
                </c:pt>
                <c:pt idx="423">
                  <c:v>29.549233775</c:v>
                </c:pt>
                <c:pt idx="424">
                  <c:v>27.258053776</c:v>
                </c:pt>
                <c:pt idx="425">
                  <c:v>29.428537128</c:v>
                </c:pt>
                <c:pt idx="426">
                  <c:v>25.931674824</c:v>
                </c:pt>
                <c:pt idx="427">
                  <c:v>29.322174056</c:v>
                </c:pt>
                <c:pt idx="428">
                  <c:v>29.327707723</c:v>
                </c:pt>
                <c:pt idx="429">
                  <c:v>29.246905793</c:v>
                </c:pt>
                <c:pt idx="430">
                  <c:v>27.861685555</c:v>
                </c:pt>
                <c:pt idx="431">
                  <c:v>29.554968194</c:v>
                </c:pt>
                <c:pt idx="432">
                  <c:v>9.638386474</c:v>
                </c:pt>
                <c:pt idx="433">
                  <c:v>29.325690105</c:v>
                </c:pt>
                <c:pt idx="434">
                  <c:v>29.259873944</c:v>
                </c:pt>
                <c:pt idx="435">
                  <c:v>29.47922956</c:v>
                </c:pt>
                <c:pt idx="436">
                  <c:v>29.243713196</c:v>
                </c:pt>
                <c:pt idx="437">
                  <c:v>6.926563162</c:v>
                </c:pt>
                <c:pt idx="438">
                  <c:v>27.790953403</c:v>
                </c:pt>
                <c:pt idx="439">
                  <c:v>29.425039444</c:v>
                </c:pt>
                <c:pt idx="440">
                  <c:v>29.204137689</c:v>
                </c:pt>
                <c:pt idx="441">
                  <c:v>29.147495945</c:v>
                </c:pt>
                <c:pt idx="442">
                  <c:v>29.546864199</c:v>
                </c:pt>
                <c:pt idx="443">
                  <c:v>24.586850592</c:v>
                </c:pt>
                <c:pt idx="444">
                  <c:v>29.269208726</c:v>
                </c:pt>
                <c:pt idx="445">
                  <c:v>29.09354736</c:v>
                </c:pt>
                <c:pt idx="446">
                  <c:v>29.509428829</c:v>
                </c:pt>
                <c:pt idx="447">
                  <c:v>8.83905424500001</c:v>
                </c:pt>
                <c:pt idx="448">
                  <c:v>9.409593771</c:v>
                </c:pt>
                <c:pt idx="449">
                  <c:v>29.943977508</c:v>
                </c:pt>
                <c:pt idx="450">
                  <c:v>29.844086805</c:v>
                </c:pt>
                <c:pt idx="451">
                  <c:v>25.891544493</c:v>
                </c:pt>
                <c:pt idx="452">
                  <c:v>27.581836967</c:v>
                </c:pt>
                <c:pt idx="453">
                  <c:v>29.851331588</c:v>
                </c:pt>
                <c:pt idx="454">
                  <c:v>27.612482908</c:v>
                </c:pt>
                <c:pt idx="455">
                  <c:v>30.115299206</c:v>
                </c:pt>
                <c:pt idx="456">
                  <c:v>30.06656645</c:v>
                </c:pt>
                <c:pt idx="457">
                  <c:v>24.91529632</c:v>
                </c:pt>
                <c:pt idx="458">
                  <c:v>30.036527093</c:v>
                </c:pt>
                <c:pt idx="459">
                  <c:v>30.208778135</c:v>
                </c:pt>
                <c:pt idx="460">
                  <c:v>29.879086429</c:v>
                </c:pt>
                <c:pt idx="461">
                  <c:v>29.995993763</c:v>
                </c:pt>
                <c:pt idx="462">
                  <c:v>23.237682271</c:v>
                </c:pt>
                <c:pt idx="463">
                  <c:v>29.963481429</c:v>
                </c:pt>
                <c:pt idx="464">
                  <c:v>17.364245337</c:v>
                </c:pt>
                <c:pt idx="465">
                  <c:v>27.796346936</c:v>
                </c:pt>
                <c:pt idx="466">
                  <c:v>30.045201916</c:v>
                </c:pt>
                <c:pt idx="467">
                  <c:v>30.20005035</c:v>
                </c:pt>
                <c:pt idx="468">
                  <c:v>29.895473541</c:v>
                </c:pt>
                <c:pt idx="469">
                  <c:v>7.06517796899999</c:v>
                </c:pt>
                <c:pt idx="470">
                  <c:v>28.97292735</c:v>
                </c:pt>
                <c:pt idx="471">
                  <c:v>29.944007837</c:v>
                </c:pt>
                <c:pt idx="472">
                  <c:v>30.004750875</c:v>
                </c:pt>
                <c:pt idx="473">
                  <c:v>30.046870656</c:v>
                </c:pt>
                <c:pt idx="474">
                  <c:v>30.047019756</c:v>
                </c:pt>
                <c:pt idx="475">
                  <c:v>29.992623012</c:v>
                </c:pt>
                <c:pt idx="476">
                  <c:v>26.629474531</c:v>
                </c:pt>
                <c:pt idx="477">
                  <c:v>30.053065838</c:v>
                </c:pt>
                <c:pt idx="478">
                  <c:v>30.012437706</c:v>
                </c:pt>
                <c:pt idx="479">
                  <c:v>30.219166195</c:v>
                </c:pt>
                <c:pt idx="480">
                  <c:v>19.562968414</c:v>
                </c:pt>
                <c:pt idx="481">
                  <c:v>30.001308308</c:v>
                </c:pt>
                <c:pt idx="482">
                  <c:v>29.869470483</c:v>
                </c:pt>
                <c:pt idx="483">
                  <c:v>30.206283448</c:v>
                </c:pt>
                <c:pt idx="484">
                  <c:v>29.866632165</c:v>
                </c:pt>
                <c:pt idx="485">
                  <c:v>29.9879038</c:v>
                </c:pt>
                <c:pt idx="486">
                  <c:v>24.28497225</c:v>
                </c:pt>
                <c:pt idx="487">
                  <c:v>30.035812644</c:v>
                </c:pt>
                <c:pt idx="488">
                  <c:v>30.002891576</c:v>
                </c:pt>
                <c:pt idx="489">
                  <c:v>30.066697758</c:v>
                </c:pt>
                <c:pt idx="490">
                  <c:v>29.675886196</c:v>
                </c:pt>
                <c:pt idx="491">
                  <c:v>30.198190357</c:v>
                </c:pt>
                <c:pt idx="492">
                  <c:v>26.241186908</c:v>
                </c:pt>
                <c:pt idx="493">
                  <c:v>30.014007809</c:v>
                </c:pt>
                <c:pt idx="494">
                  <c:v>30.181386417</c:v>
                </c:pt>
                <c:pt idx="495">
                  <c:v>29.430296622</c:v>
                </c:pt>
                <c:pt idx="496">
                  <c:v>20.313544599</c:v>
                </c:pt>
                <c:pt idx="497">
                  <c:v>30.092382411</c:v>
                </c:pt>
                <c:pt idx="498">
                  <c:v>29.878311952</c:v>
                </c:pt>
                <c:pt idx="499">
                  <c:v>29.529978947</c:v>
                </c:pt>
                <c:pt idx="500">
                  <c:v>7.171026241</c:v>
                </c:pt>
                <c:pt idx="501">
                  <c:v>28.279113099</c:v>
                </c:pt>
                <c:pt idx="502">
                  <c:v>28.416641143</c:v>
                </c:pt>
                <c:pt idx="503">
                  <c:v>29.837275982</c:v>
                </c:pt>
                <c:pt idx="504">
                  <c:v>30.060241641</c:v>
                </c:pt>
                <c:pt idx="505">
                  <c:v>30.084526717</c:v>
                </c:pt>
                <c:pt idx="506">
                  <c:v>30.01259901</c:v>
                </c:pt>
                <c:pt idx="507">
                  <c:v>30.228674105</c:v>
                </c:pt>
                <c:pt idx="508">
                  <c:v>27.163936015</c:v>
                </c:pt>
                <c:pt idx="509">
                  <c:v>30.119576638</c:v>
                </c:pt>
                <c:pt idx="510">
                  <c:v>29.82720365</c:v>
                </c:pt>
                <c:pt idx="511">
                  <c:v>29.971206109</c:v>
                </c:pt>
                <c:pt idx="512">
                  <c:v>18.692977736</c:v>
                </c:pt>
                <c:pt idx="513">
                  <c:v>30.058107596</c:v>
                </c:pt>
                <c:pt idx="514">
                  <c:v>30.222551714</c:v>
                </c:pt>
                <c:pt idx="515">
                  <c:v>28.645187758</c:v>
                </c:pt>
                <c:pt idx="516">
                  <c:v>29.870164613</c:v>
                </c:pt>
                <c:pt idx="517">
                  <c:v>29.938183892</c:v>
                </c:pt>
                <c:pt idx="518">
                  <c:v>24.715390848</c:v>
                </c:pt>
                <c:pt idx="519">
                  <c:v>30.03839954</c:v>
                </c:pt>
                <c:pt idx="520">
                  <c:v>29.93357272</c:v>
                </c:pt>
                <c:pt idx="521">
                  <c:v>29.8577302</c:v>
                </c:pt>
                <c:pt idx="522">
                  <c:v>28.413834454</c:v>
                </c:pt>
                <c:pt idx="523">
                  <c:v>30.27231881</c:v>
                </c:pt>
                <c:pt idx="524">
                  <c:v>27.199024191</c:v>
                </c:pt>
                <c:pt idx="525">
                  <c:v>30.159905511</c:v>
                </c:pt>
                <c:pt idx="526">
                  <c:v>29.993598536</c:v>
                </c:pt>
                <c:pt idx="527">
                  <c:v>28.498735952</c:v>
                </c:pt>
                <c:pt idx="528">
                  <c:v>20.820570092</c:v>
                </c:pt>
                <c:pt idx="529">
                  <c:v>30.088508992</c:v>
                </c:pt>
                <c:pt idx="530">
                  <c:v>30.369945681</c:v>
                </c:pt>
                <c:pt idx="531">
                  <c:v>28.079680939</c:v>
                </c:pt>
                <c:pt idx="532">
                  <c:v>7.065275604</c:v>
                </c:pt>
                <c:pt idx="533">
                  <c:v>28.195157304</c:v>
                </c:pt>
                <c:pt idx="534">
                  <c:v>29.379342828</c:v>
                </c:pt>
                <c:pt idx="535">
                  <c:v>30.13025386</c:v>
                </c:pt>
                <c:pt idx="536">
                  <c:v>30.028948132</c:v>
                </c:pt>
                <c:pt idx="537">
                  <c:v>30.019282119</c:v>
                </c:pt>
                <c:pt idx="538">
                  <c:v>30.147903299</c:v>
                </c:pt>
                <c:pt idx="539">
                  <c:v>26.479550634</c:v>
                </c:pt>
                <c:pt idx="540">
                  <c:v>29.139694936</c:v>
                </c:pt>
                <c:pt idx="541">
                  <c:v>30.035397992</c:v>
                </c:pt>
                <c:pt idx="542">
                  <c:v>29.955751803</c:v>
                </c:pt>
                <c:pt idx="543">
                  <c:v>29.968117904</c:v>
                </c:pt>
                <c:pt idx="544">
                  <c:v>21.937619321</c:v>
                </c:pt>
                <c:pt idx="545">
                  <c:v>29.977738473</c:v>
                </c:pt>
                <c:pt idx="546">
                  <c:v>30.146264908</c:v>
                </c:pt>
                <c:pt idx="547">
                  <c:v>28.036841323</c:v>
                </c:pt>
                <c:pt idx="548">
                  <c:v>30.007380797</c:v>
                </c:pt>
                <c:pt idx="549">
                  <c:v>30.03655402</c:v>
                </c:pt>
                <c:pt idx="550">
                  <c:v>25.324074889</c:v>
                </c:pt>
                <c:pt idx="551">
                  <c:v>29.982044883</c:v>
                </c:pt>
                <c:pt idx="552">
                  <c:v>30.035862906</c:v>
                </c:pt>
                <c:pt idx="553">
                  <c:v>29.975410522</c:v>
                </c:pt>
                <c:pt idx="554">
                  <c:v>30.1973049</c:v>
                </c:pt>
                <c:pt idx="555">
                  <c:v>29.464865652</c:v>
                </c:pt>
                <c:pt idx="556">
                  <c:v>30.121560552</c:v>
                </c:pt>
                <c:pt idx="557">
                  <c:v>30.314458604</c:v>
                </c:pt>
                <c:pt idx="558">
                  <c:v>25.795900238</c:v>
                </c:pt>
                <c:pt idx="559">
                  <c:v>29.858129318</c:v>
                </c:pt>
                <c:pt idx="560">
                  <c:v>11.095071428</c:v>
                </c:pt>
                <c:pt idx="561">
                  <c:v>29.873427987</c:v>
                </c:pt>
                <c:pt idx="562">
                  <c:v>30.073647926</c:v>
                </c:pt>
                <c:pt idx="563">
                  <c:v>30.078478772</c:v>
                </c:pt>
                <c:pt idx="564">
                  <c:v>7.049738526</c:v>
                </c:pt>
                <c:pt idx="565">
                  <c:v>30.032353973</c:v>
                </c:pt>
                <c:pt idx="566">
                  <c:v>30.08534614</c:v>
                </c:pt>
                <c:pt idx="567">
                  <c:v>30.046827543</c:v>
                </c:pt>
                <c:pt idx="568">
                  <c:v>30.215423563</c:v>
                </c:pt>
                <c:pt idx="569">
                  <c:v>29.705382002</c:v>
                </c:pt>
                <c:pt idx="570">
                  <c:v>30.139845071</c:v>
                </c:pt>
                <c:pt idx="571">
                  <c:v>30.19849157</c:v>
                </c:pt>
                <c:pt idx="572">
                  <c:v>23.42284394</c:v>
                </c:pt>
                <c:pt idx="573">
                  <c:v>30.033568994</c:v>
                </c:pt>
                <c:pt idx="574">
                  <c:v>29.835407271</c:v>
                </c:pt>
                <c:pt idx="575">
                  <c:v>29.449435438</c:v>
                </c:pt>
                <c:pt idx="576">
                  <c:v>12.722668955</c:v>
                </c:pt>
                <c:pt idx="577">
                  <c:v>30.155330734</c:v>
                </c:pt>
                <c:pt idx="578">
                  <c:v>30.060630009</c:v>
                </c:pt>
                <c:pt idx="579">
                  <c:v>30.066944188</c:v>
                </c:pt>
                <c:pt idx="580">
                  <c:v>29.96895423</c:v>
                </c:pt>
                <c:pt idx="581">
                  <c:v>30.018113078</c:v>
                </c:pt>
                <c:pt idx="582">
                  <c:v>24.067364931</c:v>
                </c:pt>
                <c:pt idx="583">
                  <c:v>29.825410539</c:v>
                </c:pt>
                <c:pt idx="584">
                  <c:v>30.171513355</c:v>
                </c:pt>
                <c:pt idx="585">
                  <c:v>29.245474484</c:v>
                </c:pt>
                <c:pt idx="586">
                  <c:v>30.064188714</c:v>
                </c:pt>
                <c:pt idx="587">
                  <c:v>30.268220284</c:v>
                </c:pt>
                <c:pt idx="588">
                  <c:v>23.678144509</c:v>
                </c:pt>
                <c:pt idx="589">
                  <c:v>29.992322312</c:v>
                </c:pt>
                <c:pt idx="590">
                  <c:v>30.049793644</c:v>
                </c:pt>
                <c:pt idx="591">
                  <c:v>28.887173663</c:v>
                </c:pt>
                <c:pt idx="592">
                  <c:v>12.775944048</c:v>
                </c:pt>
                <c:pt idx="593">
                  <c:v>30.150314191</c:v>
                </c:pt>
                <c:pt idx="594">
                  <c:v>29.848867223</c:v>
                </c:pt>
                <c:pt idx="595">
                  <c:v>7.16905221</c:v>
                </c:pt>
                <c:pt idx="596">
                  <c:v>28.041130666</c:v>
                </c:pt>
                <c:pt idx="597">
                  <c:v>30.295550767</c:v>
                </c:pt>
                <c:pt idx="598">
                  <c:v>26.635821265</c:v>
                </c:pt>
                <c:pt idx="599">
                  <c:v>30.038099717</c:v>
                </c:pt>
                <c:pt idx="600">
                  <c:v>30.038329521</c:v>
                </c:pt>
                <c:pt idx="601">
                  <c:v>28.736293002</c:v>
                </c:pt>
                <c:pt idx="602">
                  <c:v>30.084616761</c:v>
                </c:pt>
                <c:pt idx="603">
                  <c:v>30.15608345</c:v>
                </c:pt>
                <c:pt idx="604">
                  <c:v>24.45938094</c:v>
                </c:pt>
                <c:pt idx="605">
                  <c:v>30.101008403</c:v>
                </c:pt>
                <c:pt idx="606">
                  <c:v>30.103483927</c:v>
                </c:pt>
                <c:pt idx="607">
                  <c:v>28.170155636</c:v>
                </c:pt>
                <c:pt idx="608">
                  <c:v>12.868140953</c:v>
                </c:pt>
                <c:pt idx="609">
                  <c:v>30.046213197</c:v>
                </c:pt>
                <c:pt idx="610">
                  <c:v>29.270642359</c:v>
                </c:pt>
                <c:pt idx="611">
                  <c:v>29.906595726</c:v>
                </c:pt>
                <c:pt idx="612">
                  <c:v>30.083087881</c:v>
                </c:pt>
                <c:pt idx="613">
                  <c:v>30.013371503</c:v>
                </c:pt>
                <c:pt idx="614">
                  <c:v>24.982046023</c:v>
                </c:pt>
                <c:pt idx="615">
                  <c:v>29.874434841</c:v>
                </c:pt>
                <c:pt idx="616">
                  <c:v>30.069637199</c:v>
                </c:pt>
                <c:pt idx="617">
                  <c:v>27.849544184</c:v>
                </c:pt>
                <c:pt idx="618">
                  <c:v>30.070218319</c:v>
                </c:pt>
                <c:pt idx="619">
                  <c:v>30.171339471</c:v>
                </c:pt>
                <c:pt idx="620">
                  <c:v>24.784182466</c:v>
                </c:pt>
                <c:pt idx="621">
                  <c:v>30.156874204</c:v>
                </c:pt>
                <c:pt idx="622">
                  <c:v>30.186096017</c:v>
                </c:pt>
                <c:pt idx="623">
                  <c:v>29.953250531</c:v>
                </c:pt>
                <c:pt idx="624">
                  <c:v>12.45445696</c:v>
                </c:pt>
                <c:pt idx="625">
                  <c:v>30.045958125</c:v>
                </c:pt>
                <c:pt idx="626">
                  <c:v>29.005227689</c:v>
                </c:pt>
                <c:pt idx="627">
                  <c:v>7.175634633</c:v>
                </c:pt>
                <c:pt idx="628">
                  <c:v>26.273085557</c:v>
                </c:pt>
                <c:pt idx="629">
                  <c:v>29.37462748</c:v>
                </c:pt>
                <c:pt idx="630">
                  <c:v>29.936272205</c:v>
                </c:pt>
                <c:pt idx="631">
                  <c:v>30.059189862</c:v>
                </c:pt>
                <c:pt idx="632">
                  <c:v>29.843234396</c:v>
                </c:pt>
                <c:pt idx="633">
                  <c:v>30.010527277</c:v>
                </c:pt>
                <c:pt idx="634">
                  <c:v>30.072264113</c:v>
                </c:pt>
                <c:pt idx="635">
                  <c:v>26.573535066</c:v>
                </c:pt>
                <c:pt idx="636">
                  <c:v>30.194541808</c:v>
                </c:pt>
                <c:pt idx="637">
                  <c:v>29.908863162</c:v>
                </c:pt>
                <c:pt idx="638">
                  <c:v>30.058754789</c:v>
                </c:pt>
                <c:pt idx="639">
                  <c:v>29.936315001</c:v>
                </c:pt>
                <c:pt idx="640">
                  <c:v>11.909354729</c:v>
                </c:pt>
                <c:pt idx="641">
                  <c:v>30.188578303</c:v>
                </c:pt>
                <c:pt idx="642">
                  <c:v>28.239034631</c:v>
                </c:pt>
                <c:pt idx="643">
                  <c:v>30.058312537</c:v>
                </c:pt>
                <c:pt idx="644">
                  <c:v>30.058601977</c:v>
                </c:pt>
                <c:pt idx="645">
                  <c:v>22.721711014</c:v>
                </c:pt>
                <c:pt idx="646">
                  <c:v>30.041157471</c:v>
                </c:pt>
                <c:pt idx="647">
                  <c:v>30.200211862</c:v>
                </c:pt>
                <c:pt idx="648">
                  <c:v>30.033262089</c:v>
                </c:pt>
                <c:pt idx="649">
                  <c:v>29.712830114</c:v>
                </c:pt>
                <c:pt idx="650">
                  <c:v>30.202297163</c:v>
                </c:pt>
                <c:pt idx="651">
                  <c:v>26.199664783</c:v>
                </c:pt>
                <c:pt idx="652">
                  <c:v>29.876940729</c:v>
                </c:pt>
                <c:pt idx="653">
                  <c:v>29.978505596</c:v>
                </c:pt>
                <c:pt idx="654">
                  <c:v>30.140034861</c:v>
                </c:pt>
                <c:pt idx="655">
                  <c:v>29.846862345</c:v>
                </c:pt>
                <c:pt idx="656">
                  <c:v>12.555009204</c:v>
                </c:pt>
                <c:pt idx="657">
                  <c:v>30.114220113</c:v>
                </c:pt>
                <c:pt idx="658">
                  <c:v>27.880839285</c:v>
                </c:pt>
                <c:pt idx="659">
                  <c:v>6.81405101699999</c:v>
                </c:pt>
                <c:pt idx="660">
                  <c:v>30.050783673</c:v>
                </c:pt>
                <c:pt idx="661">
                  <c:v>30.037081801</c:v>
                </c:pt>
                <c:pt idx="662">
                  <c:v>27.757898671</c:v>
                </c:pt>
                <c:pt idx="663">
                  <c:v>30.084301608</c:v>
                </c:pt>
                <c:pt idx="664">
                  <c:v>30.1819338</c:v>
                </c:pt>
                <c:pt idx="665">
                  <c:v>23.267064629</c:v>
                </c:pt>
                <c:pt idx="666">
                  <c:v>29.886739213</c:v>
                </c:pt>
                <c:pt idx="667">
                  <c:v>30.22969232</c:v>
                </c:pt>
                <c:pt idx="668">
                  <c:v>29.97669246</c:v>
                </c:pt>
                <c:pt idx="669">
                  <c:v>29.274645683</c:v>
                </c:pt>
                <c:pt idx="670">
                  <c:v>30.144420574</c:v>
                </c:pt>
                <c:pt idx="671">
                  <c:v>26.537657382</c:v>
                </c:pt>
                <c:pt idx="672">
                  <c:v>10.267729662</c:v>
                </c:pt>
                <c:pt idx="673">
                  <c:v>30.227528695</c:v>
                </c:pt>
                <c:pt idx="674">
                  <c:v>29.921751718</c:v>
                </c:pt>
                <c:pt idx="675">
                  <c:v>29.907736521</c:v>
                </c:pt>
                <c:pt idx="676">
                  <c:v>30.011948427</c:v>
                </c:pt>
                <c:pt idx="677">
                  <c:v>29.888484604</c:v>
                </c:pt>
                <c:pt idx="678">
                  <c:v>26.625032064</c:v>
                </c:pt>
                <c:pt idx="679">
                  <c:v>28.15644727</c:v>
                </c:pt>
                <c:pt idx="680">
                  <c:v>28.561211042</c:v>
                </c:pt>
                <c:pt idx="681">
                  <c:v>30.066667179</c:v>
                </c:pt>
                <c:pt idx="682">
                  <c:v>29.032896555</c:v>
                </c:pt>
                <c:pt idx="683">
                  <c:v>30.064560998</c:v>
                </c:pt>
                <c:pt idx="684">
                  <c:v>30.113465877</c:v>
                </c:pt>
                <c:pt idx="685">
                  <c:v>24.062482611</c:v>
                </c:pt>
                <c:pt idx="686">
                  <c:v>30.033561815</c:v>
                </c:pt>
                <c:pt idx="687">
                  <c:v>29.996903262</c:v>
                </c:pt>
                <c:pt idx="688">
                  <c:v>11.51968577</c:v>
                </c:pt>
                <c:pt idx="689">
                  <c:v>30.085250688</c:v>
                </c:pt>
                <c:pt idx="690">
                  <c:v>7.18245148</c:v>
                </c:pt>
                <c:pt idx="691">
                  <c:v>26.747589433</c:v>
                </c:pt>
                <c:pt idx="692">
                  <c:v>25.531394253</c:v>
                </c:pt>
                <c:pt idx="693">
                  <c:v>30.322422047</c:v>
                </c:pt>
                <c:pt idx="694">
                  <c:v>30.052544683</c:v>
                </c:pt>
                <c:pt idx="695">
                  <c:v>30.245501634</c:v>
                </c:pt>
                <c:pt idx="696">
                  <c:v>30.275296771</c:v>
                </c:pt>
                <c:pt idx="697">
                  <c:v>30.189131388</c:v>
                </c:pt>
                <c:pt idx="698">
                  <c:v>25.770604185</c:v>
                </c:pt>
                <c:pt idx="699">
                  <c:v>28.458492257</c:v>
                </c:pt>
                <c:pt idx="700">
                  <c:v>27.698608565</c:v>
                </c:pt>
                <c:pt idx="701">
                  <c:v>30.261245498</c:v>
                </c:pt>
                <c:pt idx="702">
                  <c:v>30.250486177</c:v>
                </c:pt>
                <c:pt idx="703">
                  <c:v>30.147541608</c:v>
                </c:pt>
                <c:pt idx="704">
                  <c:v>9.411060291</c:v>
                </c:pt>
                <c:pt idx="705">
                  <c:v>29.942957041</c:v>
                </c:pt>
                <c:pt idx="706">
                  <c:v>30.151222219</c:v>
                </c:pt>
                <c:pt idx="707">
                  <c:v>30.216994992</c:v>
                </c:pt>
                <c:pt idx="708">
                  <c:v>29.866680087</c:v>
                </c:pt>
                <c:pt idx="709">
                  <c:v>30.172353827</c:v>
                </c:pt>
                <c:pt idx="710">
                  <c:v>26.281933718</c:v>
                </c:pt>
                <c:pt idx="711">
                  <c:v>29.208263733</c:v>
                </c:pt>
                <c:pt idx="712">
                  <c:v>30.025096406</c:v>
                </c:pt>
                <c:pt idx="713">
                  <c:v>30.044420599</c:v>
                </c:pt>
                <c:pt idx="714">
                  <c:v>30.161221378</c:v>
                </c:pt>
                <c:pt idx="715">
                  <c:v>30.078386964</c:v>
                </c:pt>
                <c:pt idx="716">
                  <c:v>30.247746114</c:v>
                </c:pt>
                <c:pt idx="717">
                  <c:v>26.046853069</c:v>
                </c:pt>
                <c:pt idx="718">
                  <c:v>30.021876929</c:v>
                </c:pt>
                <c:pt idx="719">
                  <c:v>29.886463738</c:v>
                </c:pt>
                <c:pt idx="720">
                  <c:v>11.485907969</c:v>
                </c:pt>
                <c:pt idx="721">
                  <c:v>29.202759772</c:v>
                </c:pt>
                <c:pt idx="722">
                  <c:v>7.174847685</c:v>
                </c:pt>
                <c:pt idx="723">
                  <c:v>26.46956236</c:v>
                </c:pt>
                <c:pt idx="724">
                  <c:v>30.095995498</c:v>
                </c:pt>
                <c:pt idx="725">
                  <c:v>26.793184544</c:v>
                </c:pt>
                <c:pt idx="726">
                  <c:v>30.074893286</c:v>
                </c:pt>
                <c:pt idx="727">
                  <c:v>30.002329174</c:v>
                </c:pt>
                <c:pt idx="728">
                  <c:v>30.00529187</c:v>
                </c:pt>
                <c:pt idx="729">
                  <c:v>30.049606786</c:v>
                </c:pt>
                <c:pt idx="730">
                  <c:v>30.206664706</c:v>
                </c:pt>
                <c:pt idx="731">
                  <c:v>23.181636096</c:v>
                </c:pt>
                <c:pt idx="732">
                  <c:v>30.00109698</c:v>
                </c:pt>
                <c:pt idx="733">
                  <c:v>29.88106899</c:v>
                </c:pt>
                <c:pt idx="734">
                  <c:v>29.998890745</c:v>
                </c:pt>
                <c:pt idx="735">
                  <c:v>29.947772756</c:v>
                </c:pt>
                <c:pt idx="736">
                  <c:v>9.106151433</c:v>
                </c:pt>
                <c:pt idx="737">
                  <c:v>28.778004039</c:v>
                </c:pt>
                <c:pt idx="738">
                  <c:v>30.167103459</c:v>
                </c:pt>
                <c:pt idx="739">
                  <c:v>30.218339466</c:v>
                </c:pt>
                <c:pt idx="740">
                  <c:v>29.871584927</c:v>
                </c:pt>
                <c:pt idx="741">
                  <c:v>30.174571158</c:v>
                </c:pt>
                <c:pt idx="742">
                  <c:v>26.119325025</c:v>
                </c:pt>
                <c:pt idx="743">
                  <c:v>30.021286915</c:v>
                </c:pt>
                <c:pt idx="744">
                  <c:v>30.080048591</c:v>
                </c:pt>
                <c:pt idx="745">
                  <c:v>30.013303393</c:v>
                </c:pt>
                <c:pt idx="746">
                  <c:v>29.877105908</c:v>
                </c:pt>
                <c:pt idx="747">
                  <c:v>30.013977337</c:v>
                </c:pt>
                <c:pt idx="748">
                  <c:v>30.219233426</c:v>
                </c:pt>
                <c:pt idx="749">
                  <c:v>26.876677749</c:v>
                </c:pt>
                <c:pt idx="750">
                  <c:v>29.930506525</c:v>
                </c:pt>
                <c:pt idx="751">
                  <c:v>29.371827493</c:v>
                </c:pt>
                <c:pt idx="752">
                  <c:v>11.551670059</c:v>
                </c:pt>
                <c:pt idx="753">
                  <c:v>28.332585137</c:v>
                </c:pt>
                <c:pt idx="754">
                  <c:v>7.035925144</c:v>
                </c:pt>
                <c:pt idx="755">
                  <c:v>26.865597797</c:v>
                </c:pt>
                <c:pt idx="756">
                  <c:v>28.15117328</c:v>
                </c:pt>
                <c:pt idx="757">
                  <c:v>28.933421237</c:v>
                </c:pt>
                <c:pt idx="758">
                  <c:v>30.189633715</c:v>
                </c:pt>
                <c:pt idx="759">
                  <c:v>30.176199944</c:v>
                </c:pt>
                <c:pt idx="760">
                  <c:v>30.075566399</c:v>
                </c:pt>
                <c:pt idx="761">
                  <c:v>23.614116354</c:v>
                </c:pt>
                <c:pt idx="762">
                  <c:v>30.047316164</c:v>
                </c:pt>
                <c:pt idx="763">
                  <c:v>28.397588409</c:v>
                </c:pt>
                <c:pt idx="764">
                  <c:v>29.932829289</c:v>
                </c:pt>
                <c:pt idx="765">
                  <c:v>30.026127862</c:v>
                </c:pt>
                <c:pt idx="766">
                  <c:v>27.38727436</c:v>
                </c:pt>
                <c:pt idx="767">
                  <c:v>23.891377648</c:v>
                </c:pt>
                <c:pt idx="768">
                  <c:v>10.678900317</c:v>
                </c:pt>
                <c:pt idx="769">
                  <c:v>27.499282883</c:v>
                </c:pt>
                <c:pt idx="770">
                  <c:v>30.045909626</c:v>
                </c:pt>
                <c:pt idx="771">
                  <c:v>30.023114418</c:v>
                </c:pt>
                <c:pt idx="772">
                  <c:v>30.172044079</c:v>
                </c:pt>
                <c:pt idx="773">
                  <c:v>24.008293943</c:v>
                </c:pt>
                <c:pt idx="774">
                  <c:v>29.887489244</c:v>
                </c:pt>
                <c:pt idx="775">
                  <c:v>28.010430271</c:v>
                </c:pt>
                <c:pt idx="776">
                  <c:v>29.997306109</c:v>
                </c:pt>
                <c:pt idx="777">
                  <c:v>29.935302189</c:v>
                </c:pt>
                <c:pt idx="778">
                  <c:v>27.839109585</c:v>
                </c:pt>
                <c:pt idx="779">
                  <c:v>26.640222145</c:v>
                </c:pt>
                <c:pt idx="780">
                  <c:v>30.019382532</c:v>
                </c:pt>
                <c:pt idx="781">
                  <c:v>30.041541754</c:v>
                </c:pt>
                <c:pt idx="782">
                  <c:v>27.869234471</c:v>
                </c:pt>
                <c:pt idx="783">
                  <c:v>30.215145628</c:v>
                </c:pt>
                <c:pt idx="784">
                  <c:v>9.273822826</c:v>
                </c:pt>
                <c:pt idx="785">
                  <c:v>29.98973082</c:v>
                </c:pt>
                <c:pt idx="786">
                  <c:v>7.05573863</c:v>
                </c:pt>
                <c:pt idx="787">
                  <c:v>29.892560939</c:v>
                </c:pt>
                <c:pt idx="788">
                  <c:v>27.517275463</c:v>
                </c:pt>
                <c:pt idx="789">
                  <c:v>29.975013627</c:v>
                </c:pt>
                <c:pt idx="790">
                  <c:v>30.039999293</c:v>
                </c:pt>
                <c:pt idx="791">
                  <c:v>28.290002829</c:v>
                </c:pt>
                <c:pt idx="792">
                  <c:v>29.908049765</c:v>
                </c:pt>
                <c:pt idx="793">
                  <c:v>29.858735996</c:v>
                </c:pt>
                <c:pt idx="794">
                  <c:v>28.319565601</c:v>
                </c:pt>
                <c:pt idx="795">
                  <c:v>26.751442072</c:v>
                </c:pt>
                <c:pt idx="796">
                  <c:v>30.169975631</c:v>
                </c:pt>
                <c:pt idx="797">
                  <c:v>30.048094038</c:v>
                </c:pt>
                <c:pt idx="798">
                  <c:v>30.03949116</c:v>
                </c:pt>
                <c:pt idx="799">
                  <c:v>30.187631758</c:v>
                </c:pt>
                <c:pt idx="800">
                  <c:v>9.040819758</c:v>
                </c:pt>
                <c:pt idx="801">
                  <c:v>30.074668322</c:v>
                </c:pt>
                <c:pt idx="802">
                  <c:v>29.846950972</c:v>
                </c:pt>
                <c:pt idx="803">
                  <c:v>30.18038414</c:v>
                </c:pt>
                <c:pt idx="804">
                  <c:v>29.934833251</c:v>
                </c:pt>
                <c:pt idx="805">
                  <c:v>30.177484617</c:v>
                </c:pt>
                <c:pt idx="806">
                  <c:v>26.395552458</c:v>
                </c:pt>
                <c:pt idx="807">
                  <c:v>30.022468758</c:v>
                </c:pt>
                <c:pt idx="808">
                  <c:v>30.037580876</c:v>
                </c:pt>
                <c:pt idx="809">
                  <c:v>29.946454035</c:v>
                </c:pt>
                <c:pt idx="810">
                  <c:v>30.175895552</c:v>
                </c:pt>
                <c:pt idx="811">
                  <c:v>29.884718583</c:v>
                </c:pt>
                <c:pt idx="812">
                  <c:v>29.993761428</c:v>
                </c:pt>
                <c:pt idx="813">
                  <c:v>30.043224455</c:v>
                </c:pt>
                <c:pt idx="814">
                  <c:v>25.787983603</c:v>
                </c:pt>
                <c:pt idx="815">
                  <c:v>30.164526937</c:v>
                </c:pt>
                <c:pt idx="816">
                  <c:v>10.600674555</c:v>
                </c:pt>
                <c:pt idx="817">
                  <c:v>7.03971968</c:v>
                </c:pt>
                <c:pt idx="818">
                  <c:v>28.095807052</c:v>
                </c:pt>
                <c:pt idx="819">
                  <c:v>26.903857397</c:v>
                </c:pt>
                <c:pt idx="820">
                  <c:v>29.074656242</c:v>
                </c:pt>
                <c:pt idx="821">
                  <c:v>30.211761768</c:v>
                </c:pt>
                <c:pt idx="822">
                  <c:v>30.086264668</c:v>
                </c:pt>
                <c:pt idx="823">
                  <c:v>29.708565565</c:v>
                </c:pt>
                <c:pt idx="824">
                  <c:v>30.039378045</c:v>
                </c:pt>
                <c:pt idx="825">
                  <c:v>30.293974809</c:v>
                </c:pt>
                <c:pt idx="826">
                  <c:v>26.364690514</c:v>
                </c:pt>
                <c:pt idx="827">
                  <c:v>29.910306741</c:v>
                </c:pt>
                <c:pt idx="828">
                  <c:v>30.031119311</c:v>
                </c:pt>
                <c:pt idx="829">
                  <c:v>29.855587566</c:v>
                </c:pt>
                <c:pt idx="830">
                  <c:v>30.063030559</c:v>
                </c:pt>
                <c:pt idx="831">
                  <c:v>30.175344764</c:v>
                </c:pt>
                <c:pt idx="832">
                  <c:v>9.105271605</c:v>
                </c:pt>
                <c:pt idx="833">
                  <c:v>30.060259621</c:v>
                </c:pt>
                <c:pt idx="834">
                  <c:v>30.165573426</c:v>
                </c:pt>
                <c:pt idx="835">
                  <c:v>29.025835671</c:v>
                </c:pt>
                <c:pt idx="836">
                  <c:v>29.948823891</c:v>
                </c:pt>
                <c:pt idx="837">
                  <c:v>30.198210317</c:v>
                </c:pt>
                <c:pt idx="838">
                  <c:v>26.8011259</c:v>
                </c:pt>
                <c:pt idx="839">
                  <c:v>30.140983846</c:v>
                </c:pt>
                <c:pt idx="840">
                  <c:v>29.993288868</c:v>
                </c:pt>
                <c:pt idx="841">
                  <c:v>29.08887784</c:v>
                </c:pt>
                <c:pt idx="842">
                  <c:v>30.166487806</c:v>
                </c:pt>
                <c:pt idx="843">
                  <c:v>30.186511214</c:v>
                </c:pt>
                <c:pt idx="844">
                  <c:v>23.937944086</c:v>
                </c:pt>
                <c:pt idx="845">
                  <c:v>30.188435048</c:v>
                </c:pt>
                <c:pt idx="846">
                  <c:v>30.026766502</c:v>
                </c:pt>
                <c:pt idx="847">
                  <c:v>28.641294336</c:v>
                </c:pt>
                <c:pt idx="848">
                  <c:v>12.258633826</c:v>
                </c:pt>
                <c:pt idx="849">
                  <c:v>7.06603691</c:v>
                </c:pt>
                <c:pt idx="850">
                  <c:v>30.18241595</c:v>
                </c:pt>
                <c:pt idx="851">
                  <c:v>30.225090896</c:v>
                </c:pt>
                <c:pt idx="852">
                  <c:v>22.129389746</c:v>
                </c:pt>
                <c:pt idx="853">
                  <c:v>29.91878056</c:v>
                </c:pt>
                <c:pt idx="854">
                  <c:v>30.117824007</c:v>
                </c:pt>
                <c:pt idx="855">
                  <c:v>28.631315035</c:v>
                </c:pt>
                <c:pt idx="856">
                  <c:v>30.025648899</c:v>
                </c:pt>
                <c:pt idx="857">
                  <c:v>30.380676299</c:v>
                </c:pt>
                <c:pt idx="858">
                  <c:v>26.875783773</c:v>
                </c:pt>
                <c:pt idx="859">
                  <c:v>30.045543193</c:v>
                </c:pt>
                <c:pt idx="860">
                  <c:v>30.053304856</c:v>
                </c:pt>
                <c:pt idx="861">
                  <c:v>28.459159422</c:v>
                </c:pt>
                <c:pt idx="862">
                  <c:v>30.004503672</c:v>
                </c:pt>
                <c:pt idx="863">
                  <c:v>30.189109626</c:v>
                </c:pt>
                <c:pt idx="864">
                  <c:v>13.176593851</c:v>
                </c:pt>
                <c:pt idx="865">
                  <c:v>29.999146809</c:v>
                </c:pt>
                <c:pt idx="866">
                  <c:v>30.149711884</c:v>
                </c:pt>
                <c:pt idx="867">
                  <c:v>28.97629164</c:v>
                </c:pt>
                <c:pt idx="868">
                  <c:v>30.138287078</c:v>
                </c:pt>
                <c:pt idx="869">
                  <c:v>24.179352619</c:v>
                </c:pt>
                <c:pt idx="870">
                  <c:v>27.945538151</c:v>
                </c:pt>
                <c:pt idx="871">
                  <c:v>30.06105255</c:v>
                </c:pt>
                <c:pt idx="872">
                  <c:v>30.019879227</c:v>
                </c:pt>
                <c:pt idx="873">
                  <c:v>30.241903517</c:v>
                </c:pt>
                <c:pt idx="874">
                  <c:v>26.497616152</c:v>
                </c:pt>
                <c:pt idx="875">
                  <c:v>27.456625535</c:v>
                </c:pt>
                <c:pt idx="876">
                  <c:v>29.970326763</c:v>
                </c:pt>
                <c:pt idx="877">
                  <c:v>27.728899654</c:v>
                </c:pt>
                <c:pt idx="878">
                  <c:v>30.073752302</c:v>
                </c:pt>
                <c:pt idx="879">
                  <c:v>30.054057879</c:v>
                </c:pt>
                <c:pt idx="880">
                  <c:v>13.276372547</c:v>
                </c:pt>
                <c:pt idx="881">
                  <c:v>6.674936721</c:v>
                </c:pt>
                <c:pt idx="882">
                  <c:v>29.070816726</c:v>
                </c:pt>
                <c:pt idx="883">
                  <c:v>27.593614182</c:v>
                </c:pt>
                <c:pt idx="884">
                  <c:v>29.947146394</c:v>
                </c:pt>
                <c:pt idx="885">
                  <c:v>30.081067621</c:v>
                </c:pt>
                <c:pt idx="886">
                  <c:v>30.036019077</c:v>
                </c:pt>
                <c:pt idx="887">
                  <c:v>30.038934567</c:v>
                </c:pt>
                <c:pt idx="888">
                  <c:v>23.203854323</c:v>
                </c:pt>
                <c:pt idx="889">
                  <c:v>29.869198876</c:v>
                </c:pt>
                <c:pt idx="890">
                  <c:v>30.054722871</c:v>
                </c:pt>
                <c:pt idx="891">
                  <c:v>29.934963411</c:v>
                </c:pt>
                <c:pt idx="892">
                  <c:v>29.976263347</c:v>
                </c:pt>
                <c:pt idx="893">
                  <c:v>23.396923368</c:v>
                </c:pt>
                <c:pt idx="894">
                  <c:v>29.961789786</c:v>
                </c:pt>
                <c:pt idx="895">
                  <c:v>30.118089326</c:v>
                </c:pt>
                <c:pt idx="896">
                  <c:v>16.470236114</c:v>
                </c:pt>
                <c:pt idx="897">
                  <c:v>30.125491242</c:v>
                </c:pt>
                <c:pt idx="898">
                  <c:v>30.038245139</c:v>
                </c:pt>
                <c:pt idx="899">
                  <c:v>30.046831136</c:v>
                </c:pt>
                <c:pt idx="900">
                  <c:v>30.019839777</c:v>
                </c:pt>
                <c:pt idx="901">
                  <c:v>23.69689299</c:v>
                </c:pt>
                <c:pt idx="902">
                  <c:v>29.890047097</c:v>
                </c:pt>
                <c:pt idx="903">
                  <c:v>30.004999874</c:v>
                </c:pt>
                <c:pt idx="904">
                  <c:v>30.065105951</c:v>
                </c:pt>
                <c:pt idx="905">
                  <c:v>30.012124064</c:v>
                </c:pt>
                <c:pt idx="906">
                  <c:v>30.154871162</c:v>
                </c:pt>
                <c:pt idx="907">
                  <c:v>26.257386505</c:v>
                </c:pt>
                <c:pt idx="908">
                  <c:v>30.031885579</c:v>
                </c:pt>
                <c:pt idx="909">
                  <c:v>30.052690245</c:v>
                </c:pt>
                <c:pt idx="910">
                  <c:v>29.846773718</c:v>
                </c:pt>
                <c:pt idx="911">
                  <c:v>29.907919839</c:v>
                </c:pt>
                <c:pt idx="912">
                  <c:v>6.41237368</c:v>
                </c:pt>
              </c:numCache>
            </c:numRef>
          </c:yVal>
          <c:smooth val="0"/>
        </c:ser>
        <c:ser>
          <c:idx val="7"/>
          <c:order val="7"/>
          <c:tx>
            <c:strRef>
              <c:f>label 14</c:f>
              <c:strCache>
                <c:ptCount val="1"/>
                <c:pt idx="0">
                  <c:v>1 M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5</c:f>
              <c:numCache>
                <c:formatCode>General</c:formatCode>
                <c:ptCount val="1001"/>
                <c:pt idx="0">
                  <c:v>1048576</c:v>
                </c:pt>
                <c:pt idx="1">
                  <c:v>1048576</c:v>
                </c:pt>
                <c:pt idx="2">
                  <c:v>1048576</c:v>
                </c:pt>
                <c:pt idx="3">
                  <c:v>1048576</c:v>
                </c:pt>
                <c:pt idx="4">
                  <c:v>1048576</c:v>
                </c:pt>
                <c:pt idx="5">
                  <c:v>1048576</c:v>
                </c:pt>
                <c:pt idx="6">
                  <c:v>1048576</c:v>
                </c:pt>
                <c:pt idx="7">
                  <c:v>1048576</c:v>
                </c:pt>
                <c:pt idx="8">
                  <c:v>1048576</c:v>
                </c:pt>
                <c:pt idx="9">
                  <c:v>1048576</c:v>
                </c:pt>
                <c:pt idx="10">
                  <c:v>1048576</c:v>
                </c:pt>
                <c:pt idx="11">
                  <c:v>1048576</c:v>
                </c:pt>
                <c:pt idx="12">
                  <c:v>1048576</c:v>
                </c:pt>
                <c:pt idx="13">
                  <c:v>1048576</c:v>
                </c:pt>
                <c:pt idx="14">
                  <c:v>1048576</c:v>
                </c:pt>
                <c:pt idx="15">
                  <c:v>1048576</c:v>
                </c:pt>
                <c:pt idx="16">
                  <c:v>1048576</c:v>
                </c:pt>
                <c:pt idx="17">
                  <c:v>1048576</c:v>
                </c:pt>
                <c:pt idx="18">
                  <c:v>1048576</c:v>
                </c:pt>
                <c:pt idx="19">
                  <c:v>1048576</c:v>
                </c:pt>
                <c:pt idx="20">
                  <c:v>1048576</c:v>
                </c:pt>
                <c:pt idx="21">
                  <c:v>1048576</c:v>
                </c:pt>
                <c:pt idx="22">
                  <c:v>1048576</c:v>
                </c:pt>
                <c:pt idx="23">
                  <c:v>1048576</c:v>
                </c:pt>
                <c:pt idx="24">
                  <c:v>1048576</c:v>
                </c:pt>
                <c:pt idx="25">
                  <c:v>1048576</c:v>
                </c:pt>
                <c:pt idx="26">
                  <c:v>1048576</c:v>
                </c:pt>
                <c:pt idx="27">
                  <c:v>1048576</c:v>
                </c:pt>
                <c:pt idx="28">
                  <c:v>1048576</c:v>
                </c:pt>
                <c:pt idx="29">
                  <c:v>1048576</c:v>
                </c:pt>
                <c:pt idx="30">
                  <c:v>1048576</c:v>
                </c:pt>
                <c:pt idx="31">
                  <c:v>1048576</c:v>
                </c:pt>
                <c:pt idx="32">
                  <c:v>1048576</c:v>
                </c:pt>
                <c:pt idx="33">
                  <c:v>1048576</c:v>
                </c:pt>
                <c:pt idx="34">
                  <c:v>1048576</c:v>
                </c:pt>
                <c:pt idx="35">
                  <c:v>1048576</c:v>
                </c:pt>
                <c:pt idx="36">
                  <c:v>1048576</c:v>
                </c:pt>
                <c:pt idx="37">
                  <c:v>1048576</c:v>
                </c:pt>
                <c:pt idx="38">
                  <c:v>1048576</c:v>
                </c:pt>
                <c:pt idx="39">
                  <c:v>1048576</c:v>
                </c:pt>
                <c:pt idx="40">
                  <c:v>1048576</c:v>
                </c:pt>
                <c:pt idx="41">
                  <c:v>1048576</c:v>
                </c:pt>
                <c:pt idx="42">
                  <c:v>1048576</c:v>
                </c:pt>
                <c:pt idx="43">
                  <c:v>1048576</c:v>
                </c:pt>
                <c:pt idx="44">
                  <c:v>1048576</c:v>
                </c:pt>
                <c:pt idx="45">
                  <c:v>1048576</c:v>
                </c:pt>
                <c:pt idx="46">
                  <c:v>1048576</c:v>
                </c:pt>
                <c:pt idx="47">
                  <c:v>1048576</c:v>
                </c:pt>
                <c:pt idx="48">
                  <c:v>1048576</c:v>
                </c:pt>
                <c:pt idx="49">
                  <c:v>1048576</c:v>
                </c:pt>
                <c:pt idx="50">
                  <c:v>1048576</c:v>
                </c:pt>
                <c:pt idx="51">
                  <c:v>1048576</c:v>
                </c:pt>
                <c:pt idx="52">
                  <c:v>1048576</c:v>
                </c:pt>
                <c:pt idx="53">
                  <c:v>1048576</c:v>
                </c:pt>
                <c:pt idx="54">
                  <c:v>1048576</c:v>
                </c:pt>
                <c:pt idx="55">
                  <c:v>1048576</c:v>
                </c:pt>
                <c:pt idx="56">
                  <c:v>1048576</c:v>
                </c:pt>
                <c:pt idx="57">
                  <c:v>1048576</c:v>
                </c:pt>
                <c:pt idx="58">
                  <c:v>1048576</c:v>
                </c:pt>
                <c:pt idx="59">
                  <c:v>1048576</c:v>
                </c:pt>
                <c:pt idx="60">
                  <c:v>1048576</c:v>
                </c:pt>
                <c:pt idx="61">
                  <c:v>1048576</c:v>
                </c:pt>
                <c:pt idx="62">
                  <c:v>1048576</c:v>
                </c:pt>
                <c:pt idx="63">
                  <c:v>1048576</c:v>
                </c:pt>
                <c:pt idx="64">
                  <c:v>1048576</c:v>
                </c:pt>
                <c:pt idx="65">
                  <c:v>1048576</c:v>
                </c:pt>
                <c:pt idx="66">
                  <c:v>1048576</c:v>
                </c:pt>
                <c:pt idx="67">
                  <c:v>1048576</c:v>
                </c:pt>
                <c:pt idx="68">
                  <c:v>1048576</c:v>
                </c:pt>
                <c:pt idx="69">
                  <c:v>1048576</c:v>
                </c:pt>
                <c:pt idx="70">
                  <c:v>1048576</c:v>
                </c:pt>
                <c:pt idx="71">
                  <c:v>1048576</c:v>
                </c:pt>
                <c:pt idx="72">
                  <c:v>1048576</c:v>
                </c:pt>
                <c:pt idx="73">
                  <c:v>1048576</c:v>
                </c:pt>
                <c:pt idx="74">
                  <c:v>1048576</c:v>
                </c:pt>
                <c:pt idx="75">
                  <c:v>1048576</c:v>
                </c:pt>
                <c:pt idx="76">
                  <c:v>1048576</c:v>
                </c:pt>
                <c:pt idx="77">
                  <c:v>1048576</c:v>
                </c:pt>
                <c:pt idx="78">
                  <c:v>1048576</c:v>
                </c:pt>
                <c:pt idx="79">
                  <c:v>1048576</c:v>
                </c:pt>
                <c:pt idx="80">
                  <c:v>1048576</c:v>
                </c:pt>
                <c:pt idx="81">
                  <c:v>1048576</c:v>
                </c:pt>
                <c:pt idx="82">
                  <c:v>1048576</c:v>
                </c:pt>
                <c:pt idx="83">
                  <c:v>1048576</c:v>
                </c:pt>
                <c:pt idx="84">
                  <c:v>1048576</c:v>
                </c:pt>
                <c:pt idx="85">
                  <c:v>1048576</c:v>
                </c:pt>
                <c:pt idx="86">
                  <c:v>1048576</c:v>
                </c:pt>
                <c:pt idx="87">
                  <c:v>1048576</c:v>
                </c:pt>
                <c:pt idx="88">
                  <c:v>1048576</c:v>
                </c:pt>
                <c:pt idx="89">
                  <c:v>1048576</c:v>
                </c:pt>
                <c:pt idx="90">
                  <c:v>1048576</c:v>
                </c:pt>
                <c:pt idx="91">
                  <c:v>1048576</c:v>
                </c:pt>
                <c:pt idx="92">
                  <c:v>1048576</c:v>
                </c:pt>
                <c:pt idx="93">
                  <c:v>1048576</c:v>
                </c:pt>
                <c:pt idx="94">
                  <c:v>1048576</c:v>
                </c:pt>
                <c:pt idx="95">
                  <c:v>1048576</c:v>
                </c:pt>
                <c:pt idx="96">
                  <c:v>1048576</c:v>
                </c:pt>
                <c:pt idx="97">
                  <c:v>1048576</c:v>
                </c:pt>
                <c:pt idx="98">
                  <c:v>1048576</c:v>
                </c:pt>
                <c:pt idx="99">
                  <c:v>1048576</c:v>
                </c:pt>
                <c:pt idx="100">
                  <c:v>1048576</c:v>
                </c:pt>
                <c:pt idx="101">
                  <c:v>1048576</c:v>
                </c:pt>
                <c:pt idx="102">
                  <c:v>1048576</c:v>
                </c:pt>
                <c:pt idx="103">
                  <c:v>1048576</c:v>
                </c:pt>
                <c:pt idx="104">
                  <c:v>1048576</c:v>
                </c:pt>
                <c:pt idx="105">
                  <c:v>1048576</c:v>
                </c:pt>
                <c:pt idx="106">
                  <c:v>1048576</c:v>
                </c:pt>
                <c:pt idx="107">
                  <c:v>1048576</c:v>
                </c:pt>
                <c:pt idx="108">
                  <c:v>1048576</c:v>
                </c:pt>
                <c:pt idx="109">
                  <c:v>1048576</c:v>
                </c:pt>
                <c:pt idx="110">
                  <c:v>1048576</c:v>
                </c:pt>
                <c:pt idx="111">
                  <c:v>1048576</c:v>
                </c:pt>
                <c:pt idx="112">
                  <c:v>1048576</c:v>
                </c:pt>
                <c:pt idx="113">
                  <c:v>1048576</c:v>
                </c:pt>
                <c:pt idx="114">
                  <c:v>1048576</c:v>
                </c:pt>
                <c:pt idx="115">
                  <c:v>1048576</c:v>
                </c:pt>
                <c:pt idx="116">
                  <c:v>1048576</c:v>
                </c:pt>
                <c:pt idx="117">
                  <c:v>1048576</c:v>
                </c:pt>
                <c:pt idx="118">
                  <c:v>1048576</c:v>
                </c:pt>
                <c:pt idx="119">
                  <c:v>1048576</c:v>
                </c:pt>
                <c:pt idx="120">
                  <c:v>1048576</c:v>
                </c:pt>
                <c:pt idx="121">
                  <c:v>1048576</c:v>
                </c:pt>
                <c:pt idx="122">
                  <c:v>1048576</c:v>
                </c:pt>
                <c:pt idx="123">
                  <c:v>1048576</c:v>
                </c:pt>
                <c:pt idx="124">
                  <c:v>1048576</c:v>
                </c:pt>
                <c:pt idx="125">
                  <c:v>1048576</c:v>
                </c:pt>
                <c:pt idx="126">
                  <c:v>1048576</c:v>
                </c:pt>
                <c:pt idx="127">
                  <c:v>1048576</c:v>
                </c:pt>
                <c:pt idx="128">
                  <c:v>1048576</c:v>
                </c:pt>
                <c:pt idx="129">
                  <c:v>1048576</c:v>
                </c:pt>
                <c:pt idx="130">
                  <c:v>1048576</c:v>
                </c:pt>
                <c:pt idx="131">
                  <c:v>1048576</c:v>
                </c:pt>
                <c:pt idx="132">
                  <c:v>1048576</c:v>
                </c:pt>
                <c:pt idx="133">
                  <c:v>1048576</c:v>
                </c:pt>
                <c:pt idx="134">
                  <c:v>1048576</c:v>
                </c:pt>
                <c:pt idx="135">
                  <c:v>1048576</c:v>
                </c:pt>
                <c:pt idx="136">
                  <c:v>1048576</c:v>
                </c:pt>
                <c:pt idx="137">
                  <c:v>1048576</c:v>
                </c:pt>
                <c:pt idx="138">
                  <c:v>1048576</c:v>
                </c:pt>
                <c:pt idx="139">
                  <c:v>1048576</c:v>
                </c:pt>
                <c:pt idx="140">
                  <c:v>1048576</c:v>
                </c:pt>
                <c:pt idx="141">
                  <c:v>1048576</c:v>
                </c:pt>
                <c:pt idx="142">
                  <c:v>1048576</c:v>
                </c:pt>
                <c:pt idx="143">
                  <c:v>1048576</c:v>
                </c:pt>
                <c:pt idx="144">
                  <c:v>1048576</c:v>
                </c:pt>
                <c:pt idx="145">
                  <c:v>1048576</c:v>
                </c:pt>
                <c:pt idx="146">
                  <c:v>1048576</c:v>
                </c:pt>
                <c:pt idx="147">
                  <c:v>1048576</c:v>
                </c:pt>
                <c:pt idx="148">
                  <c:v>1048576</c:v>
                </c:pt>
                <c:pt idx="149">
                  <c:v>1048576</c:v>
                </c:pt>
                <c:pt idx="150">
                  <c:v>1048576</c:v>
                </c:pt>
                <c:pt idx="151">
                  <c:v>1048576</c:v>
                </c:pt>
                <c:pt idx="152">
                  <c:v>1048576</c:v>
                </c:pt>
                <c:pt idx="153">
                  <c:v>1048576</c:v>
                </c:pt>
                <c:pt idx="154">
                  <c:v>1048576</c:v>
                </c:pt>
                <c:pt idx="155">
                  <c:v>1048576</c:v>
                </c:pt>
                <c:pt idx="156">
                  <c:v>1048576</c:v>
                </c:pt>
                <c:pt idx="157">
                  <c:v>1048576</c:v>
                </c:pt>
                <c:pt idx="158">
                  <c:v>1048576</c:v>
                </c:pt>
                <c:pt idx="159">
                  <c:v>1048576</c:v>
                </c:pt>
                <c:pt idx="160">
                  <c:v>1048576</c:v>
                </c:pt>
                <c:pt idx="161">
                  <c:v>1048576</c:v>
                </c:pt>
                <c:pt idx="162">
                  <c:v>1048576</c:v>
                </c:pt>
                <c:pt idx="163">
                  <c:v>1048576</c:v>
                </c:pt>
                <c:pt idx="164">
                  <c:v>1048576</c:v>
                </c:pt>
                <c:pt idx="165">
                  <c:v>1048576</c:v>
                </c:pt>
                <c:pt idx="166">
                  <c:v>1048576</c:v>
                </c:pt>
                <c:pt idx="167">
                  <c:v>1048576</c:v>
                </c:pt>
                <c:pt idx="168">
                  <c:v>1048576</c:v>
                </c:pt>
                <c:pt idx="169">
                  <c:v>1048576</c:v>
                </c:pt>
                <c:pt idx="170">
                  <c:v>1048576</c:v>
                </c:pt>
                <c:pt idx="171">
                  <c:v>1048576</c:v>
                </c:pt>
                <c:pt idx="172">
                  <c:v>1048576</c:v>
                </c:pt>
                <c:pt idx="173">
                  <c:v>1048576</c:v>
                </c:pt>
                <c:pt idx="174">
                  <c:v>1048576</c:v>
                </c:pt>
                <c:pt idx="175">
                  <c:v>1048576</c:v>
                </c:pt>
                <c:pt idx="176">
                  <c:v>1048576</c:v>
                </c:pt>
                <c:pt idx="177">
                  <c:v>1048576</c:v>
                </c:pt>
                <c:pt idx="178">
                  <c:v>1048576</c:v>
                </c:pt>
                <c:pt idx="179">
                  <c:v>1048576</c:v>
                </c:pt>
                <c:pt idx="180">
                  <c:v>1048576</c:v>
                </c:pt>
                <c:pt idx="181">
                  <c:v>1048576</c:v>
                </c:pt>
                <c:pt idx="182">
                  <c:v>1048576</c:v>
                </c:pt>
                <c:pt idx="183">
                  <c:v>1048576</c:v>
                </c:pt>
                <c:pt idx="184">
                  <c:v>1048576</c:v>
                </c:pt>
                <c:pt idx="185">
                  <c:v>1048576</c:v>
                </c:pt>
                <c:pt idx="186">
                  <c:v>1048576</c:v>
                </c:pt>
                <c:pt idx="187">
                  <c:v>1048576</c:v>
                </c:pt>
                <c:pt idx="188">
                  <c:v>1048576</c:v>
                </c:pt>
                <c:pt idx="189">
                  <c:v>1048576</c:v>
                </c:pt>
                <c:pt idx="190">
                  <c:v>1048576</c:v>
                </c:pt>
                <c:pt idx="191">
                  <c:v>1048576</c:v>
                </c:pt>
                <c:pt idx="192">
                  <c:v>1048576</c:v>
                </c:pt>
                <c:pt idx="193">
                  <c:v>1048576</c:v>
                </c:pt>
                <c:pt idx="194">
                  <c:v>1048576</c:v>
                </c:pt>
                <c:pt idx="195">
                  <c:v>1048576</c:v>
                </c:pt>
                <c:pt idx="196">
                  <c:v>1048576</c:v>
                </c:pt>
                <c:pt idx="197">
                  <c:v>1048576</c:v>
                </c:pt>
                <c:pt idx="198">
                  <c:v>1048576</c:v>
                </c:pt>
                <c:pt idx="199">
                  <c:v>1048576</c:v>
                </c:pt>
                <c:pt idx="200">
                  <c:v>1048576</c:v>
                </c:pt>
                <c:pt idx="201">
                  <c:v>1048576</c:v>
                </c:pt>
                <c:pt idx="202">
                  <c:v>1048576</c:v>
                </c:pt>
                <c:pt idx="203">
                  <c:v>1048576</c:v>
                </c:pt>
                <c:pt idx="204">
                  <c:v>1048576</c:v>
                </c:pt>
                <c:pt idx="205">
                  <c:v>1048576</c:v>
                </c:pt>
                <c:pt idx="206">
                  <c:v>1048576</c:v>
                </c:pt>
                <c:pt idx="207">
                  <c:v>1048576</c:v>
                </c:pt>
                <c:pt idx="208">
                  <c:v>1048576</c:v>
                </c:pt>
                <c:pt idx="209">
                  <c:v>1048576</c:v>
                </c:pt>
                <c:pt idx="210">
                  <c:v>1048576</c:v>
                </c:pt>
                <c:pt idx="211">
                  <c:v>1048576</c:v>
                </c:pt>
                <c:pt idx="212">
                  <c:v>1048576</c:v>
                </c:pt>
                <c:pt idx="213">
                  <c:v>1048576</c:v>
                </c:pt>
                <c:pt idx="214">
                  <c:v>1048576</c:v>
                </c:pt>
                <c:pt idx="215">
                  <c:v>1048576</c:v>
                </c:pt>
                <c:pt idx="216">
                  <c:v>1048576</c:v>
                </c:pt>
                <c:pt idx="217">
                  <c:v>1048576</c:v>
                </c:pt>
                <c:pt idx="218">
                  <c:v>1048576</c:v>
                </c:pt>
                <c:pt idx="219">
                  <c:v>1048576</c:v>
                </c:pt>
                <c:pt idx="220">
                  <c:v>1048576</c:v>
                </c:pt>
                <c:pt idx="221">
                  <c:v>1048576</c:v>
                </c:pt>
                <c:pt idx="222">
                  <c:v>1048576</c:v>
                </c:pt>
                <c:pt idx="223">
                  <c:v>1048576</c:v>
                </c:pt>
                <c:pt idx="224">
                  <c:v>1048576</c:v>
                </c:pt>
                <c:pt idx="225">
                  <c:v>1048576</c:v>
                </c:pt>
                <c:pt idx="226">
                  <c:v>1048576</c:v>
                </c:pt>
                <c:pt idx="227">
                  <c:v>1048576</c:v>
                </c:pt>
                <c:pt idx="228">
                  <c:v>1048576</c:v>
                </c:pt>
                <c:pt idx="229">
                  <c:v>1048576</c:v>
                </c:pt>
                <c:pt idx="230">
                  <c:v>1048576</c:v>
                </c:pt>
              </c:numCache>
            </c:numRef>
          </c:xVal>
          <c:yVal>
            <c:numRef>
              <c:f>14</c:f>
              <c:numCache>
                <c:formatCode>General</c:formatCode>
                <c:ptCount val="1001"/>
                <c:pt idx="0">
                  <c:v>1.668061313</c:v>
                </c:pt>
                <c:pt idx="1">
                  <c:v>28.120513621</c:v>
                </c:pt>
                <c:pt idx="2">
                  <c:v>28.067003641</c:v>
                </c:pt>
                <c:pt idx="3">
                  <c:v>28.681362227</c:v>
                </c:pt>
                <c:pt idx="4">
                  <c:v>21.911388451</c:v>
                </c:pt>
                <c:pt idx="5">
                  <c:v>28.136893433</c:v>
                </c:pt>
                <c:pt idx="6">
                  <c:v>16.383190338</c:v>
                </c:pt>
                <c:pt idx="7">
                  <c:v>29.004046323</c:v>
                </c:pt>
                <c:pt idx="8">
                  <c:v>19.361182336</c:v>
                </c:pt>
                <c:pt idx="9">
                  <c:v>28.255268894</c:v>
                </c:pt>
                <c:pt idx="10">
                  <c:v>27.546478747</c:v>
                </c:pt>
                <c:pt idx="11">
                  <c:v>26.95104952</c:v>
                </c:pt>
                <c:pt idx="12">
                  <c:v>20.47634359</c:v>
                </c:pt>
                <c:pt idx="13">
                  <c:v>27.768195756</c:v>
                </c:pt>
                <c:pt idx="14">
                  <c:v>16.253279757</c:v>
                </c:pt>
                <c:pt idx="15">
                  <c:v>28.483950874</c:v>
                </c:pt>
                <c:pt idx="16">
                  <c:v>22.932513276</c:v>
                </c:pt>
                <c:pt idx="17">
                  <c:v>28.402467174</c:v>
                </c:pt>
                <c:pt idx="18">
                  <c:v>28.272966358</c:v>
                </c:pt>
                <c:pt idx="19">
                  <c:v>28.518111602</c:v>
                </c:pt>
                <c:pt idx="20">
                  <c:v>23.223565923</c:v>
                </c:pt>
                <c:pt idx="21">
                  <c:v>28.17437057</c:v>
                </c:pt>
                <c:pt idx="22">
                  <c:v>16.121563444</c:v>
                </c:pt>
                <c:pt idx="23">
                  <c:v>28.066143143</c:v>
                </c:pt>
                <c:pt idx="24">
                  <c:v>24.262754065</c:v>
                </c:pt>
                <c:pt idx="25">
                  <c:v>27.631813843</c:v>
                </c:pt>
                <c:pt idx="26">
                  <c:v>28.136003441</c:v>
                </c:pt>
                <c:pt idx="27">
                  <c:v>28.29712365</c:v>
                </c:pt>
                <c:pt idx="28">
                  <c:v>23.27051018</c:v>
                </c:pt>
                <c:pt idx="29">
                  <c:v>27.967100018</c:v>
                </c:pt>
                <c:pt idx="30">
                  <c:v>16.144495754</c:v>
                </c:pt>
                <c:pt idx="31">
                  <c:v>28.25400368</c:v>
                </c:pt>
                <c:pt idx="32">
                  <c:v>24.826189912</c:v>
                </c:pt>
                <c:pt idx="33">
                  <c:v>28.335001972</c:v>
                </c:pt>
                <c:pt idx="34">
                  <c:v>27.499658303</c:v>
                </c:pt>
                <c:pt idx="35">
                  <c:v>29.270414349</c:v>
                </c:pt>
                <c:pt idx="36">
                  <c:v>22.471754042</c:v>
                </c:pt>
                <c:pt idx="37">
                  <c:v>28.096415303</c:v>
                </c:pt>
                <c:pt idx="38">
                  <c:v>15.736328668</c:v>
                </c:pt>
                <c:pt idx="39">
                  <c:v>28.687537195</c:v>
                </c:pt>
                <c:pt idx="40">
                  <c:v>24.938650774</c:v>
                </c:pt>
                <c:pt idx="41">
                  <c:v>28.820224718</c:v>
                </c:pt>
                <c:pt idx="42">
                  <c:v>28.407177012</c:v>
                </c:pt>
                <c:pt idx="43">
                  <c:v>29.129760443</c:v>
                </c:pt>
                <c:pt idx="44">
                  <c:v>27.210026627</c:v>
                </c:pt>
                <c:pt idx="45">
                  <c:v>27.736710863</c:v>
                </c:pt>
                <c:pt idx="46">
                  <c:v>16.056971889</c:v>
                </c:pt>
                <c:pt idx="47">
                  <c:v>29.360631165</c:v>
                </c:pt>
                <c:pt idx="48">
                  <c:v>22.74261573</c:v>
                </c:pt>
                <c:pt idx="49">
                  <c:v>27.712038903</c:v>
                </c:pt>
                <c:pt idx="50">
                  <c:v>28.478735039</c:v>
                </c:pt>
                <c:pt idx="51">
                  <c:v>28.076027156</c:v>
                </c:pt>
                <c:pt idx="52">
                  <c:v>23.566033885</c:v>
                </c:pt>
                <c:pt idx="53">
                  <c:v>15.922818286</c:v>
                </c:pt>
                <c:pt idx="54">
                  <c:v>28.005393419</c:v>
                </c:pt>
                <c:pt idx="55">
                  <c:v>26.952832383</c:v>
                </c:pt>
                <c:pt idx="56">
                  <c:v>26.538701375</c:v>
                </c:pt>
                <c:pt idx="57">
                  <c:v>28.012058621</c:v>
                </c:pt>
                <c:pt idx="58">
                  <c:v>27.955950844</c:v>
                </c:pt>
                <c:pt idx="59">
                  <c:v>28.978925652</c:v>
                </c:pt>
                <c:pt idx="60">
                  <c:v>27.637953191</c:v>
                </c:pt>
                <c:pt idx="61">
                  <c:v>15.805825551</c:v>
                </c:pt>
                <c:pt idx="62">
                  <c:v>28.432228992</c:v>
                </c:pt>
                <c:pt idx="63">
                  <c:v>28.128531311</c:v>
                </c:pt>
                <c:pt idx="64">
                  <c:v>20.554892517</c:v>
                </c:pt>
                <c:pt idx="65">
                  <c:v>27.920544253</c:v>
                </c:pt>
                <c:pt idx="66">
                  <c:v>27.941465967</c:v>
                </c:pt>
                <c:pt idx="67">
                  <c:v>29.143837012</c:v>
                </c:pt>
                <c:pt idx="68">
                  <c:v>27.603787067</c:v>
                </c:pt>
                <c:pt idx="69">
                  <c:v>15.975150037</c:v>
                </c:pt>
                <c:pt idx="70">
                  <c:v>27.839543304</c:v>
                </c:pt>
                <c:pt idx="71">
                  <c:v>28.543871991</c:v>
                </c:pt>
                <c:pt idx="72">
                  <c:v>20.322421575</c:v>
                </c:pt>
                <c:pt idx="73">
                  <c:v>28.334473604</c:v>
                </c:pt>
                <c:pt idx="74">
                  <c:v>28.114787924</c:v>
                </c:pt>
                <c:pt idx="75">
                  <c:v>26.884296204</c:v>
                </c:pt>
                <c:pt idx="76">
                  <c:v>20.49338718</c:v>
                </c:pt>
                <c:pt idx="77">
                  <c:v>15.880490984</c:v>
                </c:pt>
                <c:pt idx="78">
                  <c:v>28.315701159</c:v>
                </c:pt>
                <c:pt idx="79">
                  <c:v>29.452825867</c:v>
                </c:pt>
                <c:pt idx="80">
                  <c:v>19.222397525</c:v>
                </c:pt>
                <c:pt idx="81">
                  <c:v>27.710112556</c:v>
                </c:pt>
                <c:pt idx="82">
                  <c:v>28.127609971</c:v>
                </c:pt>
                <c:pt idx="83">
                  <c:v>29.26454272</c:v>
                </c:pt>
                <c:pt idx="84">
                  <c:v>19.171489728</c:v>
                </c:pt>
                <c:pt idx="85">
                  <c:v>15.953447827</c:v>
                </c:pt>
                <c:pt idx="86">
                  <c:v>28.433022004</c:v>
                </c:pt>
                <c:pt idx="87">
                  <c:v>27.821177781</c:v>
                </c:pt>
                <c:pt idx="88">
                  <c:v>20.41750129</c:v>
                </c:pt>
                <c:pt idx="89">
                  <c:v>28.482567035</c:v>
                </c:pt>
                <c:pt idx="90">
                  <c:v>29.409393618</c:v>
                </c:pt>
                <c:pt idx="91">
                  <c:v>28.185759882</c:v>
                </c:pt>
                <c:pt idx="92">
                  <c:v>21.863595752</c:v>
                </c:pt>
                <c:pt idx="93">
                  <c:v>15.530157588</c:v>
                </c:pt>
                <c:pt idx="94">
                  <c:v>28.248652197</c:v>
                </c:pt>
                <c:pt idx="95">
                  <c:v>28.230976031</c:v>
                </c:pt>
                <c:pt idx="96">
                  <c:v>21.051641476</c:v>
                </c:pt>
                <c:pt idx="97">
                  <c:v>26.851997417</c:v>
                </c:pt>
                <c:pt idx="98">
                  <c:v>26.813992365</c:v>
                </c:pt>
                <c:pt idx="99">
                  <c:v>26.670512119</c:v>
                </c:pt>
                <c:pt idx="100">
                  <c:v>21.799986388</c:v>
                </c:pt>
                <c:pt idx="101">
                  <c:v>15.986805835</c:v>
                </c:pt>
                <c:pt idx="102">
                  <c:v>28.444165035</c:v>
                </c:pt>
                <c:pt idx="103">
                  <c:v>27.827055671</c:v>
                </c:pt>
                <c:pt idx="104">
                  <c:v>20.496138939</c:v>
                </c:pt>
                <c:pt idx="105">
                  <c:v>28.068600561</c:v>
                </c:pt>
                <c:pt idx="106">
                  <c:v>28.124899038</c:v>
                </c:pt>
                <c:pt idx="107">
                  <c:v>28.768373878</c:v>
                </c:pt>
                <c:pt idx="108">
                  <c:v>19.429535549</c:v>
                </c:pt>
                <c:pt idx="109">
                  <c:v>16.051550945</c:v>
                </c:pt>
                <c:pt idx="110">
                  <c:v>27.972590169</c:v>
                </c:pt>
                <c:pt idx="111">
                  <c:v>18.553357034</c:v>
                </c:pt>
                <c:pt idx="112">
                  <c:v>18.887485385</c:v>
                </c:pt>
                <c:pt idx="113">
                  <c:v>29.509848579</c:v>
                </c:pt>
                <c:pt idx="114">
                  <c:v>29.087218273</c:v>
                </c:pt>
                <c:pt idx="115">
                  <c:v>30.170443814</c:v>
                </c:pt>
                <c:pt idx="116">
                  <c:v>22.655992322</c:v>
                </c:pt>
                <c:pt idx="117">
                  <c:v>15.942513565</c:v>
                </c:pt>
                <c:pt idx="118">
                  <c:v>28.414306347</c:v>
                </c:pt>
                <c:pt idx="119">
                  <c:v>30.108242745</c:v>
                </c:pt>
                <c:pt idx="120">
                  <c:v>23.103180013</c:v>
                </c:pt>
                <c:pt idx="121">
                  <c:v>28.224912809</c:v>
                </c:pt>
                <c:pt idx="122">
                  <c:v>30.00667714</c:v>
                </c:pt>
                <c:pt idx="123">
                  <c:v>28.819825184</c:v>
                </c:pt>
                <c:pt idx="124">
                  <c:v>26.770511597</c:v>
                </c:pt>
                <c:pt idx="125">
                  <c:v>16.396370623</c:v>
                </c:pt>
                <c:pt idx="126">
                  <c:v>28.682952067</c:v>
                </c:pt>
                <c:pt idx="127">
                  <c:v>29.227381195</c:v>
                </c:pt>
                <c:pt idx="128">
                  <c:v>27.001477162</c:v>
                </c:pt>
                <c:pt idx="129">
                  <c:v>28.410241754</c:v>
                </c:pt>
                <c:pt idx="130">
                  <c:v>29.488483813</c:v>
                </c:pt>
                <c:pt idx="131">
                  <c:v>28.865933042</c:v>
                </c:pt>
                <c:pt idx="132">
                  <c:v>26.790208463</c:v>
                </c:pt>
                <c:pt idx="133">
                  <c:v>16.397821071</c:v>
                </c:pt>
                <c:pt idx="134">
                  <c:v>28.964552176</c:v>
                </c:pt>
                <c:pt idx="135">
                  <c:v>29.880059023</c:v>
                </c:pt>
                <c:pt idx="136">
                  <c:v>26.927805014</c:v>
                </c:pt>
                <c:pt idx="137">
                  <c:v>28.748890309</c:v>
                </c:pt>
                <c:pt idx="138">
                  <c:v>29.865328566</c:v>
                </c:pt>
                <c:pt idx="139">
                  <c:v>29.035019181</c:v>
                </c:pt>
                <c:pt idx="140">
                  <c:v>21.039039047</c:v>
                </c:pt>
                <c:pt idx="141">
                  <c:v>16.505740254</c:v>
                </c:pt>
                <c:pt idx="142">
                  <c:v>30.099593679</c:v>
                </c:pt>
                <c:pt idx="143">
                  <c:v>27.874557556</c:v>
                </c:pt>
                <c:pt idx="144">
                  <c:v>22.41534</c:v>
                </c:pt>
                <c:pt idx="145">
                  <c:v>28.219758918</c:v>
                </c:pt>
                <c:pt idx="146">
                  <c:v>29.972737044</c:v>
                </c:pt>
                <c:pt idx="147">
                  <c:v>27.750326432</c:v>
                </c:pt>
                <c:pt idx="148">
                  <c:v>22.449435613</c:v>
                </c:pt>
                <c:pt idx="149">
                  <c:v>16.295597406</c:v>
                </c:pt>
                <c:pt idx="150">
                  <c:v>29.784280921</c:v>
                </c:pt>
                <c:pt idx="151">
                  <c:v>27.857010862</c:v>
                </c:pt>
                <c:pt idx="152">
                  <c:v>22.498836179</c:v>
                </c:pt>
                <c:pt idx="153">
                  <c:v>28.473440859</c:v>
                </c:pt>
                <c:pt idx="154">
                  <c:v>29.526632748</c:v>
                </c:pt>
                <c:pt idx="155">
                  <c:v>28.479917978</c:v>
                </c:pt>
                <c:pt idx="156">
                  <c:v>13.446156987</c:v>
                </c:pt>
                <c:pt idx="157">
                  <c:v>28.872422451</c:v>
                </c:pt>
                <c:pt idx="158">
                  <c:v>28.757460436</c:v>
                </c:pt>
                <c:pt idx="159">
                  <c:v>30.073392388</c:v>
                </c:pt>
                <c:pt idx="160">
                  <c:v>19.209951979</c:v>
                </c:pt>
                <c:pt idx="161">
                  <c:v>27.899243807</c:v>
                </c:pt>
                <c:pt idx="162">
                  <c:v>28.849089872</c:v>
                </c:pt>
                <c:pt idx="163">
                  <c:v>30.029311917</c:v>
                </c:pt>
                <c:pt idx="164">
                  <c:v>13.711703723</c:v>
                </c:pt>
                <c:pt idx="165">
                  <c:v>29.683185405</c:v>
                </c:pt>
                <c:pt idx="166">
                  <c:v>29.131671403</c:v>
                </c:pt>
                <c:pt idx="167">
                  <c:v>29.985786723</c:v>
                </c:pt>
                <c:pt idx="168">
                  <c:v>22.282853416</c:v>
                </c:pt>
                <c:pt idx="169">
                  <c:v>28.53217772</c:v>
                </c:pt>
                <c:pt idx="170">
                  <c:v>29.324253214</c:v>
                </c:pt>
                <c:pt idx="171">
                  <c:v>28.429691813</c:v>
                </c:pt>
                <c:pt idx="172">
                  <c:v>13.536392462</c:v>
                </c:pt>
                <c:pt idx="173">
                  <c:v>29.312086136</c:v>
                </c:pt>
                <c:pt idx="174">
                  <c:v>28.800637868</c:v>
                </c:pt>
                <c:pt idx="175">
                  <c:v>29.676544633</c:v>
                </c:pt>
                <c:pt idx="176">
                  <c:v>22.430974168</c:v>
                </c:pt>
                <c:pt idx="177">
                  <c:v>28.822756874</c:v>
                </c:pt>
                <c:pt idx="178">
                  <c:v>30.140724451</c:v>
                </c:pt>
                <c:pt idx="179">
                  <c:v>28.938343403</c:v>
                </c:pt>
                <c:pt idx="180">
                  <c:v>13.389496388</c:v>
                </c:pt>
                <c:pt idx="181">
                  <c:v>29.167438245</c:v>
                </c:pt>
                <c:pt idx="182">
                  <c:v>27.960899533</c:v>
                </c:pt>
                <c:pt idx="183">
                  <c:v>30.03734121</c:v>
                </c:pt>
                <c:pt idx="184">
                  <c:v>18.906266306</c:v>
                </c:pt>
                <c:pt idx="185">
                  <c:v>28.979033429</c:v>
                </c:pt>
                <c:pt idx="186">
                  <c:v>30.024320171</c:v>
                </c:pt>
                <c:pt idx="187">
                  <c:v>29.088930454</c:v>
                </c:pt>
                <c:pt idx="188">
                  <c:v>13.262466881</c:v>
                </c:pt>
                <c:pt idx="189">
                  <c:v>29.379431277</c:v>
                </c:pt>
                <c:pt idx="190">
                  <c:v>27.710109118</c:v>
                </c:pt>
                <c:pt idx="191">
                  <c:v>27.558516297</c:v>
                </c:pt>
                <c:pt idx="192">
                  <c:v>20.378456964</c:v>
                </c:pt>
                <c:pt idx="193">
                  <c:v>27.707336383</c:v>
                </c:pt>
                <c:pt idx="194">
                  <c:v>28.487311955</c:v>
                </c:pt>
                <c:pt idx="195">
                  <c:v>29.531457328</c:v>
                </c:pt>
                <c:pt idx="196">
                  <c:v>12.655062281</c:v>
                </c:pt>
                <c:pt idx="197">
                  <c:v>28.866405978</c:v>
                </c:pt>
                <c:pt idx="198">
                  <c:v>28.567914092</c:v>
                </c:pt>
                <c:pt idx="199">
                  <c:v>30.133204838</c:v>
                </c:pt>
                <c:pt idx="200">
                  <c:v>19.018860443</c:v>
                </c:pt>
                <c:pt idx="201">
                  <c:v>29.0214539</c:v>
                </c:pt>
                <c:pt idx="202">
                  <c:v>29.877376771</c:v>
                </c:pt>
                <c:pt idx="203">
                  <c:v>28.900200276</c:v>
                </c:pt>
                <c:pt idx="204">
                  <c:v>12.944198634</c:v>
                </c:pt>
                <c:pt idx="205">
                  <c:v>29.709272433</c:v>
                </c:pt>
                <c:pt idx="206">
                  <c:v>29.129393223</c:v>
                </c:pt>
                <c:pt idx="207">
                  <c:v>29.984369391</c:v>
                </c:pt>
                <c:pt idx="208">
                  <c:v>19.019910223</c:v>
                </c:pt>
                <c:pt idx="209">
                  <c:v>29.086271357</c:v>
                </c:pt>
                <c:pt idx="210">
                  <c:v>29.86339778</c:v>
                </c:pt>
                <c:pt idx="211">
                  <c:v>27.924904755</c:v>
                </c:pt>
                <c:pt idx="212">
                  <c:v>13.833885343</c:v>
                </c:pt>
                <c:pt idx="213">
                  <c:v>27.216774741</c:v>
                </c:pt>
                <c:pt idx="214">
                  <c:v>29.331742936</c:v>
                </c:pt>
                <c:pt idx="215">
                  <c:v>29.770902067</c:v>
                </c:pt>
                <c:pt idx="216">
                  <c:v>22.433543138</c:v>
                </c:pt>
                <c:pt idx="217">
                  <c:v>27.939580595</c:v>
                </c:pt>
                <c:pt idx="218">
                  <c:v>28.467101325</c:v>
                </c:pt>
                <c:pt idx="219">
                  <c:v>30.16033311</c:v>
                </c:pt>
                <c:pt idx="220">
                  <c:v>15.024891657</c:v>
                </c:pt>
                <c:pt idx="221">
                  <c:v>30.151973825</c:v>
                </c:pt>
                <c:pt idx="222">
                  <c:v>27.976396948</c:v>
                </c:pt>
                <c:pt idx="223">
                  <c:v>27.922432874</c:v>
                </c:pt>
                <c:pt idx="224">
                  <c:v>24.955779609</c:v>
                </c:pt>
                <c:pt idx="225">
                  <c:v>28.127419492</c:v>
                </c:pt>
                <c:pt idx="226">
                  <c:v>28.904007736</c:v>
                </c:pt>
                <c:pt idx="227">
                  <c:v>30.034761677</c:v>
                </c:pt>
                <c:pt idx="228">
                  <c:v>15.483368987</c:v>
                </c:pt>
                <c:pt idx="229">
                  <c:v>28.407166174</c:v>
                </c:pt>
                <c:pt idx="230">
                  <c:v>28.190563754</c:v>
                </c:pt>
              </c:numCache>
            </c:numRef>
          </c:yVal>
          <c:smooth val="0"/>
        </c:ser>
        <c:ser>
          <c:idx val="8"/>
          <c:order val="8"/>
          <c:tx>
            <c:strRef>
              <c:f>label 16</c:f>
              <c:strCache>
                <c:ptCount val="1"/>
                <c:pt idx="0">
                  <c:v>8 M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7</c:f>
              <c:numCache>
                <c:formatCode>General</c:formatCode>
                <c:ptCount val="1001"/>
                <c:pt idx="0">
                  <c:v>8388608</c:v>
                </c:pt>
                <c:pt idx="1">
                  <c:v>8388608</c:v>
                </c:pt>
                <c:pt idx="2">
                  <c:v>8388608</c:v>
                </c:pt>
                <c:pt idx="3">
                  <c:v>8388608</c:v>
                </c:pt>
                <c:pt idx="4">
                  <c:v>8388608</c:v>
                </c:pt>
                <c:pt idx="5">
                  <c:v>8388608</c:v>
                </c:pt>
                <c:pt idx="6">
                  <c:v>8388608</c:v>
                </c:pt>
                <c:pt idx="7">
                  <c:v>8388608</c:v>
                </c:pt>
                <c:pt idx="8">
                  <c:v>8388608</c:v>
                </c:pt>
                <c:pt idx="9">
                  <c:v>8388608</c:v>
                </c:pt>
                <c:pt idx="10">
                  <c:v>8388608</c:v>
                </c:pt>
                <c:pt idx="11">
                  <c:v>8388608</c:v>
                </c:pt>
                <c:pt idx="12">
                  <c:v>8388608</c:v>
                </c:pt>
                <c:pt idx="13">
                  <c:v>8388608</c:v>
                </c:pt>
                <c:pt idx="14">
                  <c:v>8388608</c:v>
                </c:pt>
                <c:pt idx="15">
                  <c:v>8388608</c:v>
                </c:pt>
                <c:pt idx="16">
                  <c:v>8388608</c:v>
                </c:pt>
                <c:pt idx="17">
                  <c:v>8388608</c:v>
                </c:pt>
                <c:pt idx="18">
                  <c:v>8388608</c:v>
                </c:pt>
                <c:pt idx="19">
                  <c:v>8388608</c:v>
                </c:pt>
                <c:pt idx="20">
                  <c:v>8388608</c:v>
                </c:pt>
                <c:pt idx="21">
                  <c:v>8388608</c:v>
                </c:pt>
                <c:pt idx="22">
                  <c:v>8388608</c:v>
                </c:pt>
                <c:pt idx="23">
                  <c:v>8388608</c:v>
                </c:pt>
                <c:pt idx="24">
                  <c:v>8388608</c:v>
                </c:pt>
                <c:pt idx="25">
                  <c:v>8388608</c:v>
                </c:pt>
                <c:pt idx="26">
                  <c:v>8388608</c:v>
                </c:pt>
                <c:pt idx="27">
                  <c:v>8388608</c:v>
                </c:pt>
                <c:pt idx="28">
                  <c:v>8388608</c:v>
                </c:pt>
                <c:pt idx="29">
                  <c:v>8388608</c:v>
                </c:pt>
                <c:pt idx="30">
                  <c:v>8388608</c:v>
                </c:pt>
                <c:pt idx="31">
                  <c:v>8388608</c:v>
                </c:pt>
                <c:pt idx="32">
                  <c:v>8388608</c:v>
                </c:pt>
                <c:pt idx="33">
                  <c:v>8388608</c:v>
                </c:pt>
                <c:pt idx="34">
                  <c:v>8388608</c:v>
                </c:pt>
                <c:pt idx="35">
                  <c:v>8388608</c:v>
                </c:pt>
                <c:pt idx="36">
                  <c:v>8388608</c:v>
                </c:pt>
                <c:pt idx="37">
                  <c:v>8388608</c:v>
                </c:pt>
                <c:pt idx="38">
                  <c:v>8388608</c:v>
                </c:pt>
                <c:pt idx="39">
                  <c:v>8388608</c:v>
                </c:pt>
                <c:pt idx="40">
                  <c:v>8388608</c:v>
                </c:pt>
                <c:pt idx="41">
                  <c:v>8388608</c:v>
                </c:pt>
                <c:pt idx="42">
                  <c:v>8388608</c:v>
                </c:pt>
                <c:pt idx="43">
                  <c:v>8388608</c:v>
                </c:pt>
                <c:pt idx="44">
                  <c:v>8388608</c:v>
                </c:pt>
                <c:pt idx="45">
                  <c:v>8388608</c:v>
                </c:pt>
                <c:pt idx="46">
                  <c:v>8388608</c:v>
                </c:pt>
                <c:pt idx="47">
                  <c:v>8388608</c:v>
                </c:pt>
                <c:pt idx="48">
                  <c:v>8388608</c:v>
                </c:pt>
                <c:pt idx="49">
                  <c:v>8388608</c:v>
                </c:pt>
                <c:pt idx="50">
                  <c:v>8388608</c:v>
                </c:pt>
                <c:pt idx="51">
                  <c:v>8388608</c:v>
                </c:pt>
                <c:pt idx="52">
                  <c:v>8388608</c:v>
                </c:pt>
                <c:pt idx="53">
                  <c:v>8388608</c:v>
                </c:pt>
                <c:pt idx="54">
                  <c:v>8388608</c:v>
                </c:pt>
                <c:pt idx="55">
                  <c:v>8388608</c:v>
                </c:pt>
                <c:pt idx="56">
                  <c:v>8388608</c:v>
                </c:pt>
                <c:pt idx="57">
                  <c:v>8388608</c:v>
                </c:pt>
                <c:pt idx="58">
                  <c:v>8388608</c:v>
                </c:pt>
                <c:pt idx="59">
                  <c:v>8388608</c:v>
                </c:pt>
                <c:pt idx="60">
                  <c:v>8388608</c:v>
                </c:pt>
                <c:pt idx="61">
                  <c:v>8388608</c:v>
                </c:pt>
                <c:pt idx="62">
                  <c:v>8388608</c:v>
                </c:pt>
                <c:pt idx="63">
                  <c:v>8388608</c:v>
                </c:pt>
                <c:pt idx="64">
                  <c:v>8388608</c:v>
                </c:pt>
                <c:pt idx="65">
                  <c:v>8388608</c:v>
                </c:pt>
                <c:pt idx="66">
                  <c:v>8388608</c:v>
                </c:pt>
                <c:pt idx="67">
                  <c:v>8388608</c:v>
                </c:pt>
                <c:pt idx="68">
                  <c:v>8388608</c:v>
                </c:pt>
                <c:pt idx="69">
                  <c:v>8388608</c:v>
                </c:pt>
                <c:pt idx="70">
                  <c:v>8388608</c:v>
                </c:pt>
                <c:pt idx="71">
                  <c:v>8388608</c:v>
                </c:pt>
                <c:pt idx="72">
                  <c:v>8388608</c:v>
                </c:pt>
                <c:pt idx="73">
                  <c:v>8388608</c:v>
                </c:pt>
                <c:pt idx="74">
                  <c:v>8388608</c:v>
                </c:pt>
                <c:pt idx="75">
                  <c:v>8388608</c:v>
                </c:pt>
                <c:pt idx="76">
                  <c:v>8388608</c:v>
                </c:pt>
                <c:pt idx="77">
                  <c:v>8388608</c:v>
                </c:pt>
                <c:pt idx="78">
                  <c:v>8388608</c:v>
                </c:pt>
                <c:pt idx="79">
                  <c:v>8388608</c:v>
                </c:pt>
                <c:pt idx="80">
                  <c:v>8388608</c:v>
                </c:pt>
                <c:pt idx="81">
                  <c:v>8388608</c:v>
                </c:pt>
                <c:pt idx="82">
                  <c:v>8388608</c:v>
                </c:pt>
                <c:pt idx="83">
                  <c:v>8388608</c:v>
                </c:pt>
                <c:pt idx="84">
                  <c:v>8388608</c:v>
                </c:pt>
                <c:pt idx="85">
                  <c:v>8388608</c:v>
                </c:pt>
                <c:pt idx="86">
                  <c:v>8388608</c:v>
                </c:pt>
                <c:pt idx="87">
                  <c:v>8388608</c:v>
                </c:pt>
                <c:pt idx="88">
                  <c:v>8388608</c:v>
                </c:pt>
                <c:pt idx="89">
                  <c:v>8388608</c:v>
                </c:pt>
                <c:pt idx="90">
                  <c:v>8388608</c:v>
                </c:pt>
                <c:pt idx="91">
                  <c:v>8388608</c:v>
                </c:pt>
                <c:pt idx="92">
                  <c:v>8388608</c:v>
                </c:pt>
                <c:pt idx="93">
                  <c:v>8388608</c:v>
                </c:pt>
                <c:pt idx="94">
                  <c:v>8388608</c:v>
                </c:pt>
                <c:pt idx="95">
                  <c:v>8388608</c:v>
                </c:pt>
                <c:pt idx="96">
                  <c:v>8388608</c:v>
                </c:pt>
                <c:pt idx="97">
                  <c:v>8388608</c:v>
                </c:pt>
                <c:pt idx="98">
                  <c:v>8388608</c:v>
                </c:pt>
                <c:pt idx="99">
                  <c:v>8388608</c:v>
                </c:pt>
              </c:numCache>
            </c:numRef>
          </c:xVal>
          <c:yVal>
            <c:numRef>
              <c:f>16</c:f>
              <c:numCache>
                <c:formatCode>General</c:formatCode>
                <c:ptCount val="1001"/>
                <c:pt idx="0">
                  <c:v>8.86457726</c:v>
                </c:pt>
                <c:pt idx="1">
                  <c:v>23.727857748</c:v>
                </c:pt>
                <c:pt idx="2">
                  <c:v>24.54399792</c:v>
                </c:pt>
                <c:pt idx="3">
                  <c:v>24.619866641</c:v>
                </c:pt>
                <c:pt idx="4">
                  <c:v>24.245076371</c:v>
                </c:pt>
                <c:pt idx="5">
                  <c:v>24.589649184</c:v>
                </c:pt>
                <c:pt idx="6">
                  <c:v>25.140182404</c:v>
                </c:pt>
                <c:pt idx="7">
                  <c:v>25.431329022</c:v>
                </c:pt>
                <c:pt idx="8">
                  <c:v>24.536641066</c:v>
                </c:pt>
                <c:pt idx="9">
                  <c:v>23.521473913</c:v>
                </c:pt>
                <c:pt idx="10">
                  <c:v>23.49188458</c:v>
                </c:pt>
                <c:pt idx="11">
                  <c:v>23.449661147</c:v>
                </c:pt>
                <c:pt idx="12">
                  <c:v>23.379748205</c:v>
                </c:pt>
                <c:pt idx="13">
                  <c:v>22.431144395</c:v>
                </c:pt>
                <c:pt idx="14">
                  <c:v>24.471403324</c:v>
                </c:pt>
                <c:pt idx="15">
                  <c:v>25.933541359</c:v>
                </c:pt>
                <c:pt idx="16">
                  <c:v>26.043481902</c:v>
                </c:pt>
                <c:pt idx="17">
                  <c:v>25.21779458</c:v>
                </c:pt>
                <c:pt idx="18">
                  <c:v>24.63526156</c:v>
                </c:pt>
                <c:pt idx="19">
                  <c:v>24.788647643</c:v>
                </c:pt>
                <c:pt idx="20">
                  <c:v>24.340717184</c:v>
                </c:pt>
                <c:pt idx="21">
                  <c:v>24.236144767</c:v>
                </c:pt>
                <c:pt idx="22">
                  <c:v>24.609431795</c:v>
                </c:pt>
                <c:pt idx="23">
                  <c:v>23.748830026</c:v>
                </c:pt>
                <c:pt idx="24">
                  <c:v>23.816021483</c:v>
                </c:pt>
                <c:pt idx="25">
                  <c:v>23.971739093</c:v>
                </c:pt>
                <c:pt idx="26">
                  <c:v>24.012608526</c:v>
                </c:pt>
                <c:pt idx="27">
                  <c:v>24.261948913</c:v>
                </c:pt>
                <c:pt idx="28">
                  <c:v>25.648502745</c:v>
                </c:pt>
                <c:pt idx="29">
                  <c:v>24.725092313</c:v>
                </c:pt>
                <c:pt idx="30">
                  <c:v>23.919826921</c:v>
                </c:pt>
                <c:pt idx="31">
                  <c:v>25.458715304</c:v>
                </c:pt>
                <c:pt idx="32">
                  <c:v>25.159281345</c:v>
                </c:pt>
                <c:pt idx="33">
                  <c:v>25.216081522</c:v>
                </c:pt>
                <c:pt idx="34">
                  <c:v>25.468959887</c:v>
                </c:pt>
                <c:pt idx="35">
                  <c:v>25.523449782</c:v>
                </c:pt>
                <c:pt idx="36">
                  <c:v>25.177993859</c:v>
                </c:pt>
                <c:pt idx="37">
                  <c:v>24.598747908</c:v>
                </c:pt>
                <c:pt idx="38">
                  <c:v>24.015771298</c:v>
                </c:pt>
                <c:pt idx="39">
                  <c:v>24.075217763</c:v>
                </c:pt>
                <c:pt idx="40">
                  <c:v>24.621215433</c:v>
                </c:pt>
                <c:pt idx="41">
                  <c:v>23.966129176</c:v>
                </c:pt>
                <c:pt idx="42">
                  <c:v>24.188840755</c:v>
                </c:pt>
                <c:pt idx="43">
                  <c:v>22.594210877</c:v>
                </c:pt>
                <c:pt idx="44">
                  <c:v>24.74584423</c:v>
                </c:pt>
                <c:pt idx="45">
                  <c:v>25.21287275</c:v>
                </c:pt>
                <c:pt idx="46">
                  <c:v>24.603581054</c:v>
                </c:pt>
                <c:pt idx="47">
                  <c:v>24.20377961</c:v>
                </c:pt>
                <c:pt idx="48">
                  <c:v>24.62803289</c:v>
                </c:pt>
                <c:pt idx="49">
                  <c:v>24.634438589</c:v>
                </c:pt>
                <c:pt idx="50">
                  <c:v>24.325505768</c:v>
                </c:pt>
                <c:pt idx="51">
                  <c:v>24.032686577</c:v>
                </c:pt>
                <c:pt idx="52">
                  <c:v>24.340522083</c:v>
                </c:pt>
                <c:pt idx="53">
                  <c:v>23.97278174</c:v>
                </c:pt>
                <c:pt idx="54">
                  <c:v>24.081265342</c:v>
                </c:pt>
                <c:pt idx="55">
                  <c:v>25.155423603</c:v>
                </c:pt>
                <c:pt idx="56">
                  <c:v>25.301212237</c:v>
                </c:pt>
                <c:pt idx="57">
                  <c:v>24.519150463</c:v>
                </c:pt>
                <c:pt idx="58">
                  <c:v>24.2553923</c:v>
                </c:pt>
                <c:pt idx="59">
                  <c:v>25.604199646</c:v>
                </c:pt>
                <c:pt idx="60">
                  <c:v>25.227500476</c:v>
                </c:pt>
                <c:pt idx="61">
                  <c:v>25.231751077</c:v>
                </c:pt>
                <c:pt idx="62">
                  <c:v>24.246741773</c:v>
                </c:pt>
                <c:pt idx="63">
                  <c:v>23.919481406</c:v>
                </c:pt>
                <c:pt idx="64">
                  <c:v>24.026752821</c:v>
                </c:pt>
                <c:pt idx="65">
                  <c:v>24.018197577</c:v>
                </c:pt>
                <c:pt idx="66">
                  <c:v>24.139857625</c:v>
                </c:pt>
                <c:pt idx="67">
                  <c:v>23.969522141</c:v>
                </c:pt>
                <c:pt idx="68">
                  <c:v>24.084782458</c:v>
                </c:pt>
                <c:pt idx="69">
                  <c:v>24.589679224</c:v>
                </c:pt>
                <c:pt idx="70">
                  <c:v>24.624738178</c:v>
                </c:pt>
                <c:pt idx="71">
                  <c:v>25.447530334</c:v>
                </c:pt>
                <c:pt idx="72">
                  <c:v>25.955995149</c:v>
                </c:pt>
                <c:pt idx="73">
                  <c:v>25.085630929</c:v>
                </c:pt>
                <c:pt idx="74">
                  <c:v>23.906549163</c:v>
                </c:pt>
                <c:pt idx="75">
                  <c:v>25.466834221</c:v>
                </c:pt>
                <c:pt idx="76">
                  <c:v>25.826875664</c:v>
                </c:pt>
                <c:pt idx="77">
                  <c:v>25.900001554</c:v>
                </c:pt>
                <c:pt idx="78">
                  <c:v>25.350037728</c:v>
                </c:pt>
                <c:pt idx="79">
                  <c:v>24.863904344</c:v>
                </c:pt>
                <c:pt idx="80">
                  <c:v>25.308342622</c:v>
                </c:pt>
                <c:pt idx="81">
                  <c:v>24.590574181</c:v>
                </c:pt>
                <c:pt idx="82">
                  <c:v>24.012582245</c:v>
                </c:pt>
                <c:pt idx="83">
                  <c:v>23.988126085</c:v>
                </c:pt>
                <c:pt idx="84">
                  <c:v>24.314021428</c:v>
                </c:pt>
                <c:pt idx="85">
                  <c:v>23.752766631</c:v>
                </c:pt>
                <c:pt idx="86">
                  <c:v>24.184150434</c:v>
                </c:pt>
                <c:pt idx="87">
                  <c:v>22.603391914</c:v>
                </c:pt>
                <c:pt idx="88">
                  <c:v>24.137134754</c:v>
                </c:pt>
                <c:pt idx="89">
                  <c:v>24.557006215</c:v>
                </c:pt>
                <c:pt idx="90">
                  <c:v>24.145391886</c:v>
                </c:pt>
                <c:pt idx="91">
                  <c:v>24.039973084</c:v>
                </c:pt>
                <c:pt idx="92">
                  <c:v>24.015171117</c:v>
                </c:pt>
                <c:pt idx="93">
                  <c:v>24.12600395</c:v>
                </c:pt>
                <c:pt idx="94">
                  <c:v>24.106038815</c:v>
                </c:pt>
                <c:pt idx="95">
                  <c:v>23.803270175</c:v>
                </c:pt>
                <c:pt idx="96">
                  <c:v>24.188468143</c:v>
                </c:pt>
                <c:pt idx="97">
                  <c:v>23.965902819</c:v>
                </c:pt>
                <c:pt idx="98">
                  <c:v>24.761844468</c:v>
                </c:pt>
                <c:pt idx="99">
                  <c:v>25.991318124</c:v>
                </c:pt>
              </c:numCache>
            </c:numRef>
          </c:yVal>
          <c:smooth val="0"/>
        </c:ser>
        <c:ser>
          <c:idx val="9"/>
          <c:order val="9"/>
          <c:tx>
            <c:strRef>
              <c:f>label 18</c:f>
              <c:strCache>
                <c:ptCount val="1"/>
                <c:pt idx="0">
                  <c:v>64 M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9</c:f>
              <c:numCache>
                <c:formatCode>General</c:formatCode>
                <c:ptCount val="1001"/>
                <c:pt idx="0">
                  <c:v>67108864</c:v>
                </c:pt>
                <c:pt idx="1">
                  <c:v>67108864</c:v>
                </c:pt>
                <c:pt idx="2">
                  <c:v>67108864</c:v>
                </c:pt>
                <c:pt idx="3">
                  <c:v>67108864</c:v>
                </c:pt>
                <c:pt idx="4">
                  <c:v>67108864</c:v>
                </c:pt>
                <c:pt idx="5">
                  <c:v>67108864</c:v>
                </c:pt>
                <c:pt idx="6">
                  <c:v>67108864</c:v>
                </c:pt>
                <c:pt idx="7">
                  <c:v>67108864</c:v>
                </c:pt>
                <c:pt idx="8">
                  <c:v>67108864</c:v>
                </c:pt>
                <c:pt idx="9">
                  <c:v>67108864</c:v>
                </c:pt>
                <c:pt idx="10">
                  <c:v>67108864</c:v>
                </c:pt>
                <c:pt idx="11">
                  <c:v>67108864</c:v>
                </c:pt>
                <c:pt idx="12">
                  <c:v>67108864</c:v>
                </c:pt>
                <c:pt idx="13">
                  <c:v>67108864</c:v>
                </c:pt>
                <c:pt idx="14">
                  <c:v>67108864</c:v>
                </c:pt>
                <c:pt idx="15">
                  <c:v>67108864</c:v>
                </c:pt>
                <c:pt idx="16">
                  <c:v>67108864</c:v>
                </c:pt>
                <c:pt idx="17">
                  <c:v>67108864</c:v>
                </c:pt>
                <c:pt idx="18">
                  <c:v>67108864</c:v>
                </c:pt>
                <c:pt idx="19">
                  <c:v>67108864</c:v>
                </c:pt>
                <c:pt idx="20">
                  <c:v>67108864</c:v>
                </c:pt>
                <c:pt idx="21">
                  <c:v>67108864</c:v>
                </c:pt>
                <c:pt idx="22">
                  <c:v>67108864</c:v>
                </c:pt>
                <c:pt idx="23">
                  <c:v>67108864</c:v>
                </c:pt>
                <c:pt idx="24">
                  <c:v>67108864</c:v>
                </c:pt>
                <c:pt idx="25">
                  <c:v>67108864</c:v>
                </c:pt>
                <c:pt idx="26">
                  <c:v>67108864</c:v>
                </c:pt>
                <c:pt idx="27">
                  <c:v>67108864</c:v>
                </c:pt>
                <c:pt idx="28">
                  <c:v>67108864</c:v>
                </c:pt>
                <c:pt idx="29">
                  <c:v>67108864</c:v>
                </c:pt>
                <c:pt idx="30">
                  <c:v>67108864</c:v>
                </c:pt>
                <c:pt idx="31">
                  <c:v>67108864</c:v>
                </c:pt>
                <c:pt idx="32">
                  <c:v>67108864</c:v>
                </c:pt>
                <c:pt idx="33">
                  <c:v>67108864</c:v>
                </c:pt>
                <c:pt idx="34">
                  <c:v>67108864</c:v>
                </c:pt>
                <c:pt idx="35">
                  <c:v>67108864</c:v>
                </c:pt>
                <c:pt idx="36">
                  <c:v>67108864</c:v>
                </c:pt>
                <c:pt idx="37">
                  <c:v>67108864</c:v>
                </c:pt>
                <c:pt idx="38">
                  <c:v>67108864</c:v>
                </c:pt>
                <c:pt idx="39">
                  <c:v>67108864</c:v>
                </c:pt>
                <c:pt idx="40">
                  <c:v>67108864</c:v>
                </c:pt>
                <c:pt idx="41">
                  <c:v>67108864</c:v>
                </c:pt>
                <c:pt idx="42">
                  <c:v>67108864</c:v>
                </c:pt>
                <c:pt idx="43">
                  <c:v>67108864</c:v>
                </c:pt>
                <c:pt idx="44">
                  <c:v>67108864</c:v>
                </c:pt>
                <c:pt idx="45">
                  <c:v>67108864</c:v>
                </c:pt>
                <c:pt idx="46">
                  <c:v>67108864</c:v>
                </c:pt>
                <c:pt idx="47">
                  <c:v>67108864</c:v>
                </c:pt>
                <c:pt idx="48">
                  <c:v>67108864</c:v>
                </c:pt>
                <c:pt idx="49">
                  <c:v>67108864</c:v>
                </c:pt>
                <c:pt idx="50">
                  <c:v>67108864</c:v>
                </c:pt>
                <c:pt idx="51">
                  <c:v>67108864</c:v>
                </c:pt>
                <c:pt idx="52">
                  <c:v>67108864</c:v>
                </c:pt>
                <c:pt idx="53">
                  <c:v>67108864</c:v>
                </c:pt>
                <c:pt idx="54">
                  <c:v>67108864</c:v>
                </c:pt>
                <c:pt idx="55">
                  <c:v>67108864</c:v>
                </c:pt>
                <c:pt idx="56">
                  <c:v>67108864</c:v>
                </c:pt>
                <c:pt idx="57">
                  <c:v>67108864</c:v>
                </c:pt>
                <c:pt idx="58">
                  <c:v>67108864</c:v>
                </c:pt>
                <c:pt idx="59">
                  <c:v>67108864</c:v>
                </c:pt>
                <c:pt idx="60">
                  <c:v>67108864</c:v>
                </c:pt>
                <c:pt idx="61">
                  <c:v>67108864</c:v>
                </c:pt>
                <c:pt idx="62">
                  <c:v>67108864</c:v>
                </c:pt>
                <c:pt idx="63">
                  <c:v>67108864</c:v>
                </c:pt>
                <c:pt idx="64">
                  <c:v>67108864</c:v>
                </c:pt>
                <c:pt idx="65">
                  <c:v>67108864</c:v>
                </c:pt>
                <c:pt idx="66">
                  <c:v>67108864</c:v>
                </c:pt>
                <c:pt idx="67">
                  <c:v>67108864</c:v>
                </c:pt>
                <c:pt idx="68">
                  <c:v>67108864</c:v>
                </c:pt>
                <c:pt idx="69">
                  <c:v>67108864</c:v>
                </c:pt>
                <c:pt idx="70">
                  <c:v>67108864</c:v>
                </c:pt>
                <c:pt idx="71">
                  <c:v>67108864</c:v>
                </c:pt>
                <c:pt idx="72">
                  <c:v>67108864</c:v>
                </c:pt>
                <c:pt idx="73">
                  <c:v>67108864</c:v>
                </c:pt>
                <c:pt idx="74">
                  <c:v>67108864</c:v>
                </c:pt>
                <c:pt idx="75">
                  <c:v>67108864</c:v>
                </c:pt>
                <c:pt idx="76">
                  <c:v>67108864</c:v>
                </c:pt>
                <c:pt idx="77">
                  <c:v>67108864</c:v>
                </c:pt>
                <c:pt idx="78">
                  <c:v>67108864</c:v>
                </c:pt>
                <c:pt idx="79">
                  <c:v>67108864</c:v>
                </c:pt>
                <c:pt idx="80">
                  <c:v>67108864</c:v>
                </c:pt>
                <c:pt idx="81">
                  <c:v>67108864</c:v>
                </c:pt>
                <c:pt idx="82">
                  <c:v>67108864</c:v>
                </c:pt>
                <c:pt idx="83">
                  <c:v>67108864</c:v>
                </c:pt>
                <c:pt idx="84">
                  <c:v>67108864</c:v>
                </c:pt>
                <c:pt idx="85">
                  <c:v>67108864</c:v>
                </c:pt>
                <c:pt idx="86">
                  <c:v>67108864</c:v>
                </c:pt>
                <c:pt idx="87">
                  <c:v>67108864</c:v>
                </c:pt>
                <c:pt idx="88">
                  <c:v>67108864</c:v>
                </c:pt>
                <c:pt idx="89">
                  <c:v>67108864</c:v>
                </c:pt>
                <c:pt idx="90">
                  <c:v>67108864</c:v>
                </c:pt>
                <c:pt idx="91">
                  <c:v>67108864</c:v>
                </c:pt>
                <c:pt idx="92">
                  <c:v>67108864</c:v>
                </c:pt>
                <c:pt idx="93">
                  <c:v>67108864</c:v>
                </c:pt>
                <c:pt idx="94">
                  <c:v>67108864</c:v>
                </c:pt>
                <c:pt idx="95">
                  <c:v>67108864</c:v>
                </c:pt>
                <c:pt idx="96">
                  <c:v>67108864</c:v>
                </c:pt>
                <c:pt idx="97">
                  <c:v>67108864</c:v>
                </c:pt>
                <c:pt idx="98">
                  <c:v>67108864</c:v>
                </c:pt>
                <c:pt idx="99">
                  <c:v>67108864</c:v>
                </c:pt>
              </c:numCache>
            </c:numRef>
          </c:xVal>
          <c:yVal>
            <c:numRef>
              <c:f>18</c:f>
              <c:numCache>
                <c:formatCode>General</c:formatCode>
                <c:ptCount val="1001"/>
                <c:pt idx="0">
                  <c:v>20.307242973</c:v>
                </c:pt>
                <c:pt idx="1">
                  <c:v>24.647148397</c:v>
                </c:pt>
                <c:pt idx="2">
                  <c:v>24.507182289</c:v>
                </c:pt>
                <c:pt idx="3">
                  <c:v>24.614956059</c:v>
                </c:pt>
                <c:pt idx="4">
                  <c:v>24.896206239</c:v>
                </c:pt>
                <c:pt idx="5">
                  <c:v>23.74839455</c:v>
                </c:pt>
                <c:pt idx="6">
                  <c:v>24.465534238</c:v>
                </c:pt>
                <c:pt idx="7">
                  <c:v>24.719605062</c:v>
                </c:pt>
                <c:pt idx="8">
                  <c:v>24.479548603</c:v>
                </c:pt>
                <c:pt idx="9">
                  <c:v>24.809922321</c:v>
                </c:pt>
                <c:pt idx="10">
                  <c:v>24.960223557</c:v>
                </c:pt>
                <c:pt idx="11">
                  <c:v>23.940296031</c:v>
                </c:pt>
                <c:pt idx="12">
                  <c:v>24.114011512</c:v>
                </c:pt>
                <c:pt idx="13">
                  <c:v>24.767776123</c:v>
                </c:pt>
                <c:pt idx="14">
                  <c:v>24.399410331</c:v>
                </c:pt>
                <c:pt idx="15">
                  <c:v>24.708774242</c:v>
                </c:pt>
                <c:pt idx="16">
                  <c:v>25.174157187</c:v>
                </c:pt>
                <c:pt idx="17">
                  <c:v>24.047911034</c:v>
                </c:pt>
                <c:pt idx="18">
                  <c:v>24.190864401</c:v>
                </c:pt>
                <c:pt idx="19">
                  <c:v>24.686261404</c:v>
                </c:pt>
                <c:pt idx="20">
                  <c:v>24.635892995</c:v>
                </c:pt>
                <c:pt idx="21">
                  <c:v>24.651562653</c:v>
                </c:pt>
                <c:pt idx="22">
                  <c:v>24.680590745</c:v>
                </c:pt>
                <c:pt idx="23">
                  <c:v>24.682850445</c:v>
                </c:pt>
                <c:pt idx="24">
                  <c:v>24.420792428</c:v>
                </c:pt>
                <c:pt idx="25">
                  <c:v>24.358775235</c:v>
                </c:pt>
                <c:pt idx="26">
                  <c:v>24.374220112</c:v>
                </c:pt>
                <c:pt idx="27">
                  <c:v>24.592816549</c:v>
                </c:pt>
                <c:pt idx="28">
                  <c:v>24.973067408</c:v>
                </c:pt>
                <c:pt idx="29">
                  <c:v>23.953284779</c:v>
                </c:pt>
                <c:pt idx="30">
                  <c:v>24.309163761</c:v>
                </c:pt>
                <c:pt idx="31">
                  <c:v>24.789242508</c:v>
                </c:pt>
                <c:pt idx="32">
                  <c:v>24.413335829</c:v>
                </c:pt>
                <c:pt idx="33">
                  <c:v>24.551851929</c:v>
                </c:pt>
                <c:pt idx="34">
                  <c:v>25.141650002</c:v>
                </c:pt>
                <c:pt idx="35">
                  <c:v>23.903973596</c:v>
                </c:pt>
                <c:pt idx="36">
                  <c:v>24.332566627</c:v>
                </c:pt>
                <c:pt idx="37">
                  <c:v>24.568999899</c:v>
                </c:pt>
                <c:pt idx="38">
                  <c:v>24.592413402</c:v>
                </c:pt>
                <c:pt idx="39">
                  <c:v>24.550962562</c:v>
                </c:pt>
                <c:pt idx="40">
                  <c:v>24.947361265</c:v>
                </c:pt>
                <c:pt idx="41">
                  <c:v>23.780044921</c:v>
                </c:pt>
                <c:pt idx="42">
                  <c:v>24.544929961</c:v>
                </c:pt>
                <c:pt idx="43">
                  <c:v>24.612795393</c:v>
                </c:pt>
                <c:pt idx="44">
                  <c:v>24.506622702</c:v>
                </c:pt>
                <c:pt idx="45">
                  <c:v>24.709478974</c:v>
                </c:pt>
                <c:pt idx="46">
                  <c:v>25.092212613</c:v>
                </c:pt>
                <c:pt idx="47">
                  <c:v>23.887296633</c:v>
                </c:pt>
                <c:pt idx="48">
                  <c:v>24.114567822</c:v>
                </c:pt>
                <c:pt idx="49">
                  <c:v>24.687408466</c:v>
                </c:pt>
                <c:pt idx="50">
                  <c:v>24.402207812</c:v>
                </c:pt>
                <c:pt idx="51">
                  <c:v>24.651491982</c:v>
                </c:pt>
                <c:pt idx="52">
                  <c:v>25.205262333</c:v>
                </c:pt>
                <c:pt idx="53">
                  <c:v>24.104296835</c:v>
                </c:pt>
                <c:pt idx="54">
                  <c:v>24.115046978</c:v>
                </c:pt>
                <c:pt idx="55">
                  <c:v>24.687116348</c:v>
                </c:pt>
                <c:pt idx="56">
                  <c:v>24.479338019</c:v>
                </c:pt>
                <c:pt idx="57">
                  <c:v>24.641812267</c:v>
                </c:pt>
                <c:pt idx="58">
                  <c:v>24.850829201</c:v>
                </c:pt>
                <c:pt idx="59">
                  <c:v>24.683189054</c:v>
                </c:pt>
                <c:pt idx="60">
                  <c:v>24.34350761</c:v>
                </c:pt>
                <c:pt idx="61">
                  <c:v>24.530020257</c:v>
                </c:pt>
                <c:pt idx="62">
                  <c:v>24.129960936</c:v>
                </c:pt>
                <c:pt idx="63">
                  <c:v>24.515549377</c:v>
                </c:pt>
                <c:pt idx="64">
                  <c:v>25.055133042</c:v>
                </c:pt>
                <c:pt idx="65">
                  <c:v>24.286309555</c:v>
                </c:pt>
                <c:pt idx="66">
                  <c:v>24.083112854</c:v>
                </c:pt>
                <c:pt idx="67">
                  <c:v>24.62465422</c:v>
                </c:pt>
                <c:pt idx="68">
                  <c:v>24.375732691</c:v>
                </c:pt>
                <c:pt idx="69">
                  <c:v>24.50044518</c:v>
                </c:pt>
                <c:pt idx="70">
                  <c:v>25.153889339</c:v>
                </c:pt>
                <c:pt idx="71">
                  <c:v>23.905955795</c:v>
                </c:pt>
                <c:pt idx="72">
                  <c:v>24.354388053</c:v>
                </c:pt>
                <c:pt idx="73">
                  <c:v>24.623818918</c:v>
                </c:pt>
                <c:pt idx="74">
                  <c:v>24.588416999</c:v>
                </c:pt>
                <c:pt idx="75">
                  <c:v>24.507654058</c:v>
                </c:pt>
                <c:pt idx="76">
                  <c:v>24.916513077</c:v>
                </c:pt>
                <c:pt idx="77">
                  <c:v>23.93975646</c:v>
                </c:pt>
                <c:pt idx="78">
                  <c:v>24.576994044</c:v>
                </c:pt>
                <c:pt idx="79">
                  <c:v>24.659380498</c:v>
                </c:pt>
                <c:pt idx="80">
                  <c:v>24.430304273</c:v>
                </c:pt>
                <c:pt idx="81">
                  <c:v>24.708375878</c:v>
                </c:pt>
                <c:pt idx="82">
                  <c:v>25.064166283</c:v>
                </c:pt>
                <c:pt idx="83">
                  <c:v>23.943103997</c:v>
                </c:pt>
                <c:pt idx="84">
                  <c:v>24.190906064</c:v>
                </c:pt>
                <c:pt idx="85">
                  <c:v>24.686637863</c:v>
                </c:pt>
                <c:pt idx="86">
                  <c:v>24.479732855</c:v>
                </c:pt>
                <c:pt idx="87">
                  <c:v>24.625714426</c:v>
                </c:pt>
                <c:pt idx="88">
                  <c:v>25.082396766</c:v>
                </c:pt>
                <c:pt idx="89">
                  <c:v>24.07759995</c:v>
                </c:pt>
                <c:pt idx="90">
                  <c:v>24.344248533</c:v>
                </c:pt>
                <c:pt idx="91">
                  <c:v>24.607653245</c:v>
                </c:pt>
                <c:pt idx="92">
                  <c:v>24.715791936</c:v>
                </c:pt>
                <c:pt idx="93">
                  <c:v>24.626706543</c:v>
                </c:pt>
                <c:pt idx="94">
                  <c:v>24.786708088</c:v>
                </c:pt>
                <c:pt idx="95">
                  <c:v>24.346966808</c:v>
                </c:pt>
                <c:pt idx="96">
                  <c:v>24.266922064</c:v>
                </c:pt>
                <c:pt idx="97">
                  <c:v>24.531012198</c:v>
                </c:pt>
                <c:pt idx="98">
                  <c:v>24.070794395</c:v>
                </c:pt>
                <c:pt idx="99">
                  <c:v>24.496548701</c:v>
                </c:pt>
              </c:numCache>
            </c:numRef>
          </c:yVal>
          <c:smooth val="0"/>
        </c:ser>
        <c:ser>
          <c:idx val="10"/>
          <c:order val="10"/>
          <c:tx>
            <c:strRef>
              <c:f>label 20</c:f>
              <c:strCache>
                <c:ptCount val="1"/>
                <c:pt idx="0">
                  <c:v>96 M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21</c:f>
              <c:numCache>
                <c:formatCode>General</c:formatCode>
                <c:ptCount val="1001"/>
                <c:pt idx="0">
                  <c:v>100663296</c:v>
                </c:pt>
                <c:pt idx="1">
                  <c:v>100663296</c:v>
                </c:pt>
                <c:pt idx="2">
                  <c:v>100663296</c:v>
                </c:pt>
                <c:pt idx="3">
                  <c:v>100663296</c:v>
                </c:pt>
                <c:pt idx="4">
                  <c:v>100663296</c:v>
                </c:pt>
                <c:pt idx="5">
                  <c:v>100663296</c:v>
                </c:pt>
                <c:pt idx="6">
                  <c:v>100663296</c:v>
                </c:pt>
                <c:pt idx="7">
                  <c:v>100663296</c:v>
                </c:pt>
                <c:pt idx="8">
                  <c:v>100663296</c:v>
                </c:pt>
                <c:pt idx="9">
                  <c:v>100663296</c:v>
                </c:pt>
                <c:pt idx="10">
                  <c:v>100663296</c:v>
                </c:pt>
                <c:pt idx="11">
                  <c:v>100663296</c:v>
                </c:pt>
                <c:pt idx="12">
                  <c:v>100663296</c:v>
                </c:pt>
                <c:pt idx="13">
                  <c:v>100663296</c:v>
                </c:pt>
                <c:pt idx="14">
                  <c:v>100663296</c:v>
                </c:pt>
                <c:pt idx="15">
                  <c:v>100663296</c:v>
                </c:pt>
                <c:pt idx="16">
                  <c:v>100663296</c:v>
                </c:pt>
                <c:pt idx="17">
                  <c:v>100663296</c:v>
                </c:pt>
                <c:pt idx="18">
                  <c:v>100663296</c:v>
                </c:pt>
                <c:pt idx="19">
                  <c:v>100663296</c:v>
                </c:pt>
                <c:pt idx="20">
                  <c:v>100663296</c:v>
                </c:pt>
                <c:pt idx="21">
                  <c:v>100663296</c:v>
                </c:pt>
                <c:pt idx="22">
                  <c:v>100663296</c:v>
                </c:pt>
                <c:pt idx="23">
                  <c:v>100663296</c:v>
                </c:pt>
                <c:pt idx="24">
                  <c:v>100663296</c:v>
                </c:pt>
                <c:pt idx="25">
                  <c:v>100663296</c:v>
                </c:pt>
                <c:pt idx="26">
                  <c:v>100663296</c:v>
                </c:pt>
                <c:pt idx="27">
                  <c:v>100663296</c:v>
                </c:pt>
                <c:pt idx="28">
                  <c:v>100663296</c:v>
                </c:pt>
                <c:pt idx="29">
                  <c:v>100663296</c:v>
                </c:pt>
                <c:pt idx="30">
                  <c:v>100663296</c:v>
                </c:pt>
                <c:pt idx="31">
                  <c:v>100663296</c:v>
                </c:pt>
                <c:pt idx="32">
                  <c:v>100663296</c:v>
                </c:pt>
                <c:pt idx="33">
                  <c:v>100663296</c:v>
                </c:pt>
                <c:pt idx="34">
                  <c:v>100663296</c:v>
                </c:pt>
                <c:pt idx="35">
                  <c:v>100663296</c:v>
                </c:pt>
                <c:pt idx="36">
                  <c:v>100663296</c:v>
                </c:pt>
                <c:pt idx="37">
                  <c:v>100663296</c:v>
                </c:pt>
                <c:pt idx="38">
                  <c:v>100663296</c:v>
                </c:pt>
                <c:pt idx="39">
                  <c:v>100663296</c:v>
                </c:pt>
                <c:pt idx="40">
                  <c:v>100663296</c:v>
                </c:pt>
                <c:pt idx="41">
                  <c:v>100663296</c:v>
                </c:pt>
                <c:pt idx="42">
                  <c:v>100663296</c:v>
                </c:pt>
                <c:pt idx="43">
                  <c:v>100663296</c:v>
                </c:pt>
                <c:pt idx="44">
                  <c:v>100663296</c:v>
                </c:pt>
                <c:pt idx="45">
                  <c:v>100663296</c:v>
                </c:pt>
                <c:pt idx="46">
                  <c:v>100663296</c:v>
                </c:pt>
                <c:pt idx="47">
                  <c:v>100663296</c:v>
                </c:pt>
                <c:pt idx="48">
                  <c:v>100663296</c:v>
                </c:pt>
                <c:pt idx="49">
                  <c:v>100663296</c:v>
                </c:pt>
                <c:pt idx="50">
                  <c:v>100663296</c:v>
                </c:pt>
                <c:pt idx="51">
                  <c:v>100663296</c:v>
                </c:pt>
                <c:pt idx="52">
                  <c:v>100663296</c:v>
                </c:pt>
                <c:pt idx="53">
                  <c:v>100663296</c:v>
                </c:pt>
                <c:pt idx="54">
                  <c:v>100663296</c:v>
                </c:pt>
                <c:pt idx="55">
                  <c:v>100663296</c:v>
                </c:pt>
                <c:pt idx="56">
                  <c:v>100663296</c:v>
                </c:pt>
                <c:pt idx="57">
                  <c:v>100663296</c:v>
                </c:pt>
                <c:pt idx="58">
                  <c:v>100663296</c:v>
                </c:pt>
                <c:pt idx="59">
                  <c:v>100663296</c:v>
                </c:pt>
                <c:pt idx="60">
                  <c:v>100663296</c:v>
                </c:pt>
                <c:pt idx="61">
                  <c:v>100663296</c:v>
                </c:pt>
                <c:pt idx="62">
                  <c:v>100663296</c:v>
                </c:pt>
                <c:pt idx="63">
                  <c:v>100663296</c:v>
                </c:pt>
                <c:pt idx="64">
                  <c:v>100663296</c:v>
                </c:pt>
                <c:pt idx="65">
                  <c:v>100663296</c:v>
                </c:pt>
                <c:pt idx="66">
                  <c:v>100663296</c:v>
                </c:pt>
                <c:pt idx="67">
                  <c:v>100663296</c:v>
                </c:pt>
                <c:pt idx="68">
                  <c:v>100663296</c:v>
                </c:pt>
                <c:pt idx="69">
                  <c:v>100663296</c:v>
                </c:pt>
                <c:pt idx="70">
                  <c:v>100663296</c:v>
                </c:pt>
                <c:pt idx="71">
                  <c:v>100663296</c:v>
                </c:pt>
                <c:pt idx="72">
                  <c:v>100663296</c:v>
                </c:pt>
                <c:pt idx="73">
                  <c:v>100663296</c:v>
                </c:pt>
                <c:pt idx="74">
                  <c:v>100663296</c:v>
                </c:pt>
                <c:pt idx="75">
                  <c:v>100663296</c:v>
                </c:pt>
                <c:pt idx="76">
                  <c:v>100663296</c:v>
                </c:pt>
                <c:pt idx="77">
                  <c:v>100663296</c:v>
                </c:pt>
                <c:pt idx="78">
                  <c:v>100663296</c:v>
                </c:pt>
                <c:pt idx="79">
                  <c:v>100663296</c:v>
                </c:pt>
                <c:pt idx="80">
                  <c:v>100663296</c:v>
                </c:pt>
                <c:pt idx="81">
                  <c:v>100663296</c:v>
                </c:pt>
                <c:pt idx="82">
                  <c:v>100663296</c:v>
                </c:pt>
                <c:pt idx="83">
                  <c:v>100663296</c:v>
                </c:pt>
                <c:pt idx="84">
                  <c:v>100663296</c:v>
                </c:pt>
                <c:pt idx="85">
                  <c:v>100663296</c:v>
                </c:pt>
                <c:pt idx="86">
                  <c:v>100663296</c:v>
                </c:pt>
                <c:pt idx="87">
                  <c:v>100663296</c:v>
                </c:pt>
                <c:pt idx="88">
                  <c:v>100663296</c:v>
                </c:pt>
                <c:pt idx="89">
                  <c:v>100663296</c:v>
                </c:pt>
                <c:pt idx="90">
                  <c:v>100663296</c:v>
                </c:pt>
                <c:pt idx="91">
                  <c:v>100663296</c:v>
                </c:pt>
                <c:pt idx="92">
                  <c:v>100663296</c:v>
                </c:pt>
                <c:pt idx="93">
                  <c:v>100663296</c:v>
                </c:pt>
                <c:pt idx="94">
                  <c:v>100663296</c:v>
                </c:pt>
                <c:pt idx="95">
                  <c:v>100663296</c:v>
                </c:pt>
                <c:pt idx="96">
                  <c:v>100663296</c:v>
                </c:pt>
                <c:pt idx="97">
                  <c:v>100663296</c:v>
                </c:pt>
                <c:pt idx="98">
                  <c:v>100663296</c:v>
                </c:pt>
                <c:pt idx="99">
                  <c:v>100663296</c:v>
                </c:pt>
              </c:numCache>
            </c:numRef>
          </c:xVal>
          <c:yVal>
            <c:numRef>
              <c:f>20</c:f>
              <c:numCache>
                <c:formatCode>General</c:formatCode>
                <c:ptCount val="1001"/>
                <c:pt idx="0">
                  <c:v>20.785377245</c:v>
                </c:pt>
                <c:pt idx="1">
                  <c:v>24.346546723</c:v>
                </c:pt>
                <c:pt idx="2">
                  <c:v>24.84282657</c:v>
                </c:pt>
                <c:pt idx="3">
                  <c:v>24.210207232</c:v>
                </c:pt>
                <c:pt idx="4">
                  <c:v>24.472148848</c:v>
                </c:pt>
                <c:pt idx="5">
                  <c:v>24.586243908</c:v>
                </c:pt>
                <c:pt idx="6">
                  <c:v>24.97455091</c:v>
                </c:pt>
                <c:pt idx="7">
                  <c:v>24.289381473</c:v>
                </c:pt>
                <c:pt idx="8">
                  <c:v>24.30812405</c:v>
                </c:pt>
                <c:pt idx="9">
                  <c:v>24.59597346</c:v>
                </c:pt>
                <c:pt idx="10">
                  <c:v>25.028948742</c:v>
                </c:pt>
                <c:pt idx="11">
                  <c:v>24.288713777</c:v>
                </c:pt>
                <c:pt idx="12">
                  <c:v>24.255981391</c:v>
                </c:pt>
                <c:pt idx="13">
                  <c:v>24.763440362</c:v>
                </c:pt>
                <c:pt idx="14">
                  <c:v>24.677531198</c:v>
                </c:pt>
                <c:pt idx="15">
                  <c:v>24.562841987</c:v>
                </c:pt>
                <c:pt idx="16">
                  <c:v>24.462999753</c:v>
                </c:pt>
                <c:pt idx="17">
                  <c:v>24.358907728</c:v>
                </c:pt>
                <c:pt idx="18">
                  <c:v>24.879213058</c:v>
                </c:pt>
                <c:pt idx="19">
                  <c:v>24.148653143</c:v>
                </c:pt>
                <c:pt idx="20">
                  <c:v>24.33985182</c:v>
                </c:pt>
                <c:pt idx="21">
                  <c:v>24.723443064</c:v>
                </c:pt>
                <c:pt idx="22">
                  <c:v>24.972414475</c:v>
                </c:pt>
                <c:pt idx="23">
                  <c:v>24.098815952</c:v>
                </c:pt>
                <c:pt idx="24">
                  <c:v>24.344188265</c:v>
                </c:pt>
                <c:pt idx="25">
                  <c:v>24.662348908</c:v>
                </c:pt>
                <c:pt idx="26">
                  <c:v>24.843779184</c:v>
                </c:pt>
                <c:pt idx="27">
                  <c:v>24.208948077</c:v>
                </c:pt>
                <c:pt idx="28">
                  <c:v>24.334468589</c:v>
                </c:pt>
                <c:pt idx="29">
                  <c:v>24.568340073</c:v>
                </c:pt>
                <c:pt idx="30">
                  <c:v>25.084733169</c:v>
                </c:pt>
                <c:pt idx="31">
                  <c:v>24.130217393</c:v>
                </c:pt>
                <c:pt idx="32">
                  <c:v>24.205409697</c:v>
                </c:pt>
                <c:pt idx="33">
                  <c:v>24.596560622</c:v>
                </c:pt>
                <c:pt idx="34">
                  <c:v>24.867022633</c:v>
                </c:pt>
                <c:pt idx="35">
                  <c:v>24.36895877</c:v>
                </c:pt>
                <c:pt idx="36">
                  <c:v>24.308379813</c:v>
                </c:pt>
                <c:pt idx="37">
                  <c:v>24.700966498</c:v>
                </c:pt>
                <c:pt idx="38">
                  <c:v>24.74963909</c:v>
                </c:pt>
                <c:pt idx="39">
                  <c:v>24.709905137</c:v>
                </c:pt>
                <c:pt idx="40">
                  <c:v>24.46229107</c:v>
                </c:pt>
                <c:pt idx="41">
                  <c:v>24.308465183</c:v>
                </c:pt>
                <c:pt idx="42">
                  <c:v>24.942644615</c:v>
                </c:pt>
                <c:pt idx="43">
                  <c:v>24.542378641</c:v>
                </c:pt>
                <c:pt idx="44">
                  <c:v>24.08029328</c:v>
                </c:pt>
                <c:pt idx="45">
                  <c:v>24.644992865</c:v>
                </c:pt>
                <c:pt idx="46">
                  <c:v>24.771820958</c:v>
                </c:pt>
                <c:pt idx="47">
                  <c:v>24.367258727</c:v>
                </c:pt>
                <c:pt idx="48">
                  <c:v>24.387711982</c:v>
                </c:pt>
                <c:pt idx="49">
                  <c:v>24.715012526</c:v>
                </c:pt>
                <c:pt idx="50">
                  <c:v>24.789577043</c:v>
                </c:pt>
                <c:pt idx="51">
                  <c:v>24.289720514</c:v>
                </c:pt>
                <c:pt idx="52">
                  <c:v>24.386043818</c:v>
                </c:pt>
                <c:pt idx="53">
                  <c:v>24.535704448</c:v>
                </c:pt>
                <c:pt idx="54">
                  <c:v>24.955867385</c:v>
                </c:pt>
                <c:pt idx="55">
                  <c:v>24.209192136</c:v>
                </c:pt>
                <c:pt idx="56">
                  <c:v>24.359887258</c:v>
                </c:pt>
                <c:pt idx="57">
                  <c:v>24.647159474</c:v>
                </c:pt>
                <c:pt idx="58">
                  <c:v>24.921939451</c:v>
                </c:pt>
                <c:pt idx="59">
                  <c:v>24.449647203</c:v>
                </c:pt>
                <c:pt idx="60">
                  <c:v>24.205837635</c:v>
                </c:pt>
                <c:pt idx="61">
                  <c:v>24.70147088</c:v>
                </c:pt>
                <c:pt idx="62">
                  <c:v>24.801682158</c:v>
                </c:pt>
                <c:pt idx="63">
                  <c:v>24.630506627</c:v>
                </c:pt>
                <c:pt idx="64">
                  <c:v>24.359539868</c:v>
                </c:pt>
                <c:pt idx="65">
                  <c:v>24.363184157</c:v>
                </c:pt>
                <c:pt idx="66">
                  <c:v>24.875825985</c:v>
                </c:pt>
                <c:pt idx="67">
                  <c:v>24.475359999</c:v>
                </c:pt>
                <c:pt idx="68">
                  <c:v>24.122117653</c:v>
                </c:pt>
                <c:pt idx="69">
                  <c:v>24.706946559</c:v>
                </c:pt>
                <c:pt idx="70">
                  <c:v>24.782851789</c:v>
                </c:pt>
                <c:pt idx="71">
                  <c:v>24.272303349</c:v>
                </c:pt>
                <c:pt idx="72">
                  <c:v>24.352383772</c:v>
                </c:pt>
                <c:pt idx="73">
                  <c:v>24.697958707</c:v>
                </c:pt>
                <c:pt idx="74">
                  <c:v>24.684200926</c:v>
                </c:pt>
                <c:pt idx="75">
                  <c:v>24.130368616</c:v>
                </c:pt>
                <c:pt idx="76">
                  <c:v>24.541890237</c:v>
                </c:pt>
                <c:pt idx="77">
                  <c:v>24.726574778</c:v>
                </c:pt>
                <c:pt idx="78">
                  <c:v>24.932541137</c:v>
                </c:pt>
                <c:pt idx="79">
                  <c:v>24.194126893</c:v>
                </c:pt>
                <c:pt idx="80">
                  <c:v>24.206115615</c:v>
                </c:pt>
                <c:pt idx="81">
                  <c:v>24.648485906</c:v>
                </c:pt>
                <c:pt idx="82">
                  <c:v>24.760636031</c:v>
                </c:pt>
                <c:pt idx="83">
                  <c:v>24.289714471</c:v>
                </c:pt>
                <c:pt idx="84">
                  <c:v>24.307731276</c:v>
                </c:pt>
                <c:pt idx="85">
                  <c:v>24.754099569</c:v>
                </c:pt>
                <c:pt idx="86">
                  <c:v>24.92243482</c:v>
                </c:pt>
                <c:pt idx="87">
                  <c:v>24.368767125</c:v>
                </c:pt>
                <c:pt idx="88">
                  <c:v>24.411173484</c:v>
                </c:pt>
                <c:pt idx="89">
                  <c:v>24.473225279</c:v>
                </c:pt>
                <c:pt idx="90">
                  <c:v>24.717691916</c:v>
                </c:pt>
                <c:pt idx="91">
                  <c:v>24.624885996</c:v>
                </c:pt>
                <c:pt idx="92">
                  <c:v>24.325897225</c:v>
                </c:pt>
                <c:pt idx="93">
                  <c:v>24.760076299</c:v>
                </c:pt>
                <c:pt idx="94">
                  <c:v>24.719175942</c:v>
                </c:pt>
                <c:pt idx="95">
                  <c:v>24.289398311</c:v>
                </c:pt>
                <c:pt idx="96">
                  <c:v>24.403376779</c:v>
                </c:pt>
                <c:pt idx="97">
                  <c:v>24.780134066</c:v>
                </c:pt>
                <c:pt idx="98">
                  <c:v>24.690735749</c:v>
                </c:pt>
                <c:pt idx="99">
                  <c:v>24.314975615</c:v>
                </c:pt>
              </c:numCache>
            </c:numRef>
          </c:yVal>
          <c:smooth val="0"/>
        </c:ser>
        <c:ser>
          <c:idx val="11"/>
          <c:order val="11"/>
          <c:tx>
            <c:strRef>
              <c:f>label 22</c:f>
              <c:strCache>
                <c:ptCount val="1"/>
                <c:pt idx="0">
                  <c:v>Cold</c:v>
                </c:pt>
              </c:strCache>
            </c:strRef>
          </c:tx>
          <c:spPr>
            <a:solidFill>
              <a:srgbClr val="a78e92"/>
            </a:solidFill>
            <a:ln w="28440">
              <a:solidFill>
                <a:srgbClr val="a78e92"/>
              </a:solidFill>
              <a:round/>
            </a:ln>
          </c:spPr>
          <c:marker>
            <c:symbol val="square"/>
            <c:size val="5"/>
            <c:spPr>
              <a:solidFill>
                <a:srgbClr val="a78e92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23</c:f>
              <c:numCache>
                <c:formatCode>General</c:formatCode>
                <c:ptCount val="1001"/>
                <c:pt idx="0">
                  <c:v>4096</c:v>
                </c:pt>
                <c:pt idx="1">
                  <c:v>8192</c:v>
                </c:pt>
                <c:pt idx="2">
                  <c:v>16384</c:v>
                </c:pt>
                <c:pt idx="3">
                  <c:v>65536</c:v>
                </c:pt>
                <c:pt idx="4">
                  <c:v>262144</c:v>
                </c:pt>
                <c:pt idx="5">
                  <c:v>1048576</c:v>
                </c:pt>
                <c:pt idx="6">
                  <c:v>8388608</c:v>
                </c:pt>
                <c:pt idx="7">
                  <c:v>67108864</c:v>
                </c:pt>
                <c:pt idx="8">
                  <c:v>100663296</c:v>
                </c:pt>
              </c:numCache>
            </c:numRef>
          </c:xVal>
          <c:yVal>
            <c:numRef>
              <c:f>22</c:f>
              <c:numCache>
                <c:formatCode>General</c:formatCode>
                <c:ptCount val="1001"/>
                <c:pt idx="0">
                  <c:v>0.00549737200000001</c:v>
                </c:pt>
                <c:pt idx="1">
                  <c:v>0.152796417</c:v>
                </c:pt>
                <c:pt idx="2">
                  <c:v>0.259715559</c:v>
                </c:pt>
                <c:pt idx="3">
                  <c:v>0.0931502210000001</c:v>
                </c:pt>
                <c:pt idx="4">
                  <c:v>0.417241981</c:v>
                </c:pt>
                <c:pt idx="5">
                  <c:v>1.668061313</c:v>
                </c:pt>
                <c:pt idx="6">
                  <c:v>8.86457726</c:v>
                </c:pt>
                <c:pt idx="7">
                  <c:v>20.307242973</c:v>
                </c:pt>
                <c:pt idx="8">
                  <c:v>20.785377245</c:v>
                </c:pt>
              </c:numCache>
            </c:numRef>
          </c:yVal>
          <c:smooth val="0"/>
        </c:ser>
        <c:axId val="68194945"/>
        <c:axId val="77743"/>
      </c:scatterChart>
      <c:valAx>
        <c:axId val="68194945"/>
        <c:scaling>
          <c:logBase val="10"/>
          <c:orientation val="minMax"/>
          <c:min val="2048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en-US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Buffer Size (Bytes)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#,##0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77743"/>
        <c:crosses val="autoZero"/>
        <c:crossBetween val="midCat"/>
      </c:valAx>
      <c:valAx>
        <c:axId val="77743"/>
        <c:scaling>
          <c:orientation val="minMax"/>
          <c:max val="35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title>
          <c:tx>
            <c:rich>
              <a:bodyPr rot="-5400000"/>
              <a:lstStyle/>
              <a:p>
                <a:pPr>
                  <a:defRPr b="1" lang="en-US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Read Speed (MB/S)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68194945"/>
        <c:crosses val="autoZero"/>
        <c:crossBetween val="midCat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n-US" sz="18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Request Service Time for reads of 350 MB file with 16 KB buffers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ineChart>
        <c:grouping val="stacked"/>
        <c:varyColors val="0"/>
        <c:ser>
          <c:idx val="0"/>
          <c:order val="0"/>
          <c:spPr>
            <a:solidFill>
              <a:srgbClr val="2da2bf"/>
            </a:solidFill>
            <a:ln w="28440">
              <a:solidFill>
                <a:srgbClr val="2da2bf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995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  <c:pt idx="12">
                  <c:v>13</c:v>
                </c:pt>
                <c:pt idx="13">
                  <c:v>14</c:v>
                </c:pt>
                <c:pt idx="14">
                  <c:v>15</c:v>
                </c:pt>
                <c:pt idx="15">
                  <c:v>16</c:v>
                </c:pt>
                <c:pt idx="16">
                  <c:v>17</c:v>
                </c:pt>
                <c:pt idx="17">
                  <c:v>18</c:v>
                </c:pt>
                <c:pt idx="18">
                  <c:v>19</c:v>
                </c:pt>
                <c:pt idx="19">
                  <c:v>20</c:v>
                </c:pt>
                <c:pt idx="20">
                  <c:v>21</c:v>
                </c:pt>
                <c:pt idx="21">
                  <c:v>22</c:v>
                </c:pt>
                <c:pt idx="22">
                  <c:v>23</c:v>
                </c:pt>
                <c:pt idx="23">
                  <c:v>24</c:v>
                </c:pt>
                <c:pt idx="24">
                  <c:v>25</c:v>
                </c:pt>
                <c:pt idx="25">
                  <c:v>26</c:v>
                </c:pt>
                <c:pt idx="26">
                  <c:v>27</c:v>
                </c:pt>
                <c:pt idx="27">
                  <c:v>28</c:v>
                </c:pt>
                <c:pt idx="28">
                  <c:v>29</c:v>
                </c:pt>
                <c:pt idx="29">
                  <c:v>30</c:v>
                </c:pt>
                <c:pt idx="30">
                  <c:v>31</c:v>
                </c:pt>
                <c:pt idx="31">
                  <c:v>32</c:v>
                </c:pt>
                <c:pt idx="32">
                  <c:v>33</c:v>
                </c:pt>
                <c:pt idx="33">
                  <c:v>34</c:v>
                </c:pt>
                <c:pt idx="34">
                  <c:v>35</c:v>
                </c:pt>
                <c:pt idx="35">
                  <c:v>36</c:v>
                </c:pt>
                <c:pt idx="36">
                  <c:v>37</c:v>
                </c:pt>
                <c:pt idx="37">
                  <c:v>38</c:v>
                </c:pt>
                <c:pt idx="38">
                  <c:v>39</c:v>
                </c:pt>
                <c:pt idx="39">
                  <c:v>40</c:v>
                </c:pt>
                <c:pt idx="40">
                  <c:v>41</c:v>
                </c:pt>
                <c:pt idx="41">
                  <c:v>42</c:v>
                </c:pt>
                <c:pt idx="42">
                  <c:v>43</c:v>
                </c:pt>
                <c:pt idx="43">
                  <c:v>44</c:v>
                </c:pt>
                <c:pt idx="44">
                  <c:v>45</c:v>
                </c:pt>
                <c:pt idx="45">
                  <c:v>46</c:v>
                </c:pt>
                <c:pt idx="46">
                  <c:v>47</c:v>
                </c:pt>
                <c:pt idx="47">
                  <c:v>48</c:v>
                </c:pt>
                <c:pt idx="48">
                  <c:v>49</c:v>
                </c:pt>
                <c:pt idx="49">
                  <c:v>50</c:v>
                </c:pt>
                <c:pt idx="50">
                  <c:v>51</c:v>
                </c:pt>
                <c:pt idx="51">
                  <c:v>52</c:v>
                </c:pt>
                <c:pt idx="52">
                  <c:v>53</c:v>
                </c:pt>
                <c:pt idx="53">
                  <c:v>54</c:v>
                </c:pt>
                <c:pt idx="54">
                  <c:v>55</c:v>
                </c:pt>
                <c:pt idx="55">
                  <c:v>56</c:v>
                </c:pt>
                <c:pt idx="56">
                  <c:v>57</c:v>
                </c:pt>
                <c:pt idx="57">
                  <c:v>58</c:v>
                </c:pt>
                <c:pt idx="58">
                  <c:v>59</c:v>
                </c:pt>
                <c:pt idx="59">
                  <c:v>60</c:v>
                </c:pt>
                <c:pt idx="60">
                  <c:v>61</c:v>
                </c:pt>
                <c:pt idx="61">
                  <c:v>62</c:v>
                </c:pt>
                <c:pt idx="62">
                  <c:v>63</c:v>
                </c:pt>
                <c:pt idx="63">
                  <c:v>64</c:v>
                </c:pt>
                <c:pt idx="64">
                  <c:v>65</c:v>
                </c:pt>
                <c:pt idx="65">
                  <c:v>66</c:v>
                </c:pt>
                <c:pt idx="66">
                  <c:v>67</c:v>
                </c:pt>
                <c:pt idx="67">
                  <c:v>68</c:v>
                </c:pt>
                <c:pt idx="68">
                  <c:v>69</c:v>
                </c:pt>
                <c:pt idx="69">
                  <c:v>70</c:v>
                </c:pt>
                <c:pt idx="70">
                  <c:v>71</c:v>
                </c:pt>
                <c:pt idx="71">
                  <c:v>72</c:v>
                </c:pt>
                <c:pt idx="72">
                  <c:v>73</c:v>
                </c:pt>
                <c:pt idx="73">
                  <c:v>74</c:v>
                </c:pt>
                <c:pt idx="74">
                  <c:v>75</c:v>
                </c:pt>
                <c:pt idx="75">
                  <c:v>76</c:v>
                </c:pt>
                <c:pt idx="76">
                  <c:v>77</c:v>
                </c:pt>
                <c:pt idx="77">
                  <c:v>78</c:v>
                </c:pt>
                <c:pt idx="78">
                  <c:v>79</c:v>
                </c:pt>
                <c:pt idx="79">
                  <c:v>80</c:v>
                </c:pt>
                <c:pt idx="80">
                  <c:v>81</c:v>
                </c:pt>
                <c:pt idx="81">
                  <c:v>82</c:v>
                </c:pt>
                <c:pt idx="82">
                  <c:v>83</c:v>
                </c:pt>
                <c:pt idx="83">
                  <c:v>84</c:v>
                </c:pt>
                <c:pt idx="84">
                  <c:v>85</c:v>
                </c:pt>
                <c:pt idx="85">
                  <c:v>86</c:v>
                </c:pt>
                <c:pt idx="86">
                  <c:v>87</c:v>
                </c:pt>
                <c:pt idx="87">
                  <c:v>88</c:v>
                </c:pt>
                <c:pt idx="88">
                  <c:v>89</c:v>
                </c:pt>
                <c:pt idx="89">
                  <c:v>90</c:v>
                </c:pt>
                <c:pt idx="90">
                  <c:v>91</c:v>
                </c:pt>
                <c:pt idx="91">
                  <c:v>92</c:v>
                </c:pt>
                <c:pt idx="92">
                  <c:v>93</c:v>
                </c:pt>
                <c:pt idx="93">
                  <c:v>94</c:v>
                </c:pt>
                <c:pt idx="94">
                  <c:v>95</c:v>
                </c:pt>
                <c:pt idx="95">
                  <c:v>96</c:v>
                </c:pt>
                <c:pt idx="96">
                  <c:v>97</c:v>
                </c:pt>
                <c:pt idx="97">
                  <c:v>98</c:v>
                </c:pt>
                <c:pt idx="98">
                  <c:v>99</c:v>
                </c:pt>
                <c:pt idx="99">
                  <c:v>100</c:v>
                </c:pt>
                <c:pt idx="100">
                  <c:v>101</c:v>
                </c:pt>
                <c:pt idx="101">
                  <c:v>102</c:v>
                </c:pt>
                <c:pt idx="102">
                  <c:v>103</c:v>
                </c:pt>
                <c:pt idx="103">
                  <c:v>104</c:v>
                </c:pt>
                <c:pt idx="104">
                  <c:v>105</c:v>
                </c:pt>
                <c:pt idx="105">
                  <c:v>106</c:v>
                </c:pt>
                <c:pt idx="106">
                  <c:v>107</c:v>
                </c:pt>
                <c:pt idx="107">
                  <c:v>108</c:v>
                </c:pt>
                <c:pt idx="108">
                  <c:v>109</c:v>
                </c:pt>
                <c:pt idx="109">
                  <c:v>110</c:v>
                </c:pt>
                <c:pt idx="110">
                  <c:v>111</c:v>
                </c:pt>
                <c:pt idx="111">
                  <c:v>112</c:v>
                </c:pt>
                <c:pt idx="112">
                  <c:v>113</c:v>
                </c:pt>
                <c:pt idx="113">
                  <c:v>114</c:v>
                </c:pt>
                <c:pt idx="114">
                  <c:v>115</c:v>
                </c:pt>
                <c:pt idx="115">
                  <c:v>116</c:v>
                </c:pt>
                <c:pt idx="116">
                  <c:v>117</c:v>
                </c:pt>
                <c:pt idx="117">
                  <c:v>118</c:v>
                </c:pt>
                <c:pt idx="118">
                  <c:v>119</c:v>
                </c:pt>
                <c:pt idx="119">
                  <c:v>120</c:v>
                </c:pt>
                <c:pt idx="120">
                  <c:v>121</c:v>
                </c:pt>
                <c:pt idx="121">
                  <c:v>122</c:v>
                </c:pt>
                <c:pt idx="122">
                  <c:v>123</c:v>
                </c:pt>
                <c:pt idx="123">
                  <c:v>124</c:v>
                </c:pt>
                <c:pt idx="124">
                  <c:v>125</c:v>
                </c:pt>
                <c:pt idx="125">
                  <c:v>126</c:v>
                </c:pt>
                <c:pt idx="126">
                  <c:v>127</c:v>
                </c:pt>
                <c:pt idx="127">
                  <c:v>128</c:v>
                </c:pt>
                <c:pt idx="128">
                  <c:v>129</c:v>
                </c:pt>
                <c:pt idx="129">
                  <c:v>130</c:v>
                </c:pt>
                <c:pt idx="130">
                  <c:v>131</c:v>
                </c:pt>
                <c:pt idx="131">
                  <c:v>132</c:v>
                </c:pt>
                <c:pt idx="132">
                  <c:v>133</c:v>
                </c:pt>
                <c:pt idx="133">
                  <c:v>134</c:v>
                </c:pt>
                <c:pt idx="134">
                  <c:v>135</c:v>
                </c:pt>
                <c:pt idx="135">
                  <c:v>136</c:v>
                </c:pt>
                <c:pt idx="136">
                  <c:v>137</c:v>
                </c:pt>
                <c:pt idx="137">
                  <c:v>138</c:v>
                </c:pt>
                <c:pt idx="138">
                  <c:v>139</c:v>
                </c:pt>
                <c:pt idx="139">
                  <c:v>140</c:v>
                </c:pt>
                <c:pt idx="140">
                  <c:v>141</c:v>
                </c:pt>
                <c:pt idx="141">
                  <c:v>142</c:v>
                </c:pt>
                <c:pt idx="142">
                  <c:v>143</c:v>
                </c:pt>
                <c:pt idx="143">
                  <c:v>144</c:v>
                </c:pt>
                <c:pt idx="144">
                  <c:v>145</c:v>
                </c:pt>
                <c:pt idx="145">
                  <c:v>146</c:v>
                </c:pt>
                <c:pt idx="146">
                  <c:v>147</c:v>
                </c:pt>
                <c:pt idx="147">
                  <c:v>148</c:v>
                </c:pt>
                <c:pt idx="148">
                  <c:v>149</c:v>
                </c:pt>
                <c:pt idx="149">
                  <c:v>150</c:v>
                </c:pt>
                <c:pt idx="150">
                  <c:v>151</c:v>
                </c:pt>
                <c:pt idx="151">
                  <c:v>152</c:v>
                </c:pt>
                <c:pt idx="152">
                  <c:v>153</c:v>
                </c:pt>
                <c:pt idx="153">
                  <c:v>154</c:v>
                </c:pt>
                <c:pt idx="154">
                  <c:v>155</c:v>
                </c:pt>
                <c:pt idx="155">
                  <c:v>156</c:v>
                </c:pt>
                <c:pt idx="156">
                  <c:v>157</c:v>
                </c:pt>
                <c:pt idx="157">
                  <c:v>158</c:v>
                </c:pt>
                <c:pt idx="158">
                  <c:v>159</c:v>
                </c:pt>
                <c:pt idx="159">
                  <c:v>160</c:v>
                </c:pt>
                <c:pt idx="160">
                  <c:v>161</c:v>
                </c:pt>
                <c:pt idx="161">
                  <c:v>162</c:v>
                </c:pt>
                <c:pt idx="162">
                  <c:v>163</c:v>
                </c:pt>
                <c:pt idx="163">
                  <c:v>164</c:v>
                </c:pt>
                <c:pt idx="164">
                  <c:v>165</c:v>
                </c:pt>
                <c:pt idx="165">
                  <c:v>166</c:v>
                </c:pt>
                <c:pt idx="166">
                  <c:v>167</c:v>
                </c:pt>
                <c:pt idx="167">
                  <c:v>168</c:v>
                </c:pt>
                <c:pt idx="168">
                  <c:v>169</c:v>
                </c:pt>
                <c:pt idx="169">
                  <c:v>170</c:v>
                </c:pt>
                <c:pt idx="170">
                  <c:v>171</c:v>
                </c:pt>
                <c:pt idx="171">
                  <c:v>172</c:v>
                </c:pt>
                <c:pt idx="172">
                  <c:v>173</c:v>
                </c:pt>
                <c:pt idx="173">
                  <c:v>174</c:v>
                </c:pt>
                <c:pt idx="174">
                  <c:v>175</c:v>
                </c:pt>
                <c:pt idx="175">
                  <c:v>176</c:v>
                </c:pt>
                <c:pt idx="176">
                  <c:v>177</c:v>
                </c:pt>
                <c:pt idx="177">
                  <c:v>178</c:v>
                </c:pt>
                <c:pt idx="178">
                  <c:v>179</c:v>
                </c:pt>
                <c:pt idx="179">
                  <c:v>180</c:v>
                </c:pt>
                <c:pt idx="180">
                  <c:v>181</c:v>
                </c:pt>
                <c:pt idx="181">
                  <c:v>182</c:v>
                </c:pt>
                <c:pt idx="182">
                  <c:v>183</c:v>
                </c:pt>
                <c:pt idx="183">
                  <c:v>184</c:v>
                </c:pt>
                <c:pt idx="184">
                  <c:v>185</c:v>
                </c:pt>
                <c:pt idx="185">
                  <c:v>186</c:v>
                </c:pt>
                <c:pt idx="186">
                  <c:v>187</c:v>
                </c:pt>
                <c:pt idx="187">
                  <c:v>188</c:v>
                </c:pt>
                <c:pt idx="188">
                  <c:v>189</c:v>
                </c:pt>
                <c:pt idx="189">
                  <c:v>190</c:v>
                </c:pt>
                <c:pt idx="190">
                  <c:v>191</c:v>
                </c:pt>
                <c:pt idx="191">
                  <c:v>192</c:v>
                </c:pt>
                <c:pt idx="192">
                  <c:v>193</c:v>
                </c:pt>
                <c:pt idx="193">
                  <c:v>194</c:v>
                </c:pt>
                <c:pt idx="194">
                  <c:v>195</c:v>
                </c:pt>
                <c:pt idx="195">
                  <c:v>196</c:v>
                </c:pt>
                <c:pt idx="196">
                  <c:v>197</c:v>
                </c:pt>
                <c:pt idx="197">
                  <c:v>198</c:v>
                </c:pt>
                <c:pt idx="198">
                  <c:v>199</c:v>
                </c:pt>
                <c:pt idx="199">
                  <c:v>200</c:v>
                </c:pt>
                <c:pt idx="200">
                  <c:v>201</c:v>
                </c:pt>
                <c:pt idx="201">
                  <c:v>202</c:v>
                </c:pt>
                <c:pt idx="202">
                  <c:v>203</c:v>
                </c:pt>
                <c:pt idx="203">
                  <c:v>204</c:v>
                </c:pt>
                <c:pt idx="204">
                  <c:v>205</c:v>
                </c:pt>
                <c:pt idx="205">
                  <c:v>206</c:v>
                </c:pt>
                <c:pt idx="206">
                  <c:v>207</c:v>
                </c:pt>
                <c:pt idx="207">
                  <c:v>208</c:v>
                </c:pt>
                <c:pt idx="208">
                  <c:v>209</c:v>
                </c:pt>
                <c:pt idx="209">
                  <c:v>210</c:v>
                </c:pt>
                <c:pt idx="210">
                  <c:v>211</c:v>
                </c:pt>
                <c:pt idx="211">
                  <c:v>212</c:v>
                </c:pt>
                <c:pt idx="212">
                  <c:v>213</c:v>
                </c:pt>
                <c:pt idx="213">
                  <c:v>214</c:v>
                </c:pt>
                <c:pt idx="214">
                  <c:v>215</c:v>
                </c:pt>
                <c:pt idx="215">
                  <c:v>216</c:v>
                </c:pt>
                <c:pt idx="216">
                  <c:v>217</c:v>
                </c:pt>
                <c:pt idx="217">
                  <c:v>218</c:v>
                </c:pt>
                <c:pt idx="218">
                  <c:v>219</c:v>
                </c:pt>
                <c:pt idx="219">
                  <c:v>220</c:v>
                </c:pt>
                <c:pt idx="220">
                  <c:v>221</c:v>
                </c:pt>
                <c:pt idx="221">
                  <c:v>222</c:v>
                </c:pt>
                <c:pt idx="222">
                  <c:v>223</c:v>
                </c:pt>
                <c:pt idx="223">
                  <c:v>224</c:v>
                </c:pt>
                <c:pt idx="224">
                  <c:v>225</c:v>
                </c:pt>
                <c:pt idx="225">
                  <c:v>226</c:v>
                </c:pt>
                <c:pt idx="226">
                  <c:v>227</c:v>
                </c:pt>
                <c:pt idx="227">
                  <c:v>228</c:v>
                </c:pt>
                <c:pt idx="228">
                  <c:v>229</c:v>
                </c:pt>
                <c:pt idx="229">
                  <c:v>230</c:v>
                </c:pt>
                <c:pt idx="230">
                  <c:v>231</c:v>
                </c:pt>
                <c:pt idx="231">
                  <c:v>232</c:v>
                </c:pt>
                <c:pt idx="232">
                  <c:v>233</c:v>
                </c:pt>
                <c:pt idx="233">
                  <c:v>234</c:v>
                </c:pt>
                <c:pt idx="234">
                  <c:v>235</c:v>
                </c:pt>
                <c:pt idx="235">
                  <c:v>236</c:v>
                </c:pt>
                <c:pt idx="236">
                  <c:v>237</c:v>
                </c:pt>
                <c:pt idx="237">
                  <c:v>238</c:v>
                </c:pt>
                <c:pt idx="238">
                  <c:v>239</c:v>
                </c:pt>
                <c:pt idx="239">
                  <c:v>240</c:v>
                </c:pt>
                <c:pt idx="240">
                  <c:v>241</c:v>
                </c:pt>
                <c:pt idx="241">
                  <c:v>242</c:v>
                </c:pt>
                <c:pt idx="242">
                  <c:v>243</c:v>
                </c:pt>
                <c:pt idx="243">
                  <c:v>244</c:v>
                </c:pt>
                <c:pt idx="244">
                  <c:v>245</c:v>
                </c:pt>
                <c:pt idx="245">
                  <c:v>246</c:v>
                </c:pt>
                <c:pt idx="246">
                  <c:v>247</c:v>
                </c:pt>
                <c:pt idx="247">
                  <c:v>248</c:v>
                </c:pt>
                <c:pt idx="248">
                  <c:v>249</c:v>
                </c:pt>
                <c:pt idx="249">
                  <c:v>250</c:v>
                </c:pt>
                <c:pt idx="250">
                  <c:v>251</c:v>
                </c:pt>
                <c:pt idx="251">
                  <c:v>252</c:v>
                </c:pt>
                <c:pt idx="252">
                  <c:v>253</c:v>
                </c:pt>
                <c:pt idx="253">
                  <c:v>254</c:v>
                </c:pt>
                <c:pt idx="254">
                  <c:v>255</c:v>
                </c:pt>
                <c:pt idx="255">
                  <c:v>256</c:v>
                </c:pt>
                <c:pt idx="256">
                  <c:v>257</c:v>
                </c:pt>
                <c:pt idx="257">
                  <c:v>258</c:v>
                </c:pt>
                <c:pt idx="258">
                  <c:v>259</c:v>
                </c:pt>
                <c:pt idx="259">
                  <c:v>260</c:v>
                </c:pt>
                <c:pt idx="260">
                  <c:v>261</c:v>
                </c:pt>
                <c:pt idx="261">
                  <c:v>262</c:v>
                </c:pt>
                <c:pt idx="262">
                  <c:v>263</c:v>
                </c:pt>
                <c:pt idx="263">
                  <c:v>264</c:v>
                </c:pt>
                <c:pt idx="264">
                  <c:v>265</c:v>
                </c:pt>
                <c:pt idx="265">
                  <c:v>266</c:v>
                </c:pt>
                <c:pt idx="266">
                  <c:v>267</c:v>
                </c:pt>
                <c:pt idx="267">
                  <c:v>268</c:v>
                </c:pt>
                <c:pt idx="268">
                  <c:v>269</c:v>
                </c:pt>
                <c:pt idx="269">
                  <c:v>270</c:v>
                </c:pt>
                <c:pt idx="270">
                  <c:v>271</c:v>
                </c:pt>
                <c:pt idx="271">
                  <c:v>272</c:v>
                </c:pt>
                <c:pt idx="272">
                  <c:v>273</c:v>
                </c:pt>
                <c:pt idx="273">
                  <c:v>274</c:v>
                </c:pt>
                <c:pt idx="274">
                  <c:v>275</c:v>
                </c:pt>
                <c:pt idx="275">
                  <c:v>276</c:v>
                </c:pt>
                <c:pt idx="276">
                  <c:v>277</c:v>
                </c:pt>
                <c:pt idx="277">
                  <c:v>278</c:v>
                </c:pt>
                <c:pt idx="278">
                  <c:v>279</c:v>
                </c:pt>
                <c:pt idx="279">
                  <c:v>280</c:v>
                </c:pt>
                <c:pt idx="280">
                  <c:v>281</c:v>
                </c:pt>
                <c:pt idx="281">
                  <c:v>282</c:v>
                </c:pt>
                <c:pt idx="282">
                  <c:v>283</c:v>
                </c:pt>
                <c:pt idx="283">
                  <c:v>284</c:v>
                </c:pt>
                <c:pt idx="284">
                  <c:v>285</c:v>
                </c:pt>
                <c:pt idx="285">
                  <c:v>286</c:v>
                </c:pt>
                <c:pt idx="286">
                  <c:v>287</c:v>
                </c:pt>
                <c:pt idx="287">
                  <c:v>288</c:v>
                </c:pt>
                <c:pt idx="288">
                  <c:v>289</c:v>
                </c:pt>
                <c:pt idx="289">
                  <c:v>290</c:v>
                </c:pt>
                <c:pt idx="290">
                  <c:v>291</c:v>
                </c:pt>
                <c:pt idx="291">
                  <c:v>292</c:v>
                </c:pt>
                <c:pt idx="292">
                  <c:v>293</c:v>
                </c:pt>
                <c:pt idx="293">
                  <c:v>294</c:v>
                </c:pt>
                <c:pt idx="294">
                  <c:v>295</c:v>
                </c:pt>
                <c:pt idx="295">
                  <c:v>296</c:v>
                </c:pt>
                <c:pt idx="296">
                  <c:v>297</c:v>
                </c:pt>
                <c:pt idx="297">
                  <c:v>298</c:v>
                </c:pt>
                <c:pt idx="298">
                  <c:v>299</c:v>
                </c:pt>
                <c:pt idx="299">
                  <c:v>300</c:v>
                </c:pt>
                <c:pt idx="300">
                  <c:v>301</c:v>
                </c:pt>
                <c:pt idx="301">
                  <c:v>302</c:v>
                </c:pt>
                <c:pt idx="302">
                  <c:v>303</c:v>
                </c:pt>
                <c:pt idx="303">
                  <c:v>304</c:v>
                </c:pt>
                <c:pt idx="304">
                  <c:v>305</c:v>
                </c:pt>
                <c:pt idx="305">
                  <c:v>306</c:v>
                </c:pt>
                <c:pt idx="306">
                  <c:v>307</c:v>
                </c:pt>
                <c:pt idx="307">
                  <c:v>308</c:v>
                </c:pt>
                <c:pt idx="308">
                  <c:v>309</c:v>
                </c:pt>
                <c:pt idx="309">
                  <c:v>310</c:v>
                </c:pt>
                <c:pt idx="310">
                  <c:v>311</c:v>
                </c:pt>
                <c:pt idx="311">
                  <c:v>312</c:v>
                </c:pt>
                <c:pt idx="312">
                  <c:v>313</c:v>
                </c:pt>
                <c:pt idx="313">
                  <c:v>314</c:v>
                </c:pt>
                <c:pt idx="314">
                  <c:v>315</c:v>
                </c:pt>
                <c:pt idx="315">
                  <c:v>316</c:v>
                </c:pt>
                <c:pt idx="316">
                  <c:v>317</c:v>
                </c:pt>
                <c:pt idx="317">
                  <c:v>318</c:v>
                </c:pt>
                <c:pt idx="318">
                  <c:v>319</c:v>
                </c:pt>
                <c:pt idx="319">
                  <c:v>320</c:v>
                </c:pt>
                <c:pt idx="320">
                  <c:v>321</c:v>
                </c:pt>
                <c:pt idx="321">
                  <c:v>322</c:v>
                </c:pt>
                <c:pt idx="322">
                  <c:v>323</c:v>
                </c:pt>
                <c:pt idx="323">
                  <c:v>324</c:v>
                </c:pt>
                <c:pt idx="324">
                  <c:v>325</c:v>
                </c:pt>
                <c:pt idx="325">
                  <c:v>326</c:v>
                </c:pt>
                <c:pt idx="326">
                  <c:v>327</c:v>
                </c:pt>
                <c:pt idx="327">
                  <c:v>328</c:v>
                </c:pt>
                <c:pt idx="328">
                  <c:v>329</c:v>
                </c:pt>
                <c:pt idx="329">
                  <c:v>330</c:v>
                </c:pt>
                <c:pt idx="330">
                  <c:v>331</c:v>
                </c:pt>
                <c:pt idx="331">
                  <c:v>332</c:v>
                </c:pt>
                <c:pt idx="332">
                  <c:v>333</c:v>
                </c:pt>
                <c:pt idx="333">
                  <c:v>334</c:v>
                </c:pt>
                <c:pt idx="334">
                  <c:v>335</c:v>
                </c:pt>
                <c:pt idx="335">
                  <c:v>336</c:v>
                </c:pt>
                <c:pt idx="336">
                  <c:v>337</c:v>
                </c:pt>
                <c:pt idx="337">
                  <c:v>338</c:v>
                </c:pt>
                <c:pt idx="338">
                  <c:v>339</c:v>
                </c:pt>
                <c:pt idx="339">
                  <c:v>340</c:v>
                </c:pt>
                <c:pt idx="340">
                  <c:v>341</c:v>
                </c:pt>
                <c:pt idx="341">
                  <c:v>342</c:v>
                </c:pt>
                <c:pt idx="342">
                  <c:v>343</c:v>
                </c:pt>
                <c:pt idx="343">
                  <c:v>344</c:v>
                </c:pt>
                <c:pt idx="344">
                  <c:v>345</c:v>
                </c:pt>
                <c:pt idx="345">
                  <c:v>346</c:v>
                </c:pt>
                <c:pt idx="346">
                  <c:v>347</c:v>
                </c:pt>
                <c:pt idx="347">
                  <c:v>348</c:v>
                </c:pt>
                <c:pt idx="348">
                  <c:v>349</c:v>
                </c:pt>
                <c:pt idx="349">
                  <c:v>350</c:v>
                </c:pt>
                <c:pt idx="350">
                  <c:v>351</c:v>
                </c:pt>
                <c:pt idx="351">
                  <c:v>352</c:v>
                </c:pt>
                <c:pt idx="352">
                  <c:v>353</c:v>
                </c:pt>
                <c:pt idx="353">
                  <c:v>354</c:v>
                </c:pt>
                <c:pt idx="354">
                  <c:v>355</c:v>
                </c:pt>
                <c:pt idx="355">
                  <c:v>356</c:v>
                </c:pt>
                <c:pt idx="356">
                  <c:v>357</c:v>
                </c:pt>
                <c:pt idx="357">
                  <c:v>358</c:v>
                </c:pt>
                <c:pt idx="358">
                  <c:v>359</c:v>
                </c:pt>
                <c:pt idx="359">
                  <c:v>360</c:v>
                </c:pt>
                <c:pt idx="360">
                  <c:v>361</c:v>
                </c:pt>
                <c:pt idx="361">
                  <c:v>362</c:v>
                </c:pt>
                <c:pt idx="362">
                  <c:v>363</c:v>
                </c:pt>
                <c:pt idx="363">
                  <c:v>364</c:v>
                </c:pt>
                <c:pt idx="364">
                  <c:v>365</c:v>
                </c:pt>
                <c:pt idx="365">
                  <c:v>366</c:v>
                </c:pt>
                <c:pt idx="366">
                  <c:v>367</c:v>
                </c:pt>
                <c:pt idx="367">
                  <c:v>368</c:v>
                </c:pt>
                <c:pt idx="368">
                  <c:v>369</c:v>
                </c:pt>
                <c:pt idx="369">
                  <c:v>370</c:v>
                </c:pt>
                <c:pt idx="370">
                  <c:v>371</c:v>
                </c:pt>
                <c:pt idx="371">
                  <c:v>372</c:v>
                </c:pt>
                <c:pt idx="372">
                  <c:v>373</c:v>
                </c:pt>
                <c:pt idx="373">
                  <c:v>374</c:v>
                </c:pt>
                <c:pt idx="374">
                  <c:v>375</c:v>
                </c:pt>
                <c:pt idx="375">
                  <c:v>376</c:v>
                </c:pt>
                <c:pt idx="376">
                  <c:v>377</c:v>
                </c:pt>
                <c:pt idx="377">
                  <c:v>378</c:v>
                </c:pt>
                <c:pt idx="378">
                  <c:v>379</c:v>
                </c:pt>
                <c:pt idx="379">
                  <c:v>380</c:v>
                </c:pt>
                <c:pt idx="380">
                  <c:v>381</c:v>
                </c:pt>
                <c:pt idx="381">
                  <c:v>382</c:v>
                </c:pt>
                <c:pt idx="382">
                  <c:v>383</c:v>
                </c:pt>
                <c:pt idx="383">
                  <c:v>384</c:v>
                </c:pt>
                <c:pt idx="384">
                  <c:v>385</c:v>
                </c:pt>
                <c:pt idx="385">
                  <c:v>386</c:v>
                </c:pt>
                <c:pt idx="386">
                  <c:v>387</c:v>
                </c:pt>
                <c:pt idx="387">
                  <c:v>388</c:v>
                </c:pt>
                <c:pt idx="388">
                  <c:v>389</c:v>
                </c:pt>
                <c:pt idx="389">
                  <c:v>390</c:v>
                </c:pt>
                <c:pt idx="390">
                  <c:v>391</c:v>
                </c:pt>
                <c:pt idx="391">
                  <c:v>392</c:v>
                </c:pt>
                <c:pt idx="392">
                  <c:v>393</c:v>
                </c:pt>
                <c:pt idx="393">
                  <c:v>394</c:v>
                </c:pt>
                <c:pt idx="394">
                  <c:v>395</c:v>
                </c:pt>
                <c:pt idx="395">
                  <c:v>396</c:v>
                </c:pt>
                <c:pt idx="396">
                  <c:v>397</c:v>
                </c:pt>
                <c:pt idx="397">
                  <c:v>398</c:v>
                </c:pt>
                <c:pt idx="398">
                  <c:v>399</c:v>
                </c:pt>
                <c:pt idx="399">
                  <c:v>400</c:v>
                </c:pt>
                <c:pt idx="400">
                  <c:v>401</c:v>
                </c:pt>
                <c:pt idx="401">
                  <c:v>402</c:v>
                </c:pt>
                <c:pt idx="402">
                  <c:v>403</c:v>
                </c:pt>
                <c:pt idx="403">
                  <c:v>404</c:v>
                </c:pt>
                <c:pt idx="404">
                  <c:v>405</c:v>
                </c:pt>
                <c:pt idx="405">
                  <c:v>406</c:v>
                </c:pt>
                <c:pt idx="406">
                  <c:v>407</c:v>
                </c:pt>
                <c:pt idx="407">
                  <c:v>408</c:v>
                </c:pt>
                <c:pt idx="408">
                  <c:v>409</c:v>
                </c:pt>
                <c:pt idx="409">
                  <c:v>410</c:v>
                </c:pt>
                <c:pt idx="410">
                  <c:v>411</c:v>
                </c:pt>
                <c:pt idx="411">
                  <c:v>412</c:v>
                </c:pt>
                <c:pt idx="412">
                  <c:v>413</c:v>
                </c:pt>
                <c:pt idx="413">
                  <c:v>414</c:v>
                </c:pt>
                <c:pt idx="414">
                  <c:v>415</c:v>
                </c:pt>
                <c:pt idx="415">
                  <c:v>416</c:v>
                </c:pt>
                <c:pt idx="416">
                  <c:v>417</c:v>
                </c:pt>
                <c:pt idx="417">
                  <c:v>418</c:v>
                </c:pt>
                <c:pt idx="418">
                  <c:v>419</c:v>
                </c:pt>
                <c:pt idx="419">
                  <c:v>420</c:v>
                </c:pt>
                <c:pt idx="420">
                  <c:v>421</c:v>
                </c:pt>
                <c:pt idx="421">
                  <c:v>422</c:v>
                </c:pt>
                <c:pt idx="422">
                  <c:v>423</c:v>
                </c:pt>
                <c:pt idx="423">
                  <c:v>424</c:v>
                </c:pt>
                <c:pt idx="424">
                  <c:v>425</c:v>
                </c:pt>
                <c:pt idx="425">
                  <c:v>426</c:v>
                </c:pt>
                <c:pt idx="426">
                  <c:v>427</c:v>
                </c:pt>
                <c:pt idx="427">
                  <c:v>428</c:v>
                </c:pt>
                <c:pt idx="428">
                  <c:v>429</c:v>
                </c:pt>
                <c:pt idx="429">
                  <c:v>430</c:v>
                </c:pt>
                <c:pt idx="430">
                  <c:v>431</c:v>
                </c:pt>
                <c:pt idx="431">
                  <c:v>432</c:v>
                </c:pt>
                <c:pt idx="432">
                  <c:v>433</c:v>
                </c:pt>
                <c:pt idx="433">
                  <c:v>434</c:v>
                </c:pt>
                <c:pt idx="434">
                  <c:v>435</c:v>
                </c:pt>
                <c:pt idx="435">
                  <c:v>436</c:v>
                </c:pt>
                <c:pt idx="436">
                  <c:v>437</c:v>
                </c:pt>
                <c:pt idx="437">
                  <c:v>438</c:v>
                </c:pt>
                <c:pt idx="438">
                  <c:v>439</c:v>
                </c:pt>
                <c:pt idx="439">
                  <c:v>440</c:v>
                </c:pt>
                <c:pt idx="440">
                  <c:v>441</c:v>
                </c:pt>
                <c:pt idx="441">
                  <c:v>442</c:v>
                </c:pt>
                <c:pt idx="442">
                  <c:v>443</c:v>
                </c:pt>
                <c:pt idx="443">
                  <c:v>444</c:v>
                </c:pt>
                <c:pt idx="444">
                  <c:v>445</c:v>
                </c:pt>
                <c:pt idx="445">
                  <c:v>446</c:v>
                </c:pt>
                <c:pt idx="446">
                  <c:v>447</c:v>
                </c:pt>
                <c:pt idx="447">
                  <c:v>448</c:v>
                </c:pt>
                <c:pt idx="448">
                  <c:v>449</c:v>
                </c:pt>
                <c:pt idx="449">
                  <c:v>450</c:v>
                </c:pt>
                <c:pt idx="450">
                  <c:v>451</c:v>
                </c:pt>
                <c:pt idx="451">
                  <c:v>452</c:v>
                </c:pt>
                <c:pt idx="452">
                  <c:v>453</c:v>
                </c:pt>
                <c:pt idx="453">
                  <c:v>454</c:v>
                </c:pt>
                <c:pt idx="454">
                  <c:v>455</c:v>
                </c:pt>
                <c:pt idx="455">
                  <c:v>456</c:v>
                </c:pt>
                <c:pt idx="456">
                  <c:v>457</c:v>
                </c:pt>
                <c:pt idx="457">
                  <c:v>458</c:v>
                </c:pt>
                <c:pt idx="458">
                  <c:v>459</c:v>
                </c:pt>
                <c:pt idx="459">
                  <c:v>460</c:v>
                </c:pt>
                <c:pt idx="460">
                  <c:v>461</c:v>
                </c:pt>
                <c:pt idx="461">
                  <c:v>462</c:v>
                </c:pt>
                <c:pt idx="462">
                  <c:v>463</c:v>
                </c:pt>
                <c:pt idx="463">
                  <c:v>464</c:v>
                </c:pt>
                <c:pt idx="464">
                  <c:v>465</c:v>
                </c:pt>
                <c:pt idx="465">
                  <c:v>466</c:v>
                </c:pt>
                <c:pt idx="466">
                  <c:v>467</c:v>
                </c:pt>
                <c:pt idx="467">
                  <c:v>468</c:v>
                </c:pt>
                <c:pt idx="468">
                  <c:v>469</c:v>
                </c:pt>
                <c:pt idx="469">
                  <c:v>470</c:v>
                </c:pt>
                <c:pt idx="470">
                  <c:v>471</c:v>
                </c:pt>
                <c:pt idx="471">
                  <c:v>472</c:v>
                </c:pt>
                <c:pt idx="472">
                  <c:v>473</c:v>
                </c:pt>
                <c:pt idx="473">
                  <c:v>474</c:v>
                </c:pt>
                <c:pt idx="474">
                  <c:v>475</c:v>
                </c:pt>
                <c:pt idx="475">
                  <c:v>476</c:v>
                </c:pt>
                <c:pt idx="476">
                  <c:v>477</c:v>
                </c:pt>
                <c:pt idx="477">
                  <c:v>478</c:v>
                </c:pt>
                <c:pt idx="478">
                  <c:v>479</c:v>
                </c:pt>
                <c:pt idx="479">
                  <c:v>480</c:v>
                </c:pt>
                <c:pt idx="480">
                  <c:v>481</c:v>
                </c:pt>
                <c:pt idx="481">
                  <c:v>482</c:v>
                </c:pt>
                <c:pt idx="482">
                  <c:v>483</c:v>
                </c:pt>
                <c:pt idx="483">
                  <c:v>484</c:v>
                </c:pt>
                <c:pt idx="484">
                  <c:v>485</c:v>
                </c:pt>
                <c:pt idx="485">
                  <c:v>486</c:v>
                </c:pt>
                <c:pt idx="486">
                  <c:v>487</c:v>
                </c:pt>
                <c:pt idx="487">
                  <c:v>488</c:v>
                </c:pt>
                <c:pt idx="488">
                  <c:v>489</c:v>
                </c:pt>
                <c:pt idx="489">
                  <c:v>490</c:v>
                </c:pt>
                <c:pt idx="490">
                  <c:v>491</c:v>
                </c:pt>
                <c:pt idx="491">
                  <c:v>492</c:v>
                </c:pt>
                <c:pt idx="492">
                  <c:v>493</c:v>
                </c:pt>
                <c:pt idx="493">
                  <c:v>494</c:v>
                </c:pt>
                <c:pt idx="494">
                  <c:v>495</c:v>
                </c:pt>
                <c:pt idx="495">
                  <c:v>496</c:v>
                </c:pt>
                <c:pt idx="496">
                  <c:v>497</c:v>
                </c:pt>
                <c:pt idx="497">
                  <c:v>498</c:v>
                </c:pt>
                <c:pt idx="498">
                  <c:v>499</c:v>
                </c:pt>
                <c:pt idx="499">
                  <c:v>500</c:v>
                </c:pt>
                <c:pt idx="500">
                  <c:v>501</c:v>
                </c:pt>
                <c:pt idx="501">
                  <c:v>502</c:v>
                </c:pt>
                <c:pt idx="502">
                  <c:v>503</c:v>
                </c:pt>
                <c:pt idx="503">
                  <c:v>504</c:v>
                </c:pt>
                <c:pt idx="504">
                  <c:v>505</c:v>
                </c:pt>
                <c:pt idx="505">
                  <c:v>506</c:v>
                </c:pt>
                <c:pt idx="506">
                  <c:v>507</c:v>
                </c:pt>
                <c:pt idx="507">
                  <c:v>508</c:v>
                </c:pt>
                <c:pt idx="508">
                  <c:v>509</c:v>
                </c:pt>
                <c:pt idx="509">
                  <c:v>510</c:v>
                </c:pt>
                <c:pt idx="510">
                  <c:v>511</c:v>
                </c:pt>
                <c:pt idx="511">
                  <c:v>512</c:v>
                </c:pt>
                <c:pt idx="512">
                  <c:v>513</c:v>
                </c:pt>
                <c:pt idx="513">
                  <c:v>514</c:v>
                </c:pt>
                <c:pt idx="514">
                  <c:v>515</c:v>
                </c:pt>
                <c:pt idx="515">
                  <c:v>516</c:v>
                </c:pt>
                <c:pt idx="516">
                  <c:v>517</c:v>
                </c:pt>
                <c:pt idx="517">
                  <c:v>518</c:v>
                </c:pt>
                <c:pt idx="518">
                  <c:v>519</c:v>
                </c:pt>
                <c:pt idx="519">
                  <c:v>520</c:v>
                </c:pt>
                <c:pt idx="520">
                  <c:v>521</c:v>
                </c:pt>
                <c:pt idx="521">
                  <c:v>522</c:v>
                </c:pt>
                <c:pt idx="522">
                  <c:v>523</c:v>
                </c:pt>
                <c:pt idx="523">
                  <c:v>524</c:v>
                </c:pt>
                <c:pt idx="524">
                  <c:v>525</c:v>
                </c:pt>
                <c:pt idx="525">
                  <c:v>526</c:v>
                </c:pt>
                <c:pt idx="526">
                  <c:v>527</c:v>
                </c:pt>
                <c:pt idx="527">
                  <c:v>528</c:v>
                </c:pt>
                <c:pt idx="528">
                  <c:v>529</c:v>
                </c:pt>
                <c:pt idx="529">
                  <c:v>530</c:v>
                </c:pt>
                <c:pt idx="530">
                  <c:v>531</c:v>
                </c:pt>
                <c:pt idx="531">
                  <c:v>532</c:v>
                </c:pt>
                <c:pt idx="532">
                  <c:v>533</c:v>
                </c:pt>
                <c:pt idx="533">
                  <c:v>534</c:v>
                </c:pt>
                <c:pt idx="534">
                  <c:v>535</c:v>
                </c:pt>
                <c:pt idx="535">
                  <c:v>536</c:v>
                </c:pt>
                <c:pt idx="536">
                  <c:v>537</c:v>
                </c:pt>
                <c:pt idx="537">
                  <c:v>538</c:v>
                </c:pt>
                <c:pt idx="538">
                  <c:v>539</c:v>
                </c:pt>
                <c:pt idx="539">
                  <c:v>540</c:v>
                </c:pt>
                <c:pt idx="540">
                  <c:v>541</c:v>
                </c:pt>
                <c:pt idx="541">
                  <c:v>542</c:v>
                </c:pt>
                <c:pt idx="542">
                  <c:v>543</c:v>
                </c:pt>
                <c:pt idx="543">
                  <c:v>544</c:v>
                </c:pt>
                <c:pt idx="544">
                  <c:v>545</c:v>
                </c:pt>
                <c:pt idx="545">
                  <c:v>546</c:v>
                </c:pt>
                <c:pt idx="546">
                  <c:v>547</c:v>
                </c:pt>
                <c:pt idx="547">
                  <c:v>548</c:v>
                </c:pt>
                <c:pt idx="548">
                  <c:v>549</c:v>
                </c:pt>
                <c:pt idx="549">
                  <c:v>550</c:v>
                </c:pt>
                <c:pt idx="550">
                  <c:v>551</c:v>
                </c:pt>
                <c:pt idx="551">
                  <c:v>552</c:v>
                </c:pt>
                <c:pt idx="552">
                  <c:v>553</c:v>
                </c:pt>
                <c:pt idx="553">
                  <c:v>554</c:v>
                </c:pt>
                <c:pt idx="554">
                  <c:v>555</c:v>
                </c:pt>
                <c:pt idx="555">
                  <c:v>556</c:v>
                </c:pt>
                <c:pt idx="556">
                  <c:v>557</c:v>
                </c:pt>
                <c:pt idx="557">
                  <c:v>558</c:v>
                </c:pt>
                <c:pt idx="558">
                  <c:v>559</c:v>
                </c:pt>
                <c:pt idx="559">
                  <c:v>560</c:v>
                </c:pt>
                <c:pt idx="560">
                  <c:v>561</c:v>
                </c:pt>
                <c:pt idx="561">
                  <c:v>562</c:v>
                </c:pt>
                <c:pt idx="562">
                  <c:v>563</c:v>
                </c:pt>
                <c:pt idx="563">
                  <c:v>564</c:v>
                </c:pt>
                <c:pt idx="564">
                  <c:v>565</c:v>
                </c:pt>
                <c:pt idx="565">
                  <c:v>566</c:v>
                </c:pt>
                <c:pt idx="566">
                  <c:v>567</c:v>
                </c:pt>
                <c:pt idx="567">
                  <c:v>568</c:v>
                </c:pt>
                <c:pt idx="568">
                  <c:v>569</c:v>
                </c:pt>
                <c:pt idx="569">
                  <c:v>570</c:v>
                </c:pt>
                <c:pt idx="570">
                  <c:v>571</c:v>
                </c:pt>
                <c:pt idx="571">
                  <c:v>572</c:v>
                </c:pt>
                <c:pt idx="572">
                  <c:v>573</c:v>
                </c:pt>
                <c:pt idx="573">
                  <c:v>574</c:v>
                </c:pt>
                <c:pt idx="574">
                  <c:v>575</c:v>
                </c:pt>
                <c:pt idx="575">
                  <c:v>576</c:v>
                </c:pt>
                <c:pt idx="576">
                  <c:v>577</c:v>
                </c:pt>
                <c:pt idx="577">
                  <c:v>578</c:v>
                </c:pt>
                <c:pt idx="578">
                  <c:v>579</c:v>
                </c:pt>
                <c:pt idx="579">
                  <c:v>580</c:v>
                </c:pt>
                <c:pt idx="580">
                  <c:v>581</c:v>
                </c:pt>
                <c:pt idx="581">
                  <c:v>582</c:v>
                </c:pt>
                <c:pt idx="582">
                  <c:v>583</c:v>
                </c:pt>
                <c:pt idx="583">
                  <c:v>584</c:v>
                </c:pt>
                <c:pt idx="584">
                  <c:v>585</c:v>
                </c:pt>
                <c:pt idx="585">
                  <c:v>586</c:v>
                </c:pt>
                <c:pt idx="586">
                  <c:v>587</c:v>
                </c:pt>
                <c:pt idx="587">
                  <c:v>588</c:v>
                </c:pt>
                <c:pt idx="588">
                  <c:v>589</c:v>
                </c:pt>
                <c:pt idx="589">
                  <c:v>590</c:v>
                </c:pt>
                <c:pt idx="590">
                  <c:v>591</c:v>
                </c:pt>
                <c:pt idx="591">
                  <c:v>592</c:v>
                </c:pt>
                <c:pt idx="592">
                  <c:v>593</c:v>
                </c:pt>
                <c:pt idx="593">
                  <c:v>594</c:v>
                </c:pt>
                <c:pt idx="594">
                  <c:v>595</c:v>
                </c:pt>
                <c:pt idx="595">
                  <c:v>596</c:v>
                </c:pt>
                <c:pt idx="596">
                  <c:v>597</c:v>
                </c:pt>
                <c:pt idx="597">
                  <c:v>598</c:v>
                </c:pt>
                <c:pt idx="598">
                  <c:v>599</c:v>
                </c:pt>
                <c:pt idx="599">
                  <c:v>600</c:v>
                </c:pt>
                <c:pt idx="600">
                  <c:v>601</c:v>
                </c:pt>
                <c:pt idx="601">
                  <c:v>602</c:v>
                </c:pt>
                <c:pt idx="602">
                  <c:v>603</c:v>
                </c:pt>
                <c:pt idx="603">
                  <c:v>604</c:v>
                </c:pt>
                <c:pt idx="604">
                  <c:v>605</c:v>
                </c:pt>
                <c:pt idx="605">
                  <c:v>606</c:v>
                </c:pt>
                <c:pt idx="606">
                  <c:v>607</c:v>
                </c:pt>
                <c:pt idx="607">
                  <c:v>608</c:v>
                </c:pt>
                <c:pt idx="608">
                  <c:v>609</c:v>
                </c:pt>
                <c:pt idx="609">
                  <c:v>610</c:v>
                </c:pt>
                <c:pt idx="610">
                  <c:v>611</c:v>
                </c:pt>
                <c:pt idx="611">
                  <c:v>612</c:v>
                </c:pt>
                <c:pt idx="612">
                  <c:v>613</c:v>
                </c:pt>
                <c:pt idx="613">
                  <c:v>614</c:v>
                </c:pt>
                <c:pt idx="614">
                  <c:v>615</c:v>
                </c:pt>
                <c:pt idx="615">
                  <c:v>616</c:v>
                </c:pt>
                <c:pt idx="616">
                  <c:v>617</c:v>
                </c:pt>
                <c:pt idx="617">
                  <c:v>618</c:v>
                </c:pt>
                <c:pt idx="618">
                  <c:v>619</c:v>
                </c:pt>
                <c:pt idx="619">
                  <c:v>620</c:v>
                </c:pt>
                <c:pt idx="620">
                  <c:v>621</c:v>
                </c:pt>
                <c:pt idx="621">
                  <c:v>622</c:v>
                </c:pt>
                <c:pt idx="622">
                  <c:v>623</c:v>
                </c:pt>
                <c:pt idx="623">
                  <c:v>624</c:v>
                </c:pt>
                <c:pt idx="624">
                  <c:v>625</c:v>
                </c:pt>
                <c:pt idx="625">
                  <c:v>626</c:v>
                </c:pt>
                <c:pt idx="626">
                  <c:v>627</c:v>
                </c:pt>
                <c:pt idx="627">
                  <c:v>628</c:v>
                </c:pt>
                <c:pt idx="628">
                  <c:v>629</c:v>
                </c:pt>
                <c:pt idx="629">
                  <c:v>630</c:v>
                </c:pt>
                <c:pt idx="630">
                  <c:v>631</c:v>
                </c:pt>
                <c:pt idx="631">
                  <c:v>632</c:v>
                </c:pt>
                <c:pt idx="632">
                  <c:v>633</c:v>
                </c:pt>
                <c:pt idx="633">
                  <c:v>634</c:v>
                </c:pt>
                <c:pt idx="634">
                  <c:v>635</c:v>
                </c:pt>
                <c:pt idx="635">
                  <c:v>636</c:v>
                </c:pt>
                <c:pt idx="636">
                  <c:v>637</c:v>
                </c:pt>
                <c:pt idx="637">
                  <c:v>638</c:v>
                </c:pt>
                <c:pt idx="638">
                  <c:v>639</c:v>
                </c:pt>
                <c:pt idx="639">
                  <c:v>640</c:v>
                </c:pt>
                <c:pt idx="640">
                  <c:v>641</c:v>
                </c:pt>
                <c:pt idx="641">
                  <c:v>642</c:v>
                </c:pt>
                <c:pt idx="642">
                  <c:v>643</c:v>
                </c:pt>
                <c:pt idx="643">
                  <c:v>644</c:v>
                </c:pt>
                <c:pt idx="644">
                  <c:v>645</c:v>
                </c:pt>
                <c:pt idx="645">
                  <c:v>646</c:v>
                </c:pt>
                <c:pt idx="646">
                  <c:v>647</c:v>
                </c:pt>
                <c:pt idx="647">
                  <c:v>648</c:v>
                </c:pt>
                <c:pt idx="648">
                  <c:v>649</c:v>
                </c:pt>
                <c:pt idx="649">
                  <c:v>650</c:v>
                </c:pt>
                <c:pt idx="650">
                  <c:v>651</c:v>
                </c:pt>
                <c:pt idx="651">
                  <c:v>652</c:v>
                </c:pt>
                <c:pt idx="652">
                  <c:v>653</c:v>
                </c:pt>
                <c:pt idx="653">
                  <c:v>654</c:v>
                </c:pt>
                <c:pt idx="654">
                  <c:v>655</c:v>
                </c:pt>
                <c:pt idx="655">
                  <c:v>656</c:v>
                </c:pt>
                <c:pt idx="656">
                  <c:v>657</c:v>
                </c:pt>
                <c:pt idx="657">
                  <c:v>658</c:v>
                </c:pt>
                <c:pt idx="658">
                  <c:v>659</c:v>
                </c:pt>
                <c:pt idx="659">
                  <c:v>660</c:v>
                </c:pt>
                <c:pt idx="660">
                  <c:v>661</c:v>
                </c:pt>
                <c:pt idx="661">
                  <c:v>662</c:v>
                </c:pt>
                <c:pt idx="662">
                  <c:v>663</c:v>
                </c:pt>
                <c:pt idx="663">
                  <c:v>664</c:v>
                </c:pt>
                <c:pt idx="664">
                  <c:v>665</c:v>
                </c:pt>
                <c:pt idx="665">
                  <c:v>666</c:v>
                </c:pt>
                <c:pt idx="666">
                  <c:v>667</c:v>
                </c:pt>
                <c:pt idx="667">
                  <c:v>668</c:v>
                </c:pt>
                <c:pt idx="668">
                  <c:v>669</c:v>
                </c:pt>
                <c:pt idx="669">
                  <c:v>670</c:v>
                </c:pt>
                <c:pt idx="670">
                  <c:v>671</c:v>
                </c:pt>
                <c:pt idx="671">
                  <c:v>672</c:v>
                </c:pt>
                <c:pt idx="672">
                  <c:v>673</c:v>
                </c:pt>
                <c:pt idx="673">
                  <c:v>674</c:v>
                </c:pt>
                <c:pt idx="674">
                  <c:v>675</c:v>
                </c:pt>
                <c:pt idx="675">
                  <c:v>676</c:v>
                </c:pt>
                <c:pt idx="676">
                  <c:v>677</c:v>
                </c:pt>
                <c:pt idx="677">
                  <c:v>678</c:v>
                </c:pt>
                <c:pt idx="678">
                  <c:v>679</c:v>
                </c:pt>
                <c:pt idx="679">
                  <c:v>680</c:v>
                </c:pt>
                <c:pt idx="680">
                  <c:v>681</c:v>
                </c:pt>
                <c:pt idx="681">
                  <c:v>682</c:v>
                </c:pt>
                <c:pt idx="682">
                  <c:v>683</c:v>
                </c:pt>
                <c:pt idx="683">
                  <c:v>684</c:v>
                </c:pt>
                <c:pt idx="684">
                  <c:v>685</c:v>
                </c:pt>
                <c:pt idx="685">
                  <c:v>686</c:v>
                </c:pt>
                <c:pt idx="686">
                  <c:v>687</c:v>
                </c:pt>
                <c:pt idx="687">
                  <c:v>688</c:v>
                </c:pt>
                <c:pt idx="688">
                  <c:v>689</c:v>
                </c:pt>
                <c:pt idx="689">
                  <c:v>690</c:v>
                </c:pt>
                <c:pt idx="690">
                  <c:v>691</c:v>
                </c:pt>
                <c:pt idx="691">
                  <c:v>692</c:v>
                </c:pt>
                <c:pt idx="692">
                  <c:v>693</c:v>
                </c:pt>
                <c:pt idx="693">
                  <c:v>694</c:v>
                </c:pt>
                <c:pt idx="694">
                  <c:v>695</c:v>
                </c:pt>
                <c:pt idx="695">
                  <c:v>696</c:v>
                </c:pt>
                <c:pt idx="696">
                  <c:v>697</c:v>
                </c:pt>
                <c:pt idx="697">
                  <c:v>698</c:v>
                </c:pt>
                <c:pt idx="698">
                  <c:v>699</c:v>
                </c:pt>
                <c:pt idx="699">
                  <c:v>700</c:v>
                </c:pt>
                <c:pt idx="700">
                  <c:v>701</c:v>
                </c:pt>
                <c:pt idx="701">
                  <c:v>702</c:v>
                </c:pt>
                <c:pt idx="702">
                  <c:v>703</c:v>
                </c:pt>
                <c:pt idx="703">
                  <c:v>704</c:v>
                </c:pt>
                <c:pt idx="704">
                  <c:v>705</c:v>
                </c:pt>
                <c:pt idx="705">
                  <c:v>706</c:v>
                </c:pt>
                <c:pt idx="706">
                  <c:v>707</c:v>
                </c:pt>
                <c:pt idx="707">
                  <c:v>708</c:v>
                </c:pt>
                <c:pt idx="708">
                  <c:v>709</c:v>
                </c:pt>
                <c:pt idx="709">
                  <c:v>710</c:v>
                </c:pt>
                <c:pt idx="710">
                  <c:v>711</c:v>
                </c:pt>
                <c:pt idx="711">
                  <c:v>712</c:v>
                </c:pt>
                <c:pt idx="712">
                  <c:v>713</c:v>
                </c:pt>
                <c:pt idx="713">
                  <c:v>714</c:v>
                </c:pt>
                <c:pt idx="714">
                  <c:v>715</c:v>
                </c:pt>
                <c:pt idx="715">
                  <c:v>716</c:v>
                </c:pt>
                <c:pt idx="716">
                  <c:v>717</c:v>
                </c:pt>
                <c:pt idx="717">
                  <c:v>718</c:v>
                </c:pt>
                <c:pt idx="718">
                  <c:v>719</c:v>
                </c:pt>
                <c:pt idx="719">
                  <c:v>720</c:v>
                </c:pt>
                <c:pt idx="720">
                  <c:v>721</c:v>
                </c:pt>
                <c:pt idx="721">
                  <c:v>722</c:v>
                </c:pt>
                <c:pt idx="722">
                  <c:v>723</c:v>
                </c:pt>
                <c:pt idx="723">
                  <c:v>724</c:v>
                </c:pt>
                <c:pt idx="724">
                  <c:v>725</c:v>
                </c:pt>
                <c:pt idx="725">
                  <c:v>726</c:v>
                </c:pt>
                <c:pt idx="726">
                  <c:v>727</c:v>
                </c:pt>
                <c:pt idx="727">
                  <c:v>728</c:v>
                </c:pt>
                <c:pt idx="728">
                  <c:v>729</c:v>
                </c:pt>
                <c:pt idx="729">
                  <c:v>730</c:v>
                </c:pt>
                <c:pt idx="730">
                  <c:v>731</c:v>
                </c:pt>
                <c:pt idx="731">
                  <c:v>732</c:v>
                </c:pt>
                <c:pt idx="732">
                  <c:v>733</c:v>
                </c:pt>
                <c:pt idx="733">
                  <c:v>734</c:v>
                </c:pt>
                <c:pt idx="734">
                  <c:v>735</c:v>
                </c:pt>
                <c:pt idx="735">
                  <c:v>736</c:v>
                </c:pt>
                <c:pt idx="736">
                  <c:v>737</c:v>
                </c:pt>
                <c:pt idx="737">
                  <c:v>738</c:v>
                </c:pt>
                <c:pt idx="738">
                  <c:v>739</c:v>
                </c:pt>
                <c:pt idx="739">
                  <c:v>740</c:v>
                </c:pt>
                <c:pt idx="740">
                  <c:v>741</c:v>
                </c:pt>
                <c:pt idx="741">
                  <c:v>742</c:v>
                </c:pt>
                <c:pt idx="742">
                  <c:v>743</c:v>
                </c:pt>
                <c:pt idx="743">
                  <c:v>744</c:v>
                </c:pt>
                <c:pt idx="744">
                  <c:v>745</c:v>
                </c:pt>
                <c:pt idx="745">
                  <c:v>746</c:v>
                </c:pt>
                <c:pt idx="746">
                  <c:v>747</c:v>
                </c:pt>
                <c:pt idx="747">
                  <c:v>748</c:v>
                </c:pt>
                <c:pt idx="748">
                  <c:v>749</c:v>
                </c:pt>
                <c:pt idx="749">
                  <c:v>750</c:v>
                </c:pt>
                <c:pt idx="750">
                  <c:v>751</c:v>
                </c:pt>
                <c:pt idx="751">
                  <c:v>752</c:v>
                </c:pt>
                <c:pt idx="752">
                  <c:v>753</c:v>
                </c:pt>
                <c:pt idx="753">
                  <c:v>754</c:v>
                </c:pt>
                <c:pt idx="754">
                  <c:v>755</c:v>
                </c:pt>
                <c:pt idx="755">
                  <c:v>756</c:v>
                </c:pt>
                <c:pt idx="756">
                  <c:v>757</c:v>
                </c:pt>
                <c:pt idx="757">
                  <c:v>758</c:v>
                </c:pt>
                <c:pt idx="758">
                  <c:v>759</c:v>
                </c:pt>
                <c:pt idx="759">
                  <c:v>760</c:v>
                </c:pt>
                <c:pt idx="760">
                  <c:v>761</c:v>
                </c:pt>
                <c:pt idx="761">
                  <c:v>762</c:v>
                </c:pt>
                <c:pt idx="762">
                  <c:v>763</c:v>
                </c:pt>
                <c:pt idx="763">
                  <c:v>764</c:v>
                </c:pt>
                <c:pt idx="764">
                  <c:v>765</c:v>
                </c:pt>
                <c:pt idx="765">
                  <c:v>766</c:v>
                </c:pt>
                <c:pt idx="766">
                  <c:v>767</c:v>
                </c:pt>
                <c:pt idx="767">
                  <c:v>768</c:v>
                </c:pt>
                <c:pt idx="768">
                  <c:v>769</c:v>
                </c:pt>
                <c:pt idx="769">
                  <c:v>770</c:v>
                </c:pt>
                <c:pt idx="770">
                  <c:v>771</c:v>
                </c:pt>
                <c:pt idx="771">
                  <c:v>772</c:v>
                </c:pt>
                <c:pt idx="772">
                  <c:v>773</c:v>
                </c:pt>
                <c:pt idx="773">
                  <c:v>774</c:v>
                </c:pt>
                <c:pt idx="774">
                  <c:v>775</c:v>
                </c:pt>
                <c:pt idx="775">
                  <c:v>776</c:v>
                </c:pt>
                <c:pt idx="776">
                  <c:v>777</c:v>
                </c:pt>
                <c:pt idx="777">
                  <c:v>778</c:v>
                </c:pt>
                <c:pt idx="778">
                  <c:v>779</c:v>
                </c:pt>
                <c:pt idx="779">
                  <c:v>780</c:v>
                </c:pt>
                <c:pt idx="780">
                  <c:v>781</c:v>
                </c:pt>
                <c:pt idx="781">
                  <c:v>782</c:v>
                </c:pt>
                <c:pt idx="782">
                  <c:v>783</c:v>
                </c:pt>
                <c:pt idx="783">
                  <c:v>784</c:v>
                </c:pt>
                <c:pt idx="784">
                  <c:v>785</c:v>
                </c:pt>
                <c:pt idx="785">
                  <c:v>786</c:v>
                </c:pt>
                <c:pt idx="786">
                  <c:v>787</c:v>
                </c:pt>
                <c:pt idx="787">
                  <c:v>788</c:v>
                </c:pt>
                <c:pt idx="788">
                  <c:v>789</c:v>
                </c:pt>
                <c:pt idx="789">
                  <c:v>790</c:v>
                </c:pt>
                <c:pt idx="790">
                  <c:v>791</c:v>
                </c:pt>
                <c:pt idx="791">
                  <c:v>792</c:v>
                </c:pt>
                <c:pt idx="792">
                  <c:v>793</c:v>
                </c:pt>
                <c:pt idx="793">
                  <c:v>794</c:v>
                </c:pt>
                <c:pt idx="794">
                  <c:v>795</c:v>
                </c:pt>
                <c:pt idx="795">
                  <c:v>796</c:v>
                </c:pt>
                <c:pt idx="796">
                  <c:v>797</c:v>
                </c:pt>
                <c:pt idx="797">
                  <c:v>798</c:v>
                </c:pt>
                <c:pt idx="798">
                  <c:v>799</c:v>
                </c:pt>
                <c:pt idx="799">
                  <c:v>800</c:v>
                </c:pt>
                <c:pt idx="800">
                  <c:v>801</c:v>
                </c:pt>
                <c:pt idx="801">
                  <c:v>802</c:v>
                </c:pt>
                <c:pt idx="802">
                  <c:v>803</c:v>
                </c:pt>
                <c:pt idx="803">
                  <c:v>804</c:v>
                </c:pt>
                <c:pt idx="804">
                  <c:v>805</c:v>
                </c:pt>
                <c:pt idx="805">
                  <c:v>806</c:v>
                </c:pt>
                <c:pt idx="806">
                  <c:v>807</c:v>
                </c:pt>
                <c:pt idx="807">
                  <c:v>808</c:v>
                </c:pt>
                <c:pt idx="808">
                  <c:v>809</c:v>
                </c:pt>
                <c:pt idx="809">
                  <c:v>810</c:v>
                </c:pt>
                <c:pt idx="810">
                  <c:v>811</c:v>
                </c:pt>
                <c:pt idx="811">
                  <c:v>812</c:v>
                </c:pt>
                <c:pt idx="812">
                  <c:v>813</c:v>
                </c:pt>
                <c:pt idx="813">
                  <c:v>814</c:v>
                </c:pt>
                <c:pt idx="814">
                  <c:v>815</c:v>
                </c:pt>
                <c:pt idx="815">
                  <c:v>816</c:v>
                </c:pt>
                <c:pt idx="816">
                  <c:v>817</c:v>
                </c:pt>
                <c:pt idx="817">
                  <c:v>818</c:v>
                </c:pt>
                <c:pt idx="818">
                  <c:v>819</c:v>
                </c:pt>
                <c:pt idx="819">
                  <c:v>820</c:v>
                </c:pt>
                <c:pt idx="820">
                  <c:v>821</c:v>
                </c:pt>
                <c:pt idx="821">
                  <c:v>822</c:v>
                </c:pt>
                <c:pt idx="822">
                  <c:v>823</c:v>
                </c:pt>
                <c:pt idx="823">
                  <c:v>824</c:v>
                </c:pt>
                <c:pt idx="824">
                  <c:v>825</c:v>
                </c:pt>
                <c:pt idx="825">
                  <c:v>826</c:v>
                </c:pt>
                <c:pt idx="826">
                  <c:v>827</c:v>
                </c:pt>
                <c:pt idx="827">
                  <c:v>828</c:v>
                </c:pt>
                <c:pt idx="828">
                  <c:v>829</c:v>
                </c:pt>
                <c:pt idx="829">
                  <c:v>830</c:v>
                </c:pt>
                <c:pt idx="830">
                  <c:v>831</c:v>
                </c:pt>
                <c:pt idx="831">
                  <c:v>832</c:v>
                </c:pt>
                <c:pt idx="832">
                  <c:v>833</c:v>
                </c:pt>
                <c:pt idx="833">
                  <c:v>834</c:v>
                </c:pt>
                <c:pt idx="834">
                  <c:v>835</c:v>
                </c:pt>
                <c:pt idx="835">
                  <c:v>836</c:v>
                </c:pt>
                <c:pt idx="836">
                  <c:v>837</c:v>
                </c:pt>
                <c:pt idx="837">
                  <c:v>838</c:v>
                </c:pt>
                <c:pt idx="838">
                  <c:v>839</c:v>
                </c:pt>
                <c:pt idx="839">
                  <c:v>840</c:v>
                </c:pt>
                <c:pt idx="840">
                  <c:v>841</c:v>
                </c:pt>
                <c:pt idx="841">
                  <c:v>842</c:v>
                </c:pt>
                <c:pt idx="842">
                  <c:v>843</c:v>
                </c:pt>
                <c:pt idx="843">
                  <c:v>844</c:v>
                </c:pt>
                <c:pt idx="844">
                  <c:v>845</c:v>
                </c:pt>
                <c:pt idx="845">
                  <c:v>846</c:v>
                </c:pt>
                <c:pt idx="846">
                  <c:v>847</c:v>
                </c:pt>
                <c:pt idx="847">
                  <c:v>848</c:v>
                </c:pt>
                <c:pt idx="848">
                  <c:v>849</c:v>
                </c:pt>
                <c:pt idx="849">
                  <c:v>850</c:v>
                </c:pt>
                <c:pt idx="850">
                  <c:v>851</c:v>
                </c:pt>
                <c:pt idx="851">
                  <c:v>852</c:v>
                </c:pt>
                <c:pt idx="852">
                  <c:v>853</c:v>
                </c:pt>
                <c:pt idx="853">
                  <c:v>854</c:v>
                </c:pt>
                <c:pt idx="854">
                  <c:v>855</c:v>
                </c:pt>
                <c:pt idx="855">
                  <c:v>856</c:v>
                </c:pt>
                <c:pt idx="856">
                  <c:v>857</c:v>
                </c:pt>
                <c:pt idx="857">
                  <c:v>858</c:v>
                </c:pt>
                <c:pt idx="858">
                  <c:v>859</c:v>
                </c:pt>
                <c:pt idx="859">
                  <c:v>860</c:v>
                </c:pt>
                <c:pt idx="860">
                  <c:v>861</c:v>
                </c:pt>
                <c:pt idx="861">
                  <c:v>862</c:v>
                </c:pt>
                <c:pt idx="862">
                  <c:v>863</c:v>
                </c:pt>
                <c:pt idx="863">
                  <c:v>864</c:v>
                </c:pt>
                <c:pt idx="864">
                  <c:v>865</c:v>
                </c:pt>
                <c:pt idx="865">
                  <c:v>866</c:v>
                </c:pt>
                <c:pt idx="866">
                  <c:v>867</c:v>
                </c:pt>
                <c:pt idx="867">
                  <c:v>868</c:v>
                </c:pt>
                <c:pt idx="868">
                  <c:v>869</c:v>
                </c:pt>
                <c:pt idx="869">
                  <c:v>870</c:v>
                </c:pt>
                <c:pt idx="870">
                  <c:v>871</c:v>
                </c:pt>
                <c:pt idx="871">
                  <c:v>872</c:v>
                </c:pt>
                <c:pt idx="872">
                  <c:v>873</c:v>
                </c:pt>
                <c:pt idx="873">
                  <c:v>874</c:v>
                </c:pt>
                <c:pt idx="874">
                  <c:v>875</c:v>
                </c:pt>
                <c:pt idx="875">
                  <c:v>876</c:v>
                </c:pt>
                <c:pt idx="876">
                  <c:v>877</c:v>
                </c:pt>
                <c:pt idx="877">
                  <c:v>878</c:v>
                </c:pt>
                <c:pt idx="878">
                  <c:v>879</c:v>
                </c:pt>
                <c:pt idx="879">
                  <c:v>880</c:v>
                </c:pt>
                <c:pt idx="880">
                  <c:v>881</c:v>
                </c:pt>
                <c:pt idx="881">
                  <c:v>882</c:v>
                </c:pt>
                <c:pt idx="882">
                  <c:v>883</c:v>
                </c:pt>
                <c:pt idx="883">
                  <c:v>884</c:v>
                </c:pt>
                <c:pt idx="884">
                  <c:v>885</c:v>
                </c:pt>
                <c:pt idx="885">
                  <c:v>886</c:v>
                </c:pt>
                <c:pt idx="886">
                  <c:v>887</c:v>
                </c:pt>
                <c:pt idx="887">
                  <c:v>888</c:v>
                </c:pt>
                <c:pt idx="888">
                  <c:v>889</c:v>
                </c:pt>
                <c:pt idx="889">
                  <c:v>890</c:v>
                </c:pt>
                <c:pt idx="890">
                  <c:v>891</c:v>
                </c:pt>
                <c:pt idx="891">
                  <c:v>892</c:v>
                </c:pt>
                <c:pt idx="892">
                  <c:v>893</c:v>
                </c:pt>
                <c:pt idx="893">
                  <c:v>894</c:v>
                </c:pt>
                <c:pt idx="894">
                  <c:v>895</c:v>
                </c:pt>
                <c:pt idx="895">
                  <c:v>896</c:v>
                </c:pt>
                <c:pt idx="896">
                  <c:v>897</c:v>
                </c:pt>
                <c:pt idx="897">
                  <c:v>898</c:v>
                </c:pt>
                <c:pt idx="898">
                  <c:v>899</c:v>
                </c:pt>
                <c:pt idx="899">
                  <c:v>900</c:v>
                </c:pt>
                <c:pt idx="900">
                  <c:v>901</c:v>
                </c:pt>
                <c:pt idx="901">
                  <c:v>902</c:v>
                </c:pt>
                <c:pt idx="902">
                  <c:v>903</c:v>
                </c:pt>
                <c:pt idx="903">
                  <c:v>904</c:v>
                </c:pt>
                <c:pt idx="904">
                  <c:v>905</c:v>
                </c:pt>
                <c:pt idx="905">
                  <c:v>906</c:v>
                </c:pt>
                <c:pt idx="906">
                  <c:v>907</c:v>
                </c:pt>
                <c:pt idx="907">
                  <c:v>908</c:v>
                </c:pt>
                <c:pt idx="908">
                  <c:v>909</c:v>
                </c:pt>
                <c:pt idx="909">
                  <c:v>910</c:v>
                </c:pt>
                <c:pt idx="910">
                  <c:v>911</c:v>
                </c:pt>
                <c:pt idx="911">
                  <c:v>912</c:v>
                </c:pt>
                <c:pt idx="912">
                  <c:v>913</c:v>
                </c:pt>
                <c:pt idx="913">
                  <c:v>914</c:v>
                </c:pt>
                <c:pt idx="914">
                  <c:v>915</c:v>
                </c:pt>
                <c:pt idx="915">
                  <c:v>916</c:v>
                </c:pt>
                <c:pt idx="916">
                  <c:v>917</c:v>
                </c:pt>
                <c:pt idx="917">
                  <c:v>918</c:v>
                </c:pt>
                <c:pt idx="918">
                  <c:v>919</c:v>
                </c:pt>
                <c:pt idx="919">
                  <c:v>920</c:v>
                </c:pt>
                <c:pt idx="920">
                  <c:v>921</c:v>
                </c:pt>
                <c:pt idx="921">
                  <c:v>922</c:v>
                </c:pt>
                <c:pt idx="922">
                  <c:v>923</c:v>
                </c:pt>
                <c:pt idx="923">
                  <c:v>924</c:v>
                </c:pt>
                <c:pt idx="924">
                  <c:v>925</c:v>
                </c:pt>
                <c:pt idx="925">
                  <c:v>926</c:v>
                </c:pt>
                <c:pt idx="926">
                  <c:v>927</c:v>
                </c:pt>
                <c:pt idx="927">
                  <c:v>928</c:v>
                </c:pt>
                <c:pt idx="928">
                  <c:v>929</c:v>
                </c:pt>
                <c:pt idx="929">
                  <c:v>930</c:v>
                </c:pt>
                <c:pt idx="930">
                  <c:v>931</c:v>
                </c:pt>
                <c:pt idx="931">
                  <c:v>932</c:v>
                </c:pt>
                <c:pt idx="932">
                  <c:v>933</c:v>
                </c:pt>
                <c:pt idx="933">
                  <c:v>934</c:v>
                </c:pt>
                <c:pt idx="934">
                  <c:v>935</c:v>
                </c:pt>
                <c:pt idx="935">
                  <c:v>936</c:v>
                </c:pt>
                <c:pt idx="936">
                  <c:v>937</c:v>
                </c:pt>
                <c:pt idx="937">
                  <c:v>938</c:v>
                </c:pt>
                <c:pt idx="938">
                  <c:v>939</c:v>
                </c:pt>
                <c:pt idx="939">
                  <c:v>940</c:v>
                </c:pt>
                <c:pt idx="940">
                  <c:v>941</c:v>
                </c:pt>
                <c:pt idx="941">
                  <c:v>942</c:v>
                </c:pt>
                <c:pt idx="942">
                  <c:v>943</c:v>
                </c:pt>
                <c:pt idx="943">
                  <c:v>944</c:v>
                </c:pt>
                <c:pt idx="944">
                  <c:v>945</c:v>
                </c:pt>
                <c:pt idx="945">
                  <c:v>946</c:v>
                </c:pt>
                <c:pt idx="946">
                  <c:v>947</c:v>
                </c:pt>
                <c:pt idx="947">
                  <c:v>948</c:v>
                </c:pt>
                <c:pt idx="948">
                  <c:v>949</c:v>
                </c:pt>
                <c:pt idx="949">
                  <c:v>950</c:v>
                </c:pt>
                <c:pt idx="950">
                  <c:v>951</c:v>
                </c:pt>
                <c:pt idx="951">
                  <c:v>952</c:v>
                </c:pt>
                <c:pt idx="952">
                  <c:v>953</c:v>
                </c:pt>
                <c:pt idx="953">
                  <c:v>954</c:v>
                </c:pt>
                <c:pt idx="954">
                  <c:v>955</c:v>
                </c:pt>
                <c:pt idx="955">
                  <c:v>956</c:v>
                </c:pt>
                <c:pt idx="956">
                  <c:v>957</c:v>
                </c:pt>
                <c:pt idx="957">
                  <c:v>958</c:v>
                </c:pt>
                <c:pt idx="958">
                  <c:v>959</c:v>
                </c:pt>
                <c:pt idx="959">
                  <c:v>960</c:v>
                </c:pt>
                <c:pt idx="960">
                  <c:v>961</c:v>
                </c:pt>
                <c:pt idx="961">
                  <c:v>962</c:v>
                </c:pt>
                <c:pt idx="962">
                  <c:v>963</c:v>
                </c:pt>
                <c:pt idx="963">
                  <c:v>964</c:v>
                </c:pt>
                <c:pt idx="964">
                  <c:v>965</c:v>
                </c:pt>
                <c:pt idx="965">
                  <c:v>966</c:v>
                </c:pt>
                <c:pt idx="966">
                  <c:v>967</c:v>
                </c:pt>
                <c:pt idx="967">
                  <c:v>968</c:v>
                </c:pt>
                <c:pt idx="968">
                  <c:v>969</c:v>
                </c:pt>
                <c:pt idx="969">
                  <c:v>970</c:v>
                </c:pt>
                <c:pt idx="970">
                  <c:v>971</c:v>
                </c:pt>
                <c:pt idx="971">
                  <c:v>972</c:v>
                </c:pt>
                <c:pt idx="972">
                  <c:v>973</c:v>
                </c:pt>
                <c:pt idx="973">
                  <c:v>974</c:v>
                </c:pt>
                <c:pt idx="974">
                  <c:v>975</c:v>
                </c:pt>
                <c:pt idx="975">
                  <c:v>976</c:v>
                </c:pt>
                <c:pt idx="976">
                  <c:v>977</c:v>
                </c:pt>
                <c:pt idx="977">
                  <c:v>978</c:v>
                </c:pt>
                <c:pt idx="978">
                  <c:v>979</c:v>
                </c:pt>
                <c:pt idx="979">
                  <c:v>980</c:v>
                </c:pt>
                <c:pt idx="980">
                  <c:v>981</c:v>
                </c:pt>
                <c:pt idx="981">
                  <c:v>982</c:v>
                </c:pt>
                <c:pt idx="982">
                  <c:v>983</c:v>
                </c:pt>
                <c:pt idx="983">
                  <c:v>984</c:v>
                </c:pt>
                <c:pt idx="984">
                  <c:v>985</c:v>
                </c:pt>
                <c:pt idx="985">
                  <c:v>986</c:v>
                </c:pt>
                <c:pt idx="986">
                  <c:v>987</c:v>
                </c:pt>
                <c:pt idx="987">
                  <c:v>988</c:v>
                </c:pt>
                <c:pt idx="988">
                  <c:v>989</c:v>
                </c:pt>
                <c:pt idx="989">
                  <c:v>990</c:v>
                </c:pt>
                <c:pt idx="990">
                  <c:v>991</c:v>
                </c:pt>
                <c:pt idx="991">
                  <c:v>992</c:v>
                </c:pt>
                <c:pt idx="992">
                  <c:v>993</c:v>
                </c:pt>
                <c:pt idx="993">
                  <c:v>994</c:v>
                </c:pt>
                <c:pt idx="994">
                  <c:v>995</c:v>
                </c:pt>
                <c:pt idx="995">
                  <c:v>996</c:v>
                </c:pt>
                <c:pt idx="996">
                  <c:v>997</c:v>
                </c:pt>
                <c:pt idx="997">
                  <c:v>998</c:v>
                </c:pt>
                <c:pt idx="998">
                  <c:v>999</c:v>
                </c:pt>
                <c:pt idx="999">
                  <c:v>1000</c:v>
                </c:pt>
                <c:pt idx="1000">
                  <c:v>1001</c:v>
                </c:pt>
                <c:pt idx="1001">
                  <c:v>1002</c:v>
                </c:pt>
                <c:pt idx="1002">
                  <c:v>1003</c:v>
                </c:pt>
                <c:pt idx="1003">
                  <c:v>1004</c:v>
                </c:pt>
                <c:pt idx="1004">
                  <c:v>1005</c:v>
                </c:pt>
                <c:pt idx="1005">
                  <c:v>1006</c:v>
                </c:pt>
                <c:pt idx="1006">
                  <c:v>1007</c:v>
                </c:pt>
                <c:pt idx="1007">
                  <c:v>1008</c:v>
                </c:pt>
                <c:pt idx="1008">
                  <c:v>1009</c:v>
                </c:pt>
                <c:pt idx="1009">
                  <c:v>1010</c:v>
                </c:pt>
                <c:pt idx="1010">
                  <c:v>1011</c:v>
                </c:pt>
                <c:pt idx="1011">
                  <c:v>1012</c:v>
                </c:pt>
                <c:pt idx="1012">
                  <c:v>1013</c:v>
                </c:pt>
                <c:pt idx="1013">
                  <c:v>1014</c:v>
                </c:pt>
                <c:pt idx="1014">
                  <c:v>1015</c:v>
                </c:pt>
                <c:pt idx="1015">
                  <c:v>1016</c:v>
                </c:pt>
                <c:pt idx="1016">
                  <c:v>1017</c:v>
                </c:pt>
                <c:pt idx="1017">
                  <c:v>1018</c:v>
                </c:pt>
                <c:pt idx="1018">
                  <c:v>1019</c:v>
                </c:pt>
                <c:pt idx="1019">
                  <c:v>1020</c:v>
                </c:pt>
                <c:pt idx="1020">
                  <c:v>1021</c:v>
                </c:pt>
                <c:pt idx="1021">
                  <c:v>1022</c:v>
                </c:pt>
                <c:pt idx="1022">
                  <c:v>1023</c:v>
                </c:pt>
                <c:pt idx="1023">
                  <c:v>1024</c:v>
                </c:pt>
                <c:pt idx="1024">
                  <c:v>1025</c:v>
                </c:pt>
                <c:pt idx="1025">
                  <c:v>1026</c:v>
                </c:pt>
                <c:pt idx="1026">
                  <c:v>1027</c:v>
                </c:pt>
                <c:pt idx="1027">
                  <c:v>1028</c:v>
                </c:pt>
                <c:pt idx="1028">
                  <c:v>1029</c:v>
                </c:pt>
                <c:pt idx="1029">
                  <c:v>1030</c:v>
                </c:pt>
                <c:pt idx="1030">
                  <c:v>1031</c:v>
                </c:pt>
                <c:pt idx="1031">
                  <c:v>1032</c:v>
                </c:pt>
                <c:pt idx="1032">
                  <c:v>1033</c:v>
                </c:pt>
                <c:pt idx="1033">
                  <c:v>1034</c:v>
                </c:pt>
                <c:pt idx="1034">
                  <c:v>1035</c:v>
                </c:pt>
                <c:pt idx="1035">
                  <c:v>1036</c:v>
                </c:pt>
                <c:pt idx="1036">
                  <c:v>1037</c:v>
                </c:pt>
                <c:pt idx="1037">
                  <c:v>1038</c:v>
                </c:pt>
                <c:pt idx="1038">
                  <c:v>1039</c:v>
                </c:pt>
                <c:pt idx="1039">
                  <c:v>1040</c:v>
                </c:pt>
                <c:pt idx="1040">
                  <c:v>1041</c:v>
                </c:pt>
                <c:pt idx="1041">
                  <c:v>1042</c:v>
                </c:pt>
                <c:pt idx="1042">
                  <c:v>1043</c:v>
                </c:pt>
                <c:pt idx="1043">
                  <c:v>1044</c:v>
                </c:pt>
                <c:pt idx="1044">
                  <c:v>1045</c:v>
                </c:pt>
                <c:pt idx="1045">
                  <c:v>1046</c:v>
                </c:pt>
                <c:pt idx="1046">
                  <c:v>1047</c:v>
                </c:pt>
                <c:pt idx="1047">
                  <c:v>1048</c:v>
                </c:pt>
                <c:pt idx="1048">
                  <c:v>1049</c:v>
                </c:pt>
                <c:pt idx="1049">
                  <c:v>1050</c:v>
                </c:pt>
                <c:pt idx="1050">
                  <c:v>1051</c:v>
                </c:pt>
                <c:pt idx="1051">
                  <c:v>1052</c:v>
                </c:pt>
                <c:pt idx="1052">
                  <c:v>1053</c:v>
                </c:pt>
                <c:pt idx="1053">
                  <c:v>1054</c:v>
                </c:pt>
                <c:pt idx="1054">
                  <c:v>1055</c:v>
                </c:pt>
                <c:pt idx="1055">
                  <c:v>1056</c:v>
                </c:pt>
                <c:pt idx="1056">
                  <c:v>1057</c:v>
                </c:pt>
                <c:pt idx="1057">
                  <c:v>1058</c:v>
                </c:pt>
                <c:pt idx="1058">
                  <c:v>1059</c:v>
                </c:pt>
                <c:pt idx="1059">
                  <c:v>1060</c:v>
                </c:pt>
                <c:pt idx="1060">
                  <c:v>1061</c:v>
                </c:pt>
                <c:pt idx="1061">
                  <c:v>1062</c:v>
                </c:pt>
                <c:pt idx="1062">
                  <c:v>1063</c:v>
                </c:pt>
                <c:pt idx="1063">
                  <c:v>1064</c:v>
                </c:pt>
                <c:pt idx="1064">
                  <c:v>1065</c:v>
                </c:pt>
                <c:pt idx="1065">
                  <c:v>1066</c:v>
                </c:pt>
                <c:pt idx="1066">
                  <c:v>1067</c:v>
                </c:pt>
                <c:pt idx="1067">
                  <c:v>1068</c:v>
                </c:pt>
                <c:pt idx="1068">
                  <c:v>1069</c:v>
                </c:pt>
                <c:pt idx="1069">
                  <c:v>1070</c:v>
                </c:pt>
                <c:pt idx="1070">
                  <c:v>1071</c:v>
                </c:pt>
                <c:pt idx="1071">
                  <c:v>1072</c:v>
                </c:pt>
                <c:pt idx="1072">
                  <c:v>1073</c:v>
                </c:pt>
                <c:pt idx="1073">
                  <c:v>1074</c:v>
                </c:pt>
                <c:pt idx="1074">
                  <c:v>1075</c:v>
                </c:pt>
                <c:pt idx="1075">
                  <c:v>1076</c:v>
                </c:pt>
                <c:pt idx="1076">
                  <c:v>1077</c:v>
                </c:pt>
                <c:pt idx="1077">
                  <c:v>1078</c:v>
                </c:pt>
                <c:pt idx="1078">
                  <c:v>1079</c:v>
                </c:pt>
                <c:pt idx="1079">
                  <c:v>1080</c:v>
                </c:pt>
                <c:pt idx="1080">
                  <c:v>1081</c:v>
                </c:pt>
                <c:pt idx="1081">
                  <c:v>1082</c:v>
                </c:pt>
                <c:pt idx="1082">
                  <c:v>1083</c:v>
                </c:pt>
                <c:pt idx="1083">
                  <c:v>1084</c:v>
                </c:pt>
                <c:pt idx="1084">
                  <c:v>1085</c:v>
                </c:pt>
                <c:pt idx="1085">
                  <c:v>1086</c:v>
                </c:pt>
                <c:pt idx="1086">
                  <c:v>1087</c:v>
                </c:pt>
                <c:pt idx="1087">
                  <c:v>1088</c:v>
                </c:pt>
                <c:pt idx="1088">
                  <c:v>1089</c:v>
                </c:pt>
                <c:pt idx="1089">
                  <c:v>1090</c:v>
                </c:pt>
                <c:pt idx="1090">
                  <c:v>1091</c:v>
                </c:pt>
                <c:pt idx="1091">
                  <c:v>1092</c:v>
                </c:pt>
                <c:pt idx="1092">
                  <c:v>1093</c:v>
                </c:pt>
                <c:pt idx="1093">
                  <c:v>1094</c:v>
                </c:pt>
                <c:pt idx="1094">
                  <c:v>1095</c:v>
                </c:pt>
                <c:pt idx="1095">
                  <c:v>1096</c:v>
                </c:pt>
                <c:pt idx="1096">
                  <c:v>1097</c:v>
                </c:pt>
                <c:pt idx="1097">
                  <c:v>1098</c:v>
                </c:pt>
                <c:pt idx="1098">
                  <c:v>1099</c:v>
                </c:pt>
                <c:pt idx="1099">
                  <c:v>1100</c:v>
                </c:pt>
                <c:pt idx="1100">
                  <c:v>1101</c:v>
                </c:pt>
                <c:pt idx="1101">
                  <c:v>1102</c:v>
                </c:pt>
                <c:pt idx="1102">
                  <c:v>1103</c:v>
                </c:pt>
                <c:pt idx="1103">
                  <c:v>1104</c:v>
                </c:pt>
                <c:pt idx="1104">
                  <c:v>1105</c:v>
                </c:pt>
                <c:pt idx="1105">
                  <c:v>1106</c:v>
                </c:pt>
                <c:pt idx="1106">
                  <c:v>1107</c:v>
                </c:pt>
                <c:pt idx="1107">
                  <c:v>1108</c:v>
                </c:pt>
                <c:pt idx="1108">
                  <c:v>1109</c:v>
                </c:pt>
                <c:pt idx="1109">
                  <c:v>1110</c:v>
                </c:pt>
                <c:pt idx="1110">
                  <c:v>1111</c:v>
                </c:pt>
                <c:pt idx="1111">
                  <c:v>1112</c:v>
                </c:pt>
                <c:pt idx="1112">
                  <c:v>1113</c:v>
                </c:pt>
                <c:pt idx="1113">
                  <c:v>1114</c:v>
                </c:pt>
                <c:pt idx="1114">
                  <c:v>1115</c:v>
                </c:pt>
                <c:pt idx="1115">
                  <c:v>1116</c:v>
                </c:pt>
                <c:pt idx="1116">
                  <c:v>1117</c:v>
                </c:pt>
                <c:pt idx="1117">
                  <c:v>1118</c:v>
                </c:pt>
                <c:pt idx="1118">
                  <c:v>1119</c:v>
                </c:pt>
                <c:pt idx="1119">
                  <c:v>1120</c:v>
                </c:pt>
                <c:pt idx="1120">
                  <c:v>1121</c:v>
                </c:pt>
                <c:pt idx="1121">
                  <c:v>1122</c:v>
                </c:pt>
                <c:pt idx="1122">
                  <c:v>1123</c:v>
                </c:pt>
                <c:pt idx="1123">
                  <c:v>1124</c:v>
                </c:pt>
                <c:pt idx="1124">
                  <c:v>1125</c:v>
                </c:pt>
                <c:pt idx="1125">
                  <c:v>1126</c:v>
                </c:pt>
                <c:pt idx="1126">
                  <c:v>1127</c:v>
                </c:pt>
                <c:pt idx="1127">
                  <c:v>1128</c:v>
                </c:pt>
                <c:pt idx="1128">
                  <c:v>1129</c:v>
                </c:pt>
                <c:pt idx="1129">
                  <c:v>1130</c:v>
                </c:pt>
                <c:pt idx="1130">
                  <c:v>1131</c:v>
                </c:pt>
                <c:pt idx="1131">
                  <c:v>1132</c:v>
                </c:pt>
                <c:pt idx="1132">
                  <c:v>1133</c:v>
                </c:pt>
                <c:pt idx="1133">
                  <c:v>1134</c:v>
                </c:pt>
                <c:pt idx="1134">
                  <c:v>1135</c:v>
                </c:pt>
                <c:pt idx="1135">
                  <c:v>1136</c:v>
                </c:pt>
                <c:pt idx="1136">
                  <c:v>1137</c:v>
                </c:pt>
                <c:pt idx="1137">
                  <c:v>1138</c:v>
                </c:pt>
                <c:pt idx="1138">
                  <c:v>1139</c:v>
                </c:pt>
                <c:pt idx="1139">
                  <c:v>1140</c:v>
                </c:pt>
                <c:pt idx="1140">
                  <c:v>1141</c:v>
                </c:pt>
                <c:pt idx="1141">
                  <c:v>1142</c:v>
                </c:pt>
                <c:pt idx="1142">
                  <c:v>1143</c:v>
                </c:pt>
                <c:pt idx="1143">
                  <c:v>1144</c:v>
                </c:pt>
                <c:pt idx="1144">
                  <c:v>1145</c:v>
                </c:pt>
                <c:pt idx="1145">
                  <c:v>1146</c:v>
                </c:pt>
                <c:pt idx="1146">
                  <c:v>1147</c:v>
                </c:pt>
                <c:pt idx="1147">
                  <c:v>1148</c:v>
                </c:pt>
                <c:pt idx="1148">
                  <c:v>1149</c:v>
                </c:pt>
                <c:pt idx="1149">
                  <c:v>1150</c:v>
                </c:pt>
                <c:pt idx="1150">
                  <c:v>1151</c:v>
                </c:pt>
                <c:pt idx="1151">
                  <c:v>1152</c:v>
                </c:pt>
                <c:pt idx="1152">
                  <c:v>1153</c:v>
                </c:pt>
                <c:pt idx="1153">
                  <c:v>1154</c:v>
                </c:pt>
                <c:pt idx="1154">
                  <c:v>1155</c:v>
                </c:pt>
                <c:pt idx="1155">
                  <c:v>1156</c:v>
                </c:pt>
                <c:pt idx="1156">
                  <c:v>1157</c:v>
                </c:pt>
                <c:pt idx="1157">
                  <c:v>1158</c:v>
                </c:pt>
                <c:pt idx="1158">
                  <c:v>1159</c:v>
                </c:pt>
                <c:pt idx="1159">
                  <c:v>1160</c:v>
                </c:pt>
                <c:pt idx="1160">
                  <c:v>1161</c:v>
                </c:pt>
                <c:pt idx="1161">
                  <c:v>1162</c:v>
                </c:pt>
                <c:pt idx="1162">
                  <c:v>1163</c:v>
                </c:pt>
                <c:pt idx="1163">
                  <c:v>1164</c:v>
                </c:pt>
                <c:pt idx="1164">
                  <c:v>1165</c:v>
                </c:pt>
                <c:pt idx="1165">
                  <c:v>1166</c:v>
                </c:pt>
                <c:pt idx="1166">
                  <c:v>1167</c:v>
                </c:pt>
                <c:pt idx="1167">
                  <c:v>1168</c:v>
                </c:pt>
                <c:pt idx="1168">
                  <c:v>1169</c:v>
                </c:pt>
                <c:pt idx="1169">
                  <c:v>1170</c:v>
                </c:pt>
                <c:pt idx="1170">
                  <c:v>1171</c:v>
                </c:pt>
                <c:pt idx="1171">
                  <c:v>1172</c:v>
                </c:pt>
                <c:pt idx="1172">
                  <c:v>1173</c:v>
                </c:pt>
                <c:pt idx="1173">
                  <c:v>1174</c:v>
                </c:pt>
                <c:pt idx="1174">
                  <c:v>1175</c:v>
                </c:pt>
                <c:pt idx="1175">
                  <c:v>1176</c:v>
                </c:pt>
                <c:pt idx="1176">
                  <c:v>1177</c:v>
                </c:pt>
                <c:pt idx="1177">
                  <c:v>1178</c:v>
                </c:pt>
                <c:pt idx="1178">
                  <c:v>1179</c:v>
                </c:pt>
                <c:pt idx="1179">
                  <c:v>1180</c:v>
                </c:pt>
                <c:pt idx="1180">
                  <c:v>1181</c:v>
                </c:pt>
                <c:pt idx="1181">
                  <c:v>1182</c:v>
                </c:pt>
                <c:pt idx="1182">
                  <c:v>1183</c:v>
                </c:pt>
                <c:pt idx="1183">
                  <c:v>1184</c:v>
                </c:pt>
                <c:pt idx="1184">
                  <c:v>1185</c:v>
                </c:pt>
                <c:pt idx="1185">
                  <c:v>1186</c:v>
                </c:pt>
                <c:pt idx="1186">
                  <c:v>1187</c:v>
                </c:pt>
                <c:pt idx="1187">
                  <c:v>1188</c:v>
                </c:pt>
                <c:pt idx="1188">
                  <c:v>1189</c:v>
                </c:pt>
                <c:pt idx="1189">
                  <c:v>1190</c:v>
                </c:pt>
                <c:pt idx="1190">
                  <c:v>1191</c:v>
                </c:pt>
                <c:pt idx="1191">
                  <c:v>1192</c:v>
                </c:pt>
                <c:pt idx="1192">
                  <c:v>1193</c:v>
                </c:pt>
                <c:pt idx="1193">
                  <c:v>1194</c:v>
                </c:pt>
                <c:pt idx="1194">
                  <c:v>1195</c:v>
                </c:pt>
                <c:pt idx="1195">
                  <c:v>1196</c:v>
                </c:pt>
                <c:pt idx="1196">
                  <c:v>1197</c:v>
                </c:pt>
                <c:pt idx="1197">
                  <c:v>1198</c:v>
                </c:pt>
                <c:pt idx="1198">
                  <c:v>1199</c:v>
                </c:pt>
                <c:pt idx="1199">
                  <c:v>1200</c:v>
                </c:pt>
                <c:pt idx="1200">
                  <c:v>1201</c:v>
                </c:pt>
                <c:pt idx="1201">
                  <c:v>1202</c:v>
                </c:pt>
                <c:pt idx="1202">
                  <c:v>1203</c:v>
                </c:pt>
                <c:pt idx="1203">
                  <c:v>1204</c:v>
                </c:pt>
                <c:pt idx="1204">
                  <c:v>1205</c:v>
                </c:pt>
                <c:pt idx="1205">
                  <c:v>1206</c:v>
                </c:pt>
                <c:pt idx="1206">
                  <c:v>1207</c:v>
                </c:pt>
                <c:pt idx="1207">
                  <c:v>1208</c:v>
                </c:pt>
                <c:pt idx="1208">
                  <c:v>1209</c:v>
                </c:pt>
                <c:pt idx="1209">
                  <c:v>1210</c:v>
                </c:pt>
                <c:pt idx="1210">
                  <c:v>1211</c:v>
                </c:pt>
                <c:pt idx="1211">
                  <c:v>1212</c:v>
                </c:pt>
                <c:pt idx="1212">
                  <c:v>1213</c:v>
                </c:pt>
                <c:pt idx="1213">
                  <c:v>1214</c:v>
                </c:pt>
                <c:pt idx="1214">
                  <c:v>1215</c:v>
                </c:pt>
                <c:pt idx="1215">
                  <c:v>1216</c:v>
                </c:pt>
                <c:pt idx="1216">
                  <c:v>1217</c:v>
                </c:pt>
                <c:pt idx="1217">
                  <c:v>1218</c:v>
                </c:pt>
                <c:pt idx="1218">
                  <c:v>1219</c:v>
                </c:pt>
                <c:pt idx="1219">
                  <c:v>1220</c:v>
                </c:pt>
                <c:pt idx="1220">
                  <c:v>1221</c:v>
                </c:pt>
                <c:pt idx="1221">
                  <c:v>1222</c:v>
                </c:pt>
                <c:pt idx="1222">
                  <c:v>1223</c:v>
                </c:pt>
                <c:pt idx="1223">
                  <c:v>1224</c:v>
                </c:pt>
                <c:pt idx="1224">
                  <c:v>1225</c:v>
                </c:pt>
                <c:pt idx="1225">
                  <c:v>1226</c:v>
                </c:pt>
                <c:pt idx="1226">
                  <c:v>1227</c:v>
                </c:pt>
                <c:pt idx="1227">
                  <c:v>1228</c:v>
                </c:pt>
                <c:pt idx="1228">
                  <c:v>1229</c:v>
                </c:pt>
                <c:pt idx="1229">
                  <c:v>1230</c:v>
                </c:pt>
                <c:pt idx="1230">
                  <c:v>1231</c:v>
                </c:pt>
                <c:pt idx="1231">
                  <c:v>1232</c:v>
                </c:pt>
                <c:pt idx="1232">
                  <c:v>1233</c:v>
                </c:pt>
                <c:pt idx="1233">
                  <c:v>1234</c:v>
                </c:pt>
                <c:pt idx="1234">
                  <c:v>1235</c:v>
                </c:pt>
                <c:pt idx="1235">
                  <c:v>1236</c:v>
                </c:pt>
                <c:pt idx="1236">
                  <c:v>1237</c:v>
                </c:pt>
                <c:pt idx="1237">
                  <c:v>1238</c:v>
                </c:pt>
                <c:pt idx="1238">
                  <c:v>1239</c:v>
                </c:pt>
                <c:pt idx="1239">
                  <c:v>1240</c:v>
                </c:pt>
                <c:pt idx="1240">
                  <c:v>1241</c:v>
                </c:pt>
                <c:pt idx="1241">
                  <c:v>1242</c:v>
                </c:pt>
                <c:pt idx="1242">
                  <c:v>1243</c:v>
                </c:pt>
                <c:pt idx="1243">
                  <c:v>1244</c:v>
                </c:pt>
                <c:pt idx="1244">
                  <c:v>1245</c:v>
                </c:pt>
                <c:pt idx="1245">
                  <c:v>1246</c:v>
                </c:pt>
                <c:pt idx="1246">
                  <c:v>1247</c:v>
                </c:pt>
                <c:pt idx="1247">
                  <c:v>1248</c:v>
                </c:pt>
                <c:pt idx="1248">
                  <c:v>1249</c:v>
                </c:pt>
                <c:pt idx="1249">
                  <c:v>1250</c:v>
                </c:pt>
                <c:pt idx="1250">
                  <c:v>1251</c:v>
                </c:pt>
                <c:pt idx="1251">
                  <c:v>1252</c:v>
                </c:pt>
                <c:pt idx="1252">
                  <c:v>1253</c:v>
                </c:pt>
                <c:pt idx="1253">
                  <c:v>1254</c:v>
                </c:pt>
                <c:pt idx="1254">
                  <c:v>1255</c:v>
                </c:pt>
                <c:pt idx="1255">
                  <c:v>1256</c:v>
                </c:pt>
                <c:pt idx="1256">
                  <c:v>1257</c:v>
                </c:pt>
                <c:pt idx="1257">
                  <c:v>1258</c:v>
                </c:pt>
                <c:pt idx="1258">
                  <c:v>1259</c:v>
                </c:pt>
                <c:pt idx="1259">
                  <c:v>1260</c:v>
                </c:pt>
                <c:pt idx="1260">
                  <c:v>1261</c:v>
                </c:pt>
                <c:pt idx="1261">
                  <c:v>1262</c:v>
                </c:pt>
                <c:pt idx="1262">
                  <c:v>1263</c:v>
                </c:pt>
                <c:pt idx="1263">
                  <c:v>1264</c:v>
                </c:pt>
                <c:pt idx="1264">
                  <c:v>1265</c:v>
                </c:pt>
                <c:pt idx="1265">
                  <c:v>1266</c:v>
                </c:pt>
                <c:pt idx="1266">
                  <c:v>1267</c:v>
                </c:pt>
                <c:pt idx="1267">
                  <c:v>1268</c:v>
                </c:pt>
                <c:pt idx="1268">
                  <c:v>1269</c:v>
                </c:pt>
                <c:pt idx="1269">
                  <c:v>1270</c:v>
                </c:pt>
                <c:pt idx="1270">
                  <c:v>1271</c:v>
                </c:pt>
                <c:pt idx="1271">
                  <c:v>1272</c:v>
                </c:pt>
                <c:pt idx="1272">
                  <c:v>1273</c:v>
                </c:pt>
                <c:pt idx="1273">
                  <c:v>1274</c:v>
                </c:pt>
                <c:pt idx="1274">
                  <c:v>1275</c:v>
                </c:pt>
                <c:pt idx="1275">
                  <c:v>1276</c:v>
                </c:pt>
                <c:pt idx="1276">
                  <c:v>1277</c:v>
                </c:pt>
                <c:pt idx="1277">
                  <c:v>1278</c:v>
                </c:pt>
                <c:pt idx="1278">
                  <c:v>1279</c:v>
                </c:pt>
                <c:pt idx="1279">
                  <c:v>1280</c:v>
                </c:pt>
                <c:pt idx="1280">
                  <c:v>1281</c:v>
                </c:pt>
                <c:pt idx="1281">
                  <c:v>1282</c:v>
                </c:pt>
                <c:pt idx="1282">
                  <c:v>1283</c:v>
                </c:pt>
                <c:pt idx="1283">
                  <c:v>1284</c:v>
                </c:pt>
                <c:pt idx="1284">
                  <c:v>1285</c:v>
                </c:pt>
                <c:pt idx="1285">
                  <c:v>1286</c:v>
                </c:pt>
                <c:pt idx="1286">
                  <c:v>1287</c:v>
                </c:pt>
                <c:pt idx="1287">
                  <c:v>1288</c:v>
                </c:pt>
                <c:pt idx="1288">
                  <c:v>1289</c:v>
                </c:pt>
                <c:pt idx="1289">
                  <c:v>1290</c:v>
                </c:pt>
                <c:pt idx="1290">
                  <c:v>1291</c:v>
                </c:pt>
                <c:pt idx="1291">
                  <c:v>1292</c:v>
                </c:pt>
                <c:pt idx="1292">
                  <c:v>1293</c:v>
                </c:pt>
                <c:pt idx="1293">
                  <c:v>1294</c:v>
                </c:pt>
                <c:pt idx="1294">
                  <c:v>1295</c:v>
                </c:pt>
                <c:pt idx="1295">
                  <c:v>1296</c:v>
                </c:pt>
                <c:pt idx="1296">
                  <c:v>1297</c:v>
                </c:pt>
                <c:pt idx="1297">
                  <c:v>1298</c:v>
                </c:pt>
                <c:pt idx="1298">
                  <c:v>1299</c:v>
                </c:pt>
                <c:pt idx="1299">
                  <c:v>1300</c:v>
                </c:pt>
                <c:pt idx="1300">
                  <c:v>1301</c:v>
                </c:pt>
                <c:pt idx="1301">
                  <c:v>1302</c:v>
                </c:pt>
                <c:pt idx="1302">
                  <c:v>1303</c:v>
                </c:pt>
                <c:pt idx="1303">
                  <c:v>1304</c:v>
                </c:pt>
                <c:pt idx="1304">
                  <c:v>1305</c:v>
                </c:pt>
                <c:pt idx="1305">
                  <c:v>1306</c:v>
                </c:pt>
                <c:pt idx="1306">
                  <c:v>1307</c:v>
                </c:pt>
                <c:pt idx="1307">
                  <c:v>1308</c:v>
                </c:pt>
                <c:pt idx="1308">
                  <c:v>1309</c:v>
                </c:pt>
                <c:pt idx="1309">
                  <c:v>1310</c:v>
                </c:pt>
                <c:pt idx="1310">
                  <c:v>1311</c:v>
                </c:pt>
                <c:pt idx="1311">
                  <c:v>1312</c:v>
                </c:pt>
                <c:pt idx="1312">
                  <c:v>1313</c:v>
                </c:pt>
                <c:pt idx="1313">
                  <c:v>1314</c:v>
                </c:pt>
                <c:pt idx="1314">
                  <c:v>1315</c:v>
                </c:pt>
                <c:pt idx="1315">
                  <c:v>1316</c:v>
                </c:pt>
                <c:pt idx="1316">
                  <c:v>1317</c:v>
                </c:pt>
                <c:pt idx="1317">
                  <c:v>1318</c:v>
                </c:pt>
                <c:pt idx="1318">
                  <c:v>1319</c:v>
                </c:pt>
                <c:pt idx="1319">
                  <c:v>1320</c:v>
                </c:pt>
                <c:pt idx="1320">
                  <c:v>1321</c:v>
                </c:pt>
                <c:pt idx="1321">
                  <c:v>1322</c:v>
                </c:pt>
                <c:pt idx="1322">
                  <c:v>1323</c:v>
                </c:pt>
                <c:pt idx="1323">
                  <c:v>1324</c:v>
                </c:pt>
                <c:pt idx="1324">
                  <c:v>1325</c:v>
                </c:pt>
                <c:pt idx="1325">
                  <c:v>1326</c:v>
                </c:pt>
                <c:pt idx="1326">
                  <c:v>1327</c:v>
                </c:pt>
                <c:pt idx="1327">
                  <c:v>1328</c:v>
                </c:pt>
                <c:pt idx="1328">
                  <c:v>1329</c:v>
                </c:pt>
                <c:pt idx="1329">
                  <c:v>1330</c:v>
                </c:pt>
                <c:pt idx="1330">
                  <c:v>1331</c:v>
                </c:pt>
                <c:pt idx="1331">
                  <c:v>1332</c:v>
                </c:pt>
                <c:pt idx="1332">
                  <c:v>1333</c:v>
                </c:pt>
                <c:pt idx="1333">
                  <c:v>1334</c:v>
                </c:pt>
                <c:pt idx="1334">
                  <c:v>1335</c:v>
                </c:pt>
                <c:pt idx="1335">
                  <c:v>1336</c:v>
                </c:pt>
                <c:pt idx="1336">
                  <c:v>1337</c:v>
                </c:pt>
                <c:pt idx="1337">
                  <c:v>1338</c:v>
                </c:pt>
                <c:pt idx="1338">
                  <c:v>1339</c:v>
                </c:pt>
                <c:pt idx="1339">
                  <c:v>1340</c:v>
                </c:pt>
                <c:pt idx="1340">
                  <c:v>1341</c:v>
                </c:pt>
                <c:pt idx="1341">
                  <c:v>1342</c:v>
                </c:pt>
                <c:pt idx="1342">
                  <c:v>1343</c:v>
                </c:pt>
                <c:pt idx="1343">
                  <c:v>1344</c:v>
                </c:pt>
                <c:pt idx="1344">
                  <c:v>1345</c:v>
                </c:pt>
                <c:pt idx="1345">
                  <c:v>1346</c:v>
                </c:pt>
                <c:pt idx="1346">
                  <c:v>1347</c:v>
                </c:pt>
                <c:pt idx="1347">
                  <c:v>1348</c:v>
                </c:pt>
                <c:pt idx="1348">
                  <c:v>1349</c:v>
                </c:pt>
                <c:pt idx="1349">
                  <c:v>1350</c:v>
                </c:pt>
                <c:pt idx="1350">
                  <c:v>1351</c:v>
                </c:pt>
                <c:pt idx="1351">
                  <c:v>1352</c:v>
                </c:pt>
                <c:pt idx="1352">
                  <c:v>1353</c:v>
                </c:pt>
                <c:pt idx="1353">
                  <c:v>1354</c:v>
                </c:pt>
                <c:pt idx="1354">
                  <c:v>1355</c:v>
                </c:pt>
                <c:pt idx="1355">
                  <c:v>1356</c:v>
                </c:pt>
                <c:pt idx="1356">
                  <c:v>1357</c:v>
                </c:pt>
                <c:pt idx="1357">
                  <c:v>1358</c:v>
                </c:pt>
                <c:pt idx="1358">
                  <c:v>1359</c:v>
                </c:pt>
                <c:pt idx="1359">
                  <c:v>1360</c:v>
                </c:pt>
                <c:pt idx="1360">
                  <c:v>1361</c:v>
                </c:pt>
                <c:pt idx="1361">
                  <c:v>1362</c:v>
                </c:pt>
                <c:pt idx="1362">
                  <c:v>1363</c:v>
                </c:pt>
                <c:pt idx="1363">
                  <c:v>1364</c:v>
                </c:pt>
                <c:pt idx="1364">
                  <c:v>1365</c:v>
                </c:pt>
                <c:pt idx="1365">
                  <c:v>1366</c:v>
                </c:pt>
                <c:pt idx="1366">
                  <c:v>1367</c:v>
                </c:pt>
                <c:pt idx="1367">
                  <c:v>1368</c:v>
                </c:pt>
                <c:pt idx="1368">
                  <c:v>1369</c:v>
                </c:pt>
                <c:pt idx="1369">
                  <c:v>1370</c:v>
                </c:pt>
                <c:pt idx="1370">
                  <c:v>1371</c:v>
                </c:pt>
                <c:pt idx="1371">
                  <c:v>1372</c:v>
                </c:pt>
                <c:pt idx="1372">
                  <c:v>1373</c:v>
                </c:pt>
                <c:pt idx="1373">
                  <c:v>1374</c:v>
                </c:pt>
                <c:pt idx="1374">
                  <c:v>1375</c:v>
                </c:pt>
                <c:pt idx="1375">
                  <c:v>1376</c:v>
                </c:pt>
                <c:pt idx="1376">
                  <c:v>1377</c:v>
                </c:pt>
                <c:pt idx="1377">
                  <c:v>1378</c:v>
                </c:pt>
                <c:pt idx="1378">
                  <c:v>1379</c:v>
                </c:pt>
                <c:pt idx="1379">
                  <c:v>1380</c:v>
                </c:pt>
                <c:pt idx="1380">
                  <c:v>1381</c:v>
                </c:pt>
                <c:pt idx="1381">
                  <c:v>1382</c:v>
                </c:pt>
                <c:pt idx="1382">
                  <c:v>1383</c:v>
                </c:pt>
                <c:pt idx="1383">
                  <c:v>1384</c:v>
                </c:pt>
                <c:pt idx="1384">
                  <c:v>1385</c:v>
                </c:pt>
                <c:pt idx="1385">
                  <c:v>1386</c:v>
                </c:pt>
                <c:pt idx="1386">
                  <c:v>1387</c:v>
                </c:pt>
                <c:pt idx="1387">
                  <c:v>1388</c:v>
                </c:pt>
                <c:pt idx="1388">
                  <c:v>1389</c:v>
                </c:pt>
                <c:pt idx="1389">
                  <c:v>1390</c:v>
                </c:pt>
                <c:pt idx="1390">
                  <c:v>1391</c:v>
                </c:pt>
                <c:pt idx="1391">
                  <c:v>1392</c:v>
                </c:pt>
                <c:pt idx="1392">
                  <c:v>1393</c:v>
                </c:pt>
                <c:pt idx="1393">
                  <c:v>1394</c:v>
                </c:pt>
                <c:pt idx="1394">
                  <c:v>1395</c:v>
                </c:pt>
                <c:pt idx="1395">
                  <c:v>1396</c:v>
                </c:pt>
                <c:pt idx="1396">
                  <c:v>1397</c:v>
                </c:pt>
                <c:pt idx="1397">
                  <c:v>1398</c:v>
                </c:pt>
                <c:pt idx="1398">
                  <c:v>1399</c:v>
                </c:pt>
                <c:pt idx="1399">
                  <c:v>1400</c:v>
                </c:pt>
                <c:pt idx="1400">
                  <c:v>1401</c:v>
                </c:pt>
                <c:pt idx="1401">
                  <c:v>1402</c:v>
                </c:pt>
                <c:pt idx="1402">
                  <c:v>1403</c:v>
                </c:pt>
                <c:pt idx="1403">
                  <c:v>1404</c:v>
                </c:pt>
                <c:pt idx="1404">
                  <c:v>1405</c:v>
                </c:pt>
                <c:pt idx="1405">
                  <c:v>1406</c:v>
                </c:pt>
                <c:pt idx="1406">
                  <c:v>1407</c:v>
                </c:pt>
                <c:pt idx="1407">
                  <c:v>1408</c:v>
                </c:pt>
                <c:pt idx="1408">
                  <c:v>1409</c:v>
                </c:pt>
                <c:pt idx="1409">
                  <c:v>1410</c:v>
                </c:pt>
                <c:pt idx="1410">
                  <c:v>1411</c:v>
                </c:pt>
                <c:pt idx="1411">
                  <c:v>1412</c:v>
                </c:pt>
                <c:pt idx="1412">
                  <c:v>1413</c:v>
                </c:pt>
                <c:pt idx="1413">
                  <c:v>1414</c:v>
                </c:pt>
                <c:pt idx="1414">
                  <c:v>1415</c:v>
                </c:pt>
                <c:pt idx="1415">
                  <c:v>1416</c:v>
                </c:pt>
                <c:pt idx="1416">
                  <c:v>1417</c:v>
                </c:pt>
                <c:pt idx="1417">
                  <c:v>1418</c:v>
                </c:pt>
                <c:pt idx="1418">
                  <c:v>1419</c:v>
                </c:pt>
                <c:pt idx="1419">
                  <c:v>1420</c:v>
                </c:pt>
                <c:pt idx="1420">
                  <c:v>1421</c:v>
                </c:pt>
                <c:pt idx="1421">
                  <c:v>1422</c:v>
                </c:pt>
                <c:pt idx="1422">
                  <c:v>1423</c:v>
                </c:pt>
                <c:pt idx="1423">
                  <c:v>1424</c:v>
                </c:pt>
                <c:pt idx="1424">
                  <c:v>1425</c:v>
                </c:pt>
                <c:pt idx="1425">
                  <c:v>1426</c:v>
                </c:pt>
                <c:pt idx="1426">
                  <c:v>1427</c:v>
                </c:pt>
                <c:pt idx="1427">
                  <c:v>1428</c:v>
                </c:pt>
                <c:pt idx="1428">
                  <c:v>1429</c:v>
                </c:pt>
                <c:pt idx="1429">
                  <c:v>1430</c:v>
                </c:pt>
                <c:pt idx="1430">
                  <c:v>1431</c:v>
                </c:pt>
                <c:pt idx="1431">
                  <c:v>1432</c:v>
                </c:pt>
                <c:pt idx="1432">
                  <c:v>1433</c:v>
                </c:pt>
                <c:pt idx="1433">
                  <c:v>1434</c:v>
                </c:pt>
                <c:pt idx="1434">
                  <c:v>1435</c:v>
                </c:pt>
                <c:pt idx="1435">
                  <c:v>1436</c:v>
                </c:pt>
                <c:pt idx="1436">
                  <c:v>1437</c:v>
                </c:pt>
                <c:pt idx="1437">
                  <c:v>1438</c:v>
                </c:pt>
                <c:pt idx="1438">
                  <c:v>1439</c:v>
                </c:pt>
                <c:pt idx="1439">
                  <c:v>1440</c:v>
                </c:pt>
                <c:pt idx="1440">
                  <c:v>1441</c:v>
                </c:pt>
                <c:pt idx="1441">
                  <c:v>1442</c:v>
                </c:pt>
                <c:pt idx="1442">
                  <c:v>1443</c:v>
                </c:pt>
                <c:pt idx="1443">
                  <c:v>1444</c:v>
                </c:pt>
                <c:pt idx="1444">
                  <c:v>1445</c:v>
                </c:pt>
                <c:pt idx="1445">
                  <c:v>1446</c:v>
                </c:pt>
                <c:pt idx="1446">
                  <c:v>1447</c:v>
                </c:pt>
                <c:pt idx="1447">
                  <c:v>1448</c:v>
                </c:pt>
                <c:pt idx="1448">
                  <c:v>1449</c:v>
                </c:pt>
                <c:pt idx="1449">
                  <c:v>1450</c:v>
                </c:pt>
                <c:pt idx="1450">
                  <c:v>1451</c:v>
                </c:pt>
                <c:pt idx="1451">
                  <c:v>1452</c:v>
                </c:pt>
                <c:pt idx="1452">
                  <c:v>1453</c:v>
                </c:pt>
                <c:pt idx="1453">
                  <c:v>1454</c:v>
                </c:pt>
                <c:pt idx="1454">
                  <c:v>1455</c:v>
                </c:pt>
                <c:pt idx="1455">
                  <c:v>1456</c:v>
                </c:pt>
                <c:pt idx="1456">
                  <c:v>1457</c:v>
                </c:pt>
                <c:pt idx="1457">
                  <c:v>1458</c:v>
                </c:pt>
                <c:pt idx="1458">
                  <c:v>1459</c:v>
                </c:pt>
                <c:pt idx="1459">
                  <c:v>1460</c:v>
                </c:pt>
                <c:pt idx="1460">
                  <c:v>1461</c:v>
                </c:pt>
                <c:pt idx="1461">
                  <c:v>1462</c:v>
                </c:pt>
                <c:pt idx="1462">
                  <c:v>1463</c:v>
                </c:pt>
                <c:pt idx="1463">
                  <c:v>1464</c:v>
                </c:pt>
                <c:pt idx="1464">
                  <c:v>1465</c:v>
                </c:pt>
                <c:pt idx="1465">
                  <c:v>1466</c:v>
                </c:pt>
                <c:pt idx="1466">
                  <c:v>1467</c:v>
                </c:pt>
                <c:pt idx="1467">
                  <c:v>1468</c:v>
                </c:pt>
                <c:pt idx="1468">
                  <c:v>1469</c:v>
                </c:pt>
                <c:pt idx="1469">
                  <c:v>1470</c:v>
                </c:pt>
                <c:pt idx="1470">
                  <c:v>1471</c:v>
                </c:pt>
                <c:pt idx="1471">
                  <c:v>1472</c:v>
                </c:pt>
                <c:pt idx="1472">
                  <c:v>1473</c:v>
                </c:pt>
                <c:pt idx="1473">
                  <c:v>1474</c:v>
                </c:pt>
                <c:pt idx="1474">
                  <c:v>1475</c:v>
                </c:pt>
                <c:pt idx="1475">
                  <c:v>1476</c:v>
                </c:pt>
                <c:pt idx="1476">
                  <c:v>1477</c:v>
                </c:pt>
                <c:pt idx="1477">
                  <c:v>1478</c:v>
                </c:pt>
                <c:pt idx="1478">
                  <c:v>1479</c:v>
                </c:pt>
                <c:pt idx="1479">
                  <c:v>1480</c:v>
                </c:pt>
                <c:pt idx="1480">
                  <c:v>1481</c:v>
                </c:pt>
                <c:pt idx="1481">
                  <c:v>1482</c:v>
                </c:pt>
                <c:pt idx="1482">
                  <c:v>1483</c:v>
                </c:pt>
                <c:pt idx="1483">
                  <c:v>1484</c:v>
                </c:pt>
                <c:pt idx="1484">
                  <c:v>1485</c:v>
                </c:pt>
                <c:pt idx="1485">
                  <c:v>1486</c:v>
                </c:pt>
                <c:pt idx="1486">
                  <c:v>1487</c:v>
                </c:pt>
                <c:pt idx="1487">
                  <c:v>1488</c:v>
                </c:pt>
                <c:pt idx="1488">
                  <c:v>1489</c:v>
                </c:pt>
                <c:pt idx="1489">
                  <c:v>1490</c:v>
                </c:pt>
                <c:pt idx="1490">
                  <c:v>1491</c:v>
                </c:pt>
                <c:pt idx="1491">
                  <c:v>1492</c:v>
                </c:pt>
                <c:pt idx="1492">
                  <c:v>1493</c:v>
                </c:pt>
                <c:pt idx="1493">
                  <c:v>1494</c:v>
                </c:pt>
                <c:pt idx="1494">
                  <c:v>1495</c:v>
                </c:pt>
                <c:pt idx="1495">
                  <c:v>1496</c:v>
                </c:pt>
                <c:pt idx="1496">
                  <c:v>1497</c:v>
                </c:pt>
                <c:pt idx="1497">
                  <c:v>1498</c:v>
                </c:pt>
                <c:pt idx="1498">
                  <c:v>1499</c:v>
                </c:pt>
                <c:pt idx="1499">
                  <c:v>1500</c:v>
                </c:pt>
                <c:pt idx="1500">
                  <c:v>1501</c:v>
                </c:pt>
                <c:pt idx="1501">
                  <c:v>1502</c:v>
                </c:pt>
                <c:pt idx="1502">
                  <c:v>1503</c:v>
                </c:pt>
                <c:pt idx="1503">
                  <c:v>1504</c:v>
                </c:pt>
                <c:pt idx="1504">
                  <c:v>1505</c:v>
                </c:pt>
                <c:pt idx="1505">
                  <c:v>1506</c:v>
                </c:pt>
                <c:pt idx="1506">
                  <c:v>1507</c:v>
                </c:pt>
                <c:pt idx="1507">
                  <c:v>1508</c:v>
                </c:pt>
                <c:pt idx="1508">
                  <c:v>1509</c:v>
                </c:pt>
                <c:pt idx="1509">
                  <c:v>1510</c:v>
                </c:pt>
                <c:pt idx="1510">
                  <c:v>1511</c:v>
                </c:pt>
                <c:pt idx="1511">
                  <c:v>1512</c:v>
                </c:pt>
                <c:pt idx="1512">
                  <c:v>1513</c:v>
                </c:pt>
                <c:pt idx="1513">
                  <c:v>1514</c:v>
                </c:pt>
                <c:pt idx="1514">
                  <c:v>1515</c:v>
                </c:pt>
                <c:pt idx="1515">
                  <c:v>1516</c:v>
                </c:pt>
                <c:pt idx="1516">
                  <c:v>1517</c:v>
                </c:pt>
                <c:pt idx="1517">
                  <c:v>1518</c:v>
                </c:pt>
                <c:pt idx="1518">
                  <c:v>1519</c:v>
                </c:pt>
                <c:pt idx="1519">
                  <c:v>1520</c:v>
                </c:pt>
                <c:pt idx="1520">
                  <c:v>1521</c:v>
                </c:pt>
                <c:pt idx="1521">
                  <c:v>1522</c:v>
                </c:pt>
                <c:pt idx="1522">
                  <c:v>1523</c:v>
                </c:pt>
                <c:pt idx="1523">
                  <c:v>1524</c:v>
                </c:pt>
                <c:pt idx="1524">
                  <c:v>1525</c:v>
                </c:pt>
                <c:pt idx="1525">
                  <c:v>1526</c:v>
                </c:pt>
                <c:pt idx="1526">
                  <c:v>1527</c:v>
                </c:pt>
                <c:pt idx="1527">
                  <c:v>1528</c:v>
                </c:pt>
                <c:pt idx="1528">
                  <c:v>1529</c:v>
                </c:pt>
                <c:pt idx="1529">
                  <c:v>1530</c:v>
                </c:pt>
                <c:pt idx="1530">
                  <c:v>1531</c:v>
                </c:pt>
                <c:pt idx="1531">
                  <c:v>1532</c:v>
                </c:pt>
                <c:pt idx="1532">
                  <c:v>1533</c:v>
                </c:pt>
                <c:pt idx="1533">
                  <c:v>1534</c:v>
                </c:pt>
                <c:pt idx="1534">
                  <c:v>1535</c:v>
                </c:pt>
                <c:pt idx="1535">
                  <c:v>1536</c:v>
                </c:pt>
                <c:pt idx="1536">
                  <c:v>1537</c:v>
                </c:pt>
                <c:pt idx="1537">
                  <c:v>1538</c:v>
                </c:pt>
                <c:pt idx="1538">
                  <c:v>1539</c:v>
                </c:pt>
                <c:pt idx="1539">
                  <c:v>1540</c:v>
                </c:pt>
                <c:pt idx="1540">
                  <c:v>1541</c:v>
                </c:pt>
                <c:pt idx="1541">
                  <c:v>1542</c:v>
                </c:pt>
                <c:pt idx="1542">
                  <c:v>1543</c:v>
                </c:pt>
                <c:pt idx="1543">
                  <c:v>1544</c:v>
                </c:pt>
                <c:pt idx="1544">
                  <c:v>1545</c:v>
                </c:pt>
                <c:pt idx="1545">
                  <c:v>1546</c:v>
                </c:pt>
                <c:pt idx="1546">
                  <c:v>1547</c:v>
                </c:pt>
                <c:pt idx="1547">
                  <c:v>1548</c:v>
                </c:pt>
                <c:pt idx="1548">
                  <c:v>1549</c:v>
                </c:pt>
                <c:pt idx="1549">
                  <c:v>1550</c:v>
                </c:pt>
                <c:pt idx="1550">
                  <c:v>1551</c:v>
                </c:pt>
                <c:pt idx="1551">
                  <c:v>1552</c:v>
                </c:pt>
                <c:pt idx="1552">
                  <c:v>1553</c:v>
                </c:pt>
                <c:pt idx="1553">
                  <c:v>1554</c:v>
                </c:pt>
                <c:pt idx="1554">
                  <c:v>1555</c:v>
                </c:pt>
                <c:pt idx="1555">
                  <c:v>1556</c:v>
                </c:pt>
                <c:pt idx="1556">
                  <c:v>1557</c:v>
                </c:pt>
                <c:pt idx="1557">
                  <c:v>1558</c:v>
                </c:pt>
                <c:pt idx="1558">
                  <c:v>1559</c:v>
                </c:pt>
                <c:pt idx="1559">
                  <c:v>1560</c:v>
                </c:pt>
                <c:pt idx="1560">
                  <c:v>1561</c:v>
                </c:pt>
                <c:pt idx="1561">
                  <c:v>1562</c:v>
                </c:pt>
                <c:pt idx="1562">
                  <c:v>1563</c:v>
                </c:pt>
                <c:pt idx="1563">
                  <c:v>1564</c:v>
                </c:pt>
                <c:pt idx="1564">
                  <c:v>1565</c:v>
                </c:pt>
                <c:pt idx="1565">
                  <c:v>1566</c:v>
                </c:pt>
                <c:pt idx="1566">
                  <c:v>1567</c:v>
                </c:pt>
                <c:pt idx="1567">
                  <c:v>1568</c:v>
                </c:pt>
                <c:pt idx="1568">
                  <c:v>1569</c:v>
                </c:pt>
                <c:pt idx="1569">
                  <c:v>1570</c:v>
                </c:pt>
                <c:pt idx="1570">
                  <c:v>1571</c:v>
                </c:pt>
                <c:pt idx="1571">
                  <c:v>1572</c:v>
                </c:pt>
                <c:pt idx="1572">
                  <c:v>1573</c:v>
                </c:pt>
                <c:pt idx="1573">
                  <c:v>1574</c:v>
                </c:pt>
                <c:pt idx="1574">
                  <c:v>1575</c:v>
                </c:pt>
                <c:pt idx="1575">
                  <c:v>1576</c:v>
                </c:pt>
                <c:pt idx="1576">
                  <c:v>1577</c:v>
                </c:pt>
                <c:pt idx="1577">
                  <c:v>1578</c:v>
                </c:pt>
                <c:pt idx="1578">
                  <c:v>1579</c:v>
                </c:pt>
                <c:pt idx="1579">
                  <c:v>1580</c:v>
                </c:pt>
                <c:pt idx="1580">
                  <c:v>1581</c:v>
                </c:pt>
                <c:pt idx="1581">
                  <c:v>1582</c:v>
                </c:pt>
                <c:pt idx="1582">
                  <c:v>1583</c:v>
                </c:pt>
                <c:pt idx="1583">
                  <c:v>1584</c:v>
                </c:pt>
                <c:pt idx="1584">
                  <c:v>1585</c:v>
                </c:pt>
                <c:pt idx="1585">
                  <c:v>1586</c:v>
                </c:pt>
                <c:pt idx="1586">
                  <c:v>1587</c:v>
                </c:pt>
                <c:pt idx="1587">
                  <c:v>1588</c:v>
                </c:pt>
                <c:pt idx="1588">
                  <c:v>1589</c:v>
                </c:pt>
                <c:pt idx="1589">
                  <c:v>1590</c:v>
                </c:pt>
                <c:pt idx="1590">
                  <c:v>1591</c:v>
                </c:pt>
                <c:pt idx="1591">
                  <c:v>1592</c:v>
                </c:pt>
                <c:pt idx="1592">
                  <c:v>1593</c:v>
                </c:pt>
                <c:pt idx="1593">
                  <c:v>1594</c:v>
                </c:pt>
                <c:pt idx="1594">
                  <c:v>1595</c:v>
                </c:pt>
                <c:pt idx="1595">
                  <c:v>1596</c:v>
                </c:pt>
                <c:pt idx="1596">
                  <c:v>1597</c:v>
                </c:pt>
                <c:pt idx="1597">
                  <c:v>1598</c:v>
                </c:pt>
                <c:pt idx="1598">
                  <c:v>1599</c:v>
                </c:pt>
                <c:pt idx="1599">
                  <c:v>1600</c:v>
                </c:pt>
                <c:pt idx="1600">
                  <c:v>1601</c:v>
                </c:pt>
                <c:pt idx="1601">
                  <c:v>1602</c:v>
                </c:pt>
                <c:pt idx="1602">
                  <c:v>1603</c:v>
                </c:pt>
                <c:pt idx="1603">
                  <c:v>1604</c:v>
                </c:pt>
                <c:pt idx="1604">
                  <c:v>1605</c:v>
                </c:pt>
                <c:pt idx="1605">
                  <c:v>1606</c:v>
                </c:pt>
                <c:pt idx="1606">
                  <c:v>1607</c:v>
                </c:pt>
                <c:pt idx="1607">
                  <c:v>1608</c:v>
                </c:pt>
                <c:pt idx="1608">
                  <c:v>1609</c:v>
                </c:pt>
                <c:pt idx="1609">
                  <c:v>1610</c:v>
                </c:pt>
                <c:pt idx="1610">
                  <c:v>1611</c:v>
                </c:pt>
                <c:pt idx="1611">
                  <c:v>1612</c:v>
                </c:pt>
                <c:pt idx="1612">
                  <c:v>1613</c:v>
                </c:pt>
                <c:pt idx="1613">
                  <c:v>1614</c:v>
                </c:pt>
                <c:pt idx="1614">
                  <c:v>1615</c:v>
                </c:pt>
                <c:pt idx="1615">
                  <c:v>1616</c:v>
                </c:pt>
                <c:pt idx="1616">
                  <c:v>1617</c:v>
                </c:pt>
                <c:pt idx="1617">
                  <c:v>1618</c:v>
                </c:pt>
                <c:pt idx="1618">
                  <c:v>1619</c:v>
                </c:pt>
                <c:pt idx="1619">
                  <c:v>1620</c:v>
                </c:pt>
                <c:pt idx="1620">
                  <c:v>1621</c:v>
                </c:pt>
                <c:pt idx="1621">
                  <c:v>1622</c:v>
                </c:pt>
                <c:pt idx="1622">
                  <c:v>1623</c:v>
                </c:pt>
                <c:pt idx="1623">
                  <c:v>1624</c:v>
                </c:pt>
                <c:pt idx="1624">
                  <c:v>1625</c:v>
                </c:pt>
                <c:pt idx="1625">
                  <c:v>1626</c:v>
                </c:pt>
                <c:pt idx="1626">
                  <c:v>1627</c:v>
                </c:pt>
                <c:pt idx="1627">
                  <c:v>1628</c:v>
                </c:pt>
                <c:pt idx="1628">
                  <c:v>1629</c:v>
                </c:pt>
                <c:pt idx="1629">
                  <c:v>1630</c:v>
                </c:pt>
                <c:pt idx="1630">
                  <c:v>1631</c:v>
                </c:pt>
                <c:pt idx="1631">
                  <c:v>1632</c:v>
                </c:pt>
                <c:pt idx="1632">
                  <c:v>1633</c:v>
                </c:pt>
                <c:pt idx="1633">
                  <c:v>1634</c:v>
                </c:pt>
                <c:pt idx="1634">
                  <c:v>1635</c:v>
                </c:pt>
                <c:pt idx="1635">
                  <c:v>1636</c:v>
                </c:pt>
                <c:pt idx="1636">
                  <c:v>1637</c:v>
                </c:pt>
                <c:pt idx="1637">
                  <c:v>1638</c:v>
                </c:pt>
                <c:pt idx="1638">
                  <c:v>1639</c:v>
                </c:pt>
                <c:pt idx="1639">
                  <c:v>1640</c:v>
                </c:pt>
                <c:pt idx="1640">
                  <c:v>1641</c:v>
                </c:pt>
                <c:pt idx="1641">
                  <c:v>1642</c:v>
                </c:pt>
                <c:pt idx="1642">
                  <c:v>1643</c:v>
                </c:pt>
                <c:pt idx="1643">
                  <c:v>1644</c:v>
                </c:pt>
                <c:pt idx="1644">
                  <c:v>1645</c:v>
                </c:pt>
                <c:pt idx="1645">
                  <c:v>1646</c:v>
                </c:pt>
                <c:pt idx="1646">
                  <c:v>1647</c:v>
                </c:pt>
                <c:pt idx="1647">
                  <c:v>1648</c:v>
                </c:pt>
                <c:pt idx="1648">
                  <c:v>1649</c:v>
                </c:pt>
                <c:pt idx="1649">
                  <c:v>1650</c:v>
                </c:pt>
                <c:pt idx="1650">
                  <c:v>1651</c:v>
                </c:pt>
                <c:pt idx="1651">
                  <c:v>1652</c:v>
                </c:pt>
                <c:pt idx="1652">
                  <c:v>1653</c:v>
                </c:pt>
                <c:pt idx="1653">
                  <c:v>1654</c:v>
                </c:pt>
                <c:pt idx="1654">
                  <c:v>1655</c:v>
                </c:pt>
                <c:pt idx="1655">
                  <c:v>1656</c:v>
                </c:pt>
                <c:pt idx="1656">
                  <c:v>1657</c:v>
                </c:pt>
                <c:pt idx="1657">
                  <c:v>1658</c:v>
                </c:pt>
                <c:pt idx="1658">
                  <c:v>1659</c:v>
                </c:pt>
                <c:pt idx="1659">
                  <c:v>1660</c:v>
                </c:pt>
                <c:pt idx="1660">
                  <c:v>1661</c:v>
                </c:pt>
                <c:pt idx="1661">
                  <c:v>1662</c:v>
                </c:pt>
                <c:pt idx="1662">
                  <c:v>1663</c:v>
                </c:pt>
                <c:pt idx="1663">
                  <c:v>1664</c:v>
                </c:pt>
                <c:pt idx="1664">
                  <c:v>1665</c:v>
                </c:pt>
                <c:pt idx="1665">
                  <c:v>1666</c:v>
                </c:pt>
                <c:pt idx="1666">
                  <c:v>1667</c:v>
                </c:pt>
                <c:pt idx="1667">
                  <c:v>1668</c:v>
                </c:pt>
                <c:pt idx="1668">
                  <c:v>1669</c:v>
                </c:pt>
                <c:pt idx="1669">
                  <c:v>1670</c:v>
                </c:pt>
                <c:pt idx="1670">
                  <c:v>1671</c:v>
                </c:pt>
                <c:pt idx="1671">
                  <c:v>1672</c:v>
                </c:pt>
                <c:pt idx="1672">
                  <c:v>1673</c:v>
                </c:pt>
                <c:pt idx="1673">
                  <c:v>1674</c:v>
                </c:pt>
                <c:pt idx="1674">
                  <c:v>1675</c:v>
                </c:pt>
                <c:pt idx="1675">
                  <c:v>1676</c:v>
                </c:pt>
                <c:pt idx="1676">
                  <c:v>1677</c:v>
                </c:pt>
                <c:pt idx="1677">
                  <c:v>1678</c:v>
                </c:pt>
                <c:pt idx="1678">
                  <c:v>1679</c:v>
                </c:pt>
                <c:pt idx="1679">
                  <c:v>1680</c:v>
                </c:pt>
                <c:pt idx="1680">
                  <c:v>1681</c:v>
                </c:pt>
                <c:pt idx="1681">
                  <c:v>1682</c:v>
                </c:pt>
                <c:pt idx="1682">
                  <c:v>1683</c:v>
                </c:pt>
                <c:pt idx="1683">
                  <c:v>1684</c:v>
                </c:pt>
                <c:pt idx="1684">
                  <c:v>1685</c:v>
                </c:pt>
                <c:pt idx="1685">
                  <c:v>1686</c:v>
                </c:pt>
                <c:pt idx="1686">
                  <c:v>1687</c:v>
                </c:pt>
                <c:pt idx="1687">
                  <c:v>1688</c:v>
                </c:pt>
                <c:pt idx="1688">
                  <c:v>1689</c:v>
                </c:pt>
                <c:pt idx="1689">
                  <c:v>1690</c:v>
                </c:pt>
                <c:pt idx="1690">
                  <c:v>1691</c:v>
                </c:pt>
                <c:pt idx="1691">
                  <c:v>1692</c:v>
                </c:pt>
                <c:pt idx="1692">
                  <c:v>1693</c:v>
                </c:pt>
                <c:pt idx="1693">
                  <c:v>1694</c:v>
                </c:pt>
                <c:pt idx="1694">
                  <c:v>1695</c:v>
                </c:pt>
                <c:pt idx="1695">
                  <c:v>1696</c:v>
                </c:pt>
                <c:pt idx="1696">
                  <c:v>1697</c:v>
                </c:pt>
                <c:pt idx="1697">
                  <c:v>1698</c:v>
                </c:pt>
                <c:pt idx="1698">
                  <c:v>1699</c:v>
                </c:pt>
                <c:pt idx="1699">
                  <c:v>1700</c:v>
                </c:pt>
                <c:pt idx="1700">
                  <c:v>1701</c:v>
                </c:pt>
                <c:pt idx="1701">
                  <c:v>1702</c:v>
                </c:pt>
                <c:pt idx="1702">
                  <c:v>1703</c:v>
                </c:pt>
                <c:pt idx="1703">
                  <c:v>1704</c:v>
                </c:pt>
                <c:pt idx="1704">
                  <c:v>1705</c:v>
                </c:pt>
                <c:pt idx="1705">
                  <c:v>1706</c:v>
                </c:pt>
                <c:pt idx="1706">
                  <c:v>1707</c:v>
                </c:pt>
                <c:pt idx="1707">
                  <c:v>1708</c:v>
                </c:pt>
                <c:pt idx="1708">
                  <c:v>1709</c:v>
                </c:pt>
                <c:pt idx="1709">
                  <c:v>1710</c:v>
                </c:pt>
                <c:pt idx="1710">
                  <c:v>1711</c:v>
                </c:pt>
                <c:pt idx="1711">
                  <c:v>1712</c:v>
                </c:pt>
                <c:pt idx="1712">
                  <c:v>1713</c:v>
                </c:pt>
                <c:pt idx="1713">
                  <c:v>1714</c:v>
                </c:pt>
                <c:pt idx="1714">
                  <c:v>1715</c:v>
                </c:pt>
                <c:pt idx="1715">
                  <c:v>1716</c:v>
                </c:pt>
                <c:pt idx="1716">
                  <c:v>1717</c:v>
                </c:pt>
                <c:pt idx="1717">
                  <c:v>1718</c:v>
                </c:pt>
                <c:pt idx="1718">
                  <c:v>1719</c:v>
                </c:pt>
                <c:pt idx="1719">
                  <c:v>1720</c:v>
                </c:pt>
                <c:pt idx="1720">
                  <c:v>1721</c:v>
                </c:pt>
                <c:pt idx="1721">
                  <c:v>1722</c:v>
                </c:pt>
                <c:pt idx="1722">
                  <c:v>1723</c:v>
                </c:pt>
                <c:pt idx="1723">
                  <c:v>1724</c:v>
                </c:pt>
                <c:pt idx="1724">
                  <c:v>1725</c:v>
                </c:pt>
                <c:pt idx="1725">
                  <c:v>1726</c:v>
                </c:pt>
                <c:pt idx="1726">
                  <c:v>1727</c:v>
                </c:pt>
                <c:pt idx="1727">
                  <c:v>1728</c:v>
                </c:pt>
                <c:pt idx="1728">
                  <c:v>1729</c:v>
                </c:pt>
                <c:pt idx="1729">
                  <c:v>1730</c:v>
                </c:pt>
                <c:pt idx="1730">
                  <c:v>1731</c:v>
                </c:pt>
                <c:pt idx="1731">
                  <c:v>1732</c:v>
                </c:pt>
                <c:pt idx="1732">
                  <c:v>1733</c:v>
                </c:pt>
                <c:pt idx="1733">
                  <c:v>1734</c:v>
                </c:pt>
                <c:pt idx="1734">
                  <c:v>1735</c:v>
                </c:pt>
                <c:pt idx="1735">
                  <c:v>1736</c:v>
                </c:pt>
                <c:pt idx="1736">
                  <c:v>1737</c:v>
                </c:pt>
                <c:pt idx="1737">
                  <c:v>1738</c:v>
                </c:pt>
                <c:pt idx="1738">
                  <c:v>1739</c:v>
                </c:pt>
                <c:pt idx="1739">
                  <c:v>1740</c:v>
                </c:pt>
                <c:pt idx="1740">
                  <c:v>1741</c:v>
                </c:pt>
                <c:pt idx="1741">
                  <c:v>1742</c:v>
                </c:pt>
                <c:pt idx="1742">
                  <c:v>1743</c:v>
                </c:pt>
                <c:pt idx="1743">
                  <c:v>1744</c:v>
                </c:pt>
                <c:pt idx="1744">
                  <c:v>1745</c:v>
                </c:pt>
                <c:pt idx="1745">
                  <c:v>1746</c:v>
                </c:pt>
                <c:pt idx="1746">
                  <c:v>1747</c:v>
                </c:pt>
                <c:pt idx="1747">
                  <c:v>1748</c:v>
                </c:pt>
                <c:pt idx="1748">
                  <c:v>1749</c:v>
                </c:pt>
                <c:pt idx="1749">
                  <c:v>1750</c:v>
                </c:pt>
                <c:pt idx="1750">
                  <c:v>1751</c:v>
                </c:pt>
                <c:pt idx="1751">
                  <c:v>1752</c:v>
                </c:pt>
                <c:pt idx="1752">
                  <c:v>1753</c:v>
                </c:pt>
                <c:pt idx="1753">
                  <c:v>1754</c:v>
                </c:pt>
                <c:pt idx="1754">
                  <c:v>1755</c:v>
                </c:pt>
                <c:pt idx="1755">
                  <c:v>1756</c:v>
                </c:pt>
                <c:pt idx="1756">
                  <c:v>1757</c:v>
                </c:pt>
                <c:pt idx="1757">
                  <c:v>1758</c:v>
                </c:pt>
                <c:pt idx="1758">
                  <c:v>1759</c:v>
                </c:pt>
                <c:pt idx="1759">
                  <c:v>1760</c:v>
                </c:pt>
                <c:pt idx="1760">
                  <c:v>1761</c:v>
                </c:pt>
                <c:pt idx="1761">
                  <c:v>1762</c:v>
                </c:pt>
                <c:pt idx="1762">
                  <c:v>1763</c:v>
                </c:pt>
                <c:pt idx="1763">
                  <c:v>1764</c:v>
                </c:pt>
                <c:pt idx="1764">
                  <c:v>1765</c:v>
                </c:pt>
                <c:pt idx="1765">
                  <c:v>1766</c:v>
                </c:pt>
                <c:pt idx="1766">
                  <c:v>1767</c:v>
                </c:pt>
                <c:pt idx="1767">
                  <c:v>1768</c:v>
                </c:pt>
                <c:pt idx="1768">
                  <c:v>1769</c:v>
                </c:pt>
                <c:pt idx="1769">
                  <c:v>1770</c:v>
                </c:pt>
                <c:pt idx="1770">
                  <c:v>1771</c:v>
                </c:pt>
                <c:pt idx="1771">
                  <c:v>1772</c:v>
                </c:pt>
                <c:pt idx="1772">
                  <c:v>1773</c:v>
                </c:pt>
                <c:pt idx="1773">
                  <c:v>1774</c:v>
                </c:pt>
                <c:pt idx="1774">
                  <c:v>1775</c:v>
                </c:pt>
                <c:pt idx="1775">
                  <c:v>1776</c:v>
                </c:pt>
                <c:pt idx="1776">
                  <c:v>1777</c:v>
                </c:pt>
                <c:pt idx="1777">
                  <c:v>1778</c:v>
                </c:pt>
                <c:pt idx="1778">
                  <c:v>1779</c:v>
                </c:pt>
                <c:pt idx="1779">
                  <c:v>1780</c:v>
                </c:pt>
                <c:pt idx="1780">
                  <c:v>1781</c:v>
                </c:pt>
                <c:pt idx="1781">
                  <c:v>1782</c:v>
                </c:pt>
                <c:pt idx="1782">
                  <c:v>1783</c:v>
                </c:pt>
                <c:pt idx="1783">
                  <c:v>1784</c:v>
                </c:pt>
                <c:pt idx="1784">
                  <c:v>1785</c:v>
                </c:pt>
                <c:pt idx="1785">
                  <c:v>1786</c:v>
                </c:pt>
                <c:pt idx="1786">
                  <c:v>1787</c:v>
                </c:pt>
                <c:pt idx="1787">
                  <c:v>1788</c:v>
                </c:pt>
                <c:pt idx="1788">
                  <c:v>1789</c:v>
                </c:pt>
                <c:pt idx="1789">
                  <c:v>1790</c:v>
                </c:pt>
                <c:pt idx="1790">
                  <c:v>1791</c:v>
                </c:pt>
                <c:pt idx="1791">
                  <c:v>1792</c:v>
                </c:pt>
                <c:pt idx="1792">
                  <c:v>1793</c:v>
                </c:pt>
                <c:pt idx="1793">
                  <c:v>1794</c:v>
                </c:pt>
                <c:pt idx="1794">
                  <c:v>1795</c:v>
                </c:pt>
                <c:pt idx="1795">
                  <c:v>1796</c:v>
                </c:pt>
                <c:pt idx="1796">
                  <c:v>1797</c:v>
                </c:pt>
                <c:pt idx="1797">
                  <c:v>1798</c:v>
                </c:pt>
                <c:pt idx="1798">
                  <c:v>1799</c:v>
                </c:pt>
                <c:pt idx="1799">
                  <c:v>1800</c:v>
                </c:pt>
                <c:pt idx="1800">
                  <c:v>1801</c:v>
                </c:pt>
                <c:pt idx="1801">
                  <c:v>1802</c:v>
                </c:pt>
                <c:pt idx="1802">
                  <c:v>1803</c:v>
                </c:pt>
                <c:pt idx="1803">
                  <c:v>1804</c:v>
                </c:pt>
                <c:pt idx="1804">
                  <c:v>1805</c:v>
                </c:pt>
                <c:pt idx="1805">
                  <c:v>1806</c:v>
                </c:pt>
                <c:pt idx="1806">
                  <c:v>1807</c:v>
                </c:pt>
                <c:pt idx="1807">
                  <c:v>1808</c:v>
                </c:pt>
                <c:pt idx="1808">
                  <c:v>1809</c:v>
                </c:pt>
                <c:pt idx="1809">
                  <c:v>1810</c:v>
                </c:pt>
                <c:pt idx="1810">
                  <c:v>1811</c:v>
                </c:pt>
                <c:pt idx="1811">
                  <c:v>1812</c:v>
                </c:pt>
                <c:pt idx="1812">
                  <c:v>1813</c:v>
                </c:pt>
                <c:pt idx="1813">
                  <c:v>1814</c:v>
                </c:pt>
                <c:pt idx="1814">
                  <c:v>1815</c:v>
                </c:pt>
                <c:pt idx="1815">
                  <c:v>1816</c:v>
                </c:pt>
                <c:pt idx="1816">
                  <c:v>1817</c:v>
                </c:pt>
                <c:pt idx="1817">
                  <c:v>1818</c:v>
                </c:pt>
                <c:pt idx="1818">
                  <c:v>1819</c:v>
                </c:pt>
                <c:pt idx="1819">
                  <c:v>1820</c:v>
                </c:pt>
                <c:pt idx="1820">
                  <c:v>1821</c:v>
                </c:pt>
                <c:pt idx="1821">
                  <c:v>1822</c:v>
                </c:pt>
                <c:pt idx="1822">
                  <c:v>1823</c:v>
                </c:pt>
                <c:pt idx="1823">
                  <c:v>1824</c:v>
                </c:pt>
                <c:pt idx="1824">
                  <c:v>1825</c:v>
                </c:pt>
                <c:pt idx="1825">
                  <c:v>1826</c:v>
                </c:pt>
                <c:pt idx="1826">
                  <c:v>1827</c:v>
                </c:pt>
                <c:pt idx="1827">
                  <c:v>1828</c:v>
                </c:pt>
                <c:pt idx="1828">
                  <c:v>1829</c:v>
                </c:pt>
                <c:pt idx="1829">
                  <c:v>1830</c:v>
                </c:pt>
                <c:pt idx="1830">
                  <c:v>1831</c:v>
                </c:pt>
                <c:pt idx="1831">
                  <c:v>1832</c:v>
                </c:pt>
                <c:pt idx="1832">
                  <c:v>1833</c:v>
                </c:pt>
                <c:pt idx="1833">
                  <c:v>1834</c:v>
                </c:pt>
                <c:pt idx="1834">
                  <c:v>1835</c:v>
                </c:pt>
                <c:pt idx="1835">
                  <c:v>1836</c:v>
                </c:pt>
                <c:pt idx="1836">
                  <c:v>1837</c:v>
                </c:pt>
                <c:pt idx="1837">
                  <c:v>1838</c:v>
                </c:pt>
                <c:pt idx="1838">
                  <c:v>1839</c:v>
                </c:pt>
                <c:pt idx="1839">
                  <c:v>1840</c:v>
                </c:pt>
                <c:pt idx="1840">
                  <c:v>1841</c:v>
                </c:pt>
                <c:pt idx="1841">
                  <c:v>1842</c:v>
                </c:pt>
                <c:pt idx="1842">
                  <c:v>1843</c:v>
                </c:pt>
                <c:pt idx="1843">
                  <c:v>1844</c:v>
                </c:pt>
                <c:pt idx="1844">
                  <c:v>1845</c:v>
                </c:pt>
                <c:pt idx="1845">
                  <c:v>1846</c:v>
                </c:pt>
                <c:pt idx="1846">
                  <c:v>1847</c:v>
                </c:pt>
                <c:pt idx="1847">
                  <c:v>1848</c:v>
                </c:pt>
                <c:pt idx="1848">
                  <c:v>1849</c:v>
                </c:pt>
                <c:pt idx="1849">
                  <c:v>1850</c:v>
                </c:pt>
                <c:pt idx="1850">
                  <c:v>1851</c:v>
                </c:pt>
                <c:pt idx="1851">
                  <c:v>1852</c:v>
                </c:pt>
                <c:pt idx="1852">
                  <c:v>1853</c:v>
                </c:pt>
                <c:pt idx="1853">
                  <c:v>1854</c:v>
                </c:pt>
                <c:pt idx="1854">
                  <c:v>1855</c:v>
                </c:pt>
                <c:pt idx="1855">
                  <c:v>1856</c:v>
                </c:pt>
                <c:pt idx="1856">
                  <c:v>1857</c:v>
                </c:pt>
                <c:pt idx="1857">
                  <c:v>1858</c:v>
                </c:pt>
                <c:pt idx="1858">
                  <c:v>1859</c:v>
                </c:pt>
                <c:pt idx="1859">
                  <c:v>1860</c:v>
                </c:pt>
                <c:pt idx="1860">
                  <c:v>1861</c:v>
                </c:pt>
                <c:pt idx="1861">
                  <c:v>1862</c:v>
                </c:pt>
                <c:pt idx="1862">
                  <c:v>1863</c:v>
                </c:pt>
                <c:pt idx="1863">
                  <c:v>1864</c:v>
                </c:pt>
                <c:pt idx="1864">
                  <c:v>1865</c:v>
                </c:pt>
                <c:pt idx="1865">
                  <c:v>1866</c:v>
                </c:pt>
                <c:pt idx="1866">
                  <c:v>1867</c:v>
                </c:pt>
                <c:pt idx="1867">
                  <c:v>1868</c:v>
                </c:pt>
                <c:pt idx="1868">
                  <c:v>1869</c:v>
                </c:pt>
                <c:pt idx="1869">
                  <c:v>1870</c:v>
                </c:pt>
                <c:pt idx="1870">
                  <c:v>1871</c:v>
                </c:pt>
                <c:pt idx="1871">
                  <c:v>1872</c:v>
                </c:pt>
                <c:pt idx="1872">
                  <c:v>1873</c:v>
                </c:pt>
                <c:pt idx="1873">
                  <c:v>1874</c:v>
                </c:pt>
                <c:pt idx="1874">
                  <c:v>1875</c:v>
                </c:pt>
                <c:pt idx="1875">
                  <c:v>1876</c:v>
                </c:pt>
                <c:pt idx="1876">
                  <c:v>1877</c:v>
                </c:pt>
                <c:pt idx="1877">
                  <c:v>1878</c:v>
                </c:pt>
                <c:pt idx="1878">
                  <c:v>1879</c:v>
                </c:pt>
                <c:pt idx="1879">
                  <c:v>1880</c:v>
                </c:pt>
                <c:pt idx="1880">
                  <c:v>1881</c:v>
                </c:pt>
                <c:pt idx="1881">
                  <c:v>1882</c:v>
                </c:pt>
                <c:pt idx="1882">
                  <c:v>1883</c:v>
                </c:pt>
                <c:pt idx="1883">
                  <c:v>1884</c:v>
                </c:pt>
                <c:pt idx="1884">
                  <c:v>1885</c:v>
                </c:pt>
                <c:pt idx="1885">
                  <c:v>1886</c:v>
                </c:pt>
                <c:pt idx="1886">
                  <c:v>1887</c:v>
                </c:pt>
                <c:pt idx="1887">
                  <c:v>1888</c:v>
                </c:pt>
                <c:pt idx="1888">
                  <c:v>1889</c:v>
                </c:pt>
                <c:pt idx="1889">
                  <c:v>1890</c:v>
                </c:pt>
                <c:pt idx="1890">
                  <c:v>1891</c:v>
                </c:pt>
                <c:pt idx="1891">
                  <c:v>1892</c:v>
                </c:pt>
                <c:pt idx="1892">
                  <c:v>1893</c:v>
                </c:pt>
                <c:pt idx="1893">
                  <c:v>1894</c:v>
                </c:pt>
                <c:pt idx="1894">
                  <c:v>1895</c:v>
                </c:pt>
                <c:pt idx="1895">
                  <c:v>1896</c:v>
                </c:pt>
                <c:pt idx="1896">
                  <c:v>1897</c:v>
                </c:pt>
                <c:pt idx="1897">
                  <c:v>1898</c:v>
                </c:pt>
                <c:pt idx="1898">
                  <c:v>1899</c:v>
                </c:pt>
                <c:pt idx="1899">
                  <c:v>1900</c:v>
                </c:pt>
                <c:pt idx="1900">
                  <c:v>1901</c:v>
                </c:pt>
                <c:pt idx="1901">
                  <c:v>1902</c:v>
                </c:pt>
                <c:pt idx="1902">
                  <c:v>1903</c:v>
                </c:pt>
                <c:pt idx="1903">
                  <c:v>1904</c:v>
                </c:pt>
                <c:pt idx="1904">
                  <c:v>1905</c:v>
                </c:pt>
                <c:pt idx="1905">
                  <c:v>1906</c:v>
                </c:pt>
                <c:pt idx="1906">
                  <c:v>1907</c:v>
                </c:pt>
                <c:pt idx="1907">
                  <c:v>1908</c:v>
                </c:pt>
                <c:pt idx="1908">
                  <c:v>1909</c:v>
                </c:pt>
                <c:pt idx="1909">
                  <c:v>1910</c:v>
                </c:pt>
                <c:pt idx="1910">
                  <c:v>1911</c:v>
                </c:pt>
                <c:pt idx="1911">
                  <c:v>1912</c:v>
                </c:pt>
                <c:pt idx="1912">
                  <c:v>1913</c:v>
                </c:pt>
                <c:pt idx="1913">
                  <c:v>1914</c:v>
                </c:pt>
                <c:pt idx="1914">
                  <c:v>1915</c:v>
                </c:pt>
                <c:pt idx="1915">
                  <c:v>1916</c:v>
                </c:pt>
                <c:pt idx="1916">
                  <c:v>1917</c:v>
                </c:pt>
                <c:pt idx="1917">
                  <c:v>1918</c:v>
                </c:pt>
                <c:pt idx="1918">
                  <c:v>1919</c:v>
                </c:pt>
                <c:pt idx="1919">
                  <c:v>1920</c:v>
                </c:pt>
                <c:pt idx="1920">
                  <c:v>1921</c:v>
                </c:pt>
                <c:pt idx="1921">
                  <c:v>1922</c:v>
                </c:pt>
                <c:pt idx="1922">
                  <c:v>1923</c:v>
                </c:pt>
                <c:pt idx="1923">
                  <c:v>1924</c:v>
                </c:pt>
                <c:pt idx="1924">
                  <c:v>1925</c:v>
                </c:pt>
                <c:pt idx="1925">
                  <c:v>1926</c:v>
                </c:pt>
                <c:pt idx="1926">
                  <c:v>1927</c:v>
                </c:pt>
                <c:pt idx="1927">
                  <c:v>1928</c:v>
                </c:pt>
                <c:pt idx="1928">
                  <c:v>1929</c:v>
                </c:pt>
                <c:pt idx="1929">
                  <c:v>1930</c:v>
                </c:pt>
                <c:pt idx="1930">
                  <c:v>1931</c:v>
                </c:pt>
                <c:pt idx="1931">
                  <c:v>1932</c:v>
                </c:pt>
                <c:pt idx="1932">
                  <c:v>1933</c:v>
                </c:pt>
                <c:pt idx="1933">
                  <c:v>1934</c:v>
                </c:pt>
                <c:pt idx="1934">
                  <c:v>1935</c:v>
                </c:pt>
                <c:pt idx="1935">
                  <c:v>1936</c:v>
                </c:pt>
                <c:pt idx="1936">
                  <c:v>1937</c:v>
                </c:pt>
                <c:pt idx="1937">
                  <c:v>1938</c:v>
                </c:pt>
                <c:pt idx="1938">
                  <c:v>1939</c:v>
                </c:pt>
                <c:pt idx="1939">
                  <c:v>1940</c:v>
                </c:pt>
                <c:pt idx="1940">
                  <c:v>1941</c:v>
                </c:pt>
                <c:pt idx="1941">
                  <c:v>1942</c:v>
                </c:pt>
                <c:pt idx="1942">
                  <c:v>1943</c:v>
                </c:pt>
                <c:pt idx="1943">
                  <c:v>1944</c:v>
                </c:pt>
                <c:pt idx="1944">
                  <c:v>1945</c:v>
                </c:pt>
                <c:pt idx="1945">
                  <c:v>1946</c:v>
                </c:pt>
                <c:pt idx="1946">
                  <c:v>1947</c:v>
                </c:pt>
                <c:pt idx="1947">
                  <c:v>1948</c:v>
                </c:pt>
                <c:pt idx="1948">
                  <c:v>1949</c:v>
                </c:pt>
                <c:pt idx="1949">
                  <c:v>1950</c:v>
                </c:pt>
                <c:pt idx="1950">
                  <c:v>1951</c:v>
                </c:pt>
                <c:pt idx="1951">
                  <c:v>1952</c:v>
                </c:pt>
                <c:pt idx="1952">
                  <c:v>1953</c:v>
                </c:pt>
                <c:pt idx="1953">
                  <c:v>1954</c:v>
                </c:pt>
                <c:pt idx="1954">
                  <c:v>1955</c:v>
                </c:pt>
                <c:pt idx="1955">
                  <c:v>1956</c:v>
                </c:pt>
                <c:pt idx="1956">
                  <c:v>1957</c:v>
                </c:pt>
                <c:pt idx="1957">
                  <c:v>1958</c:v>
                </c:pt>
                <c:pt idx="1958">
                  <c:v>1959</c:v>
                </c:pt>
                <c:pt idx="1959">
                  <c:v>1960</c:v>
                </c:pt>
                <c:pt idx="1960">
                  <c:v>1961</c:v>
                </c:pt>
                <c:pt idx="1961">
                  <c:v>1962</c:v>
                </c:pt>
                <c:pt idx="1962">
                  <c:v>1963</c:v>
                </c:pt>
                <c:pt idx="1963">
                  <c:v>1964</c:v>
                </c:pt>
                <c:pt idx="1964">
                  <c:v>1965</c:v>
                </c:pt>
                <c:pt idx="1965">
                  <c:v>1966</c:v>
                </c:pt>
                <c:pt idx="1966">
                  <c:v>1967</c:v>
                </c:pt>
                <c:pt idx="1967">
                  <c:v>1968</c:v>
                </c:pt>
                <c:pt idx="1968">
                  <c:v>1969</c:v>
                </c:pt>
                <c:pt idx="1969">
                  <c:v>1970</c:v>
                </c:pt>
                <c:pt idx="1970">
                  <c:v>1971</c:v>
                </c:pt>
                <c:pt idx="1971">
                  <c:v>1972</c:v>
                </c:pt>
                <c:pt idx="1972">
                  <c:v>1973</c:v>
                </c:pt>
                <c:pt idx="1973">
                  <c:v>1974</c:v>
                </c:pt>
                <c:pt idx="1974">
                  <c:v>1975</c:v>
                </c:pt>
                <c:pt idx="1975">
                  <c:v>1976</c:v>
                </c:pt>
                <c:pt idx="1976">
                  <c:v>1977</c:v>
                </c:pt>
                <c:pt idx="1977">
                  <c:v>1978</c:v>
                </c:pt>
                <c:pt idx="1978">
                  <c:v>1979</c:v>
                </c:pt>
                <c:pt idx="1979">
                  <c:v>1980</c:v>
                </c:pt>
                <c:pt idx="1980">
                  <c:v>1981</c:v>
                </c:pt>
                <c:pt idx="1981">
                  <c:v>1982</c:v>
                </c:pt>
                <c:pt idx="1982">
                  <c:v>1983</c:v>
                </c:pt>
                <c:pt idx="1983">
                  <c:v>1984</c:v>
                </c:pt>
                <c:pt idx="1984">
                  <c:v>1985</c:v>
                </c:pt>
                <c:pt idx="1985">
                  <c:v>1986</c:v>
                </c:pt>
                <c:pt idx="1986">
                  <c:v>1987</c:v>
                </c:pt>
                <c:pt idx="1987">
                  <c:v>1988</c:v>
                </c:pt>
                <c:pt idx="1988">
                  <c:v>1989</c:v>
                </c:pt>
                <c:pt idx="1989">
                  <c:v>1990</c:v>
                </c:pt>
                <c:pt idx="1990">
                  <c:v>1991</c:v>
                </c:pt>
                <c:pt idx="1991">
                  <c:v>1992</c:v>
                </c:pt>
                <c:pt idx="1992">
                  <c:v>1993</c:v>
                </c:pt>
                <c:pt idx="1993">
                  <c:v>1994</c:v>
                </c:pt>
                <c:pt idx="1994">
                  <c:v>1995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995"/>
                <c:pt idx="0">
                  <c:v>0.513691921039023</c:v>
                </c:pt>
                <c:pt idx="1">
                  <c:v>0.522724393843393</c:v>
                </c:pt>
                <c:pt idx="2">
                  <c:v>0.512050874227775</c:v>
                </c:pt>
                <c:pt idx="3">
                  <c:v>0.525631916915832</c:v>
                </c:pt>
                <c:pt idx="4">
                  <c:v>0.517689329966627</c:v>
                </c:pt>
                <c:pt idx="5">
                  <c:v>10.3867090158464</c:v>
                </c:pt>
                <c:pt idx="6">
                  <c:v>0.517844033082093</c:v>
                </c:pt>
                <c:pt idx="7">
                  <c:v>0.53010189162317</c:v>
                </c:pt>
                <c:pt idx="8">
                  <c:v>0.518600138316621</c:v>
                </c:pt>
                <c:pt idx="9">
                  <c:v>0.534067961979613</c:v>
                </c:pt>
                <c:pt idx="10">
                  <c:v>0.522963163922629</c:v>
                </c:pt>
                <c:pt idx="11">
                  <c:v>0.542086159439795</c:v>
                </c:pt>
                <c:pt idx="12">
                  <c:v>0.539452724531511</c:v>
                </c:pt>
                <c:pt idx="13">
                  <c:v>0.527140645287747</c:v>
                </c:pt>
                <c:pt idx="14">
                  <c:v>0.541801625098284</c:v>
                </c:pt>
                <c:pt idx="15">
                  <c:v>0.505805544558428</c:v>
                </c:pt>
                <c:pt idx="16">
                  <c:v>0.522452792898839</c:v>
                </c:pt>
                <c:pt idx="17">
                  <c:v>0.509679091514948</c:v>
                </c:pt>
                <c:pt idx="18">
                  <c:v>0.531306188154164</c:v>
                </c:pt>
                <c:pt idx="19">
                  <c:v>0.514849955883391</c:v>
                </c:pt>
                <c:pt idx="20">
                  <c:v>0.527609231551151</c:v>
                </c:pt>
                <c:pt idx="21">
                  <c:v>0.516288545564385</c:v>
                </c:pt>
                <c:pt idx="22">
                  <c:v>0.830609944288233</c:v>
                </c:pt>
                <c:pt idx="23">
                  <c:v>0.506222397309144</c:v>
                </c:pt>
                <c:pt idx="24">
                  <c:v>0.522652265395427</c:v>
                </c:pt>
                <c:pt idx="25">
                  <c:v>0.509387593066933</c:v>
                </c:pt>
                <c:pt idx="26">
                  <c:v>0.52489322199812</c:v>
                </c:pt>
                <c:pt idx="27">
                  <c:v>0.512962677445597</c:v>
                </c:pt>
                <c:pt idx="28">
                  <c:v>0.527494323465631</c:v>
                </c:pt>
                <c:pt idx="29">
                  <c:v>0.518032561950764</c:v>
                </c:pt>
                <c:pt idx="30">
                  <c:v>0.771654131622613</c:v>
                </c:pt>
                <c:pt idx="31">
                  <c:v>0.511809616969977</c:v>
                </c:pt>
                <c:pt idx="32">
                  <c:v>0.524916601573691</c:v>
                </c:pt>
                <c:pt idx="33">
                  <c:v>0.508847375778389</c:v>
                </c:pt>
                <c:pt idx="34">
                  <c:v>0.522800501810281</c:v>
                </c:pt>
                <c:pt idx="35">
                  <c:v>0.512797030701072</c:v>
                </c:pt>
                <c:pt idx="36">
                  <c:v>0.527284404771007</c:v>
                </c:pt>
                <c:pt idx="37">
                  <c:v>0.516437279411412</c:v>
                </c:pt>
                <c:pt idx="38">
                  <c:v>1.44854589375274</c:v>
                </c:pt>
                <c:pt idx="39">
                  <c:v>0.504471914222976</c:v>
                </c:pt>
                <c:pt idx="40">
                  <c:v>0.518627497387848</c:v>
                </c:pt>
                <c:pt idx="41">
                  <c:v>0.508526528483194</c:v>
                </c:pt>
                <c:pt idx="42">
                  <c:v>0.523620279054771</c:v>
                </c:pt>
                <c:pt idx="43">
                  <c:v>0.514112255848025</c:v>
                </c:pt>
                <c:pt idx="44">
                  <c:v>0.526550186807805</c:v>
                </c:pt>
                <c:pt idx="45">
                  <c:v>0.515186721168109</c:v>
                </c:pt>
                <c:pt idx="46">
                  <c:v>0.802230131582656</c:v>
                </c:pt>
                <c:pt idx="47">
                  <c:v>0.50526184519936</c:v>
                </c:pt>
                <c:pt idx="48">
                  <c:v>0.520620232591172</c:v>
                </c:pt>
                <c:pt idx="49">
                  <c:v>0.510584925486431</c:v>
                </c:pt>
                <c:pt idx="50">
                  <c:v>0.522925358667973</c:v>
                </c:pt>
                <c:pt idx="51">
                  <c:v>0.512220500462317</c:v>
                </c:pt>
                <c:pt idx="52">
                  <c:v>0.527880832517966</c:v>
                </c:pt>
                <c:pt idx="53">
                  <c:v>0.518664307759398</c:v>
                </c:pt>
                <c:pt idx="54">
                  <c:v>1.53732458579803</c:v>
                </c:pt>
                <c:pt idx="55">
                  <c:v>0.507046651487126</c:v>
                </c:pt>
                <c:pt idx="56">
                  <c:v>0.519022462870431</c:v>
                </c:pt>
                <c:pt idx="57">
                  <c:v>0.510329739962051</c:v>
                </c:pt>
                <c:pt idx="58">
                  <c:v>0.523690915201174</c:v>
                </c:pt>
                <c:pt idx="59">
                  <c:v>0.512345357325244</c:v>
                </c:pt>
                <c:pt idx="60">
                  <c:v>0.533963997517075</c:v>
                </c:pt>
                <c:pt idx="61">
                  <c:v>0.518784190236944</c:v>
                </c:pt>
                <c:pt idx="62">
                  <c:v>0.767148838846825</c:v>
                </c:pt>
                <c:pt idx="63">
                  <c:v>0.506044314631237</c:v>
                </c:pt>
                <c:pt idx="64">
                  <c:v>0.519610434177497</c:v>
                </c:pt>
                <c:pt idx="65">
                  <c:v>0.508582738942099</c:v>
                </c:pt>
                <c:pt idx="66">
                  <c:v>0.523961521277517</c:v>
                </c:pt>
                <c:pt idx="67">
                  <c:v>0.511922037882673</c:v>
                </c:pt>
                <c:pt idx="68">
                  <c:v>0.52540906483535</c:v>
                </c:pt>
                <c:pt idx="69">
                  <c:v>0.515468768314326</c:v>
                </c:pt>
                <c:pt idx="70">
                  <c:v>0.731907868637778</c:v>
                </c:pt>
                <c:pt idx="71">
                  <c:v>0.504826587261649</c:v>
                </c:pt>
                <c:pt idx="72">
                  <c:v>0.520280980117792</c:v>
                </c:pt>
                <c:pt idx="73">
                  <c:v>0.508579256879651</c:v>
                </c:pt>
                <c:pt idx="74">
                  <c:v>0.529752192940276</c:v>
                </c:pt>
                <c:pt idx="75">
                  <c:v>0.517688832537792</c:v>
                </c:pt>
                <c:pt idx="76">
                  <c:v>0.527662457382234</c:v>
                </c:pt>
                <c:pt idx="77">
                  <c:v>0.517967895054365</c:v>
                </c:pt>
                <c:pt idx="78">
                  <c:v>1.05923278495459</c:v>
                </c:pt>
                <c:pt idx="79">
                  <c:v>0.506602439667511</c:v>
                </c:pt>
                <c:pt idx="80">
                  <c:v>0.520870941170216</c:v>
                </c:pt>
                <c:pt idx="81">
                  <c:v>0.512400075464276</c:v>
                </c:pt>
                <c:pt idx="82">
                  <c:v>0.529450745729065</c:v>
                </c:pt>
                <c:pt idx="83">
                  <c:v>0.52669991554094</c:v>
                </c:pt>
                <c:pt idx="84">
                  <c:v>0.51495591009309</c:v>
                </c:pt>
                <c:pt idx="85">
                  <c:v>0.530115819861407</c:v>
                </c:pt>
                <c:pt idx="86">
                  <c:v>0.950784910890146</c:v>
                </c:pt>
                <c:pt idx="87">
                  <c:v>0.518761308104455</c:v>
                </c:pt>
                <c:pt idx="88">
                  <c:v>0.508561349131086</c:v>
                </c:pt>
                <c:pt idx="89">
                  <c:v>0.527061055279402</c:v>
                </c:pt>
                <c:pt idx="90">
                  <c:v>0.510552592033893</c:v>
                </c:pt>
                <c:pt idx="91">
                  <c:v>0.527484872154758</c:v>
                </c:pt>
                <c:pt idx="92">
                  <c:v>0.515668738239593</c:v>
                </c:pt>
                <c:pt idx="93">
                  <c:v>0.534723584811991</c:v>
                </c:pt>
                <c:pt idx="94">
                  <c:v>0.777384115901101</c:v>
                </c:pt>
                <c:pt idx="95">
                  <c:v>0.517813689392267</c:v>
                </c:pt>
                <c:pt idx="96">
                  <c:v>0.507267513804918</c:v>
                </c:pt>
                <c:pt idx="97">
                  <c:v>0.521907601235444</c:v>
                </c:pt>
                <c:pt idx="98">
                  <c:v>0.511482800441703</c:v>
                </c:pt>
                <c:pt idx="99">
                  <c:v>0.525737373684447</c:v>
                </c:pt>
                <c:pt idx="100">
                  <c:v>0.515034505245121</c:v>
                </c:pt>
                <c:pt idx="101">
                  <c:v>0.529658177227233</c:v>
                </c:pt>
                <c:pt idx="102">
                  <c:v>1.40404064480155</c:v>
                </c:pt>
                <c:pt idx="103">
                  <c:v>0.524097321762749</c:v>
                </c:pt>
                <c:pt idx="104">
                  <c:v>0.508067890982126</c:v>
                </c:pt>
                <c:pt idx="105">
                  <c:v>0.520907751551717</c:v>
                </c:pt>
                <c:pt idx="106">
                  <c:v>0.510726695210274</c:v>
                </c:pt>
                <c:pt idx="107">
                  <c:v>0.52418387590408</c:v>
                </c:pt>
                <c:pt idx="108">
                  <c:v>0.514539554790463</c:v>
                </c:pt>
                <c:pt idx="109">
                  <c:v>0.529498499751585</c:v>
                </c:pt>
                <c:pt idx="110">
                  <c:v>0.771794906497812</c:v>
                </c:pt>
                <c:pt idx="111">
                  <c:v>0.517965905314854</c:v>
                </c:pt>
                <c:pt idx="112">
                  <c:v>0.506492008516107</c:v>
                </c:pt>
                <c:pt idx="113">
                  <c:v>0.522222976699157</c:v>
                </c:pt>
                <c:pt idx="114">
                  <c:v>0.511112706827334</c:v>
                </c:pt>
                <c:pt idx="115">
                  <c:v>0.526514371292203</c:v>
                </c:pt>
                <c:pt idx="116">
                  <c:v>0.515927903262971</c:v>
                </c:pt>
                <c:pt idx="117">
                  <c:v>0.534604199779099</c:v>
                </c:pt>
                <c:pt idx="118">
                  <c:v>0.758409854232989</c:v>
                </c:pt>
                <c:pt idx="119">
                  <c:v>0.516879501491174</c:v>
                </c:pt>
                <c:pt idx="120">
                  <c:v>0.507310790871467</c:v>
                </c:pt>
                <c:pt idx="121">
                  <c:v>0.52127386566513</c:v>
                </c:pt>
                <c:pt idx="122">
                  <c:v>0.510778926162701</c:v>
                </c:pt>
                <c:pt idx="123">
                  <c:v>0.524346538019776</c:v>
                </c:pt>
                <c:pt idx="124">
                  <c:v>0.514151055986693</c:v>
                </c:pt>
                <c:pt idx="125">
                  <c:v>0.529529838317323</c:v>
                </c:pt>
                <c:pt idx="126">
                  <c:v>0.759805664268435</c:v>
                </c:pt>
                <c:pt idx="127">
                  <c:v>0.516641228854559</c:v>
                </c:pt>
                <c:pt idx="128">
                  <c:v>0.507769925822384</c:v>
                </c:pt>
                <c:pt idx="129">
                  <c:v>0.521058972606619</c:v>
                </c:pt>
                <c:pt idx="130">
                  <c:v>0.511009239788109</c:v>
                </c:pt>
                <c:pt idx="131">
                  <c:v>0.531621563623684</c:v>
                </c:pt>
                <c:pt idx="132">
                  <c:v>0.514429123619234</c:v>
                </c:pt>
                <c:pt idx="133">
                  <c:v>0.534149044320947</c:v>
                </c:pt>
                <c:pt idx="134">
                  <c:v>0.769463416215288</c:v>
                </c:pt>
                <c:pt idx="135">
                  <c:v>0.518464337824638</c:v>
                </c:pt>
                <c:pt idx="136">
                  <c:v>0.507641586914511</c:v>
                </c:pt>
                <c:pt idx="137">
                  <c:v>0.522112048114151</c:v>
                </c:pt>
                <c:pt idx="138">
                  <c:v>0.510731669581981</c:v>
                </c:pt>
                <c:pt idx="139">
                  <c:v>0.530036229847804</c:v>
                </c:pt>
                <c:pt idx="140">
                  <c:v>0.515552337834396</c:v>
                </c:pt>
                <c:pt idx="141">
                  <c:v>0.53049934429254</c:v>
                </c:pt>
                <c:pt idx="142">
                  <c:v>0.751325347265074</c:v>
                </c:pt>
                <c:pt idx="143">
                  <c:v>0.51998500471603</c:v>
                </c:pt>
                <c:pt idx="144">
                  <c:v>0.508761319056791</c:v>
                </c:pt>
                <c:pt idx="145">
                  <c:v>0.528549388716716</c:v>
                </c:pt>
                <c:pt idx="146">
                  <c:v>0.510122805902257</c:v>
                </c:pt>
                <c:pt idx="147">
                  <c:v>0.527332158792235</c:v>
                </c:pt>
                <c:pt idx="148">
                  <c:v>0.525328977370678</c:v>
                </c:pt>
                <c:pt idx="149">
                  <c:v>0.52923784242485</c:v>
                </c:pt>
                <c:pt idx="150">
                  <c:v>0.79361053200981</c:v>
                </c:pt>
                <c:pt idx="151">
                  <c:v>0.518560343302774</c:v>
                </c:pt>
                <c:pt idx="152">
                  <c:v>1.39326316069366</c:v>
                </c:pt>
                <c:pt idx="153">
                  <c:v>0.524725585516526</c:v>
                </c:pt>
                <c:pt idx="154">
                  <c:v>0.511388784712329</c:v>
                </c:pt>
                <c:pt idx="155">
                  <c:v>0.526736725918499</c:v>
                </c:pt>
                <c:pt idx="156">
                  <c:v>0.518141500791707</c:v>
                </c:pt>
                <c:pt idx="157">
                  <c:v>0.530018322099408</c:v>
                </c:pt>
                <c:pt idx="158">
                  <c:v>0.755146165825804</c:v>
                </c:pt>
                <c:pt idx="159">
                  <c:v>0.527737570466479</c:v>
                </c:pt>
                <c:pt idx="160">
                  <c:v>0.522346838678578</c:v>
                </c:pt>
                <c:pt idx="161">
                  <c:v>0.510334714338275</c:v>
                </c:pt>
                <c:pt idx="162">
                  <c:v>0.52640543244892</c:v>
                </c:pt>
                <c:pt idx="163">
                  <c:v>0.512197120892379</c:v>
                </c:pt>
                <c:pt idx="164">
                  <c:v>0.528316587896815</c:v>
                </c:pt>
                <c:pt idx="165">
                  <c:v>0.515865723563705</c:v>
                </c:pt>
                <c:pt idx="166">
                  <c:v>0.787658690534642</c:v>
                </c:pt>
                <c:pt idx="167">
                  <c:v>0.505476240823364</c:v>
                </c:pt>
                <c:pt idx="168">
                  <c:v>0.522694050155834</c:v>
                </c:pt>
                <c:pt idx="169">
                  <c:v>0.509590050182344</c:v>
                </c:pt>
                <c:pt idx="170">
                  <c:v>0.524521138635452</c:v>
                </c:pt>
                <c:pt idx="171">
                  <c:v>0.512839312897473</c:v>
                </c:pt>
                <c:pt idx="172">
                  <c:v>0.529730803128491</c:v>
                </c:pt>
                <c:pt idx="173">
                  <c:v>0.519189104480221</c:v>
                </c:pt>
                <c:pt idx="174">
                  <c:v>0.7729126488772</c:v>
                </c:pt>
                <c:pt idx="175">
                  <c:v>0.514412708177569</c:v>
                </c:pt>
                <c:pt idx="176">
                  <c:v>0.522354797684791</c:v>
                </c:pt>
                <c:pt idx="177">
                  <c:v>0.509824343319645</c:v>
                </c:pt>
                <c:pt idx="178">
                  <c:v>0.523703351151983</c:v>
                </c:pt>
                <c:pt idx="179">
                  <c:v>0.514348538725026</c:v>
                </c:pt>
                <c:pt idx="180">
                  <c:v>0.52890356432962</c:v>
                </c:pt>
                <c:pt idx="181">
                  <c:v>0.516915316999754</c:v>
                </c:pt>
                <c:pt idx="182">
                  <c:v>0.813500078928485</c:v>
                </c:pt>
                <c:pt idx="183">
                  <c:v>0.507569458454207</c:v>
                </c:pt>
                <c:pt idx="184">
                  <c:v>0.526611371633887</c:v>
                </c:pt>
                <c:pt idx="185">
                  <c:v>0.507559012262898</c:v>
                </c:pt>
                <c:pt idx="186">
                  <c:v>0.523147713287308</c:v>
                </c:pt>
                <c:pt idx="187">
                  <c:v>0.511600693156552</c:v>
                </c:pt>
                <c:pt idx="188">
                  <c:v>0.53025559985102</c:v>
                </c:pt>
                <c:pt idx="189">
                  <c:v>0.516732259934939</c:v>
                </c:pt>
                <c:pt idx="190">
                  <c:v>0.777318951576124</c:v>
                </c:pt>
                <c:pt idx="191">
                  <c:v>0.507285918994374</c:v>
                </c:pt>
                <c:pt idx="192">
                  <c:v>0.520510298881533</c:v>
                </c:pt>
                <c:pt idx="193">
                  <c:v>0.508795642257966</c:v>
                </c:pt>
                <c:pt idx="194">
                  <c:v>0.524509697577824</c:v>
                </c:pt>
                <c:pt idx="195">
                  <c:v>0.512370726634194</c:v>
                </c:pt>
                <c:pt idx="196">
                  <c:v>0.527894263327593</c:v>
                </c:pt>
                <c:pt idx="197">
                  <c:v>0.515677194689601</c:v>
                </c:pt>
                <c:pt idx="198">
                  <c:v>0.786048484854997</c:v>
                </c:pt>
                <c:pt idx="199">
                  <c:v>0.505395158492669</c:v>
                </c:pt>
                <c:pt idx="200">
                  <c:v>0.521115680496678</c:v>
                </c:pt>
                <c:pt idx="201">
                  <c:v>0.508125593750386</c:v>
                </c:pt>
                <c:pt idx="202">
                  <c:v>0.531306188154164</c:v>
                </c:pt>
                <c:pt idx="203">
                  <c:v>0.517332667179172</c:v>
                </c:pt>
                <c:pt idx="204">
                  <c:v>0.526749659297343</c:v>
                </c:pt>
                <c:pt idx="205">
                  <c:v>0.51580503616996</c:v>
                </c:pt>
                <c:pt idx="206">
                  <c:v>0.768683434005199</c:v>
                </c:pt>
                <c:pt idx="207">
                  <c:v>0.506881999632618</c:v>
                </c:pt>
                <c:pt idx="208">
                  <c:v>0.522700516836617</c:v>
                </c:pt>
                <c:pt idx="209">
                  <c:v>0.508254927537109</c:v>
                </c:pt>
                <c:pt idx="210">
                  <c:v>0.524906155376961</c:v>
                </c:pt>
                <c:pt idx="211">
                  <c:v>0.514036645318064</c:v>
                </c:pt>
                <c:pt idx="212">
                  <c:v>0.528101694834184</c:v>
                </c:pt>
                <c:pt idx="213">
                  <c:v>0.51576772834312</c:v>
                </c:pt>
                <c:pt idx="214">
                  <c:v>0.81126857363431</c:v>
                </c:pt>
                <c:pt idx="215">
                  <c:v>0.506153750912417</c:v>
                </c:pt>
                <c:pt idx="216">
                  <c:v>0.52637359643818</c:v>
                </c:pt>
                <c:pt idx="217">
                  <c:v>0.509731819920023</c:v>
                </c:pt>
                <c:pt idx="218">
                  <c:v>0.523152687666321</c:v>
                </c:pt>
                <c:pt idx="219">
                  <c:v>0.513884926837473</c:v>
                </c:pt>
                <c:pt idx="220">
                  <c:v>0.52829271089111</c:v>
                </c:pt>
                <c:pt idx="221">
                  <c:v>0.515725446140157</c:v>
                </c:pt>
                <c:pt idx="222">
                  <c:v>0.748049222909858</c:v>
                </c:pt>
                <c:pt idx="223">
                  <c:v>0.505452861261438</c:v>
                </c:pt>
                <c:pt idx="224">
                  <c:v>0.520074543499547</c:v>
                </c:pt>
                <c:pt idx="225">
                  <c:v>0.509798476559442</c:v>
                </c:pt>
                <c:pt idx="226">
                  <c:v>0.524937991380606</c:v>
                </c:pt>
                <c:pt idx="227">
                  <c:v>0.513717290347543</c:v>
                </c:pt>
                <c:pt idx="228">
                  <c:v>0.527513226088359</c:v>
                </c:pt>
                <c:pt idx="229">
                  <c:v>0.515956257207645</c:v>
                </c:pt>
                <c:pt idx="230">
                  <c:v>1.48405647521496</c:v>
                </c:pt>
                <c:pt idx="231">
                  <c:v>0.507871900548936</c:v>
                </c:pt>
                <c:pt idx="232">
                  <c:v>0.520985351840175</c:v>
                </c:pt>
                <c:pt idx="233">
                  <c:v>0.509738286597954</c:v>
                </c:pt>
                <c:pt idx="234">
                  <c:v>0.524615154348628</c:v>
                </c:pt>
                <c:pt idx="235">
                  <c:v>0.531209685263517</c:v>
                </c:pt>
                <c:pt idx="236">
                  <c:v>0.514782304351455</c:v>
                </c:pt>
                <c:pt idx="237">
                  <c:v>0.866090181997889</c:v>
                </c:pt>
                <c:pt idx="238">
                  <c:v>0.81742834405218</c:v>
                </c:pt>
                <c:pt idx="239">
                  <c:v>0.519493038886023</c:v>
                </c:pt>
                <c:pt idx="240">
                  <c:v>0.508964771061924</c:v>
                </c:pt>
                <c:pt idx="241">
                  <c:v>0.522703004030513</c:v>
                </c:pt>
                <c:pt idx="242">
                  <c:v>0.512170756697353</c:v>
                </c:pt>
                <c:pt idx="243">
                  <c:v>0.52626465759069</c:v>
                </c:pt>
                <c:pt idx="244">
                  <c:v>0.519756183411546</c:v>
                </c:pt>
                <c:pt idx="245">
                  <c:v>0.529765126319944</c:v>
                </c:pt>
                <c:pt idx="246">
                  <c:v>0.823194641280828</c:v>
                </c:pt>
                <c:pt idx="247">
                  <c:v>0.519086134892533</c:v>
                </c:pt>
                <c:pt idx="248">
                  <c:v>0.507355560271697</c:v>
                </c:pt>
                <c:pt idx="249">
                  <c:v>0.522030468324555</c:v>
                </c:pt>
                <c:pt idx="250">
                  <c:v>0.511938950763301</c:v>
                </c:pt>
                <c:pt idx="251">
                  <c:v>0.52637757594394</c:v>
                </c:pt>
                <c:pt idx="252">
                  <c:v>0.513666054274578</c:v>
                </c:pt>
                <c:pt idx="253">
                  <c:v>0.529127908707141</c:v>
                </c:pt>
                <c:pt idx="254">
                  <c:v>0.774045314395512</c:v>
                </c:pt>
                <c:pt idx="255">
                  <c:v>0.520993808265808</c:v>
                </c:pt>
                <c:pt idx="256">
                  <c:v>0.508482753975586</c:v>
                </c:pt>
                <c:pt idx="257">
                  <c:v>0.521900637097969</c:v>
                </c:pt>
                <c:pt idx="258">
                  <c:v>6.17015490803153</c:v>
                </c:pt>
                <c:pt idx="259">
                  <c:v>0.532404033057463</c:v>
                </c:pt>
                <c:pt idx="260">
                  <c:v>0.514713657958986</c:v>
                </c:pt>
                <c:pt idx="261">
                  <c:v>9.00536197176071</c:v>
                </c:pt>
                <c:pt idx="262">
                  <c:v>0.50513101910616</c:v>
                </c:pt>
                <c:pt idx="263">
                  <c:v>0.518845872513619</c:v>
                </c:pt>
                <c:pt idx="264">
                  <c:v>0.509258259273706</c:v>
                </c:pt>
                <c:pt idx="265">
                  <c:v>0.521991668201308</c:v>
                </c:pt>
                <c:pt idx="266">
                  <c:v>0.516889947668637</c:v>
                </c:pt>
                <c:pt idx="267">
                  <c:v>0.526492981482437</c:v>
                </c:pt>
                <c:pt idx="268">
                  <c:v>0.518044997886635</c:v>
                </c:pt>
                <c:pt idx="269">
                  <c:v>0.803978127449284</c:v>
                </c:pt>
                <c:pt idx="270">
                  <c:v>0.505390681553872</c:v>
                </c:pt>
                <c:pt idx="271">
                  <c:v>0.520248646671943</c:v>
                </c:pt>
                <c:pt idx="272">
                  <c:v>0.508581744064613</c:v>
                </c:pt>
                <c:pt idx="273">
                  <c:v>0.528238490177257</c:v>
                </c:pt>
                <c:pt idx="274">
                  <c:v>0.513904326913361</c:v>
                </c:pt>
                <c:pt idx="275">
                  <c:v>0.525028027609</c:v>
                </c:pt>
                <c:pt idx="276">
                  <c:v>0.513980434867937</c:v>
                </c:pt>
                <c:pt idx="277">
                  <c:v>0.822040585902077</c:v>
                </c:pt>
                <c:pt idx="278">
                  <c:v>0.50664671161761</c:v>
                </c:pt>
                <c:pt idx="279">
                  <c:v>0.519156273594244</c:v>
                </c:pt>
                <c:pt idx="280">
                  <c:v>0.509683568457518</c:v>
                </c:pt>
                <c:pt idx="281">
                  <c:v>0.524504723188379</c:v>
                </c:pt>
                <c:pt idx="282">
                  <c:v>0.513931685979917</c:v>
                </c:pt>
                <c:pt idx="283">
                  <c:v>0.528131043658303</c:v>
                </c:pt>
                <c:pt idx="284">
                  <c:v>0.516055247294078</c:v>
                </c:pt>
                <c:pt idx="285">
                  <c:v>0.778766992559961</c:v>
                </c:pt>
                <c:pt idx="286">
                  <c:v>0.512974615942634</c:v>
                </c:pt>
                <c:pt idx="287">
                  <c:v>0.525595106529353</c:v>
                </c:pt>
                <c:pt idx="288">
                  <c:v>0.509220454011208</c:v>
                </c:pt>
                <c:pt idx="289">
                  <c:v>0.532880080885752</c:v>
                </c:pt>
                <c:pt idx="290">
                  <c:v>0.516135832202071</c:v>
                </c:pt>
                <c:pt idx="291">
                  <c:v>0.528047474132191</c:v>
                </c:pt>
                <c:pt idx="292">
                  <c:v>0.51706355342048</c:v>
                </c:pt>
                <c:pt idx="293">
                  <c:v>0.891575405037212</c:v>
                </c:pt>
                <c:pt idx="294">
                  <c:v>0.506602937109604</c:v>
                </c:pt>
                <c:pt idx="295">
                  <c:v>0.522361264373661</c:v>
                </c:pt>
                <c:pt idx="296">
                  <c:v>0.510533191966237</c:v>
                </c:pt>
                <c:pt idx="297">
                  <c:v>0.524902175870291</c:v>
                </c:pt>
                <c:pt idx="298">
                  <c:v>0.513605366888334</c:v>
                </c:pt>
                <c:pt idx="299">
                  <c:v>0.528139997531514</c:v>
                </c:pt>
                <c:pt idx="300">
                  <c:v>0.517276456721586</c:v>
                </c:pt>
                <c:pt idx="301">
                  <c:v>0.806998568876589</c:v>
                </c:pt>
                <c:pt idx="302">
                  <c:v>0.507322231937577</c:v>
                </c:pt>
                <c:pt idx="303">
                  <c:v>0.521142542125625</c:v>
                </c:pt>
                <c:pt idx="304">
                  <c:v>0.508438482028245</c:v>
                </c:pt>
                <c:pt idx="305">
                  <c:v>0.52495341195367</c:v>
                </c:pt>
                <c:pt idx="306">
                  <c:v>0.513497920355655</c:v>
                </c:pt>
                <c:pt idx="307">
                  <c:v>0.529672602917894</c:v>
                </c:pt>
                <c:pt idx="308">
                  <c:v>0.516867562979846</c:v>
                </c:pt>
                <c:pt idx="309">
                  <c:v>1.42685562252038</c:v>
                </c:pt>
                <c:pt idx="310">
                  <c:v>0.505869714005432</c:v>
                </c:pt>
                <c:pt idx="311">
                  <c:v>0.520648089103502</c:v>
                </c:pt>
                <c:pt idx="312">
                  <c:v>0.509058786779221</c:v>
                </c:pt>
                <c:pt idx="313">
                  <c:v>0.525154874210426</c:v>
                </c:pt>
                <c:pt idx="314">
                  <c:v>0.51423164088059</c:v>
                </c:pt>
                <c:pt idx="315">
                  <c:v>0.533575996160872</c:v>
                </c:pt>
                <c:pt idx="316">
                  <c:v>0.528427516496937</c:v>
                </c:pt>
                <c:pt idx="317">
                  <c:v>0.7801468845925</c:v>
                </c:pt>
                <c:pt idx="318">
                  <c:v>0.519771106541938</c:v>
                </c:pt>
                <c:pt idx="319">
                  <c:v>0.505790123988323</c:v>
                </c:pt>
                <c:pt idx="320">
                  <c:v>0.521404691775149</c:v>
                </c:pt>
                <c:pt idx="321">
                  <c:v>0.510473002010465</c:v>
                </c:pt>
                <c:pt idx="322">
                  <c:v>0.526645197401025</c:v>
                </c:pt>
                <c:pt idx="323">
                  <c:v>0.513341724934398</c:v>
                </c:pt>
                <c:pt idx="324">
                  <c:v>0.52832703408109</c:v>
                </c:pt>
                <c:pt idx="325">
                  <c:v>0.727448340137406</c:v>
                </c:pt>
                <c:pt idx="326">
                  <c:v>0.518197213807021</c:v>
                </c:pt>
                <c:pt idx="327">
                  <c:v>0.506234335799718</c:v>
                </c:pt>
                <c:pt idx="328">
                  <c:v>0.522181689377758</c:v>
                </c:pt>
                <c:pt idx="329">
                  <c:v>0.515294665127771</c:v>
                </c:pt>
                <c:pt idx="330">
                  <c:v>0.528593660668401</c:v>
                </c:pt>
                <c:pt idx="331">
                  <c:v>0.512456783353518</c:v>
                </c:pt>
                <c:pt idx="332">
                  <c:v>0.527608236684459</c:v>
                </c:pt>
                <c:pt idx="333">
                  <c:v>0.770128987815885</c:v>
                </c:pt>
                <c:pt idx="334">
                  <c:v>0.516388530520702</c:v>
                </c:pt>
                <c:pt idx="335">
                  <c:v>0.504958408242841</c:v>
                </c:pt>
                <c:pt idx="336">
                  <c:v>0.520821197400842</c:v>
                </c:pt>
                <c:pt idx="337">
                  <c:v>0.515280239435455</c:v>
                </c:pt>
                <c:pt idx="338">
                  <c:v>0.52354914546996</c:v>
                </c:pt>
                <c:pt idx="339">
                  <c:v>0.513819762512522</c:v>
                </c:pt>
                <c:pt idx="340">
                  <c:v>0.529278632298998</c:v>
                </c:pt>
                <c:pt idx="341">
                  <c:v>1.34689799240832</c:v>
                </c:pt>
                <c:pt idx="342">
                  <c:v>0.515792600223929</c:v>
                </c:pt>
                <c:pt idx="343">
                  <c:v>0.514260492259858</c:v>
                </c:pt>
                <c:pt idx="344">
                  <c:v>0.528643901870722</c:v>
                </c:pt>
                <c:pt idx="345">
                  <c:v>0.511273379178719</c:v>
                </c:pt>
                <c:pt idx="346">
                  <c:v>0.52467186225157</c:v>
                </c:pt>
                <c:pt idx="347">
                  <c:v>0.513782952116261</c:v>
                </c:pt>
                <c:pt idx="348">
                  <c:v>0.52814447447486</c:v>
                </c:pt>
                <c:pt idx="349">
                  <c:v>0.807218436295803</c:v>
                </c:pt>
                <c:pt idx="350">
                  <c:v>0.518114141721647</c:v>
                </c:pt>
                <c:pt idx="351">
                  <c:v>0.505972683610356</c:v>
                </c:pt>
                <c:pt idx="352">
                  <c:v>0.52077692545009</c:v>
                </c:pt>
                <c:pt idx="353">
                  <c:v>0.511144045389229</c:v>
                </c:pt>
                <c:pt idx="354">
                  <c:v>0.523902823640024</c:v>
                </c:pt>
                <c:pt idx="355">
                  <c:v>0.514426636446904</c:v>
                </c:pt>
                <c:pt idx="356">
                  <c:v>0.5288582975034</c:v>
                </c:pt>
                <c:pt idx="357">
                  <c:v>1.40882599502459</c:v>
                </c:pt>
                <c:pt idx="358">
                  <c:v>0.522304556472879</c:v>
                </c:pt>
                <c:pt idx="359">
                  <c:v>0.506725804208074</c:v>
                </c:pt>
                <c:pt idx="360">
                  <c:v>0.52136240957782</c:v>
                </c:pt>
                <c:pt idx="361">
                  <c:v>0.511488769678771</c:v>
                </c:pt>
                <c:pt idx="362">
                  <c:v>0.523912772388918</c:v>
                </c:pt>
                <c:pt idx="363">
                  <c:v>0.513916265418939</c:v>
                </c:pt>
                <c:pt idx="364">
                  <c:v>0.527990766234178</c:v>
                </c:pt>
                <c:pt idx="365">
                  <c:v>0.791884423355364</c:v>
                </c:pt>
                <c:pt idx="366">
                  <c:v>0.517176969203196</c:v>
                </c:pt>
                <c:pt idx="367">
                  <c:v>0.506438782673689</c:v>
                </c:pt>
                <c:pt idx="368">
                  <c:v>0.522267746085005</c:v>
                </c:pt>
                <c:pt idx="369">
                  <c:v>0.511566369963512</c:v>
                </c:pt>
                <c:pt idx="370">
                  <c:v>0.53329991825654</c:v>
                </c:pt>
                <c:pt idx="371">
                  <c:v>0.512504537362571</c:v>
                </c:pt>
                <c:pt idx="372">
                  <c:v>0.534722589926231</c:v>
                </c:pt>
                <c:pt idx="373">
                  <c:v>1.41206779612239</c:v>
                </c:pt>
                <c:pt idx="374">
                  <c:v>0.517735094232703</c:v>
                </c:pt>
                <c:pt idx="375">
                  <c:v>0.506699937452572</c:v>
                </c:pt>
                <c:pt idx="376">
                  <c:v>0.522493085338463</c:v>
                </c:pt>
                <c:pt idx="377">
                  <c:v>0.512069776856191</c:v>
                </c:pt>
                <c:pt idx="378">
                  <c:v>0.526267642228724</c:v>
                </c:pt>
                <c:pt idx="379">
                  <c:v>0.515369280781175</c:v>
                </c:pt>
                <c:pt idx="380">
                  <c:v>0.528841384617862</c:v>
                </c:pt>
                <c:pt idx="381">
                  <c:v>0.763221568623906</c:v>
                </c:pt>
                <c:pt idx="382">
                  <c:v>0.519529351841196</c:v>
                </c:pt>
                <c:pt idx="383">
                  <c:v>0.505940350158247</c:v>
                </c:pt>
                <c:pt idx="384">
                  <c:v>0.522151345688921</c:v>
                </c:pt>
                <c:pt idx="385">
                  <c:v>0.510722715705883</c:v>
                </c:pt>
                <c:pt idx="386">
                  <c:v>0.52962783353915</c:v>
                </c:pt>
                <c:pt idx="387">
                  <c:v>0.512823394898512</c:v>
                </c:pt>
                <c:pt idx="388">
                  <c:v>0.53377944815635</c:v>
                </c:pt>
                <c:pt idx="389">
                  <c:v>0.774531310986975</c:v>
                </c:pt>
                <c:pt idx="390">
                  <c:v>0.505331486474962</c:v>
                </c:pt>
                <c:pt idx="391">
                  <c:v>0.520007389424481</c:v>
                </c:pt>
                <c:pt idx="392">
                  <c:v>0.509042868764657</c:v>
                </c:pt>
                <c:pt idx="393">
                  <c:v>0.525208597472607</c:v>
                </c:pt>
                <c:pt idx="394">
                  <c:v>0.516352715006963</c:v>
                </c:pt>
                <c:pt idx="395">
                  <c:v>0.526783485054801</c:v>
                </c:pt>
                <c:pt idx="396">
                  <c:v>0.515146926145269</c:v>
                </c:pt>
                <c:pt idx="397">
                  <c:v>0.907037756894989</c:v>
                </c:pt>
                <c:pt idx="398">
                  <c:v>0.506759132520269</c:v>
                </c:pt>
                <c:pt idx="399">
                  <c:v>0.520136723200978</c:v>
                </c:pt>
                <c:pt idx="400">
                  <c:v>0.513821752257298</c:v>
                </c:pt>
                <c:pt idx="401">
                  <c:v>0.523373549991326</c:v>
                </c:pt>
                <c:pt idx="402">
                  <c:v>0.511551446824229</c:v>
                </c:pt>
                <c:pt idx="403">
                  <c:v>0.526441247955061</c:v>
                </c:pt>
                <c:pt idx="404">
                  <c:v>0.516791952461977</c:v>
                </c:pt>
                <c:pt idx="405">
                  <c:v>1.20959177058075</c:v>
                </c:pt>
                <c:pt idx="406">
                  <c:v>0.504937515857872</c:v>
                </c:pt>
                <c:pt idx="407">
                  <c:v>0.518598645992777</c:v>
                </c:pt>
                <c:pt idx="408">
                  <c:v>0.509561696245245</c:v>
                </c:pt>
                <c:pt idx="409">
                  <c:v>0.523223323819566</c:v>
                </c:pt>
                <c:pt idx="410">
                  <c:v>0.511377841088165</c:v>
                </c:pt>
                <c:pt idx="411">
                  <c:v>0.525999523337112</c:v>
                </c:pt>
                <c:pt idx="412">
                  <c:v>31.676165877472</c:v>
                </c:pt>
                <c:pt idx="413">
                  <c:v>1.31624936655752</c:v>
                </c:pt>
                <c:pt idx="414">
                  <c:v>0.510665012942467</c:v>
                </c:pt>
                <c:pt idx="415">
                  <c:v>0.510314319406996</c:v>
                </c:pt>
                <c:pt idx="416">
                  <c:v>0.512229951777695</c:v>
                </c:pt>
                <c:pt idx="417">
                  <c:v>0.513839162568899</c:v>
                </c:pt>
                <c:pt idx="418">
                  <c:v>0.516037339545341</c:v>
                </c:pt>
                <c:pt idx="419">
                  <c:v>0.518278793583048</c:v>
                </c:pt>
                <c:pt idx="420">
                  <c:v>0.522368228497849</c:v>
                </c:pt>
                <c:pt idx="421">
                  <c:v>0.740409575488099</c:v>
                </c:pt>
                <c:pt idx="422">
                  <c:v>0.509842251073678</c:v>
                </c:pt>
                <c:pt idx="423">
                  <c:v>0.51417344067351</c:v>
                </c:pt>
                <c:pt idx="424">
                  <c:v>0.524307240447749</c:v>
                </c:pt>
                <c:pt idx="425">
                  <c:v>0.517850997212791</c:v>
                </c:pt>
                <c:pt idx="426">
                  <c:v>0.520437175549127</c:v>
                </c:pt>
                <c:pt idx="427">
                  <c:v>0.521172885824587</c:v>
                </c:pt>
                <c:pt idx="428">
                  <c:v>0.521559394880433</c:v>
                </c:pt>
                <c:pt idx="429">
                  <c:v>0.795391358772506</c:v>
                </c:pt>
                <c:pt idx="430">
                  <c:v>0.513969988678031</c:v>
                </c:pt>
                <c:pt idx="431">
                  <c:v>0.515943821260518</c:v>
                </c:pt>
                <c:pt idx="432">
                  <c:v>0.519084642581265</c:v>
                </c:pt>
                <c:pt idx="433">
                  <c:v>0.519212484045798</c:v>
                </c:pt>
                <c:pt idx="434">
                  <c:v>0.519311474146105</c:v>
                </c:pt>
                <c:pt idx="435">
                  <c:v>0.520768469016675</c:v>
                </c:pt>
                <c:pt idx="436">
                  <c:v>0.530032747780743</c:v>
                </c:pt>
                <c:pt idx="437">
                  <c:v>0.797289083386232</c:v>
                </c:pt>
                <c:pt idx="438">
                  <c:v>0.511336056322921</c:v>
                </c:pt>
                <c:pt idx="439">
                  <c:v>0.513864034466287</c:v>
                </c:pt>
                <c:pt idx="440">
                  <c:v>0.515229998245348</c:v>
                </c:pt>
                <c:pt idx="441">
                  <c:v>0.51758536549909</c:v>
                </c:pt>
                <c:pt idx="442">
                  <c:v>0.517632124644971</c:v>
                </c:pt>
                <c:pt idx="443">
                  <c:v>0.517276954163129</c:v>
                </c:pt>
                <c:pt idx="444">
                  <c:v>0.520338682886645</c:v>
                </c:pt>
                <c:pt idx="445">
                  <c:v>0.745901287142294</c:v>
                </c:pt>
                <c:pt idx="446">
                  <c:v>0.511957853382072</c:v>
                </c:pt>
                <c:pt idx="447">
                  <c:v>0.511906617317219</c:v>
                </c:pt>
                <c:pt idx="448">
                  <c:v>0.514724601595651</c:v>
                </c:pt>
                <c:pt idx="449">
                  <c:v>0.514281384652888</c:v>
                </c:pt>
                <c:pt idx="450">
                  <c:v>0.524089362761074</c:v>
                </c:pt>
                <c:pt idx="451">
                  <c:v>0.518172839367575</c:v>
                </c:pt>
                <c:pt idx="452">
                  <c:v>0.521449958599102</c:v>
                </c:pt>
                <c:pt idx="453">
                  <c:v>0.773732923551523</c:v>
                </c:pt>
                <c:pt idx="454">
                  <c:v>0.509027945646009</c:v>
                </c:pt>
                <c:pt idx="455">
                  <c:v>0.511368389778275</c:v>
                </c:pt>
                <c:pt idx="456">
                  <c:v>0.513536720478858</c:v>
                </c:pt>
                <c:pt idx="457">
                  <c:v>0.514971330667357</c:v>
                </c:pt>
                <c:pt idx="458">
                  <c:v>0.515566266099611</c:v>
                </c:pt>
                <c:pt idx="459">
                  <c:v>0.517399821260273</c:v>
                </c:pt>
                <c:pt idx="460">
                  <c:v>0.520206364479126</c:v>
                </c:pt>
                <c:pt idx="461">
                  <c:v>0.823782612565752</c:v>
                </c:pt>
                <c:pt idx="462">
                  <c:v>0.511254973986063</c:v>
                </c:pt>
                <c:pt idx="463">
                  <c:v>0.51171211918677</c:v>
                </c:pt>
                <c:pt idx="464">
                  <c:v>0.515162346713983</c:v>
                </c:pt>
                <c:pt idx="465">
                  <c:v>0.520103892322623</c:v>
                </c:pt>
                <c:pt idx="466">
                  <c:v>0.517435139337304</c:v>
                </c:pt>
                <c:pt idx="467">
                  <c:v>0.518239993449505</c:v>
                </c:pt>
                <c:pt idx="468">
                  <c:v>0.521453440654716</c:v>
                </c:pt>
                <c:pt idx="469">
                  <c:v>0.768558577134658</c:v>
                </c:pt>
                <c:pt idx="470">
                  <c:v>0.509465690773516</c:v>
                </c:pt>
                <c:pt idx="471">
                  <c:v>0.512256315971182</c:v>
                </c:pt>
                <c:pt idx="472">
                  <c:v>0.513613823314438</c:v>
                </c:pt>
                <c:pt idx="473">
                  <c:v>0.513458622774647</c:v>
                </c:pt>
                <c:pt idx="474">
                  <c:v>0.515387685969934</c:v>
                </c:pt>
                <c:pt idx="475">
                  <c:v>0.516809362781303</c:v>
                </c:pt>
                <c:pt idx="476">
                  <c:v>0.519057283504302</c:v>
                </c:pt>
                <c:pt idx="477">
                  <c:v>0.751688476753073</c:v>
                </c:pt>
                <c:pt idx="478">
                  <c:v>0.506573588285051</c:v>
                </c:pt>
                <c:pt idx="479">
                  <c:v>0.518447424942368</c:v>
                </c:pt>
                <c:pt idx="480">
                  <c:v>0.511640985603968</c:v>
                </c:pt>
                <c:pt idx="481">
                  <c:v>0.512763702380437</c:v>
                </c:pt>
                <c:pt idx="482">
                  <c:v>0.516410915209705</c:v>
                </c:pt>
                <c:pt idx="483">
                  <c:v>0.518828462191129</c:v>
                </c:pt>
                <c:pt idx="484">
                  <c:v>0.518892631649911</c:v>
                </c:pt>
                <c:pt idx="485">
                  <c:v>1.60178355113964</c:v>
                </c:pt>
                <c:pt idx="486">
                  <c:v>0.508482753975586</c:v>
                </c:pt>
                <c:pt idx="487">
                  <c:v>0.510886372693844</c:v>
                </c:pt>
                <c:pt idx="488">
                  <c:v>0.511707642248227</c:v>
                </c:pt>
                <c:pt idx="489">
                  <c:v>0.513655110652853</c:v>
                </c:pt>
                <c:pt idx="490">
                  <c:v>0.517973864313106</c:v>
                </c:pt>
                <c:pt idx="491">
                  <c:v>0.517142645996978</c:v>
                </c:pt>
                <c:pt idx="492">
                  <c:v>0.519040370623257</c:v>
                </c:pt>
                <c:pt idx="493">
                  <c:v>1.12353207284529</c:v>
                </c:pt>
                <c:pt idx="494">
                  <c:v>0.508766790878101</c:v>
                </c:pt>
                <c:pt idx="495">
                  <c:v>0.50986662551169</c:v>
                </c:pt>
                <c:pt idx="496">
                  <c:v>0.5130213750745</c:v>
                </c:pt>
                <c:pt idx="497">
                  <c:v>0.513177073059476</c:v>
                </c:pt>
                <c:pt idx="498">
                  <c:v>0.514672868069642</c:v>
                </c:pt>
                <c:pt idx="499">
                  <c:v>0.522763193995244</c:v>
                </c:pt>
                <c:pt idx="500">
                  <c:v>0.518238501135017</c:v>
                </c:pt>
                <c:pt idx="501">
                  <c:v>0.790211043090968</c:v>
                </c:pt>
                <c:pt idx="502">
                  <c:v>0.509291090154602</c:v>
                </c:pt>
                <c:pt idx="503">
                  <c:v>0.510619248678492</c:v>
                </c:pt>
                <c:pt idx="504">
                  <c:v>0.51144002078996</c:v>
                </c:pt>
                <c:pt idx="505">
                  <c:v>0.513935665477611</c:v>
                </c:pt>
                <c:pt idx="506">
                  <c:v>0.51528869587626</c:v>
                </c:pt>
                <c:pt idx="507">
                  <c:v>0.52412816289426</c:v>
                </c:pt>
                <c:pt idx="508">
                  <c:v>0.518387234987377</c:v>
                </c:pt>
                <c:pt idx="509">
                  <c:v>0.970117825087689</c:v>
                </c:pt>
                <c:pt idx="510">
                  <c:v>0.508474794967057</c:v>
                </c:pt>
                <c:pt idx="511">
                  <c:v>0.511462902930683</c:v>
                </c:pt>
                <c:pt idx="512">
                  <c:v>0.513036298206989</c:v>
                </c:pt>
                <c:pt idx="513">
                  <c:v>0.513210401383765</c:v>
                </c:pt>
                <c:pt idx="514">
                  <c:v>5.84123868913615</c:v>
                </c:pt>
                <c:pt idx="515">
                  <c:v>0.517101358670063</c:v>
                </c:pt>
                <c:pt idx="516">
                  <c:v>0.519283120204098</c:v>
                </c:pt>
                <c:pt idx="517">
                  <c:v>9.12634029711044</c:v>
                </c:pt>
                <c:pt idx="518">
                  <c:v>0.509449772765706</c:v>
                </c:pt>
                <c:pt idx="519">
                  <c:v>0.510984367910393</c:v>
                </c:pt>
                <c:pt idx="520">
                  <c:v>0.513624269517766</c:v>
                </c:pt>
                <c:pt idx="521">
                  <c:v>0.520650576303542</c:v>
                </c:pt>
                <c:pt idx="522">
                  <c:v>0.514969838346753</c:v>
                </c:pt>
                <c:pt idx="523">
                  <c:v>0.517296354239052</c:v>
                </c:pt>
                <c:pt idx="524">
                  <c:v>0.520393898466676</c:v>
                </c:pt>
                <c:pt idx="525">
                  <c:v>0.797027928650649</c:v>
                </c:pt>
                <c:pt idx="526">
                  <c:v>0.51000292342358</c:v>
                </c:pt>
                <c:pt idx="527">
                  <c:v>0.509723860905054</c:v>
                </c:pt>
                <c:pt idx="528">
                  <c:v>0.51223691590351</c:v>
                </c:pt>
                <c:pt idx="529">
                  <c:v>0.5131427498616</c:v>
                </c:pt>
                <c:pt idx="530">
                  <c:v>0.517170999947155</c:v>
                </c:pt>
                <c:pt idx="531">
                  <c:v>0.516163191271513</c:v>
                </c:pt>
                <c:pt idx="532">
                  <c:v>0.518388229866335</c:v>
                </c:pt>
                <c:pt idx="533">
                  <c:v>0.819248965816886</c:v>
                </c:pt>
                <c:pt idx="534">
                  <c:v>0.508422066589056</c:v>
                </c:pt>
                <c:pt idx="535">
                  <c:v>0.517113297185366</c:v>
                </c:pt>
                <c:pt idx="536">
                  <c:v>0.513447181705291</c:v>
                </c:pt>
                <c:pt idx="537">
                  <c:v>0.514213733124574</c:v>
                </c:pt>
                <c:pt idx="538">
                  <c:v>0.514430118505062</c:v>
                </c:pt>
                <c:pt idx="539">
                  <c:v>0.526238790834217</c:v>
                </c:pt>
                <c:pt idx="540">
                  <c:v>0.520037235683185</c:v>
                </c:pt>
                <c:pt idx="541">
                  <c:v>0.791276554553014</c:v>
                </c:pt>
                <c:pt idx="542">
                  <c:v>0.508067890982126</c:v>
                </c:pt>
                <c:pt idx="543">
                  <c:v>0.509776589293617</c:v>
                </c:pt>
                <c:pt idx="544">
                  <c:v>0.513028836650136</c:v>
                </c:pt>
                <c:pt idx="545">
                  <c:v>0.513641182390665</c:v>
                </c:pt>
                <c:pt idx="546">
                  <c:v>0.515085741328099</c:v>
                </c:pt>
                <c:pt idx="547">
                  <c:v>0.517465980472907</c:v>
                </c:pt>
                <c:pt idx="548">
                  <c:v>0.519751209029229</c:v>
                </c:pt>
                <c:pt idx="549">
                  <c:v>0.996506892380451</c:v>
                </c:pt>
                <c:pt idx="550">
                  <c:v>0.515634912490276</c:v>
                </c:pt>
                <c:pt idx="551">
                  <c:v>0.511418133541153</c:v>
                </c:pt>
                <c:pt idx="552">
                  <c:v>0.514403256871414</c:v>
                </c:pt>
                <c:pt idx="553">
                  <c:v>0.516669085354754</c:v>
                </c:pt>
                <c:pt idx="554">
                  <c:v>0.518188757372813</c:v>
                </c:pt>
                <c:pt idx="555">
                  <c:v>0.518006197750513</c:v>
                </c:pt>
                <c:pt idx="556">
                  <c:v>0.519306002328713</c:v>
                </c:pt>
                <c:pt idx="557">
                  <c:v>0.786932431573186</c:v>
                </c:pt>
                <c:pt idx="558">
                  <c:v>0.509885528147382</c:v>
                </c:pt>
                <c:pt idx="559">
                  <c:v>0.510229257568773</c:v>
                </c:pt>
                <c:pt idx="560">
                  <c:v>0.513706346721281</c:v>
                </c:pt>
                <c:pt idx="561">
                  <c:v>0.514721616956773</c:v>
                </c:pt>
                <c:pt idx="562">
                  <c:v>0.523614309811633</c:v>
                </c:pt>
                <c:pt idx="563">
                  <c:v>0.518183782994229</c:v>
                </c:pt>
                <c:pt idx="564">
                  <c:v>0.526251724213633</c:v>
                </c:pt>
                <c:pt idx="565">
                  <c:v>1.41514793008923</c:v>
                </c:pt>
                <c:pt idx="566">
                  <c:v>0.519455731072462</c:v>
                </c:pt>
                <c:pt idx="567">
                  <c:v>0.512614471085779</c:v>
                </c:pt>
                <c:pt idx="568">
                  <c:v>0.513546669235047</c:v>
                </c:pt>
                <c:pt idx="569">
                  <c:v>0.516276607059292</c:v>
                </c:pt>
                <c:pt idx="570">
                  <c:v>0.516634762153376</c:v>
                </c:pt>
                <c:pt idx="571">
                  <c:v>0.519150801786858</c:v>
                </c:pt>
                <c:pt idx="572">
                  <c:v>0.521699672295766</c:v>
                </c:pt>
                <c:pt idx="573">
                  <c:v>0.771264637955337</c:v>
                </c:pt>
                <c:pt idx="574">
                  <c:v>0.510138723908665</c:v>
                </c:pt>
                <c:pt idx="575">
                  <c:v>0.512666204596171</c:v>
                </c:pt>
                <c:pt idx="576">
                  <c:v>0.512573681190568</c:v>
                </c:pt>
                <c:pt idx="577">
                  <c:v>0.514211743371924</c:v>
                </c:pt>
                <c:pt idx="578">
                  <c:v>0.522649778212344</c:v>
                </c:pt>
                <c:pt idx="579">
                  <c:v>0.518868257205483</c:v>
                </c:pt>
                <c:pt idx="580">
                  <c:v>0.519951178963592</c:v>
                </c:pt>
                <c:pt idx="581">
                  <c:v>0.77506904110648</c:v>
                </c:pt>
                <c:pt idx="582">
                  <c:v>0.508642928895466</c:v>
                </c:pt>
                <c:pt idx="583">
                  <c:v>0.51171759099893</c:v>
                </c:pt>
                <c:pt idx="584">
                  <c:v>0.512262285222573</c:v>
                </c:pt>
                <c:pt idx="585">
                  <c:v>0.515423501487785</c:v>
                </c:pt>
                <c:pt idx="586">
                  <c:v>0.515792600223929</c:v>
                </c:pt>
                <c:pt idx="587">
                  <c:v>0.524222676051006</c:v>
                </c:pt>
                <c:pt idx="588">
                  <c:v>0.520165574591499</c:v>
                </c:pt>
                <c:pt idx="589">
                  <c:v>0.796985646427452</c:v>
                </c:pt>
                <c:pt idx="590">
                  <c:v>0.51151115437818</c:v>
                </c:pt>
                <c:pt idx="591">
                  <c:v>0.512147874564791</c:v>
                </c:pt>
                <c:pt idx="592">
                  <c:v>0.519613916229191</c:v>
                </c:pt>
                <c:pt idx="593">
                  <c:v>0.518031069645608</c:v>
                </c:pt>
                <c:pt idx="594">
                  <c:v>0.526629279399826</c:v>
                </c:pt>
                <c:pt idx="595">
                  <c:v>0.519359228159102</c:v>
                </c:pt>
                <c:pt idx="596">
                  <c:v>0.522539347052726</c:v>
                </c:pt>
                <c:pt idx="597">
                  <c:v>1.31064921353474</c:v>
                </c:pt>
                <c:pt idx="598">
                  <c:v>0.510648597493405</c:v>
                </c:pt>
                <c:pt idx="599">
                  <c:v>0.513031323834097</c:v>
                </c:pt>
                <c:pt idx="600">
                  <c:v>0.514282876963925</c:v>
                </c:pt>
                <c:pt idx="601">
                  <c:v>0.517323713298766</c:v>
                </c:pt>
                <c:pt idx="602">
                  <c:v>0.518396686311079</c:v>
                </c:pt>
                <c:pt idx="603">
                  <c:v>0.519659183069627</c:v>
                </c:pt>
                <c:pt idx="604">
                  <c:v>0.522688578338148</c:v>
                </c:pt>
                <c:pt idx="605">
                  <c:v>0.778809772201992</c:v>
                </c:pt>
                <c:pt idx="606">
                  <c:v>0.517646052894939</c:v>
                </c:pt>
                <c:pt idx="607">
                  <c:v>0.511862842796439</c:v>
                </c:pt>
                <c:pt idx="608">
                  <c:v>0.514138620034572</c:v>
                </c:pt>
                <c:pt idx="609">
                  <c:v>0.517093897112676</c:v>
                </c:pt>
                <c:pt idx="610">
                  <c:v>0.517354056991648</c:v>
                </c:pt>
                <c:pt idx="611">
                  <c:v>0.520010871485394</c:v>
                </c:pt>
                <c:pt idx="612">
                  <c:v>0.522006591328553</c:v>
                </c:pt>
                <c:pt idx="613">
                  <c:v>1.46418185140319</c:v>
                </c:pt>
                <c:pt idx="614">
                  <c:v>0.509016504575112</c:v>
                </c:pt>
                <c:pt idx="615">
                  <c:v>0.513150708870322</c:v>
                </c:pt>
                <c:pt idx="616">
                  <c:v>0.513972973296619</c:v>
                </c:pt>
                <c:pt idx="617">
                  <c:v>0.517954464244469</c:v>
                </c:pt>
                <c:pt idx="618">
                  <c:v>0.517463493290336</c:v>
                </c:pt>
                <c:pt idx="619">
                  <c:v>0.5199541635843</c:v>
                </c:pt>
                <c:pt idx="620">
                  <c:v>0.538217586844445</c:v>
                </c:pt>
                <c:pt idx="621">
                  <c:v>0.757696528671487</c:v>
                </c:pt>
                <c:pt idx="622">
                  <c:v>0.511015706479168</c:v>
                </c:pt>
                <c:pt idx="623">
                  <c:v>0.512951733816095</c:v>
                </c:pt>
                <c:pt idx="624">
                  <c:v>0.513417832888026</c:v>
                </c:pt>
                <c:pt idx="625">
                  <c:v>0.516151252765834</c:v>
                </c:pt>
                <c:pt idx="626">
                  <c:v>0.525824922720226</c:v>
                </c:pt>
                <c:pt idx="627">
                  <c:v>0.517175974329033</c:v>
                </c:pt>
                <c:pt idx="628">
                  <c:v>0.520227256856641</c:v>
                </c:pt>
                <c:pt idx="629">
                  <c:v>0.764034879179491</c:v>
                </c:pt>
                <c:pt idx="630">
                  <c:v>0.509196079567563</c:v>
                </c:pt>
                <c:pt idx="631">
                  <c:v>0.511848914545862</c:v>
                </c:pt>
                <c:pt idx="632">
                  <c:v>0.513468074092237</c:v>
                </c:pt>
                <c:pt idx="633">
                  <c:v>0.515108623457786</c:v>
                </c:pt>
                <c:pt idx="634">
                  <c:v>0.516806875582056</c:v>
                </c:pt>
                <c:pt idx="635">
                  <c:v>0.524725088077862</c:v>
                </c:pt>
                <c:pt idx="636">
                  <c:v>0.521118665118618</c:v>
                </c:pt>
                <c:pt idx="637">
                  <c:v>0.785818171235754</c:v>
                </c:pt>
                <c:pt idx="638">
                  <c:v>0.513707341600159</c:v>
                </c:pt>
                <c:pt idx="639">
                  <c:v>0.512739825380635</c:v>
                </c:pt>
                <c:pt idx="640">
                  <c:v>0.512364259944892</c:v>
                </c:pt>
                <c:pt idx="641">
                  <c:v>0.513646156760495</c:v>
                </c:pt>
                <c:pt idx="642">
                  <c:v>0.516397484398946</c:v>
                </c:pt>
                <c:pt idx="643">
                  <c:v>0.517069522660437</c:v>
                </c:pt>
                <c:pt idx="644">
                  <c:v>0.518745887535738</c:v>
                </c:pt>
                <c:pt idx="645">
                  <c:v>0.773455353355513</c:v>
                </c:pt>
                <c:pt idx="646">
                  <c:v>0.508183296520365</c:v>
                </c:pt>
                <c:pt idx="647">
                  <c:v>0.510322278404531</c:v>
                </c:pt>
                <c:pt idx="648">
                  <c:v>0.512493096294059</c:v>
                </c:pt>
                <c:pt idx="649">
                  <c:v>0.529341806882721</c:v>
                </c:pt>
                <c:pt idx="650">
                  <c:v>0.516973019765247</c:v>
                </c:pt>
                <c:pt idx="651">
                  <c:v>0.516985953131534</c:v>
                </c:pt>
                <c:pt idx="652">
                  <c:v>0.520303862254673</c:v>
                </c:pt>
                <c:pt idx="653">
                  <c:v>1.65834469903266</c:v>
                </c:pt>
                <c:pt idx="654">
                  <c:v>0.509489070344337</c:v>
                </c:pt>
                <c:pt idx="655">
                  <c:v>0.511629544543098</c:v>
                </c:pt>
                <c:pt idx="656">
                  <c:v>0.51320343726081</c:v>
                </c:pt>
                <c:pt idx="657">
                  <c:v>0.514804191619243</c:v>
                </c:pt>
                <c:pt idx="658">
                  <c:v>0.516602428718515</c:v>
                </c:pt>
                <c:pt idx="659">
                  <c:v>0.517847515149772</c:v>
                </c:pt>
                <c:pt idx="660">
                  <c:v>0.521323112000567</c:v>
                </c:pt>
                <c:pt idx="661">
                  <c:v>1.43705110457564</c:v>
                </c:pt>
                <c:pt idx="662">
                  <c:v>0.509263731083711</c:v>
                </c:pt>
                <c:pt idx="663">
                  <c:v>0.517498313914069</c:v>
                </c:pt>
                <c:pt idx="664">
                  <c:v>0.51540758348115</c:v>
                </c:pt>
                <c:pt idx="665">
                  <c:v>0.514285364151304</c:v>
                </c:pt>
                <c:pt idx="666">
                  <c:v>0.517911684603657</c:v>
                </c:pt>
                <c:pt idx="667">
                  <c:v>0.520673458430518</c:v>
                </c:pt>
                <c:pt idx="668">
                  <c:v>0.523462093890486</c:v>
                </c:pt>
                <c:pt idx="669">
                  <c:v>0.769777796810222</c:v>
                </c:pt>
                <c:pt idx="670">
                  <c:v>0.510977901227074</c:v>
                </c:pt>
                <c:pt idx="671">
                  <c:v>0.511514636447823</c:v>
                </c:pt>
                <c:pt idx="672">
                  <c:v>0.512531896439334</c:v>
                </c:pt>
                <c:pt idx="673">
                  <c:v>0.514907161207537</c:v>
                </c:pt>
                <c:pt idx="674">
                  <c:v>0.517713206988825</c:v>
                </c:pt>
                <c:pt idx="675">
                  <c:v>0.527266497012037</c:v>
                </c:pt>
                <c:pt idx="676">
                  <c:v>0.521743446810515</c:v>
                </c:pt>
                <c:pt idx="677">
                  <c:v>1.42798381117683</c:v>
                </c:pt>
                <c:pt idx="678">
                  <c:v>0.510378986286418</c:v>
                </c:pt>
                <c:pt idx="679">
                  <c:v>0.514355005413704</c:v>
                </c:pt>
                <c:pt idx="680">
                  <c:v>0.515897559561512</c:v>
                </c:pt>
                <c:pt idx="681">
                  <c:v>0.516247258231586</c:v>
                </c:pt>
                <c:pt idx="682">
                  <c:v>0.517262031041883</c:v>
                </c:pt>
                <c:pt idx="683">
                  <c:v>0.520448616605649</c:v>
                </c:pt>
                <c:pt idx="684">
                  <c:v>0.52320541606281</c:v>
                </c:pt>
                <c:pt idx="685">
                  <c:v>0.769282348925828</c:v>
                </c:pt>
                <c:pt idx="686">
                  <c:v>0.511781760465178</c:v>
                </c:pt>
                <c:pt idx="687">
                  <c:v>0.512633871154251</c:v>
                </c:pt>
                <c:pt idx="688">
                  <c:v>0.514404749178541</c:v>
                </c:pt>
                <c:pt idx="689">
                  <c:v>0.521981222012469</c:v>
                </c:pt>
                <c:pt idx="690">
                  <c:v>0.52251099309825</c:v>
                </c:pt>
                <c:pt idx="691">
                  <c:v>0.525729912128256</c:v>
                </c:pt>
                <c:pt idx="692">
                  <c:v>0.521114685618708</c:v>
                </c:pt>
                <c:pt idx="693">
                  <c:v>0.784441761269726</c:v>
                </c:pt>
                <c:pt idx="694">
                  <c:v>0.509053812401567</c:v>
                </c:pt>
                <c:pt idx="695">
                  <c:v>0.51110723500323</c:v>
                </c:pt>
                <c:pt idx="696">
                  <c:v>0.514029681193637</c:v>
                </c:pt>
                <c:pt idx="697">
                  <c:v>0.516756634388071</c:v>
                </c:pt>
                <c:pt idx="698">
                  <c:v>0.518105187845088</c:v>
                </c:pt>
                <c:pt idx="699">
                  <c:v>0.518747877296137</c:v>
                </c:pt>
                <c:pt idx="700">
                  <c:v>0.522340869430291</c:v>
                </c:pt>
                <c:pt idx="701">
                  <c:v>0.78094576945562</c:v>
                </c:pt>
                <c:pt idx="702">
                  <c:v>0.511200753291113</c:v>
                </c:pt>
                <c:pt idx="703">
                  <c:v>0.511593729032809</c:v>
                </c:pt>
                <c:pt idx="704">
                  <c:v>0.513251191275765</c:v>
                </c:pt>
                <c:pt idx="705">
                  <c:v>0.520813735841593</c:v>
                </c:pt>
                <c:pt idx="706">
                  <c:v>0.516059226799717</c:v>
                </c:pt>
                <c:pt idx="707">
                  <c:v>0.518536466290131</c:v>
                </c:pt>
                <c:pt idx="708">
                  <c:v>0.519768619351664</c:v>
                </c:pt>
                <c:pt idx="709">
                  <c:v>0.778033769488826</c:v>
                </c:pt>
                <c:pt idx="710">
                  <c:v>0.508990140380527</c:v>
                </c:pt>
                <c:pt idx="711">
                  <c:v>0.510641633365759</c:v>
                </c:pt>
                <c:pt idx="712">
                  <c:v>0.512456285912334</c:v>
                </c:pt>
                <c:pt idx="713">
                  <c:v>0.514314215532627</c:v>
                </c:pt>
                <c:pt idx="714">
                  <c:v>0.516664608424217</c:v>
                </c:pt>
                <c:pt idx="715">
                  <c:v>0.517145630622842</c:v>
                </c:pt>
                <c:pt idx="716">
                  <c:v>0.518239496010388</c:v>
                </c:pt>
                <c:pt idx="717">
                  <c:v>1.58491146095905</c:v>
                </c:pt>
                <c:pt idx="718">
                  <c:v>0.509245325898238</c:v>
                </c:pt>
                <c:pt idx="719">
                  <c:v>0.510620740987767</c:v>
                </c:pt>
                <c:pt idx="720">
                  <c:v>0.520541637450658</c:v>
                </c:pt>
                <c:pt idx="721">
                  <c:v>0.515834384990726</c:v>
                </c:pt>
                <c:pt idx="722">
                  <c:v>0.516309437937658</c:v>
                </c:pt>
                <c:pt idx="723">
                  <c:v>0.520172041270144</c:v>
                </c:pt>
                <c:pt idx="724">
                  <c:v>0.521903621740423</c:v>
                </c:pt>
                <c:pt idx="725">
                  <c:v>1.4607858446428</c:v>
                </c:pt>
                <c:pt idx="726">
                  <c:v>0.510790367233135</c:v>
                </c:pt>
                <c:pt idx="727">
                  <c:v>0.51258810689116</c:v>
                </c:pt>
                <c:pt idx="728">
                  <c:v>0.513964019426501</c:v>
                </c:pt>
                <c:pt idx="729">
                  <c:v>0.516285560928997</c:v>
                </c:pt>
                <c:pt idx="730">
                  <c:v>0.516555669576695</c:v>
                </c:pt>
                <c:pt idx="731">
                  <c:v>0.520460555108862</c:v>
                </c:pt>
                <c:pt idx="732">
                  <c:v>0.520840100035829</c:v>
                </c:pt>
                <c:pt idx="733">
                  <c:v>0.7877024650576</c:v>
                </c:pt>
                <c:pt idx="734">
                  <c:v>0.516202488841488</c:v>
                </c:pt>
                <c:pt idx="735">
                  <c:v>0.512134941199519</c:v>
                </c:pt>
                <c:pt idx="736">
                  <c:v>0.5141187225343</c:v>
                </c:pt>
                <c:pt idx="737">
                  <c:v>0.515988590657631</c:v>
                </c:pt>
                <c:pt idx="738">
                  <c:v>0.518030572195291</c:v>
                </c:pt>
                <c:pt idx="739">
                  <c:v>0.519006047428304</c:v>
                </c:pt>
                <c:pt idx="740">
                  <c:v>0.526606397251701</c:v>
                </c:pt>
                <c:pt idx="741">
                  <c:v>1.46518617797485</c:v>
                </c:pt>
                <c:pt idx="742">
                  <c:v>0.508656857160351</c:v>
                </c:pt>
                <c:pt idx="743">
                  <c:v>0.513540699989088</c:v>
                </c:pt>
                <c:pt idx="744">
                  <c:v>0.51410081477633</c:v>
                </c:pt>
                <c:pt idx="745">
                  <c:v>0.516573079895952</c:v>
                </c:pt>
                <c:pt idx="746">
                  <c:v>0.51692128623781</c:v>
                </c:pt>
                <c:pt idx="747">
                  <c:v>0.519834778548542</c:v>
                </c:pt>
                <c:pt idx="748">
                  <c:v>0.524894216879273</c:v>
                </c:pt>
                <c:pt idx="749">
                  <c:v>0.809863312270499</c:v>
                </c:pt>
                <c:pt idx="750">
                  <c:v>0.510526227833307</c:v>
                </c:pt>
                <c:pt idx="751">
                  <c:v>0.513647649085166</c:v>
                </c:pt>
                <c:pt idx="752">
                  <c:v>0.514172445798887</c:v>
                </c:pt>
                <c:pt idx="753">
                  <c:v>0.51859267674886</c:v>
                </c:pt>
                <c:pt idx="754">
                  <c:v>0.52324172900846</c:v>
                </c:pt>
                <c:pt idx="755">
                  <c:v>0.530014342584307</c:v>
                </c:pt>
                <c:pt idx="756">
                  <c:v>0.520668484050708</c:v>
                </c:pt>
                <c:pt idx="757">
                  <c:v>0.796967738687077</c:v>
                </c:pt>
                <c:pt idx="758">
                  <c:v>0.509802953503759</c:v>
                </c:pt>
                <c:pt idx="759">
                  <c:v>0.513698885151187</c:v>
                </c:pt>
                <c:pt idx="760">
                  <c:v>0.513377540430064</c:v>
                </c:pt>
                <c:pt idx="761">
                  <c:v>0.515765241149064</c:v>
                </c:pt>
                <c:pt idx="762">
                  <c:v>0.52307210276889</c:v>
                </c:pt>
                <c:pt idx="763">
                  <c:v>0.518055941524547</c:v>
                </c:pt>
                <c:pt idx="764">
                  <c:v>0.520618242856467</c:v>
                </c:pt>
                <c:pt idx="765">
                  <c:v>0.8160111441622</c:v>
                </c:pt>
                <c:pt idx="766">
                  <c:v>0.50901899176034</c:v>
                </c:pt>
                <c:pt idx="767">
                  <c:v>0.510708787453131</c:v>
                </c:pt>
                <c:pt idx="768">
                  <c:v>0.511239553419062</c:v>
                </c:pt>
                <c:pt idx="769">
                  <c:v>0.514339087406352</c:v>
                </c:pt>
                <c:pt idx="770">
                  <c:v>10.6257392433049</c:v>
                </c:pt>
                <c:pt idx="771">
                  <c:v>0.518927452288777</c:v>
                </c:pt>
                <c:pt idx="772">
                  <c:v>0.519771603969018</c:v>
                </c:pt>
                <c:pt idx="773">
                  <c:v>9.26040969573276</c:v>
                </c:pt>
                <c:pt idx="774">
                  <c:v>0.510116339207064</c:v>
                </c:pt>
                <c:pt idx="775">
                  <c:v>0.514001327253537</c:v>
                </c:pt>
                <c:pt idx="776">
                  <c:v>0.520482939811496</c:v>
                </c:pt>
                <c:pt idx="777">
                  <c:v>0.515205126366305</c:v>
                </c:pt>
                <c:pt idx="778">
                  <c:v>0.518260388398876</c:v>
                </c:pt>
                <c:pt idx="779">
                  <c:v>0.519914368569541</c:v>
                </c:pt>
                <c:pt idx="780">
                  <c:v>0.52106245467274</c:v>
                </c:pt>
                <c:pt idx="781">
                  <c:v>0.79235450192712</c:v>
                </c:pt>
                <c:pt idx="782">
                  <c:v>0.511407687348127</c:v>
                </c:pt>
                <c:pt idx="783">
                  <c:v>0.51339097124953</c:v>
                </c:pt>
                <c:pt idx="784">
                  <c:v>0.512974118506092</c:v>
                </c:pt>
                <c:pt idx="785">
                  <c:v>0.516868060421768</c:v>
                </c:pt>
                <c:pt idx="786">
                  <c:v>0.516867065538882</c:v>
                </c:pt>
                <c:pt idx="787">
                  <c:v>0.518040023519646</c:v>
                </c:pt>
                <c:pt idx="788">
                  <c:v>0.519951676406649</c:v>
                </c:pt>
                <c:pt idx="789">
                  <c:v>0.762572412501221</c:v>
                </c:pt>
                <c:pt idx="790">
                  <c:v>0.514282876963925</c:v>
                </c:pt>
                <c:pt idx="791">
                  <c:v>0.51533048065196</c:v>
                </c:pt>
                <c:pt idx="792">
                  <c:v>0.514609196053944</c:v>
                </c:pt>
                <c:pt idx="793">
                  <c:v>0.515735394886926</c:v>
                </c:pt>
                <c:pt idx="794">
                  <c:v>0.518371814430481</c:v>
                </c:pt>
                <c:pt idx="795">
                  <c:v>0.518337988668848</c:v>
                </c:pt>
                <c:pt idx="796">
                  <c:v>0.520431703731898</c:v>
                </c:pt>
                <c:pt idx="797">
                  <c:v>0.786775738717836</c:v>
                </c:pt>
                <c:pt idx="798">
                  <c:v>0.511772806575881</c:v>
                </c:pt>
                <c:pt idx="799">
                  <c:v>0.509923830841988</c:v>
                </c:pt>
                <c:pt idx="800">
                  <c:v>0.512580645333581</c:v>
                </c:pt>
                <c:pt idx="801">
                  <c:v>0.515140956902388</c:v>
                </c:pt>
                <c:pt idx="802">
                  <c:v>0.516857116783889</c:v>
                </c:pt>
                <c:pt idx="803">
                  <c:v>0.519259243195782</c:v>
                </c:pt>
                <c:pt idx="804">
                  <c:v>0.520849053911988</c:v>
                </c:pt>
                <c:pt idx="805">
                  <c:v>1.19057323702615</c:v>
                </c:pt>
                <c:pt idx="806">
                  <c:v>0.510273032074086</c:v>
                </c:pt>
                <c:pt idx="807">
                  <c:v>0.512644317345107</c:v>
                </c:pt>
                <c:pt idx="808">
                  <c:v>0.513838167703204</c:v>
                </c:pt>
                <c:pt idx="809">
                  <c:v>0.515295660016468</c:v>
                </c:pt>
                <c:pt idx="810">
                  <c:v>0.517962423251692</c:v>
                </c:pt>
                <c:pt idx="811">
                  <c:v>0.518549399666488</c:v>
                </c:pt>
                <c:pt idx="812">
                  <c:v>0.520193928538928</c:v>
                </c:pt>
                <c:pt idx="813">
                  <c:v>0.792741508409697</c:v>
                </c:pt>
                <c:pt idx="814">
                  <c:v>0.510554084337279</c:v>
                </c:pt>
                <c:pt idx="815">
                  <c:v>0.512054853732634</c:v>
                </c:pt>
                <c:pt idx="816">
                  <c:v>0.514203784379934</c:v>
                </c:pt>
                <c:pt idx="817">
                  <c:v>0.52323178025224</c:v>
                </c:pt>
                <c:pt idx="818">
                  <c:v>0.518451404459155</c:v>
                </c:pt>
                <c:pt idx="819">
                  <c:v>0.524774334392928</c:v>
                </c:pt>
                <c:pt idx="820">
                  <c:v>0.523490945276976</c:v>
                </c:pt>
                <c:pt idx="821">
                  <c:v>1.45838023604732</c:v>
                </c:pt>
                <c:pt idx="822">
                  <c:v>0.511161455710216</c:v>
                </c:pt>
                <c:pt idx="823">
                  <c:v>0.511314169069823</c:v>
                </c:pt>
                <c:pt idx="824">
                  <c:v>0.514154040610653</c:v>
                </c:pt>
                <c:pt idx="825">
                  <c:v>0.516589495336846</c:v>
                </c:pt>
                <c:pt idx="826">
                  <c:v>0.519769116791273</c:v>
                </c:pt>
                <c:pt idx="827">
                  <c:v>0.518575763857086</c:v>
                </c:pt>
                <c:pt idx="828">
                  <c:v>0.52182452914657</c:v>
                </c:pt>
                <c:pt idx="829">
                  <c:v>0.758032796516424</c:v>
                </c:pt>
                <c:pt idx="830">
                  <c:v>0.51141465147961</c:v>
                </c:pt>
                <c:pt idx="831">
                  <c:v>0.51096248066024</c:v>
                </c:pt>
                <c:pt idx="832">
                  <c:v>0.521581779576757</c:v>
                </c:pt>
                <c:pt idx="833">
                  <c:v>0.52107737780418</c:v>
                </c:pt>
                <c:pt idx="834">
                  <c:v>0.519580090481093</c:v>
                </c:pt>
                <c:pt idx="835">
                  <c:v>0.518335998922125</c:v>
                </c:pt>
                <c:pt idx="836">
                  <c:v>0.51978055785383</c:v>
                </c:pt>
                <c:pt idx="837">
                  <c:v>0.742146130329324</c:v>
                </c:pt>
                <c:pt idx="838">
                  <c:v>0.512057838351529</c:v>
                </c:pt>
                <c:pt idx="839">
                  <c:v>0.51093064464576</c:v>
                </c:pt>
                <c:pt idx="840">
                  <c:v>0.514072958274097</c:v>
                </c:pt>
                <c:pt idx="841">
                  <c:v>0.515002171802886</c:v>
                </c:pt>
                <c:pt idx="842">
                  <c:v>0.524746477893304</c:v>
                </c:pt>
                <c:pt idx="843">
                  <c:v>0.518936903604847</c:v>
                </c:pt>
                <c:pt idx="844">
                  <c:v>0.520513780935678</c:v>
                </c:pt>
                <c:pt idx="845">
                  <c:v>0.754523373892045</c:v>
                </c:pt>
                <c:pt idx="846">
                  <c:v>0.511610144478655</c:v>
                </c:pt>
                <c:pt idx="847">
                  <c:v>0.51770773516253</c:v>
                </c:pt>
                <c:pt idx="848">
                  <c:v>0.513628746457056</c:v>
                </c:pt>
                <c:pt idx="849">
                  <c:v>0.516172642580893</c:v>
                </c:pt>
                <c:pt idx="850">
                  <c:v>0.517777873873081</c:v>
                </c:pt>
                <c:pt idx="851">
                  <c:v>0.519300033082503</c:v>
                </c:pt>
                <c:pt idx="852">
                  <c:v>0.521568348765173</c:v>
                </c:pt>
                <c:pt idx="853">
                  <c:v>1.42461466596042</c:v>
                </c:pt>
                <c:pt idx="854">
                  <c:v>0.511308697264874</c:v>
                </c:pt>
                <c:pt idx="855">
                  <c:v>0.511463897811322</c:v>
                </c:pt>
                <c:pt idx="856">
                  <c:v>0.513965511739065</c:v>
                </c:pt>
                <c:pt idx="857">
                  <c:v>0.515129515836848</c:v>
                </c:pt>
                <c:pt idx="858">
                  <c:v>0.51625571466488</c:v>
                </c:pt>
                <c:pt idx="859">
                  <c:v>0.518464337824638</c:v>
                </c:pt>
                <c:pt idx="860">
                  <c:v>0.529919829434581</c:v>
                </c:pt>
                <c:pt idx="861">
                  <c:v>0.780644322270325</c:v>
                </c:pt>
                <c:pt idx="862">
                  <c:v>0.51032128352668</c:v>
                </c:pt>
                <c:pt idx="863">
                  <c:v>0.512549804196308</c:v>
                </c:pt>
                <c:pt idx="864">
                  <c:v>0.513933178290669</c:v>
                </c:pt>
                <c:pt idx="865">
                  <c:v>0.514195327924776</c:v>
                </c:pt>
                <c:pt idx="866">
                  <c:v>0.516409422897033</c:v>
                </c:pt>
                <c:pt idx="867">
                  <c:v>0.518368332359193</c:v>
                </c:pt>
                <c:pt idx="868">
                  <c:v>0.519148314595907</c:v>
                </c:pt>
                <c:pt idx="869">
                  <c:v>1.53523335791253</c:v>
                </c:pt>
                <c:pt idx="870">
                  <c:v>0.507554535321139</c:v>
                </c:pt>
                <c:pt idx="871">
                  <c:v>0.510703315644108</c:v>
                </c:pt>
                <c:pt idx="872">
                  <c:v>0.511555923776757</c:v>
                </c:pt>
                <c:pt idx="873">
                  <c:v>0.513039780268135</c:v>
                </c:pt>
                <c:pt idx="874">
                  <c:v>0.515961729027567</c:v>
                </c:pt>
                <c:pt idx="875">
                  <c:v>0.523330770342237</c:v>
                </c:pt>
                <c:pt idx="876">
                  <c:v>0.532803972914268</c:v>
                </c:pt>
                <c:pt idx="877">
                  <c:v>0.809299715415487</c:v>
                </c:pt>
                <c:pt idx="878">
                  <c:v>0.516301976372991</c:v>
                </c:pt>
                <c:pt idx="879">
                  <c:v>0.506377100410763</c:v>
                </c:pt>
                <c:pt idx="880">
                  <c:v>0.519069222010852</c:v>
                </c:pt>
                <c:pt idx="881">
                  <c:v>0.514488318714077</c:v>
                </c:pt>
                <c:pt idx="882">
                  <c:v>0.523743643590214</c:v>
                </c:pt>
                <c:pt idx="883">
                  <c:v>0.514469416075552</c:v>
                </c:pt>
                <c:pt idx="884">
                  <c:v>0.528226054237207</c:v>
                </c:pt>
                <c:pt idx="885">
                  <c:v>0.777978056443253</c:v>
                </c:pt>
                <c:pt idx="886">
                  <c:v>0.517968392487338</c:v>
                </c:pt>
                <c:pt idx="887">
                  <c:v>0.507997254837325</c:v>
                </c:pt>
                <c:pt idx="888">
                  <c:v>0.52239260293655</c:v>
                </c:pt>
                <c:pt idx="889">
                  <c:v>0.508812057705325</c:v>
                </c:pt>
                <c:pt idx="890">
                  <c:v>0.529879039541803</c:v>
                </c:pt>
                <c:pt idx="891">
                  <c:v>0.514726093902636</c:v>
                </c:pt>
                <c:pt idx="892">
                  <c:v>0.531137556797206</c:v>
                </c:pt>
                <c:pt idx="893">
                  <c:v>0.805619174282014</c:v>
                </c:pt>
                <c:pt idx="894">
                  <c:v>0.517275461858493</c:v>
                </c:pt>
                <c:pt idx="895">
                  <c:v>0.508057444782292</c:v>
                </c:pt>
                <c:pt idx="896">
                  <c:v>0.521434538021995</c:v>
                </c:pt>
                <c:pt idx="897">
                  <c:v>0.509494542148056</c:v>
                </c:pt>
                <c:pt idx="898">
                  <c:v>0.523887403072369</c:v>
                </c:pt>
                <c:pt idx="899">
                  <c:v>0.514214728006673</c:v>
                </c:pt>
                <c:pt idx="900">
                  <c:v>0.528032053564779</c:v>
                </c:pt>
                <c:pt idx="901">
                  <c:v>0.750886607234982</c:v>
                </c:pt>
                <c:pt idx="902">
                  <c:v>0.517470457403523</c:v>
                </c:pt>
                <c:pt idx="903">
                  <c:v>0.506881999632618</c:v>
                </c:pt>
                <c:pt idx="904">
                  <c:v>0.526287042297116</c:v>
                </c:pt>
                <c:pt idx="905">
                  <c:v>0.521888201164658</c:v>
                </c:pt>
                <c:pt idx="906">
                  <c:v>0.509788527809678</c:v>
                </c:pt>
                <c:pt idx="907">
                  <c:v>0.526726777163365</c:v>
                </c:pt>
                <c:pt idx="908">
                  <c:v>0.513734700674839</c:v>
                </c:pt>
                <c:pt idx="909">
                  <c:v>0.778830167154939</c:v>
                </c:pt>
                <c:pt idx="910">
                  <c:v>0.502305573258465</c:v>
                </c:pt>
                <c:pt idx="911">
                  <c:v>0.518480255834576</c:v>
                </c:pt>
                <c:pt idx="912">
                  <c:v>0.506448233995099</c:v>
                </c:pt>
                <c:pt idx="913">
                  <c:v>0.520693853369899</c:v>
                </c:pt>
                <c:pt idx="914">
                  <c:v>0.509460716397194</c:v>
                </c:pt>
                <c:pt idx="915">
                  <c:v>0.52546577272895</c:v>
                </c:pt>
                <c:pt idx="916">
                  <c:v>0.513623772069878</c:v>
                </c:pt>
                <c:pt idx="917">
                  <c:v>28.8964584191716</c:v>
                </c:pt>
                <c:pt idx="918">
                  <c:v>0.519168709547636</c:v>
                </c:pt>
                <c:pt idx="919">
                  <c:v>0.510595371664906</c:v>
                </c:pt>
                <c:pt idx="920">
                  <c:v>0.513246714340774</c:v>
                </c:pt>
                <c:pt idx="921">
                  <c:v>0.516182591331771</c:v>
                </c:pt>
                <c:pt idx="922">
                  <c:v>0.518102203231075</c:v>
                </c:pt>
                <c:pt idx="923">
                  <c:v>0.519171694162292</c:v>
                </c:pt>
                <c:pt idx="924">
                  <c:v>0.52047498080936</c:v>
                </c:pt>
                <c:pt idx="925">
                  <c:v>1.35318062990468</c:v>
                </c:pt>
                <c:pt idx="926">
                  <c:v>0.509706948027436</c:v>
                </c:pt>
                <c:pt idx="927">
                  <c:v>0.513321827428094</c:v>
                </c:pt>
                <c:pt idx="928">
                  <c:v>0.513799367566684</c:v>
                </c:pt>
                <c:pt idx="929">
                  <c:v>0.515971677777072</c:v>
                </c:pt>
                <c:pt idx="930">
                  <c:v>0.518360373357544</c:v>
                </c:pt>
                <c:pt idx="931">
                  <c:v>0.520472493622351</c:v>
                </c:pt>
                <c:pt idx="932">
                  <c:v>0.522436874885605</c:v>
                </c:pt>
                <c:pt idx="933">
                  <c:v>1.05245818162729</c:v>
                </c:pt>
                <c:pt idx="934">
                  <c:v>0.513766536684239</c:v>
                </c:pt>
                <c:pt idx="935">
                  <c:v>0.51201903821754</c:v>
                </c:pt>
                <c:pt idx="936">
                  <c:v>0.513784444441883</c:v>
                </c:pt>
                <c:pt idx="937">
                  <c:v>0.517629140025628</c:v>
                </c:pt>
                <c:pt idx="938">
                  <c:v>0.517508262669901</c:v>
                </c:pt>
                <c:pt idx="939">
                  <c:v>0.52093162856481</c:v>
                </c:pt>
                <c:pt idx="940">
                  <c:v>0.527121742664741</c:v>
                </c:pt>
                <c:pt idx="941">
                  <c:v>0.768393427846457</c:v>
                </c:pt>
                <c:pt idx="942">
                  <c:v>0.51026308332382</c:v>
                </c:pt>
                <c:pt idx="943">
                  <c:v>0.511993668893841</c:v>
                </c:pt>
                <c:pt idx="944">
                  <c:v>0.518520548287254</c:v>
                </c:pt>
                <c:pt idx="945">
                  <c:v>0.517273969545342</c:v>
                </c:pt>
                <c:pt idx="946">
                  <c:v>0.518475778893876</c:v>
                </c:pt>
                <c:pt idx="947">
                  <c:v>0.518784687671564</c:v>
                </c:pt>
                <c:pt idx="948">
                  <c:v>0.523386483361021</c:v>
                </c:pt>
                <c:pt idx="949">
                  <c:v>1.46883687286744</c:v>
                </c:pt>
                <c:pt idx="950">
                  <c:v>0.511121163262425</c:v>
                </c:pt>
                <c:pt idx="951">
                  <c:v>0.513767034121519</c:v>
                </c:pt>
                <c:pt idx="952">
                  <c:v>0.514203286942654</c:v>
                </c:pt>
                <c:pt idx="953">
                  <c:v>0.517068030354637</c:v>
                </c:pt>
                <c:pt idx="954">
                  <c:v>0.5239635110318</c:v>
                </c:pt>
                <c:pt idx="955">
                  <c:v>0.518801103118502</c:v>
                </c:pt>
                <c:pt idx="956">
                  <c:v>0.522157314933733</c:v>
                </c:pt>
                <c:pt idx="957">
                  <c:v>0.757478650979551</c:v>
                </c:pt>
                <c:pt idx="958">
                  <c:v>0.511987202206548</c:v>
                </c:pt>
                <c:pt idx="959">
                  <c:v>0.512081715363728</c:v>
                </c:pt>
                <c:pt idx="960">
                  <c:v>0.514628596123006</c:v>
                </c:pt>
                <c:pt idx="961">
                  <c:v>0.517275461858493</c:v>
                </c:pt>
                <c:pt idx="962">
                  <c:v>0.518405640186903</c:v>
                </c:pt>
                <c:pt idx="963">
                  <c:v>0.519319930585747</c:v>
                </c:pt>
                <c:pt idx="964">
                  <c:v>0.521070911116678</c:v>
                </c:pt>
                <c:pt idx="965">
                  <c:v>0.761298474671746</c:v>
                </c:pt>
                <c:pt idx="966">
                  <c:v>0.511179860909621</c:v>
                </c:pt>
                <c:pt idx="967">
                  <c:v>0.512444844846796</c:v>
                </c:pt>
                <c:pt idx="968">
                  <c:v>0.521322614556374</c:v>
                </c:pt>
                <c:pt idx="969">
                  <c:v>0.51476240685765</c:v>
                </c:pt>
                <c:pt idx="970">
                  <c:v>0.518322568101449</c:v>
                </c:pt>
                <c:pt idx="971">
                  <c:v>0.51770773516253</c:v>
                </c:pt>
                <c:pt idx="972">
                  <c:v>0.520807766584947</c:v>
                </c:pt>
                <c:pt idx="973">
                  <c:v>0.788225769447011</c:v>
                </c:pt>
                <c:pt idx="974">
                  <c:v>0.521070413667113</c:v>
                </c:pt>
                <c:pt idx="975">
                  <c:v>0.512754748509937</c:v>
                </c:pt>
                <c:pt idx="976">
                  <c:v>0.514014758062698</c:v>
                </c:pt>
                <c:pt idx="977">
                  <c:v>0.515709030689243</c:v>
                </c:pt>
                <c:pt idx="978">
                  <c:v>0.520592376093521</c:v>
                </c:pt>
                <c:pt idx="979">
                  <c:v>0.516605910779152</c:v>
                </c:pt>
                <c:pt idx="980">
                  <c:v>0.515196669916231</c:v>
                </c:pt>
                <c:pt idx="981">
                  <c:v>1.32271307140097</c:v>
                </c:pt>
                <c:pt idx="982">
                  <c:v>0.519496023517389</c:v>
                </c:pt>
                <c:pt idx="983">
                  <c:v>0.513399427702076</c:v>
                </c:pt>
                <c:pt idx="984">
                  <c:v>0.515311578010337</c:v>
                </c:pt>
                <c:pt idx="985">
                  <c:v>0.515305111327807</c:v>
                </c:pt>
                <c:pt idx="986">
                  <c:v>0.525549839692093</c:v>
                </c:pt>
                <c:pt idx="987">
                  <c:v>0.51900753973593</c:v>
                </c:pt>
                <c:pt idx="988">
                  <c:v>0.522827363454023</c:v>
                </c:pt>
                <c:pt idx="989">
                  <c:v>0.759749453844369</c:v>
                </c:pt>
                <c:pt idx="990">
                  <c:v>0.511795688715713</c:v>
                </c:pt>
                <c:pt idx="991">
                  <c:v>0.513625264382667</c:v>
                </c:pt>
                <c:pt idx="992">
                  <c:v>0.513122852358291</c:v>
                </c:pt>
                <c:pt idx="993">
                  <c:v>0.515590640528765</c:v>
                </c:pt>
                <c:pt idx="994">
                  <c:v>0.516790957581484</c:v>
                </c:pt>
                <c:pt idx="995">
                  <c:v>0.519525372342167</c:v>
                </c:pt>
                <c:pt idx="996">
                  <c:v>0.526752146498293</c:v>
                </c:pt>
                <c:pt idx="997">
                  <c:v>1.49913977963446</c:v>
                </c:pt>
                <c:pt idx="998">
                  <c:v>0.509943230908748</c:v>
                </c:pt>
                <c:pt idx="999">
                  <c:v>0.512919400364551</c:v>
                </c:pt>
                <c:pt idx="1000">
                  <c:v>0.5141993074283</c:v>
                </c:pt>
                <c:pt idx="1001">
                  <c:v>0.526573068933529</c:v>
                </c:pt>
                <c:pt idx="1002">
                  <c:v>0.517584868064283</c:v>
                </c:pt>
                <c:pt idx="1003">
                  <c:v>0.519413448870078</c:v>
                </c:pt>
                <c:pt idx="1004">
                  <c:v>0.521017187846613</c:v>
                </c:pt>
                <c:pt idx="1005">
                  <c:v>0.808100393252874</c:v>
                </c:pt>
                <c:pt idx="1006">
                  <c:v>0.510732664457933</c:v>
                </c:pt>
                <c:pt idx="1007">
                  <c:v>0.512857220663925</c:v>
                </c:pt>
                <c:pt idx="1008">
                  <c:v>0.513736690419628</c:v>
                </c:pt>
                <c:pt idx="1009">
                  <c:v>0.51517577754222</c:v>
                </c:pt>
                <c:pt idx="1010">
                  <c:v>0.516262181364517</c:v>
                </c:pt>
                <c:pt idx="1011">
                  <c:v>0.526305447489648</c:v>
                </c:pt>
                <c:pt idx="1012">
                  <c:v>0.521473338169655</c:v>
                </c:pt>
                <c:pt idx="1013">
                  <c:v>0.786979190722732</c:v>
                </c:pt>
                <c:pt idx="1014">
                  <c:v>0.510350632353777</c:v>
                </c:pt>
                <c:pt idx="1015">
                  <c:v>0.511846427361373</c:v>
                </c:pt>
                <c:pt idx="1016">
                  <c:v>0.515362814095198</c:v>
                </c:pt>
                <c:pt idx="1017">
                  <c:v>0.516143791203163</c:v>
                </c:pt>
                <c:pt idx="1018">
                  <c:v>0.519903922390008</c:v>
                </c:pt>
                <c:pt idx="1019">
                  <c:v>0.519296053574974</c:v>
                </c:pt>
                <c:pt idx="1020">
                  <c:v>0.523552130103571</c:v>
                </c:pt>
                <c:pt idx="1021">
                  <c:v>0.765030749324748</c:v>
                </c:pt>
                <c:pt idx="1022">
                  <c:v>0.510862495679707</c:v>
                </c:pt>
                <c:pt idx="1023">
                  <c:v>0.512676650792745</c:v>
                </c:pt>
                <c:pt idx="1024">
                  <c:v>0.515574225101097</c:v>
                </c:pt>
                <c:pt idx="1025">
                  <c:v>0.52307210276889</c:v>
                </c:pt>
                <c:pt idx="1026">
                  <c:v>10.3064817740256</c:v>
                </c:pt>
                <c:pt idx="1027">
                  <c:v>0.52043369347976</c:v>
                </c:pt>
                <c:pt idx="1028">
                  <c:v>0.521515620363667</c:v>
                </c:pt>
                <c:pt idx="1029">
                  <c:v>1.44154744351687</c:v>
                </c:pt>
                <c:pt idx="1030">
                  <c:v>0.511466384996367</c:v>
                </c:pt>
                <c:pt idx="1031">
                  <c:v>0.512180705449697</c:v>
                </c:pt>
                <c:pt idx="1032">
                  <c:v>0.514551493293699</c:v>
                </c:pt>
                <c:pt idx="1033">
                  <c:v>0.5160786268695</c:v>
                </c:pt>
                <c:pt idx="1034">
                  <c:v>0.518442450567787</c:v>
                </c:pt>
                <c:pt idx="1035">
                  <c:v>0.520200892664925</c:v>
                </c:pt>
                <c:pt idx="1036">
                  <c:v>0.52334221141991</c:v>
                </c:pt>
                <c:pt idx="1037">
                  <c:v>0.523424288621779</c:v>
                </c:pt>
                <c:pt idx="1038">
                  <c:v>0.5126547635412</c:v>
                </c:pt>
                <c:pt idx="1039">
                  <c:v>0.52416248608802</c:v>
                </c:pt>
                <c:pt idx="1040">
                  <c:v>0.515289690758902</c:v>
                </c:pt>
                <c:pt idx="1041">
                  <c:v>0.516645208348832</c:v>
                </c:pt>
                <c:pt idx="1042">
                  <c:v>0.521154480641371</c:v>
                </c:pt>
                <c:pt idx="1043">
                  <c:v>0.518544922736256</c:v>
                </c:pt>
                <c:pt idx="1044">
                  <c:v>0.521334055630318</c:v>
                </c:pt>
                <c:pt idx="1045">
                  <c:v>0.81613301639999</c:v>
                </c:pt>
                <c:pt idx="1046">
                  <c:v>0.509424403449559</c:v>
                </c:pt>
                <c:pt idx="1047">
                  <c:v>0.512085694861278</c:v>
                </c:pt>
                <c:pt idx="1048">
                  <c:v>0.515216567427</c:v>
                </c:pt>
                <c:pt idx="1049">
                  <c:v>0.51646961286655</c:v>
                </c:pt>
                <c:pt idx="1050">
                  <c:v>0.524693252062134</c:v>
                </c:pt>
                <c:pt idx="1051">
                  <c:v>0.519338335774482</c:v>
                </c:pt>
                <c:pt idx="1052">
                  <c:v>0.521643461835287</c:v>
                </c:pt>
                <c:pt idx="1053">
                  <c:v>0.797866608511075</c:v>
                </c:pt>
                <c:pt idx="1054">
                  <c:v>0.511835981168789</c:v>
                </c:pt>
                <c:pt idx="1055">
                  <c:v>0.513679485097105</c:v>
                </c:pt>
                <c:pt idx="1056">
                  <c:v>0.514470908393896</c:v>
                </c:pt>
                <c:pt idx="1057">
                  <c:v>0.51730381580028</c:v>
                </c:pt>
                <c:pt idx="1058">
                  <c:v>0.519108022156015</c:v>
                </c:pt>
                <c:pt idx="1059">
                  <c:v>0.52037350351768</c:v>
                </c:pt>
                <c:pt idx="1060">
                  <c:v>0.521069418788208</c:v>
                </c:pt>
                <c:pt idx="1061">
                  <c:v>1.17595553427653</c:v>
                </c:pt>
                <c:pt idx="1062">
                  <c:v>0.513127826736901</c:v>
                </c:pt>
                <c:pt idx="1063">
                  <c:v>0.513925219281811</c:v>
                </c:pt>
                <c:pt idx="1064">
                  <c:v>0.51423164088059</c:v>
                </c:pt>
                <c:pt idx="1065">
                  <c:v>0.518566809989548</c:v>
                </c:pt>
                <c:pt idx="1066">
                  <c:v>0.525758266075299</c:v>
                </c:pt>
                <c:pt idx="1067">
                  <c:v>0.527376928183707</c:v>
                </c:pt>
                <c:pt idx="1068">
                  <c:v>0.521790703384329</c:v>
                </c:pt>
                <c:pt idx="1069">
                  <c:v>0.761897887039777</c:v>
                </c:pt>
                <c:pt idx="1070">
                  <c:v>0.511550949397339</c:v>
                </c:pt>
                <c:pt idx="1071">
                  <c:v>0.512691076486111</c:v>
                </c:pt>
                <c:pt idx="1072">
                  <c:v>0.515468768314326</c:v>
                </c:pt>
                <c:pt idx="1073">
                  <c:v>0.518291726968331</c:v>
                </c:pt>
                <c:pt idx="1074">
                  <c:v>0.518538456044678</c:v>
                </c:pt>
                <c:pt idx="1075">
                  <c:v>0.521037582792551</c:v>
                </c:pt>
                <c:pt idx="1076">
                  <c:v>0.52183099583575</c:v>
                </c:pt>
                <c:pt idx="1077">
                  <c:v>1.46139918512754</c:v>
                </c:pt>
                <c:pt idx="1078">
                  <c:v>0.51145792855206</c:v>
                </c:pt>
                <c:pt idx="1079">
                  <c:v>0.514841996868811</c:v>
                </c:pt>
                <c:pt idx="1080">
                  <c:v>0.515768225781404</c:v>
                </c:pt>
                <c:pt idx="1081">
                  <c:v>0.52551253186363</c:v>
                </c:pt>
                <c:pt idx="1082">
                  <c:v>0.517973366869622</c:v>
                </c:pt>
                <c:pt idx="1083">
                  <c:v>0.519797470728309</c:v>
                </c:pt>
                <c:pt idx="1084">
                  <c:v>0.521726533924515</c:v>
                </c:pt>
                <c:pt idx="1085">
                  <c:v>1.2690748671523</c:v>
                </c:pt>
                <c:pt idx="1086">
                  <c:v>0.509104551037205</c:v>
                </c:pt>
                <c:pt idx="1087">
                  <c:v>0.512578158128734</c:v>
                </c:pt>
                <c:pt idx="1088">
                  <c:v>0.513431263706945</c:v>
                </c:pt>
                <c:pt idx="1089">
                  <c:v>0.517690822293177</c:v>
                </c:pt>
                <c:pt idx="1090">
                  <c:v>0.517558503879023</c:v>
                </c:pt>
                <c:pt idx="1091">
                  <c:v>0.518692661711851</c:v>
                </c:pt>
                <c:pt idx="1092">
                  <c:v>0.52590202554369</c:v>
                </c:pt>
                <c:pt idx="1093">
                  <c:v>0.722583897360034</c:v>
                </c:pt>
                <c:pt idx="1094">
                  <c:v>0.509241843835503</c:v>
                </c:pt>
                <c:pt idx="1095">
                  <c:v>0.511552441697657</c:v>
                </c:pt>
                <c:pt idx="1096">
                  <c:v>0.518347937425258</c:v>
                </c:pt>
                <c:pt idx="1097">
                  <c:v>0.51643628453048</c:v>
                </c:pt>
                <c:pt idx="1098">
                  <c:v>0.51576772834312</c:v>
                </c:pt>
                <c:pt idx="1099">
                  <c:v>0.518935908721423</c:v>
                </c:pt>
                <c:pt idx="1100">
                  <c:v>0.522619434516386</c:v>
                </c:pt>
                <c:pt idx="1101">
                  <c:v>0.808926139758784</c:v>
                </c:pt>
                <c:pt idx="1102">
                  <c:v>0.510519761147715</c:v>
                </c:pt>
                <c:pt idx="1103">
                  <c:v>0.51383319333113</c:v>
                </c:pt>
                <c:pt idx="1104">
                  <c:v>0.514517170084232</c:v>
                </c:pt>
                <c:pt idx="1105">
                  <c:v>0.516230345343304</c:v>
                </c:pt>
                <c:pt idx="1106">
                  <c:v>0.517088922735223</c:v>
                </c:pt>
                <c:pt idx="1107">
                  <c:v>0.521208203907795</c:v>
                </c:pt>
                <c:pt idx="1108">
                  <c:v>0.520906259254634</c:v>
                </c:pt>
                <c:pt idx="1109">
                  <c:v>1.05329536914825</c:v>
                </c:pt>
                <c:pt idx="1110">
                  <c:v>0.517050620038145</c:v>
                </c:pt>
                <c:pt idx="1111">
                  <c:v>0.513690926152319</c:v>
                </c:pt>
                <c:pt idx="1112">
                  <c:v>0.515090715699509</c:v>
                </c:pt>
                <c:pt idx="1113">
                  <c:v>0.515777179647328</c:v>
                </c:pt>
                <c:pt idx="1114">
                  <c:v>0.524367927849506</c:v>
                </c:pt>
                <c:pt idx="1115">
                  <c:v>0.521184326898784</c:v>
                </c:pt>
                <c:pt idx="1116">
                  <c:v>0.524005793241174</c:v>
                </c:pt>
                <c:pt idx="1117">
                  <c:v>0.774434808076047</c:v>
                </c:pt>
                <c:pt idx="1118">
                  <c:v>0.512537865692722</c:v>
                </c:pt>
                <c:pt idx="1119">
                  <c:v>0.51306664191194</c:v>
                </c:pt>
                <c:pt idx="1120">
                  <c:v>0.514304764222583</c:v>
                </c:pt>
                <c:pt idx="1121">
                  <c:v>0.516591982527887</c:v>
                </c:pt>
                <c:pt idx="1122">
                  <c:v>0.519407977044548</c:v>
                </c:pt>
                <c:pt idx="1123">
                  <c:v>0.518942872847621</c:v>
                </c:pt>
                <c:pt idx="1124">
                  <c:v>0.528006684233051</c:v>
                </c:pt>
                <c:pt idx="1125">
                  <c:v>1.41067845285164</c:v>
                </c:pt>
                <c:pt idx="1126">
                  <c:v>0.510743608082112</c:v>
                </c:pt>
                <c:pt idx="1127">
                  <c:v>0.51482607886541</c:v>
                </c:pt>
                <c:pt idx="1128">
                  <c:v>0.517270984910624</c:v>
                </c:pt>
                <c:pt idx="1129">
                  <c:v>0.516801901204101</c:v>
                </c:pt>
                <c:pt idx="1130">
                  <c:v>0.517354056991648</c:v>
                </c:pt>
                <c:pt idx="1131">
                  <c:v>0.520523232259694</c:v>
                </c:pt>
                <c:pt idx="1132">
                  <c:v>0.522511987968044</c:v>
                </c:pt>
                <c:pt idx="1133">
                  <c:v>0.768316822432159</c:v>
                </c:pt>
                <c:pt idx="1134">
                  <c:v>0.510247165320485</c:v>
                </c:pt>
                <c:pt idx="1135">
                  <c:v>0.512094648742924</c:v>
                </c:pt>
                <c:pt idx="1136">
                  <c:v>0.515721964074144</c:v>
                </c:pt>
                <c:pt idx="1137">
                  <c:v>0.515688635757969</c:v>
                </c:pt>
                <c:pt idx="1138">
                  <c:v>0.524041608747579</c:v>
                </c:pt>
                <c:pt idx="1139">
                  <c:v>0.519460705447696</c:v>
                </c:pt>
                <c:pt idx="1140">
                  <c:v>0.52282885575714</c:v>
                </c:pt>
                <c:pt idx="1141">
                  <c:v>1.46736992926959</c:v>
                </c:pt>
                <c:pt idx="1142">
                  <c:v>0.511458923430089</c:v>
                </c:pt>
                <c:pt idx="1143">
                  <c:v>0.518283270526439</c:v>
                </c:pt>
                <c:pt idx="1144">
                  <c:v>0.518013659315565</c:v>
                </c:pt>
                <c:pt idx="1145">
                  <c:v>0.516736239447485</c:v>
                </c:pt>
                <c:pt idx="1146">
                  <c:v>0.519617895736956</c:v>
                </c:pt>
                <c:pt idx="1147">
                  <c:v>0.520973910762689</c:v>
                </c:pt>
                <c:pt idx="1148">
                  <c:v>0.524721108567266</c:v>
                </c:pt>
                <c:pt idx="1149">
                  <c:v>1.3006084345894</c:v>
                </c:pt>
                <c:pt idx="1150">
                  <c:v>0.511241543169713</c:v>
                </c:pt>
                <c:pt idx="1151">
                  <c:v>0.512225474841312</c:v>
                </c:pt>
                <c:pt idx="1152">
                  <c:v>0.520532683580121</c:v>
                </c:pt>
                <c:pt idx="1153">
                  <c:v>0.515351870465903</c:v>
                </c:pt>
                <c:pt idx="1154">
                  <c:v>0.517644560586401</c:v>
                </c:pt>
                <c:pt idx="1155">
                  <c:v>0.519341817839812</c:v>
                </c:pt>
                <c:pt idx="1156">
                  <c:v>0.523389467981169</c:v>
                </c:pt>
                <c:pt idx="1157">
                  <c:v>0.744495528332435</c:v>
                </c:pt>
                <c:pt idx="1158">
                  <c:v>0.511421118174376</c:v>
                </c:pt>
                <c:pt idx="1159">
                  <c:v>0.512392613902098</c:v>
                </c:pt>
                <c:pt idx="1160">
                  <c:v>0.517084943230298</c:v>
                </c:pt>
                <c:pt idx="1161">
                  <c:v>0.518775236353014</c:v>
                </c:pt>
                <c:pt idx="1162">
                  <c:v>0.518615061442196</c:v>
                </c:pt>
                <c:pt idx="1163">
                  <c:v>0.519582080218837</c:v>
                </c:pt>
                <c:pt idx="1164">
                  <c:v>0.524268440306972</c:v>
                </c:pt>
                <c:pt idx="1165">
                  <c:v>0.781494443177985</c:v>
                </c:pt>
                <c:pt idx="1166">
                  <c:v>0.519098073398408</c:v>
                </c:pt>
                <c:pt idx="1167">
                  <c:v>0.511597708537591</c:v>
                </c:pt>
                <c:pt idx="1168">
                  <c:v>0.516869055291386</c:v>
                </c:pt>
                <c:pt idx="1169">
                  <c:v>0.51565630231303</c:v>
                </c:pt>
                <c:pt idx="1170">
                  <c:v>0.517698283849141</c:v>
                </c:pt>
                <c:pt idx="1171">
                  <c:v>0.51894187797578</c:v>
                </c:pt>
                <c:pt idx="1172">
                  <c:v>0.521984206635046</c:v>
                </c:pt>
                <c:pt idx="1173">
                  <c:v>1.02057292575814</c:v>
                </c:pt>
                <c:pt idx="1174">
                  <c:v>0.511745944944063</c:v>
                </c:pt>
                <c:pt idx="1175">
                  <c:v>0.512642327592881</c:v>
                </c:pt>
                <c:pt idx="1176">
                  <c:v>0.515910492950298</c:v>
                </c:pt>
                <c:pt idx="1177">
                  <c:v>0.522175720134069</c:v>
                </c:pt>
                <c:pt idx="1178">
                  <c:v>0.517977843809513</c:v>
                </c:pt>
                <c:pt idx="1179">
                  <c:v>0.520097425624389</c:v>
                </c:pt>
                <c:pt idx="1180">
                  <c:v>0.521173383261219</c:v>
                </c:pt>
                <c:pt idx="1181">
                  <c:v>0.790961676498331</c:v>
                </c:pt>
                <c:pt idx="1182">
                  <c:v>0.509507475525475</c:v>
                </c:pt>
                <c:pt idx="1183">
                  <c:v>0.511805637470435</c:v>
                </c:pt>
                <c:pt idx="1184">
                  <c:v>0.514460959638599</c:v>
                </c:pt>
                <c:pt idx="1185">
                  <c:v>0.515936857137114</c:v>
                </c:pt>
                <c:pt idx="1186">
                  <c:v>0.516244771049886</c:v>
                </c:pt>
                <c:pt idx="1187">
                  <c:v>0.518662318020241</c:v>
                </c:pt>
                <c:pt idx="1188">
                  <c:v>0.520462544869305</c:v>
                </c:pt>
                <c:pt idx="1189">
                  <c:v>1.45137581655526</c:v>
                </c:pt>
                <c:pt idx="1190">
                  <c:v>0.510778428717607</c:v>
                </c:pt>
                <c:pt idx="1191">
                  <c:v>0.512141407876041</c:v>
                </c:pt>
                <c:pt idx="1192">
                  <c:v>0.514925068965908</c:v>
                </c:pt>
                <c:pt idx="1193">
                  <c:v>0.516830752592429</c:v>
                </c:pt>
                <c:pt idx="1194">
                  <c:v>0.52394411097041</c:v>
                </c:pt>
                <c:pt idx="1195">
                  <c:v>0.527509744038369</c:v>
                </c:pt>
                <c:pt idx="1196">
                  <c:v>0.52315417998796</c:v>
                </c:pt>
                <c:pt idx="1197">
                  <c:v>0.809787701755552</c:v>
                </c:pt>
                <c:pt idx="1198">
                  <c:v>0.51144002078996</c:v>
                </c:pt>
                <c:pt idx="1199">
                  <c:v>0.513428279083528</c:v>
                </c:pt>
                <c:pt idx="1200">
                  <c:v>0.51484796612364</c:v>
                </c:pt>
                <c:pt idx="1201">
                  <c:v>0.515906513438575</c:v>
                </c:pt>
                <c:pt idx="1202">
                  <c:v>0.518914518900783</c:v>
                </c:pt>
                <c:pt idx="1203">
                  <c:v>0.521872283163267</c:v>
                </c:pt>
                <c:pt idx="1204">
                  <c:v>0.521980227122611</c:v>
                </c:pt>
                <c:pt idx="1205">
                  <c:v>1.415008647596</c:v>
                </c:pt>
                <c:pt idx="1206">
                  <c:v>0.511071419495163</c:v>
                </c:pt>
                <c:pt idx="1207">
                  <c:v>0.514017742693969</c:v>
                </c:pt>
                <c:pt idx="1208">
                  <c:v>0.514363461855835</c:v>
                </c:pt>
                <c:pt idx="1209">
                  <c:v>0.522430408193585</c:v>
                </c:pt>
                <c:pt idx="1210">
                  <c:v>0.519130406844979</c:v>
                </c:pt>
                <c:pt idx="1211">
                  <c:v>0.522308038532725</c:v>
                </c:pt>
                <c:pt idx="1212">
                  <c:v>0.522756229864623</c:v>
                </c:pt>
                <c:pt idx="1213">
                  <c:v>1.27607132774943</c:v>
                </c:pt>
                <c:pt idx="1214">
                  <c:v>0.510111862269327</c:v>
                </c:pt>
                <c:pt idx="1215">
                  <c:v>0.512987051883423</c:v>
                </c:pt>
                <c:pt idx="1216">
                  <c:v>0.513490458780925</c:v>
                </c:pt>
                <c:pt idx="1217">
                  <c:v>0.516167668212852</c:v>
                </c:pt>
                <c:pt idx="1218">
                  <c:v>0.518029577331874</c:v>
                </c:pt>
                <c:pt idx="1219">
                  <c:v>0.521126126692688</c:v>
                </c:pt>
                <c:pt idx="1220">
                  <c:v>0.520143687336419</c:v>
                </c:pt>
                <c:pt idx="1221">
                  <c:v>0.717014585461229</c:v>
                </c:pt>
                <c:pt idx="1222">
                  <c:v>0.510026800430346</c:v>
                </c:pt>
                <c:pt idx="1223">
                  <c:v>0.519567157090739</c:v>
                </c:pt>
                <c:pt idx="1224">
                  <c:v>0.514346548978723</c:v>
                </c:pt>
                <c:pt idx="1225">
                  <c:v>0.516530300256373</c:v>
                </c:pt>
                <c:pt idx="1226">
                  <c:v>0.517336149241836</c:v>
                </c:pt>
                <c:pt idx="1227">
                  <c:v>0.53028693842257</c:v>
                </c:pt>
                <c:pt idx="1228">
                  <c:v>0.52352775565893</c:v>
                </c:pt>
                <c:pt idx="1229">
                  <c:v>0.759615145654016</c:v>
                </c:pt>
                <c:pt idx="1230">
                  <c:v>0.510246667877535</c:v>
                </c:pt>
                <c:pt idx="1231">
                  <c:v>0.514474390458528</c:v>
                </c:pt>
                <c:pt idx="1232">
                  <c:v>0.513986404111902</c:v>
                </c:pt>
                <c:pt idx="1233">
                  <c:v>0.516464638491885</c:v>
                </c:pt>
                <c:pt idx="1234">
                  <c:v>0.518311624474962</c:v>
                </c:pt>
                <c:pt idx="1235">
                  <c:v>0.520979880024276</c:v>
                </c:pt>
                <c:pt idx="1236">
                  <c:v>0.520499355251686</c:v>
                </c:pt>
                <c:pt idx="1237">
                  <c:v>0.969401017448082</c:v>
                </c:pt>
                <c:pt idx="1238">
                  <c:v>0.51121169691375</c:v>
                </c:pt>
                <c:pt idx="1239">
                  <c:v>0.515016100046851</c:v>
                </c:pt>
                <c:pt idx="1240">
                  <c:v>0.515691620371794</c:v>
                </c:pt>
                <c:pt idx="1241">
                  <c:v>0.522898994462276</c:v>
                </c:pt>
                <c:pt idx="1242">
                  <c:v>0.517059076478295</c:v>
                </c:pt>
                <c:pt idx="1243">
                  <c:v>0.518856318706307</c:v>
                </c:pt>
                <c:pt idx="1244">
                  <c:v>0.523707330651792</c:v>
                </c:pt>
                <c:pt idx="1245">
                  <c:v>0.80442880598464</c:v>
                </c:pt>
                <c:pt idx="1246">
                  <c:v>0.510684910444133</c:v>
                </c:pt>
                <c:pt idx="1247">
                  <c:v>0.51208818205558</c:v>
                </c:pt>
                <c:pt idx="1248">
                  <c:v>0.51343574063965</c:v>
                </c:pt>
                <c:pt idx="1249">
                  <c:v>0.516784988327685</c:v>
                </c:pt>
                <c:pt idx="1250">
                  <c:v>0.519955655898852</c:v>
                </c:pt>
                <c:pt idx="1251">
                  <c:v>0.525706035124822</c:v>
                </c:pt>
                <c:pt idx="1252">
                  <c:v>0.521297245239482</c:v>
                </c:pt>
                <c:pt idx="1253">
                  <c:v>1.45798328083982</c:v>
                </c:pt>
                <c:pt idx="1254">
                  <c:v>0.50977211236328</c:v>
                </c:pt>
                <c:pt idx="1255">
                  <c:v>0.513178565373259</c:v>
                </c:pt>
                <c:pt idx="1256">
                  <c:v>0.514814140372719</c:v>
                </c:pt>
                <c:pt idx="1257">
                  <c:v>0.516531295123909</c:v>
                </c:pt>
                <c:pt idx="1258">
                  <c:v>0.517356046743925</c:v>
                </c:pt>
                <c:pt idx="1259">
                  <c:v>0.519593023858772</c:v>
                </c:pt>
                <c:pt idx="1260">
                  <c:v>0.522914415031987</c:v>
                </c:pt>
                <c:pt idx="1261">
                  <c:v>0.788695350596651</c:v>
                </c:pt>
                <c:pt idx="1262">
                  <c:v>0.509790517558507</c:v>
                </c:pt>
                <c:pt idx="1263">
                  <c:v>0.512438378151923</c:v>
                </c:pt>
                <c:pt idx="1264">
                  <c:v>0.514216717748576</c:v>
                </c:pt>
                <c:pt idx="1265">
                  <c:v>0.51570803582071</c:v>
                </c:pt>
                <c:pt idx="1266">
                  <c:v>0.525185715328156</c:v>
                </c:pt>
                <c:pt idx="1267">
                  <c:v>0.519514428701667</c:v>
                </c:pt>
                <c:pt idx="1268">
                  <c:v>0.521986196379142</c:v>
                </c:pt>
                <c:pt idx="1269">
                  <c:v>0.798446123380217</c:v>
                </c:pt>
                <c:pt idx="1270">
                  <c:v>0.512146382263333</c:v>
                </c:pt>
                <c:pt idx="1271">
                  <c:v>0.51283284620746</c:v>
                </c:pt>
                <c:pt idx="1272">
                  <c:v>0.51440574405477</c:v>
                </c:pt>
                <c:pt idx="1273">
                  <c:v>0.516338786754816</c:v>
                </c:pt>
                <c:pt idx="1274">
                  <c:v>0.519386089790308</c:v>
                </c:pt>
                <c:pt idx="1275">
                  <c:v>0.519416930923981</c:v>
                </c:pt>
                <c:pt idx="1276">
                  <c:v>0.521450456042714</c:v>
                </c:pt>
                <c:pt idx="1277">
                  <c:v>0.788204877068148</c:v>
                </c:pt>
                <c:pt idx="1278">
                  <c:v>0.511688242175945</c:v>
                </c:pt>
                <c:pt idx="1279">
                  <c:v>0.51174743725932</c:v>
                </c:pt>
                <c:pt idx="1280">
                  <c:v>0.520526714313476</c:v>
                </c:pt>
                <c:pt idx="1281">
                  <c:v>0.515872687674485</c:v>
                </c:pt>
                <c:pt idx="1282">
                  <c:v>10.0090264956144</c:v>
                </c:pt>
                <c:pt idx="1283">
                  <c:v>0.519746732087025</c:v>
                </c:pt>
                <c:pt idx="1284">
                  <c:v>0.53134200367131</c:v>
                </c:pt>
                <c:pt idx="1285">
                  <c:v>1.47770170926969</c:v>
                </c:pt>
                <c:pt idx="1286">
                  <c:v>0.5111689172787</c:v>
                </c:pt>
                <c:pt idx="1287">
                  <c:v>0.512478173162251</c:v>
                </c:pt>
                <c:pt idx="1288">
                  <c:v>0.513821752257298</c:v>
                </c:pt>
                <c:pt idx="1289">
                  <c:v>0.516177616959551</c:v>
                </c:pt>
                <c:pt idx="1290">
                  <c:v>0.518476773768639</c:v>
                </c:pt>
                <c:pt idx="1291">
                  <c:v>0.520083497368773</c:v>
                </c:pt>
                <c:pt idx="1292">
                  <c:v>0.540447599819384</c:v>
                </c:pt>
                <c:pt idx="1293">
                  <c:v>0.510603828109419</c:v>
                </c:pt>
                <c:pt idx="1294">
                  <c:v>0.519784039920843</c:v>
                </c:pt>
                <c:pt idx="1295">
                  <c:v>0.515337942207378</c:v>
                </c:pt>
                <c:pt idx="1296">
                  <c:v>0.520425237043751</c:v>
                </c:pt>
                <c:pt idx="1297">
                  <c:v>0.518179306050954</c:v>
                </c:pt>
                <c:pt idx="1298">
                  <c:v>0.520094441003394</c:v>
                </c:pt>
                <c:pt idx="1299">
                  <c:v>0.519692511382841</c:v>
                </c:pt>
                <c:pt idx="1300">
                  <c:v>0.88022984713196</c:v>
                </c:pt>
                <c:pt idx="1301">
                  <c:v>0.508514092555875</c:v>
                </c:pt>
                <c:pt idx="1302">
                  <c:v>0.515185726292346</c:v>
                </c:pt>
                <c:pt idx="1303">
                  <c:v>0.513971978419905</c:v>
                </c:pt>
                <c:pt idx="1304">
                  <c:v>0.515725943581997</c:v>
                </c:pt>
                <c:pt idx="1305">
                  <c:v>0.522277197405626</c:v>
                </c:pt>
                <c:pt idx="1306">
                  <c:v>0.518721513098856</c:v>
                </c:pt>
                <c:pt idx="1307">
                  <c:v>0.51894187797578</c:v>
                </c:pt>
                <c:pt idx="1308">
                  <c:v>0.786645410027201</c:v>
                </c:pt>
                <c:pt idx="1309">
                  <c:v>0.508945868432029</c:v>
                </c:pt>
                <c:pt idx="1310">
                  <c:v>0.51257119400286</c:v>
                </c:pt>
                <c:pt idx="1311">
                  <c:v>0.513291981160362</c:v>
                </c:pt>
                <c:pt idx="1312">
                  <c:v>0.515459814440143</c:v>
                </c:pt>
                <c:pt idx="1313">
                  <c:v>0.517228702712589</c:v>
                </c:pt>
                <c:pt idx="1314">
                  <c:v>0.519715393524718</c:v>
                </c:pt>
                <c:pt idx="1315">
                  <c:v>0.519825327236259</c:v>
                </c:pt>
                <c:pt idx="1316">
                  <c:v>1.43703220197609</c:v>
                </c:pt>
                <c:pt idx="1317">
                  <c:v>0.508583733823478</c:v>
                </c:pt>
                <c:pt idx="1318">
                  <c:v>0.513154190934223</c:v>
                </c:pt>
                <c:pt idx="1319">
                  <c:v>0.522662214154686</c:v>
                </c:pt>
                <c:pt idx="1320">
                  <c:v>0.515090218259743</c:v>
                </c:pt>
                <c:pt idx="1321">
                  <c:v>0.515377737220952</c:v>
                </c:pt>
                <c:pt idx="1322">
                  <c:v>0.524808657591532</c:v>
                </c:pt>
                <c:pt idx="1323">
                  <c:v>0.520552581072316</c:v>
                </c:pt>
                <c:pt idx="1324">
                  <c:v>0.772864397444857</c:v>
                </c:pt>
                <c:pt idx="1325">
                  <c:v>0.509413459816898</c:v>
                </c:pt>
                <c:pt idx="1326">
                  <c:v>0.512187669579652</c:v>
                </c:pt>
                <c:pt idx="1327">
                  <c:v>0.513184037191685</c:v>
                </c:pt>
                <c:pt idx="1328">
                  <c:v>0.514436585195841</c:v>
                </c:pt>
                <c:pt idx="1329">
                  <c:v>0.516548705439472</c:v>
                </c:pt>
                <c:pt idx="1330">
                  <c:v>0.51969649088458</c:v>
                </c:pt>
                <c:pt idx="1331">
                  <c:v>0.520438170424741</c:v>
                </c:pt>
                <c:pt idx="1332">
                  <c:v>1.47184239115667</c:v>
                </c:pt>
                <c:pt idx="1333">
                  <c:v>0.507614725277642</c:v>
                </c:pt>
                <c:pt idx="1334">
                  <c:v>0.512538363124172</c:v>
                </c:pt>
                <c:pt idx="1335">
                  <c:v>0.512288649418986</c:v>
                </c:pt>
                <c:pt idx="1336">
                  <c:v>0.5196323214214</c:v>
                </c:pt>
                <c:pt idx="1337">
                  <c:v>0.514443051879826</c:v>
                </c:pt>
                <c:pt idx="1338">
                  <c:v>0.517646052894939</c:v>
                </c:pt>
                <c:pt idx="1339">
                  <c:v>0.519114986280412</c:v>
                </c:pt>
                <c:pt idx="1340">
                  <c:v>1.20784775421492</c:v>
                </c:pt>
                <c:pt idx="1341">
                  <c:v>0.508535482364042</c:v>
                </c:pt>
                <c:pt idx="1342">
                  <c:v>0.510818721168967</c:v>
                </c:pt>
                <c:pt idx="1343">
                  <c:v>0.510916716393297</c:v>
                </c:pt>
                <c:pt idx="1344">
                  <c:v>0.51260949671636</c:v>
                </c:pt>
                <c:pt idx="1345">
                  <c:v>0.515102654202525</c:v>
                </c:pt>
                <c:pt idx="1346">
                  <c:v>0.516334309813501</c:v>
                </c:pt>
                <c:pt idx="1347">
                  <c:v>0.524312214821926</c:v>
                </c:pt>
                <c:pt idx="1348">
                  <c:v>0.768379499579816</c:v>
                </c:pt>
                <c:pt idx="1349">
                  <c:v>0.50861507238572</c:v>
                </c:pt>
                <c:pt idx="1350">
                  <c:v>0.510061621080456</c:v>
                </c:pt>
                <c:pt idx="1351">
                  <c:v>0.517250092524423</c:v>
                </c:pt>
                <c:pt idx="1352">
                  <c:v>0.513467079211861</c:v>
                </c:pt>
                <c:pt idx="1353">
                  <c:v>0.515760764205734</c:v>
                </c:pt>
                <c:pt idx="1354">
                  <c:v>0.515103649080115</c:v>
                </c:pt>
                <c:pt idx="1355">
                  <c:v>0.519930784012229</c:v>
                </c:pt>
                <c:pt idx="1356">
                  <c:v>0.760411045889194</c:v>
                </c:pt>
                <c:pt idx="1357">
                  <c:v>0.510429227489789</c:v>
                </c:pt>
                <c:pt idx="1358">
                  <c:v>0.510453104508735</c:v>
                </c:pt>
                <c:pt idx="1359">
                  <c:v>0.512770666504984</c:v>
                </c:pt>
                <c:pt idx="1360">
                  <c:v>0.514090368580962</c:v>
                </c:pt>
                <c:pt idx="1361">
                  <c:v>0.518016643939948</c:v>
                </c:pt>
                <c:pt idx="1362">
                  <c:v>0.517580391125461</c:v>
                </c:pt>
                <c:pt idx="1363">
                  <c:v>0.521337537686315</c:v>
                </c:pt>
                <c:pt idx="1364">
                  <c:v>1.18927442726296</c:v>
                </c:pt>
                <c:pt idx="1365">
                  <c:v>0.519471649070073</c:v>
                </c:pt>
                <c:pt idx="1366">
                  <c:v>0.511638498412629</c:v>
                </c:pt>
                <c:pt idx="1367">
                  <c:v>0.513123349796866</c:v>
                </c:pt>
                <c:pt idx="1368">
                  <c:v>0.515671722878383</c:v>
                </c:pt>
                <c:pt idx="1369">
                  <c:v>0.523467565693607</c:v>
                </c:pt>
                <c:pt idx="1370">
                  <c:v>0.518278793583048</c:v>
                </c:pt>
                <c:pt idx="1371">
                  <c:v>0.520921679809639</c:v>
                </c:pt>
                <c:pt idx="1372">
                  <c:v>0.797005543961739</c:v>
                </c:pt>
                <c:pt idx="1373">
                  <c:v>0.520192436224497</c:v>
                </c:pt>
                <c:pt idx="1374">
                  <c:v>0.513683962036408</c:v>
                </c:pt>
                <c:pt idx="1375">
                  <c:v>0.513034308459733</c:v>
                </c:pt>
                <c:pt idx="1376">
                  <c:v>0.516419371663175</c:v>
                </c:pt>
                <c:pt idx="1377">
                  <c:v>0.517775884117629</c:v>
                </c:pt>
                <c:pt idx="1378">
                  <c:v>0.519295058711936</c:v>
                </c:pt>
                <c:pt idx="1379">
                  <c:v>0.527829098996124</c:v>
                </c:pt>
                <c:pt idx="1380">
                  <c:v>1.42050135407344</c:v>
                </c:pt>
                <c:pt idx="1381">
                  <c:v>0.511132106888573</c:v>
                </c:pt>
                <c:pt idx="1382">
                  <c:v>0.512234428725167</c:v>
                </c:pt>
                <c:pt idx="1383">
                  <c:v>0.513908306409931</c:v>
                </c:pt>
                <c:pt idx="1384">
                  <c:v>0.514815135238684</c:v>
                </c:pt>
                <c:pt idx="1385">
                  <c:v>0.518208157449264</c:v>
                </c:pt>
                <c:pt idx="1386">
                  <c:v>0.519361217914659</c:v>
                </c:pt>
                <c:pt idx="1387">
                  <c:v>0.520103394882583</c:v>
                </c:pt>
                <c:pt idx="1388">
                  <c:v>0.771224345493495</c:v>
                </c:pt>
                <c:pt idx="1389">
                  <c:v>0.510524735525953</c:v>
                </c:pt>
                <c:pt idx="1390">
                  <c:v>0.512174736202278</c:v>
                </c:pt>
                <c:pt idx="1391">
                  <c:v>0.513073606029248</c:v>
                </c:pt>
                <c:pt idx="1392">
                  <c:v>0.514446036507224</c:v>
                </c:pt>
                <c:pt idx="1393">
                  <c:v>0.523760556482553</c:v>
                </c:pt>
                <c:pt idx="1394">
                  <c:v>0.519153786419859</c:v>
                </c:pt>
                <c:pt idx="1395">
                  <c:v>0.519437823312628</c:v>
                </c:pt>
                <c:pt idx="1396">
                  <c:v>1.4848250163486</c:v>
                </c:pt>
                <c:pt idx="1397">
                  <c:v>0.509112012609816</c:v>
                </c:pt>
                <c:pt idx="1398">
                  <c:v>0.516714352177844</c:v>
                </c:pt>
                <c:pt idx="1399">
                  <c:v>0.513494438282962</c:v>
                </c:pt>
                <c:pt idx="1400">
                  <c:v>0.514865376440669</c:v>
                </c:pt>
                <c:pt idx="1401">
                  <c:v>0.514786781301537</c:v>
                </c:pt>
                <c:pt idx="1402">
                  <c:v>0.517153589628111</c:v>
                </c:pt>
                <c:pt idx="1403">
                  <c:v>0.518751359353285</c:v>
                </c:pt>
                <c:pt idx="1404">
                  <c:v>1.28931361532911</c:v>
                </c:pt>
                <c:pt idx="1405">
                  <c:v>0.509330885162279</c:v>
                </c:pt>
                <c:pt idx="1406">
                  <c:v>0.510818721168967</c:v>
                </c:pt>
                <c:pt idx="1407">
                  <c:v>0.517436631655225</c:v>
                </c:pt>
                <c:pt idx="1408">
                  <c:v>0.513307401731749</c:v>
                </c:pt>
                <c:pt idx="1409">
                  <c:v>0.515718979449513</c:v>
                </c:pt>
                <c:pt idx="1410">
                  <c:v>0.517132199803905</c:v>
                </c:pt>
                <c:pt idx="1411">
                  <c:v>0.518954811348729</c:v>
                </c:pt>
                <c:pt idx="1412">
                  <c:v>0.778027800238299</c:v>
                </c:pt>
                <c:pt idx="1413">
                  <c:v>0.508317107232343</c:v>
                </c:pt>
                <c:pt idx="1414">
                  <c:v>0.510199411304727</c:v>
                </c:pt>
                <c:pt idx="1415">
                  <c:v>0.511290292072435</c:v>
                </c:pt>
                <c:pt idx="1416">
                  <c:v>0.512853738589122</c:v>
                </c:pt>
                <c:pt idx="1417">
                  <c:v>0.515313070323823</c:v>
                </c:pt>
                <c:pt idx="1418">
                  <c:v>0.516692962363636</c:v>
                </c:pt>
                <c:pt idx="1419">
                  <c:v>0.520047184435872</c:v>
                </c:pt>
                <c:pt idx="1420">
                  <c:v>0.80880028803879</c:v>
                </c:pt>
                <c:pt idx="1421">
                  <c:v>0.516132847576008</c:v>
                </c:pt>
                <c:pt idx="1422">
                  <c:v>28.4316939506998</c:v>
                </c:pt>
                <c:pt idx="1423">
                  <c:v>0.549421375006484</c:v>
                </c:pt>
                <c:pt idx="1424">
                  <c:v>0.513637700333391</c:v>
                </c:pt>
                <c:pt idx="1425">
                  <c:v>0.515191695536609</c:v>
                </c:pt>
                <c:pt idx="1426">
                  <c:v>0.515659784377355</c:v>
                </c:pt>
                <c:pt idx="1427">
                  <c:v>0.517055096970772</c:v>
                </c:pt>
                <c:pt idx="1428">
                  <c:v>1.27151380401852</c:v>
                </c:pt>
                <c:pt idx="1429">
                  <c:v>0.506462162242862</c:v>
                </c:pt>
                <c:pt idx="1430">
                  <c:v>0.508131562995926</c:v>
                </c:pt>
                <c:pt idx="1431">
                  <c:v>0.509382121251909</c:v>
                </c:pt>
                <c:pt idx="1432">
                  <c:v>0.522868650762697</c:v>
                </c:pt>
                <c:pt idx="1433">
                  <c:v>0.514680827077507</c:v>
                </c:pt>
                <c:pt idx="1434">
                  <c:v>0.517234174519384</c:v>
                </c:pt>
                <c:pt idx="1435">
                  <c:v>0.519085140023149</c:v>
                </c:pt>
                <c:pt idx="1436">
                  <c:v>0.790517962153133</c:v>
                </c:pt>
                <c:pt idx="1437">
                  <c:v>0.510485935394549</c:v>
                </c:pt>
                <c:pt idx="1438">
                  <c:v>0.511701672995803</c:v>
                </c:pt>
                <c:pt idx="1439">
                  <c:v>0.512810958964054</c:v>
                </c:pt>
                <c:pt idx="1440">
                  <c:v>0.514202789489416</c:v>
                </c:pt>
                <c:pt idx="1441">
                  <c:v>0.520861489855407</c:v>
                </c:pt>
                <c:pt idx="1442">
                  <c:v>0.523968485404555</c:v>
                </c:pt>
                <c:pt idx="1443">
                  <c:v>0.526005990026876</c:v>
                </c:pt>
                <c:pt idx="1444">
                  <c:v>0.770119039032323</c:v>
                </c:pt>
                <c:pt idx="1445">
                  <c:v>0.514568903611971</c:v>
                </c:pt>
                <c:pt idx="1446">
                  <c:v>0.516664608424217</c:v>
                </c:pt>
                <c:pt idx="1447">
                  <c:v>0.519863629936876</c:v>
                </c:pt>
                <c:pt idx="1448">
                  <c:v>0.520176518217109</c:v>
                </c:pt>
                <c:pt idx="1449">
                  <c:v>0.522347336106086</c:v>
                </c:pt>
                <c:pt idx="1450">
                  <c:v>0.523987388049534</c:v>
                </c:pt>
                <c:pt idx="1451">
                  <c:v>0.52633778093436</c:v>
                </c:pt>
                <c:pt idx="1452">
                  <c:v>0.808147152386764</c:v>
                </c:pt>
                <c:pt idx="1453">
                  <c:v>0.515502096635677</c:v>
                </c:pt>
                <c:pt idx="1454">
                  <c:v>1.45738735056874</c:v>
                </c:pt>
                <c:pt idx="1455">
                  <c:v>0.519351269151228</c:v>
                </c:pt>
                <c:pt idx="1456">
                  <c:v>0.517893279408793</c:v>
                </c:pt>
                <c:pt idx="1457">
                  <c:v>0.524219691417915</c:v>
                </c:pt>
                <c:pt idx="1458">
                  <c:v>0.519966599535329</c:v>
                </c:pt>
                <c:pt idx="1459">
                  <c:v>0.530380456697592</c:v>
                </c:pt>
                <c:pt idx="1460">
                  <c:v>0.772696760931642</c:v>
                </c:pt>
                <c:pt idx="1461">
                  <c:v>0.511106737570486</c:v>
                </c:pt>
                <c:pt idx="1462">
                  <c:v>0.513595915563574</c:v>
                </c:pt>
                <c:pt idx="1463">
                  <c:v>0.514902684267431</c:v>
                </c:pt>
                <c:pt idx="1464">
                  <c:v>0.516809362781303</c:v>
                </c:pt>
                <c:pt idx="1465">
                  <c:v>0.516955609449575</c:v>
                </c:pt>
                <c:pt idx="1466">
                  <c:v>0.519823337485498</c:v>
                </c:pt>
                <c:pt idx="1467">
                  <c:v>0.520476970558746</c:v>
                </c:pt>
                <c:pt idx="1468">
                  <c:v>0.775089933456794</c:v>
                </c:pt>
                <c:pt idx="1469">
                  <c:v>0.511519113375656</c:v>
                </c:pt>
                <c:pt idx="1470">
                  <c:v>0.512051869098191</c:v>
                </c:pt>
                <c:pt idx="1471">
                  <c:v>0.513408879016733</c:v>
                </c:pt>
                <c:pt idx="1472">
                  <c:v>0.522573670251758</c:v>
                </c:pt>
                <c:pt idx="1473">
                  <c:v>0.517966402744006</c:v>
                </c:pt>
                <c:pt idx="1474">
                  <c:v>0.524095829452398</c:v>
                </c:pt>
                <c:pt idx="1475">
                  <c:v>0.523688428022207</c:v>
                </c:pt>
                <c:pt idx="1476">
                  <c:v>0.796829948441913</c:v>
                </c:pt>
                <c:pt idx="1477">
                  <c:v>0.512877118160121</c:v>
                </c:pt>
                <c:pt idx="1478">
                  <c:v>0.513041770024144</c:v>
                </c:pt>
                <c:pt idx="1479">
                  <c:v>0.516868557847549</c:v>
                </c:pt>
                <c:pt idx="1480">
                  <c:v>0.516802398639296</c:v>
                </c:pt>
                <c:pt idx="1481">
                  <c:v>0.519955655898852</c:v>
                </c:pt>
                <c:pt idx="1482">
                  <c:v>0.519263720130443</c:v>
                </c:pt>
                <c:pt idx="1483">
                  <c:v>0.523554119854826</c:v>
                </c:pt>
                <c:pt idx="1484">
                  <c:v>0.777309002819043</c:v>
                </c:pt>
                <c:pt idx="1485">
                  <c:v>0.512897513106778</c:v>
                </c:pt>
                <c:pt idx="1486">
                  <c:v>0.51948756707608</c:v>
                </c:pt>
                <c:pt idx="1487">
                  <c:v>0.515895569821086</c:v>
                </c:pt>
                <c:pt idx="1488">
                  <c:v>0.515882636431062</c:v>
                </c:pt>
                <c:pt idx="1489">
                  <c:v>0.517671422221742</c:v>
                </c:pt>
                <c:pt idx="1490">
                  <c:v>0.521181839707582</c:v>
                </c:pt>
                <c:pt idx="1491">
                  <c:v>0.522936799720207</c:v>
                </c:pt>
                <c:pt idx="1492">
                  <c:v>0.807747212541979</c:v>
                </c:pt>
                <c:pt idx="1493">
                  <c:v>0.511280343316643</c:v>
                </c:pt>
                <c:pt idx="1494">
                  <c:v>0.513262134906848</c:v>
                </c:pt>
                <c:pt idx="1495">
                  <c:v>0.515573727662685</c:v>
                </c:pt>
                <c:pt idx="1496">
                  <c:v>0.516551690078431</c:v>
                </c:pt>
                <c:pt idx="1497">
                  <c:v>0.5186916668349</c:v>
                </c:pt>
                <c:pt idx="1498">
                  <c:v>0.519853681183733</c:v>
                </c:pt>
                <c:pt idx="1499">
                  <c:v>0.522783091489287</c:v>
                </c:pt>
                <c:pt idx="1500">
                  <c:v>0.771588469868335</c:v>
                </c:pt>
                <c:pt idx="1501">
                  <c:v>0.512342372696841</c:v>
                </c:pt>
                <c:pt idx="1502">
                  <c:v>0.514592283181123</c:v>
                </c:pt>
                <c:pt idx="1503">
                  <c:v>0.51561998935602</c:v>
                </c:pt>
                <c:pt idx="1504">
                  <c:v>0.515410568106882</c:v>
                </c:pt>
                <c:pt idx="1505">
                  <c:v>0.517725642915322</c:v>
                </c:pt>
                <c:pt idx="1506">
                  <c:v>0.519336346021635</c:v>
                </c:pt>
                <c:pt idx="1507">
                  <c:v>0.522614460134562</c:v>
                </c:pt>
                <c:pt idx="1508">
                  <c:v>0.770082726090769</c:v>
                </c:pt>
                <c:pt idx="1509">
                  <c:v>0.512075746107505</c:v>
                </c:pt>
                <c:pt idx="1510">
                  <c:v>0.513153196056408</c:v>
                </c:pt>
                <c:pt idx="1511">
                  <c:v>0.516253227486982</c:v>
                </c:pt>
                <c:pt idx="1512">
                  <c:v>0.515906016006054</c:v>
                </c:pt>
                <c:pt idx="1513">
                  <c:v>0.517965407869488</c:v>
                </c:pt>
                <c:pt idx="1514">
                  <c:v>0.524704195695102</c:v>
                </c:pt>
                <c:pt idx="1515">
                  <c:v>0.522197607376615</c:v>
                </c:pt>
                <c:pt idx="1516">
                  <c:v>1.73070695364924</c:v>
                </c:pt>
                <c:pt idx="1517">
                  <c:v>0.511570349461398</c:v>
                </c:pt>
                <c:pt idx="1518">
                  <c:v>1.54442899021418</c:v>
                </c:pt>
                <c:pt idx="1519">
                  <c:v>0.515738876947053</c:v>
                </c:pt>
                <c:pt idx="1520">
                  <c:v>0.516492992425478</c:v>
                </c:pt>
                <c:pt idx="1521">
                  <c:v>0.519420910436788</c:v>
                </c:pt>
                <c:pt idx="1522">
                  <c:v>0.520638140350142</c:v>
                </c:pt>
                <c:pt idx="1523">
                  <c:v>0.523868003008303</c:v>
                </c:pt>
                <c:pt idx="1524">
                  <c:v>0.770357809133873</c:v>
                </c:pt>
                <c:pt idx="1525">
                  <c:v>0.511432061792779</c:v>
                </c:pt>
                <c:pt idx="1526">
                  <c:v>0.512784097327936</c:v>
                </c:pt>
                <c:pt idx="1527">
                  <c:v>0.516032862597839</c:v>
                </c:pt>
                <c:pt idx="1528">
                  <c:v>0.523185518554489</c:v>
                </c:pt>
                <c:pt idx="1529">
                  <c:v>0.519592526410593</c:v>
                </c:pt>
                <c:pt idx="1530">
                  <c:v>0.521420609783268</c:v>
                </c:pt>
                <c:pt idx="1531">
                  <c:v>0.523844623436402</c:v>
                </c:pt>
                <c:pt idx="1532">
                  <c:v>0.758417813227395</c:v>
                </c:pt>
                <c:pt idx="1533">
                  <c:v>0.512347347074431</c:v>
                </c:pt>
                <c:pt idx="1534">
                  <c:v>0.513716295480799</c:v>
                </c:pt>
                <c:pt idx="1535">
                  <c:v>0.516438771731462</c:v>
                </c:pt>
                <c:pt idx="1536">
                  <c:v>0.518413599185481</c:v>
                </c:pt>
                <c:pt idx="1537">
                  <c:v>0.524741503523066</c:v>
                </c:pt>
                <c:pt idx="1538">
                  <c:v>6.14379717921384</c:v>
                </c:pt>
                <c:pt idx="1539">
                  <c:v>0.525275751553844</c:v>
                </c:pt>
                <c:pt idx="1540">
                  <c:v>0.530659519211961</c:v>
                </c:pt>
                <c:pt idx="1541">
                  <c:v>1.44277064273606</c:v>
                </c:pt>
                <c:pt idx="1542">
                  <c:v>0.518090264723769</c:v>
                </c:pt>
                <c:pt idx="1543">
                  <c:v>0.518120110984271</c:v>
                </c:pt>
                <c:pt idx="1544">
                  <c:v>0.51752666786617</c:v>
                </c:pt>
                <c:pt idx="1545">
                  <c:v>0.517845525391078</c:v>
                </c:pt>
                <c:pt idx="1546">
                  <c:v>0.519390069296705</c:v>
                </c:pt>
                <c:pt idx="1547">
                  <c:v>0.524243568431705</c:v>
                </c:pt>
                <c:pt idx="1548">
                  <c:v>0.530384933645695</c:v>
                </c:pt>
                <c:pt idx="1549">
                  <c:v>0.51240405495438</c:v>
                </c:pt>
                <c:pt idx="1550">
                  <c:v>0.513140262675663</c:v>
                </c:pt>
                <c:pt idx="1551">
                  <c:v>0.518357388743345</c:v>
                </c:pt>
                <c:pt idx="1552">
                  <c:v>0.518042510699788</c:v>
                </c:pt>
                <c:pt idx="1553">
                  <c:v>0.51937514616434</c:v>
                </c:pt>
                <c:pt idx="1554">
                  <c:v>0.520307841751272</c:v>
                </c:pt>
                <c:pt idx="1555">
                  <c:v>0.524549492586046</c:v>
                </c:pt>
                <c:pt idx="1556">
                  <c:v>1.11539498780022</c:v>
                </c:pt>
                <c:pt idx="1557">
                  <c:v>0.518627994814668</c:v>
                </c:pt>
                <c:pt idx="1558">
                  <c:v>0.513383012258656</c:v>
                </c:pt>
                <c:pt idx="1559">
                  <c:v>0.51744061114322</c:v>
                </c:pt>
                <c:pt idx="1560">
                  <c:v>0.51835092205099</c:v>
                </c:pt>
                <c:pt idx="1561">
                  <c:v>0.519496023517389</c:v>
                </c:pt>
                <c:pt idx="1562">
                  <c:v>0.521356937753953</c:v>
                </c:pt>
                <c:pt idx="1563">
                  <c:v>0.52519218202396</c:v>
                </c:pt>
                <c:pt idx="1564">
                  <c:v>0.766523062296861</c:v>
                </c:pt>
                <c:pt idx="1565">
                  <c:v>0.512784097327936</c:v>
                </c:pt>
                <c:pt idx="1566">
                  <c:v>0.514131158471231</c:v>
                </c:pt>
                <c:pt idx="1567">
                  <c:v>0.518311624474962</c:v>
                </c:pt>
                <c:pt idx="1568">
                  <c:v>0.519792496351099</c:v>
                </c:pt>
                <c:pt idx="1569">
                  <c:v>0.521797170071583</c:v>
                </c:pt>
                <c:pt idx="1570">
                  <c:v>0.522040417094035</c:v>
                </c:pt>
                <c:pt idx="1571">
                  <c:v>0.532682100695286</c:v>
                </c:pt>
                <c:pt idx="1572">
                  <c:v>0.777678598989591</c:v>
                </c:pt>
                <c:pt idx="1573">
                  <c:v>0.514116732789471</c:v>
                </c:pt>
                <c:pt idx="1574">
                  <c:v>0.513351176249725</c:v>
                </c:pt>
                <c:pt idx="1575">
                  <c:v>0.516945163251805</c:v>
                </c:pt>
                <c:pt idx="1576">
                  <c:v>0.518106182724066</c:v>
                </c:pt>
                <c:pt idx="1577">
                  <c:v>0.521538005062723</c:v>
                </c:pt>
                <c:pt idx="1578">
                  <c:v>0.521959334753669</c:v>
                </c:pt>
                <c:pt idx="1579">
                  <c:v>0.52525734635418</c:v>
                </c:pt>
                <c:pt idx="1580">
                  <c:v>0.793428469814857</c:v>
                </c:pt>
                <c:pt idx="1581">
                  <c:v>0.512430419158769</c:v>
                </c:pt>
                <c:pt idx="1582">
                  <c:v>0.514833042991643</c:v>
                </c:pt>
                <c:pt idx="1583">
                  <c:v>0.518152444417747</c:v>
                </c:pt>
                <c:pt idx="1584">
                  <c:v>0.51933037676827</c:v>
                </c:pt>
                <c:pt idx="1585">
                  <c:v>0.529629823296567</c:v>
                </c:pt>
                <c:pt idx="1586">
                  <c:v>0.521859349780961</c:v>
                </c:pt>
                <c:pt idx="1587">
                  <c:v>0.523082051512673</c:v>
                </c:pt>
                <c:pt idx="1588">
                  <c:v>0.772373923895987</c:v>
                </c:pt>
                <c:pt idx="1589">
                  <c:v>0.51422318443995</c:v>
                </c:pt>
                <c:pt idx="1590">
                  <c:v>0.515037489863682</c:v>
                </c:pt>
                <c:pt idx="1591">
                  <c:v>0.516454689722745</c:v>
                </c:pt>
                <c:pt idx="1592">
                  <c:v>0.517131204930825</c:v>
                </c:pt>
                <c:pt idx="1593">
                  <c:v>0.520431206288643</c:v>
                </c:pt>
                <c:pt idx="1594">
                  <c:v>0.521733995495045</c:v>
                </c:pt>
                <c:pt idx="1595">
                  <c:v>0.523670520251783</c:v>
                </c:pt>
                <c:pt idx="1596">
                  <c:v>0.839202184783468</c:v>
                </c:pt>
                <c:pt idx="1597">
                  <c:v>0.514720622096142</c:v>
                </c:pt>
                <c:pt idx="1598">
                  <c:v>0.523664053574159</c:v>
                </c:pt>
                <c:pt idx="1599">
                  <c:v>0.521733995495045</c:v>
                </c:pt>
                <c:pt idx="1600">
                  <c:v>0.518244967824447</c:v>
                </c:pt>
                <c:pt idx="1601">
                  <c:v>0.527040162882604</c:v>
                </c:pt>
                <c:pt idx="1602">
                  <c:v>0.523314852347021</c:v>
                </c:pt>
                <c:pt idx="1603">
                  <c:v>0.523722253770545</c:v>
                </c:pt>
                <c:pt idx="1604">
                  <c:v>0.792830052316</c:v>
                </c:pt>
                <c:pt idx="1605">
                  <c:v>0.513712813418426</c:v>
                </c:pt>
                <c:pt idx="1606">
                  <c:v>0.513791905997291</c:v>
                </c:pt>
                <c:pt idx="1607">
                  <c:v>0.515812000293996</c:v>
                </c:pt>
                <c:pt idx="1608">
                  <c:v>0.517700771042237</c:v>
                </c:pt>
                <c:pt idx="1609">
                  <c:v>0.52075603307156</c:v>
                </c:pt>
                <c:pt idx="1610">
                  <c:v>0.520349626519375</c:v>
                </c:pt>
                <c:pt idx="1611">
                  <c:v>0.523009425623986</c:v>
                </c:pt>
                <c:pt idx="1612">
                  <c:v>0.763252907192943</c:v>
                </c:pt>
                <c:pt idx="1613">
                  <c:v>0.519272674007022</c:v>
                </c:pt>
                <c:pt idx="1614">
                  <c:v>0.514116235351442</c:v>
                </c:pt>
                <c:pt idx="1615">
                  <c:v>0.515079772076787</c:v>
                </c:pt>
                <c:pt idx="1616">
                  <c:v>0.517191892329881</c:v>
                </c:pt>
                <c:pt idx="1617">
                  <c:v>0.519161247980007</c:v>
                </c:pt>
                <c:pt idx="1618">
                  <c:v>0.520801299904339</c:v>
                </c:pt>
                <c:pt idx="1619">
                  <c:v>0.52081423328727</c:v>
                </c:pt>
                <c:pt idx="1620">
                  <c:v>0.884317789769813</c:v>
                </c:pt>
                <c:pt idx="1621">
                  <c:v>0.512034956222798</c:v>
                </c:pt>
                <c:pt idx="1622">
                  <c:v>0.514263974320321</c:v>
                </c:pt>
                <c:pt idx="1623">
                  <c:v>0.514875822632825</c:v>
                </c:pt>
                <c:pt idx="1624">
                  <c:v>0.515737882082525</c:v>
                </c:pt>
                <c:pt idx="1625">
                  <c:v>1.19126765999622</c:v>
                </c:pt>
                <c:pt idx="1626">
                  <c:v>0.520275010871055</c:v>
                </c:pt>
                <c:pt idx="1627">
                  <c:v>0.527474425965715</c:v>
                </c:pt>
                <c:pt idx="1628">
                  <c:v>0.799997631413094</c:v>
                </c:pt>
                <c:pt idx="1629">
                  <c:v>0.511855878677006</c:v>
                </c:pt>
                <c:pt idx="1630">
                  <c:v>0.514182394549161</c:v>
                </c:pt>
                <c:pt idx="1631">
                  <c:v>0.516737234322382</c:v>
                </c:pt>
                <c:pt idx="1632">
                  <c:v>0.51899211917791</c:v>
                </c:pt>
                <c:pt idx="1633">
                  <c:v>0.518258398646231</c:v>
                </c:pt>
                <c:pt idx="1634">
                  <c:v>0.522905461157792</c:v>
                </c:pt>
                <c:pt idx="1635">
                  <c:v>0.522502039230907</c:v>
                </c:pt>
                <c:pt idx="1636">
                  <c:v>0.770850272390867</c:v>
                </c:pt>
                <c:pt idx="1637">
                  <c:v>0.512087684608074</c:v>
                </c:pt>
                <c:pt idx="1638">
                  <c:v>0.513888408901127</c:v>
                </c:pt>
                <c:pt idx="1639">
                  <c:v>0.516779019075047</c:v>
                </c:pt>
                <c:pt idx="1640">
                  <c:v>0.5167999114558</c:v>
                </c:pt>
                <c:pt idx="1641">
                  <c:v>0.518743400348094</c:v>
                </c:pt>
                <c:pt idx="1642">
                  <c:v>0.526512878988687</c:v>
                </c:pt>
                <c:pt idx="1643">
                  <c:v>0.522568695867225</c:v>
                </c:pt>
                <c:pt idx="1644">
                  <c:v>0.847944651435893</c:v>
                </c:pt>
                <c:pt idx="1645">
                  <c:v>0.512721420183388</c:v>
                </c:pt>
                <c:pt idx="1646">
                  <c:v>0.514077435207697</c:v>
                </c:pt>
                <c:pt idx="1647">
                  <c:v>0.515536419829668</c:v>
                </c:pt>
                <c:pt idx="1648">
                  <c:v>0.519287099703245</c:v>
                </c:pt>
                <c:pt idx="1649">
                  <c:v>0.525547352501354</c:v>
                </c:pt>
                <c:pt idx="1650">
                  <c:v>0.522791547936009</c:v>
                </c:pt>
                <c:pt idx="1651">
                  <c:v>0.523913767263509</c:v>
                </c:pt>
                <c:pt idx="1652">
                  <c:v>0.793573224170753</c:v>
                </c:pt>
                <c:pt idx="1653">
                  <c:v>0.51257169144856</c:v>
                </c:pt>
                <c:pt idx="1654">
                  <c:v>0.515290685628392</c:v>
                </c:pt>
                <c:pt idx="1655">
                  <c:v>0.517309287603646</c:v>
                </c:pt>
                <c:pt idx="1656">
                  <c:v>0.526005492583557</c:v>
                </c:pt>
                <c:pt idx="1657">
                  <c:v>0.519752701337384</c:v>
                </c:pt>
                <c:pt idx="1658">
                  <c:v>0.521603666838326</c:v>
                </c:pt>
                <c:pt idx="1659">
                  <c:v>0.522196115062262</c:v>
                </c:pt>
                <c:pt idx="1660">
                  <c:v>0.821624728035458</c:v>
                </c:pt>
                <c:pt idx="1661">
                  <c:v>0.514363959298283</c:v>
                </c:pt>
                <c:pt idx="1662">
                  <c:v>0.516053754991025</c:v>
                </c:pt>
                <c:pt idx="1663">
                  <c:v>0.519671619000413</c:v>
                </c:pt>
                <c:pt idx="1664">
                  <c:v>0.520478960306008</c:v>
                </c:pt>
                <c:pt idx="1665">
                  <c:v>0.527377923050479</c:v>
                </c:pt>
                <c:pt idx="1666">
                  <c:v>0.524185368223493</c:v>
                </c:pt>
                <c:pt idx="1667">
                  <c:v>0.523914264711004</c:v>
                </c:pt>
                <c:pt idx="1668">
                  <c:v>0.784589500229652</c:v>
                </c:pt>
                <c:pt idx="1669">
                  <c:v>0.512468224414305</c:v>
                </c:pt>
                <c:pt idx="1670">
                  <c:v>0.520276005750435</c:v>
                </c:pt>
                <c:pt idx="1671">
                  <c:v>0.515776682208798</c:v>
                </c:pt>
                <c:pt idx="1672">
                  <c:v>0.516971527451974</c:v>
                </c:pt>
                <c:pt idx="1673">
                  <c:v>0.519782547605637</c:v>
                </c:pt>
                <c:pt idx="1674">
                  <c:v>0.519978538032103</c:v>
                </c:pt>
                <c:pt idx="1675">
                  <c:v>0.521605159146482</c:v>
                </c:pt>
                <c:pt idx="1676">
                  <c:v>0.850227890287067</c:v>
                </c:pt>
                <c:pt idx="1677">
                  <c:v>0.513204929576225</c:v>
                </c:pt>
                <c:pt idx="1678">
                  <c:v>0.514091860900008</c:v>
                </c:pt>
                <c:pt idx="1679">
                  <c:v>0.515726441007774</c:v>
                </c:pt>
                <c:pt idx="1680">
                  <c:v>0.519727332019436</c:v>
                </c:pt>
                <c:pt idx="1681">
                  <c:v>0.519507464582305</c:v>
                </c:pt>
                <c:pt idx="1682">
                  <c:v>0.52128132723224</c:v>
                </c:pt>
                <c:pt idx="1683">
                  <c:v>0.523011415383855</c:v>
                </c:pt>
                <c:pt idx="1684">
                  <c:v>0.772951449010682</c:v>
                </c:pt>
                <c:pt idx="1685">
                  <c:v>0.512509014303339</c:v>
                </c:pt>
                <c:pt idx="1686">
                  <c:v>0.514377390117009</c:v>
                </c:pt>
                <c:pt idx="1687">
                  <c:v>0.516426335778357</c:v>
                </c:pt>
                <c:pt idx="1688">
                  <c:v>0.518358881054747</c:v>
                </c:pt>
                <c:pt idx="1689">
                  <c:v>0.519592028980642</c:v>
                </c:pt>
                <c:pt idx="1690">
                  <c:v>0.522525916228438</c:v>
                </c:pt>
                <c:pt idx="1691">
                  <c:v>0.522872132841611</c:v>
                </c:pt>
                <c:pt idx="1692">
                  <c:v>1.90367696768237</c:v>
                </c:pt>
                <c:pt idx="1693">
                  <c:v>0.512128971944487</c:v>
                </c:pt>
                <c:pt idx="1694">
                  <c:v>0.524913119508941</c:v>
                </c:pt>
                <c:pt idx="1695">
                  <c:v>0.516148268131928</c:v>
                </c:pt>
                <c:pt idx="1696">
                  <c:v>0.520140702703898</c:v>
                </c:pt>
                <c:pt idx="1697">
                  <c:v>0.520203877295477</c:v>
                </c:pt>
                <c:pt idx="1698">
                  <c:v>0.529305991378878</c:v>
                </c:pt>
                <c:pt idx="1699">
                  <c:v>0.523319329274031</c:v>
                </c:pt>
                <c:pt idx="1700">
                  <c:v>0.783699086840736</c:v>
                </c:pt>
                <c:pt idx="1701">
                  <c:v>0.512858215539102</c:v>
                </c:pt>
                <c:pt idx="1702">
                  <c:v>0.514905171463736</c:v>
                </c:pt>
                <c:pt idx="1703">
                  <c:v>0.517913674355792</c:v>
                </c:pt>
                <c:pt idx="1704">
                  <c:v>0.520569493964323</c:v>
                </c:pt>
                <c:pt idx="1705">
                  <c:v>0.520005399664185</c:v>
                </c:pt>
                <c:pt idx="1706">
                  <c:v>0.520714248310602</c:v>
                </c:pt>
                <c:pt idx="1707">
                  <c:v>0.523537704411942</c:v>
                </c:pt>
                <c:pt idx="1708">
                  <c:v>0.777450275103756</c:v>
                </c:pt>
                <c:pt idx="1709">
                  <c:v>0.515104146511861</c:v>
                </c:pt>
                <c:pt idx="1710">
                  <c:v>0.51452811372016</c:v>
                </c:pt>
                <c:pt idx="1711">
                  <c:v>0.517663463219603</c:v>
                </c:pt>
                <c:pt idx="1712">
                  <c:v>0.524794729344441</c:v>
                </c:pt>
                <c:pt idx="1713">
                  <c:v>0.521657887526103</c:v>
                </c:pt>
                <c:pt idx="1714">
                  <c:v>0.521527558867442</c:v>
                </c:pt>
                <c:pt idx="1715">
                  <c:v>0.526169647008478</c:v>
                </c:pt>
                <c:pt idx="1716">
                  <c:v>0.822612141763794</c:v>
                </c:pt>
                <c:pt idx="1717">
                  <c:v>0.512435890966263</c:v>
                </c:pt>
                <c:pt idx="1718">
                  <c:v>0.51602589847345</c:v>
                </c:pt>
                <c:pt idx="1719">
                  <c:v>0.517935561608263</c:v>
                </c:pt>
                <c:pt idx="1720">
                  <c:v>0.518695646331167</c:v>
                </c:pt>
                <c:pt idx="1721">
                  <c:v>0.520590883781644</c:v>
                </c:pt>
                <c:pt idx="1722">
                  <c:v>0.522023006765202</c:v>
                </c:pt>
                <c:pt idx="1723">
                  <c:v>0.524317686642255</c:v>
                </c:pt>
                <c:pt idx="1724">
                  <c:v>0.821788882470596</c:v>
                </c:pt>
                <c:pt idx="1725">
                  <c:v>0.514552985596839</c:v>
                </c:pt>
                <c:pt idx="1726">
                  <c:v>0.514412708177569</c:v>
                </c:pt>
                <c:pt idx="1727">
                  <c:v>0.52726102521009</c:v>
                </c:pt>
                <c:pt idx="1728">
                  <c:v>0.517319236372025</c:v>
                </c:pt>
                <c:pt idx="1729">
                  <c:v>0.527575903243514</c:v>
                </c:pt>
                <c:pt idx="1730">
                  <c:v>0.523204918628994</c:v>
                </c:pt>
                <c:pt idx="1731">
                  <c:v>0.526380063125698</c:v>
                </c:pt>
                <c:pt idx="1732">
                  <c:v>0.777824348241338</c:v>
                </c:pt>
                <c:pt idx="1733">
                  <c:v>0.51439529786002</c:v>
                </c:pt>
                <c:pt idx="1734">
                  <c:v>0.51576772834312</c:v>
                </c:pt>
                <c:pt idx="1735">
                  <c:v>0.519329381894543</c:v>
                </c:pt>
                <c:pt idx="1736">
                  <c:v>0.520186466965798</c:v>
                </c:pt>
                <c:pt idx="1737">
                  <c:v>0.521357932635129</c:v>
                </c:pt>
                <c:pt idx="1738">
                  <c:v>0.522858702016391</c:v>
                </c:pt>
                <c:pt idx="1739">
                  <c:v>0.525272766925154</c:v>
                </c:pt>
                <c:pt idx="1740">
                  <c:v>1.35117545874824</c:v>
                </c:pt>
                <c:pt idx="1741">
                  <c:v>0.520550093889315</c:v>
                </c:pt>
                <c:pt idx="1742">
                  <c:v>0.513954568117606</c:v>
                </c:pt>
                <c:pt idx="1743">
                  <c:v>0.517832094576601</c:v>
                </c:pt>
                <c:pt idx="1744">
                  <c:v>0.517211789830733</c:v>
                </c:pt>
                <c:pt idx="1745">
                  <c:v>0.520082005064676</c:v>
                </c:pt>
                <c:pt idx="1746">
                  <c:v>0.521769811007829</c:v>
                </c:pt>
                <c:pt idx="1747">
                  <c:v>0.524727077820553</c:v>
                </c:pt>
                <c:pt idx="1748">
                  <c:v>0.759807156580787</c:v>
                </c:pt>
                <c:pt idx="1749">
                  <c:v>0.513090021472165</c:v>
                </c:pt>
                <c:pt idx="1750">
                  <c:v>0.523497411959444</c:v>
                </c:pt>
                <c:pt idx="1751">
                  <c:v>0.521704149239223</c:v>
                </c:pt>
                <c:pt idx="1752">
                  <c:v>0.517592827067357</c:v>
                </c:pt>
                <c:pt idx="1753">
                  <c:v>0.518629984565918</c:v>
                </c:pt>
                <c:pt idx="1754">
                  <c:v>0.519272674007022</c:v>
                </c:pt>
                <c:pt idx="1755">
                  <c:v>0.526649176896361</c:v>
                </c:pt>
                <c:pt idx="1756">
                  <c:v>0.776725011005559</c:v>
                </c:pt>
                <c:pt idx="1757">
                  <c:v>0.511923032755681</c:v>
                </c:pt>
                <c:pt idx="1758">
                  <c:v>0.513347196741623</c:v>
                </c:pt>
                <c:pt idx="1759">
                  <c:v>0.515341921705834</c:v>
                </c:pt>
                <c:pt idx="1760">
                  <c:v>0.517716191599925</c:v>
                </c:pt>
                <c:pt idx="1761">
                  <c:v>0.51945523362809</c:v>
                </c:pt>
                <c:pt idx="1762">
                  <c:v>0.521117172812063</c:v>
                </c:pt>
                <c:pt idx="1763">
                  <c:v>0.522793537682665</c:v>
                </c:pt>
                <c:pt idx="1764">
                  <c:v>0.745035745623972</c:v>
                </c:pt>
                <c:pt idx="1765">
                  <c:v>0.512425942212979</c:v>
                </c:pt>
                <c:pt idx="1766">
                  <c:v>0.514010281121597</c:v>
                </c:pt>
                <c:pt idx="1767">
                  <c:v>0.51679344476426</c:v>
                </c:pt>
                <c:pt idx="1768">
                  <c:v>0.517341123615187</c:v>
                </c:pt>
                <c:pt idx="1769">
                  <c:v>0.526403940142163</c:v>
                </c:pt>
                <c:pt idx="1770">
                  <c:v>0.521133588254481</c:v>
                </c:pt>
                <c:pt idx="1771">
                  <c:v>0.523096974654975</c:v>
                </c:pt>
                <c:pt idx="1772">
                  <c:v>1.22050754238507</c:v>
                </c:pt>
                <c:pt idx="1773">
                  <c:v>0.51334470954666</c:v>
                </c:pt>
                <c:pt idx="1774">
                  <c:v>0.514276907704033</c:v>
                </c:pt>
                <c:pt idx="1775">
                  <c:v>0.517085440662925</c:v>
                </c:pt>
                <c:pt idx="1776">
                  <c:v>0.516127873190699</c:v>
                </c:pt>
                <c:pt idx="1777">
                  <c:v>0.51954725958981</c:v>
                </c:pt>
                <c:pt idx="1778">
                  <c:v>0.521208701342305</c:v>
                </c:pt>
                <c:pt idx="1779">
                  <c:v>0.522814927506154</c:v>
                </c:pt>
                <c:pt idx="1780">
                  <c:v>0.781665561748002</c:v>
                </c:pt>
                <c:pt idx="1781">
                  <c:v>0.511442010544481</c:v>
                </c:pt>
                <c:pt idx="1782">
                  <c:v>0.513223832208315</c:v>
                </c:pt>
                <c:pt idx="1783">
                  <c:v>0.522850245584016</c:v>
                </c:pt>
                <c:pt idx="1784">
                  <c:v>0.518425040251601</c:v>
                </c:pt>
                <c:pt idx="1785">
                  <c:v>0.520348134212584</c:v>
                </c:pt>
                <c:pt idx="1786">
                  <c:v>0.521979729696543</c:v>
                </c:pt>
                <c:pt idx="1787">
                  <c:v>0.524038624119591</c:v>
                </c:pt>
                <c:pt idx="1788">
                  <c:v>1.41547474663404</c:v>
                </c:pt>
                <c:pt idx="1789">
                  <c:v>0.511816581104775</c:v>
                </c:pt>
                <c:pt idx="1790">
                  <c:v>0.516549202882595</c:v>
                </c:pt>
                <c:pt idx="1791">
                  <c:v>0.514802201857021</c:v>
                </c:pt>
                <c:pt idx="1792">
                  <c:v>0.524429112678019</c:v>
                </c:pt>
                <c:pt idx="1793">
                  <c:v>0.518791651804713</c:v>
                </c:pt>
                <c:pt idx="1794">
                  <c:v>4.6440455519909</c:v>
                </c:pt>
                <c:pt idx="1795">
                  <c:v>0.523495919643369</c:v>
                </c:pt>
                <c:pt idx="1796">
                  <c:v>0.528098710204374</c:v>
                </c:pt>
                <c:pt idx="1797">
                  <c:v>1.45527572779833</c:v>
                </c:pt>
                <c:pt idx="1798">
                  <c:v>0.515837867042333</c:v>
                </c:pt>
                <c:pt idx="1799">
                  <c:v>0.515769220643828</c:v>
                </c:pt>
                <c:pt idx="1800">
                  <c:v>0.517607750197736</c:v>
                </c:pt>
                <c:pt idx="1801">
                  <c:v>0.519057283504302</c:v>
                </c:pt>
                <c:pt idx="1802">
                  <c:v>0.528201182363781</c:v>
                </c:pt>
                <c:pt idx="1803">
                  <c:v>0.52432116871162</c:v>
                </c:pt>
                <c:pt idx="1804">
                  <c:v>0.528197700296283</c:v>
                </c:pt>
                <c:pt idx="1805">
                  <c:v>0.513441709892227</c:v>
                </c:pt>
                <c:pt idx="1806">
                  <c:v>0.51789626403659</c:v>
                </c:pt>
                <c:pt idx="1807">
                  <c:v>0.518240988330605</c:v>
                </c:pt>
                <c:pt idx="1808">
                  <c:v>0.519296053574974</c:v>
                </c:pt>
                <c:pt idx="1809">
                  <c:v>0.522045391455279</c:v>
                </c:pt>
                <c:pt idx="1810">
                  <c:v>0.525523972931388</c:v>
                </c:pt>
                <c:pt idx="1811">
                  <c:v>0.526309924426578</c:v>
                </c:pt>
                <c:pt idx="1812">
                  <c:v>1.29684183667294</c:v>
                </c:pt>
                <c:pt idx="1813">
                  <c:v>0.514346051536088</c:v>
                </c:pt>
                <c:pt idx="1814">
                  <c:v>0.518476276339383</c:v>
                </c:pt>
                <c:pt idx="1815">
                  <c:v>0.517611729694753</c:v>
                </c:pt>
                <c:pt idx="1816">
                  <c:v>0.518459363452364</c:v>
                </c:pt>
                <c:pt idx="1817">
                  <c:v>0.520437672986459</c:v>
                </c:pt>
                <c:pt idx="1818">
                  <c:v>0.522881086711813</c:v>
                </c:pt>
                <c:pt idx="1819">
                  <c:v>0.524221681181258</c:v>
                </c:pt>
                <c:pt idx="1820">
                  <c:v>0.769291302808204</c:v>
                </c:pt>
                <c:pt idx="1821">
                  <c:v>0.514421164620329</c:v>
                </c:pt>
                <c:pt idx="1822">
                  <c:v>0.515765738582551</c:v>
                </c:pt>
                <c:pt idx="1823">
                  <c:v>0.519070714319676</c:v>
                </c:pt>
                <c:pt idx="1824">
                  <c:v>0.528848348742542</c:v>
                </c:pt>
                <c:pt idx="1825">
                  <c:v>0.521768318698259</c:v>
                </c:pt>
                <c:pt idx="1826">
                  <c:v>0.528786666475338</c:v>
                </c:pt>
                <c:pt idx="1827">
                  <c:v>0.523703848586152</c:v>
                </c:pt>
                <c:pt idx="1828">
                  <c:v>1.41701381871314</c:v>
                </c:pt>
                <c:pt idx="1829">
                  <c:v>0.513700874905662</c:v>
                </c:pt>
                <c:pt idx="1830">
                  <c:v>0.517668935036225</c:v>
                </c:pt>
                <c:pt idx="1831">
                  <c:v>0.5184946815307</c:v>
                </c:pt>
                <c:pt idx="1832">
                  <c:v>0.519215468680685</c:v>
                </c:pt>
                <c:pt idx="1833">
                  <c:v>0.521118665118618</c:v>
                </c:pt>
                <c:pt idx="1834">
                  <c:v>0.523520791525256</c:v>
                </c:pt>
                <c:pt idx="1835">
                  <c:v>0.524617641548553</c:v>
                </c:pt>
                <c:pt idx="1836">
                  <c:v>0.765510776687134</c:v>
                </c:pt>
                <c:pt idx="1837">
                  <c:v>0.513746141740501</c:v>
                </c:pt>
                <c:pt idx="1838">
                  <c:v>0.515941334071477</c:v>
                </c:pt>
                <c:pt idx="1839">
                  <c:v>0.516411910095301</c:v>
                </c:pt>
                <c:pt idx="1840">
                  <c:v>0.524011762486164</c:v>
                </c:pt>
                <c:pt idx="1841">
                  <c:v>0.520300380184444</c:v>
                </c:pt>
                <c:pt idx="1842">
                  <c:v>0.522781599185038</c:v>
                </c:pt>
                <c:pt idx="1843">
                  <c:v>0.523098964398064</c:v>
                </c:pt>
                <c:pt idx="1844">
                  <c:v>0.744682564906072</c:v>
                </c:pt>
                <c:pt idx="1845">
                  <c:v>0.513009436573735</c:v>
                </c:pt>
                <c:pt idx="1846">
                  <c:v>0.515062361756933</c:v>
                </c:pt>
                <c:pt idx="1847">
                  <c:v>0.51585477992246</c:v>
                </c:pt>
                <c:pt idx="1848">
                  <c:v>0.518547907359294</c:v>
                </c:pt>
                <c:pt idx="1849">
                  <c:v>0.520807766584947</c:v>
                </c:pt>
                <c:pt idx="1850">
                  <c:v>0.521328583810193</c:v>
                </c:pt>
                <c:pt idx="1851">
                  <c:v>0.522472192968896</c:v>
                </c:pt>
                <c:pt idx="1852">
                  <c:v>1.83728495955307</c:v>
                </c:pt>
                <c:pt idx="1853">
                  <c:v>0.519382110293099</c:v>
                </c:pt>
                <c:pt idx="1854">
                  <c:v>0.521082352180127</c:v>
                </c:pt>
                <c:pt idx="1855">
                  <c:v>0.516667095603965</c:v>
                </c:pt>
                <c:pt idx="1856">
                  <c:v>0.524286845509973</c:v>
                </c:pt>
                <c:pt idx="1857">
                  <c:v>0.523915259573696</c:v>
                </c:pt>
                <c:pt idx="1858">
                  <c:v>0.522001119507421</c:v>
                </c:pt>
                <c:pt idx="1859">
                  <c:v>0.523793884795137</c:v>
                </c:pt>
                <c:pt idx="1860">
                  <c:v>1.04666999710428</c:v>
                </c:pt>
                <c:pt idx="1861">
                  <c:v>0.514099322472961</c:v>
                </c:pt>
                <c:pt idx="1862">
                  <c:v>0.514852940500959</c:v>
                </c:pt>
                <c:pt idx="1863">
                  <c:v>0.517158066563905</c:v>
                </c:pt>
                <c:pt idx="1864">
                  <c:v>0.519971573905809</c:v>
                </c:pt>
                <c:pt idx="1865">
                  <c:v>0.5202690416227</c:v>
                </c:pt>
                <c:pt idx="1866">
                  <c:v>0.521272870791743</c:v>
                </c:pt>
                <c:pt idx="1867">
                  <c:v>0.523104933648106</c:v>
                </c:pt>
                <c:pt idx="1868">
                  <c:v>0.819273340259642</c:v>
                </c:pt>
                <c:pt idx="1869">
                  <c:v>0.514063009513141</c:v>
                </c:pt>
                <c:pt idx="1870">
                  <c:v>0.51423462550939</c:v>
                </c:pt>
                <c:pt idx="1871">
                  <c:v>0.517068527788946</c:v>
                </c:pt>
                <c:pt idx="1872">
                  <c:v>0.517263025904684</c:v>
                </c:pt>
                <c:pt idx="1873">
                  <c:v>0.522771152996504</c:v>
                </c:pt>
                <c:pt idx="1874">
                  <c:v>0.522420956881626</c:v>
                </c:pt>
                <c:pt idx="1875">
                  <c:v>0.523345196043496</c:v>
                </c:pt>
                <c:pt idx="1876">
                  <c:v>0.94185142817396</c:v>
                </c:pt>
                <c:pt idx="1877">
                  <c:v>0.516364653516952</c:v>
                </c:pt>
                <c:pt idx="1878">
                  <c:v>0.515722958945349</c:v>
                </c:pt>
                <c:pt idx="1879">
                  <c:v>0.516520848941263</c:v>
                </c:pt>
                <c:pt idx="1880">
                  <c:v>0.519173683912958</c:v>
                </c:pt>
                <c:pt idx="1881">
                  <c:v>0.522335397618437</c:v>
                </c:pt>
                <c:pt idx="1882">
                  <c:v>0.527458010522301</c:v>
                </c:pt>
                <c:pt idx="1883">
                  <c:v>0.523296447148618</c:v>
                </c:pt>
                <c:pt idx="1884">
                  <c:v>0.786152449347046</c:v>
                </c:pt>
                <c:pt idx="1885">
                  <c:v>0.515621481669711</c:v>
                </c:pt>
                <c:pt idx="1886">
                  <c:v>0.517073999595295</c:v>
                </c:pt>
                <c:pt idx="1887">
                  <c:v>0.517690822293177</c:v>
                </c:pt>
                <c:pt idx="1888">
                  <c:v>0.51931047927576</c:v>
                </c:pt>
                <c:pt idx="1889">
                  <c:v>0.522631373020556</c:v>
                </c:pt>
                <c:pt idx="1890">
                  <c:v>0.521960329616196</c:v>
                </c:pt>
                <c:pt idx="1891">
                  <c:v>0.5245231283812</c:v>
                </c:pt>
                <c:pt idx="1892">
                  <c:v>1.57892828092659</c:v>
                </c:pt>
                <c:pt idx="1893">
                  <c:v>0.514210251067542</c:v>
                </c:pt>
                <c:pt idx="1894">
                  <c:v>0.515389178282259</c:v>
                </c:pt>
                <c:pt idx="1895">
                  <c:v>0.517551539744386</c:v>
                </c:pt>
                <c:pt idx="1896">
                  <c:v>0.519606454680343</c:v>
                </c:pt>
                <c:pt idx="1897">
                  <c:v>0.527590328923901</c:v>
                </c:pt>
                <c:pt idx="1898">
                  <c:v>0.521244019411251</c:v>
                </c:pt>
                <c:pt idx="1899">
                  <c:v>0.52508871499273</c:v>
                </c:pt>
                <c:pt idx="1900">
                  <c:v>0.805321209105241</c:v>
                </c:pt>
                <c:pt idx="1901">
                  <c:v>0.516228355593365</c:v>
                </c:pt>
                <c:pt idx="1902">
                  <c:v>0.514943474158025</c:v>
                </c:pt>
                <c:pt idx="1903">
                  <c:v>0.516895419492125</c:v>
                </c:pt>
                <c:pt idx="1904">
                  <c:v>0.522722901541975</c:v>
                </c:pt>
                <c:pt idx="1905">
                  <c:v>0.520650576303542</c:v>
                </c:pt>
                <c:pt idx="1906">
                  <c:v>0.521448466291357</c:v>
                </c:pt>
                <c:pt idx="1907">
                  <c:v>0.523959034092738</c:v>
                </c:pt>
                <c:pt idx="1908">
                  <c:v>0.754296542319302</c:v>
                </c:pt>
                <c:pt idx="1909">
                  <c:v>0.513192493638018</c:v>
                </c:pt>
                <c:pt idx="1910">
                  <c:v>0.513845131827071</c:v>
                </c:pt>
                <c:pt idx="1911">
                  <c:v>0.521466871483471</c:v>
                </c:pt>
                <c:pt idx="1912">
                  <c:v>0.516980481324008</c:v>
                </c:pt>
                <c:pt idx="1913">
                  <c:v>0.518847862265815</c:v>
                </c:pt>
                <c:pt idx="1914">
                  <c:v>0.520876412990034</c:v>
                </c:pt>
                <c:pt idx="1915">
                  <c:v>0.52152606655069</c:v>
                </c:pt>
                <c:pt idx="1916">
                  <c:v>1.41750230245579</c:v>
                </c:pt>
                <c:pt idx="1917">
                  <c:v>0.512169761834981</c:v>
                </c:pt>
                <c:pt idx="1918">
                  <c:v>0.514081414713314</c:v>
                </c:pt>
                <c:pt idx="1919">
                  <c:v>0.517515226805474</c:v>
                </c:pt>
                <c:pt idx="1920">
                  <c:v>0.524417671604002</c:v>
                </c:pt>
                <c:pt idx="1921">
                  <c:v>0.520479955185344</c:v>
                </c:pt>
                <c:pt idx="1922">
                  <c:v>0.520371513779444</c:v>
                </c:pt>
                <c:pt idx="1923">
                  <c:v>0.522213027951562</c:v>
                </c:pt>
                <c:pt idx="1924">
                  <c:v>1.05756736372928</c:v>
                </c:pt>
                <c:pt idx="1925">
                  <c:v>0.517310779932187</c:v>
                </c:pt>
                <c:pt idx="1926">
                  <c:v>0.515222536672434</c:v>
                </c:pt>
                <c:pt idx="1927">
                  <c:v>0.517008337829167</c:v>
                </c:pt>
                <c:pt idx="1928">
                  <c:v>30.1491974472735</c:v>
                </c:pt>
                <c:pt idx="1929">
                  <c:v>0.526632761461901</c:v>
                </c:pt>
                <c:pt idx="1930">
                  <c:v>0.518238501135017</c:v>
                </c:pt>
                <c:pt idx="1931">
                  <c:v>0.519486572204508</c:v>
                </c:pt>
                <c:pt idx="1932">
                  <c:v>1.34089491491734</c:v>
                </c:pt>
                <c:pt idx="1933">
                  <c:v>0.509522896105511</c:v>
                </c:pt>
                <c:pt idx="1934">
                  <c:v>0.511805140035247</c:v>
                </c:pt>
                <c:pt idx="1935">
                  <c:v>0.513778972618021</c:v>
                </c:pt>
                <c:pt idx="1936">
                  <c:v>0.515512045390199</c:v>
                </c:pt>
                <c:pt idx="1937">
                  <c:v>0.516745193322752</c:v>
                </c:pt>
                <c:pt idx="1938">
                  <c:v>0.51656014651509</c:v>
                </c:pt>
                <c:pt idx="1939">
                  <c:v>0.522318982172282</c:v>
                </c:pt>
                <c:pt idx="1940">
                  <c:v>1.30029206420532</c:v>
                </c:pt>
                <c:pt idx="1941">
                  <c:v>0.50983926644105</c:v>
                </c:pt>
                <c:pt idx="1942">
                  <c:v>0.51566824080599</c:v>
                </c:pt>
                <c:pt idx="1943">
                  <c:v>0.518457871147253</c:v>
                </c:pt>
                <c:pt idx="1944">
                  <c:v>0.517807222702032</c:v>
                </c:pt>
                <c:pt idx="1945">
                  <c:v>0.520745089450069</c:v>
                </c:pt>
                <c:pt idx="1946">
                  <c:v>0.523012410251959</c:v>
                </c:pt>
                <c:pt idx="1947">
                  <c:v>0.526198498388272</c:v>
                </c:pt>
                <c:pt idx="1948">
                  <c:v>0.79508593205734</c:v>
                </c:pt>
                <c:pt idx="1949">
                  <c:v>0.516351222706435</c:v>
                </c:pt>
                <c:pt idx="1950">
                  <c:v>0.518149459791918</c:v>
                </c:pt>
                <c:pt idx="1951">
                  <c:v>0.520108369256548</c:v>
                </c:pt>
                <c:pt idx="1952">
                  <c:v>0.522251828086564</c:v>
                </c:pt>
                <c:pt idx="1953">
                  <c:v>0.524811642218923</c:v>
                </c:pt>
                <c:pt idx="1954">
                  <c:v>0.529506956182276</c:v>
                </c:pt>
                <c:pt idx="1955">
                  <c:v>0.528571773417694</c:v>
                </c:pt>
                <c:pt idx="1956">
                  <c:v>0.792694749265912</c:v>
                </c:pt>
                <c:pt idx="1957">
                  <c:v>0.515164833905665</c:v>
                </c:pt>
                <c:pt idx="1958">
                  <c:v>0.514463446820993</c:v>
                </c:pt>
                <c:pt idx="1959">
                  <c:v>0.525415034097675</c:v>
                </c:pt>
                <c:pt idx="1960">
                  <c:v>0.518716041273777</c:v>
                </c:pt>
                <c:pt idx="1961">
                  <c:v>0.524876309119486</c:v>
                </c:pt>
                <c:pt idx="1962">
                  <c:v>0.519352761476833</c:v>
                </c:pt>
                <c:pt idx="1963">
                  <c:v>0.521981222012469</c:v>
                </c:pt>
                <c:pt idx="1964">
                  <c:v>0.787138868180211</c:v>
                </c:pt>
                <c:pt idx="1965">
                  <c:v>0.511841950419784</c:v>
                </c:pt>
                <c:pt idx="1966">
                  <c:v>0.514364954169133</c:v>
                </c:pt>
                <c:pt idx="1967">
                  <c:v>0.51764953495879</c:v>
                </c:pt>
                <c:pt idx="1968">
                  <c:v>0.518178808625226</c:v>
                </c:pt>
                <c:pt idx="1969">
                  <c:v>0.518352414359549</c:v>
                </c:pt>
                <c:pt idx="1970">
                  <c:v>0.520360072715951</c:v>
                </c:pt>
                <c:pt idx="1971">
                  <c:v>0.523793884795137</c:v>
                </c:pt>
                <c:pt idx="1972">
                  <c:v>0.798940078978051</c:v>
                </c:pt>
                <c:pt idx="1973">
                  <c:v>0.512548311871859</c:v>
                </c:pt>
                <c:pt idx="1974">
                  <c:v>0.513761562296848</c:v>
                </c:pt>
                <c:pt idx="1975">
                  <c:v>0.526711356612954</c:v>
                </c:pt>
                <c:pt idx="1976">
                  <c:v>0.517811202195161</c:v>
                </c:pt>
                <c:pt idx="1977">
                  <c:v>0.521275855423299</c:v>
                </c:pt>
                <c:pt idx="1978">
                  <c:v>0.522388623447078</c:v>
                </c:pt>
                <c:pt idx="1979">
                  <c:v>0.525436921351833</c:v>
                </c:pt>
                <c:pt idx="1980">
                  <c:v>0.806559828879358</c:v>
                </c:pt>
                <c:pt idx="1981">
                  <c:v>0.514089871143205</c:v>
                </c:pt>
                <c:pt idx="1982">
                  <c:v>0.515477224754201</c:v>
                </c:pt>
                <c:pt idx="1983">
                  <c:v>0.518900590651219</c:v>
                </c:pt>
                <c:pt idx="1984">
                  <c:v>0.5184245428184</c:v>
                </c:pt>
                <c:pt idx="1985">
                  <c:v>0.519584567421085</c:v>
                </c:pt>
                <c:pt idx="1986">
                  <c:v>0.521375840380112</c:v>
                </c:pt>
                <c:pt idx="1987">
                  <c:v>0.532674141697704</c:v>
                </c:pt>
                <c:pt idx="1988">
                  <c:v>0.795726631733996</c:v>
                </c:pt>
                <c:pt idx="1989">
                  <c:v>0.516916809313444</c:v>
                </c:pt>
                <c:pt idx="1990">
                  <c:v>0.515480706815296</c:v>
                </c:pt>
                <c:pt idx="1991">
                  <c:v>0.515710523007749</c:v>
                </c:pt>
                <c:pt idx="1992">
                  <c:v>0.516350227832833</c:v>
                </c:pt>
                <c:pt idx="1993">
                  <c:v>0.51814448542894</c:v>
                </c:pt>
                <c:pt idx="1994">
                  <c:v>0.521366389069665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39925395"/>
        <c:axId val="61353157"/>
      </c:lineChart>
      <c:catAx>
        <c:axId val="39925395"/>
        <c:scaling>
          <c:orientation val="minMax"/>
        </c:scaling>
        <c:delete val="1"/>
        <c:axPos val="b"/>
        <c:title>
          <c:tx>
            <c:rich>
              <a:bodyPr rot="0"/>
              <a:lstStyle/>
              <a:p>
                <a:pPr>
                  <a:defRPr b="1" lang="en-US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Time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61353157"/>
        <c:auto val="1"/>
        <c:lblAlgn val="ctr"/>
        <c:lblOffset val="100"/>
        <c:noMultiLvlLbl val="0"/>
      </c:catAx>
      <c:valAx>
        <c:axId val="61353157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title>
          <c:tx>
            <c:rich>
              <a:bodyPr rot="-5400000"/>
              <a:lstStyle/>
              <a:p>
                <a:pPr>
                  <a:defRPr b="1" lang="en-US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Request Service Time (ms)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39925395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n-US" sz="2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200 Sequential 16 KB Buffer Reads of 350 MB File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ineChart>
        <c:grouping val="stacked"/>
        <c:varyColors val="0"/>
        <c:ser>
          <c:idx val="0"/>
          <c:order val="0"/>
          <c:spPr>
            <a:solidFill>
              <a:srgbClr val="2da2bf"/>
            </a:solidFill>
            <a:ln w="28440">
              <a:solidFill>
                <a:srgbClr val="2da2bf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0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  <c:pt idx="12">
                  <c:v>13</c:v>
                </c:pt>
                <c:pt idx="13">
                  <c:v>14</c:v>
                </c:pt>
                <c:pt idx="14">
                  <c:v>15</c:v>
                </c:pt>
                <c:pt idx="15">
                  <c:v>16</c:v>
                </c:pt>
                <c:pt idx="16">
                  <c:v>17</c:v>
                </c:pt>
                <c:pt idx="17">
                  <c:v>18</c:v>
                </c:pt>
                <c:pt idx="18">
                  <c:v>19</c:v>
                </c:pt>
                <c:pt idx="19">
                  <c:v>20</c:v>
                </c:pt>
                <c:pt idx="20">
                  <c:v>21</c:v>
                </c:pt>
                <c:pt idx="21">
                  <c:v>22</c:v>
                </c:pt>
                <c:pt idx="22">
                  <c:v>23</c:v>
                </c:pt>
                <c:pt idx="23">
                  <c:v>24</c:v>
                </c:pt>
                <c:pt idx="24">
                  <c:v>25</c:v>
                </c:pt>
                <c:pt idx="25">
                  <c:v>26</c:v>
                </c:pt>
                <c:pt idx="26">
                  <c:v>27</c:v>
                </c:pt>
                <c:pt idx="27">
                  <c:v>28</c:v>
                </c:pt>
                <c:pt idx="28">
                  <c:v>29</c:v>
                </c:pt>
                <c:pt idx="29">
                  <c:v>30</c:v>
                </c:pt>
                <c:pt idx="30">
                  <c:v>31</c:v>
                </c:pt>
                <c:pt idx="31">
                  <c:v>32</c:v>
                </c:pt>
                <c:pt idx="32">
                  <c:v>33</c:v>
                </c:pt>
                <c:pt idx="33">
                  <c:v>34</c:v>
                </c:pt>
                <c:pt idx="34">
                  <c:v>35</c:v>
                </c:pt>
                <c:pt idx="35">
                  <c:v>36</c:v>
                </c:pt>
                <c:pt idx="36">
                  <c:v>37</c:v>
                </c:pt>
                <c:pt idx="37">
                  <c:v>38</c:v>
                </c:pt>
                <c:pt idx="38">
                  <c:v>39</c:v>
                </c:pt>
                <c:pt idx="39">
                  <c:v>40</c:v>
                </c:pt>
                <c:pt idx="40">
                  <c:v>41</c:v>
                </c:pt>
                <c:pt idx="41">
                  <c:v>42</c:v>
                </c:pt>
                <c:pt idx="42">
                  <c:v>43</c:v>
                </c:pt>
                <c:pt idx="43">
                  <c:v>44</c:v>
                </c:pt>
                <c:pt idx="44">
                  <c:v>45</c:v>
                </c:pt>
                <c:pt idx="45">
                  <c:v>46</c:v>
                </c:pt>
                <c:pt idx="46">
                  <c:v>47</c:v>
                </c:pt>
                <c:pt idx="47">
                  <c:v>48</c:v>
                </c:pt>
                <c:pt idx="48">
                  <c:v>49</c:v>
                </c:pt>
                <c:pt idx="49">
                  <c:v>50</c:v>
                </c:pt>
                <c:pt idx="50">
                  <c:v>51</c:v>
                </c:pt>
                <c:pt idx="51">
                  <c:v>52</c:v>
                </c:pt>
                <c:pt idx="52">
                  <c:v>53</c:v>
                </c:pt>
                <c:pt idx="53">
                  <c:v>54</c:v>
                </c:pt>
                <c:pt idx="54">
                  <c:v>55</c:v>
                </c:pt>
                <c:pt idx="55">
                  <c:v>56</c:v>
                </c:pt>
                <c:pt idx="56">
                  <c:v>57</c:v>
                </c:pt>
                <c:pt idx="57">
                  <c:v>58</c:v>
                </c:pt>
                <c:pt idx="58">
                  <c:v>59</c:v>
                </c:pt>
                <c:pt idx="59">
                  <c:v>60</c:v>
                </c:pt>
                <c:pt idx="60">
                  <c:v>61</c:v>
                </c:pt>
                <c:pt idx="61">
                  <c:v>62</c:v>
                </c:pt>
                <c:pt idx="62">
                  <c:v>63</c:v>
                </c:pt>
                <c:pt idx="63">
                  <c:v>64</c:v>
                </c:pt>
                <c:pt idx="64">
                  <c:v>65</c:v>
                </c:pt>
                <c:pt idx="65">
                  <c:v>66</c:v>
                </c:pt>
                <c:pt idx="66">
                  <c:v>67</c:v>
                </c:pt>
                <c:pt idx="67">
                  <c:v>68</c:v>
                </c:pt>
                <c:pt idx="68">
                  <c:v>69</c:v>
                </c:pt>
                <c:pt idx="69">
                  <c:v>70</c:v>
                </c:pt>
                <c:pt idx="70">
                  <c:v>71</c:v>
                </c:pt>
                <c:pt idx="71">
                  <c:v>72</c:v>
                </c:pt>
                <c:pt idx="72">
                  <c:v>73</c:v>
                </c:pt>
                <c:pt idx="73">
                  <c:v>74</c:v>
                </c:pt>
                <c:pt idx="74">
                  <c:v>75</c:v>
                </c:pt>
                <c:pt idx="75">
                  <c:v>76</c:v>
                </c:pt>
                <c:pt idx="76">
                  <c:v>77</c:v>
                </c:pt>
                <c:pt idx="77">
                  <c:v>78</c:v>
                </c:pt>
                <c:pt idx="78">
                  <c:v>79</c:v>
                </c:pt>
                <c:pt idx="79">
                  <c:v>80</c:v>
                </c:pt>
                <c:pt idx="80">
                  <c:v>81</c:v>
                </c:pt>
                <c:pt idx="81">
                  <c:v>82</c:v>
                </c:pt>
                <c:pt idx="82">
                  <c:v>83</c:v>
                </c:pt>
                <c:pt idx="83">
                  <c:v>84</c:v>
                </c:pt>
                <c:pt idx="84">
                  <c:v>85</c:v>
                </c:pt>
                <c:pt idx="85">
                  <c:v>86</c:v>
                </c:pt>
                <c:pt idx="86">
                  <c:v>87</c:v>
                </c:pt>
                <c:pt idx="87">
                  <c:v>88</c:v>
                </c:pt>
                <c:pt idx="88">
                  <c:v>89</c:v>
                </c:pt>
                <c:pt idx="89">
                  <c:v>90</c:v>
                </c:pt>
                <c:pt idx="90">
                  <c:v>91</c:v>
                </c:pt>
                <c:pt idx="91">
                  <c:v>92</c:v>
                </c:pt>
                <c:pt idx="92">
                  <c:v>93</c:v>
                </c:pt>
                <c:pt idx="93">
                  <c:v>94</c:v>
                </c:pt>
                <c:pt idx="94">
                  <c:v>95</c:v>
                </c:pt>
                <c:pt idx="95">
                  <c:v>96</c:v>
                </c:pt>
                <c:pt idx="96">
                  <c:v>97</c:v>
                </c:pt>
                <c:pt idx="97">
                  <c:v>98</c:v>
                </c:pt>
                <c:pt idx="98">
                  <c:v>99</c:v>
                </c:pt>
                <c:pt idx="99">
                  <c:v>100</c:v>
                </c:pt>
                <c:pt idx="100">
                  <c:v>101</c:v>
                </c:pt>
                <c:pt idx="101">
                  <c:v>102</c:v>
                </c:pt>
                <c:pt idx="102">
                  <c:v>103</c:v>
                </c:pt>
                <c:pt idx="103">
                  <c:v>104</c:v>
                </c:pt>
                <c:pt idx="104">
                  <c:v>105</c:v>
                </c:pt>
                <c:pt idx="105">
                  <c:v>106</c:v>
                </c:pt>
                <c:pt idx="106">
                  <c:v>107</c:v>
                </c:pt>
                <c:pt idx="107">
                  <c:v>108</c:v>
                </c:pt>
                <c:pt idx="108">
                  <c:v>109</c:v>
                </c:pt>
                <c:pt idx="109">
                  <c:v>110</c:v>
                </c:pt>
                <c:pt idx="110">
                  <c:v>111</c:v>
                </c:pt>
                <c:pt idx="111">
                  <c:v>112</c:v>
                </c:pt>
                <c:pt idx="112">
                  <c:v>113</c:v>
                </c:pt>
                <c:pt idx="113">
                  <c:v>114</c:v>
                </c:pt>
                <c:pt idx="114">
                  <c:v>115</c:v>
                </c:pt>
                <c:pt idx="115">
                  <c:v>116</c:v>
                </c:pt>
                <c:pt idx="116">
                  <c:v>117</c:v>
                </c:pt>
                <c:pt idx="117">
                  <c:v>118</c:v>
                </c:pt>
                <c:pt idx="118">
                  <c:v>119</c:v>
                </c:pt>
                <c:pt idx="119">
                  <c:v>120</c:v>
                </c:pt>
                <c:pt idx="120">
                  <c:v>121</c:v>
                </c:pt>
                <c:pt idx="121">
                  <c:v>122</c:v>
                </c:pt>
                <c:pt idx="122">
                  <c:v>123</c:v>
                </c:pt>
                <c:pt idx="123">
                  <c:v>124</c:v>
                </c:pt>
                <c:pt idx="124">
                  <c:v>125</c:v>
                </c:pt>
                <c:pt idx="125">
                  <c:v>126</c:v>
                </c:pt>
                <c:pt idx="126">
                  <c:v>127</c:v>
                </c:pt>
                <c:pt idx="127">
                  <c:v>128</c:v>
                </c:pt>
                <c:pt idx="128">
                  <c:v>129</c:v>
                </c:pt>
                <c:pt idx="129">
                  <c:v>130</c:v>
                </c:pt>
                <c:pt idx="130">
                  <c:v>131</c:v>
                </c:pt>
                <c:pt idx="131">
                  <c:v>132</c:v>
                </c:pt>
                <c:pt idx="132">
                  <c:v>133</c:v>
                </c:pt>
                <c:pt idx="133">
                  <c:v>134</c:v>
                </c:pt>
                <c:pt idx="134">
                  <c:v>135</c:v>
                </c:pt>
                <c:pt idx="135">
                  <c:v>136</c:v>
                </c:pt>
                <c:pt idx="136">
                  <c:v>137</c:v>
                </c:pt>
                <c:pt idx="137">
                  <c:v>138</c:v>
                </c:pt>
                <c:pt idx="138">
                  <c:v>139</c:v>
                </c:pt>
                <c:pt idx="139">
                  <c:v>140</c:v>
                </c:pt>
                <c:pt idx="140">
                  <c:v>141</c:v>
                </c:pt>
                <c:pt idx="141">
                  <c:v>142</c:v>
                </c:pt>
                <c:pt idx="142">
                  <c:v>143</c:v>
                </c:pt>
                <c:pt idx="143">
                  <c:v>144</c:v>
                </c:pt>
                <c:pt idx="144">
                  <c:v>145</c:v>
                </c:pt>
                <c:pt idx="145">
                  <c:v>146</c:v>
                </c:pt>
                <c:pt idx="146">
                  <c:v>147</c:v>
                </c:pt>
                <c:pt idx="147">
                  <c:v>148</c:v>
                </c:pt>
                <c:pt idx="148">
                  <c:v>149</c:v>
                </c:pt>
                <c:pt idx="149">
                  <c:v>150</c:v>
                </c:pt>
                <c:pt idx="150">
                  <c:v>151</c:v>
                </c:pt>
                <c:pt idx="151">
                  <c:v>152</c:v>
                </c:pt>
                <c:pt idx="152">
                  <c:v>153</c:v>
                </c:pt>
                <c:pt idx="153">
                  <c:v>154</c:v>
                </c:pt>
                <c:pt idx="154">
                  <c:v>155</c:v>
                </c:pt>
                <c:pt idx="155">
                  <c:v>156</c:v>
                </c:pt>
                <c:pt idx="156">
                  <c:v>157</c:v>
                </c:pt>
                <c:pt idx="157">
                  <c:v>158</c:v>
                </c:pt>
                <c:pt idx="158">
                  <c:v>159</c:v>
                </c:pt>
                <c:pt idx="159">
                  <c:v>160</c:v>
                </c:pt>
                <c:pt idx="160">
                  <c:v>161</c:v>
                </c:pt>
                <c:pt idx="161">
                  <c:v>162</c:v>
                </c:pt>
                <c:pt idx="162">
                  <c:v>163</c:v>
                </c:pt>
                <c:pt idx="163">
                  <c:v>164</c:v>
                </c:pt>
                <c:pt idx="164">
                  <c:v>165</c:v>
                </c:pt>
                <c:pt idx="165">
                  <c:v>166</c:v>
                </c:pt>
                <c:pt idx="166">
                  <c:v>167</c:v>
                </c:pt>
                <c:pt idx="167">
                  <c:v>168</c:v>
                </c:pt>
                <c:pt idx="168">
                  <c:v>169</c:v>
                </c:pt>
                <c:pt idx="169">
                  <c:v>170</c:v>
                </c:pt>
                <c:pt idx="170">
                  <c:v>171</c:v>
                </c:pt>
                <c:pt idx="171">
                  <c:v>172</c:v>
                </c:pt>
                <c:pt idx="172">
                  <c:v>173</c:v>
                </c:pt>
                <c:pt idx="173">
                  <c:v>174</c:v>
                </c:pt>
                <c:pt idx="174">
                  <c:v>175</c:v>
                </c:pt>
                <c:pt idx="175">
                  <c:v>176</c:v>
                </c:pt>
                <c:pt idx="176">
                  <c:v>177</c:v>
                </c:pt>
                <c:pt idx="177">
                  <c:v>178</c:v>
                </c:pt>
                <c:pt idx="178">
                  <c:v>179</c:v>
                </c:pt>
                <c:pt idx="179">
                  <c:v>180</c:v>
                </c:pt>
                <c:pt idx="180">
                  <c:v>181</c:v>
                </c:pt>
                <c:pt idx="181">
                  <c:v>182</c:v>
                </c:pt>
                <c:pt idx="182">
                  <c:v>183</c:v>
                </c:pt>
                <c:pt idx="183">
                  <c:v>184</c:v>
                </c:pt>
                <c:pt idx="184">
                  <c:v>185</c:v>
                </c:pt>
                <c:pt idx="185">
                  <c:v>186</c:v>
                </c:pt>
                <c:pt idx="186">
                  <c:v>187</c:v>
                </c:pt>
                <c:pt idx="187">
                  <c:v>188</c:v>
                </c:pt>
                <c:pt idx="188">
                  <c:v>189</c:v>
                </c:pt>
                <c:pt idx="189">
                  <c:v>190</c:v>
                </c:pt>
                <c:pt idx="190">
                  <c:v>191</c:v>
                </c:pt>
                <c:pt idx="191">
                  <c:v>192</c:v>
                </c:pt>
                <c:pt idx="192">
                  <c:v>193</c:v>
                </c:pt>
                <c:pt idx="193">
                  <c:v>194</c:v>
                </c:pt>
                <c:pt idx="194">
                  <c:v>195</c:v>
                </c:pt>
                <c:pt idx="195">
                  <c:v>196</c:v>
                </c:pt>
                <c:pt idx="196">
                  <c:v>197</c:v>
                </c:pt>
                <c:pt idx="197">
                  <c:v>198</c:v>
                </c:pt>
                <c:pt idx="198">
                  <c:v>199</c:v>
                </c:pt>
                <c:pt idx="199">
                  <c:v>200</c:v>
                </c:pt>
                <c:pt idx="200">
                  <c:v>20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01"/>
                <c:pt idx="0">
                  <c:v>30.776688018</c:v>
                </c:pt>
                <c:pt idx="1">
                  <c:v>30.004847608</c:v>
                </c:pt>
                <c:pt idx="2">
                  <c:v>30.452620805</c:v>
                </c:pt>
                <c:pt idx="3">
                  <c:v>29.640283864</c:v>
                </c:pt>
                <c:pt idx="4">
                  <c:v>30.427310682</c:v>
                </c:pt>
                <c:pt idx="5">
                  <c:v>19.757050951</c:v>
                </c:pt>
                <c:pt idx="6">
                  <c:v>31.051819438</c:v>
                </c:pt>
                <c:pt idx="7">
                  <c:v>29.682774296</c:v>
                </c:pt>
                <c:pt idx="8">
                  <c:v>30.901370284</c:v>
                </c:pt>
                <c:pt idx="9">
                  <c:v>29.978187298</c:v>
                </c:pt>
                <c:pt idx="10">
                  <c:v>30.665905931</c:v>
                </c:pt>
                <c:pt idx="11">
                  <c:v>29.444568184</c:v>
                </c:pt>
                <c:pt idx="12">
                  <c:v>30.425188668</c:v>
                </c:pt>
                <c:pt idx="13">
                  <c:v>19.564368146</c:v>
                </c:pt>
                <c:pt idx="14">
                  <c:v>31.056946646</c:v>
                </c:pt>
                <c:pt idx="15">
                  <c:v>30.078660589</c:v>
                </c:pt>
                <c:pt idx="16">
                  <c:v>30.735160081</c:v>
                </c:pt>
                <c:pt idx="17">
                  <c:v>29.921929864</c:v>
                </c:pt>
                <c:pt idx="18">
                  <c:v>30.573406315</c:v>
                </c:pt>
                <c:pt idx="19">
                  <c:v>29.701045869</c:v>
                </c:pt>
                <c:pt idx="20">
                  <c:v>30.326255282</c:v>
                </c:pt>
                <c:pt idx="21">
                  <c:v>20.17160738</c:v>
                </c:pt>
                <c:pt idx="22">
                  <c:v>30.44586142</c:v>
                </c:pt>
                <c:pt idx="23">
                  <c:v>30.090387926</c:v>
                </c:pt>
                <c:pt idx="24">
                  <c:v>30.830700173</c:v>
                </c:pt>
                <c:pt idx="25">
                  <c:v>29.509879335</c:v>
                </c:pt>
                <c:pt idx="26">
                  <c:v>30.15118785</c:v>
                </c:pt>
                <c:pt idx="27">
                  <c:v>29.634131869</c:v>
                </c:pt>
                <c:pt idx="28">
                  <c:v>30.409371318</c:v>
                </c:pt>
                <c:pt idx="29">
                  <c:v>20.076869345</c:v>
                </c:pt>
                <c:pt idx="30">
                  <c:v>30.914569538</c:v>
                </c:pt>
                <c:pt idx="31">
                  <c:v>29.933078878</c:v>
                </c:pt>
                <c:pt idx="32">
                  <c:v>30.690655106</c:v>
                </c:pt>
                <c:pt idx="33">
                  <c:v>29.800910965</c:v>
                </c:pt>
                <c:pt idx="34">
                  <c:v>30.550895958</c:v>
                </c:pt>
                <c:pt idx="35">
                  <c:v>29.580215654</c:v>
                </c:pt>
                <c:pt idx="36">
                  <c:v>30.386925395</c:v>
                </c:pt>
                <c:pt idx="37">
                  <c:v>20.332735074</c:v>
                </c:pt>
                <c:pt idx="38">
                  <c:v>30.861294269</c:v>
                </c:pt>
                <c:pt idx="39">
                  <c:v>29.711075318</c:v>
                </c:pt>
                <c:pt idx="40">
                  <c:v>30.836693047</c:v>
                </c:pt>
                <c:pt idx="41">
                  <c:v>29.867331488</c:v>
                </c:pt>
                <c:pt idx="42">
                  <c:v>30.655281439</c:v>
                </c:pt>
                <c:pt idx="43">
                  <c:v>29.598165914</c:v>
                </c:pt>
                <c:pt idx="44">
                  <c:v>30.440609473</c:v>
                </c:pt>
                <c:pt idx="45">
                  <c:v>20.46504909</c:v>
                </c:pt>
                <c:pt idx="46">
                  <c:v>31.052617574</c:v>
                </c:pt>
                <c:pt idx="47">
                  <c:v>30.07218134</c:v>
                </c:pt>
                <c:pt idx="48">
                  <c:v>30.855655548</c:v>
                </c:pt>
                <c:pt idx="49">
                  <c:v>29.852769618</c:v>
                </c:pt>
                <c:pt idx="50">
                  <c:v>30.57403125</c:v>
                </c:pt>
                <c:pt idx="51">
                  <c:v>29.630581652</c:v>
                </c:pt>
                <c:pt idx="52">
                  <c:v>30.353802546</c:v>
                </c:pt>
                <c:pt idx="53">
                  <c:v>9.611025439</c:v>
                </c:pt>
                <c:pt idx="54">
                  <c:v>30.96509833</c:v>
                </c:pt>
                <c:pt idx="55">
                  <c:v>29.974353945</c:v>
                </c:pt>
                <c:pt idx="56">
                  <c:v>30.750234493</c:v>
                </c:pt>
                <c:pt idx="57">
                  <c:v>29.915489463</c:v>
                </c:pt>
                <c:pt idx="58">
                  <c:v>29.55121798</c:v>
                </c:pt>
                <c:pt idx="59">
                  <c:v>30.474838686</c:v>
                </c:pt>
                <c:pt idx="60">
                  <c:v>17.759220847</c:v>
                </c:pt>
                <c:pt idx="61">
                  <c:v>19.339273948</c:v>
                </c:pt>
                <c:pt idx="62">
                  <c:v>30.217087648</c:v>
                </c:pt>
                <c:pt idx="63">
                  <c:v>30.81820738</c:v>
                </c:pt>
                <c:pt idx="64">
                  <c:v>30.022111864</c:v>
                </c:pt>
                <c:pt idx="65">
                  <c:v>30.602179772</c:v>
                </c:pt>
                <c:pt idx="66">
                  <c:v>29.770689123</c:v>
                </c:pt>
                <c:pt idx="67">
                  <c:v>30.024407613</c:v>
                </c:pt>
                <c:pt idx="68">
                  <c:v>29.571972526</c:v>
                </c:pt>
                <c:pt idx="69">
                  <c:v>20.575981919</c:v>
                </c:pt>
                <c:pt idx="70">
                  <c:v>30.252155948</c:v>
                </c:pt>
                <c:pt idx="71">
                  <c:v>30.789871493</c:v>
                </c:pt>
                <c:pt idx="72">
                  <c:v>29.95937323</c:v>
                </c:pt>
                <c:pt idx="73">
                  <c:v>30.546172103</c:v>
                </c:pt>
                <c:pt idx="74">
                  <c:v>29.716162865</c:v>
                </c:pt>
                <c:pt idx="75">
                  <c:v>30.38128236</c:v>
                </c:pt>
                <c:pt idx="76">
                  <c:v>29.647109973</c:v>
                </c:pt>
                <c:pt idx="77">
                  <c:v>20.412092465</c:v>
                </c:pt>
                <c:pt idx="78">
                  <c:v>30.161089243</c:v>
                </c:pt>
                <c:pt idx="79">
                  <c:v>30.701214113</c:v>
                </c:pt>
                <c:pt idx="80">
                  <c:v>29.973524468</c:v>
                </c:pt>
                <c:pt idx="81">
                  <c:v>2.498340439</c:v>
                </c:pt>
                <c:pt idx="82">
                  <c:v>29.324442709</c:v>
                </c:pt>
                <c:pt idx="83">
                  <c:v>30.357850932</c:v>
                </c:pt>
                <c:pt idx="84">
                  <c:v>1.734798626</c:v>
                </c:pt>
                <c:pt idx="85">
                  <c:v>30.974808503</c:v>
                </c:pt>
                <c:pt idx="86">
                  <c:v>30.135914249</c:v>
                </c:pt>
                <c:pt idx="87">
                  <c:v>30.567753306</c:v>
                </c:pt>
                <c:pt idx="88">
                  <c:v>29.960916352</c:v>
                </c:pt>
                <c:pt idx="89">
                  <c:v>30.2920375</c:v>
                </c:pt>
                <c:pt idx="90">
                  <c:v>29.668643994</c:v>
                </c:pt>
                <c:pt idx="91">
                  <c:v>30.384133006</c:v>
                </c:pt>
                <c:pt idx="92">
                  <c:v>19.336083422</c:v>
                </c:pt>
                <c:pt idx="93">
                  <c:v>30.930520999</c:v>
                </c:pt>
                <c:pt idx="94">
                  <c:v>30.128658929</c:v>
                </c:pt>
                <c:pt idx="95">
                  <c:v>30.809411031</c:v>
                </c:pt>
                <c:pt idx="96">
                  <c:v>29.676184088</c:v>
                </c:pt>
                <c:pt idx="97">
                  <c:v>30.57548953</c:v>
                </c:pt>
                <c:pt idx="98">
                  <c:v>29.740331405</c:v>
                </c:pt>
                <c:pt idx="99">
                  <c:v>30.464966637</c:v>
                </c:pt>
                <c:pt idx="100">
                  <c:v>18.790777775</c:v>
                </c:pt>
                <c:pt idx="101">
                  <c:v>31.027925047</c:v>
                </c:pt>
                <c:pt idx="102">
                  <c:v>30.100595555</c:v>
                </c:pt>
                <c:pt idx="103">
                  <c:v>30.81385392</c:v>
                </c:pt>
                <c:pt idx="104">
                  <c:v>29.948518715</c:v>
                </c:pt>
                <c:pt idx="105">
                  <c:v>30.509144965</c:v>
                </c:pt>
                <c:pt idx="106">
                  <c:v>29.723305233</c:v>
                </c:pt>
                <c:pt idx="107">
                  <c:v>30.449432599</c:v>
                </c:pt>
                <c:pt idx="108">
                  <c:v>19.760145734</c:v>
                </c:pt>
                <c:pt idx="109">
                  <c:v>30.706586396</c:v>
                </c:pt>
                <c:pt idx="110">
                  <c:v>29.895416635</c:v>
                </c:pt>
                <c:pt idx="111">
                  <c:v>30.710459207</c:v>
                </c:pt>
                <c:pt idx="112">
                  <c:v>29.864974511</c:v>
                </c:pt>
                <c:pt idx="113">
                  <c:v>30.490605844</c:v>
                </c:pt>
                <c:pt idx="114">
                  <c:v>29.689900622</c:v>
                </c:pt>
                <c:pt idx="115">
                  <c:v>30.466266781</c:v>
                </c:pt>
                <c:pt idx="116">
                  <c:v>20.432314447</c:v>
                </c:pt>
                <c:pt idx="117">
                  <c:v>31.054613096</c:v>
                </c:pt>
                <c:pt idx="118">
                  <c:v>30.106625345</c:v>
                </c:pt>
                <c:pt idx="119">
                  <c:v>30.723045079</c:v>
                </c:pt>
                <c:pt idx="120">
                  <c:v>29.92771719</c:v>
                </c:pt>
                <c:pt idx="121">
                  <c:v>30.584480368</c:v>
                </c:pt>
                <c:pt idx="122">
                  <c:v>29.643976287</c:v>
                </c:pt>
                <c:pt idx="123">
                  <c:v>30.520884234</c:v>
                </c:pt>
                <c:pt idx="124">
                  <c:v>18.689249033</c:v>
                </c:pt>
                <c:pt idx="125">
                  <c:v>30.955577284</c:v>
                </c:pt>
                <c:pt idx="126">
                  <c:v>30.000806856</c:v>
                </c:pt>
                <c:pt idx="127">
                  <c:v>30.778527596</c:v>
                </c:pt>
                <c:pt idx="128">
                  <c:v>29.999574786</c:v>
                </c:pt>
                <c:pt idx="129">
                  <c:v>30.608591172</c:v>
                </c:pt>
                <c:pt idx="130">
                  <c:v>29.734785204</c:v>
                </c:pt>
                <c:pt idx="131">
                  <c:v>30.550242256</c:v>
                </c:pt>
                <c:pt idx="132">
                  <c:v>10.211666879</c:v>
                </c:pt>
                <c:pt idx="133">
                  <c:v>31.061768381</c:v>
                </c:pt>
                <c:pt idx="134">
                  <c:v>30.113206053</c:v>
                </c:pt>
                <c:pt idx="135">
                  <c:v>30.858838444</c:v>
                </c:pt>
                <c:pt idx="136">
                  <c:v>29.937015808</c:v>
                </c:pt>
                <c:pt idx="137">
                  <c:v>30.599407301</c:v>
                </c:pt>
                <c:pt idx="138">
                  <c:v>29.416882563</c:v>
                </c:pt>
                <c:pt idx="139">
                  <c:v>29.589188061</c:v>
                </c:pt>
                <c:pt idx="140">
                  <c:v>20.445214744</c:v>
                </c:pt>
                <c:pt idx="141">
                  <c:v>30.262706894</c:v>
                </c:pt>
                <c:pt idx="142">
                  <c:v>30.87321512</c:v>
                </c:pt>
                <c:pt idx="143">
                  <c:v>30.073534553</c:v>
                </c:pt>
                <c:pt idx="144">
                  <c:v>30.67108617</c:v>
                </c:pt>
                <c:pt idx="145">
                  <c:v>29.881538021</c:v>
                </c:pt>
                <c:pt idx="146">
                  <c:v>30.511337981</c:v>
                </c:pt>
                <c:pt idx="147">
                  <c:v>29.723614626</c:v>
                </c:pt>
                <c:pt idx="148">
                  <c:v>20.275878243</c:v>
                </c:pt>
                <c:pt idx="149">
                  <c:v>30.270522833</c:v>
                </c:pt>
                <c:pt idx="150">
                  <c:v>30.923091172</c:v>
                </c:pt>
                <c:pt idx="151">
                  <c:v>30.122909185</c:v>
                </c:pt>
                <c:pt idx="152">
                  <c:v>30.439694993</c:v>
                </c:pt>
                <c:pt idx="153">
                  <c:v>29.568604191</c:v>
                </c:pt>
                <c:pt idx="154">
                  <c:v>30.409547957</c:v>
                </c:pt>
                <c:pt idx="155">
                  <c:v>29.636871987</c:v>
                </c:pt>
                <c:pt idx="156">
                  <c:v>18.251428972</c:v>
                </c:pt>
                <c:pt idx="157">
                  <c:v>30.240476883</c:v>
                </c:pt>
                <c:pt idx="158">
                  <c:v>30.890247873</c:v>
                </c:pt>
                <c:pt idx="159">
                  <c:v>29.991096309</c:v>
                </c:pt>
                <c:pt idx="160">
                  <c:v>30.396276286</c:v>
                </c:pt>
                <c:pt idx="161">
                  <c:v>29.803653735</c:v>
                </c:pt>
                <c:pt idx="162">
                  <c:v>30.460269316</c:v>
                </c:pt>
                <c:pt idx="163">
                  <c:v>29.635697589</c:v>
                </c:pt>
                <c:pt idx="164">
                  <c:v>12.029975888</c:v>
                </c:pt>
                <c:pt idx="165">
                  <c:v>30.232967438</c:v>
                </c:pt>
                <c:pt idx="166">
                  <c:v>30.927292848</c:v>
                </c:pt>
                <c:pt idx="167">
                  <c:v>29.714954063</c:v>
                </c:pt>
                <c:pt idx="168">
                  <c:v>30.654443764</c:v>
                </c:pt>
                <c:pt idx="169">
                  <c:v>29.855067917</c:v>
                </c:pt>
                <c:pt idx="170">
                  <c:v>30.541063665</c:v>
                </c:pt>
                <c:pt idx="171">
                  <c:v>29.623036774</c:v>
                </c:pt>
                <c:pt idx="172">
                  <c:v>19.775534607</c:v>
                </c:pt>
                <c:pt idx="173">
                  <c:v>30.272623326</c:v>
                </c:pt>
                <c:pt idx="174">
                  <c:v>31.019376176</c:v>
                </c:pt>
                <c:pt idx="175">
                  <c:v>30.02529731</c:v>
                </c:pt>
                <c:pt idx="176">
                  <c:v>30.689995409</c:v>
                </c:pt>
                <c:pt idx="177">
                  <c:v>29.906318105</c:v>
                </c:pt>
                <c:pt idx="178">
                  <c:v>30.532543505</c:v>
                </c:pt>
                <c:pt idx="179">
                  <c:v>29.636228853</c:v>
                </c:pt>
                <c:pt idx="180">
                  <c:v>10.839320985</c:v>
                </c:pt>
                <c:pt idx="181">
                  <c:v>29.995993763</c:v>
                </c:pt>
                <c:pt idx="182">
                  <c:v>31.013128371</c:v>
                </c:pt>
                <c:pt idx="183">
                  <c:v>30.024809405</c:v>
                </c:pt>
                <c:pt idx="184">
                  <c:v>30.70049395</c:v>
                </c:pt>
                <c:pt idx="185">
                  <c:v>29.755685739</c:v>
                </c:pt>
                <c:pt idx="186">
                  <c:v>30.427575954</c:v>
                </c:pt>
                <c:pt idx="187">
                  <c:v>29.635837393</c:v>
                </c:pt>
                <c:pt idx="188">
                  <c:v>20.650598646</c:v>
                </c:pt>
                <c:pt idx="189">
                  <c:v>29.722658342</c:v>
                </c:pt>
                <c:pt idx="190">
                  <c:v>30.82283428</c:v>
                </c:pt>
                <c:pt idx="191">
                  <c:v>30.113956668</c:v>
                </c:pt>
                <c:pt idx="192">
                  <c:v>30.780518207</c:v>
                </c:pt>
                <c:pt idx="193">
                  <c:v>29.827341727</c:v>
                </c:pt>
                <c:pt idx="194">
                  <c:v>30.551014816</c:v>
                </c:pt>
                <c:pt idx="195">
                  <c:v>29.369793503</c:v>
                </c:pt>
                <c:pt idx="196">
                  <c:v>10.440777673</c:v>
                </c:pt>
                <c:pt idx="197">
                  <c:v>30.291803798</c:v>
                </c:pt>
                <c:pt idx="198">
                  <c:v>31.000150783</c:v>
                </c:pt>
                <c:pt idx="199">
                  <c:v>30.028225073</c:v>
                </c:pt>
                <c:pt idx="200">
                  <c:v>30.737325554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6537001"/>
        <c:axId val="56968801"/>
      </c:lineChart>
      <c:catAx>
        <c:axId val="6537001"/>
        <c:scaling>
          <c:orientation val="minMax"/>
        </c:scaling>
        <c:delete val="1"/>
        <c:axPos val="b"/>
        <c:title>
          <c:tx>
            <c:rich>
              <a:bodyPr rot="0"/>
              <a:lstStyle/>
              <a:p>
                <a:pPr>
                  <a:defRPr b="1" lang="en-US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Time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56968801"/>
        <c:auto val="1"/>
        <c:lblAlgn val="ctr"/>
        <c:lblOffset val="100"/>
        <c:noMultiLvlLbl val="0"/>
      </c:catAx>
      <c:valAx>
        <c:axId val="56968801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title>
          <c:tx>
            <c:rich>
              <a:bodyPr rot="-5400000"/>
              <a:lstStyle/>
              <a:p>
                <a:pPr>
                  <a:defRPr b="1" lang="en-US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Read Speed (MB/s)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6537001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n-US" sz="2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13 MB File Sequential Read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852755905511811"/>
          <c:y val="0.091496062992126"/>
          <c:w val="0.807007874015748"/>
          <c:h val="0.790971128608924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Linux</c:v>
                </c:pt>
              </c:strCache>
            </c:strRef>
          </c:tx>
          <c:spPr>
            <a:solidFill>
              <a:srgbClr val="9192a5"/>
            </a:solidFill>
            <a:ln w="28440">
              <a:solidFill>
                <a:srgbClr val="9192a5"/>
              </a:solidFill>
              <a:round/>
            </a:ln>
          </c:spP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1001"/>
              </c:numCache>
            </c:numRef>
          </c:xVal>
          <c:yVal>
            <c:numRef>
              <c:f>0</c:f>
              <c:numCache>
                <c:formatCode>General</c:formatCode>
                <c:ptCount val="1001"/>
              </c:numCache>
            </c:numRef>
          </c:yVal>
          <c:smooth val="0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Average</c:v>
                </c:pt>
              </c:strCache>
            </c:strRef>
          </c:tx>
          <c:spPr>
            <a:solidFill>
              <a:srgbClr val="8d9bba"/>
            </a:solidFill>
            <a:ln w="28440">
              <a:solidFill>
                <a:srgbClr val="8d9bba"/>
              </a:solidFill>
              <a:round/>
            </a:ln>
          </c:spPr>
          <c:marker>
            <c:symbol val="square"/>
            <c:size val="7"/>
            <c:spPr>
              <a:solidFill>
                <a:srgbClr val="8d9bba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1001"/>
              </c:numCache>
            </c:numRef>
          </c:xVal>
          <c:yVal>
            <c:numRef>
              <c:f>2</c:f>
              <c:numCache>
                <c:formatCode>General</c:formatCode>
                <c:ptCount val="1001"/>
              </c:numCache>
            </c:numRef>
          </c:yVal>
          <c:smooth val="0"/>
        </c:ser>
        <c:ser>
          <c:idx val="2"/>
          <c:order val="2"/>
          <c:tx>
            <c:strRef>
              <c:f>label 4</c:f>
              <c:strCache>
                <c:ptCount val="1"/>
                <c:pt idx="0">
                  <c:v>4 K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5</c:f>
              <c:numCache>
                <c:formatCode>General</c:formatCode>
                <c:ptCount val="1001"/>
                <c:pt idx="0">
                  <c:v>4096</c:v>
                </c:pt>
                <c:pt idx="1">
                  <c:v>4096</c:v>
                </c:pt>
                <c:pt idx="2">
                  <c:v>4096</c:v>
                </c:pt>
                <c:pt idx="3">
                  <c:v>4096</c:v>
                </c:pt>
                <c:pt idx="4">
                  <c:v>4096</c:v>
                </c:pt>
                <c:pt idx="5">
                  <c:v>4096</c:v>
                </c:pt>
                <c:pt idx="6">
                  <c:v>4096</c:v>
                </c:pt>
                <c:pt idx="7">
                  <c:v>4096</c:v>
                </c:pt>
                <c:pt idx="8">
                  <c:v>4096</c:v>
                </c:pt>
                <c:pt idx="9">
                  <c:v>4096</c:v>
                </c:pt>
                <c:pt idx="10">
                  <c:v>4096</c:v>
                </c:pt>
                <c:pt idx="11">
                  <c:v>4096</c:v>
                </c:pt>
                <c:pt idx="12">
                  <c:v>4096</c:v>
                </c:pt>
                <c:pt idx="13">
                  <c:v>4096</c:v>
                </c:pt>
                <c:pt idx="14">
                  <c:v>4096</c:v>
                </c:pt>
                <c:pt idx="15">
                  <c:v>4096</c:v>
                </c:pt>
                <c:pt idx="16">
                  <c:v>4096</c:v>
                </c:pt>
                <c:pt idx="17">
                  <c:v>4096</c:v>
                </c:pt>
                <c:pt idx="18">
                  <c:v>4096</c:v>
                </c:pt>
                <c:pt idx="19">
                  <c:v>4096</c:v>
                </c:pt>
                <c:pt idx="20">
                  <c:v>4096</c:v>
                </c:pt>
                <c:pt idx="21">
                  <c:v>4096</c:v>
                </c:pt>
                <c:pt idx="22">
                  <c:v>4096</c:v>
                </c:pt>
                <c:pt idx="23">
                  <c:v>4096</c:v>
                </c:pt>
                <c:pt idx="24">
                  <c:v>4096</c:v>
                </c:pt>
                <c:pt idx="25">
                  <c:v>4096</c:v>
                </c:pt>
                <c:pt idx="26">
                  <c:v>4096</c:v>
                </c:pt>
                <c:pt idx="27">
                  <c:v>4096</c:v>
                </c:pt>
                <c:pt idx="28">
                  <c:v>4096</c:v>
                </c:pt>
                <c:pt idx="29">
                  <c:v>4096</c:v>
                </c:pt>
                <c:pt idx="30">
                  <c:v>4096</c:v>
                </c:pt>
                <c:pt idx="31">
                  <c:v>4096</c:v>
                </c:pt>
                <c:pt idx="32">
                  <c:v>4096</c:v>
                </c:pt>
                <c:pt idx="33">
                  <c:v>4096</c:v>
                </c:pt>
                <c:pt idx="34">
                  <c:v>4096</c:v>
                </c:pt>
                <c:pt idx="35">
                  <c:v>4096</c:v>
                </c:pt>
                <c:pt idx="36">
                  <c:v>4096</c:v>
                </c:pt>
                <c:pt idx="37">
                  <c:v>4096</c:v>
                </c:pt>
                <c:pt idx="38">
                  <c:v>4096</c:v>
                </c:pt>
                <c:pt idx="39">
                  <c:v>4096</c:v>
                </c:pt>
                <c:pt idx="40">
                  <c:v>4096</c:v>
                </c:pt>
                <c:pt idx="41">
                  <c:v>4096</c:v>
                </c:pt>
                <c:pt idx="42">
                  <c:v>4096</c:v>
                </c:pt>
                <c:pt idx="43">
                  <c:v>4096</c:v>
                </c:pt>
                <c:pt idx="44">
                  <c:v>4096</c:v>
                </c:pt>
                <c:pt idx="45">
                  <c:v>4096</c:v>
                </c:pt>
                <c:pt idx="46">
                  <c:v>4096</c:v>
                </c:pt>
                <c:pt idx="47">
                  <c:v>4096</c:v>
                </c:pt>
                <c:pt idx="48">
                  <c:v>4096</c:v>
                </c:pt>
                <c:pt idx="49">
                  <c:v>4096</c:v>
                </c:pt>
                <c:pt idx="50">
                  <c:v>4096</c:v>
                </c:pt>
                <c:pt idx="51">
                  <c:v>4096</c:v>
                </c:pt>
                <c:pt idx="52">
                  <c:v>4096</c:v>
                </c:pt>
                <c:pt idx="53">
                  <c:v>4096</c:v>
                </c:pt>
                <c:pt idx="54">
                  <c:v>4096</c:v>
                </c:pt>
                <c:pt idx="55">
                  <c:v>4096</c:v>
                </c:pt>
                <c:pt idx="56">
                  <c:v>4096</c:v>
                </c:pt>
                <c:pt idx="57">
                  <c:v>4096</c:v>
                </c:pt>
                <c:pt idx="58">
                  <c:v>4096</c:v>
                </c:pt>
                <c:pt idx="59">
                  <c:v>4096</c:v>
                </c:pt>
                <c:pt idx="60">
                  <c:v>4096</c:v>
                </c:pt>
                <c:pt idx="61">
                  <c:v>4096</c:v>
                </c:pt>
                <c:pt idx="62">
                  <c:v>4096</c:v>
                </c:pt>
                <c:pt idx="63">
                  <c:v>4096</c:v>
                </c:pt>
                <c:pt idx="64">
                  <c:v>4096</c:v>
                </c:pt>
                <c:pt idx="65">
                  <c:v>4096</c:v>
                </c:pt>
                <c:pt idx="66">
                  <c:v>4096</c:v>
                </c:pt>
                <c:pt idx="67">
                  <c:v>4096</c:v>
                </c:pt>
                <c:pt idx="68">
                  <c:v>4096</c:v>
                </c:pt>
                <c:pt idx="69">
                  <c:v>4096</c:v>
                </c:pt>
                <c:pt idx="70">
                  <c:v>4096</c:v>
                </c:pt>
                <c:pt idx="71">
                  <c:v>4096</c:v>
                </c:pt>
                <c:pt idx="72">
                  <c:v>4096</c:v>
                </c:pt>
                <c:pt idx="73">
                  <c:v>4096</c:v>
                </c:pt>
                <c:pt idx="74">
                  <c:v>4096</c:v>
                </c:pt>
                <c:pt idx="75">
                  <c:v>4096</c:v>
                </c:pt>
                <c:pt idx="76">
                  <c:v>4096</c:v>
                </c:pt>
                <c:pt idx="77">
                  <c:v>4096</c:v>
                </c:pt>
                <c:pt idx="78">
                  <c:v>4096</c:v>
                </c:pt>
                <c:pt idx="79">
                  <c:v>4096</c:v>
                </c:pt>
                <c:pt idx="80">
                  <c:v>4096</c:v>
                </c:pt>
                <c:pt idx="81">
                  <c:v>4096</c:v>
                </c:pt>
                <c:pt idx="82">
                  <c:v>4096</c:v>
                </c:pt>
                <c:pt idx="83">
                  <c:v>4096</c:v>
                </c:pt>
                <c:pt idx="84">
                  <c:v>4096</c:v>
                </c:pt>
                <c:pt idx="85">
                  <c:v>4096</c:v>
                </c:pt>
                <c:pt idx="86">
                  <c:v>4096</c:v>
                </c:pt>
                <c:pt idx="87">
                  <c:v>4096</c:v>
                </c:pt>
                <c:pt idx="88">
                  <c:v>4096</c:v>
                </c:pt>
                <c:pt idx="89">
                  <c:v>4096</c:v>
                </c:pt>
                <c:pt idx="90">
                  <c:v>4096</c:v>
                </c:pt>
                <c:pt idx="91">
                  <c:v>4096</c:v>
                </c:pt>
                <c:pt idx="92">
                  <c:v>4096</c:v>
                </c:pt>
                <c:pt idx="93">
                  <c:v>4096</c:v>
                </c:pt>
                <c:pt idx="94">
                  <c:v>4096</c:v>
                </c:pt>
                <c:pt idx="95">
                  <c:v>4096</c:v>
                </c:pt>
                <c:pt idx="96">
                  <c:v>4096</c:v>
                </c:pt>
                <c:pt idx="97">
                  <c:v>4096</c:v>
                </c:pt>
                <c:pt idx="98">
                  <c:v>4096</c:v>
                </c:pt>
                <c:pt idx="99">
                  <c:v>4096</c:v>
                </c:pt>
                <c:pt idx="100">
                  <c:v>4096</c:v>
                </c:pt>
                <c:pt idx="101">
                  <c:v>4096</c:v>
                </c:pt>
                <c:pt idx="102">
                  <c:v>4096</c:v>
                </c:pt>
                <c:pt idx="103">
                  <c:v>4096</c:v>
                </c:pt>
                <c:pt idx="104">
                  <c:v>4096</c:v>
                </c:pt>
                <c:pt idx="105">
                  <c:v>4096</c:v>
                </c:pt>
                <c:pt idx="106">
                  <c:v>4096</c:v>
                </c:pt>
                <c:pt idx="107">
                  <c:v>4096</c:v>
                </c:pt>
                <c:pt idx="108">
                  <c:v>4096</c:v>
                </c:pt>
                <c:pt idx="109">
                  <c:v>4096</c:v>
                </c:pt>
                <c:pt idx="110">
                  <c:v>4096</c:v>
                </c:pt>
                <c:pt idx="111">
                  <c:v>4096</c:v>
                </c:pt>
                <c:pt idx="112">
                  <c:v>4096</c:v>
                </c:pt>
                <c:pt idx="113">
                  <c:v>4096</c:v>
                </c:pt>
                <c:pt idx="114">
                  <c:v>4096</c:v>
                </c:pt>
                <c:pt idx="115">
                  <c:v>4096</c:v>
                </c:pt>
                <c:pt idx="116">
                  <c:v>4096</c:v>
                </c:pt>
                <c:pt idx="117">
                  <c:v>4096</c:v>
                </c:pt>
                <c:pt idx="118">
                  <c:v>4096</c:v>
                </c:pt>
                <c:pt idx="119">
                  <c:v>4096</c:v>
                </c:pt>
                <c:pt idx="120">
                  <c:v>4096</c:v>
                </c:pt>
                <c:pt idx="121">
                  <c:v>4096</c:v>
                </c:pt>
                <c:pt idx="122">
                  <c:v>4096</c:v>
                </c:pt>
                <c:pt idx="123">
                  <c:v>4096</c:v>
                </c:pt>
                <c:pt idx="124">
                  <c:v>4096</c:v>
                </c:pt>
                <c:pt idx="125">
                  <c:v>4096</c:v>
                </c:pt>
                <c:pt idx="126">
                  <c:v>4096</c:v>
                </c:pt>
                <c:pt idx="127">
                  <c:v>4096</c:v>
                </c:pt>
                <c:pt idx="128">
                  <c:v>4096</c:v>
                </c:pt>
                <c:pt idx="129">
                  <c:v>4096</c:v>
                </c:pt>
                <c:pt idx="130">
                  <c:v>4096</c:v>
                </c:pt>
                <c:pt idx="131">
                  <c:v>4096</c:v>
                </c:pt>
                <c:pt idx="132">
                  <c:v>4096</c:v>
                </c:pt>
                <c:pt idx="133">
                  <c:v>4096</c:v>
                </c:pt>
                <c:pt idx="134">
                  <c:v>4096</c:v>
                </c:pt>
                <c:pt idx="135">
                  <c:v>4096</c:v>
                </c:pt>
                <c:pt idx="136">
                  <c:v>4096</c:v>
                </c:pt>
                <c:pt idx="137">
                  <c:v>4096</c:v>
                </c:pt>
                <c:pt idx="138">
                  <c:v>4096</c:v>
                </c:pt>
                <c:pt idx="139">
                  <c:v>4096</c:v>
                </c:pt>
                <c:pt idx="140">
                  <c:v>4096</c:v>
                </c:pt>
                <c:pt idx="141">
                  <c:v>4096</c:v>
                </c:pt>
                <c:pt idx="142">
                  <c:v>4096</c:v>
                </c:pt>
                <c:pt idx="143">
                  <c:v>4096</c:v>
                </c:pt>
                <c:pt idx="144">
                  <c:v>4096</c:v>
                </c:pt>
                <c:pt idx="145">
                  <c:v>4096</c:v>
                </c:pt>
                <c:pt idx="146">
                  <c:v>4096</c:v>
                </c:pt>
                <c:pt idx="147">
                  <c:v>4096</c:v>
                </c:pt>
                <c:pt idx="148">
                  <c:v>4096</c:v>
                </c:pt>
                <c:pt idx="149">
                  <c:v>4096</c:v>
                </c:pt>
                <c:pt idx="150">
                  <c:v>4096</c:v>
                </c:pt>
                <c:pt idx="151">
                  <c:v>4096</c:v>
                </c:pt>
                <c:pt idx="152">
                  <c:v>4096</c:v>
                </c:pt>
                <c:pt idx="153">
                  <c:v>4096</c:v>
                </c:pt>
                <c:pt idx="154">
                  <c:v>4096</c:v>
                </c:pt>
                <c:pt idx="155">
                  <c:v>4096</c:v>
                </c:pt>
                <c:pt idx="156">
                  <c:v>4096</c:v>
                </c:pt>
                <c:pt idx="157">
                  <c:v>4096</c:v>
                </c:pt>
                <c:pt idx="158">
                  <c:v>4096</c:v>
                </c:pt>
                <c:pt idx="159">
                  <c:v>4096</c:v>
                </c:pt>
                <c:pt idx="160">
                  <c:v>4096</c:v>
                </c:pt>
                <c:pt idx="161">
                  <c:v>4096</c:v>
                </c:pt>
                <c:pt idx="162">
                  <c:v>4096</c:v>
                </c:pt>
                <c:pt idx="163">
                  <c:v>4096</c:v>
                </c:pt>
                <c:pt idx="164">
                  <c:v>4096</c:v>
                </c:pt>
                <c:pt idx="165">
                  <c:v>4096</c:v>
                </c:pt>
                <c:pt idx="166">
                  <c:v>4096</c:v>
                </c:pt>
                <c:pt idx="167">
                  <c:v>4096</c:v>
                </c:pt>
                <c:pt idx="168">
                  <c:v>4096</c:v>
                </c:pt>
                <c:pt idx="169">
                  <c:v>4096</c:v>
                </c:pt>
                <c:pt idx="170">
                  <c:v>4096</c:v>
                </c:pt>
                <c:pt idx="171">
                  <c:v>4096</c:v>
                </c:pt>
                <c:pt idx="172">
                  <c:v>4096</c:v>
                </c:pt>
                <c:pt idx="173">
                  <c:v>4096</c:v>
                </c:pt>
                <c:pt idx="174">
                  <c:v>4096</c:v>
                </c:pt>
                <c:pt idx="175">
                  <c:v>4096</c:v>
                </c:pt>
                <c:pt idx="176">
                  <c:v>4096</c:v>
                </c:pt>
                <c:pt idx="177">
                  <c:v>4096</c:v>
                </c:pt>
                <c:pt idx="178">
                  <c:v>4096</c:v>
                </c:pt>
                <c:pt idx="179">
                  <c:v>4096</c:v>
                </c:pt>
                <c:pt idx="180">
                  <c:v>4096</c:v>
                </c:pt>
                <c:pt idx="181">
                  <c:v>4096</c:v>
                </c:pt>
                <c:pt idx="182">
                  <c:v>4096</c:v>
                </c:pt>
                <c:pt idx="183">
                  <c:v>4096</c:v>
                </c:pt>
                <c:pt idx="184">
                  <c:v>4096</c:v>
                </c:pt>
                <c:pt idx="185">
                  <c:v>4096</c:v>
                </c:pt>
                <c:pt idx="186">
                  <c:v>4096</c:v>
                </c:pt>
                <c:pt idx="187">
                  <c:v>4096</c:v>
                </c:pt>
                <c:pt idx="188">
                  <c:v>4096</c:v>
                </c:pt>
                <c:pt idx="189">
                  <c:v>4096</c:v>
                </c:pt>
                <c:pt idx="190">
                  <c:v>4096</c:v>
                </c:pt>
                <c:pt idx="191">
                  <c:v>4096</c:v>
                </c:pt>
                <c:pt idx="192">
                  <c:v>4096</c:v>
                </c:pt>
                <c:pt idx="193">
                  <c:v>4096</c:v>
                </c:pt>
                <c:pt idx="194">
                  <c:v>4096</c:v>
                </c:pt>
                <c:pt idx="195">
                  <c:v>4096</c:v>
                </c:pt>
                <c:pt idx="196">
                  <c:v>4096</c:v>
                </c:pt>
                <c:pt idx="197">
                  <c:v>4096</c:v>
                </c:pt>
                <c:pt idx="198">
                  <c:v>4096</c:v>
                </c:pt>
                <c:pt idx="199">
                  <c:v>4096</c:v>
                </c:pt>
                <c:pt idx="200">
                  <c:v>4096</c:v>
                </c:pt>
                <c:pt idx="201">
                  <c:v>4096</c:v>
                </c:pt>
                <c:pt idx="202">
                  <c:v>4096</c:v>
                </c:pt>
                <c:pt idx="203">
                  <c:v>4096</c:v>
                </c:pt>
                <c:pt idx="204">
                  <c:v>4096</c:v>
                </c:pt>
                <c:pt idx="205">
                  <c:v>4096</c:v>
                </c:pt>
                <c:pt idx="206">
                  <c:v>4096</c:v>
                </c:pt>
                <c:pt idx="207">
                  <c:v>4096</c:v>
                </c:pt>
                <c:pt idx="208">
                  <c:v>4096</c:v>
                </c:pt>
                <c:pt idx="209">
                  <c:v>4096</c:v>
                </c:pt>
                <c:pt idx="210">
                  <c:v>4096</c:v>
                </c:pt>
                <c:pt idx="211">
                  <c:v>4096</c:v>
                </c:pt>
                <c:pt idx="212">
                  <c:v>4096</c:v>
                </c:pt>
                <c:pt idx="213">
                  <c:v>4096</c:v>
                </c:pt>
                <c:pt idx="214">
                  <c:v>4096</c:v>
                </c:pt>
                <c:pt idx="215">
                  <c:v>4096</c:v>
                </c:pt>
                <c:pt idx="216">
                  <c:v>4096</c:v>
                </c:pt>
                <c:pt idx="217">
                  <c:v>4096</c:v>
                </c:pt>
                <c:pt idx="218">
                  <c:v>4096</c:v>
                </c:pt>
                <c:pt idx="219">
                  <c:v>4096</c:v>
                </c:pt>
                <c:pt idx="220">
                  <c:v>4096</c:v>
                </c:pt>
                <c:pt idx="221">
                  <c:v>4096</c:v>
                </c:pt>
                <c:pt idx="222">
                  <c:v>4096</c:v>
                </c:pt>
                <c:pt idx="223">
                  <c:v>4096</c:v>
                </c:pt>
                <c:pt idx="224">
                  <c:v>4096</c:v>
                </c:pt>
                <c:pt idx="225">
                  <c:v>4096</c:v>
                </c:pt>
                <c:pt idx="226">
                  <c:v>4096</c:v>
                </c:pt>
                <c:pt idx="227">
                  <c:v>4096</c:v>
                </c:pt>
                <c:pt idx="228">
                  <c:v>4096</c:v>
                </c:pt>
                <c:pt idx="229">
                  <c:v>4096</c:v>
                </c:pt>
                <c:pt idx="230">
                  <c:v>4096</c:v>
                </c:pt>
                <c:pt idx="231">
                  <c:v>4096</c:v>
                </c:pt>
                <c:pt idx="232">
                  <c:v>4096</c:v>
                </c:pt>
                <c:pt idx="233">
                  <c:v>4096</c:v>
                </c:pt>
                <c:pt idx="234">
                  <c:v>4096</c:v>
                </c:pt>
                <c:pt idx="235">
                  <c:v>4096</c:v>
                </c:pt>
                <c:pt idx="236">
                  <c:v>4096</c:v>
                </c:pt>
                <c:pt idx="237">
                  <c:v>4096</c:v>
                </c:pt>
                <c:pt idx="238">
                  <c:v>4096</c:v>
                </c:pt>
                <c:pt idx="239">
                  <c:v>4096</c:v>
                </c:pt>
                <c:pt idx="240">
                  <c:v>4096</c:v>
                </c:pt>
                <c:pt idx="241">
                  <c:v>4096</c:v>
                </c:pt>
                <c:pt idx="242">
                  <c:v>4096</c:v>
                </c:pt>
                <c:pt idx="243">
                  <c:v>4096</c:v>
                </c:pt>
                <c:pt idx="244">
                  <c:v>4096</c:v>
                </c:pt>
                <c:pt idx="245">
                  <c:v>4096</c:v>
                </c:pt>
                <c:pt idx="246">
                  <c:v>4096</c:v>
                </c:pt>
                <c:pt idx="247">
                  <c:v>4096</c:v>
                </c:pt>
                <c:pt idx="248">
                  <c:v>4096</c:v>
                </c:pt>
                <c:pt idx="249">
                  <c:v>4096</c:v>
                </c:pt>
                <c:pt idx="250">
                  <c:v>4096</c:v>
                </c:pt>
                <c:pt idx="251">
                  <c:v>4096</c:v>
                </c:pt>
                <c:pt idx="252">
                  <c:v>4096</c:v>
                </c:pt>
                <c:pt idx="253">
                  <c:v>4096</c:v>
                </c:pt>
                <c:pt idx="254">
                  <c:v>4096</c:v>
                </c:pt>
                <c:pt idx="255">
                  <c:v>4096</c:v>
                </c:pt>
                <c:pt idx="256">
                  <c:v>4096</c:v>
                </c:pt>
                <c:pt idx="257">
                  <c:v>4096</c:v>
                </c:pt>
                <c:pt idx="258">
                  <c:v>4096</c:v>
                </c:pt>
                <c:pt idx="259">
                  <c:v>4096</c:v>
                </c:pt>
                <c:pt idx="260">
                  <c:v>4096</c:v>
                </c:pt>
                <c:pt idx="261">
                  <c:v>4096</c:v>
                </c:pt>
                <c:pt idx="262">
                  <c:v>4096</c:v>
                </c:pt>
                <c:pt idx="263">
                  <c:v>4096</c:v>
                </c:pt>
                <c:pt idx="264">
                  <c:v>4096</c:v>
                </c:pt>
                <c:pt idx="265">
                  <c:v>4096</c:v>
                </c:pt>
                <c:pt idx="266">
                  <c:v>4096</c:v>
                </c:pt>
                <c:pt idx="267">
                  <c:v>4096</c:v>
                </c:pt>
                <c:pt idx="268">
                  <c:v>4096</c:v>
                </c:pt>
                <c:pt idx="269">
                  <c:v>4096</c:v>
                </c:pt>
                <c:pt idx="270">
                  <c:v>4096</c:v>
                </c:pt>
                <c:pt idx="271">
                  <c:v>4096</c:v>
                </c:pt>
                <c:pt idx="272">
                  <c:v>4096</c:v>
                </c:pt>
                <c:pt idx="273">
                  <c:v>4096</c:v>
                </c:pt>
                <c:pt idx="274">
                  <c:v>4096</c:v>
                </c:pt>
                <c:pt idx="275">
                  <c:v>4096</c:v>
                </c:pt>
                <c:pt idx="276">
                  <c:v>4096</c:v>
                </c:pt>
                <c:pt idx="277">
                  <c:v>4096</c:v>
                </c:pt>
                <c:pt idx="278">
                  <c:v>4096</c:v>
                </c:pt>
                <c:pt idx="279">
                  <c:v>4096</c:v>
                </c:pt>
                <c:pt idx="280">
                  <c:v>4096</c:v>
                </c:pt>
                <c:pt idx="281">
                  <c:v>4096</c:v>
                </c:pt>
                <c:pt idx="282">
                  <c:v>4096</c:v>
                </c:pt>
                <c:pt idx="283">
                  <c:v>4096</c:v>
                </c:pt>
                <c:pt idx="284">
                  <c:v>4096</c:v>
                </c:pt>
                <c:pt idx="285">
                  <c:v>4096</c:v>
                </c:pt>
                <c:pt idx="286">
                  <c:v>4096</c:v>
                </c:pt>
                <c:pt idx="287">
                  <c:v>4096</c:v>
                </c:pt>
                <c:pt idx="288">
                  <c:v>4096</c:v>
                </c:pt>
                <c:pt idx="289">
                  <c:v>4096</c:v>
                </c:pt>
                <c:pt idx="290">
                  <c:v>4096</c:v>
                </c:pt>
                <c:pt idx="291">
                  <c:v>4096</c:v>
                </c:pt>
                <c:pt idx="292">
                  <c:v>4096</c:v>
                </c:pt>
                <c:pt idx="293">
                  <c:v>4096</c:v>
                </c:pt>
                <c:pt idx="294">
                  <c:v>4096</c:v>
                </c:pt>
                <c:pt idx="295">
                  <c:v>4096</c:v>
                </c:pt>
                <c:pt idx="296">
                  <c:v>4096</c:v>
                </c:pt>
                <c:pt idx="297">
                  <c:v>4096</c:v>
                </c:pt>
                <c:pt idx="298">
                  <c:v>4096</c:v>
                </c:pt>
                <c:pt idx="299">
                  <c:v>4096</c:v>
                </c:pt>
                <c:pt idx="300">
                  <c:v>4096</c:v>
                </c:pt>
                <c:pt idx="301">
                  <c:v>4096</c:v>
                </c:pt>
                <c:pt idx="302">
                  <c:v>4096</c:v>
                </c:pt>
                <c:pt idx="303">
                  <c:v>4096</c:v>
                </c:pt>
                <c:pt idx="304">
                  <c:v>4096</c:v>
                </c:pt>
                <c:pt idx="305">
                  <c:v>4096</c:v>
                </c:pt>
                <c:pt idx="306">
                  <c:v>4096</c:v>
                </c:pt>
                <c:pt idx="307">
                  <c:v>4096</c:v>
                </c:pt>
                <c:pt idx="308">
                  <c:v>4096</c:v>
                </c:pt>
                <c:pt idx="309">
                  <c:v>4096</c:v>
                </c:pt>
                <c:pt idx="310">
                  <c:v>4096</c:v>
                </c:pt>
                <c:pt idx="311">
                  <c:v>4096</c:v>
                </c:pt>
                <c:pt idx="312">
                  <c:v>4096</c:v>
                </c:pt>
                <c:pt idx="313">
                  <c:v>4096</c:v>
                </c:pt>
                <c:pt idx="314">
                  <c:v>4096</c:v>
                </c:pt>
                <c:pt idx="315">
                  <c:v>4096</c:v>
                </c:pt>
                <c:pt idx="316">
                  <c:v>4096</c:v>
                </c:pt>
                <c:pt idx="317">
                  <c:v>4096</c:v>
                </c:pt>
                <c:pt idx="318">
                  <c:v>4096</c:v>
                </c:pt>
                <c:pt idx="319">
                  <c:v>4096</c:v>
                </c:pt>
                <c:pt idx="320">
                  <c:v>4096</c:v>
                </c:pt>
                <c:pt idx="321">
                  <c:v>4096</c:v>
                </c:pt>
                <c:pt idx="322">
                  <c:v>4096</c:v>
                </c:pt>
                <c:pt idx="323">
                  <c:v>4096</c:v>
                </c:pt>
                <c:pt idx="324">
                  <c:v>4096</c:v>
                </c:pt>
                <c:pt idx="325">
                  <c:v>4096</c:v>
                </c:pt>
                <c:pt idx="326">
                  <c:v>4096</c:v>
                </c:pt>
                <c:pt idx="327">
                  <c:v>4096</c:v>
                </c:pt>
                <c:pt idx="328">
                  <c:v>4096</c:v>
                </c:pt>
                <c:pt idx="329">
                  <c:v>4096</c:v>
                </c:pt>
                <c:pt idx="330">
                  <c:v>4096</c:v>
                </c:pt>
                <c:pt idx="331">
                  <c:v>4096</c:v>
                </c:pt>
                <c:pt idx="332">
                  <c:v>4096</c:v>
                </c:pt>
                <c:pt idx="333">
                  <c:v>4096</c:v>
                </c:pt>
                <c:pt idx="334">
                  <c:v>4096</c:v>
                </c:pt>
                <c:pt idx="335">
                  <c:v>4096</c:v>
                </c:pt>
                <c:pt idx="336">
                  <c:v>4096</c:v>
                </c:pt>
                <c:pt idx="337">
                  <c:v>4096</c:v>
                </c:pt>
                <c:pt idx="338">
                  <c:v>4096</c:v>
                </c:pt>
                <c:pt idx="339">
                  <c:v>4096</c:v>
                </c:pt>
                <c:pt idx="340">
                  <c:v>4096</c:v>
                </c:pt>
                <c:pt idx="341">
                  <c:v>4096</c:v>
                </c:pt>
                <c:pt idx="342">
                  <c:v>4096</c:v>
                </c:pt>
                <c:pt idx="343">
                  <c:v>4096</c:v>
                </c:pt>
                <c:pt idx="344">
                  <c:v>4096</c:v>
                </c:pt>
                <c:pt idx="345">
                  <c:v>4096</c:v>
                </c:pt>
                <c:pt idx="346">
                  <c:v>4096</c:v>
                </c:pt>
                <c:pt idx="347">
                  <c:v>4096</c:v>
                </c:pt>
                <c:pt idx="348">
                  <c:v>4096</c:v>
                </c:pt>
                <c:pt idx="349">
                  <c:v>4096</c:v>
                </c:pt>
                <c:pt idx="350">
                  <c:v>4096</c:v>
                </c:pt>
                <c:pt idx="351">
                  <c:v>4096</c:v>
                </c:pt>
                <c:pt idx="352">
                  <c:v>4096</c:v>
                </c:pt>
                <c:pt idx="353">
                  <c:v>4096</c:v>
                </c:pt>
                <c:pt idx="354">
                  <c:v>4096</c:v>
                </c:pt>
                <c:pt idx="355">
                  <c:v>4096</c:v>
                </c:pt>
                <c:pt idx="356">
                  <c:v>4096</c:v>
                </c:pt>
                <c:pt idx="357">
                  <c:v>4096</c:v>
                </c:pt>
                <c:pt idx="358">
                  <c:v>4096</c:v>
                </c:pt>
                <c:pt idx="359">
                  <c:v>4096</c:v>
                </c:pt>
                <c:pt idx="360">
                  <c:v>4096</c:v>
                </c:pt>
                <c:pt idx="361">
                  <c:v>4096</c:v>
                </c:pt>
                <c:pt idx="362">
                  <c:v>4096</c:v>
                </c:pt>
                <c:pt idx="363">
                  <c:v>4096</c:v>
                </c:pt>
                <c:pt idx="364">
                  <c:v>4096</c:v>
                </c:pt>
                <c:pt idx="365">
                  <c:v>4096</c:v>
                </c:pt>
                <c:pt idx="366">
                  <c:v>4096</c:v>
                </c:pt>
                <c:pt idx="367">
                  <c:v>4096</c:v>
                </c:pt>
                <c:pt idx="368">
                  <c:v>4096</c:v>
                </c:pt>
                <c:pt idx="369">
                  <c:v>4096</c:v>
                </c:pt>
                <c:pt idx="370">
                  <c:v>4096</c:v>
                </c:pt>
                <c:pt idx="371">
                  <c:v>4096</c:v>
                </c:pt>
                <c:pt idx="372">
                  <c:v>4096</c:v>
                </c:pt>
                <c:pt idx="373">
                  <c:v>4096</c:v>
                </c:pt>
                <c:pt idx="374">
                  <c:v>4096</c:v>
                </c:pt>
                <c:pt idx="375">
                  <c:v>4096</c:v>
                </c:pt>
                <c:pt idx="376">
                  <c:v>4096</c:v>
                </c:pt>
                <c:pt idx="377">
                  <c:v>4096</c:v>
                </c:pt>
                <c:pt idx="378">
                  <c:v>4096</c:v>
                </c:pt>
                <c:pt idx="379">
                  <c:v>4096</c:v>
                </c:pt>
                <c:pt idx="380">
                  <c:v>4096</c:v>
                </c:pt>
                <c:pt idx="381">
                  <c:v>4096</c:v>
                </c:pt>
                <c:pt idx="382">
                  <c:v>4096</c:v>
                </c:pt>
                <c:pt idx="383">
                  <c:v>4096</c:v>
                </c:pt>
                <c:pt idx="384">
                  <c:v>4096</c:v>
                </c:pt>
                <c:pt idx="385">
                  <c:v>4096</c:v>
                </c:pt>
                <c:pt idx="386">
                  <c:v>4096</c:v>
                </c:pt>
                <c:pt idx="387">
                  <c:v>4096</c:v>
                </c:pt>
                <c:pt idx="388">
                  <c:v>4096</c:v>
                </c:pt>
                <c:pt idx="389">
                  <c:v>4096</c:v>
                </c:pt>
                <c:pt idx="390">
                  <c:v>4096</c:v>
                </c:pt>
                <c:pt idx="391">
                  <c:v>4096</c:v>
                </c:pt>
                <c:pt idx="392">
                  <c:v>4096</c:v>
                </c:pt>
                <c:pt idx="393">
                  <c:v>4096</c:v>
                </c:pt>
                <c:pt idx="394">
                  <c:v>4096</c:v>
                </c:pt>
                <c:pt idx="395">
                  <c:v>4096</c:v>
                </c:pt>
                <c:pt idx="396">
                  <c:v>4096</c:v>
                </c:pt>
                <c:pt idx="397">
                  <c:v>4096</c:v>
                </c:pt>
                <c:pt idx="398">
                  <c:v>4096</c:v>
                </c:pt>
                <c:pt idx="399">
                  <c:v>4096</c:v>
                </c:pt>
                <c:pt idx="400">
                  <c:v>4096</c:v>
                </c:pt>
                <c:pt idx="401">
                  <c:v>4096</c:v>
                </c:pt>
                <c:pt idx="402">
                  <c:v>4096</c:v>
                </c:pt>
                <c:pt idx="403">
                  <c:v>4096</c:v>
                </c:pt>
                <c:pt idx="404">
                  <c:v>4096</c:v>
                </c:pt>
                <c:pt idx="405">
                  <c:v>4096</c:v>
                </c:pt>
                <c:pt idx="406">
                  <c:v>4096</c:v>
                </c:pt>
                <c:pt idx="407">
                  <c:v>4096</c:v>
                </c:pt>
                <c:pt idx="408">
                  <c:v>4096</c:v>
                </c:pt>
                <c:pt idx="409">
                  <c:v>4096</c:v>
                </c:pt>
                <c:pt idx="410">
                  <c:v>4096</c:v>
                </c:pt>
                <c:pt idx="411">
                  <c:v>4096</c:v>
                </c:pt>
                <c:pt idx="412">
                  <c:v>4096</c:v>
                </c:pt>
                <c:pt idx="413">
                  <c:v>4096</c:v>
                </c:pt>
                <c:pt idx="414">
                  <c:v>4096</c:v>
                </c:pt>
                <c:pt idx="415">
                  <c:v>4096</c:v>
                </c:pt>
                <c:pt idx="416">
                  <c:v>4096</c:v>
                </c:pt>
                <c:pt idx="417">
                  <c:v>4096</c:v>
                </c:pt>
                <c:pt idx="418">
                  <c:v>4096</c:v>
                </c:pt>
                <c:pt idx="419">
                  <c:v>4096</c:v>
                </c:pt>
                <c:pt idx="420">
                  <c:v>4096</c:v>
                </c:pt>
                <c:pt idx="421">
                  <c:v>4096</c:v>
                </c:pt>
                <c:pt idx="422">
                  <c:v>4096</c:v>
                </c:pt>
                <c:pt idx="423">
                  <c:v>4096</c:v>
                </c:pt>
                <c:pt idx="424">
                  <c:v>4096</c:v>
                </c:pt>
                <c:pt idx="425">
                  <c:v>4096</c:v>
                </c:pt>
                <c:pt idx="426">
                  <c:v>4096</c:v>
                </c:pt>
                <c:pt idx="427">
                  <c:v>4096</c:v>
                </c:pt>
                <c:pt idx="428">
                  <c:v>4096</c:v>
                </c:pt>
                <c:pt idx="429">
                  <c:v>4096</c:v>
                </c:pt>
                <c:pt idx="430">
                  <c:v>4096</c:v>
                </c:pt>
                <c:pt idx="431">
                  <c:v>4096</c:v>
                </c:pt>
                <c:pt idx="432">
                  <c:v>4096</c:v>
                </c:pt>
                <c:pt idx="433">
                  <c:v>4096</c:v>
                </c:pt>
                <c:pt idx="434">
                  <c:v>4096</c:v>
                </c:pt>
                <c:pt idx="435">
                  <c:v>4096</c:v>
                </c:pt>
                <c:pt idx="436">
                  <c:v>4096</c:v>
                </c:pt>
                <c:pt idx="437">
                  <c:v>4096</c:v>
                </c:pt>
                <c:pt idx="438">
                  <c:v>4096</c:v>
                </c:pt>
                <c:pt idx="439">
                  <c:v>4096</c:v>
                </c:pt>
                <c:pt idx="440">
                  <c:v>4096</c:v>
                </c:pt>
                <c:pt idx="441">
                  <c:v>4096</c:v>
                </c:pt>
                <c:pt idx="442">
                  <c:v>4096</c:v>
                </c:pt>
                <c:pt idx="443">
                  <c:v>4096</c:v>
                </c:pt>
                <c:pt idx="444">
                  <c:v>4096</c:v>
                </c:pt>
                <c:pt idx="445">
                  <c:v>4096</c:v>
                </c:pt>
                <c:pt idx="446">
                  <c:v>4096</c:v>
                </c:pt>
                <c:pt idx="447">
                  <c:v>4096</c:v>
                </c:pt>
                <c:pt idx="448">
                  <c:v>4096</c:v>
                </c:pt>
                <c:pt idx="449">
                  <c:v>4096</c:v>
                </c:pt>
                <c:pt idx="450">
                  <c:v>4096</c:v>
                </c:pt>
                <c:pt idx="451">
                  <c:v>4096</c:v>
                </c:pt>
                <c:pt idx="452">
                  <c:v>4096</c:v>
                </c:pt>
                <c:pt idx="453">
                  <c:v>4096</c:v>
                </c:pt>
                <c:pt idx="454">
                  <c:v>4096</c:v>
                </c:pt>
                <c:pt idx="455">
                  <c:v>4096</c:v>
                </c:pt>
                <c:pt idx="456">
                  <c:v>4096</c:v>
                </c:pt>
                <c:pt idx="457">
                  <c:v>4096</c:v>
                </c:pt>
                <c:pt idx="458">
                  <c:v>4096</c:v>
                </c:pt>
                <c:pt idx="459">
                  <c:v>4096</c:v>
                </c:pt>
                <c:pt idx="460">
                  <c:v>4096</c:v>
                </c:pt>
                <c:pt idx="461">
                  <c:v>4096</c:v>
                </c:pt>
                <c:pt idx="462">
                  <c:v>4096</c:v>
                </c:pt>
                <c:pt idx="463">
                  <c:v>4096</c:v>
                </c:pt>
                <c:pt idx="464">
                  <c:v>4096</c:v>
                </c:pt>
                <c:pt idx="465">
                  <c:v>4096</c:v>
                </c:pt>
                <c:pt idx="466">
                  <c:v>4096</c:v>
                </c:pt>
                <c:pt idx="467">
                  <c:v>4096</c:v>
                </c:pt>
                <c:pt idx="468">
                  <c:v>4096</c:v>
                </c:pt>
                <c:pt idx="469">
                  <c:v>4096</c:v>
                </c:pt>
                <c:pt idx="470">
                  <c:v>4096</c:v>
                </c:pt>
                <c:pt idx="471">
                  <c:v>4096</c:v>
                </c:pt>
                <c:pt idx="472">
                  <c:v>4096</c:v>
                </c:pt>
                <c:pt idx="473">
                  <c:v>4096</c:v>
                </c:pt>
                <c:pt idx="474">
                  <c:v>4096</c:v>
                </c:pt>
                <c:pt idx="475">
                  <c:v>4096</c:v>
                </c:pt>
                <c:pt idx="476">
                  <c:v>4096</c:v>
                </c:pt>
                <c:pt idx="477">
                  <c:v>4096</c:v>
                </c:pt>
                <c:pt idx="478">
                  <c:v>4096</c:v>
                </c:pt>
                <c:pt idx="479">
                  <c:v>4096</c:v>
                </c:pt>
                <c:pt idx="480">
                  <c:v>4096</c:v>
                </c:pt>
                <c:pt idx="481">
                  <c:v>4096</c:v>
                </c:pt>
                <c:pt idx="482">
                  <c:v>4096</c:v>
                </c:pt>
                <c:pt idx="483">
                  <c:v>4096</c:v>
                </c:pt>
                <c:pt idx="484">
                  <c:v>4096</c:v>
                </c:pt>
                <c:pt idx="485">
                  <c:v>4096</c:v>
                </c:pt>
                <c:pt idx="486">
                  <c:v>4096</c:v>
                </c:pt>
                <c:pt idx="487">
                  <c:v>4096</c:v>
                </c:pt>
                <c:pt idx="488">
                  <c:v>4096</c:v>
                </c:pt>
                <c:pt idx="489">
                  <c:v>4096</c:v>
                </c:pt>
                <c:pt idx="490">
                  <c:v>4096</c:v>
                </c:pt>
                <c:pt idx="491">
                  <c:v>4096</c:v>
                </c:pt>
                <c:pt idx="492">
                  <c:v>4096</c:v>
                </c:pt>
                <c:pt idx="493">
                  <c:v>4096</c:v>
                </c:pt>
                <c:pt idx="494">
                  <c:v>4096</c:v>
                </c:pt>
                <c:pt idx="495">
                  <c:v>4096</c:v>
                </c:pt>
                <c:pt idx="496">
                  <c:v>4096</c:v>
                </c:pt>
                <c:pt idx="497">
                  <c:v>4096</c:v>
                </c:pt>
                <c:pt idx="498">
                  <c:v>4096</c:v>
                </c:pt>
                <c:pt idx="499">
                  <c:v>4096</c:v>
                </c:pt>
                <c:pt idx="500">
                  <c:v>4096</c:v>
                </c:pt>
                <c:pt idx="501">
                  <c:v>4096</c:v>
                </c:pt>
                <c:pt idx="502">
                  <c:v>4096</c:v>
                </c:pt>
                <c:pt idx="503">
                  <c:v>4096</c:v>
                </c:pt>
                <c:pt idx="504">
                  <c:v>4096</c:v>
                </c:pt>
                <c:pt idx="505">
                  <c:v>4096</c:v>
                </c:pt>
                <c:pt idx="506">
                  <c:v>4096</c:v>
                </c:pt>
                <c:pt idx="507">
                  <c:v>4096</c:v>
                </c:pt>
                <c:pt idx="508">
                  <c:v>4096</c:v>
                </c:pt>
                <c:pt idx="509">
                  <c:v>4096</c:v>
                </c:pt>
                <c:pt idx="510">
                  <c:v>4096</c:v>
                </c:pt>
                <c:pt idx="511">
                  <c:v>4096</c:v>
                </c:pt>
                <c:pt idx="512">
                  <c:v>4096</c:v>
                </c:pt>
                <c:pt idx="513">
                  <c:v>4096</c:v>
                </c:pt>
                <c:pt idx="514">
                  <c:v>4096</c:v>
                </c:pt>
                <c:pt idx="515">
                  <c:v>4096</c:v>
                </c:pt>
                <c:pt idx="516">
                  <c:v>4096</c:v>
                </c:pt>
                <c:pt idx="517">
                  <c:v>4096</c:v>
                </c:pt>
                <c:pt idx="518">
                  <c:v>4096</c:v>
                </c:pt>
                <c:pt idx="519">
                  <c:v>4096</c:v>
                </c:pt>
                <c:pt idx="520">
                  <c:v>4096</c:v>
                </c:pt>
                <c:pt idx="521">
                  <c:v>4096</c:v>
                </c:pt>
                <c:pt idx="522">
                  <c:v>4096</c:v>
                </c:pt>
                <c:pt idx="523">
                  <c:v>4096</c:v>
                </c:pt>
                <c:pt idx="524">
                  <c:v>4096</c:v>
                </c:pt>
                <c:pt idx="525">
                  <c:v>4096</c:v>
                </c:pt>
                <c:pt idx="526">
                  <c:v>4096</c:v>
                </c:pt>
                <c:pt idx="527">
                  <c:v>4096</c:v>
                </c:pt>
                <c:pt idx="528">
                  <c:v>4096</c:v>
                </c:pt>
                <c:pt idx="529">
                  <c:v>4096</c:v>
                </c:pt>
                <c:pt idx="530">
                  <c:v>4096</c:v>
                </c:pt>
                <c:pt idx="531">
                  <c:v>4096</c:v>
                </c:pt>
                <c:pt idx="532">
                  <c:v>4096</c:v>
                </c:pt>
                <c:pt idx="533">
                  <c:v>4096</c:v>
                </c:pt>
                <c:pt idx="534">
                  <c:v>4096</c:v>
                </c:pt>
                <c:pt idx="535">
                  <c:v>4096</c:v>
                </c:pt>
                <c:pt idx="536">
                  <c:v>4096</c:v>
                </c:pt>
                <c:pt idx="537">
                  <c:v>4096</c:v>
                </c:pt>
                <c:pt idx="538">
                  <c:v>4096</c:v>
                </c:pt>
                <c:pt idx="539">
                  <c:v>4096</c:v>
                </c:pt>
                <c:pt idx="540">
                  <c:v>4096</c:v>
                </c:pt>
                <c:pt idx="541">
                  <c:v>4096</c:v>
                </c:pt>
                <c:pt idx="542">
                  <c:v>4096</c:v>
                </c:pt>
                <c:pt idx="543">
                  <c:v>4096</c:v>
                </c:pt>
                <c:pt idx="544">
                  <c:v>4096</c:v>
                </c:pt>
                <c:pt idx="545">
                  <c:v>4096</c:v>
                </c:pt>
                <c:pt idx="546">
                  <c:v>4096</c:v>
                </c:pt>
                <c:pt idx="547">
                  <c:v>4096</c:v>
                </c:pt>
                <c:pt idx="548">
                  <c:v>4096</c:v>
                </c:pt>
                <c:pt idx="549">
                  <c:v>4096</c:v>
                </c:pt>
                <c:pt idx="550">
                  <c:v>4096</c:v>
                </c:pt>
                <c:pt idx="551">
                  <c:v>4096</c:v>
                </c:pt>
                <c:pt idx="552">
                  <c:v>4096</c:v>
                </c:pt>
                <c:pt idx="553">
                  <c:v>4096</c:v>
                </c:pt>
                <c:pt idx="554">
                  <c:v>4096</c:v>
                </c:pt>
                <c:pt idx="555">
                  <c:v>4096</c:v>
                </c:pt>
                <c:pt idx="556">
                  <c:v>4096</c:v>
                </c:pt>
                <c:pt idx="557">
                  <c:v>4096</c:v>
                </c:pt>
                <c:pt idx="558">
                  <c:v>4096</c:v>
                </c:pt>
                <c:pt idx="559">
                  <c:v>4096</c:v>
                </c:pt>
                <c:pt idx="560">
                  <c:v>4096</c:v>
                </c:pt>
                <c:pt idx="561">
                  <c:v>4096</c:v>
                </c:pt>
                <c:pt idx="562">
                  <c:v>4096</c:v>
                </c:pt>
                <c:pt idx="563">
                  <c:v>4096</c:v>
                </c:pt>
                <c:pt idx="564">
                  <c:v>4096</c:v>
                </c:pt>
                <c:pt idx="565">
                  <c:v>4096</c:v>
                </c:pt>
                <c:pt idx="566">
                  <c:v>4096</c:v>
                </c:pt>
                <c:pt idx="567">
                  <c:v>4096</c:v>
                </c:pt>
                <c:pt idx="568">
                  <c:v>4096</c:v>
                </c:pt>
                <c:pt idx="569">
                  <c:v>4096</c:v>
                </c:pt>
                <c:pt idx="570">
                  <c:v>4096</c:v>
                </c:pt>
                <c:pt idx="571">
                  <c:v>4096</c:v>
                </c:pt>
                <c:pt idx="572">
                  <c:v>4096</c:v>
                </c:pt>
                <c:pt idx="573">
                  <c:v>4096</c:v>
                </c:pt>
                <c:pt idx="574">
                  <c:v>4096</c:v>
                </c:pt>
                <c:pt idx="575">
                  <c:v>4096</c:v>
                </c:pt>
                <c:pt idx="576">
                  <c:v>4096</c:v>
                </c:pt>
                <c:pt idx="577">
                  <c:v>4096</c:v>
                </c:pt>
                <c:pt idx="578">
                  <c:v>4096</c:v>
                </c:pt>
                <c:pt idx="579">
                  <c:v>4096</c:v>
                </c:pt>
                <c:pt idx="580">
                  <c:v>4096</c:v>
                </c:pt>
                <c:pt idx="581">
                  <c:v>4096</c:v>
                </c:pt>
                <c:pt idx="582">
                  <c:v>4096</c:v>
                </c:pt>
                <c:pt idx="583">
                  <c:v>4096</c:v>
                </c:pt>
                <c:pt idx="584">
                  <c:v>4096</c:v>
                </c:pt>
                <c:pt idx="585">
                  <c:v>4096</c:v>
                </c:pt>
                <c:pt idx="586">
                  <c:v>4096</c:v>
                </c:pt>
                <c:pt idx="587">
                  <c:v>4096</c:v>
                </c:pt>
                <c:pt idx="588">
                  <c:v>4096</c:v>
                </c:pt>
                <c:pt idx="589">
                  <c:v>4096</c:v>
                </c:pt>
                <c:pt idx="590">
                  <c:v>4096</c:v>
                </c:pt>
                <c:pt idx="591">
                  <c:v>4096</c:v>
                </c:pt>
                <c:pt idx="592">
                  <c:v>4096</c:v>
                </c:pt>
                <c:pt idx="593">
                  <c:v>4096</c:v>
                </c:pt>
                <c:pt idx="594">
                  <c:v>4096</c:v>
                </c:pt>
                <c:pt idx="595">
                  <c:v>4096</c:v>
                </c:pt>
                <c:pt idx="596">
                  <c:v>4096</c:v>
                </c:pt>
                <c:pt idx="597">
                  <c:v>4096</c:v>
                </c:pt>
                <c:pt idx="598">
                  <c:v>4096</c:v>
                </c:pt>
                <c:pt idx="599">
                  <c:v>4096</c:v>
                </c:pt>
                <c:pt idx="600">
                  <c:v>4096</c:v>
                </c:pt>
                <c:pt idx="601">
                  <c:v>4096</c:v>
                </c:pt>
                <c:pt idx="602">
                  <c:v>4096</c:v>
                </c:pt>
                <c:pt idx="603">
                  <c:v>4096</c:v>
                </c:pt>
                <c:pt idx="604">
                  <c:v>4096</c:v>
                </c:pt>
                <c:pt idx="605">
                  <c:v>4096</c:v>
                </c:pt>
                <c:pt idx="606">
                  <c:v>4096</c:v>
                </c:pt>
                <c:pt idx="607">
                  <c:v>4096</c:v>
                </c:pt>
                <c:pt idx="608">
                  <c:v>4096</c:v>
                </c:pt>
                <c:pt idx="609">
                  <c:v>4096</c:v>
                </c:pt>
                <c:pt idx="610">
                  <c:v>4096</c:v>
                </c:pt>
                <c:pt idx="611">
                  <c:v>4096</c:v>
                </c:pt>
                <c:pt idx="612">
                  <c:v>4096</c:v>
                </c:pt>
                <c:pt idx="613">
                  <c:v>4096</c:v>
                </c:pt>
                <c:pt idx="614">
                  <c:v>4096</c:v>
                </c:pt>
                <c:pt idx="615">
                  <c:v>4096</c:v>
                </c:pt>
                <c:pt idx="616">
                  <c:v>4096</c:v>
                </c:pt>
                <c:pt idx="617">
                  <c:v>4096</c:v>
                </c:pt>
                <c:pt idx="618">
                  <c:v>4096</c:v>
                </c:pt>
                <c:pt idx="619">
                  <c:v>4096</c:v>
                </c:pt>
                <c:pt idx="620">
                  <c:v>4096</c:v>
                </c:pt>
                <c:pt idx="621">
                  <c:v>4096</c:v>
                </c:pt>
                <c:pt idx="622">
                  <c:v>4096</c:v>
                </c:pt>
                <c:pt idx="623">
                  <c:v>4096</c:v>
                </c:pt>
                <c:pt idx="624">
                  <c:v>4096</c:v>
                </c:pt>
                <c:pt idx="625">
                  <c:v>4096</c:v>
                </c:pt>
                <c:pt idx="626">
                  <c:v>4096</c:v>
                </c:pt>
                <c:pt idx="627">
                  <c:v>4096</c:v>
                </c:pt>
                <c:pt idx="628">
                  <c:v>4096</c:v>
                </c:pt>
                <c:pt idx="629">
                  <c:v>4096</c:v>
                </c:pt>
                <c:pt idx="630">
                  <c:v>4096</c:v>
                </c:pt>
                <c:pt idx="631">
                  <c:v>4096</c:v>
                </c:pt>
                <c:pt idx="632">
                  <c:v>4096</c:v>
                </c:pt>
                <c:pt idx="633">
                  <c:v>4096</c:v>
                </c:pt>
                <c:pt idx="634">
                  <c:v>4096</c:v>
                </c:pt>
                <c:pt idx="635">
                  <c:v>4096</c:v>
                </c:pt>
                <c:pt idx="636">
                  <c:v>4096</c:v>
                </c:pt>
                <c:pt idx="637">
                  <c:v>4096</c:v>
                </c:pt>
                <c:pt idx="638">
                  <c:v>4096</c:v>
                </c:pt>
                <c:pt idx="639">
                  <c:v>4096</c:v>
                </c:pt>
                <c:pt idx="640">
                  <c:v>4096</c:v>
                </c:pt>
                <c:pt idx="641">
                  <c:v>4096</c:v>
                </c:pt>
                <c:pt idx="642">
                  <c:v>4096</c:v>
                </c:pt>
                <c:pt idx="643">
                  <c:v>4096</c:v>
                </c:pt>
                <c:pt idx="644">
                  <c:v>4096</c:v>
                </c:pt>
                <c:pt idx="645">
                  <c:v>4096</c:v>
                </c:pt>
                <c:pt idx="646">
                  <c:v>4096</c:v>
                </c:pt>
                <c:pt idx="647">
                  <c:v>4096</c:v>
                </c:pt>
                <c:pt idx="648">
                  <c:v>4096</c:v>
                </c:pt>
                <c:pt idx="649">
                  <c:v>4096</c:v>
                </c:pt>
                <c:pt idx="650">
                  <c:v>4096</c:v>
                </c:pt>
                <c:pt idx="651">
                  <c:v>4096</c:v>
                </c:pt>
                <c:pt idx="652">
                  <c:v>4096</c:v>
                </c:pt>
                <c:pt idx="653">
                  <c:v>4096</c:v>
                </c:pt>
                <c:pt idx="654">
                  <c:v>4096</c:v>
                </c:pt>
                <c:pt idx="655">
                  <c:v>4096</c:v>
                </c:pt>
                <c:pt idx="656">
                  <c:v>4096</c:v>
                </c:pt>
                <c:pt idx="657">
                  <c:v>4096</c:v>
                </c:pt>
                <c:pt idx="658">
                  <c:v>4096</c:v>
                </c:pt>
                <c:pt idx="659">
                  <c:v>4096</c:v>
                </c:pt>
                <c:pt idx="660">
                  <c:v>4096</c:v>
                </c:pt>
                <c:pt idx="661">
                  <c:v>4096</c:v>
                </c:pt>
                <c:pt idx="662">
                  <c:v>4096</c:v>
                </c:pt>
                <c:pt idx="663">
                  <c:v>4096</c:v>
                </c:pt>
                <c:pt idx="664">
                  <c:v>4096</c:v>
                </c:pt>
                <c:pt idx="665">
                  <c:v>4096</c:v>
                </c:pt>
                <c:pt idx="666">
                  <c:v>4096</c:v>
                </c:pt>
                <c:pt idx="667">
                  <c:v>4096</c:v>
                </c:pt>
                <c:pt idx="668">
                  <c:v>4096</c:v>
                </c:pt>
                <c:pt idx="669">
                  <c:v>4096</c:v>
                </c:pt>
                <c:pt idx="670">
                  <c:v>4096</c:v>
                </c:pt>
                <c:pt idx="671">
                  <c:v>4096</c:v>
                </c:pt>
                <c:pt idx="672">
                  <c:v>4096</c:v>
                </c:pt>
                <c:pt idx="673">
                  <c:v>4096</c:v>
                </c:pt>
                <c:pt idx="674">
                  <c:v>4096</c:v>
                </c:pt>
                <c:pt idx="675">
                  <c:v>4096</c:v>
                </c:pt>
                <c:pt idx="676">
                  <c:v>4096</c:v>
                </c:pt>
                <c:pt idx="677">
                  <c:v>4096</c:v>
                </c:pt>
                <c:pt idx="678">
                  <c:v>4096</c:v>
                </c:pt>
                <c:pt idx="679">
                  <c:v>4096</c:v>
                </c:pt>
                <c:pt idx="680">
                  <c:v>4096</c:v>
                </c:pt>
                <c:pt idx="681">
                  <c:v>4096</c:v>
                </c:pt>
                <c:pt idx="682">
                  <c:v>4096</c:v>
                </c:pt>
                <c:pt idx="683">
                  <c:v>4096</c:v>
                </c:pt>
                <c:pt idx="684">
                  <c:v>4096</c:v>
                </c:pt>
                <c:pt idx="685">
                  <c:v>4096</c:v>
                </c:pt>
                <c:pt idx="686">
                  <c:v>4096</c:v>
                </c:pt>
                <c:pt idx="687">
                  <c:v>4096</c:v>
                </c:pt>
                <c:pt idx="688">
                  <c:v>4096</c:v>
                </c:pt>
                <c:pt idx="689">
                  <c:v>4096</c:v>
                </c:pt>
                <c:pt idx="690">
                  <c:v>4096</c:v>
                </c:pt>
                <c:pt idx="691">
                  <c:v>4096</c:v>
                </c:pt>
                <c:pt idx="692">
                  <c:v>4096</c:v>
                </c:pt>
                <c:pt idx="693">
                  <c:v>4096</c:v>
                </c:pt>
                <c:pt idx="694">
                  <c:v>4096</c:v>
                </c:pt>
                <c:pt idx="695">
                  <c:v>4096</c:v>
                </c:pt>
                <c:pt idx="696">
                  <c:v>4096</c:v>
                </c:pt>
                <c:pt idx="697">
                  <c:v>4096</c:v>
                </c:pt>
                <c:pt idx="698">
                  <c:v>4096</c:v>
                </c:pt>
                <c:pt idx="699">
                  <c:v>4096</c:v>
                </c:pt>
                <c:pt idx="700">
                  <c:v>4096</c:v>
                </c:pt>
                <c:pt idx="701">
                  <c:v>4096</c:v>
                </c:pt>
                <c:pt idx="702">
                  <c:v>4096</c:v>
                </c:pt>
                <c:pt idx="703">
                  <c:v>4096</c:v>
                </c:pt>
                <c:pt idx="704">
                  <c:v>4096</c:v>
                </c:pt>
                <c:pt idx="705">
                  <c:v>4096</c:v>
                </c:pt>
                <c:pt idx="706">
                  <c:v>4096</c:v>
                </c:pt>
                <c:pt idx="707">
                  <c:v>4096</c:v>
                </c:pt>
                <c:pt idx="708">
                  <c:v>4096</c:v>
                </c:pt>
                <c:pt idx="709">
                  <c:v>4096</c:v>
                </c:pt>
                <c:pt idx="710">
                  <c:v>4096</c:v>
                </c:pt>
                <c:pt idx="711">
                  <c:v>4096</c:v>
                </c:pt>
                <c:pt idx="712">
                  <c:v>4096</c:v>
                </c:pt>
                <c:pt idx="713">
                  <c:v>4096</c:v>
                </c:pt>
                <c:pt idx="714">
                  <c:v>4096</c:v>
                </c:pt>
                <c:pt idx="715">
                  <c:v>4096</c:v>
                </c:pt>
                <c:pt idx="716">
                  <c:v>4096</c:v>
                </c:pt>
                <c:pt idx="717">
                  <c:v>4096</c:v>
                </c:pt>
                <c:pt idx="718">
                  <c:v>4096</c:v>
                </c:pt>
                <c:pt idx="719">
                  <c:v>4096</c:v>
                </c:pt>
                <c:pt idx="720">
                  <c:v>4096</c:v>
                </c:pt>
                <c:pt idx="721">
                  <c:v>4096</c:v>
                </c:pt>
                <c:pt idx="722">
                  <c:v>4096</c:v>
                </c:pt>
                <c:pt idx="723">
                  <c:v>4096</c:v>
                </c:pt>
                <c:pt idx="724">
                  <c:v>4096</c:v>
                </c:pt>
                <c:pt idx="725">
                  <c:v>4096</c:v>
                </c:pt>
                <c:pt idx="726">
                  <c:v>4096</c:v>
                </c:pt>
                <c:pt idx="727">
                  <c:v>4096</c:v>
                </c:pt>
                <c:pt idx="728">
                  <c:v>4096</c:v>
                </c:pt>
                <c:pt idx="729">
                  <c:v>4096</c:v>
                </c:pt>
                <c:pt idx="730">
                  <c:v>4096</c:v>
                </c:pt>
                <c:pt idx="731">
                  <c:v>4096</c:v>
                </c:pt>
                <c:pt idx="732">
                  <c:v>4096</c:v>
                </c:pt>
                <c:pt idx="733">
                  <c:v>4096</c:v>
                </c:pt>
                <c:pt idx="734">
                  <c:v>4096</c:v>
                </c:pt>
                <c:pt idx="735">
                  <c:v>4096</c:v>
                </c:pt>
                <c:pt idx="736">
                  <c:v>4096</c:v>
                </c:pt>
                <c:pt idx="737">
                  <c:v>4096</c:v>
                </c:pt>
                <c:pt idx="738">
                  <c:v>4096</c:v>
                </c:pt>
                <c:pt idx="739">
                  <c:v>4096</c:v>
                </c:pt>
                <c:pt idx="740">
                  <c:v>4096</c:v>
                </c:pt>
                <c:pt idx="741">
                  <c:v>4096</c:v>
                </c:pt>
                <c:pt idx="742">
                  <c:v>4096</c:v>
                </c:pt>
                <c:pt idx="743">
                  <c:v>4096</c:v>
                </c:pt>
                <c:pt idx="744">
                  <c:v>4096</c:v>
                </c:pt>
                <c:pt idx="745">
                  <c:v>4096</c:v>
                </c:pt>
                <c:pt idx="746">
                  <c:v>4096</c:v>
                </c:pt>
                <c:pt idx="747">
                  <c:v>4096</c:v>
                </c:pt>
                <c:pt idx="748">
                  <c:v>4096</c:v>
                </c:pt>
                <c:pt idx="749">
                  <c:v>4096</c:v>
                </c:pt>
                <c:pt idx="750">
                  <c:v>4096</c:v>
                </c:pt>
                <c:pt idx="751">
                  <c:v>4096</c:v>
                </c:pt>
                <c:pt idx="752">
                  <c:v>4096</c:v>
                </c:pt>
                <c:pt idx="753">
                  <c:v>4096</c:v>
                </c:pt>
                <c:pt idx="754">
                  <c:v>4096</c:v>
                </c:pt>
                <c:pt idx="755">
                  <c:v>4096</c:v>
                </c:pt>
                <c:pt idx="756">
                  <c:v>4096</c:v>
                </c:pt>
                <c:pt idx="757">
                  <c:v>4096</c:v>
                </c:pt>
                <c:pt idx="758">
                  <c:v>4096</c:v>
                </c:pt>
                <c:pt idx="759">
                  <c:v>4096</c:v>
                </c:pt>
                <c:pt idx="760">
                  <c:v>4096</c:v>
                </c:pt>
                <c:pt idx="761">
                  <c:v>4096</c:v>
                </c:pt>
                <c:pt idx="762">
                  <c:v>4096</c:v>
                </c:pt>
                <c:pt idx="763">
                  <c:v>4096</c:v>
                </c:pt>
                <c:pt idx="764">
                  <c:v>4096</c:v>
                </c:pt>
                <c:pt idx="765">
                  <c:v>4096</c:v>
                </c:pt>
                <c:pt idx="766">
                  <c:v>4096</c:v>
                </c:pt>
                <c:pt idx="767">
                  <c:v>4096</c:v>
                </c:pt>
                <c:pt idx="768">
                  <c:v>4096</c:v>
                </c:pt>
                <c:pt idx="769">
                  <c:v>4096</c:v>
                </c:pt>
                <c:pt idx="770">
                  <c:v>4096</c:v>
                </c:pt>
                <c:pt idx="771">
                  <c:v>4096</c:v>
                </c:pt>
                <c:pt idx="772">
                  <c:v>4096</c:v>
                </c:pt>
                <c:pt idx="773">
                  <c:v>4096</c:v>
                </c:pt>
                <c:pt idx="774">
                  <c:v>4096</c:v>
                </c:pt>
                <c:pt idx="775">
                  <c:v>4096</c:v>
                </c:pt>
                <c:pt idx="776">
                  <c:v>4096</c:v>
                </c:pt>
                <c:pt idx="777">
                  <c:v>4096</c:v>
                </c:pt>
                <c:pt idx="778">
                  <c:v>4096</c:v>
                </c:pt>
                <c:pt idx="779">
                  <c:v>4096</c:v>
                </c:pt>
                <c:pt idx="780">
                  <c:v>4096</c:v>
                </c:pt>
                <c:pt idx="781">
                  <c:v>4096</c:v>
                </c:pt>
                <c:pt idx="782">
                  <c:v>4096</c:v>
                </c:pt>
                <c:pt idx="783">
                  <c:v>4096</c:v>
                </c:pt>
                <c:pt idx="784">
                  <c:v>4096</c:v>
                </c:pt>
                <c:pt idx="785">
                  <c:v>4096</c:v>
                </c:pt>
                <c:pt idx="786">
                  <c:v>4096</c:v>
                </c:pt>
                <c:pt idx="787">
                  <c:v>4096</c:v>
                </c:pt>
                <c:pt idx="788">
                  <c:v>4096</c:v>
                </c:pt>
                <c:pt idx="789">
                  <c:v>4096</c:v>
                </c:pt>
                <c:pt idx="790">
                  <c:v>4096</c:v>
                </c:pt>
                <c:pt idx="791">
                  <c:v>4096</c:v>
                </c:pt>
                <c:pt idx="792">
                  <c:v>4096</c:v>
                </c:pt>
                <c:pt idx="793">
                  <c:v>4096</c:v>
                </c:pt>
                <c:pt idx="794">
                  <c:v>4096</c:v>
                </c:pt>
                <c:pt idx="795">
                  <c:v>4096</c:v>
                </c:pt>
                <c:pt idx="796">
                  <c:v>4096</c:v>
                </c:pt>
                <c:pt idx="797">
                  <c:v>4096</c:v>
                </c:pt>
                <c:pt idx="798">
                  <c:v>4096</c:v>
                </c:pt>
                <c:pt idx="799">
                  <c:v>4096</c:v>
                </c:pt>
                <c:pt idx="800">
                  <c:v>4096</c:v>
                </c:pt>
                <c:pt idx="801">
                  <c:v>4096</c:v>
                </c:pt>
                <c:pt idx="802">
                  <c:v>4096</c:v>
                </c:pt>
                <c:pt idx="803">
                  <c:v>4096</c:v>
                </c:pt>
                <c:pt idx="804">
                  <c:v>4096</c:v>
                </c:pt>
                <c:pt idx="805">
                  <c:v>4096</c:v>
                </c:pt>
                <c:pt idx="806">
                  <c:v>4096</c:v>
                </c:pt>
                <c:pt idx="807">
                  <c:v>4096</c:v>
                </c:pt>
                <c:pt idx="808">
                  <c:v>4096</c:v>
                </c:pt>
                <c:pt idx="809">
                  <c:v>4096</c:v>
                </c:pt>
                <c:pt idx="810">
                  <c:v>4096</c:v>
                </c:pt>
                <c:pt idx="811">
                  <c:v>4096</c:v>
                </c:pt>
                <c:pt idx="812">
                  <c:v>4096</c:v>
                </c:pt>
                <c:pt idx="813">
                  <c:v>4096</c:v>
                </c:pt>
                <c:pt idx="814">
                  <c:v>4096</c:v>
                </c:pt>
                <c:pt idx="815">
                  <c:v>4096</c:v>
                </c:pt>
                <c:pt idx="816">
                  <c:v>4096</c:v>
                </c:pt>
                <c:pt idx="817">
                  <c:v>4096</c:v>
                </c:pt>
                <c:pt idx="818">
                  <c:v>4096</c:v>
                </c:pt>
                <c:pt idx="819">
                  <c:v>4096</c:v>
                </c:pt>
                <c:pt idx="820">
                  <c:v>4096</c:v>
                </c:pt>
                <c:pt idx="821">
                  <c:v>4096</c:v>
                </c:pt>
                <c:pt idx="822">
                  <c:v>4096</c:v>
                </c:pt>
                <c:pt idx="823">
                  <c:v>4096</c:v>
                </c:pt>
                <c:pt idx="824">
                  <c:v>4096</c:v>
                </c:pt>
                <c:pt idx="825">
                  <c:v>4096</c:v>
                </c:pt>
                <c:pt idx="826">
                  <c:v>4096</c:v>
                </c:pt>
                <c:pt idx="827">
                  <c:v>4096</c:v>
                </c:pt>
                <c:pt idx="828">
                  <c:v>4096</c:v>
                </c:pt>
                <c:pt idx="829">
                  <c:v>4096</c:v>
                </c:pt>
                <c:pt idx="830">
                  <c:v>4096</c:v>
                </c:pt>
                <c:pt idx="831">
                  <c:v>4096</c:v>
                </c:pt>
                <c:pt idx="832">
                  <c:v>4096</c:v>
                </c:pt>
                <c:pt idx="833">
                  <c:v>4096</c:v>
                </c:pt>
                <c:pt idx="834">
                  <c:v>4096</c:v>
                </c:pt>
                <c:pt idx="835">
                  <c:v>4096</c:v>
                </c:pt>
                <c:pt idx="836">
                  <c:v>4096</c:v>
                </c:pt>
                <c:pt idx="837">
                  <c:v>4096</c:v>
                </c:pt>
                <c:pt idx="838">
                  <c:v>4096</c:v>
                </c:pt>
                <c:pt idx="839">
                  <c:v>4096</c:v>
                </c:pt>
                <c:pt idx="840">
                  <c:v>4096</c:v>
                </c:pt>
                <c:pt idx="841">
                  <c:v>4096</c:v>
                </c:pt>
                <c:pt idx="842">
                  <c:v>4096</c:v>
                </c:pt>
                <c:pt idx="843">
                  <c:v>4096</c:v>
                </c:pt>
                <c:pt idx="844">
                  <c:v>4096</c:v>
                </c:pt>
                <c:pt idx="845">
                  <c:v>4096</c:v>
                </c:pt>
                <c:pt idx="846">
                  <c:v>4096</c:v>
                </c:pt>
                <c:pt idx="847">
                  <c:v>4096</c:v>
                </c:pt>
                <c:pt idx="848">
                  <c:v>4096</c:v>
                </c:pt>
                <c:pt idx="849">
                  <c:v>4096</c:v>
                </c:pt>
                <c:pt idx="850">
                  <c:v>4096</c:v>
                </c:pt>
                <c:pt idx="851">
                  <c:v>4096</c:v>
                </c:pt>
                <c:pt idx="852">
                  <c:v>4096</c:v>
                </c:pt>
                <c:pt idx="853">
                  <c:v>4096</c:v>
                </c:pt>
                <c:pt idx="854">
                  <c:v>4096</c:v>
                </c:pt>
                <c:pt idx="855">
                  <c:v>4096</c:v>
                </c:pt>
                <c:pt idx="856">
                  <c:v>4096</c:v>
                </c:pt>
                <c:pt idx="857">
                  <c:v>4096</c:v>
                </c:pt>
                <c:pt idx="858">
                  <c:v>4096</c:v>
                </c:pt>
                <c:pt idx="859">
                  <c:v>4096</c:v>
                </c:pt>
                <c:pt idx="860">
                  <c:v>4096</c:v>
                </c:pt>
                <c:pt idx="861">
                  <c:v>4096</c:v>
                </c:pt>
                <c:pt idx="862">
                  <c:v>4096</c:v>
                </c:pt>
                <c:pt idx="863">
                  <c:v>4096</c:v>
                </c:pt>
                <c:pt idx="864">
                  <c:v>4096</c:v>
                </c:pt>
                <c:pt idx="865">
                  <c:v>4096</c:v>
                </c:pt>
                <c:pt idx="866">
                  <c:v>4096</c:v>
                </c:pt>
                <c:pt idx="867">
                  <c:v>4096</c:v>
                </c:pt>
                <c:pt idx="868">
                  <c:v>4096</c:v>
                </c:pt>
                <c:pt idx="869">
                  <c:v>4096</c:v>
                </c:pt>
                <c:pt idx="870">
                  <c:v>4096</c:v>
                </c:pt>
                <c:pt idx="871">
                  <c:v>4096</c:v>
                </c:pt>
                <c:pt idx="872">
                  <c:v>4096</c:v>
                </c:pt>
                <c:pt idx="873">
                  <c:v>4096</c:v>
                </c:pt>
                <c:pt idx="874">
                  <c:v>4096</c:v>
                </c:pt>
                <c:pt idx="875">
                  <c:v>4096</c:v>
                </c:pt>
                <c:pt idx="876">
                  <c:v>4096</c:v>
                </c:pt>
                <c:pt idx="877">
                  <c:v>4096</c:v>
                </c:pt>
                <c:pt idx="878">
                  <c:v>4096</c:v>
                </c:pt>
                <c:pt idx="879">
                  <c:v>4096</c:v>
                </c:pt>
                <c:pt idx="880">
                  <c:v>4096</c:v>
                </c:pt>
                <c:pt idx="881">
                  <c:v>4096</c:v>
                </c:pt>
                <c:pt idx="882">
                  <c:v>4096</c:v>
                </c:pt>
                <c:pt idx="883">
                  <c:v>4096</c:v>
                </c:pt>
                <c:pt idx="884">
                  <c:v>4096</c:v>
                </c:pt>
                <c:pt idx="885">
                  <c:v>4096</c:v>
                </c:pt>
                <c:pt idx="886">
                  <c:v>4096</c:v>
                </c:pt>
                <c:pt idx="887">
                  <c:v>4096</c:v>
                </c:pt>
                <c:pt idx="888">
                  <c:v>4096</c:v>
                </c:pt>
                <c:pt idx="889">
                  <c:v>4096</c:v>
                </c:pt>
                <c:pt idx="890">
                  <c:v>4096</c:v>
                </c:pt>
                <c:pt idx="891">
                  <c:v>4096</c:v>
                </c:pt>
                <c:pt idx="892">
                  <c:v>4096</c:v>
                </c:pt>
                <c:pt idx="893">
                  <c:v>4096</c:v>
                </c:pt>
                <c:pt idx="894">
                  <c:v>4096</c:v>
                </c:pt>
                <c:pt idx="895">
                  <c:v>4096</c:v>
                </c:pt>
                <c:pt idx="896">
                  <c:v>4096</c:v>
                </c:pt>
                <c:pt idx="897">
                  <c:v>4096</c:v>
                </c:pt>
                <c:pt idx="898">
                  <c:v>4096</c:v>
                </c:pt>
                <c:pt idx="899">
                  <c:v>4096</c:v>
                </c:pt>
                <c:pt idx="900">
                  <c:v>4096</c:v>
                </c:pt>
                <c:pt idx="901">
                  <c:v>4096</c:v>
                </c:pt>
                <c:pt idx="902">
                  <c:v>4096</c:v>
                </c:pt>
                <c:pt idx="903">
                  <c:v>4096</c:v>
                </c:pt>
                <c:pt idx="904">
                  <c:v>4096</c:v>
                </c:pt>
                <c:pt idx="905">
                  <c:v>4096</c:v>
                </c:pt>
                <c:pt idx="906">
                  <c:v>4096</c:v>
                </c:pt>
                <c:pt idx="907">
                  <c:v>4096</c:v>
                </c:pt>
                <c:pt idx="908">
                  <c:v>4096</c:v>
                </c:pt>
                <c:pt idx="909">
                  <c:v>4096</c:v>
                </c:pt>
                <c:pt idx="910">
                  <c:v>4096</c:v>
                </c:pt>
                <c:pt idx="911">
                  <c:v>4096</c:v>
                </c:pt>
                <c:pt idx="912">
                  <c:v>4096</c:v>
                </c:pt>
                <c:pt idx="913">
                  <c:v>4096</c:v>
                </c:pt>
                <c:pt idx="914">
                  <c:v>4096</c:v>
                </c:pt>
                <c:pt idx="915">
                  <c:v>4096</c:v>
                </c:pt>
                <c:pt idx="916">
                  <c:v>4096</c:v>
                </c:pt>
                <c:pt idx="917">
                  <c:v>4096</c:v>
                </c:pt>
                <c:pt idx="918">
                  <c:v>4096</c:v>
                </c:pt>
                <c:pt idx="919">
                  <c:v>4096</c:v>
                </c:pt>
                <c:pt idx="920">
                  <c:v>4096</c:v>
                </c:pt>
                <c:pt idx="921">
                  <c:v>4096</c:v>
                </c:pt>
                <c:pt idx="922">
                  <c:v>4096</c:v>
                </c:pt>
                <c:pt idx="923">
                  <c:v>4096</c:v>
                </c:pt>
                <c:pt idx="924">
                  <c:v>4096</c:v>
                </c:pt>
                <c:pt idx="925">
                  <c:v>4096</c:v>
                </c:pt>
                <c:pt idx="926">
                  <c:v>4096</c:v>
                </c:pt>
                <c:pt idx="927">
                  <c:v>4096</c:v>
                </c:pt>
                <c:pt idx="928">
                  <c:v>4096</c:v>
                </c:pt>
                <c:pt idx="929">
                  <c:v>4096</c:v>
                </c:pt>
                <c:pt idx="930">
                  <c:v>4096</c:v>
                </c:pt>
                <c:pt idx="931">
                  <c:v>4096</c:v>
                </c:pt>
                <c:pt idx="932">
                  <c:v>4096</c:v>
                </c:pt>
                <c:pt idx="933">
                  <c:v>4096</c:v>
                </c:pt>
                <c:pt idx="934">
                  <c:v>4096</c:v>
                </c:pt>
                <c:pt idx="935">
                  <c:v>4096</c:v>
                </c:pt>
                <c:pt idx="936">
                  <c:v>4096</c:v>
                </c:pt>
                <c:pt idx="937">
                  <c:v>4096</c:v>
                </c:pt>
                <c:pt idx="938">
                  <c:v>4096</c:v>
                </c:pt>
                <c:pt idx="939">
                  <c:v>4096</c:v>
                </c:pt>
                <c:pt idx="940">
                  <c:v>4096</c:v>
                </c:pt>
                <c:pt idx="941">
                  <c:v>4096</c:v>
                </c:pt>
                <c:pt idx="942">
                  <c:v>4096</c:v>
                </c:pt>
                <c:pt idx="943">
                  <c:v>4096</c:v>
                </c:pt>
                <c:pt idx="944">
                  <c:v>4096</c:v>
                </c:pt>
                <c:pt idx="945">
                  <c:v>4096</c:v>
                </c:pt>
                <c:pt idx="946">
                  <c:v>4096</c:v>
                </c:pt>
                <c:pt idx="947">
                  <c:v>4096</c:v>
                </c:pt>
                <c:pt idx="948">
                  <c:v>4096</c:v>
                </c:pt>
                <c:pt idx="949">
                  <c:v>4096</c:v>
                </c:pt>
                <c:pt idx="950">
                  <c:v>4096</c:v>
                </c:pt>
                <c:pt idx="951">
                  <c:v>4096</c:v>
                </c:pt>
                <c:pt idx="952">
                  <c:v>4096</c:v>
                </c:pt>
                <c:pt idx="953">
                  <c:v>4096</c:v>
                </c:pt>
                <c:pt idx="954">
                  <c:v>4096</c:v>
                </c:pt>
                <c:pt idx="955">
                  <c:v>4096</c:v>
                </c:pt>
                <c:pt idx="956">
                  <c:v>4096</c:v>
                </c:pt>
                <c:pt idx="957">
                  <c:v>4096</c:v>
                </c:pt>
                <c:pt idx="958">
                  <c:v>4096</c:v>
                </c:pt>
                <c:pt idx="959">
                  <c:v>4096</c:v>
                </c:pt>
                <c:pt idx="960">
                  <c:v>4096</c:v>
                </c:pt>
                <c:pt idx="961">
                  <c:v>4096</c:v>
                </c:pt>
                <c:pt idx="962">
                  <c:v>4096</c:v>
                </c:pt>
                <c:pt idx="963">
                  <c:v>4096</c:v>
                </c:pt>
                <c:pt idx="964">
                  <c:v>4096</c:v>
                </c:pt>
                <c:pt idx="965">
                  <c:v>4096</c:v>
                </c:pt>
                <c:pt idx="966">
                  <c:v>4096</c:v>
                </c:pt>
                <c:pt idx="967">
                  <c:v>4096</c:v>
                </c:pt>
                <c:pt idx="968">
                  <c:v>4096</c:v>
                </c:pt>
                <c:pt idx="969">
                  <c:v>4096</c:v>
                </c:pt>
                <c:pt idx="970">
                  <c:v>4096</c:v>
                </c:pt>
                <c:pt idx="971">
                  <c:v>4096</c:v>
                </c:pt>
                <c:pt idx="972">
                  <c:v>4096</c:v>
                </c:pt>
                <c:pt idx="973">
                  <c:v>4096</c:v>
                </c:pt>
                <c:pt idx="974">
                  <c:v>4096</c:v>
                </c:pt>
                <c:pt idx="975">
                  <c:v>4096</c:v>
                </c:pt>
                <c:pt idx="976">
                  <c:v>4096</c:v>
                </c:pt>
                <c:pt idx="977">
                  <c:v>4096</c:v>
                </c:pt>
                <c:pt idx="978">
                  <c:v>4096</c:v>
                </c:pt>
                <c:pt idx="979">
                  <c:v>4096</c:v>
                </c:pt>
                <c:pt idx="980">
                  <c:v>4096</c:v>
                </c:pt>
                <c:pt idx="981">
                  <c:v>4096</c:v>
                </c:pt>
                <c:pt idx="982">
                  <c:v>4096</c:v>
                </c:pt>
                <c:pt idx="983">
                  <c:v>4096</c:v>
                </c:pt>
                <c:pt idx="984">
                  <c:v>4096</c:v>
                </c:pt>
                <c:pt idx="985">
                  <c:v>4096</c:v>
                </c:pt>
                <c:pt idx="986">
                  <c:v>4096</c:v>
                </c:pt>
                <c:pt idx="987">
                  <c:v>4096</c:v>
                </c:pt>
                <c:pt idx="988">
                  <c:v>4096</c:v>
                </c:pt>
                <c:pt idx="989">
                  <c:v>4096</c:v>
                </c:pt>
                <c:pt idx="990">
                  <c:v>4096</c:v>
                </c:pt>
                <c:pt idx="991">
                  <c:v>4096</c:v>
                </c:pt>
                <c:pt idx="992">
                  <c:v>4096</c:v>
                </c:pt>
                <c:pt idx="993">
                  <c:v>4096</c:v>
                </c:pt>
                <c:pt idx="994">
                  <c:v>4096</c:v>
                </c:pt>
                <c:pt idx="995">
                  <c:v>4096</c:v>
                </c:pt>
                <c:pt idx="996">
                  <c:v>4096</c:v>
                </c:pt>
                <c:pt idx="997">
                  <c:v>4096</c:v>
                </c:pt>
                <c:pt idx="998">
                  <c:v>4096</c:v>
                </c:pt>
                <c:pt idx="999">
                  <c:v>4096</c:v>
                </c:pt>
                <c:pt idx="1000">
                  <c:v>4096</c:v>
                </c:pt>
              </c:numCache>
            </c:numRef>
          </c:xVal>
          <c:yVal>
            <c:numRef>
              <c:f>4</c:f>
              <c:numCache>
                <c:formatCode>General</c:formatCode>
                <c:ptCount val="1001"/>
                <c:pt idx="0">
                  <c:v>0.115322677</c:v>
                </c:pt>
                <c:pt idx="1">
                  <c:v>26.831934216</c:v>
                </c:pt>
                <c:pt idx="2">
                  <c:v>26.250354993</c:v>
                </c:pt>
                <c:pt idx="3">
                  <c:v>24.747540907</c:v>
                </c:pt>
                <c:pt idx="4">
                  <c:v>27.024183175</c:v>
                </c:pt>
                <c:pt idx="5">
                  <c:v>26.396478545</c:v>
                </c:pt>
                <c:pt idx="6">
                  <c:v>26.275123953</c:v>
                </c:pt>
                <c:pt idx="7">
                  <c:v>27.158019005</c:v>
                </c:pt>
                <c:pt idx="8">
                  <c:v>27.301822135</c:v>
                </c:pt>
                <c:pt idx="9">
                  <c:v>26.448933302</c:v>
                </c:pt>
                <c:pt idx="10">
                  <c:v>24.887857366</c:v>
                </c:pt>
                <c:pt idx="11">
                  <c:v>27.152478641</c:v>
                </c:pt>
                <c:pt idx="12">
                  <c:v>26.375732033</c:v>
                </c:pt>
                <c:pt idx="13">
                  <c:v>27.292143633</c:v>
                </c:pt>
                <c:pt idx="14">
                  <c:v>26.955907961</c:v>
                </c:pt>
                <c:pt idx="15">
                  <c:v>26.989631335</c:v>
                </c:pt>
                <c:pt idx="16">
                  <c:v>26.156709586</c:v>
                </c:pt>
                <c:pt idx="17">
                  <c:v>27.031625239</c:v>
                </c:pt>
                <c:pt idx="18">
                  <c:v>24.726579179</c:v>
                </c:pt>
                <c:pt idx="19">
                  <c:v>26.740746829</c:v>
                </c:pt>
                <c:pt idx="20">
                  <c:v>25.942494484</c:v>
                </c:pt>
                <c:pt idx="21">
                  <c:v>26.994734239</c:v>
                </c:pt>
                <c:pt idx="22">
                  <c:v>26.943791865</c:v>
                </c:pt>
                <c:pt idx="23">
                  <c:v>26.88512315</c:v>
                </c:pt>
                <c:pt idx="24">
                  <c:v>0.394643189</c:v>
                </c:pt>
                <c:pt idx="25">
                  <c:v>27.180861645</c:v>
                </c:pt>
                <c:pt idx="26">
                  <c:v>24.451789792</c:v>
                </c:pt>
                <c:pt idx="27">
                  <c:v>26.667191432</c:v>
                </c:pt>
                <c:pt idx="28">
                  <c:v>26.170133789</c:v>
                </c:pt>
                <c:pt idx="29">
                  <c:v>26.768092648</c:v>
                </c:pt>
                <c:pt idx="30">
                  <c:v>1.880467753</c:v>
                </c:pt>
                <c:pt idx="31">
                  <c:v>27.326238631</c:v>
                </c:pt>
                <c:pt idx="32">
                  <c:v>26.693661008</c:v>
                </c:pt>
                <c:pt idx="33">
                  <c:v>27.178509806</c:v>
                </c:pt>
                <c:pt idx="34">
                  <c:v>24.245012042</c:v>
                </c:pt>
                <c:pt idx="35">
                  <c:v>27.005317315</c:v>
                </c:pt>
                <c:pt idx="36">
                  <c:v>26.584226315</c:v>
                </c:pt>
                <c:pt idx="37">
                  <c:v>27.302581524</c:v>
                </c:pt>
                <c:pt idx="38">
                  <c:v>27.271102359</c:v>
                </c:pt>
                <c:pt idx="39">
                  <c:v>27.042516643</c:v>
                </c:pt>
                <c:pt idx="40">
                  <c:v>26.560129052</c:v>
                </c:pt>
                <c:pt idx="41">
                  <c:v>27.234121964</c:v>
                </c:pt>
                <c:pt idx="42">
                  <c:v>24.715683773</c:v>
                </c:pt>
                <c:pt idx="43">
                  <c:v>26.978411733</c:v>
                </c:pt>
                <c:pt idx="44">
                  <c:v>26.465067169</c:v>
                </c:pt>
                <c:pt idx="45">
                  <c:v>5.325477342</c:v>
                </c:pt>
                <c:pt idx="46">
                  <c:v>26.963034721</c:v>
                </c:pt>
                <c:pt idx="47">
                  <c:v>26.819288104</c:v>
                </c:pt>
                <c:pt idx="48">
                  <c:v>26.139383111</c:v>
                </c:pt>
                <c:pt idx="49">
                  <c:v>26.983139519</c:v>
                </c:pt>
                <c:pt idx="50">
                  <c:v>24.664526246</c:v>
                </c:pt>
                <c:pt idx="51">
                  <c:v>26.865531736</c:v>
                </c:pt>
                <c:pt idx="52">
                  <c:v>26.19064535</c:v>
                </c:pt>
                <c:pt idx="53">
                  <c:v>27.100285041</c:v>
                </c:pt>
                <c:pt idx="54">
                  <c:v>26.837344527</c:v>
                </c:pt>
                <c:pt idx="55">
                  <c:v>26.71500177</c:v>
                </c:pt>
                <c:pt idx="56">
                  <c:v>26.285062226</c:v>
                </c:pt>
                <c:pt idx="57">
                  <c:v>26.996126275</c:v>
                </c:pt>
                <c:pt idx="58">
                  <c:v>24.521961182</c:v>
                </c:pt>
                <c:pt idx="59">
                  <c:v>26.731097993</c:v>
                </c:pt>
                <c:pt idx="60">
                  <c:v>25.992556461</c:v>
                </c:pt>
                <c:pt idx="61">
                  <c:v>11.909785965</c:v>
                </c:pt>
                <c:pt idx="62">
                  <c:v>26.500881464</c:v>
                </c:pt>
                <c:pt idx="63">
                  <c:v>27.480966696</c:v>
                </c:pt>
                <c:pt idx="64">
                  <c:v>26.588726913</c:v>
                </c:pt>
                <c:pt idx="65">
                  <c:v>24.95659131</c:v>
                </c:pt>
                <c:pt idx="66">
                  <c:v>27.180485324</c:v>
                </c:pt>
                <c:pt idx="67">
                  <c:v>27.135871104</c:v>
                </c:pt>
                <c:pt idx="68">
                  <c:v>26.545673705</c:v>
                </c:pt>
                <c:pt idx="69">
                  <c:v>27.449650778</c:v>
                </c:pt>
                <c:pt idx="70">
                  <c:v>27.202894608</c:v>
                </c:pt>
                <c:pt idx="71">
                  <c:v>27.346127069</c:v>
                </c:pt>
                <c:pt idx="72">
                  <c:v>26.436645554</c:v>
                </c:pt>
                <c:pt idx="73">
                  <c:v>24.852648954</c:v>
                </c:pt>
                <c:pt idx="74">
                  <c:v>26.988147216</c:v>
                </c:pt>
                <c:pt idx="75">
                  <c:v>27.26144562</c:v>
                </c:pt>
                <c:pt idx="76">
                  <c:v>26.192654592</c:v>
                </c:pt>
                <c:pt idx="77">
                  <c:v>27.174183486</c:v>
                </c:pt>
                <c:pt idx="78">
                  <c:v>27.028554891</c:v>
                </c:pt>
                <c:pt idx="79">
                  <c:v>26.956833301</c:v>
                </c:pt>
                <c:pt idx="80">
                  <c:v>26.235270598</c:v>
                </c:pt>
                <c:pt idx="81">
                  <c:v>24.847773326</c:v>
                </c:pt>
                <c:pt idx="82">
                  <c:v>26.793025993</c:v>
                </c:pt>
                <c:pt idx="83">
                  <c:v>26.946935454</c:v>
                </c:pt>
                <c:pt idx="84">
                  <c:v>26.329480385</c:v>
                </c:pt>
                <c:pt idx="85">
                  <c:v>27.010054535</c:v>
                </c:pt>
                <c:pt idx="86">
                  <c:v>26.782243246</c:v>
                </c:pt>
                <c:pt idx="87">
                  <c:v>27.046149061</c:v>
                </c:pt>
                <c:pt idx="88">
                  <c:v>26.249653008</c:v>
                </c:pt>
                <c:pt idx="89">
                  <c:v>24.558772538</c:v>
                </c:pt>
                <c:pt idx="90">
                  <c:v>26.816815258</c:v>
                </c:pt>
                <c:pt idx="91">
                  <c:v>25.922797481</c:v>
                </c:pt>
                <c:pt idx="92">
                  <c:v>26.014169279</c:v>
                </c:pt>
                <c:pt idx="93">
                  <c:v>12.153688472</c:v>
                </c:pt>
                <c:pt idx="94">
                  <c:v>27.392391394</c:v>
                </c:pt>
                <c:pt idx="95">
                  <c:v>27.245649835</c:v>
                </c:pt>
                <c:pt idx="96">
                  <c:v>24.404675346</c:v>
                </c:pt>
                <c:pt idx="97">
                  <c:v>27.243948387</c:v>
                </c:pt>
                <c:pt idx="98">
                  <c:v>27.107394785</c:v>
                </c:pt>
                <c:pt idx="99">
                  <c:v>27.251039153</c:v>
                </c:pt>
                <c:pt idx="100">
                  <c:v>26.619100742</c:v>
                </c:pt>
                <c:pt idx="101">
                  <c:v>27.247918761</c:v>
                </c:pt>
                <c:pt idx="102">
                  <c:v>27.311697483</c:v>
                </c:pt>
                <c:pt idx="103">
                  <c:v>27.332516064</c:v>
                </c:pt>
                <c:pt idx="104">
                  <c:v>24.21421077</c:v>
                </c:pt>
                <c:pt idx="105">
                  <c:v>27.247351494</c:v>
                </c:pt>
                <c:pt idx="106">
                  <c:v>27.302391673</c:v>
                </c:pt>
                <c:pt idx="107">
                  <c:v>27.074310089</c:v>
                </c:pt>
                <c:pt idx="108">
                  <c:v>26.469527508</c:v>
                </c:pt>
                <c:pt idx="109">
                  <c:v>27.187825475</c:v>
                </c:pt>
                <c:pt idx="110">
                  <c:v>27.03218356</c:v>
                </c:pt>
                <c:pt idx="111">
                  <c:v>27.109359977</c:v>
                </c:pt>
                <c:pt idx="112">
                  <c:v>24.258868218</c:v>
                </c:pt>
                <c:pt idx="113">
                  <c:v>26.947767703</c:v>
                </c:pt>
                <c:pt idx="114">
                  <c:v>26.996126275</c:v>
                </c:pt>
                <c:pt idx="115">
                  <c:v>26.900780006</c:v>
                </c:pt>
                <c:pt idx="116">
                  <c:v>26.159410754</c:v>
                </c:pt>
                <c:pt idx="117">
                  <c:v>26.956370623</c:v>
                </c:pt>
                <c:pt idx="118">
                  <c:v>26.631287776</c:v>
                </c:pt>
                <c:pt idx="119">
                  <c:v>26.012187326</c:v>
                </c:pt>
                <c:pt idx="120">
                  <c:v>23.924143359</c:v>
                </c:pt>
                <c:pt idx="121">
                  <c:v>26.941943038</c:v>
                </c:pt>
                <c:pt idx="122">
                  <c:v>26.855976345</c:v>
                </c:pt>
                <c:pt idx="123">
                  <c:v>26.892949299</c:v>
                </c:pt>
                <c:pt idx="124">
                  <c:v>24.474576193</c:v>
                </c:pt>
                <c:pt idx="125">
                  <c:v>11.291483435</c:v>
                </c:pt>
                <c:pt idx="126">
                  <c:v>27.301062789</c:v>
                </c:pt>
                <c:pt idx="127">
                  <c:v>27.453969281</c:v>
                </c:pt>
                <c:pt idx="128">
                  <c:v>24.329744101</c:v>
                </c:pt>
                <c:pt idx="129">
                  <c:v>27.073750027</c:v>
                </c:pt>
                <c:pt idx="130">
                  <c:v>27.315972684</c:v>
                </c:pt>
                <c:pt idx="131">
                  <c:v>27.322815791</c:v>
                </c:pt>
                <c:pt idx="132">
                  <c:v>26.507590661</c:v>
                </c:pt>
                <c:pt idx="133">
                  <c:v>27.321009638</c:v>
                </c:pt>
                <c:pt idx="134">
                  <c:v>27.351842018</c:v>
                </c:pt>
                <c:pt idx="135">
                  <c:v>24.139997526</c:v>
                </c:pt>
                <c:pt idx="136">
                  <c:v>26.326390941</c:v>
                </c:pt>
                <c:pt idx="137">
                  <c:v>27.336321973</c:v>
                </c:pt>
                <c:pt idx="138">
                  <c:v>27.253876492</c:v>
                </c:pt>
                <c:pt idx="139">
                  <c:v>27.058823594</c:v>
                </c:pt>
                <c:pt idx="140">
                  <c:v>26.38822923</c:v>
                </c:pt>
                <c:pt idx="141">
                  <c:v>27.126122475</c:v>
                </c:pt>
                <c:pt idx="142">
                  <c:v>27.069270368</c:v>
                </c:pt>
                <c:pt idx="143">
                  <c:v>24.849581804</c:v>
                </c:pt>
                <c:pt idx="144">
                  <c:v>26.18165122</c:v>
                </c:pt>
                <c:pt idx="145">
                  <c:v>27.019440997</c:v>
                </c:pt>
                <c:pt idx="146">
                  <c:v>27.028927017</c:v>
                </c:pt>
                <c:pt idx="147">
                  <c:v>26.097424719</c:v>
                </c:pt>
                <c:pt idx="148">
                  <c:v>26.119472988</c:v>
                </c:pt>
                <c:pt idx="149">
                  <c:v>26.948230086</c:v>
                </c:pt>
                <c:pt idx="150">
                  <c:v>27.125560268</c:v>
                </c:pt>
                <c:pt idx="151">
                  <c:v>24.556315009</c:v>
                </c:pt>
                <c:pt idx="152">
                  <c:v>26.049723323</c:v>
                </c:pt>
                <c:pt idx="153">
                  <c:v>26.831384137</c:v>
                </c:pt>
                <c:pt idx="154">
                  <c:v>26.791563417</c:v>
                </c:pt>
                <c:pt idx="155">
                  <c:v>26.791837638</c:v>
                </c:pt>
                <c:pt idx="156">
                  <c:v>26.021065382</c:v>
                </c:pt>
                <c:pt idx="157">
                  <c:v>11.720386795</c:v>
                </c:pt>
                <c:pt idx="158">
                  <c:v>27.410462588</c:v>
                </c:pt>
                <c:pt idx="159">
                  <c:v>25.053571026</c:v>
                </c:pt>
                <c:pt idx="160">
                  <c:v>26.485061216</c:v>
                </c:pt>
                <c:pt idx="161">
                  <c:v>27.399368448</c:v>
                </c:pt>
                <c:pt idx="162">
                  <c:v>27.406636007</c:v>
                </c:pt>
                <c:pt idx="163">
                  <c:v>27.302391673</c:v>
                </c:pt>
                <c:pt idx="164">
                  <c:v>26.504638196</c:v>
                </c:pt>
                <c:pt idx="165">
                  <c:v>27.411515084</c:v>
                </c:pt>
                <c:pt idx="166">
                  <c:v>27.323576348</c:v>
                </c:pt>
                <c:pt idx="167">
                  <c:v>24.902063439</c:v>
                </c:pt>
                <c:pt idx="168">
                  <c:v>26.523079505</c:v>
                </c:pt>
                <c:pt idx="169">
                  <c:v>27.214396052</c:v>
                </c:pt>
                <c:pt idx="170">
                  <c:v>27.0553742</c:v>
                </c:pt>
                <c:pt idx="171">
                  <c:v>27.138403144</c:v>
                </c:pt>
                <c:pt idx="172">
                  <c:v>26.351568949</c:v>
                </c:pt>
                <c:pt idx="173">
                  <c:v>27.088506048</c:v>
                </c:pt>
                <c:pt idx="174">
                  <c:v>27.251133721</c:v>
                </c:pt>
                <c:pt idx="175">
                  <c:v>24.764320276</c:v>
                </c:pt>
                <c:pt idx="176">
                  <c:v>25.339679042</c:v>
                </c:pt>
                <c:pt idx="177">
                  <c:v>27.032741903</c:v>
                </c:pt>
                <c:pt idx="178">
                  <c:v>26.871783168</c:v>
                </c:pt>
                <c:pt idx="179">
                  <c:v>26.908799688</c:v>
                </c:pt>
                <c:pt idx="180">
                  <c:v>26.181040192</c:v>
                </c:pt>
                <c:pt idx="181">
                  <c:v>26.979709392</c:v>
                </c:pt>
                <c:pt idx="182">
                  <c:v>24.600394707</c:v>
                </c:pt>
                <c:pt idx="183">
                  <c:v>26.813244176</c:v>
                </c:pt>
                <c:pt idx="184">
                  <c:v>26.137556027</c:v>
                </c:pt>
                <c:pt idx="185">
                  <c:v>26.844959337</c:v>
                </c:pt>
                <c:pt idx="186">
                  <c:v>26.827900827</c:v>
                </c:pt>
                <c:pt idx="187">
                  <c:v>26.838078296</c:v>
                </c:pt>
                <c:pt idx="188">
                  <c:v>26.145649335</c:v>
                </c:pt>
                <c:pt idx="189">
                  <c:v>11.993000969</c:v>
                </c:pt>
                <c:pt idx="190">
                  <c:v>25.031848508</c:v>
                </c:pt>
                <c:pt idx="191">
                  <c:v>27.271291775</c:v>
                </c:pt>
                <c:pt idx="192">
                  <c:v>26.56084774</c:v>
                </c:pt>
                <c:pt idx="193">
                  <c:v>27.432965343</c:v>
                </c:pt>
                <c:pt idx="194">
                  <c:v>27.428078628</c:v>
                </c:pt>
                <c:pt idx="195">
                  <c:v>27.237050252</c:v>
                </c:pt>
                <c:pt idx="196">
                  <c:v>26.528724449</c:v>
                </c:pt>
                <c:pt idx="197">
                  <c:v>27.376634426</c:v>
                </c:pt>
                <c:pt idx="198">
                  <c:v>24.946681011</c:v>
                </c:pt>
                <c:pt idx="199">
                  <c:v>27.1884844</c:v>
                </c:pt>
                <c:pt idx="200">
                  <c:v>26.57217222</c:v>
                </c:pt>
                <c:pt idx="201">
                  <c:v>27.113197603</c:v>
                </c:pt>
                <c:pt idx="202">
                  <c:v>27.136058646</c:v>
                </c:pt>
                <c:pt idx="203">
                  <c:v>27.081126027</c:v>
                </c:pt>
                <c:pt idx="204">
                  <c:v>25.565387743</c:v>
                </c:pt>
                <c:pt idx="205">
                  <c:v>27.138309356</c:v>
                </c:pt>
                <c:pt idx="206">
                  <c:v>24.915811402</c:v>
                </c:pt>
                <c:pt idx="207">
                  <c:v>26.936675272</c:v>
                </c:pt>
                <c:pt idx="208">
                  <c:v>26.3264792</c:v>
                </c:pt>
                <c:pt idx="209">
                  <c:v>27.082900602</c:v>
                </c:pt>
                <c:pt idx="210">
                  <c:v>26.933811211</c:v>
                </c:pt>
                <c:pt idx="211">
                  <c:v>26.898660658</c:v>
                </c:pt>
                <c:pt idx="212">
                  <c:v>26.220816386</c:v>
                </c:pt>
                <c:pt idx="213">
                  <c:v>26.99547664</c:v>
                </c:pt>
                <c:pt idx="214">
                  <c:v>24.701534091</c:v>
                </c:pt>
                <c:pt idx="215">
                  <c:v>26.961738667</c:v>
                </c:pt>
                <c:pt idx="216">
                  <c:v>26.153312136</c:v>
                </c:pt>
                <c:pt idx="217">
                  <c:v>26.906771271</c:v>
                </c:pt>
                <c:pt idx="218">
                  <c:v>26.883466432</c:v>
                </c:pt>
                <c:pt idx="219">
                  <c:v>26.792203274</c:v>
                </c:pt>
                <c:pt idx="220">
                  <c:v>26.03814897</c:v>
                </c:pt>
                <c:pt idx="221">
                  <c:v>13.586668596</c:v>
                </c:pt>
                <c:pt idx="222">
                  <c:v>25.198117043</c:v>
                </c:pt>
                <c:pt idx="223">
                  <c:v>27.361562916</c:v>
                </c:pt>
                <c:pt idx="224">
                  <c:v>26.654066789</c:v>
                </c:pt>
                <c:pt idx="225">
                  <c:v>27.544006606</c:v>
                </c:pt>
                <c:pt idx="226">
                  <c:v>27.401089364</c:v>
                </c:pt>
                <c:pt idx="227">
                  <c:v>27.364804751</c:v>
                </c:pt>
                <c:pt idx="228">
                  <c:v>26.553931976</c:v>
                </c:pt>
                <c:pt idx="229">
                  <c:v>27.386468467</c:v>
                </c:pt>
                <c:pt idx="230">
                  <c:v>24.950168539</c:v>
                </c:pt>
                <c:pt idx="231">
                  <c:v>27.321104693</c:v>
                </c:pt>
                <c:pt idx="232">
                  <c:v>25.59296682</c:v>
                </c:pt>
                <c:pt idx="233">
                  <c:v>27.064139248</c:v>
                </c:pt>
                <c:pt idx="234">
                  <c:v>27.175782183</c:v>
                </c:pt>
                <c:pt idx="235">
                  <c:v>27.256430603</c:v>
                </c:pt>
                <c:pt idx="236">
                  <c:v>26.61089207</c:v>
                </c:pt>
                <c:pt idx="237">
                  <c:v>25.089271276</c:v>
                </c:pt>
                <c:pt idx="238">
                  <c:v>27.047080608</c:v>
                </c:pt>
                <c:pt idx="239">
                  <c:v>27.211189755</c:v>
                </c:pt>
                <c:pt idx="240">
                  <c:v>26.321272886</c:v>
                </c:pt>
                <c:pt idx="241">
                  <c:v>27.120501452</c:v>
                </c:pt>
                <c:pt idx="242">
                  <c:v>26.980265569</c:v>
                </c:pt>
                <c:pt idx="243">
                  <c:v>27.105523438</c:v>
                </c:pt>
                <c:pt idx="244">
                  <c:v>26.296769122</c:v>
                </c:pt>
                <c:pt idx="245">
                  <c:v>24.695940887</c:v>
                </c:pt>
                <c:pt idx="246">
                  <c:v>26.883558467</c:v>
                </c:pt>
                <c:pt idx="247">
                  <c:v>26.935658923</c:v>
                </c:pt>
                <c:pt idx="248">
                  <c:v>26.225807858</c:v>
                </c:pt>
                <c:pt idx="249">
                  <c:v>26.867737792</c:v>
                </c:pt>
                <c:pt idx="250">
                  <c:v>26.718183101</c:v>
                </c:pt>
                <c:pt idx="251">
                  <c:v>26.867370091</c:v>
                </c:pt>
                <c:pt idx="252">
                  <c:v>26.271519889</c:v>
                </c:pt>
                <c:pt idx="253">
                  <c:v>11.885846696</c:v>
                </c:pt>
                <c:pt idx="254">
                  <c:v>27.385417893</c:v>
                </c:pt>
                <c:pt idx="255">
                  <c:v>27.420225205</c:v>
                </c:pt>
                <c:pt idx="256">
                  <c:v>26.542892183</c:v>
                </c:pt>
                <c:pt idx="257">
                  <c:v>27.242530677</c:v>
                </c:pt>
                <c:pt idx="258">
                  <c:v>27.294704921</c:v>
                </c:pt>
                <c:pt idx="259">
                  <c:v>27.424821785</c:v>
                </c:pt>
                <c:pt idx="260">
                  <c:v>26.503743639</c:v>
                </c:pt>
                <c:pt idx="261">
                  <c:v>24.088015397</c:v>
                </c:pt>
                <c:pt idx="262">
                  <c:v>27.310462674</c:v>
                </c:pt>
                <c:pt idx="263">
                  <c:v>27.296792253</c:v>
                </c:pt>
                <c:pt idx="264">
                  <c:v>26.470508984</c:v>
                </c:pt>
                <c:pt idx="265">
                  <c:v>27.319108683</c:v>
                </c:pt>
                <c:pt idx="266">
                  <c:v>27.144500734</c:v>
                </c:pt>
                <c:pt idx="267">
                  <c:v>27.257565917</c:v>
                </c:pt>
                <c:pt idx="268">
                  <c:v>26.480417048</c:v>
                </c:pt>
                <c:pt idx="269">
                  <c:v>24.83967772</c:v>
                </c:pt>
                <c:pt idx="270">
                  <c:v>27.058077705</c:v>
                </c:pt>
                <c:pt idx="271">
                  <c:v>27.167884569</c:v>
                </c:pt>
                <c:pt idx="272">
                  <c:v>26.262470136</c:v>
                </c:pt>
                <c:pt idx="273">
                  <c:v>27.137652861</c:v>
                </c:pt>
                <c:pt idx="274">
                  <c:v>27.016001635</c:v>
                </c:pt>
                <c:pt idx="275">
                  <c:v>27.060595247</c:v>
                </c:pt>
                <c:pt idx="276">
                  <c:v>26.338841413</c:v>
                </c:pt>
                <c:pt idx="277">
                  <c:v>24.809856012</c:v>
                </c:pt>
                <c:pt idx="278">
                  <c:v>26.909168524</c:v>
                </c:pt>
                <c:pt idx="279">
                  <c:v>27.057145401</c:v>
                </c:pt>
                <c:pt idx="280">
                  <c:v>26.191693612</c:v>
                </c:pt>
                <c:pt idx="281">
                  <c:v>26.88493906</c:v>
                </c:pt>
                <c:pt idx="282">
                  <c:v>26.877945514</c:v>
                </c:pt>
                <c:pt idx="283">
                  <c:v>26.920515169</c:v>
                </c:pt>
                <c:pt idx="284">
                  <c:v>26.272838334</c:v>
                </c:pt>
                <c:pt idx="285">
                  <c:v>10.995603567</c:v>
                </c:pt>
                <c:pt idx="286">
                  <c:v>27.40615776</c:v>
                </c:pt>
                <c:pt idx="287">
                  <c:v>27.46232224</c:v>
                </c:pt>
                <c:pt idx="288">
                  <c:v>26.787907675</c:v>
                </c:pt>
                <c:pt idx="289">
                  <c:v>26.566508773</c:v>
                </c:pt>
                <c:pt idx="290">
                  <c:v>27.218169135</c:v>
                </c:pt>
                <c:pt idx="291">
                  <c:v>27.485487462</c:v>
                </c:pt>
                <c:pt idx="292">
                  <c:v>24.378234251</c:v>
                </c:pt>
                <c:pt idx="293">
                  <c:v>27.374248588</c:v>
                </c:pt>
                <c:pt idx="294">
                  <c:v>27.530197957</c:v>
                </c:pt>
                <c:pt idx="295">
                  <c:v>27.364327962</c:v>
                </c:pt>
                <c:pt idx="296">
                  <c:v>26.339901571</c:v>
                </c:pt>
                <c:pt idx="297">
                  <c:v>26.517168331</c:v>
                </c:pt>
                <c:pt idx="298">
                  <c:v>27.273943878</c:v>
                </c:pt>
                <c:pt idx="299">
                  <c:v>27.193756953</c:v>
                </c:pt>
                <c:pt idx="300">
                  <c:v>24.165924079</c:v>
                </c:pt>
                <c:pt idx="301">
                  <c:v>27.289582825</c:v>
                </c:pt>
                <c:pt idx="302">
                  <c:v>26.975816791</c:v>
                </c:pt>
                <c:pt idx="303">
                  <c:v>27.148911468</c:v>
                </c:pt>
                <c:pt idx="304">
                  <c:v>26.27231094</c:v>
                </c:pt>
                <c:pt idx="305">
                  <c:v>27.096825068</c:v>
                </c:pt>
                <c:pt idx="306">
                  <c:v>26.96257183</c:v>
                </c:pt>
                <c:pt idx="307">
                  <c:v>27.223736342</c:v>
                </c:pt>
                <c:pt idx="308">
                  <c:v>24.22242675</c:v>
                </c:pt>
                <c:pt idx="309">
                  <c:v>27.000488918</c:v>
                </c:pt>
                <c:pt idx="310">
                  <c:v>27.079538447</c:v>
                </c:pt>
                <c:pt idx="311">
                  <c:v>27.020184758</c:v>
                </c:pt>
                <c:pt idx="312">
                  <c:v>25.964625034</c:v>
                </c:pt>
                <c:pt idx="313">
                  <c:v>27.087571646</c:v>
                </c:pt>
                <c:pt idx="314">
                  <c:v>26.891567883</c:v>
                </c:pt>
                <c:pt idx="315">
                  <c:v>27.080285521</c:v>
                </c:pt>
                <c:pt idx="316">
                  <c:v>24.155888581</c:v>
                </c:pt>
                <c:pt idx="317">
                  <c:v>11.570609411</c:v>
                </c:pt>
                <c:pt idx="318">
                  <c:v>27.273754425</c:v>
                </c:pt>
                <c:pt idx="319">
                  <c:v>27.53560389</c:v>
                </c:pt>
                <c:pt idx="320">
                  <c:v>26.82863408</c:v>
                </c:pt>
                <c:pt idx="321">
                  <c:v>27.297171802</c:v>
                </c:pt>
                <c:pt idx="322">
                  <c:v>27.194227816</c:v>
                </c:pt>
                <c:pt idx="323">
                  <c:v>25.060447022</c:v>
                </c:pt>
                <c:pt idx="324">
                  <c:v>26.486401182</c:v>
                </c:pt>
                <c:pt idx="325">
                  <c:v>27.42597117</c:v>
                </c:pt>
                <c:pt idx="326">
                  <c:v>27.240357141</c:v>
                </c:pt>
                <c:pt idx="327">
                  <c:v>27.201952298</c:v>
                </c:pt>
                <c:pt idx="328">
                  <c:v>26.443945593</c:v>
                </c:pt>
                <c:pt idx="329">
                  <c:v>27.233366379</c:v>
                </c:pt>
                <c:pt idx="330">
                  <c:v>27.198654726</c:v>
                </c:pt>
                <c:pt idx="331">
                  <c:v>24.884623804</c:v>
                </c:pt>
                <c:pt idx="332">
                  <c:v>26.223793527</c:v>
                </c:pt>
                <c:pt idx="333">
                  <c:v>27.196770759</c:v>
                </c:pt>
                <c:pt idx="334">
                  <c:v>27.189990635</c:v>
                </c:pt>
                <c:pt idx="335">
                  <c:v>27.291859075</c:v>
                </c:pt>
                <c:pt idx="336">
                  <c:v>26.263875514</c:v>
                </c:pt>
                <c:pt idx="337">
                  <c:v>27.069456991</c:v>
                </c:pt>
                <c:pt idx="338">
                  <c:v>27.126684706</c:v>
                </c:pt>
                <c:pt idx="339">
                  <c:v>24.755186357</c:v>
                </c:pt>
                <c:pt idx="340">
                  <c:v>26.266423144</c:v>
                </c:pt>
                <c:pt idx="341">
                  <c:v>27.0643258</c:v>
                </c:pt>
                <c:pt idx="342">
                  <c:v>26.906863465</c:v>
                </c:pt>
                <c:pt idx="343">
                  <c:v>26.827625868</c:v>
                </c:pt>
                <c:pt idx="344">
                  <c:v>26.123296159</c:v>
                </c:pt>
                <c:pt idx="345">
                  <c:v>26.996590319</c:v>
                </c:pt>
                <c:pt idx="346">
                  <c:v>25.98068901</c:v>
                </c:pt>
                <c:pt idx="347">
                  <c:v>24.758620544</c:v>
                </c:pt>
                <c:pt idx="348">
                  <c:v>26.056378914</c:v>
                </c:pt>
                <c:pt idx="349">
                  <c:v>3.737104919</c:v>
                </c:pt>
                <c:pt idx="350">
                  <c:v>27.400420093</c:v>
                </c:pt>
                <c:pt idx="351">
                  <c:v>27.646408613</c:v>
                </c:pt>
                <c:pt idx="352">
                  <c:v>26.71518354</c:v>
                </c:pt>
                <c:pt idx="353">
                  <c:v>27.420895443</c:v>
                </c:pt>
                <c:pt idx="354">
                  <c:v>27.397360986</c:v>
                </c:pt>
                <c:pt idx="355">
                  <c:v>25.102986038</c:v>
                </c:pt>
                <c:pt idx="356">
                  <c:v>26.445192344</c:v>
                </c:pt>
                <c:pt idx="357">
                  <c:v>27.48635331</c:v>
                </c:pt>
                <c:pt idx="358">
                  <c:v>27.239790189</c:v>
                </c:pt>
                <c:pt idx="359">
                  <c:v>27.289013822</c:v>
                </c:pt>
                <c:pt idx="360">
                  <c:v>26.546571094</c:v>
                </c:pt>
                <c:pt idx="361">
                  <c:v>27.225624048</c:v>
                </c:pt>
                <c:pt idx="362">
                  <c:v>27.070483463</c:v>
                </c:pt>
                <c:pt idx="363">
                  <c:v>25.071488488</c:v>
                </c:pt>
                <c:pt idx="364">
                  <c:v>26.349358425</c:v>
                </c:pt>
                <c:pt idx="365">
                  <c:v>27.215433546</c:v>
                </c:pt>
                <c:pt idx="366">
                  <c:v>27.119752158</c:v>
                </c:pt>
                <c:pt idx="367">
                  <c:v>27.16356163</c:v>
                </c:pt>
                <c:pt idx="368">
                  <c:v>26.315186757</c:v>
                </c:pt>
                <c:pt idx="369">
                  <c:v>27.180109012</c:v>
                </c:pt>
                <c:pt idx="370">
                  <c:v>27.093739892</c:v>
                </c:pt>
                <c:pt idx="371">
                  <c:v>24.721130275</c:v>
                </c:pt>
                <c:pt idx="372">
                  <c:v>26.242196742</c:v>
                </c:pt>
                <c:pt idx="373">
                  <c:v>27.158864344</c:v>
                </c:pt>
                <c:pt idx="374">
                  <c:v>25.904326641</c:v>
                </c:pt>
                <c:pt idx="375">
                  <c:v>26.912580736</c:v>
                </c:pt>
                <c:pt idx="376">
                  <c:v>26.159585042</c:v>
                </c:pt>
                <c:pt idx="377">
                  <c:v>27.044565579</c:v>
                </c:pt>
                <c:pt idx="378">
                  <c:v>24.710084159</c:v>
                </c:pt>
                <c:pt idx="379">
                  <c:v>26.844500492</c:v>
                </c:pt>
                <c:pt idx="380">
                  <c:v>26.090488088</c:v>
                </c:pt>
                <c:pt idx="381">
                  <c:v>11.60165291</c:v>
                </c:pt>
                <c:pt idx="382">
                  <c:v>27.311127557</c:v>
                </c:pt>
                <c:pt idx="383">
                  <c:v>27.34812703</c:v>
                </c:pt>
                <c:pt idx="384">
                  <c:v>26.58566634</c:v>
                </c:pt>
                <c:pt idx="385">
                  <c:v>27.644851387</c:v>
                </c:pt>
                <c:pt idx="386">
                  <c:v>24.78558076</c:v>
                </c:pt>
                <c:pt idx="387">
                  <c:v>27.262297411</c:v>
                </c:pt>
                <c:pt idx="388">
                  <c:v>26.660763268</c:v>
                </c:pt>
                <c:pt idx="389">
                  <c:v>27.252079442</c:v>
                </c:pt>
                <c:pt idx="390">
                  <c:v>26.420901884</c:v>
                </c:pt>
                <c:pt idx="391">
                  <c:v>27.17916828</c:v>
                </c:pt>
                <c:pt idx="392">
                  <c:v>26.587466592</c:v>
                </c:pt>
                <c:pt idx="393">
                  <c:v>27.408549164</c:v>
                </c:pt>
                <c:pt idx="394">
                  <c:v>24.927596153</c:v>
                </c:pt>
                <c:pt idx="395">
                  <c:v>27.196959144</c:v>
                </c:pt>
                <c:pt idx="396">
                  <c:v>26.465245553</c:v>
                </c:pt>
                <c:pt idx="397">
                  <c:v>27.273564975</c:v>
                </c:pt>
                <c:pt idx="398">
                  <c:v>27.092337771</c:v>
                </c:pt>
                <c:pt idx="399">
                  <c:v>27.119564841</c:v>
                </c:pt>
                <c:pt idx="400">
                  <c:v>26.375111913</c:v>
                </c:pt>
                <c:pt idx="401">
                  <c:v>27.194510342</c:v>
                </c:pt>
                <c:pt idx="402">
                  <c:v>24.066016535</c:v>
                </c:pt>
                <c:pt idx="403">
                  <c:v>26.962664407</c:v>
                </c:pt>
                <c:pt idx="404">
                  <c:v>26.250442743</c:v>
                </c:pt>
                <c:pt idx="405">
                  <c:v>26.989909625</c:v>
                </c:pt>
                <c:pt idx="406">
                  <c:v>26.962942142</c:v>
                </c:pt>
                <c:pt idx="407">
                  <c:v>26.909445158</c:v>
                </c:pt>
                <c:pt idx="408">
                  <c:v>26.283214722</c:v>
                </c:pt>
                <c:pt idx="409">
                  <c:v>24.736704946</c:v>
                </c:pt>
                <c:pt idx="410">
                  <c:v>26.759974222</c:v>
                </c:pt>
                <c:pt idx="411">
                  <c:v>26.956000492</c:v>
                </c:pt>
                <c:pt idx="412">
                  <c:v>26.10740259</c:v>
                </c:pt>
                <c:pt idx="413">
                  <c:v>13.415485796</c:v>
                </c:pt>
                <c:pt idx="414">
                  <c:v>27.394111434</c:v>
                </c:pt>
                <c:pt idx="415">
                  <c:v>27.456561035</c:v>
                </c:pt>
                <c:pt idx="416">
                  <c:v>26.70428172</c:v>
                </c:pt>
                <c:pt idx="417">
                  <c:v>25.096166885</c:v>
                </c:pt>
                <c:pt idx="418">
                  <c:v>27.362611661</c:v>
                </c:pt>
                <c:pt idx="419">
                  <c:v>27.434498789</c:v>
                </c:pt>
                <c:pt idx="420">
                  <c:v>26.517257875</c:v>
                </c:pt>
                <c:pt idx="421">
                  <c:v>27.347269868</c:v>
                </c:pt>
                <c:pt idx="422">
                  <c:v>27.182649315</c:v>
                </c:pt>
                <c:pt idx="423">
                  <c:v>27.329567214</c:v>
                </c:pt>
                <c:pt idx="424">
                  <c:v>26.614680059</c:v>
                </c:pt>
                <c:pt idx="425">
                  <c:v>25.03496082</c:v>
                </c:pt>
                <c:pt idx="426">
                  <c:v>27.069643617</c:v>
                </c:pt>
                <c:pt idx="427">
                  <c:v>27.233555271</c:v>
                </c:pt>
                <c:pt idx="428">
                  <c:v>26.434954657</c:v>
                </c:pt>
                <c:pt idx="429">
                  <c:v>27.249053366</c:v>
                </c:pt>
                <c:pt idx="430">
                  <c:v>27.10365235</c:v>
                </c:pt>
                <c:pt idx="431">
                  <c:v>26.195275806</c:v>
                </c:pt>
                <c:pt idx="432">
                  <c:v>26.375289088</c:v>
                </c:pt>
                <c:pt idx="433">
                  <c:v>24.912886714</c:v>
                </c:pt>
                <c:pt idx="434">
                  <c:v>27.129683662</c:v>
                </c:pt>
                <c:pt idx="435">
                  <c:v>27.038978302</c:v>
                </c:pt>
                <c:pt idx="436">
                  <c:v>26.315098573</c:v>
                </c:pt>
                <c:pt idx="437">
                  <c:v>27.026043307</c:v>
                </c:pt>
                <c:pt idx="438">
                  <c:v>26.809216404</c:v>
                </c:pt>
                <c:pt idx="439">
                  <c:v>26.956185556</c:v>
                </c:pt>
                <c:pt idx="440">
                  <c:v>26.355548827</c:v>
                </c:pt>
                <c:pt idx="441">
                  <c:v>24.638215107</c:v>
                </c:pt>
                <c:pt idx="442">
                  <c:v>26.915532537</c:v>
                </c:pt>
                <c:pt idx="443">
                  <c:v>26.759609464</c:v>
                </c:pt>
                <c:pt idx="444">
                  <c:v>26.046958364</c:v>
                </c:pt>
                <c:pt idx="445">
                  <c:v>13.62845182</c:v>
                </c:pt>
                <c:pt idx="446">
                  <c:v>27.357464048</c:v>
                </c:pt>
                <c:pt idx="447">
                  <c:v>27.466068321</c:v>
                </c:pt>
                <c:pt idx="448">
                  <c:v>26.693025849</c:v>
                </c:pt>
                <c:pt idx="449">
                  <c:v>25.024350216</c:v>
                </c:pt>
                <c:pt idx="450">
                  <c:v>27.243853869</c:v>
                </c:pt>
                <c:pt idx="451">
                  <c:v>27.358321849</c:v>
                </c:pt>
                <c:pt idx="452">
                  <c:v>26.630836206</c:v>
                </c:pt>
                <c:pt idx="453">
                  <c:v>27.267219906</c:v>
                </c:pt>
                <c:pt idx="454">
                  <c:v>27.37902068</c:v>
                </c:pt>
                <c:pt idx="455">
                  <c:v>27.139903835</c:v>
                </c:pt>
                <c:pt idx="456">
                  <c:v>26.379807832</c:v>
                </c:pt>
                <c:pt idx="457">
                  <c:v>24.873903857</c:v>
                </c:pt>
                <c:pt idx="458">
                  <c:v>27.168448532</c:v>
                </c:pt>
                <c:pt idx="459">
                  <c:v>26.216439466</c:v>
                </c:pt>
                <c:pt idx="460">
                  <c:v>26.292806975</c:v>
                </c:pt>
                <c:pt idx="461">
                  <c:v>27.325477926</c:v>
                </c:pt>
                <c:pt idx="462">
                  <c:v>27.173807349</c:v>
                </c:pt>
                <c:pt idx="463">
                  <c:v>27.372721869</c:v>
                </c:pt>
                <c:pt idx="464">
                  <c:v>24.208836055</c:v>
                </c:pt>
                <c:pt idx="465">
                  <c:v>27.104494308</c:v>
                </c:pt>
                <c:pt idx="466">
                  <c:v>27.076363846</c:v>
                </c:pt>
                <c:pt idx="467">
                  <c:v>27.082433586</c:v>
                </c:pt>
                <c:pt idx="468">
                  <c:v>26.366787415</c:v>
                </c:pt>
                <c:pt idx="469">
                  <c:v>27.025857282</c:v>
                </c:pt>
                <c:pt idx="470">
                  <c:v>26.981285288</c:v>
                </c:pt>
                <c:pt idx="471">
                  <c:v>26.985364932</c:v>
                </c:pt>
                <c:pt idx="472">
                  <c:v>24.020742992</c:v>
                </c:pt>
                <c:pt idx="473">
                  <c:v>26.969979995</c:v>
                </c:pt>
                <c:pt idx="474">
                  <c:v>26.707188002</c:v>
                </c:pt>
                <c:pt idx="475">
                  <c:v>26.811230139</c:v>
                </c:pt>
                <c:pt idx="476">
                  <c:v>26.045230562</c:v>
                </c:pt>
                <c:pt idx="477">
                  <c:v>13.760733034</c:v>
                </c:pt>
                <c:pt idx="478">
                  <c:v>27.408262173</c:v>
                </c:pt>
                <c:pt idx="479">
                  <c:v>27.661893087</c:v>
                </c:pt>
                <c:pt idx="480">
                  <c:v>24.325749639</c:v>
                </c:pt>
                <c:pt idx="481">
                  <c:v>27.494340927</c:v>
                </c:pt>
                <c:pt idx="482">
                  <c:v>27.217414435</c:v>
                </c:pt>
                <c:pt idx="483">
                  <c:v>27.189802347</c:v>
                </c:pt>
                <c:pt idx="484">
                  <c:v>26.575139751</c:v>
                </c:pt>
                <c:pt idx="485">
                  <c:v>27.338891561</c:v>
                </c:pt>
                <c:pt idx="486">
                  <c:v>27.089720867</c:v>
                </c:pt>
                <c:pt idx="487">
                  <c:v>26.438336667</c:v>
                </c:pt>
                <c:pt idx="488">
                  <c:v>24.238725813</c:v>
                </c:pt>
                <c:pt idx="489">
                  <c:v>27.338225325</c:v>
                </c:pt>
                <c:pt idx="490">
                  <c:v>27.077204109</c:v>
                </c:pt>
                <c:pt idx="491">
                  <c:v>27.115631782</c:v>
                </c:pt>
                <c:pt idx="492">
                  <c:v>26.423835722</c:v>
                </c:pt>
                <c:pt idx="493">
                  <c:v>27.158112929</c:v>
                </c:pt>
                <c:pt idx="494">
                  <c:v>27.180391245</c:v>
                </c:pt>
                <c:pt idx="495">
                  <c:v>27.035906283</c:v>
                </c:pt>
                <c:pt idx="496">
                  <c:v>24.102432407</c:v>
                </c:pt>
                <c:pt idx="497">
                  <c:v>27.033300269</c:v>
                </c:pt>
                <c:pt idx="498">
                  <c:v>27.006803323</c:v>
                </c:pt>
                <c:pt idx="499">
                  <c:v>26.969979995</c:v>
                </c:pt>
                <c:pt idx="500">
                  <c:v>26.253338845</c:v>
                </c:pt>
                <c:pt idx="501">
                  <c:v>26.118169889</c:v>
                </c:pt>
                <c:pt idx="502">
                  <c:v>26.935196971</c:v>
                </c:pt>
                <c:pt idx="503">
                  <c:v>24.734679129</c:v>
                </c:pt>
                <c:pt idx="504">
                  <c:v>26.201743711</c:v>
                </c:pt>
                <c:pt idx="505">
                  <c:v>26.862499</c:v>
                </c:pt>
                <c:pt idx="506">
                  <c:v>26.833217821</c:v>
                </c:pt>
                <c:pt idx="507">
                  <c:v>26.855608966</c:v>
                </c:pt>
                <c:pt idx="508">
                  <c:v>26.139296101</c:v>
                </c:pt>
                <c:pt idx="509">
                  <c:v>12.165192422</c:v>
                </c:pt>
                <c:pt idx="510">
                  <c:v>27.596082356</c:v>
                </c:pt>
                <c:pt idx="511">
                  <c:v>25.070287857</c:v>
                </c:pt>
                <c:pt idx="512">
                  <c:v>26.650177137</c:v>
                </c:pt>
                <c:pt idx="513">
                  <c:v>26.955075209</c:v>
                </c:pt>
                <c:pt idx="514">
                  <c:v>27.210906882</c:v>
                </c:pt>
                <c:pt idx="515">
                  <c:v>27.312172439</c:v>
                </c:pt>
                <c:pt idx="516">
                  <c:v>25.751336127</c:v>
                </c:pt>
                <c:pt idx="517">
                  <c:v>27.355939202</c:v>
                </c:pt>
                <c:pt idx="518">
                  <c:v>27.490298421</c:v>
                </c:pt>
                <c:pt idx="519">
                  <c:v>24.967065138</c:v>
                </c:pt>
                <c:pt idx="520">
                  <c:v>26.410238871</c:v>
                </c:pt>
                <c:pt idx="521">
                  <c:v>27.234594226</c:v>
                </c:pt>
                <c:pt idx="522">
                  <c:v>27.189519919</c:v>
                </c:pt>
                <c:pt idx="523">
                  <c:v>27.253308977</c:v>
                </c:pt>
                <c:pt idx="524">
                  <c:v>26.495516551</c:v>
                </c:pt>
                <c:pt idx="525">
                  <c:v>27.293376786</c:v>
                </c:pt>
                <c:pt idx="526">
                  <c:v>27.207418607</c:v>
                </c:pt>
                <c:pt idx="527">
                  <c:v>24.745123431</c:v>
                </c:pt>
                <c:pt idx="528">
                  <c:v>26.299235061</c:v>
                </c:pt>
                <c:pt idx="529">
                  <c:v>27.144219246</c:v>
                </c:pt>
                <c:pt idx="530">
                  <c:v>27.234216415</c:v>
                </c:pt>
                <c:pt idx="531">
                  <c:v>27.030694757</c:v>
                </c:pt>
                <c:pt idx="532">
                  <c:v>26.303022939</c:v>
                </c:pt>
                <c:pt idx="533">
                  <c:v>27.104026547</c:v>
                </c:pt>
                <c:pt idx="534">
                  <c:v>27.172679001</c:v>
                </c:pt>
                <c:pt idx="535">
                  <c:v>24.626779551</c:v>
                </c:pt>
                <c:pt idx="536">
                  <c:v>26.123469966</c:v>
                </c:pt>
                <c:pt idx="537">
                  <c:v>26.867002399</c:v>
                </c:pt>
                <c:pt idx="538">
                  <c:v>26.714274715</c:v>
                </c:pt>
                <c:pt idx="539">
                  <c:v>27.04372734</c:v>
                </c:pt>
                <c:pt idx="540">
                  <c:v>26.131815428</c:v>
                </c:pt>
                <c:pt idx="541">
                  <c:v>11.789008666</c:v>
                </c:pt>
                <c:pt idx="542">
                  <c:v>27.760463793</c:v>
                </c:pt>
                <c:pt idx="543">
                  <c:v>25.081898773</c:v>
                </c:pt>
                <c:pt idx="544">
                  <c:v>25.481931003</c:v>
                </c:pt>
                <c:pt idx="545">
                  <c:v>27.548451494</c:v>
                </c:pt>
                <c:pt idx="546">
                  <c:v>27.369382767</c:v>
                </c:pt>
                <c:pt idx="547">
                  <c:v>27.195075411</c:v>
                </c:pt>
                <c:pt idx="548">
                  <c:v>26.639960903</c:v>
                </c:pt>
                <c:pt idx="549">
                  <c:v>27.440250738</c:v>
                </c:pt>
                <c:pt idx="550">
                  <c:v>24.947315034</c:v>
                </c:pt>
                <c:pt idx="551">
                  <c:v>27.280386848</c:v>
                </c:pt>
                <c:pt idx="552">
                  <c:v>26.464442841</c:v>
                </c:pt>
                <c:pt idx="553">
                  <c:v>27.228267275</c:v>
                </c:pt>
                <c:pt idx="554">
                  <c:v>27.246689712</c:v>
                </c:pt>
                <c:pt idx="555">
                  <c:v>27.222226366</c:v>
                </c:pt>
                <c:pt idx="556">
                  <c:v>26.479077687</c:v>
                </c:pt>
                <c:pt idx="557">
                  <c:v>27.20930405</c:v>
                </c:pt>
                <c:pt idx="558">
                  <c:v>24.860674313</c:v>
                </c:pt>
                <c:pt idx="559">
                  <c:v>27.035161656</c:v>
                </c:pt>
                <c:pt idx="560">
                  <c:v>26.263436317</c:v>
                </c:pt>
                <c:pt idx="561">
                  <c:v>27.110670264</c:v>
                </c:pt>
                <c:pt idx="562">
                  <c:v>27.179544565</c:v>
                </c:pt>
                <c:pt idx="563">
                  <c:v>26.949432356</c:v>
                </c:pt>
                <c:pt idx="564">
                  <c:v>26.28752597</c:v>
                </c:pt>
                <c:pt idx="565">
                  <c:v>27.163373708</c:v>
                </c:pt>
                <c:pt idx="566">
                  <c:v>24.641230299</c:v>
                </c:pt>
                <c:pt idx="567">
                  <c:v>26.995662247</c:v>
                </c:pt>
                <c:pt idx="568">
                  <c:v>25.956300206</c:v>
                </c:pt>
                <c:pt idx="569">
                  <c:v>26.884294766</c:v>
                </c:pt>
                <c:pt idx="570">
                  <c:v>26.761798158</c:v>
                </c:pt>
                <c:pt idx="571">
                  <c:v>26.996590319</c:v>
                </c:pt>
                <c:pt idx="572">
                  <c:v>25.17089784</c:v>
                </c:pt>
                <c:pt idx="573">
                  <c:v>12.537765728</c:v>
                </c:pt>
                <c:pt idx="574">
                  <c:v>25.019805568</c:v>
                </c:pt>
                <c:pt idx="575">
                  <c:v>27.35174675</c:v>
                </c:pt>
                <c:pt idx="576">
                  <c:v>26.678334886</c:v>
                </c:pt>
                <c:pt idx="577">
                  <c:v>27.493570834</c:v>
                </c:pt>
                <c:pt idx="578">
                  <c:v>27.3522231</c:v>
                </c:pt>
                <c:pt idx="579">
                  <c:v>27.428366033</c:v>
                </c:pt>
                <c:pt idx="580">
                  <c:v>26.573251246</c:v>
                </c:pt>
                <c:pt idx="581">
                  <c:v>27.294799793</c:v>
                </c:pt>
                <c:pt idx="582">
                  <c:v>25.012633167</c:v>
                </c:pt>
                <c:pt idx="583">
                  <c:v>27.380834511</c:v>
                </c:pt>
                <c:pt idx="584">
                  <c:v>26.382998466</c:v>
                </c:pt>
                <c:pt idx="585">
                  <c:v>27.142905715</c:v>
                </c:pt>
                <c:pt idx="586">
                  <c:v>27.224774548</c:v>
                </c:pt>
                <c:pt idx="587">
                  <c:v>27.206853024</c:v>
                </c:pt>
                <c:pt idx="588">
                  <c:v>26.28127952</c:v>
                </c:pt>
                <c:pt idx="589">
                  <c:v>27.366902818</c:v>
                </c:pt>
                <c:pt idx="590">
                  <c:v>24.808445181</c:v>
                </c:pt>
                <c:pt idx="591">
                  <c:v>27.107769086</c:v>
                </c:pt>
                <c:pt idx="592">
                  <c:v>26.388938646</c:v>
                </c:pt>
                <c:pt idx="593">
                  <c:v>27.240168155</c:v>
                </c:pt>
                <c:pt idx="594">
                  <c:v>26.972295882</c:v>
                </c:pt>
                <c:pt idx="595">
                  <c:v>27.118347344</c:v>
                </c:pt>
                <c:pt idx="596">
                  <c:v>26.369709246</c:v>
                </c:pt>
                <c:pt idx="597">
                  <c:v>27.061154764</c:v>
                </c:pt>
                <c:pt idx="598">
                  <c:v>24.689884439</c:v>
                </c:pt>
                <c:pt idx="599">
                  <c:v>27.082526988</c:v>
                </c:pt>
                <c:pt idx="600">
                  <c:v>25.983525893</c:v>
                </c:pt>
                <c:pt idx="601">
                  <c:v>26.091788426</c:v>
                </c:pt>
                <c:pt idx="602">
                  <c:v>26.81644895</c:v>
                </c:pt>
                <c:pt idx="603">
                  <c:v>26.745938234</c:v>
                </c:pt>
                <c:pt idx="604">
                  <c:v>26.210751653</c:v>
                </c:pt>
                <c:pt idx="605">
                  <c:v>11.208802326</c:v>
                </c:pt>
                <c:pt idx="606">
                  <c:v>27.394875965</c:v>
                </c:pt>
                <c:pt idx="607">
                  <c:v>27.37071831</c:v>
                </c:pt>
                <c:pt idx="608">
                  <c:v>26.584136318</c:v>
                </c:pt>
                <c:pt idx="609">
                  <c:v>27.456369036</c:v>
                </c:pt>
                <c:pt idx="610">
                  <c:v>27.499443883</c:v>
                </c:pt>
                <c:pt idx="611">
                  <c:v>27.427887027</c:v>
                </c:pt>
                <c:pt idx="612">
                  <c:v>26.673260289</c:v>
                </c:pt>
                <c:pt idx="613">
                  <c:v>25.069407468</c:v>
                </c:pt>
                <c:pt idx="614">
                  <c:v>27.35174675</c:v>
                </c:pt>
                <c:pt idx="615">
                  <c:v>27.293376786</c:v>
                </c:pt>
                <c:pt idx="616">
                  <c:v>26.479613416</c:v>
                </c:pt>
                <c:pt idx="617">
                  <c:v>27.359656313</c:v>
                </c:pt>
                <c:pt idx="618">
                  <c:v>27.167132655</c:v>
                </c:pt>
                <c:pt idx="619">
                  <c:v>27.155858933</c:v>
                </c:pt>
                <c:pt idx="620">
                  <c:v>26.500255445</c:v>
                </c:pt>
                <c:pt idx="621">
                  <c:v>24.882810223</c:v>
                </c:pt>
                <c:pt idx="622">
                  <c:v>27.100285041</c:v>
                </c:pt>
                <c:pt idx="623">
                  <c:v>27.117036315</c:v>
                </c:pt>
                <c:pt idx="624">
                  <c:v>26.451516963</c:v>
                </c:pt>
                <c:pt idx="625">
                  <c:v>27.174653671</c:v>
                </c:pt>
                <c:pt idx="626">
                  <c:v>27.208172753</c:v>
                </c:pt>
                <c:pt idx="627">
                  <c:v>27.039630032</c:v>
                </c:pt>
                <c:pt idx="628">
                  <c:v>26.510096299</c:v>
                </c:pt>
                <c:pt idx="629">
                  <c:v>22.795001351</c:v>
                </c:pt>
                <c:pt idx="630">
                  <c:v>26.991672265</c:v>
                </c:pt>
                <c:pt idx="631">
                  <c:v>26.929747138</c:v>
                </c:pt>
                <c:pt idx="632">
                  <c:v>26.382555276</c:v>
                </c:pt>
                <c:pt idx="633">
                  <c:v>27.044286161</c:v>
                </c:pt>
                <c:pt idx="634">
                  <c:v>26.748306913</c:v>
                </c:pt>
                <c:pt idx="635">
                  <c:v>26.895436206</c:v>
                </c:pt>
                <c:pt idx="636">
                  <c:v>26.395325105</c:v>
                </c:pt>
                <c:pt idx="637">
                  <c:v>12.50050334</c:v>
                </c:pt>
                <c:pt idx="638">
                  <c:v>27.431336244</c:v>
                </c:pt>
                <c:pt idx="639">
                  <c:v>27.312362426</c:v>
                </c:pt>
                <c:pt idx="640">
                  <c:v>26.714547356</c:v>
                </c:pt>
                <c:pt idx="641">
                  <c:v>27.419554999</c:v>
                </c:pt>
                <c:pt idx="642">
                  <c:v>27.475101536</c:v>
                </c:pt>
                <c:pt idx="643">
                  <c:v>27.42463023</c:v>
                </c:pt>
                <c:pt idx="644">
                  <c:v>26.737104941</c:v>
                </c:pt>
                <c:pt idx="645">
                  <c:v>24.155814275</c:v>
                </c:pt>
                <c:pt idx="646">
                  <c:v>27.175688137</c:v>
                </c:pt>
                <c:pt idx="647">
                  <c:v>27.209869734</c:v>
                </c:pt>
                <c:pt idx="648">
                  <c:v>26.531771924</c:v>
                </c:pt>
                <c:pt idx="649">
                  <c:v>27.35508155</c:v>
                </c:pt>
                <c:pt idx="650">
                  <c:v>27.18500187</c:v>
                </c:pt>
                <c:pt idx="651">
                  <c:v>27.177475126</c:v>
                </c:pt>
                <c:pt idx="652">
                  <c:v>24.352303498</c:v>
                </c:pt>
                <c:pt idx="653">
                  <c:v>27.268261432</c:v>
                </c:pt>
                <c:pt idx="654">
                  <c:v>26.928084917</c:v>
                </c:pt>
                <c:pt idx="655">
                  <c:v>27.084395161</c:v>
                </c:pt>
                <c:pt idx="656">
                  <c:v>26.371480369</c:v>
                </c:pt>
                <c:pt idx="657">
                  <c:v>26.392752409</c:v>
                </c:pt>
                <c:pt idx="658">
                  <c:v>26.92586894</c:v>
                </c:pt>
                <c:pt idx="659">
                  <c:v>27.274891183</c:v>
                </c:pt>
                <c:pt idx="660">
                  <c:v>24.032946376</c:v>
                </c:pt>
                <c:pt idx="661">
                  <c:v>26.950172268</c:v>
                </c:pt>
                <c:pt idx="662">
                  <c:v>26.933626454</c:v>
                </c:pt>
                <c:pt idx="663">
                  <c:v>26.941203578</c:v>
                </c:pt>
                <c:pt idx="664">
                  <c:v>26.134511456</c:v>
                </c:pt>
                <c:pt idx="665">
                  <c:v>26.960072493</c:v>
                </c:pt>
                <c:pt idx="666">
                  <c:v>26.902623187</c:v>
                </c:pt>
                <c:pt idx="667">
                  <c:v>27.156046752</c:v>
                </c:pt>
                <c:pt idx="668">
                  <c:v>24.013103811</c:v>
                </c:pt>
                <c:pt idx="669">
                  <c:v>12.333018486</c:v>
                </c:pt>
                <c:pt idx="670">
                  <c:v>27.365949111</c:v>
                </c:pt>
                <c:pt idx="671">
                  <c:v>27.411897831</c:v>
                </c:pt>
                <c:pt idx="672">
                  <c:v>26.602508216</c:v>
                </c:pt>
                <c:pt idx="673">
                  <c:v>27.465587997</c:v>
                </c:pt>
                <c:pt idx="674">
                  <c:v>27.388856436</c:v>
                </c:pt>
                <c:pt idx="675">
                  <c:v>27.550867796</c:v>
                </c:pt>
                <c:pt idx="676">
                  <c:v>24.311666441</c:v>
                </c:pt>
                <c:pt idx="677">
                  <c:v>27.260404616</c:v>
                </c:pt>
                <c:pt idx="678">
                  <c:v>27.269397731</c:v>
                </c:pt>
                <c:pt idx="679">
                  <c:v>27.337273616</c:v>
                </c:pt>
                <c:pt idx="680">
                  <c:v>26.33053979</c:v>
                </c:pt>
                <c:pt idx="681">
                  <c:v>27.427887027</c:v>
                </c:pt>
                <c:pt idx="682">
                  <c:v>27.145063727</c:v>
                </c:pt>
                <c:pt idx="683">
                  <c:v>27.083367634</c:v>
                </c:pt>
                <c:pt idx="684">
                  <c:v>24.316484523</c:v>
                </c:pt>
                <c:pt idx="685">
                  <c:v>27.257471304</c:v>
                </c:pt>
                <c:pt idx="686">
                  <c:v>26.081735857</c:v>
                </c:pt>
                <c:pt idx="687">
                  <c:v>27.119939477</c:v>
                </c:pt>
                <c:pt idx="688">
                  <c:v>26.331246107</c:v>
                </c:pt>
                <c:pt idx="689">
                  <c:v>27.079725212</c:v>
                </c:pt>
                <c:pt idx="690">
                  <c:v>27.085142502</c:v>
                </c:pt>
                <c:pt idx="691">
                  <c:v>24.770022633</c:v>
                </c:pt>
                <c:pt idx="692">
                  <c:v>26.153747657</c:v>
                </c:pt>
                <c:pt idx="693">
                  <c:v>27.158206854</c:v>
                </c:pt>
                <c:pt idx="694">
                  <c:v>27.059569525</c:v>
                </c:pt>
                <c:pt idx="695">
                  <c:v>26.995291036</c:v>
                </c:pt>
                <c:pt idx="696">
                  <c:v>26.204454188</c:v>
                </c:pt>
                <c:pt idx="697">
                  <c:v>27.087384773</c:v>
                </c:pt>
                <c:pt idx="698">
                  <c:v>27.014421681</c:v>
                </c:pt>
                <c:pt idx="699">
                  <c:v>24.793093178</c:v>
                </c:pt>
                <c:pt idx="700">
                  <c:v>26.081562605</c:v>
                </c:pt>
                <c:pt idx="701">
                  <c:v>12.239538762</c:v>
                </c:pt>
                <c:pt idx="702">
                  <c:v>27.333562584</c:v>
                </c:pt>
                <c:pt idx="703">
                  <c:v>27.502911122</c:v>
                </c:pt>
                <c:pt idx="704">
                  <c:v>26.837344527</c:v>
                </c:pt>
                <c:pt idx="705">
                  <c:v>26.654338203</c:v>
                </c:pt>
                <c:pt idx="706">
                  <c:v>27.577765665</c:v>
                </c:pt>
                <c:pt idx="707">
                  <c:v>25.072849342</c:v>
                </c:pt>
                <c:pt idx="708">
                  <c:v>26.571992391</c:v>
                </c:pt>
                <c:pt idx="709">
                  <c:v>27.388760909</c:v>
                </c:pt>
                <c:pt idx="710">
                  <c:v>27.486257102</c:v>
                </c:pt>
                <c:pt idx="711">
                  <c:v>27.26835612</c:v>
                </c:pt>
                <c:pt idx="712">
                  <c:v>26.581076802</c:v>
                </c:pt>
                <c:pt idx="713">
                  <c:v>27.387232572</c:v>
                </c:pt>
                <c:pt idx="714">
                  <c:v>24.251376427</c:v>
                </c:pt>
                <c:pt idx="715">
                  <c:v>27.143468641</c:v>
                </c:pt>
                <c:pt idx="716">
                  <c:v>26.402957428</c:v>
                </c:pt>
                <c:pt idx="717">
                  <c:v>27.036650951</c:v>
                </c:pt>
                <c:pt idx="718">
                  <c:v>27.207795674</c:v>
                </c:pt>
                <c:pt idx="719">
                  <c:v>27.27868106</c:v>
                </c:pt>
                <c:pt idx="720">
                  <c:v>26.287085982</c:v>
                </c:pt>
                <c:pt idx="721">
                  <c:v>27.191402882</c:v>
                </c:pt>
                <c:pt idx="722">
                  <c:v>24.741615033</c:v>
                </c:pt>
                <c:pt idx="723">
                  <c:v>26.967849731</c:v>
                </c:pt>
                <c:pt idx="724">
                  <c:v>26.342552341</c:v>
                </c:pt>
                <c:pt idx="725">
                  <c:v>27.150319451</c:v>
                </c:pt>
                <c:pt idx="726">
                  <c:v>26.913410865</c:v>
                </c:pt>
                <c:pt idx="727">
                  <c:v>26.971462117</c:v>
                </c:pt>
                <c:pt idx="728">
                  <c:v>26.200956903</c:v>
                </c:pt>
                <c:pt idx="729">
                  <c:v>27.024090175</c:v>
                </c:pt>
                <c:pt idx="730">
                  <c:v>24.471296605</c:v>
                </c:pt>
                <c:pt idx="731">
                  <c:v>26.920792036</c:v>
                </c:pt>
                <c:pt idx="732">
                  <c:v>26.020375607</c:v>
                </c:pt>
                <c:pt idx="733">
                  <c:v>11.417336364</c:v>
                </c:pt>
                <c:pt idx="734">
                  <c:v>27.596858203</c:v>
                </c:pt>
                <c:pt idx="735">
                  <c:v>27.465876189</c:v>
                </c:pt>
                <c:pt idx="736">
                  <c:v>26.591608096</c:v>
                </c:pt>
                <c:pt idx="737">
                  <c:v>27.53560389</c:v>
                </c:pt>
                <c:pt idx="738">
                  <c:v>25.043503704</c:v>
                </c:pt>
                <c:pt idx="739">
                  <c:v>27.347841303</c:v>
                </c:pt>
                <c:pt idx="740">
                  <c:v>26.33053979</c:v>
                </c:pt>
                <c:pt idx="741">
                  <c:v>27.328045475</c:v>
                </c:pt>
                <c:pt idx="742">
                  <c:v>26.407929686</c:v>
                </c:pt>
                <c:pt idx="743">
                  <c:v>27.384749387</c:v>
                </c:pt>
                <c:pt idx="744">
                  <c:v>26.32233163</c:v>
                </c:pt>
                <c:pt idx="745">
                  <c:v>27.338415675</c:v>
                </c:pt>
                <c:pt idx="746">
                  <c:v>25.045580425</c:v>
                </c:pt>
                <c:pt idx="747">
                  <c:v>27.423193653</c:v>
                </c:pt>
                <c:pt idx="748">
                  <c:v>26.38388489</c:v>
                </c:pt>
                <c:pt idx="749">
                  <c:v>27.28607435</c:v>
                </c:pt>
                <c:pt idx="750">
                  <c:v>27.163655593</c:v>
                </c:pt>
                <c:pt idx="751">
                  <c:v>27.128277819</c:v>
                </c:pt>
                <c:pt idx="752">
                  <c:v>26.410238871</c:v>
                </c:pt>
                <c:pt idx="753">
                  <c:v>27.460017468</c:v>
                </c:pt>
                <c:pt idx="754">
                  <c:v>24.663751587</c:v>
                </c:pt>
                <c:pt idx="755">
                  <c:v>26.936305681</c:v>
                </c:pt>
                <c:pt idx="756">
                  <c:v>26.232553742</c:v>
                </c:pt>
                <c:pt idx="757">
                  <c:v>27.055933501</c:v>
                </c:pt>
                <c:pt idx="758">
                  <c:v>26.901056467</c:v>
                </c:pt>
                <c:pt idx="759">
                  <c:v>26.815075381</c:v>
                </c:pt>
                <c:pt idx="760">
                  <c:v>26.093435706</c:v>
                </c:pt>
                <c:pt idx="761">
                  <c:v>27.203271551</c:v>
                </c:pt>
                <c:pt idx="762">
                  <c:v>24.725878471</c:v>
                </c:pt>
                <c:pt idx="763">
                  <c:v>26.845785299</c:v>
                </c:pt>
                <c:pt idx="764">
                  <c:v>25.912361641</c:v>
                </c:pt>
                <c:pt idx="765">
                  <c:v>12.115548458</c:v>
                </c:pt>
                <c:pt idx="766">
                  <c:v>27.468278026</c:v>
                </c:pt>
                <c:pt idx="767">
                  <c:v>27.509366368</c:v>
                </c:pt>
                <c:pt idx="768">
                  <c:v>26.654609622</c:v>
                </c:pt>
                <c:pt idx="769">
                  <c:v>27.699458886</c:v>
                </c:pt>
                <c:pt idx="770">
                  <c:v>25.049894717</c:v>
                </c:pt>
                <c:pt idx="771">
                  <c:v>26.514034687</c:v>
                </c:pt>
                <c:pt idx="772">
                  <c:v>26.556176959</c:v>
                </c:pt>
                <c:pt idx="773">
                  <c:v>27.42242754</c:v>
                </c:pt>
                <c:pt idx="774">
                  <c:v>27.325668098</c:v>
                </c:pt>
                <c:pt idx="775">
                  <c:v>27.243664834</c:v>
                </c:pt>
                <c:pt idx="776">
                  <c:v>26.507769619</c:v>
                </c:pt>
                <c:pt idx="777">
                  <c:v>25.03025275</c:v>
                </c:pt>
                <c:pt idx="778">
                  <c:v>27.125279173</c:v>
                </c:pt>
                <c:pt idx="779">
                  <c:v>27.103558802</c:v>
                </c:pt>
                <c:pt idx="780">
                  <c:v>26.466405113</c:v>
                </c:pt>
                <c:pt idx="781">
                  <c:v>27.166568747</c:v>
                </c:pt>
                <c:pt idx="782">
                  <c:v>27.173525253</c:v>
                </c:pt>
                <c:pt idx="783">
                  <c:v>27.184060799</c:v>
                </c:pt>
                <c:pt idx="784">
                  <c:v>26.404910592</c:v>
                </c:pt>
                <c:pt idx="785">
                  <c:v>24.816285162</c:v>
                </c:pt>
                <c:pt idx="786">
                  <c:v>26.974519507</c:v>
                </c:pt>
                <c:pt idx="787">
                  <c:v>27.033765592</c:v>
                </c:pt>
                <c:pt idx="788">
                  <c:v>26.215651775</c:v>
                </c:pt>
                <c:pt idx="789">
                  <c:v>26.943976762</c:v>
                </c:pt>
                <c:pt idx="790">
                  <c:v>27.050434707</c:v>
                </c:pt>
                <c:pt idx="791">
                  <c:v>27.057611545</c:v>
                </c:pt>
                <c:pt idx="792">
                  <c:v>26.413259184</c:v>
                </c:pt>
                <c:pt idx="793">
                  <c:v>24.731641026</c:v>
                </c:pt>
                <c:pt idx="794">
                  <c:v>26.844408724</c:v>
                </c:pt>
                <c:pt idx="795">
                  <c:v>26.927623225</c:v>
                </c:pt>
                <c:pt idx="796">
                  <c:v>26.115042984</c:v>
                </c:pt>
                <c:pt idx="797">
                  <c:v>11.478585214</c:v>
                </c:pt>
                <c:pt idx="798">
                  <c:v>27.605007225</c:v>
                </c:pt>
                <c:pt idx="799">
                  <c:v>26.676341064</c:v>
                </c:pt>
                <c:pt idx="800">
                  <c:v>26.897002272</c:v>
                </c:pt>
                <c:pt idx="801">
                  <c:v>24.99511793</c:v>
                </c:pt>
                <c:pt idx="802">
                  <c:v>27.329852558</c:v>
                </c:pt>
                <c:pt idx="803">
                  <c:v>27.225435265</c:v>
                </c:pt>
                <c:pt idx="804">
                  <c:v>26.688852696</c:v>
                </c:pt>
                <c:pt idx="805">
                  <c:v>27.348317517</c:v>
                </c:pt>
                <c:pt idx="806">
                  <c:v>27.215339225</c:v>
                </c:pt>
                <c:pt idx="807">
                  <c:v>27.249431589</c:v>
                </c:pt>
                <c:pt idx="808">
                  <c:v>26.664474928</c:v>
                </c:pt>
                <c:pt idx="809">
                  <c:v>24.933057298</c:v>
                </c:pt>
                <c:pt idx="810">
                  <c:v>27.240735123</c:v>
                </c:pt>
                <c:pt idx="811">
                  <c:v>27.125560268</c:v>
                </c:pt>
                <c:pt idx="812">
                  <c:v>26.371834622</c:v>
                </c:pt>
                <c:pt idx="813">
                  <c:v>27.246027963</c:v>
                </c:pt>
                <c:pt idx="814">
                  <c:v>27.218169135</c:v>
                </c:pt>
                <c:pt idx="815">
                  <c:v>27.068523903</c:v>
                </c:pt>
                <c:pt idx="816">
                  <c:v>26.513855644</c:v>
                </c:pt>
                <c:pt idx="817">
                  <c:v>24.843371177</c:v>
                </c:pt>
                <c:pt idx="818">
                  <c:v>26.979802087</c:v>
                </c:pt>
                <c:pt idx="819">
                  <c:v>26.953779919</c:v>
                </c:pt>
                <c:pt idx="820">
                  <c:v>26.357671921</c:v>
                </c:pt>
                <c:pt idx="821">
                  <c:v>27.019533965</c:v>
                </c:pt>
                <c:pt idx="822">
                  <c:v>26.994734239</c:v>
                </c:pt>
                <c:pt idx="823">
                  <c:v>26.933811211</c:v>
                </c:pt>
                <c:pt idx="824">
                  <c:v>26.258606122</c:v>
                </c:pt>
                <c:pt idx="825">
                  <c:v>24.687400602</c:v>
                </c:pt>
                <c:pt idx="826">
                  <c:v>26.911842887</c:v>
                </c:pt>
                <c:pt idx="827">
                  <c:v>26.100894417</c:v>
                </c:pt>
                <c:pt idx="828">
                  <c:v>25.994449376</c:v>
                </c:pt>
                <c:pt idx="829">
                  <c:v>13.865306626</c:v>
                </c:pt>
                <c:pt idx="830">
                  <c:v>27.54043241</c:v>
                </c:pt>
                <c:pt idx="831">
                  <c:v>27.529425854</c:v>
                </c:pt>
                <c:pt idx="832">
                  <c:v>24.51591322</c:v>
                </c:pt>
                <c:pt idx="833">
                  <c:v>27.495977518</c:v>
                </c:pt>
                <c:pt idx="834">
                  <c:v>27.300208575</c:v>
                </c:pt>
                <c:pt idx="835">
                  <c:v>27.524215292</c:v>
                </c:pt>
                <c:pt idx="836">
                  <c:v>26.643395577</c:v>
                </c:pt>
                <c:pt idx="837">
                  <c:v>27.380834511</c:v>
                </c:pt>
                <c:pt idx="838">
                  <c:v>27.226851197</c:v>
                </c:pt>
                <c:pt idx="839">
                  <c:v>27.368428887</c:v>
                </c:pt>
                <c:pt idx="840">
                  <c:v>24.290008677</c:v>
                </c:pt>
                <c:pt idx="841">
                  <c:v>27.285221073</c:v>
                </c:pt>
                <c:pt idx="842">
                  <c:v>27.088786381</c:v>
                </c:pt>
                <c:pt idx="843">
                  <c:v>27.022695254</c:v>
                </c:pt>
                <c:pt idx="844">
                  <c:v>26.48523987</c:v>
                </c:pt>
                <c:pt idx="845">
                  <c:v>27.368142736</c:v>
                </c:pt>
                <c:pt idx="846">
                  <c:v>27.175688137</c:v>
                </c:pt>
                <c:pt idx="847">
                  <c:v>27.314737489</c:v>
                </c:pt>
                <c:pt idx="848">
                  <c:v>24.230723074</c:v>
                </c:pt>
                <c:pt idx="849">
                  <c:v>27.077297475</c:v>
                </c:pt>
                <c:pt idx="850">
                  <c:v>27.074496781</c:v>
                </c:pt>
                <c:pt idx="851">
                  <c:v>27.091776964</c:v>
                </c:pt>
                <c:pt idx="852">
                  <c:v>26.233254812</c:v>
                </c:pt>
                <c:pt idx="853">
                  <c:v>27.040095573</c:v>
                </c:pt>
                <c:pt idx="854">
                  <c:v>26.989724097</c:v>
                </c:pt>
                <c:pt idx="855">
                  <c:v>27.079911979</c:v>
                </c:pt>
                <c:pt idx="856">
                  <c:v>23.330355999</c:v>
                </c:pt>
                <c:pt idx="857">
                  <c:v>26.971462117</c:v>
                </c:pt>
                <c:pt idx="858">
                  <c:v>26.814983815</c:v>
                </c:pt>
                <c:pt idx="859">
                  <c:v>26.870311981</c:v>
                </c:pt>
                <c:pt idx="860">
                  <c:v>26.230625993</c:v>
                </c:pt>
                <c:pt idx="861">
                  <c:v>12.958596794</c:v>
                </c:pt>
                <c:pt idx="862">
                  <c:v>19.091840286</c:v>
                </c:pt>
                <c:pt idx="863">
                  <c:v>27.696332647</c:v>
                </c:pt>
                <c:pt idx="864">
                  <c:v>24.511857398</c:v>
                </c:pt>
                <c:pt idx="865">
                  <c:v>27.479620372</c:v>
                </c:pt>
                <c:pt idx="866">
                  <c:v>27.32614354</c:v>
                </c:pt>
                <c:pt idx="867">
                  <c:v>27.38579991</c:v>
                </c:pt>
                <c:pt idx="868">
                  <c:v>26.45748804</c:v>
                </c:pt>
                <c:pt idx="869">
                  <c:v>27.454833144</c:v>
                </c:pt>
                <c:pt idx="870">
                  <c:v>27.297171802</c:v>
                </c:pt>
                <c:pt idx="871">
                  <c:v>27.269587124</c:v>
                </c:pt>
                <c:pt idx="872">
                  <c:v>24.198541184</c:v>
                </c:pt>
                <c:pt idx="873">
                  <c:v>27.346984159</c:v>
                </c:pt>
                <c:pt idx="874">
                  <c:v>26.910551749</c:v>
                </c:pt>
                <c:pt idx="875">
                  <c:v>27.070016875</c:v>
                </c:pt>
                <c:pt idx="876">
                  <c:v>26.4242803</c:v>
                </c:pt>
                <c:pt idx="877">
                  <c:v>27.182461128</c:v>
                </c:pt>
                <c:pt idx="878">
                  <c:v>27.083274226</c:v>
                </c:pt>
                <c:pt idx="879">
                  <c:v>27.344127401</c:v>
                </c:pt>
                <c:pt idx="880">
                  <c:v>24.149128614</c:v>
                </c:pt>
                <c:pt idx="881">
                  <c:v>27.06749758</c:v>
                </c:pt>
                <c:pt idx="882">
                  <c:v>27.037954218</c:v>
                </c:pt>
                <c:pt idx="883">
                  <c:v>27.146940537</c:v>
                </c:pt>
                <c:pt idx="884">
                  <c:v>25.31256127</c:v>
                </c:pt>
                <c:pt idx="885">
                  <c:v>27.019440997</c:v>
                </c:pt>
                <c:pt idx="886">
                  <c:v>26.833126131</c:v>
                </c:pt>
                <c:pt idx="887">
                  <c:v>24.731641026</c:v>
                </c:pt>
                <c:pt idx="888">
                  <c:v>26.27002581</c:v>
                </c:pt>
                <c:pt idx="889">
                  <c:v>26.840738547</c:v>
                </c:pt>
                <c:pt idx="890">
                  <c:v>26.717728579</c:v>
                </c:pt>
                <c:pt idx="891">
                  <c:v>26.849456857</c:v>
                </c:pt>
                <c:pt idx="892">
                  <c:v>26.119907383</c:v>
                </c:pt>
                <c:pt idx="893">
                  <c:v>14.75754617</c:v>
                </c:pt>
                <c:pt idx="894">
                  <c:v>27.660528978</c:v>
                </c:pt>
                <c:pt idx="895">
                  <c:v>25.042385612</c:v>
                </c:pt>
                <c:pt idx="896">
                  <c:v>26.454724968</c:v>
                </c:pt>
                <c:pt idx="897">
                  <c:v>27.43574484</c:v>
                </c:pt>
                <c:pt idx="898">
                  <c:v>27.444182625</c:v>
                </c:pt>
                <c:pt idx="899">
                  <c:v>27.127715522</c:v>
                </c:pt>
                <c:pt idx="900">
                  <c:v>25.781349339</c:v>
                </c:pt>
                <c:pt idx="901">
                  <c:v>27.352794742</c:v>
                </c:pt>
                <c:pt idx="902">
                  <c:v>27.350794099</c:v>
                </c:pt>
                <c:pt idx="903">
                  <c:v>25.049335373</c:v>
                </c:pt>
                <c:pt idx="904">
                  <c:v>26.6013367</c:v>
                </c:pt>
                <c:pt idx="905">
                  <c:v>27.053696434</c:v>
                </c:pt>
                <c:pt idx="906">
                  <c:v>27.249809822</c:v>
                </c:pt>
                <c:pt idx="907">
                  <c:v>27.166192821</c:v>
                </c:pt>
                <c:pt idx="908">
                  <c:v>26.42623662</c:v>
                </c:pt>
                <c:pt idx="909">
                  <c:v>26.355018108</c:v>
                </c:pt>
                <c:pt idx="910">
                  <c:v>24.861382682</c:v>
                </c:pt>
                <c:pt idx="911">
                  <c:v>27.041771652</c:v>
                </c:pt>
                <c:pt idx="912">
                  <c:v>25.610662042</c:v>
                </c:pt>
                <c:pt idx="913">
                  <c:v>27.253687318</c:v>
                </c:pt>
                <c:pt idx="914">
                  <c:v>26.927346217</c:v>
                </c:pt>
                <c:pt idx="915">
                  <c:v>26.946658049</c:v>
                </c:pt>
                <c:pt idx="916">
                  <c:v>26.108965034</c:v>
                </c:pt>
                <c:pt idx="917">
                  <c:v>27.023811179</c:v>
                </c:pt>
                <c:pt idx="918">
                  <c:v>24.722764694</c:v>
                </c:pt>
                <c:pt idx="919">
                  <c:v>26.855149756</c:v>
                </c:pt>
                <c:pt idx="920">
                  <c:v>25.950638941</c:v>
                </c:pt>
                <c:pt idx="921">
                  <c:v>27.061994084</c:v>
                </c:pt>
                <c:pt idx="922">
                  <c:v>26.849732264</c:v>
                </c:pt>
                <c:pt idx="923">
                  <c:v>26.887332425</c:v>
                </c:pt>
                <c:pt idx="924">
                  <c:v>26.227034124</c:v>
                </c:pt>
                <c:pt idx="925">
                  <c:v>12.20508766</c:v>
                </c:pt>
                <c:pt idx="926">
                  <c:v>24.972305349</c:v>
                </c:pt>
                <c:pt idx="927">
                  <c:v>27.495111064</c:v>
                </c:pt>
                <c:pt idx="928">
                  <c:v>26.62866888</c:v>
                </c:pt>
                <c:pt idx="929">
                  <c:v>27.445429556</c:v>
                </c:pt>
                <c:pt idx="930">
                  <c:v>27.404818756</c:v>
                </c:pt>
                <c:pt idx="931">
                  <c:v>27.383030523</c:v>
                </c:pt>
                <c:pt idx="932">
                  <c:v>26.376174994</c:v>
                </c:pt>
                <c:pt idx="933">
                  <c:v>27.550577817</c:v>
                </c:pt>
                <c:pt idx="934">
                  <c:v>24.709539887</c:v>
                </c:pt>
                <c:pt idx="935">
                  <c:v>27.279533927</c:v>
                </c:pt>
                <c:pt idx="936">
                  <c:v>24.811267003</c:v>
                </c:pt>
                <c:pt idx="937">
                  <c:v>27.293851105</c:v>
                </c:pt>
                <c:pt idx="938">
                  <c:v>27.233271934</c:v>
                </c:pt>
                <c:pt idx="939">
                  <c:v>27.223264456</c:v>
                </c:pt>
                <c:pt idx="940">
                  <c:v>26.281719313</c:v>
                </c:pt>
                <c:pt idx="941">
                  <c:v>24.075977482</c:v>
                </c:pt>
                <c:pt idx="942">
                  <c:v>26.999282088</c:v>
                </c:pt>
                <c:pt idx="943">
                  <c:v>27.170892643</c:v>
                </c:pt>
                <c:pt idx="944">
                  <c:v>26.382378004</c:v>
                </c:pt>
                <c:pt idx="945">
                  <c:v>26.956740764</c:v>
                </c:pt>
                <c:pt idx="946">
                  <c:v>27.130995914</c:v>
                </c:pt>
                <c:pt idx="947">
                  <c:v>26.922545659</c:v>
                </c:pt>
                <c:pt idx="948">
                  <c:v>26.385657917</c:v>
                </c:pt>
                <c:pt idx="949">
                  <c:v>24.923323882</c:v>
                </c:pt>
                <c:pt idx="950">
                  <c:v>27.067124391</c:v>
                </c:pt>
                <c:pt idx="951">
                  <c:v>26.78708527</c:v>
                </c:pt>
                <c:pt idx="952">
                  <c:v>26.259484207</c:v>
                </c:pt>
                <c:pt idx="953">
                  <c:v>27.000303244</c:v>
                </c:pt>
                <c:pt idx="954">
                  <c:v>26.901517248</c:v>
                </c:pt>
                <c:pt idx="955">
                  <c:v>26.939077857</c:v>
                </c:pt>
                <c:pt idx="956">
                  <c:v>26.240442942</c:v>
                </c:pt>
                <c:pt idx="957">
                  <c:v>10.314110945</c:v>
                </c:pt>
                <c:pt idx="958">
                  <c:v>27.520260441</c:v>
                </c:pt>
                <c:pt idx="959">
                  <c:v>27.475870595</c:v>
                </c:pt>
                <c:pt idx="960">
                  <c:v>26.669365033</c:v>
                </c:pt>
                <c:pt idx="961">
                  <c:v>27.508113621</c:v>
                </c:pt>
                <c:pt idx="962">
                  <c:v>27.469911516</c:v>
                </c:pt>
                <c:pt idx="963">
                  <c:v>27.240546131</c:v>
                </c:pt>
                <c:pt idx="964">
                  <c:v>26.877025582</c:v>
                </c:pt>
                <c:pt idx="965">
                  <c:v>25.034561762</c:v>
                </c:pt>
                <c:pt idx="966">
                  <c:v>27.167414618</c:v>
                </c:pt>
                <c:pt idx="967">
                  <c:v>27.138496932</c:v>
                </c:pt>
                <c:pt idx="968">
                  <c:v>26.583416369</c:v>
                </c:pt>
                <c:pt idx="969">
                  <c:v>26.284358385</c:v>
                </c:pt>
                <c:pt idx="970">
                  <c:v>27.164595252</c:v>
                </c:pt>
                <c:pt idx="971">
                  <c:v>27.11450826</c:v>
                </c:pt>
                <c:pt idx="972">
                  <c:v>26.606203672</c:v>
                </c:pt>
                <c:pt idx="973">
                  <c:v>25.038632747</c:v>
                </c:pt>
                <c:pt idx="974">
                  <c:v>27.096544569</c:v>
                </c:pt>
                <c:pt idx="975">
                  <c:v>27.081873188</c:v>
                </c:pt>
                <c:pt idx="976">
                  <c:v>26.427303826</c:v>
                </c:pt>
                <c:pt idx="977">
                  <c:v>27.243097744</c:v>
                </c:pt>
                <c:pt idx="978">
                  <c:v>27.142342812</c:v>
                </c:pt>
                <c:pt idx="979">
                  <c:v>27.041864774</c:v>
                </c:pt>
                <c:pt idx="980">
                  <c:v>26.418501956</c:v>
                </c:pt>
                <c:pt idx="981">
                  <c:v>24.853828829</c:v>
                </c:pt>
                <c:pt idx="982">
                  <c:v>26.956833301</c:v>
                </c:pt>
                <c:pt idx="983">
                  <c:v>27.007546388</c:v>
                </c:pt>
                <c:pt idx="984">
                  <c:v>26.156273966</c:v>
                </c:pt>
                <c:pt idx="985">
                  <c:v>26.851109385</c:v>
                </c:pt>
                <c:pt idx="986">
                  <c:v>26.899029217</c:v>
                </c:pt>
                <c:pt idx="987">
                  <c:v>26.915532537</c:v>
                </c:pt>
                <c:pt idx="988">
                  <c:v>26.192130412</c:v>
                </c:pt>
                <c:pt idx="989">
                  <c:v>11.115368668</c:v>
                </c:pt>
                <c:pt idx="990">
                  <c:v>27.485198858</c:v>
                </c:pt>
                <c:pt idx="991">
                  <c:v>27.342889658</c:v>
                </c:pt>
                <c:pt idx="992">
                  <c:v>26.642039679</c:v>
                </c:pt>
                <c:pt idx="993">
                  <c:v>27.627344674</c:v>
                </c:pt>
                <c:pt idx="994">
                  <c:v>27.221754533</c:v>
                </c:pt>
                <c:pt idx="995">
                  <c:v>27.222226366</c:v>
                </c:pt>
                <c:pt idx="996">
                  <c:v>26.676522308</c:v>
                </c:pt>
                <c:pt idx="997">
                  <c:v>24.327030738</c:v>
                </c:pt>
                <c:pt idx="998">
                  <c:v>27.172020842</c:v>
                </c:pt>
                <c:pt idx="999">
                  <c:v>27.260026089</c:v>
                </c:pt>
                <c:pt idx="1000">
                  <c:v>26.40269111</c:v>
                </c:pt>
              </c:numCache>
            </c:numRef>
          </c:yVal>
          <c:smooth val="0"/>
        </c:ser>
        <c:ser>
          <c:idx val="3"/>
          <c:order val="3"/>
          <c:tx>
            <c:strRef>
              <c:f>label 6</c:f>
              <c:strCache>
                <c:ptCount val="1"/>
                <c:pt idx="0">
                  <c:v>8 K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7</c:f>
              <c:numCache>
                <c:formatCode>General</c:formatCode>
                <c:ptCount val="1001"/>
                <c:pt idx="0">
                  <c:v>8192</c:v>
                </c:pt>
                <c:pt idx="1">
                  <c:v>8192</c:v>
                </c:pt>
                <c:pt idx="2">
                  <c:v>8192</c:v>
                </c:pt>
                <c:pt idx="3">
                  <c:v>8192</c:v>
                </c:pt>
                <c:pt idx="4">
                  <c:v>8192</c:v>
                </c:pt>
                <c:pt idx="5">
                  <c:v>8192</c:v>
                </c:pt>
                <c:pt idx="6">
                  <c:v>8192</c:v>
                </c:pt>
                <c:pt idx="7">
                  <c:v>8192</c:v>
                </c:pt>
                <c:pt idx="8">
                  <c:v>8192</c:v>
                </c:pt>
                <c:pt idx="9">
                  <c:v>8192</c:v>
                </c:pt>
                <c:pt idx="10">
                  <c:v>8192</c:v>
                </c:pt>
                <c:pt idx="11">
                  <c:v>8192</c:v>
                </c:pt>
                <c:pt idx="12">
                  <c:v>8192</c:v>
                </c:pt>
                <c:pt idx="13">
                  <c:v>8192</c:v>
                </c:pt>
                <c:pt idx="14">
                  <c:v>8192</c:v>
                </c:pt>
                <c:pt idx="15">
                  <c:v>8192</c:v>
                </c:pt>
                <c:pt idx="16">
                  <c:v>8192</c:v>
                </c:pt>
                <c:pt idx="17">
                  <c:v>8192</c:v>
                </c:pt>
                <c:pt idx="18">
                  <c:v>8192</c:v>
                </c:pt>
                <c:pt idx="19">
                  <c:v>8192</c:v>
                </c:pt>
                <c:pt idx="20">
                  <c:v>8192</c:v>
                </c:pt>
                <c:pt idx="21">
                  <c:v>8192</c:v>
                </c:pt>
                <c:pt idx="22">
                  <c:v>8192</c:v>
                </c:pt>
                <c:pt idx="23">
                  <c:v>8192</c:v>
                </c:pt>
                <c:pt idx="24">
                  <c:v>8192</c:v>
                </c:pt>
                <c:pt idx="25">
                  <c:v>8192</c:v>
                </c:pt>
                <c:pt idx="26">
                  <c:v>8192</c:v>
                </c:pt>
                <c:pt idx="27">
                  <c:v>8192</c:v>
                </c:pt>
                <c:pt idx="28">
                  <c:v>8192</c:v>
                </c:pt>
                <c:pt idx="29">
                  <c:v>8192</c:v>
                </c:pt>
                <c:pt idx="30">
                  <c:v>8192</c:v>
                </c:pt>
                <c:pt idx="31">
                  <c:v>8192</c:v>
                </c:pt>
                <c:pt idx="32">
                  <c:v>8192</c:v>
                </c:pt>
                <c:pt idx="33">
                  <c:v>8192</c:v>
                </c:pt>
                <c:pt idx="34">
                  <c:v>8192</c:v>
                </c:pt>
                <c:pt idx="35">
                  <c:v>8192</c:v>
                </c:pt>
                <c:pt idx="36">
                  <c:v>8192</c:v>
                </c:pt>
                <c:pt idx="37">
                  <c:v>8192</c:v>
                </c:pt>
                <c:pt idx="38">
                  <c:v>8192</c:v>
                </c:pt>
                <c:pt idx="39">
                  <c:v>8192</c:v>
                </c:pt>
                <c:pt idx="40">
                  <c:v>8192</c:v>
                </c:pt>
                <c:pt idx="41">
                  <c:v>8192</c:v>
                </c:pt>
                <c:pt idx="42">
                  <c:v>8192</c:v>
                </c:pt>
                <c:pt idx="43">
                  <c:v>8192</c:v>
                </c:pt>
                <c:pt idx="44">
                  <c:v>8192</c:v>
                </c:pt>
                <c:pt idx="45">
                  <c:v>8192</c:v>
                </c:pt>
                <c:pt idx="46">
                  <c:v>8192</c:v>
                </c:pt>
                <c:pt idx="47">
                  <c:v>8192</c:v>
                </c:pt>
                <c:pt idx="48">
                  <c:v>8192</c:v>
                </c:pt>
                <c:pt idx="49">
                  <c:v>8192</c:v>
                </c:pt>
                <c:pt idx="50">
                  <c:v>8192</c:v>
                </c:pt>
                <c:pt idx="51">
                  <c:v>8192</c:v>
                </c:pt>
                <c:pt idx="52">
                  <c:v>8192</c:v>
                </c:pt>
                <c:pt idx="53">
                  <c:v>8192</c:v>
                </c:pt>
                <c:pt idx="54">
                  <c:v>8192</c:v>
                </c:pt>
                <c:pt idx="55">
                  <c:v>8192</c:v>
                </c:pt>
                <c:pt idx="56">
                  <c:v>8192</c:v>
                </c:pt>
                <c:pt idx="57">
                  <c:v>8192</c:v>
                </c:pt>
                <c:pt idx="58">
                  <c:v>8192</c:v>
                </c:pt>
                <c:pt idx="59">
                  <c:v>8192</c:v>
                </c:pt>
                <c:pt idx="60">
                  <c:v>8192</c:v>
                </c:pt>
                <c:pt idx="61">
                  <c:v>8192</c:v>
                </c:pt>
                <c:pt idx="62">
                  <c:v>8192</c:v>
                </c:pt>
                <c:pt idx="63">
                  <c:v>8192</c:v>
                </c:pt>
                <c:pt idx="64">
                  <c:v>8192</c:v>
                </c:pt>
                <c:pt idx="65">
                  <c:v>8192</c:v>
                </c:pt>
                <c:pt idx="66">
                  <c:v>8192</c:v>
                </c:pt>
                <c:pt idx="67">
                  <c:v>8192</c:v>
                </c:pt>
                <c:pt idx="68">
                  <c:v>8192</c:v>
                </c:pt>
                <c:pt idx="69">
                  <c:v>8192</c:v>
                </c:pt>
                <c:pt idx="70">
                  <c:v>8192</c:v>
                </c:pt>
                <c:pt idx="71">
                  <c:v>8192</c:v>
                </c:pt>
                <c:pt idx="72">
                  <c:v>8192</c:v>
                </c:pt>
                <c:pt idx="73">
                  <c:v>8192</c:v>
                </c:pt>
                <c:pt idx="74">
                  <c:v>8192</c:v>
                </c:pt>
                <c:pt idx="75">
                  <c:v>8192</c:v>
                </c:pt>
                <c:pt idx="76">
                  <c:v>8192</c:v>
                </c:pt>
                <c:pt idx="77">
                  <c:v>8192</c:v>
                </c:pt>
                <c:pt idx="78">
                  <c:v>8192</c:v>
                </c:pt>
                <c:pt idx="79">
                  <c:v>8192</c:v>
                </c:pt>
                <c:pt idx="80">
                  <c:v>8192</c:v>
                </c:pt>
                <c:pt idx="81">
                  <c:v>8192</c:v>
                </c:pt>
                <c:pt idx="82">
                  <c:v>8192</c:v>
                </c:pt>
                <c:pt idx="83">
                  <c:v>8192</c:v>
                </c:pt>
                <c:pt idx="84">
                  <c:v>8192</c:v>
                </c:pt>
                <c:pt idx="85">
                  <c:v>8192</c:v>
                </c:pt>
                <c:pt idx="86">
                  <c:v>8192</c:v>
                </c:pt>
                <c:pt idx="87">
                  <c:v>8192</c:v>
                </c:pt>
                <c:pt idx="88">
                  <c:v>8192</c:v>
                </c:pt>
                <c:pt idx="89">
                  <c:v>8192</c:v>
                </c:pt>
                <c:pt idx="90">
                  <c:v>8192</c:v>
                </c:pt>
                <c:pt idx="91">
                  <c:v>8192</c:v>
                </c:pt>
                <c:pt idx="92">
                  <c:v>8192</c:v>
                </c:pt>
                <c:pt idx="93">
                  <c:v>8192</c:v>
                </c:pt>
                <c:pt idx="94">
                  <c:v>8192</c:v>
                </c:pt>
                <c:pt idx="95">
                  <c:v>8192</c:v>
                </c:pt>
                <c:pt idx="96">
                  <c:v>8192</c:v>
                </c:pt>
                <c:pt idx="97">
                  <c:v>8192</c:v>
                </c:pt>
                <c:pt idx="98">
                  <c:v>8192</c:v>
                </c:pt>
                <c:pt idx="99">
                  <c:v>8192</c:v>
                </c:pt>
                <c:pt idx="100">
                  <c:v>8192</c:v>
                </c:pt>
                <c:pt idx="101">
                  <c:v>8192</c:v>
                </c:pt>
                <c:pt idx="102">
                  <c:v>8192</c:v>
                </c:pt>
                <c:pt idx="103">
                  <c:v>8192</c:v>
                </c:pt>
                <c:pt idx="104">
                  <c:v>8192</c:v>
                </c:pt>
                <c:pt idx="105">
                  <c:v>8192</c:v>
                </c:pt>
                <c:pt idx="106">
                  <c:v>8192</c:v>
                </c:pt>
                <c:pt idx="107">
                  <c:v>8192</c:v>
                </c:pt>
                <c:pt idx="108">
                  <c:v>8192</c:v>
                </c:pt>
                <c:pt idx="109">
                  <c:v>8192</c:v>
                </c:pt>
                <c:pt idx="110">
                  <c:v>8192</c:v>
                </c:pt>
                <c:pt idx="111">
                  <c:v>8192</c:v>
                </c:pt>
                <c:pt idx="112">
                  <c:v>8192</c:v>
                </c:pt>
                <c:pt idx="113">
                  <c:v>8192</c:v>
                </c:pt>
                <c:pt idx="114">
                  <c:v>8192</c:v>
                </c:pt>
                <c:pt idx="115">
                  <c:v>8192</c:v>
                </c:pt>
                <c:pt idx="116">
                  <c:v>8192</c:v>
                </c:pt>
                <c:pt idx="117">
                  <c:v>8192</c:v>
                </c:pt>
                <c:pt idx="118">
                  <c:v>8192</c:v>
                </c:pt>
                <c:pt idx="119">
                  <c:v>8192</c:v>
                </c:pt>
                <c:pt idx="120">
                  <c:v>8192</c:v>
                </c:pt>
                <c:pt idx="121">
                  <c:v>8192</c:v>
                </c:pt>
                <c:pt idx="122">
                  <c:v>8192</c:v>
                </c:pt>
                <c:pt idx="123">
                  <c:v>8192</c:v>
                </c:pt>
                <c:pt idx="124">
                  <c:v>8192</c:v>
                </c:pt>
                <c:pt idx="125">
                  <c:v>8192</c:v>
                </c:pt>
                <c:pt idx="126">
                  <c:v>8192</c:v>
                </c:pt>
                <c:pt idx="127">
                  <c:v>8192</c:v>
                </c:pt>
                <c:pt idx="128">
                  <c:v>8192</c:v>
                </c:pt>
                <c:pt idx="129">
                  <c:v>8192</c:v>
                </c:pt>
                <c:pt idx="130">
                  <c:v>8192</c:v>
                </c:pt>
                <c:pt idx="131">
                  <c:v>8192</c:v>
                </c:pt>
                <c:pt idx="132">
                  <c:v>8192</c:v>
                </c:pt>
                <c:pt idx="133">
                  <c:v>8192</c:v>
                </c:pt>
                <c:pt idx="134">
                  <c:v>8192</c:v>
                </c:pt>
                <c:pt idx="135">
                  <c:v>8192</c:v>
                </c:pt>
                <c:pt idx="136">
                  <c:v>8192</c:v>
                </c:pt>
                <c:pt idx="137">
                  <c:v>8192</c:v>
                </c:pt>
                <c:pt idx="138">
                  <c:v>8192</c:v>
                </c:pt>
                <c:pt idx="139">
                  <c:v>8192</c:v>
                </c:pt>
                <c:pt idx="140">
                  <c:v>8192</c:v>
                </c:pt>
                <c:pt idx="141">
                  <c:v>8192</c:v>
                </c:pt>
                <c:pt idx="142">
                  <c:v>8192</c:v>
                </c:pt>
                <c:pt idx="143">
                  <c:v>8192</c:v>
                </c:pt>
                <c:pt idx="144">
                  <c:v>8192</c:v>
                </c:pt>
                <c:pt idx="145">
                  <c:v>8192</c:v>
                </c:pt>
                <c:pt idx="146">
                  <c:v>8192</c:v>
                </c:pt>
                <c:pt idx="147">
                  <c:v>8192</c:v>
                </c:pt>
                <c:pt idx="148">
                  <c:v>8192</c:v>
                </c:pt>
                <c:pt idx="149">
                  <c:v>8192</c:v>
                </c:pt>
                <c:pt idx="150">
                  <c:v>8192</c:v>
                </c:pt>
                <c:pt idx="151">
                  <c:v>8192</c:v>
                </c:pt>
                <c:pt idx="152">
                  <c:v>8192</c:v>
                </c:pt>
                <c:pt idx="153">
                  <c:v>8192</c:v>
                </c:pt>
                <c:pt idx="154">
                  <c:v>8192</c:v>
                </c:pt>
                <c:pt idx="155">
                  <c:v>8192</c:v>
                </c:pt>
                <c:pt idx="156">
                  <c:v>8192</c:v>
                </c:pt>
                <c:pt idx="157">
                  <c:v>8192</c:v>
                </c:pt>
                <c:pt idx="158">
                  <c:v>8192</c:v>
                </c:pt>
                <c:pt idx="159">
                  <c:v>8192</c:v>
                </c:pt>
                <c:pt idx="160">
                  <c:v>8192</c:v>
                </c:pt>
                <c:pt idx="161">
                  <c:v>8192</c:v>
                </c:pt>
                <c:pt idx="162">
                  <c:v>8192</c:v>
                </c:pt>
                <c:pt idx="163">
                  <c:v>8192</c:v>
                </c:pt>
                <c:pt idx="164">
                  <c:v>8192</c:v>
                </c:pt>
                <c:pt idx="165">
                  <c:v>8192</c:v>
                </c:pt>
                <c:pt idx="166">
                  <c:v>8192</c:v>
                </c:pt>
                <c:pt idx="167">
                  <c:v>8192</c:v>
                </c:pt>
                <c:pt idx="168">
                  <c:v>8192</c:v>
                </c:pt>
                <c:pt idx="169">
                  <c:v>8192</c:v>
                </c:pt>
                <c:pt idx="170">
                  <c:v>8192</c:v>
                </c:pt>
                <c:pt idx="171">
                  <c:v>8192</c:v>
                </c:pt>
                <c:pt idx="172">
                  <c:v>8192</c:v>
                </c:pt>
                <c:pt idx="173">
                  <c:v>8192</c:v>
                </c:pt>
                <c:pt idx="174">
                  <c:v>8192</c:v>
                </c:pt>
                <c:pt idx="175">
                  <c:v>8192</c:v>
                </c:pt>
                <c:pt idx="176">
                  <c:v>8192</c:v>
                </c:pt>
                <c:pt idx="177">
                  <c:v>8192</c:v>
                </c:pt>
                <c:pt idx="178">
                  <c:v>8192</c:v>
                </c:pt>
                <c:pt idx="179">
                  <c:v>8192</c:v>
                </c:pt>
                <c:pt idx="180">
                  <c:v>8192</c:v>
                </c:pt>
                <c:pt idx="181">
                  <c:v>8192</c:v>
                </c:pt>
                <c:pt idx="182">
                  <c:v>8192</c:v>
                </c:pt>
                <c:pt idx="183">
                  <c:v>8192</c:v>
                </c:pt>
                <c:pt idx="184">
                  <c:v>8192</c:v>
                </c:pt>
                <c:pt idx="185">
                  <c:v>8192</c:v>
                </c:pt>
                <c:pt idx="186">
                  <c:v>8192</c:v>
                </c:pt>
                <c:pt idx="187">
                  <c:v>8192</c:v>
                </c:pt>
                <c:pt idx="188">
                  <c:v>8192</c:v>
                </c:pt>
                <c:pt idx="189">
                  <c:v>8192</c:v>
                </c:pt>
                <c:pt idx="190">
                  <c:v>8192</c:v>
                </c:pt>
                <c:pt idx="191">
                  <c:v>8192</c:v>
                </c:pt>
                <c:pt idx="192">
                  <c:v>8192</c:v>
                </c:pt>
                <c:pt idx="193">
                  <c:v>8192</c:v>
                </c:pt>
                <c:pt idx="194">
                  <c:v>8192</c:v>
                </c:pt>
                <c:pt idx="195">
                  <c:v>8192</c:v>
                </c:pt>
                <c:pt idx="196">
                  <c:v>8192</c:v>
                </c:pt>
                <c:pt idx="197">
                  <c:v>8192</c:v>
                </c:pt>
                <c:pt idx="198">
                  <c:v>8192</c:v>
                </c:pt>
                <c:pt idx="199">
                  <c:v>8192</c:v>
                </c:pt>
                <c:pt idx="200">
                  <c:v>8192</c:v>
                </c:pt>
                <c:pt idx="201">
                  <c:v>8192</c:v>
                </c:pt>
                <c:pt idx="202">
                  <c:v>8192</c:v>
                </c:pt>
                <c:pt idx="203">
                  <c:v>8192</c:v>
                </c:pt>
                <c:pt idx="204">
                  <c:v>8192</c:v>
                </c:pt>
                <c:pt idx="205">
                  <c:v>8192</c:v>
                </c:pt>
                <c:pt idx="206">
                  <c:v>8192</c:v>
                </c:pt>
                <c:pt idx="207">
                  <c:v>8192</c:v>
                </c:pt>
                <c:pt idx="208">
                  <c:v>8192</c:v>
                </c:pt>
                <c:pt idx="209">
                  <c:v>8192</c:v>
                </c:pt>
                <c:pt idx="210">
                  <c:v>8192</c:v>
                </c:pt>
                <c:pt idx="211">
                  <c:v>8192</c:v>
                </c:pt>
                <c:pt idx="212">
                  <c:v>8192</c:v>
                </c:pt>
                <c:pt idx="213">
                  <c:v>8192</c:v>
                </c:pt>
                <c:pt idx="214">
                  <c:v>8192</c:v>
                </c:pt>
                <c:pt idx="215">
                  <c:v>8192</c:v>
                </c:pt>
                <c:pt idx="216">
                  <c:v>8192</c:v>
                </c:pt>
                <c:pt idx="217">
                  <c:v>8192</c:v>
                </c:pt>
                <c:pt idx="218">
                  <c:v>8192</c:v>
                </c:pt>
                <c:pt idx="219">
                  <c:v>8192</c:v>
                </c:pt>
                <c:pt idx="220">
                  <c:v>8192</c:v>
                </c:pt>
                <c:pt idx="221">
                  <c:v>8192</c:v>
                </c:pt>
                <c:pt idx="222">
                  <c:v>8192</c:v>
                </c:pt>
                <c:pt idx="223">
                  <c:v>8192</c:v>
                </c:pt>
                <c:pt idx="224">
                  <c:v>8192</c:v>
                </c:pt>
                <c:pt idx="225">
                  <c:v>8192</c:v>
                </c:pt>
                <c:pt idx="226">
                  <c:v>8192</c:v>
                </c:pt>
                <c:pt idx="227">
                  <c:v>8192</c:v>
                </c:pt>
                <c:pt idx="228">
                  <c:v>8192</c:v>
                </c:pt>
                <c:pt idx="229">
                  <c:v>8192</c:v>
                </c:pt>
                <c:pt idx="230">
                  <c:v>8192</c:v>
                </c:pt>
                <c:pt idx="231">
                  <c:v>8192</c:v>
                </c:pt>
                <c:pt idx="232">
                  <c:v>8192</c:v>
                </c:pt>
                <c:pt idx="233">
                  <c:v>8192</c:v>
                </c:pt>
                <c:pt idx="234">
                  <c:v>8192</c:v>
                </c:pt>
                <c:pt idx="235">
                  <c:v>8192</c:v>
                </c:pt>
                <c:pt idx="236">
                  <c:v>8192</c:v>
                </c:pt>
                <c:pt idx="237">
                  <c:v>8192</c:v>
                </c:pt>
                <c:pt idx="238">
                  <c:v>8192</c:v>
                </c:pt>
                <c:pt idx="239">
                  <c:v>8192</c:v>
                </c:pt>
                <c:pt idx="240">
                  <c:v>8192</c:v>
                </c:pt>
                <c:pt idx="241">
                  <c:v>8192</c:v>
                </c:pt>
                <c:pt idx="242">
                  <c:v>8192</c:v>
                </c:pt>
                <c:pt idx="243">
                  <c:v>8192</c:v>
                </c:pt>
                <c:pt idx="244">
                  <c:v>8192</c:v>
                </c:pt>
                <c:pt idx="245">
                  <c:v>8192</c:v>
                </c:pt>
                <c:pt idx="246">
                  <c:v>8192</c:v>
                </c:pt>
                <c:pt idx="247">
                  <c:v>8192</c:v>
                </c:pt>
                <c:pt idx="248">
                  <c:v>8192</c:v>
                </c:pt>
                <c:pt idx="249">
                  <c:v>8192</c:v>
                </c:pt>
                <c:pt idx="250">
                  <c:v>8192</c:v>
                </c:pt>
                <c:pt idx="251">
                  <c:v>8192</c:v>
                </c:pt>
                <c:pt idx="252">
                  <c:v>8192</c:v>
                </c:pt>
                <c:pt idx="253">
                  <c:v>8192</c:v>
                </c:pt>
                <c:pt idx="254">
                  <c:v>8192</c:v>
                </c:pt>
                <c:pt idx="255">
                  <c:v>8192</c:v>
                </c:pt>
                <c:pt idx="256">
                  <c:v>8192</c:v>
                </c:pt>
                <c:pt idx="257">
                  <c:v>8192</c:v>
                </c:pt>
                <c:pt idx="258">
                  <c:v>8192</c:v>
                </c:pt>
                <c:pt idx="259">
                  <c:v>8192</c:v>
                </c:pt>
                <c:pt idx="260">
                  <c:v>8192</c:v>
                </c:pt>
                <c:pt idx="261">
                  <c:v>8192</c:v>
                </c:pt>
                <c:pt idx="262">
                  <c:v>8192</c:v>
                </c:pt>
                <c:pt idx="263">
                  <c:v>8192</c:v>
                </c:pt>
                <c:pt idx="264">
                  <c:v>8192</c:v>
                </c:pt>
                <c:pt idx="265">
                  <c:v>8192</c:v>
                </c:pt>
                <c:pt idx="266">
                  <c:v>8192</c:v>
                </c:pt>
                <c:pt idx="267">
                  <c:v>8192</c:v>
                </c:pt>
                <c:pt idx="268">
                  <c:v>8192</c:v>
                </c:pt>
                <c:pt idx="269">
                  <c:v>8192</c:v>
                </c:pt>
                <c:pt idx="270">
                  <c:v>8192</c:v>
                </c:pt>
                <c:pt idx="271">
                  <c:v>8192</c:v>
                </c:pt>
                <c:pt idx="272">
                  <c:v>8192</c:v>
                </c:pt>
                <c:pt idx="273">
                  <c:v>8192</c:v>
                </c:pt>
                <c:pt idx="274">
                  <c:v>8192</c:v>
                </c:pt>
                <c:pt idx="275">
                  <c:v>8192</c:v>
                </c:pt>
                <c:pt idx="276">
                  <c:v>8192</c:v>
                </c:pt>
                <c:pt idx="277">
                  <c:v>8192</c:v>
                </c:pt>
                <c:pt idx="278">
                  <c:v>8192</c:v>
                </c:pt>
                <c:pt idx="279">
                  <c:v>8192</c:v>
                </c:pt>
                <c:pt idx="280">
                  <c:v>8192</c:v>
                </c:pt>
                <c:pt idx="281">
                  <c:v>8192</c:v>
                </c:pt>
                <c:pt idx="282">
                  <c:v>8192</c:v>
                </c:pt>
                <c:pt idx="283">
                  <c:v>8192</c:v>
                </c:pt>
                <c:pt idx="284">
                  <c:v>8192</c:v>
                </c:pt>
                <c:pt idx="285">
                  <c:v>8192</c:v>
                </c:pt>
                <c:pt idx="286">
                  <c:v>8192</c:v>
                </c:pt>
                <c:pt idx="287">
                  <c:v>8192</c:v>
                </c:pt>
                <c:pt idx="288">
                  <c:v>8192</c:v>
                </c:pt>
                <c:pt idx="289">
                  <c:v>8192</c:v>
                </c:pt>
                <c:pt idx="290">
                  <c:v>8192</c:v>
                </c:pt>
                <c:pt idx="291">
                  <c:v>8192</c:v>
                </c:pt>
                <c:pt idx="292">
                  <c:v>8192</c:v>
                </c:pt>
                <c:pt idx="293">
                  <c:v>8192</c:v>
                </c:pt>
                <c:pt idx="294">
                  <c:v>8192</c:v>
                </c:pt>
                <c:pt idx="295">
                  <c:v>8192</c:v>
                </c:pt>
                <c:pt idx="296">
                  <c:v>8192</c:v>
                </c:pt>
                <c:pt idx="297">
                  <c:v>8192</c:v>
                </c:pt>
                <c:pt idx="298">
                  <c:v>8192</c:v>
                </c:pt>
                <c:pt idx="299">
                  <c:v>8192</c:v>
                </c:pt>
                <c:pt idx="300">
                  <c:v>8192</c:v>
                </c:pt>
                <c:pt idx="301">
                  <c:v>8192</c:v>
                </c:pt>
                <c:pt idx="302">
                  <c:v>8192</c:v>
                </c:pt>
                <c:pt idx="303">
                  <c:v>8192</c:v>
                </c:pt>
                <c:pt idx="304">
                  <c:v>8192</c:v>
                </c:pt>
                <c:pt idx="305">
                  <c:v>8192</c:v>
                </c:pt>
                <c:pt idx="306">
                  <c:v>8192</c:v>
                </c:pt>
                <c:pt idx="307">
                  <c:v>8192</c:v>
                </c:pt>
                <c:pt idx="308">
                  <c:v>8192</c:v>
                </c:pt>
                <c:pt idx="309">
                  <c:v>8192</c:v>
                </c:pt>
                <c:pt idx="310">
                  <c:v>8192</c:v>
                </c:pt>
                <c:pt idx="311">
                  <c:v>8192</c:v>
                </c:pt>
                <c:pt idx="312">
                  <c:v>8192</c:v>
                </c:pt>
                <c:pt idx="313">
                  <c:v>8192</c:v>
                </c:pt>
                <c:pt idx="314">
                  <c:v>8192</c:v>
                </c:pt>
                <c:pt idx="315">
                  <c:v>8192</c:v>
                </c:pt>
                <c:pt idx="316">
                  <c:v>8192</c:v>
                </c:pt>
                <c:pt idx="317">
                  <c:v>8192</c:v>
                </c:pt>
                <c:pt idx="318">
                  <c:v>8192</c:v>
                </c:pt>
                <c:pt idx="319">
                  <c:v>8192</c:v>
                </c:pt>
                <c:pt idx="320">
                  <c:v>8192</c:v>
                </c:pt>
                <c:pt idx="321">
                  <c:v>8192</c:v>
                </c:pt>
                <c:pt idx="322">
                  <c:v>8192</c:v>
                </c:pt>
                <c:pt idx="323">
                  <c:v>8192</c:v>
                </c:pt>
                <c:pt idx="324">
                  <c:v>8192</c:v>
                </c:pt>
                <c:pt idx="325">
                  <c:v>8192</c:v>
                </c:pt>
                <c:pt idx="326">
                  <c:v>8192</c:v>
                </c:pt>
                <c:pt idx="327">
                  <c:v>8192</c:v>
                </c:pt>
                <c:pt idx="328">
                  <c:v>8192</c:v>
                </c:pt>
                <c:pt idx="329">
                  <c:v>8192</c:v>
                </c:pt>
                <c:pt idx="330">
                  <c:v>8192</c:v>
                </c:pt>
                <c:pt idx="331">
                  <c:v>8192</c:v>
                </c:pt>
                <c:pt idx="332">
                  <c:v>8192</c:v>
                </c:pt>
                <c:pt idx="333">
                  <c:v>8192</c:v>
                </c:pt>
                <c:pt idx="334">
                  <c:v>8192</c:v>
                </c:pt>
                <c:pt idx="335">
                  <c:v>8192</c:v>
                </c:pt>
                <c:pt idx="336">
                  <c:v>8192</c:v>
                </c:pt>
                <c:pt idx="337">
                  <c:v>8192</c:v>
                </c:pt>
                <c:pt idx="338">
                  <c:v>8192</c:v>
                </c:pt>
                <c:pt idx="339">
                  <c:v>8192</c:v>
                </c:pt>
                <c:pt idx="340">
                  <c:v>8192</c:v>
                </c:pt>
                <c:pt idx="341">
                  <c:v>8192</c:v>
                </c:pt>
                <c:pt idx="342">
                  <c:v>8192</c:v>
                </c:pt>
                <c:pt idx="343">
                  <c:v>8192</c:v>
                </c:pt>
                <c:pt idx="344">
                  <c:v>8192</c:v>
                </c:pt>
                <c:pt idx="345">
                  <c:v>8192</c:v>
                </c:pt>
                <c:pt idx="346">
                  <c:v>8192</c:v>
                </c:pt>
                <c:pt idx="347">
                  <c:v>8192</c:v>
                </c:pt>
                <c:pt idx="348">
                  <c:v>8192</c:v>
                </c:pt>
                <c:pt idx="349">
                  <c:v>8192</c:v>
                </c:pt>
                <c:pt idx="350">
                  <c:v>8192</c:v>
                </c:pt>
                <c:pt idx="351">
                  <c:v>8192</c:v>
                </c:pt>
                <c:pt idx="352">
                  <c:v>8192</c:v>
                </c:pt>
                <c:pt idx="353">
                  <c:v>8192</c:v>
                </c:pt>
                <c:pt idx="354">
                  <c:v>8192</c:v>
                </c:pt>
                <c:pt idx="355">
                  <c:v>8192</c:v>
                </c:pt>
                <c:pt idx="356">
                  <c:v>8192</c:v>
                </c:pt>
                <c:pt idx="357">
                  <c:v>8192</c:v>
                </c:pt>
                <c:pt idx="358">
                  <c:v>8192</c:v>
                </c:pt>
                <c:pt idx="359">
                  <c:v>8192</c:v>
                </c:pt>
                <c:pt idx="360">
                  <c:v>8192</c:v>
                </c:pt>
                <c:pt idx="361">
                  <c:v>8192</c:v>
                </c:pt>
                <c:pt idx="362">
                  <c:v>8192</c:v>
                </c:pt>
                <c:pt idx="363">
                  <c:v>8192</c:v>
                </c:pt>
                <c:pt idx="364">
                  <c:v>8192</c:v>
                </c:pt>
                <c:pt idx="365">
                  <c:v>8192</c:v>
                </c:pt>
                <c:pt idx="366">
                  <c:v>8192</c:v>
                </c:pt>
                <c:pt idx="367">
                  <c:v>8192</c:v>
                </c:pt>
                <c:pt idx="368">
                  <c:v>8192</c:v>
                </c:pt>
                <c:pt idx="369">
                  <c:v>8192</c:v>
                </c:pt>
                <c:pt idx="370">
                  <c:v>8192</c:v>
                </c:pt>
                <c:pt idx="371">
                  <c:v>8192</c:v>
                </c:pt>
                <c:pt idx="372">
                  <c:v>8192</c:v>
                </c:pt>
                <c:pt idx="373">
                  <c:v>8192</c:v>
                </c:pt>
                <c:pt idx="374">
                  <c:v>8192</c:v>
                </c:pt>
                <c:pt idx="375">
                  <c:v>8192</c:v>
                </c:pt>
                <c:pt idx="376">
                  <c:v>8192</c:v>
                </c:pt>
                <c:pt idx="377">
                  <c:v>8192</c:v>
                </c:pt>
                <c:pt idx="378">
                  <c:v>8192</c:v>
                </c:pt>
                <c:pt idx="379">
                  <c:v>8192</c:v>
                </c:pt>
                <c:pt idx="380">
                  <c:v>8192</c:v>
                </c:pt>
                <c:pt idx="381">
                  <c:v>8192</c:v>
                </c:pt>
                <c:pt idx="382">
                  <c:v>8192</c:v>
                </c:pt>
                <c:pt idx="383">
                  <c:v>8192</c:v>
                </c:pt>
                <c:pt idx="384">
                  <c:v>8192</c:v>
                </c:pt>
                <c:pt idx="385">
                  <c:v>8192</c:v>
                </c:pt>
                <c:pt idx="386">
                  <c:v>8192</c:v>
                </c:pt>
                <c:pt idx="387">
                  <c:v>8192</c:v>
                </c:pt>
                <c:pt idx="388">
                  <c:v>8192</c:v>
                </c:pt>
                <c:pt idx="389">
                  <c:v>8192</c:v>
                </c:pt>
                <c:pt idx="390">
                  <c:v>8192</c:v>
                </c:pt>
                <c:pt idx="391">
                  <c:v>8192</c:v>
                </c:pt>
                <c:pt idx="392">
                  <c:v>8192</c:v>
                </c:pt>
                <c:pt idx="393">
                  <c:v>8192</c:v>
                </c:pt>
                <c:pt idx="394">
                  <c:v>8192</c:v>
                </c:pt>
                <c:pt idx="395">
                  <c:v>8192</c:v>
                </c:pt>
                <c:pt idx="396">
                  <c:v>8192</c:v>
                </c:pt>
                <c:pt idx="397">
                  <c:v>8192</c:v>
                </c:pt>
                <c:pt idx="398">
                  <c:v>8192</c:v>
                </c:pt>
                <c:pt idx="399">
                  <c:v>8192</c:v>
                </c:pt>
                <c:pt idx="400">
                  <c:v>8192</c:v>
                </c:pt>
                <c:pt idx="401">
                  <c:v>8192</c:v>
                </c:pt>
                <c:pt idx="402">
                  <c:v>8192</c:v>
                </c:pt>
                <c:pt idx="403">
                  <c:v>8192</c:v>
                </c:pt>
                <c:pt idx="404">
                  <c:v>8192</c:v>
                </c:pt>
                <c:pt idx="405">
                  <c:v>8192</c:v>
                </c:pt>
                <c:pt idx="406">
                  <c:v>8192</c:v>
                </c:pt>
                <c:pt idx="407">
                  <c:v>8192</c:v>
                </c:pt>
                <c:pt idx="408">
                  <c:v>8192</c:v>
                </c:pt>
                <c:pt idx="409">
                  <c:v>8192</c:v>
                </c:pt>
                <c:pt idx="410">
                  <c:v>8192</c:v>
                </c:pt>
                <c:pt idx="411">
                  <c:v>8192</c:v>
                </c:pt>
                <c:pt idx="412">
                  <c:v>8192</c:v>
                </c:pt>
                <c:pt idx="413">
                  <c:v>8192</c:v>
                </c:pt>
                <c:pt idx="414">
                  <c:v>8192</c:v>
                </c:pt>
                <c:pt idx="415">
                  <c:v>8192</c:v>
                </c:pt>
                <c:pt idx="416">
                  <c:v>8192</c:v>
                </c:pt>
                <c:pt idx="417">
                  <c:v>8192</c:v>
                </c:pt>
                <c:pt idx="418">
                  <c:v>8192</c:v>
                </c:pt>
                <c:pt idx="419">
                  <c:v>8192</c:v>
                </c:pt>
                <c:pt idx="420">
                  <c:v>8192</c:v>
                </c:pt>
                <c:pt idx="421">
                  <c:v>8192</c:v>
                </c:pt>
                <c:pt idx="422">
                  <c:v>8192</c:v>
                </c:pt>
                <c:pt idx="423">
                  <c:v>8192</c:v>
                </c:pt>
                <c:pt idx="424">
                  <c:v>8192</c:v>
                </c:pt>
                <c:pt idx="425">
                  <c:v>8192</c:v>
                </c:pt>
                <c:pt idx="426">
                  <c:v>8192</c:v>
                </c:pt>
                <c:pt idx="427">
                  <c:v>8192</c:v>
                </c:pt>
                <c:pt idx="428">
                  <c:v>8192</c:v>
                </c:pt>
                <c:pt idx="429">
                  <c:v>8192</c:v>
                </c:pt>
                <c:pt idx="430">
                  <c:v>8192</c:v>
                </c:pt>
                <c:pt idx="431">
                  <c:v>8192</c:v>
                </c:pt>
                <c:pt idx="432">
                  <c:v>8192</c:v>
                </c:pt>
                <c:pt idx="433">
                  <c:v>8192</c:v>
                </c:pt>
                <c:pt idx="434">
                  <c:v>8192</c:v>
                </c:pt>
                <c:pt idx="435">
                  <c:v>8192</c:v>
                </c:pt>
                <c:pt idx="436">
                  <c:v>8192</c:v>
                </c:pt>
                <c:pt idx="437">
                  <c:v>8192</c:v>
                </c:pt>
                <c:pt idx="438">
                  <c:v>8192</c:v>
                </c:pt>
                <c:pt idx="439">
                  <c:v>8192</c:v>
                </c:pt>
                <c:pt idx="440">
                  <c:v>8192</c:v>
                </c:pt>
                <c:pt idx="441">
                  <c:v>8192</c:v>
                </c:pt>
                <c:pt idx="442">
                  <c:v>8192</c:v>
                </c:pt>
                <c:pt idx="443">
                  <c:v>8192</c:v>
                </c:pt>
                <c:pt idx="444">
                  <c:v>8192</c:v>
                </c:pt>
                <c:pt idx="445">
                  <c:v>8192</c:v>
                </c:pt>
                <c:pt idx="446">
                  <c:v>8192</c:v>
                </c:pt>
                <c:pt idx="447">
                  <c:v>8192</c:v>
                </c:pt>
                <c:pt idx="448">
                  <c:v>8192</c:v>
                </c:pt>
                <c:pt idx="449">
                  <c:v>8192</c:v>
                </c:pt>
                <c:pt idx="450">
                  <c:v>8192</c:v>
                </c:pt>
                <c:pt idx="451">
                  <c:v>8192</c:v>
                </c:pt>
                <c:pt idx="452">
                  <c:v>8192</c:v>
                </c:pt>
                <c:pt idx="453">
                  <c:v>8192</c:v>
                </c:pt>
                <c:pt idx="454">
                  <c:v>8192</c:v>
                </c:pt>
                <c:pt idx="455">
                  <c:v>8192</c:v>
                </c:pt>
                <c:pt idx="456">
                  <c:v>8192</c:v>
                </c:pt>
                <c:pt idx="457">
                  <c:v>8192</c:v>
                </c:pt>
                <c:pt idx="458">
                  <c:v>8192</c:v>
                </c:pt>
                <c:pt idx="459">
                  <c:v>8192</c:v>
                </c:pt>
                <c:pt idx="460">
                  <c:v>8192</c:v>
                </c:pt>
                <c:pt idx="461">
                  <c:v>8192</c:v>
                </c:pt>
                <c:pt idx="462">
                  <c:v>8192</c:v>
                </c:pt>
                <c:pt idx="463">
                  <c:v>8192</c:v>
                </c:pt>
                <c:pt idx="464">
                  <c:v>8192</c:v>
                </c:pt>
                <c:pt idx="465">
                  <c:v>8192</c:v>
                </c:pt>
                <c:pt idx="466">
                  <c:v>8192</c:v>
                </c:pt>
                <c:pt idx="467">
                  <c:v>8192</c:v>
                </c:pt>
                <c:pt idx="468">
                  <c:v>8192</c:v>
                </c:pt>
                <c:pt idx="469">
                  <c:v>8192</c:v>
                </c:pt>
                <c:pt idx="470">
                  <c:v>8192</c:v>
                </c:pt>
                <c:pt idx="471">
                  <c:v>8192</c:v>
                </c:pt>
                <c:pt idx="472">
                  <c:v>8192</c:v>
                </c:pt>
                <c:pt idx="473">
                  <c:v>8192</c:v>
                </c:pt>
                <c:pt idx="474">
                  <c:v>8192</c:v>
                </c:pt>
                <c:pt idx="475">
                  <c:v>8192</c:v>
                </c:pt>
                <c:pt idx="476">
                  <c:v>8192</c:v>
                </c:pt>
                <c:pt idx="477">
                  <c:v>8192</c:v>
                </c:pt>
                <c:pt idx="478">
                  <c:v>8192</c:v>
                </c:pt>
                <c:pt idx="479">
                  <c:v>8192</c:v>
                </c:pt>
                <c:pt idx="480">
                  <c:v>8192</c:v>
                </c:pt>
                <c:pt idx="481">
                  <c:v>8192</c:v>
                </c:pt>
                <c:pt idx="482">
                  <c:v>8192</c:v>
                </c:pt>
                <c:pt idx="483">
                  <c:v>8192</c:v>
                </c:pt>
                <c:pt idx="484">
                  <c:v>8192</c:v>
                </c:pt>
                <c:pt idx="485">
                  <c:v>8192</c:v>
                </c:pt>
                <c:pt idx="486">
                  <c:v>8192</c:v>
                </c:pt>
                <c:pt idx="487">
                  <c:v>8192</c:v>
                </c:pt>
                <c:pt idx="488">
                  <c:v>8192</c:v>
                </c:pt>
                <c:pt idx="489">
                  <c:v>8192</c:v>
                </c:pt>
                <c:pt idx="490">
                  <c:v>8192</c:v>
                </c:pt>
                <c:pt idx="491">
                  <c:v>8192</c:v>
                </c:pt>
                <c:pt idx="492">
                  <c:v>8192</c:v>
                </c:pt>
                <c:pt idx="493">
                  <c:v>8192</c:v>
                </c:pt>
                <c:pt idx="494">
                  <c:v>8192</c:v>
                </c:pt>
                <c:pt idx="495">
                  <c:v>8192</c:v>
                </c:pt>
                <c:pt idx="496">
                  <c:v>8192</c:v>
                </c:pt>
                <c:pt idx="497">
                  <c:v>8192</c:v>
                </c:pt>
                <c:pt idx="498">
                  <c:v>8192</c:v>
                </c:pt>
                <c:pt idx="499">
                  <c:v>8192</c:v>
                </c:pt>
                <c:pt idx="500">
                  <c:v>8192</c:v>
                </c:pt>
                <c:pt idx="501">
                  <c:v>8192</c:v>
                </c:pt>
                <c:pt idx="502">
                  <c:v>8192</c:v>
                </c:pt>
                <c:pt idx="503">
                  <c:v>8192</c:v>
                </c:pt>
                <c:pt idx="504">
                  <c:v>8192</c:v>
                </c:pt>
                <c:pt idx="505">
                  <c:v>8192</c:v>
                </c:pt>
                <c:pt idx="506">
                  <c:v>8192</c:v>
                </c:pt>
                <c:pt idx="507">
                  <c:v>8192</c:v>
                </c:pt>
                <c:pt idx="508">
                  <c:v>8192</c:v>
                </c:pt>
                <c:pt idx="509">
                  <c:v>8192</c:v>
                </c:pt>
                <c:pt idx="510">
                  <c:v>8192</c:v>
                </c:pt>
                <c:pt idx="511">
                  <c:v>8192</c:v>
                </c:pt>
                <c:pt idx="512">
                  <c:v>8192</c:v>
                </c:pt>
                <c:pt idx="513">
                  <c:v>8192</c:v>
                </c:pt>
                <c:pt idx="514">
                  <c:v>8192</c:v>
                </c:pt>
                <c:pt idx="515">
                  <c:v>8192</c:v>
                </c:pt>
                <c:pt idx="516">
                  <c:v>8192</c:v>
                </c:pt>
                <c:pt idx="517">
                  <c:v>8192</c:v>
                </c:pt>
                <c:pt idx="518">
                  <c:v>8192</c:v>
                </c:pt>
                <c:pt idx="519">
                  <c:v>8192</c:v>
                </c:pt>
                <c:pt idx="520">
                  <c:v>8192</c:v>
                </c:pt>
                <c:pt idx="521">
                  <c:v>8192</c:v>
                </c:pt>
                <c:pt idx="522">
                  <c:v>8192</c:v>
                </c:pt>
                <c:pt idx="523">
                  <c:v>8192</c:v>
                </c:pt>
                <c:pt idx="524">
                  <c:v>8192</c:v>
                </c:pt>
                <c:pt idx="525">
                  <c:v>8192</c:v>
                </c:pt>
                <c:pt idx="526">
                  <c:v>8192</c:v>
                </c:pt>
                <c:pt idx="527">
                  <c:v>8192</c:v>
                </c:pt>
                <c:pt idx="528">
                  <c:v>8192</c:v>
                </c:pt>
                <c:pt idx="529">
                  <c:v>8192</c:v>
                </c:pt>
                <c:pt idx="530">
                  <c:v>8192</c:v>
                </c:pt>
                <c:pt idx="531">
                  <c:v>8192</c:v>
                </c:pt>
                <c:pt idx="532">
                  <c:v>8192</c:v>
                </c:pt>
                <c:pt idx="533">
                  <c:v>8192</c:v>
                </c:pt>
                <c:pt idx="534">
                  <c:v>8192</c:v>
                </c:pt>
                <c:pt idx="535">
                  <c:v>8192</c:v>
                </c:pt>
                <c:pt idx="536">
                  <c:v>8192</c:v>
                </c:pt>
                <c:pt idx="537">
                  <c:v>8192</c:v>
                </c:pt>
                <c:pt idx="538">
                  <c:v>8192</c:v>
                </c:pt>
                <c:pt idx="539">
                  <c:v>8192</c:v>
                </c:pt>
                <c:pt idx="540">
                  <c:v>8192</c:v>
                </c:pt>
                <c:pt idx="541">
                  <c:v>8192</c:v>
                </c:pt>
                <c:pt idx="542">
                  <c:v>8192</c:v>
                </c:pt>
                <c:pt idx="543">
                  <c:v>8192</c:v>
                </c:pt>
                <c:pt idx="544">
                  <c:v>8192</c:v>
                </c:pt>
                <c:pt idx="545">
                  <c:v>8192</c:v>
                </c:pt>
                <c:pt idx="546">
                  <c:v>8192</c:v>
                </c:pt>
                <c:pt idx="547">
                  <c:v>8192</c:v>
                </c:pt>
                <c:pt idx="548">
                  <c:v>8192</c:v>
                </c:pt>
                <c:pt idx="549">
                  <c:v>8192</c:v>
                </c:pt>
                <c:pt idx="550">
                  <c:v>8192</c:v>
                </c:pt>
                <c:pt idx="551">
                  <c:v>8192</c:v>
                </c:pt>
                <c:pt idx="552">
                  <c:v>8192</c:v>
                </c:pt>
                <c:pt idx="553">
                  <c:v>8192</c:v>
                </c:pt>
                <c:pt idx="554">
                  <c:v>8192</c:v>
                </c:pt>
                <c:pt idx="555">
                  <c:v>8192</c:v>
                </c:pt>
                <c:pt idx="556">
                  <c:v>8192</c:v>
                </c:pt>
                <c:pt idx="557">
                  <c:v>8192</c:v>
                </c:pt>
                <c:pt idx="558">
                  <c:v>8192</c:v>
                </c:pt>
                <c:pt idx="559">
                  <c:v>8192</c:v>
                </c:pt>
                <c:pt idx="560">
                  <c:v>8192</c:v>
                </c:pt>
                <c:pt idx="561">
                  <c:v>8192</c:v>
                </c:pt>
                <c:pt idx="562">
                  <c:v>8192</c:v>
                </c:pt>
                <c:pt idx="563">
                  <c:v>8192</c:v>
                </c:pt>
                <c:pt idx="564">
                  <c:v>8192</c:v>
                </c:pt>
                <c:pt idx="565">
                  <c:v>8192</c:v>
                </c:pt>
                <c:pt idx="566">
                  <c:v>8192</c:v>
                </c:pt>
                <c:pt idx="567">
                  <c:v>8192</c:v>
                </c:pt>
                <c:pt idx="568">
                  <c:v>8192</c:v>
                </c:pt>
                <c:pt idx="569">
                  <c:v>8192</c:v>
                </c:pt>
                <c:pt idx="570">
                  <c:v>8192</c:v>
                </c:pt>
                <c:pt idx="571">
                  <c:v>8192</c:v>
                </c:pt>
                <c:pt idx="572">
                  <c:v>8192</c:v>
                </c:pt>
                <c:pt idx="573">
                  <c:v>8192</c:v>
                </c:pt>
                <c:pt idx="574">
                  <c:v>8192</c:v>
                </c:pt>
                <c:pt idx="575">
                  <c:v>8192</c:v>
                </c:pt>
                <c:pt idx="576">
                  <c:v>8192</c:v>
                </c:pt>
                <c:pt idx="577">
                  <c:v>8192</c:v>
                </c:pt>
                <c:pt idx="578">
                  <c:v>8192</c:v>
                </c:pt>
                <c:pt idx="579">
                  <c:v>8192</c:v>
                </c:pt>
                <c:pt idx="580">
                  <c:v>8192</c:v>
                </c:pt>
                <c:pt idx="581">
                  <c:v>8192</c:v>
                </c:pt>
                <c:pt idx="582">
                  <c:v>8192</c:v>
                </c:pt>
                <c:pt idx="583">
                  <c:v>8192</c:v>
                </c:pt>
                <c:pt idx="584">
                  <c:v>8192</c:v>
                </c:pt>
                <c:pt idx="585">
                  <c:v>8192</c:v>
                </c:pt>
                <c:pt idx="586">
                  <c:v>8192</c:v>
                </c:pt>
                <c:pt idx="587">
                  <c:v>8192</c:v>
                </c:pt>
                <c:pt idx="588">
                  <c:v>8192</c:v>
                </c:pt>
                <c:pt idx="589">
                  <c:v>8192</c:v>
                </c:pt>
                <c:pt idx="590">
                  <c:v>8192</c:v>
                </c:pt>
                <c:pt idx="591">
                  <c:v>8192</c:v>
                </c:pt>
                <c:pt idx="592">
                  <c:v>8192</c:v>
                </c:pt>
                <c:pt idx="593">
                  <c:v>8192</c:v>
                </c:pt>
                <c:pt idx="594">
                  <c:v>8192</c:v>
                </c:pt>
                <c:pt idx="595">
                  <c:v>8192</c:v>
                </c:pt>
                <c:pt idx="596">
                  <c:v>8192</c:v>
                </c:pt>
                <c:pt idx="597">
                  <c:v>8192</c:v>
                </c:pt>
                <c:pt idx="598">
                  <c:v>8192</c:v>
                </c:pt>
                <c:pt idx="599">
                  <c:v>8192</c:v>
                </c:pt>
                <c:pt idx="600">
                  <c:v>8192</c:v>
                </c:pt>
                <c:pt idx="601">
                  <c:v>8192</c:v>
                </c:pt>
                <c:pt idx="602">
                  <c:v>8192</c:v>
                </c:pt>
                <c:pt idx="603">
                  <c:v>8192</c:v>
                </c:pt>
                <c:pt idx="604">
                  <c:v>8192</c:v>
                </c:pt>
                <c:pt idx="605">
                  <c:v>8192</c:v>
                </c:pt>
                <c:pt idx="606">
                  <c:v>8192</c:v>
                </c:pt>
                <c:pt idx="607">
                  <c:v>8192</c:v>
                </c:pt>
                <c:pt idx="608">
                  <c:v>8192</c:v>
                </c:pt>
                <c:pt idx="609">
                  <c:v>8192</c:v>
                </c:pt>
                <c:pt idx="610">
                  <c:v>8192</c:v>
                </c:pt>
                <c:pt idx="611">
                  <c:v>8192</c:v>
                </c:pt>
                <c:pt idx="612">
                  <c:v>8192</c:v>
                </c:pt>
                <c:pt idx="613">
                  <c:v>8192</c:v>
                </c:pt>
                <c:pt idx="614">
                  <c:v>8192</c:v>
                </c:pt>
                <c:pt idx="615">
                  <c:v>8192</c:v>
                </c:pt>
                <c:pt idx="616">
                  <c:v>8192</c:v>
                </c:pt>
                <c:pt idx="617">
                  <c:v>8192</c:v>
                </c:pt>
                <c:pt idx="618">
                  <c:v>8192</c:v>
                </c:pt>
                <c:pt idx="619">
                  <c:v>8192</c:v>
                </c:pt>
                <c:pt idx="620">
                  <c:v>8192</c:v>
                </c:pt>
                <c:pt idx="621">
                  <c:v>8192</c:v>
                </c:pt>
                <c:pt idx="622">
                  <c:v>8192</c:v>
                </c:pt>
                <c:pt idx="623">
                  <c:v>8192</c:v>
                </c:pt>
                <c:pt idx="624">
                  <c:v>8192</c:v>
                </c:pt>
                <c:pt idx="625">
                  <c:v>8192</c:v>
                </c:pt>
                <c:pt idx="626">
                  <c:v>8192</c:v>
                </c:pt>
                <c:pt idx="627">
                  <c:v>8192</c:v>
                </c:pt>
                <c:pt idx="628">
                  <c:v>8192</c:v>
                </c:pt>
                <c:pt idx="629">
                  <c:v>8192</c:v>
                </c:pt>
                <c:pt idx="630">
                  <c:v>8192</c:v>
                </c:pt>
                <c:pt idx="631">
                  <c:v>8192</c:v>
                </c:pt>
                <c:pt idx="632">
                  <c:v>8192</c:v>
                </c:pt>
                <c:pt idx="633">
                  <c:v>8192</c:v>
                </c:pt>
                <c:pt idx="634">
                  <c:v>8192</c:v>
                </c:pt>
                <c:pt idx="635">
                  <c:v>8192</c:v>
                </c:pt>
                <c:pt idx="636">
                  <c:v>8192</c:v>
                </c:pt>
                <c:pt idx="637">
                  <c:v>8192</c:v>
                </c:pt>
                <c:pt idx="638">
                  <c:v>8192</c:v>
                </c:pt>
                <c:pt idx="639">
                  <c:v>8192</c:v>
                </c:pt>
                <c:pt idx="640">
                  <c:v>8192</c:v>
                </c:pt>
                <c:pt idx="641">
                  <c:v>8192</c:v>
                </c:pt>
                <c:pt idx="642">
                  <c:v>8192</c:v>
                </c:pt>
                <c:pt idx="643">
                  <c:v>8192</c:v>
                </c:pt>
                <c:pt idx="644">
                  <c:v>8192</c:v>
                </c:pt>
                <c:pt idx="645">
                  <c:v>8192</c:v>
                </c:pt>
                <c:pt idx="646">
                  <c:v>8192</c:v>
                </c:pt>
                <c:pt idx="647">
                  <c:v>8192</c:v>
                </c:pt>
                <c:pt idx="648">
                  <c:v>8192</c:v>
                </c:pt>
                <c:pt idx="649">
                  <c:v>8192</c:v>
                </c:pt>
                <c:pt idx="650">
                  <c:v>8192</c:v>
                </c:pt>
                <c:pt idx="651">
                  <c:v>8192</c:v>
                </c:pt>
                <c:pt idx="652">
                  <c:v>8192</c:v>
                </c:pt>
                <c:pt idx="653">
                  <c:v>8192</c:v>
                </c:pt>
                <c:pt idx="654">
                  <c:v>8192</c:v>
                </c:pt>
                <c:pt idx="655">
                  <c:v>8192</c:v>
                </c:pt>
                <c:pt idx="656">
                  <c:v>8192</c:v>
                </c:pt>
                <c:pt idx="657">
                  <c:v>8192</c:v>
                </c:pt>
                <c:pt idx="658">
                  <c:v>8192</c:v>
                </c:pt>
                <c:pt idx="659">
                  <c:v>8192</c:v>
                </c:pt>
                <c:pt idx="660">
                  <c:v>8192</c:v>
                </c:pt>
                <c:pt idx="661">
                  <c:v>8192</c:v>
                </c:pt>
                <c:pt idx="662">
                  <c:v>8192</c:v>
                </c:pt>
                <c:pt idx="663">
                  <c:v>8192</c:v>
                </c:pt>
                <c:pt idx="664">
                  <c:v>8192</c:v>
                </c:pt>
                <c:pt idx="665">
                  <c:v>8192</c:v>
                </c:pt>
                <c:pt idx="666">
                  <c:v>8192</c:v>
                </c:pt>
                <c:pt idx="667">
                  <c:v>8192</c:v>
                </c:pt>
                <c:pt idx="668">
                  <c:v>8192</c:v>
                </c:pt>
                <c:pt idx="669">
                  <c:v>8192</c:v>
                </c:pt>
                <c:pt idx="670">
                  <c:v>8192</c:v>
                </c:pt>
                <c:pt idx="671">
                  <c:v>8192</c:v>
                </c:pt>
                <c:pt idx="672">
                  <c:v>8192</c:v>
                </c:pt>
                <c:pt idx="673">
                  <c:v>8192</c:v>
                </c:pt>
                <c:pt idx="674">
                  <c:v>8192</c:v>
                </c:pt>
                <c:pt idx="675">
                  <c:v>8192</c:v>
                </c:pt>
                <c:pt idx="676">
                  <c:v>8192</c:v>
                </c:pt>
                <c:pt idx="677">
                  <c:v>8192</c:v>
                </c:pt>
                <c:pt idx="678">
                  <c:v>8192</c:v>
                </c:pt>
                <c:pt idx="679">
                  <c:v>8192</c:v>
                </c:pt>
                <c:pt idx="680">
                  <c:v>8192</c:v>
                </c:pt>
                <c:pt idx="681">
                  <c:v>8192</c:v>
                </c:pt>
                <c:pt idx="682">
                  <c:v>8192</c:v>
                </c:pt>
                <c:pt idx="683">
                  <c:v>8192</c:v>
                </c:pt>
                <c:pt idx="684">
                  <c:v>8192</c:v>
                </c:pt>
                <c:pt idx="685">
                  <c:v>8192</c:v>
                </c:pt>
                <c:pt idx="686">
                  <c:v>8192</c:v>
                </c:pt>
                <c:pt idx="687">
                  <c:v>8192</c:v>
                </c:pt>
                <c:pt idx="688">
                  <c:v>8192</c:v>
                </c:pt>
                <c:pt idx="689">
                  <c:v>8192</c:v>
                </c:pt>
                <c:pt idx="690">
                  <c:v>8192</c:v>
                </c:pt>
                <c:pt idx="691">
                  <c:v>8192</c:v>
                </c:pt>
                <c:pt idx="692">
                  <c:v>8192</c:v>
                </c:pt>
                <c:pt idx="693">
                  <c:v>8192</c:v>
                </c:pt>
                <c:pt idx="694">
                  <c:v>8192</c:v>
                </c:pt>
                <c:pt idx="695">
                  <c:v>8192</c:v>
                </c:pt>
                <c:pt idx="696">
                  <c:v>8192</c:v>
                </c:pt>
                <c:pt idx="697">
                  <c:v>8192</c:v>
                </c:pt>
                <c:pt idx="698">
                  <c:v>8192</c:v>
                </c:pt>
                <c:pt idx="699">
                  <c:v>8192</c:v>
                </c:pt>
                <c:pt idx="700">
                  <c:v>8192</c:v>
                </c:pt>
                <c:pt idx="701">
                  <c:v>8192</c:v>
                </c:pt>
                <c:pt idx="702">
                  <c:v>8192</c:v>
                </c:pt>
                <c:pt idx="703">
                  <c:v>8192</c:v>
                </c:pt>
                <c:pt idx="704">
                  <c:v>8192</c:v>
                </c:pt>
                <c:pt idx="705">
                  <c:v>8192</c:v>
                </c:pt>
                <c:pt idx="706">
                  <c:v>8192</c:v>
                </c:pt>
                <c:pt idx="707">
                  <c:v>8192</c:v>
                </c:pt>
                <c:pt idx="708">
                  <c:v>8192</c:v>
                </c:pt>
                <c:pt idx="709">
                  <c:v>8192</c:v>
                </c:pt>
                <c:pt idx="710">
                  <c:v>8192</c:v>
                </c:pt>
                <c:pt idx="711">
                  <c:v>8192</c:v>
                </c:pt>
                <c:pt idx="712">
                  <c:v>8192</c:v>
                </c:pt>
                <c:pt idx="713">
                  <c:v>8192</c:v>
                </c:pt>
                <c:pt idx="714">
                  <c:v>8192</c:v>
                </c:pt>
                <c:pt idx="715">
                  <c:v>8192</c:v>
                </c:pt>
                <c:pt idx="716">
                  <c:v>8192</c:v>
                </c:pt>
                <c:pt idx="717">
                  <c:v>8192</c:v>
                </c:pt>
                <c:pt idx="718">
                  <c:v>8192</c:v>
                </c:pt>
                <c:pt idx="719">
                  <c:v>8192</c:v>
                </c:pt>
                <c:pt idx="720">
                  <c:v>8192</c:v>
                </c:pt>
                <c:pt idx="721">
                  <c:v>8192</c:v>
                </c:pt>
                <c:pt idx="722">
                  <c:v>8192</c:v>
                </c:pt>
                <c:pt idx="723">
                  <c:v>8192</c:v>
                </c:pt>
                <c:pt idx="724">
                  <c:v>8192</c:v>
                </c:pt>
                <c:pt idx="725">
                  <c:v>8192</c:v>
                </c:pt>
                <c:pt idx="726">
                  <c:v>8192</c:v>
                </c:pt>
                <c:pt idx="727">
                  <c:v>8192</c:v>
                </c:pt>
                <c:pt idx="728">
                  <c:v>8192</c:v>
                </c:pt>
                <c:pt idx="729">
                  <c:v>8192</c:v>
                </c:pt>
                <c:pt idx="730">
                  <c:v>8192</c:v>
                </c:pt>
                <c:pt idx="731">
                  <c:v>8192</c:v>
                </c:pt>
                <c:pt idx="732">
                  <c:v>8192</c:v>
                </c:pt>
                <c:pt idx="733">
                  <c:v>8192</c:v>
                </c:pt>
                <c:pt idx="734">
                  <c:v>8192</c:v>
                </c:pt>
                <c:pt idx="735">
                  <c:v>8192</c:v>
                </c:pt>
                <c:pt idx="736">
                  <c:v>8192</c:v>
                </c:pt>
                <c:pt idx="737">
                  <c:v>8192</c:v>
                </c:pt>
                <c:pt idx="738">
                  <c:v>8192</c:v>
                </c:pt>
                <c:pt idx="739">
                  <c:v>8192</c:v>
                </c:pt>
                <c:pt idx="740">
                  <c:v>8192</c:v>
                </c:pt>
                <c:pt idx="741">
                  <c:v>8192</c:v>
                </c:pt>
                <c:pt idx="742">
                  <c:v>8192</c:v>
                </c:pt>
                <c:pt idx="743">
                  <c:v>8192</c:v>
                </c:pt>
                <c:pt idx="744">
                  <c:v>8192</c:v>
                </c:pt>
                <c:pt idx="745">
                  <c:v>8192</c:v>
                </c:pt>
                <c:pt idx="746">
                  <c:v>8192</c:v>
                </c:pt>
                <c:pt idx="747">
                  <c:v>8192</c:v>
                </c:pt>
                <c:pt idx="748">
                  <c:v>8192</c:v>
                </c:pt>
                <c:pt idx="749">
                  <c:v>8192</c:v>
                </c:pt>
                <c:pt idx="750">
                  <c:v>8192</c:v>
                </c:pt>
                <c:pt idx="751">
                  <c:v>8192</c:v>
                </c:pt>
                <c:pt idx="752">
                  <c:v>8192</c:v>
                </c:pt>
                <c:pt idx="753">
                  <c:v>8192</c:v>
                </c:pt>
                <c:pt idx="754">
                  <c:v>8192</c:v>
                </c:pt>
                <c:pt idx="755">
                  <c:v>8192</c:v>
                </c:pt>
                <c:pt idx="756">
                  <c:v>8192</c:v>
                </c:pt>
                <c:pt idx="757">
                  <c:v>8192</c:v>
                </c:pt>
                <c:pt idx="758">
                  <c:v>8192</c:v>
                </c:pt>
                <c:pt idx="759">
                  <c:v>8192</c:v>
                </c:pt>
                <c:pt idx="760">
                  <c:v>8192</c:v>
                </c:pt>
                <c:pt idx="761">
                  <c:v>8192</c:v>
                </c:pt>
                <c:pt idx="762">
                  <c:v>8192</c:v>
                </c:pt>
                <c:pt idx="763">
                  <c:v>8192</c:v>
                </c:pt>
                <c:pt idx="764">
                  <c:v>8192</c:v>
                </c:pt>
                <c:pt idx="765">
                  <c:v>8192</c:v>
                </c:pt>
                <c:pt idx="766">
                  <c:v>8192</c:v>
                </c:pt>
                <c:pt idx="767">
                  <c:v>8192</c:v>
                </c:pt>
                <c:pt idx="768">
                  <c:v>8192</c:v>
                </c:pt>
                <c:pt idx="769">
                  <c:v>8192</c:v>
                </c:pt>
                <c:pt idx="770">
                  <c:v>8192</c:v>
                </c:pt>
                <c:pt idx="771">
                  <c:v>8192</c:v>
                </c:pt>
                <c:pt idx="772">
                  <c:v>8192</c:v>
                </c:pt>
                <c:pt idx="773">
                  <c:v>8192</c:v>
                </c:pt>
                <c:pt idx="774">
                  <c:v>8192</c:v>
                </c:pt>
                <c:pt idx="775">
                  <c:v>8192</c:v>
                </c:pt>
                <c:pt idx="776">
                  <c:v>8192</c:v>
                </c:pt>
                <c:pt idx="777">
                  <c:v>8192</c:v>
                </c:pt>
                <c:pt idx="778">
                  <c:v>8192</c:v>
                </c:pt>
                <c:pt idx="779">
                  <c:v>8192</c:v>
                </c:pt>
                <c:pt idx="780">
                  <c:v>8192</c:v>
                </c:pt>
                <c:pt idx="781">
                  <c:v>8192</c:v>
                </c:pt>
                <c:pt idx="782">
                  <c:v>8192</c:v>
                </c:pt>
                <c:pt idx="783">
                  <c:v>8192</c:v>
                </c:pt>
                <c:pt idx="784">
                  <c:v>8192</c:v>
                </c:pt>
                <c:pt idx="785">
                  <c:v>8192</c:v>
                </c:pt>
                <c:pt idx="786">
                  <c:v>8192</c:v>
                </c:pt>
                <c:pt idx="787">
                  <c:v>8192</c:v>
                </c:pt>
                <c:pt idx="788">
                  <c:v>8192</c:v>
                </c:pt>
                <c:pt idx="789">
                  <c:v>8192</c:v>
                </c:pt>
                <c:pt idx="790">
                  <c:v>8192</c:v>
                </c:pt>
                <c:pt idx="791">
                  <c:v>8192</c:v>
                </c:pt>
                <c:pt idx="792">
                  <c:v>8192</c:v>
                </c:pt>
                <c:pt idx="793">
                  <c:v>8192</c:v>
                </c:pt>
                <c:pt idx="794">
                  <c:v>8192</c:v>
                </c:pt>
                <c:pt idx="795">
                  <c:v>8192</c:v>
                </c:pt>
                <c:pt idx="796">
                  <c:v>8192</c:v>
                </c:pt>
                <c:pt idx="797">
                  <c:v>8192</c:v>
                </c:pt>
                <c:pt idx="798">
                  <c:v>8192</c:v>
                </c:pt>
                <c:pt idx="799">
                  <c:v>8192</c:v>
                </c:pt>
                <c:pt idx="800">
                  <c:v>8192</c:v>
                </c:pt>
                <c:pt idx="801">
                  <c:v>8192</c:v>
                </c:pt>
                <c:pt idx="802">
                  <c:v>8192</c:v>
                </c:pt>
                <c:pt idx="803">
                  <c:v>8192</c:v>
                </c:pt>
                <c:pt idx="804">
                  <c:v>8192</c:v>
                </c:pt>
                <c:pt idx="805">
                  <c:v>8192</c:v>
                </c:pt>
                <c:pt idx="806">
                  <c:v>8192</c:v>
                </c:pt>
                <c:pt idx="807">
                  <c:v>8192</c:v>
                </c:pt>
                <c:pt idx="808">
                  <c:v>8192</c:v>
                </c:pt>
                <c:pt idx="809">
                  <c:v>8192</c:v>
                </c:pt>
                <c:pt idx="810">
                  <c:v>8192</c:v>
                </c:pt>
                <c:pt idx="811">
                  <c:v>8192</c:v>
                </c:pt>
                <c:pt idx="812">
                  <c:v>8192</c:v>
                </c:pt>
                <c:pt idx="813">
                  <c:v>8192</c:v>
                </c:pt>
                <c:pt idx="814">
                  <c:v>8192</c:v>
                </c:pt>
                <c:pt idx="815">
                  <c:v>8192</c:v>
                </c:pt>
                <c:pt idx="816">
                  <c:v>8192</c:v>
                </c:pt>
                <c:pt idx="817">
                  <c:v>8192</c:v>
                </c:pt>
                <c:pt idx="818">
                  <c:v>8192</c:v>
                </c:pt>
                <c:pt idx="819">
                  <c:v>8192</c:v>
                </c:pt>
                <c:pt idx="820">
                  <c:v>8192</c:v>
                </c:pt>
                <c:pt idx="821">
                  <c:v>8192</c:v>
                </c:pt>
                <c:pt idx="822">
                  <c:v>8192</c:v>
                </c:pt>
                <c:pt idx="823">
                  <c:v>8192</c:v>
                </c:pt>
                <c:pt idx="824">
                  <c:v>8192</c:v>
                </c:pt>
                <c:pt idx="825">
                  <c:v>8192</c:v>
                </c:pt>
                <c:pt idx="826">
                  <c:v>8192</c:v>
                </c:pt>
                <c:pt idx="827">
                  <c:v>8192</c:v>
                </c:pt>
                <c:pt idx="828">
                  <c:v>8192</c:v>
                </c:pt>
                <c:pt idx="829">
                  <c:v>8192</c:v>
                </c:pt>
                <c:pt idx="830">
                  <c:v>8192</c:v>
                </c:pt>
                <c:pt idx="831">
                  <c:v>8192</c:v>
                </c:pt>
                <c:pt idx="832">
                  <c:v>8192</c:v>
                </c:pt>
                <c:pt idx="833">
                  <c:v>8192</c:v>
                </c:pt>
                <c:pt idx="834">
                  <c:v>8192</c:v>
                </c:pt>
                <c:pt idx="835">
                  <c:v>8192</c:v>
                </c:pt>
                <c:pt idx="836">
                  <c:v>8192</c:v>
                </c:pt>
                <c:pt idx="837">
                  <c:v>8192</c:v>
                </c:pt>
                <c:pt idx="838">
                  <c:v>8192</c:v>
                </c:pt>
                <c:pt idx="839">
                  <c:v>8192</c:v>
                </c:pt>
                <c:pt idx="840">
                  <c:v>8192</c:v>
                </c:pt>
                <c:pt idx="841">
                  <c:v>8192</c:v>
                </c:pt>
                <c:pt idx="842">
                  <c:v>8192</c:v>
                </c:pt>
                <c:pt idx="843">
                  <c:v>8192</c:v>
                </c:pt>
                <c:pt idx="844">
                  <c:v>8192</c:v>
                </c:pt>
                <c:pt idx="845">
                  <c:v>8192</c:v>
                </c:pt>
                <c:pt idx="846">
                  <c:v>8192</c:v>
                </c:pt>
                <c:pt idx="847">
                  <c:v>8192</c:v>
                </c:pt>
                <c:pt idx="848">
                  <c:v>8192</c:v>
                </c:pt>
                <c:pt idx="849">
                  <c:v>8192</c:v>
                </c:pt>
                <c:pt idx="850">
                  <c:v>8192</c:v>
                </c:pt>
                <c:pt idx="851">
                  <c:v>8192</c:v>
                </c:pt>
                <c:pt idx="852">
                  <c:v>8192</c:v>
                </c:pt>
                <c:pt idx="853">
                  <c:v>8192</c:v>
                </c:pt>
                <c:pt idx="854">
                  <c:v>8192</c:v>
                </c:pt>
                <c:pt idx="855">
                  <c:v>8192</c:v>
                </c:pt>
                <c:pt idx="856">
                  <c:v>8192</c:v>
                </c:pt>
                <c:pt idx="857">
                  <c:v>8192</c:v>
                </c:pt>
                <c:pt idx="858">
                  <c:v>8192</c:v>
                </c:pt>
                <c:pt idx="859">
                  <c:v>8192</c:v>
                </c:pt>
                <c:pt idx="860">
                  <c:v>8192</c:v>
                </c:pt>
                <c:pt idx="861">
                  <c:v>8192</c:v>
                </c:pt>
                <c:pt idx="862">
                  <c:v>8192</c:v>
                </c:pt>
                <c:pt idx="863">
                  <c:v>8192</c:v>
                </c:pt>
                <c:pt idx="864">
                  <c:v>8192</c:v>
                </c:pt>
                <c:pt idx="865">
                  <c:v>8192</c:v>
                </c:pt>
                <c:pt idx="866">
                  <c:v>8192</c:v>
                </c:pt>
                <c:pt idx="867">
                  <c:v>8192</c:v>
                </c:pt>
                <c:pt idx="868">
                  <c:v>8192</c:v>
                </c:pt>
                <c:pt idx="869">
                  <c:v>8192</c:v>
                </c:pt>
                <c:pt idx="870">
                  <c:v>8192</c:v>
                </c:pt>
                <c:pt idx="871">
                  <c:v>8192</c:v>
                </c:pt>
                <c:pt idx="872">
                  <c:v>8192</c:v>
                </c:pt>
                <c:pt idx="873">
                  <c:v>8192</c:v>
                </c:pt>
                <c:pt idx="874">
                  <c:v>8192</c:v>
                </c:pt>
                <c:pt idx="875">
                  <c:v>8192</c:v>
                </c:pt>
                <c:pt idx="876">
                  <c:v>8192</c:v>
                </c:pt>
                <c:pt idx="877">
                  <c:v>8192</c:v>
                </c:pt>
                <c:pt idx="878">
                  <c:v>8192</c:v>
                </c:pt>
                <c:pt idx="879">
                  <c:v>8192</c:v>
                </c:pt>
                <c:pt idx="880">
                  <c:v>8192</c:v>
                </c:pt>
                <c:pt idx="881">
                  <c:v>8192</c:v>
                </c:pt>
                <c:pt idx="882">
                  <c:v>8192</c:v>
                </c:pt>
                <c:pt idx="883">
                  <c:v>8192</c:v>
                </c:pt>
                <c:pt idx="884">
                  <c:v>8192</c:v>
                </c:pt>
                <c:pt idx="885">
                  <c:v>8192</c:v>
                </c:pt>
                <c:pt idx="886">
                  <c:v>8192</c:v>
                </c:pt>
                <c:pt idx="887">
                  <c:v>8192</c:v>
                </c:pt>
                <c:pt idx="888">
                  <c:v>8192</c:v>
                </c:pt>
                <c:pt idx="889">
                  <c:v>8192</c:v>
                </c:pt>
                <c:pt idx="890">
                  <c:v>8192</c:v>
                </c:pt>
                <c:pt idx="891">
                  <c:v>8192</c:v>
                </c:pt>
                <c:pt idx="892">
                  <c:v>8192</c:v>
                </c:pt>
                <c:pt idx="893">
                  <c:v>8192</c:v>
                </c:pt>
                <c:pt idx="894">
                  <c:v>8192</c:v>
                </c:pt>
                <c:pt idx="895">
                  <c:v>8192</c:v>
                </c:pt>
                <c:pt idx="896">
                  <c:v>8192</c:v>
                </c:pt>
                <c:pt idx="897">
                  <c:v>8192</c:v>
                </c:pt>
                <c:pt idx="898">
                  <c:v>8192</c:v>
                </c:pt>
                <c:pt idx="899">
                  <c:v>8192</c:v>
                </c:pt>
                <c:pt idx="900">
                  <c:v>8192</c:v>
                </c:pt>
                <c:pt idx="901">
                  <c:v>8192</c:v>
                </c:pt>
                <c:pt idx="902">
                  <c:v>8192</c:v>
                </c:pt>
                <c:pt idx="903">
                  <c:v>8192</c:v>
                </c:pt>
                <c:pt idx="904">
                  <c:v>8192</c:v>
                </c:pt>
                <c:pt idx="905">
                  <c:v>8192</c:v>
                </c:pt>
                <c:pt idx="906">
                  <c:v>8192</c:v>
                </c:pt>
                <c:pt idx="907">
                  <c:v>8192</c:v>
                </c:pt>
                <c:pt idx="908">
                  <c:v>8192</c:v>
                </c:pt>
                <c:pt idx="909">
                  <c:v>8192</c:v>
                </c:pt>
                <c:pt idx="910">
                  <c:v>8192</c:v>
                </c:pt>
                <c:pt idx="911">
                  <c:v>8192</c:v>
                </c:pt>
                <c:pt idx="912">
                  <c:v>8192</c:v>
                </c:pt>
                <c:pt idx="913">
                  <c:v>8192</c:v>
                </c:pt>
                <c:pt idx="914">
                  <c:v>8192</c:v>
                </c:pt>
                <c:pt idx="915">
                  <c:v>8192</c:v>
                </c:pt>
                <c:pt idx="916">
                  <c:v>8192</c:v>
                </c:pt>
                <c:pt idx="917">
                  <c:v>8192</c:v>
                </c:pt>
                <c:pt idx="918">
                  <c:v>8192</c:v>
                </c:pt>
                <c:pt idx="919">
                  <c:v>8192</c:v>
                </c:pt>
                <c:pt idx="920">
                  <c:v>8192</c:v>
                </c:pt>
                <c:pt idx="921">
                  <c:v>8192</c:v>
                </c:pt>
                <c:pt idx="922">
                  <c:v>8192</c:v>
                </c:pt>
                <c:pt idx="923">
                  <c:v>8192</c:v>
                </c:pt>
                <c:pt idx="924">
                  <c:v>8192</c:v>
                </c:pt>
                <c:pt idx="925">
                  <c:v>8192</c:v>
                </c:pt>
                <c:pt idx="926">
                  <c:v>8192</c:v>
                </c:pt>
                <c:pt idx="927">
                  <c:v>8192</c:v>
                </c:pt>
                <c:pt idx="928">
                  <c:v>8192</c:v>
                </c:pt>
                <c:pt idx="929">
                  <c:v>8192</c:v>
                </c:pt>
                <c:pt idx="930">
                  <c:v>8192</c:v>
                </c:pt>
                <c:pt idx="931">
                  <c:v>8192</c:v>
                </c:pt>
                <c:pt idx="932">
                  <c:v>8192</c:v>
                </c:pt>
                <c:pt idx="933">
                  <c:v>8192</c:v>
                </c:pt>
                <c:pt idx="934">
                  <c:v>8192</c:v>
                </c:pt>
                <c:pt idx="935">
                  <c:v>8192</c:v>
                </c:pt>
                <c:pt idx="936">
                  <c:v>8192</c:v>
                </c:pt>
                <c:pt idx="937">
                  <c:v>8192</c:v>
                </c:pt>
                <c:pt idx="938">
                  <c:v>8192</c:v>
                </c:pt>
                <c:pt idx="939">
                  <c:v>8192</c:v>
                </c:pt>
                <c:pt idx="940">
                  <c:v>8192</c:v>
                </c:pt>
                <c:pt idx="941">
                  <c:v>8192</c:v>
                </c:pt>
                <c:pt idx="942">
                  <c:v>8192</c:v>
                </c:pt>
                <c:pt idx="943">
                  <c:v>8192</c:v>
                </c:pt>
                <c:pt idx="944">
                  <c:v>8192</c:v>
                </c:pt>
                <c:pt idx="945">
                  <c:v>8192</c:v>
                </c:pt>
                <c:pt idx="946">
                  <c:v>8192</c:v>
                </c:pt>
                <c:pt idx="947">
                  <c:v>8192</c:v>
                </c:pt>
                <c:pt idx="948">
                  <c:v>8192</c:v>
                </c:pt>
                <c:pt idx="949">
                  <c:v>8192</c:v>
                </c:pt>
                <c:pt idx="950">
                  <c:v>8192</c:v>
                </c:pt>
                <c:pt idx="951">
                  <c:v>8192</c:v>
                </c:pt>
                <c:pt idx="952">
                  <c:v>8192</c:v>
                </c:pt>
                <c:pt idx="953">
                  <c:v>8192</c:v>
                </c:pt>
                <c:pt idx="954">
                  <c:v>8192</c:v>
                </c:pt>
                <c:pt idx="955">
                  <c:v>8192</c:v>
                </c:pt>
                <c:pt idx="956">
                  <c:v>8192</c:v>
                </c:pt>
                <c:pt idx="957">
                  <c:v>8192</c:v>
                </c:pt>
                <c:pt idx="958">
                  <c:v>8192</c:v>
                </c:pt>
                <c:pt idx="959">
                  <c:v>8192</c:v>
                </c:pt>
                <c:pt idx="960">
                  <c:v>8192</c:v>
                </c:pt>
                <c:pt idx="961">
                  <c:v>8192</c:v>
                </c:pt>
                <c:pt idx="962">
                  <c:v>8192</c:v>
                </c:pt>
                <c:pt idx="963">
                  <c:v>8192</c:v>
                </c:pt>
                <c:pt idx="964">
                  <c:v>8192</c:v>
                </c:pt>
                <c:pt idx="965">
                  <c:v>8192</c:v>
                </c:pt>
                <c:pt idx="966">
                  <c:v>8192</c:v>
                </c:pt>
                <c:pt idx="967">
                  <c:v>8192</c:v>
                </c:pt>
                <c:pt idx="968">
                  <c:v>8192</c:v>
                </c:pt>
                <c:pt idx="969">
                  <c:v>8192</c:v>
                </c:pt>
                <c:pt idx="970">
                  <c:v>8192</c:v>
                </c:pt>
                <c:pt idx="971">
                  <c:v>8192</c:v>
                </c:pt>
                <c:pt idx="972">
                  <c:v>8192</c:v>
                </c:pt>
                <c:pt idx="973">
                  <c:v>8192</c:v>
                </c:pt>
                <c:pt idx="974">
                  <c:v>8192</c:v>
                </c:pt>
                <c:pt idx="975">
                  <c:v>8192</c:v>
                </c:pt>
                <c:pt idx="976">
                  <c:v>8192</c:v>
                </c:pt>
                <c:pt idx="977">
                  <c:v>8192</c:v>
                </c:pt>
                <c:pt idx="978">
                  <c:v>8192</c:v>
                </c:pt>
                <c:pt idx="979">
                  <c:v>8192</c:v>
                </c:pt>
                <c:pt idx="980">
                  <c:v>8192</c:v>
                </c:pt>
                <c:pt idx="981">
                  <c:v>8192</c:v>
                </c:pt>
                <c:pt idx="982">
                  <c:v>8192</c:v>
                </c:pt>
                <c:pt idx="983">
                  <c:v>8192</c:v>
                </c:pt>
                <c:pt idx="984">
                  <c:v>8192</c:v>
                </c:pt>
                <c:pt idx="985">
                  <c:v>8192</c:v>
                </c:pt>
                <c:pt idx="986">
                  <c:v>8192</c:v>
                </c:pt>
                <c:pt idx="987">
                  <c:v>8192</c:v>
                </c:pt>
                <c:pt idx="988">
                  <c:v>8192</c:v>
                </c:pt>
                <c:pt idx="989">
                  <c:v>8192</c:v>
                </c:pt>
                <c:pt idx="990">
                  <c:v>8192</c:v>
                </c:pt>
                <c:pt idx="991">
                  <c:v>8192</c:v>
                </c:pt>
                <c:pt idx="992">
                  <c:v>8192</c:v>
                </c:pt>
                <c:pt idx="993">
                  <c:v>8192</c:v>
                </c:pt>
                <c:pt idx="994">
                  <c:v>8192</c:v>
                </c:pt>
                <c:pt idx="995">
                  <c:v>8192</c:v>
                </c:pt>
                <c:pt idx="996">
                  <c:v>8192</c:v>
                </c:pt>
                <c:pt idx="997">
                  <c:v>8192</c:v>
                </c:pt>
                <c:pt idx="998">
                  <c:v>8192</c:v>
                </c:pt>
                <c:pt idx="999">
                  <c:v>8192</c:v>
                </c:pt>
                <c:pt idx="1000">
                  <c:v>8192</c:v>
                </c:pt>
              </c:numCache>
            </c:numRef>
          </c:xVal>
          <c:yVal>
            <c:numRef>
              <c:f>6</c:f>
              <c:numCache>
                <c:formatCode>General</c:formatCode>
                <c:ptCount val="1001"/>
                <c:pt idx="0">
                  <c:v>4.12418074099999</c:v>
                </c:pt>
                <c:pt idx="1">
                  <c:v>27.602532906</c:v>
                </c:pt>
                <c:pt idx="2">
                  <c:v>29.386691897</c:v>
                </c:pt>
                <c:pt idx="3">
                  <c:v>29.841028283</c:v>
                </c:pt>
                <c:pt idx="4">
                  <c:v>28.899111783</c:v>
                </c:pt>
                <c:pt idx="5">
                  <c:v>28.125309836</c:v>
                </c:pt>
                <c:pt idx="6">
                  <c:v>29.307068918</c:v>
                </c:pt>
                <c:pt idx="7">
                  <c:v>29.545797666</c:v>
                </c:pt>
                <c:pt idx="8">
                  <c:v>29.268564404</c:v>
                </c:pt>
                <c:pt idx="9">
                  <c:v>28.026436283</c:v>
                </c:pt>
                <c:pt idx="10">
                  <c:v>29.042545219</c:v>
                </c:pt>
                <c:pt idx="11">
                  <c:v>29.346168374</c:v>
                </c:pt>
                <c:pt idx="12">
                  <c:v>4.910917471</c:v>
                </c:pt>
                <c:pt idx="13">
                  <c:v>27.816268414</c:v>
                </c:pt>
                <c:pt idx="14">
                  <c:v>28.842536873</c:v>
                </c:pt>
                <c:pt idx="15">
                  <c:v>2.599596391</c:v>
                </c:pt>
                <c:pt idx="16">
                  <c:v>29.552469104</c:v>
                </c:pt>
                <c:pt idx="17">
                  <c:v>28.12818103</c:v>
                </c:pt>
                <c:pt idx="18">
                  <c:v>29.477644021</c:v>
                </c:pt>
                <c:pt idx="19">
                  <c:v>29.725189816</c:v>
                </c:pt>
                <c:pt idx="20">
                  <c:v>29.226081389</c:v>
                </c:pt>
                <c:pt idx="21">
                  <c:v>28.009941647</c:v>
                </c:pt>
                <c:pt idx="22">
                  <c:v>7.365305291</c:v>
                </c:pt>
                <c:pt idx="23">
                  <c:v>29.585983006</c:v>
                </c:pt>
                <c:pt idx="24">
                  <c:v>29.169520488</c:v>
                </c:pt>
                <c:pt idx="25">
                  <c:v>27.42242754</c:v>
                </c:pt>
                <c:pt idx="26">
                  <c:v>28.931159386</c:v>
                </c:pt>
                <c:pt idx="27">
                  <c:v>29.22423237</c:v>
                </c:pt>
                <c:pt idx="28">
                  <c:v>28.924978573</c:v>
                </c:pt>
                <c:pt idx="29">
                  <c:v>27.609374753</c:v>
                </c:pt>
                <c:pt idx="30">
                  <c:v>16.860602251</c:v>
                </c:pt>
                <c:pt idx="31">
                  <c:v>29.951545762</c:v>
                </c:pt>
                <c:pt idx="32">
                  <c:v>29.486997189</c:v>
                </c:pt>
                <c:pt idx="33">
                  <c:v>28.112824443</c:v>
                </c:pt>
                <c:pt idx="34">
                  <c:v>29.283189655</c:v>
                </c:pt>
                <c:pt idx="35">
                  <c:v>29.778732875</c:v>
                </c:pt>
                <c:pt idx="36">
                  <c:v>29.330603721</c:v>
                </c:pt>
                <c:pt idx="37">
                  <c:v>28.040597164</c:v>
                </c:pt>
                <c:pt idx="38">
                  <c:v>29.162316853</c:v>
                </c:pt>
                <c:pt idx="39">
                  <c:v>29.510544722</c:v>
                </c:pt>
                <c:pt idx="40">
                  <c:v>29.029715295</c:v>
                </c:pt>
                <c:pt idx="41">
                  <c:v>27.909941695</c:v>
                </c:pt>
                <c:pt idx="42">
                  <c:v>29.002054163</c:v>
                </c:pt>
                <c:pt idx="43">
                  <c:v>29.494029808</c:v>
                </c:pt>
                <c:pt idx="44">
                  <c:v>28.888639858</c:v>
                </c:pt>
                <c:pt idx="45">
                  <c:v>27.79854399</c:v>
                </c:pt>
                <c:pt idx="46">
                  <c:v>16.564430958</c:v>
                </c:pt>
                <c:pt idx="47">
                  <c:v>29.3921915</c:v>
                </c:pt>
                <c:pt idx="48">
                  <c:v>27.902999664</c:v>
                </c:pt>
                <c:pt idx="49">
                  <c:v>29.727102772</c:v>
                </c:pt>
                <c:pt idx="50">
                  <c:v>29.357139315</c:v>
                </c:pt>
                <c:pt idx="51">
                  <c:v>29.721533381</c:v>
                </c:pt>
                <c:pt idx="52">
                  <c:v>27.862013012</c:v>
                </c:pt>
                <c:pt idx="53">
                  <c:v>29.635893315</c:v>
                </c:pt>
                <c:pt idx="54">
                  <c:v>29.226081389</c:v>
                </c:pt>
                <c:pt idx="55">
                  <c:v>29.603605461</c:v>
                </c:pt>
                <c:pt idx="56">
                  <c:v>27.683102793</c:v>
                </c:pt>
                <c:pt idx="57">
                  <c:v>29.468960298</c:v>
                </c:pt>
                <c:pt idx="58">
                  <c:v>28.904111216</c:v>
                </c:pt>
                <c:pt idx="59">
                  <c:v>29.486388222</c:v>
                </c:pt>
                <c:pt idx="60">
                  <c:v>27.377922951</c:v>
                </c:pt>
                <c:pt idx="61">
                  <c:v>29.091930624</c:v>
                </c:pt>
                <c:pt idx="62">
                  <c:v>17.831981896</c:v>
                </c:pt>
                <c:pt idx="63">
                  <c:v>29.876280029</c:v>
                </c:pt>
                <c:pt idx="64">
                  <c:v>28.077843928</c:v>
                </c:pt>
                <c:pt idx="65">
                  <c:v>29.729072248</c:v>
                </c:pt>
                <c:pt idx="66">
                  <c:v>29.375973587</c:v>
                </c:pt>
                <c:pt idx="67">
                  <c:v>29.147541587</c:v>
                </c:pt>
                <c:pt idx="68">
                  <c:v>27.239553966</c:v>
                </c:pt>
                <c:pt idx="69">
                  <c:v>29.610470511</c:v>
                </c:pt>
                <c:pt idx="70">
                  <c:v>29.098183</c:v>
                </c:pt>
                <c:pt idx="71">
                  <c:v>29.63343294</c:v>
                </c:pt>
                <c:pt idx="72">
                  <c:v>27.466548661</c:v>
                </c:pt>
                <c:pt idx="73">
                  <c:v>28.427550239</c:v>
                </c:pt>
                <c:pt idx="74">
                  <c:v>28.976209778</c:v>
                </c:pt>
                <c:pt idx="75">
                  <c:v>29.380095088</c:v>
                </c:pt>
                <c:pt idx="76">
                  <c:v>27.377970677</c:v>
                </c:pt>
                <c:pt idx="77">
                  <c:v>29.179654928</c:v>
                </c:pt>
                <c:pt idx="78">
                  <c:v>17.744623551</c:v>
                </c:pt>
                <c:pt idx="79">
                  <c:v>29.909279668</c:v>
                </c:pt>
                <c:pt idx="80">
                  <c:v>27.798347179</c:v>
                </c:pt>
                <c:pt idx="81">
                  <c:v>29.746865624</c:v>
                </c:pt>
                <c:pt idx="82">
                  <c:v>29.334548127</c:v>
                </c:pt>
                <c:pt idx="83">
                  <c:v>29.589829156</c:v>
                </c:pt>
                <c:pt idx="84">
                  <c:v>27.700729123</c:v>
                </c:pt>
                <c:pt idx="85">
                  <c:v>29.438745467</c:v>
                </c:pt>
                <c:pt idx="86">
                  <c:v>29.154034365</c:v>
                </c:pt>
                <c:pt idx="87">
                  <c:v>29.609744786</c:v>
                </c:pt>
                <c:pt idx="88">
                  <c:v>27.555556631</c:v>
                </c:pt>
                <c:pt idx="89">
                  <c:v>28.956015846</c:v>
                </c:pt>
                <c:pt idx="90">
                  <c:v>28.938675828</c:v>
                </c:pt>
                <c:pt idx="91">
                  <c:v>27.747123593</c:v>
                </c:pt>
                <c:pt idx="92">
                  <c:v>28.815865561</c:v>
                </c:pt>
                <c:pt idx="93">
                  <c:v>29.134672796</c:v>
                </c:pt>
                <c:pt idx="94">
                  <c:v>17.225135522</c:v>
                </c:pt>
                <c:pt idx="95">
                  <c:v>28.36988349</c:v>
                </c:pt>
                <c:pt idx="96">
                  <c:v>29.413604551</c:v>
                </c:pt>
                <c:pt idx="97">
                  <c:v>29.803653735</c:v>
                </c:pt>
                <c:pt idx="98">
                  <c:v>29.356645446</c:v>
                </c:pt>
                <c:pt idx="99">
                  <c:v>28.222093942</c:v>
                </c:pt>
                <c:pt idx="100">
                  <c:v>29.2778945</c:v>
                </c:pt>
                <c:pt idx="101">
                  <c:v>29.525246348</c:v>
                </c:pt>
                <c:pt idx="102">
                  <c:v>29.169520488</c:v>
                </c:pt>
                <c:pt idx="103">
                  <c:v>27.979552467</c:v>
                </c:pt>
                <c:pt idx="104">
                  <c:v>28.918640655</c:v>
                </c:pt>
                <c:pt idx="105">
                  <c:v>29.548577066</c:v>
                </c:pt>
                <c:pt idx="106">
                  <c:v>29.094733081</c:v>
                </c:pt>
                <c:pt idx="107">
                  <c:v>27.783889184</c:v>
                </c:pt>
                <c:pt idx="108">
                  <c:v>28.808148559</c:v>
                </c:pt>
                <c:pt idx="109">
                  <c:v>29.204777481</c:v>
                </c:pt>
                <c:pt idx="110">
                  <c:v>16.378542204</c:v>
                </c:pt>
                <c:pt idx="111">
                  <c:v>28.293272498</c:v>
                </c:pt>
                <c:pt idx="112">
                  <c:v>29.324470086</c:v>
                </c:pt>
                <c:pt idx="113">
                  <c:v>29.738022583</c:v>
                </c:pt>
                <c:pt idx="114">
                  <c:v>29.348032856</c:v>
                </c:pt>
                <c:pt idx="115">
                  <c:v>28.187802335</c:v>
                </c:pt>
                <c:pt idx="116">
                  <c:v>29.172012799</c:v>
                </c:pt>
                <c:pt idx="117">
                  <c:v>29.772128212</c:v>
                </c:pt>
                <c:pt idx="118">
                  <c:v>29.159555501</c:v>
                </c:pt>
                <c:pt idx="119">
                  <c:v>28.046556015</c:v>
                </c:pt>
                <c:pt idx="120">
                  <c:v>29.045284453</c:v>
                </c:pt>
                <c:pt idx="121">
                  <c:v>29.41707541</c:v>
                </c:pt>
                <c:pt idx="122">
                  <c:v>29.007732185</c:v>
                </c:pt>
                <c:pt idx="123">
                  <c:v>27.778041413</c:v>
                </c:pt>
                <c:pt idx="124">
                  <c:v>28.907196835</c:v>
                </c:pt>
                <c:pt idx="125">
                  <c:v>29.268346227</c:v>
                </c:pt>
                <c:pt idx="126">
                  <c:v>18.353551096</c:v>
                </c:pt>
                <c:pt idx="127">
                  <c:v>28.380085202</c:v>
                </c:pt>
                <c:pt idx="128">
                  <c:v>29.327865174</c:v>
                </c:pt>
                <c:pt idx="129">
                  <c:v>29.818592314</c:v>
                </c:pt>
                <c:pt idx="130">
                  <c:v>29.373940739</c:v>
                </c:pt>
                <c:pt idx="131">
                  <c:v>28.104473477</c:v>
                </c:pt>
                <c:pt idx="132">
                  <c:v>28.642547952</c:v>
                </c:pt>
                <c:pt idx="133">
                  <c:v>29.581023505</c:v>
                </c:pt>
                <c:pt idx="134">
                  <c:v>29.188060472</c:v>
                </c:pt>
                <c:pt idx="135">
                  <c:v>27.900174254</c:v>
                </c:pt>
                <c:pt idx="136">
                  <c:v>29.091499524</c:v>
                </c:pt>
                <c:pt idx="137">
                  <c:v>29.489931653</c:v>
                </c:pt>
                <c:pt idx="138">
                  <c:v>29.045177022</c:v>
                </c:pt>
                <c:pt idx="139">
                  <c:v>27.846106258</c:v>
                </c:pt>
                <c:pt idx="140">
                  <c:v>28.922261982</c:v>
                </c:pt>
                <c:pt idx="141">
                  <c:v>29.299797194</c:v>
                </c:pt>
                <c:pt idx="142">
                  <c:v>15.860246678</c:v>
                </c:pt>
                <c:pt idx="143">
                  <c:v>13.8926819</c:v>
                </c:pt>
                <c:pt idx="144">
                  <c:v>29.459231759</c:v>
                </c:pt>
                <c:pt idx="145">
                  <c:v>29.745851506</c:v>
                </c:pt>
                <c:pt idx="146">
                  <c:v>29.309858281</c:v>
                </c:pt>
                <c:pt idx="147">
                  <c:v>28.135840414</c:v>
                </c:pt>
                <c:pt idx="148">
                  <c:v>28.687856104</c:v>
                </c:pt>
                <c:pt idx="149">
                  <c:v>29.655591037</c:v>
                </c:pt>
                <c:pt idx="150">
                  <c:v>29.275220355</c:v>
                </c:pt>
                <c:pt idx="151">
                  <c:v>3.857678839</c:v>
                </c:pt>
                <c:pt idx="152">
                  <c:v>29.135699719</c:v>
                </c:pt>
                <c:pt idx="153">
                  <c:v>28.765304651</c:v>
                </c:pt>
                <c:pt idx="154">
                  <c:v>27.449219003</c:v>
                </c:pt>
                <c:pt idx="155">
                  <c:v>29.316095247</c:v>
                </c:pt>
                <c:pt idx="156">
                  <c:v>28.797900854</c:v>
                </c:pt>
                <c:pt idx="157">
                  <c:v>29.288595963</c:v>
                </c:pt>
                <c:pt idx="158">
                  <c:v>16.295848386</c:v>
                </c:pt>
                <c:pt idx="159">
                  <c:v>29.805407111</c:v>
                </c:pt>
                <c:pt idx="160">
                  <c:v>29.455916679</c:v>
                </c:pt>
                <c:pt idx="161">
                  <c:v>29.855039541</c:v>
                </c:pt>
                <c:pt idx="162">
                  <c:v>27.887788863</c:v>
                </c:pt>
                <c:pt idx="163">
                  <c:v>29.680474402</c:v>
                </c:pt>
                <c:pt idx="164">
                  <c:v>29.292201278</c:v>
                </c:pt>
                <c:pt idx="165">
                  <c:v>29.608628356</c:v>
                </c:pt>
                <c:pt idx="166">
                  <c:v>27.78364343</c:v>
                </c:pt>
                <c:pt idx="167">
                  <c:v>29.496799476</c:v>
                </c:pt>
                <c:pt idx="168">
                  <c:v>29.151599234</c:v>
                </c:pt>
                <c:pt idx="169">
                  <c:v>29.44266382</c:v>
                </c:pt>
                <c:pt idx="170">
                  <c:v>27.582705868</c:v>
                </c:pt>
                <c:pt idx="171">
                  <c:v>29.328850992</c:v>
                </c:pt>
                <c:pt idx="172">
                  <c:v>28.838935481</c:v>
                </c:pt>
                <c:pt idx="173">
                  <c:v>29.353463136</c:v>
                </c:pt>
                <c:pt idx="174">
                  <c:v>16.178726314</c:v>
                </c:pt>
                <c:pt idx="175">
                  <c:v>29.868439112</c:v>
                </c:pt>
                <c:pt idx="176">
                  <c:v>29.410079437</c:v>
                </c:pt>
                <c:pt idx="177">
                  <c:v>29.805520239</c:v>
                </c:pt>
                <c:pt idx="178">
                  <c:v>27.920410857</c:v>
                </c:pt>
                <c:pt idx="179">
                  <c:v>29.618846835</c:v>
                </c:pt>
                <c:pt idx="180">
                  <c:v>29.336520728</c:v>
                </c:pt>
                <c:pt idx="181">
                  <c:v>29.716809473</c:v>
                </c:pt>
                <c:pt idx="182">
                  <c:v>27.935458516</c:v>
                </c:pt>
                <c:pt idx="183">
                  <c:v>29.407160842</c:v>
                </c:pt>
                <c:pt idx="184">
                  <c:v>29.138456555</c:v>
                </c:pt>
                <c:pt idx="185">
                  <c:v>29.40776654</c:v>
                </c:pt>
                <c:pt idx="186">
                  <c:v>27.590119493</c:v>
                </c:pt>
                <c:pt idx="187">
                  <c:v>29.260003411</c:v>
                </c:pt>
                <c:pt idx="188">
                  <c:v>28.797056007</c:v>
                </c:pt>
                <c:pt idx="189">
                  <c:v>29.345565211</c:v>
                </c:pt>
                <c:pt idx="190">
                  <c:v>15.983255386</c:v>
                </c:pt>
                <c:pt idx="191">
                  <c:v>29.668083545</c:v>
                </c:pt>
                <c:pt idx="192">
                  <c:v>29.460447475</c:v>
                </c:pt>
                <c:pt idx="193">
                  <c:v>29.966118416</c:v>
                </c:pt>
                <c:pt idx="194">
                  <c:v>27.843983439</c:v>
                </c:pt>
                <c:pt idx="195">
                  <c:v>28.506650241</c:v>
                </c:pt>
                <c:pt idx="196">
                  <c:v>29.240827526</c:v>
                </c:pt>
                <c:pt idx="197">
                  <c:v>29.572445824</c:v>
                </c:pt>
                <c:pt idx="198">
                  <c:v>27.56493909</c:v>
                </c:pt>
                <c:pt idx="199">
                  <c:v>29.497852086</c:v>
                </c:pt>
                <c:pt idx="200">
                  <c:v>29.008053649</c:v>
                </c:pt>
                <c:pt idx="201">
                  <c:v>29.487052551</c:v>
                </c:pt>
                <c:pt idx="202">
                  <c:v>27.52855729</c:v>
                </c:pt>
                <c:pt idx="203">
                  <c:v>29.458900217</c:v>
                </c:pt>
                <c:pt idx="204">
                  <c:v>28.864217172</c:v>
                </c:pt>
                <c:pt idx="205">
                  <c:v>29.387021815</c:v>
                </c:pt>
                <c:pt idx="206">
                  <c:v>16.607467146</c:v>
                </c:pt>
                <c:pt idx="207">
                  <c:v>29.839724261</c:v>
                </c:pt>
                <c:pt idx="208">
                  <c:v>29.494251362</c:v>
                </c:pt>
                <c:pt idx="209">
                  <c:v>29.990437709</c:v>
                </c:pt>
                <c:pt idx="210">
                  <c:v>27.845217597</c:v>
                </c:pt>
                <c:pt idx="211">
                  <c:v>29.649544634</c:v>
                </c:pt>
                <c:pt idx="212">
                  <c:v>29.318393746</c:v>
                </c:pt>
                <c:pt idx="213">
                  <c:v>29.654415154</c:v>
                </c:pt>
                <c:pt idx="214">
                  <c:v>27.637213787</c:v>
                </c:pt>
                <c:pt idx="215">
                  <c:v>29.563706165</c:v>
                </c:pt>
                <c:pt idx="216">
                  <c:v>29.207818994</c:v>
                </c:pt>
                <c:pt idx="217">
                  <c:v>27.46529981</c:v>
                </c:pt>
                <c:pt idx="218">
                  <c:v>28.940008938</c:v>
                </c:pt>
                <c:pt idx="219">
                  <c:v>29.227441111</c:v>
                </c:pt>
                <c:pt idx="220">
                  <c:v>28.92013168</c:v>
                </c:pt>
                <c:pt idx="221">
                  <c:v>27.688764209</c:v>
                </c:pt>
                <c:pt idx="222">
                  <c:v>18.098544314</c:v>
                </c:pt>
                <c:pt idx="223">
                  <c:v>29.955544687</c:v>
                </c:pt>
                <c:pt idx="224">
                  <c:v>29.55002256</c:v>
                </c:pt>
                <c:pt idx="225">
                  <c:v>28.343976464</c:v>
                </c:pt>
                <c:pt idx="226">
                  <c:v>29.416579523</c:v>
                </c:pt>
                <c:pt idx="227">
                  <c:v>29.679240459</c:v>
                </c:pt>
                <c:pt idx="228">
                  <c:v>29.150841721</c:v>
                </c:pt>
                <c:pt idx="229">
                  <c:v>28.146277996</c:v>
                </c:pt>
                <c:pt idx="230">
                  <c:v>29.278440303</c:v>
                </c:pt>
                <c:pt idx="231">
                  <c:v>28.673505236</c:v>
                </c:pt>
                <c:pt idx="232">
                  <c:v>29.209068371</c:v>
                </c:pt>
                <c:pt idx="233">
                  <c:v>27.925375288</c:v>
                </c:pt>
                <c:pt idx="234">
                  <c:v>28.870478183</c:v>
                </c:pt>
                <c:pt idx="235">
                  <c:v>29.432566525</c:v>
                </c:pt>
                <c:pt idx="236">
                  <c:v>28.758299258</c:v>
                </c:pt>
                <c:pt idx="237">
                  <c:v>27.847636863</c:v>
                </c:pt>
                <c:pt idx="238">
                  <c:v>17.162117078</c:v>
                </c:pt>
                <c:pt idx="239">
                  <c:v>29.897721505</c:v>
                </c:pt>
                <c:pt idx="240">
                  <c:v>29.522360345</c:v>
                </c:pt>
                <c:pt idx="241">
                  <c:v>28.285985658</c:v>
                </c:pt>
                <c:pt idx="242">
                  <c:v>29.314398967</c:v>
                </c:pt>
                <c:pt idx="243">
                  <c:v>29.741063545</c:v>
                </c:pt>
                <c:pt idx="244">
                  <c:v>29.271782888</c:v>
                </c:pt>
                <c:pt idx="245">
                  <c:v>28.250268267</c:v>
                </c:pt>
                <c:pt idx="246">
                  <c:v>29.280350777</c:v>
                </c:pt>
                <c:pt idx="247">
                  <c:v>29.664553205</c:v>
                </c:pt>
                <c:pt idx="248">
                  <c:v>29.081318517</c:v>
                </c:pt>
                <c:pt idx="249">
                  <c:v>28.049210772</c:v>
                </c:pt>
                <c:pt idx="250">
                  <c:v>28.533062983</c:v>
                </c:pt>
                <c:pt idx="251">
                  <c:v>29.439076555</c:v>
                </c:pt>
                <c:pt idx="252">
                  <c:v>28.870531254</c:v>
                </c:pt>
                <c:pt idx="253">
                  <c:v>27.721851651</c:v>
                </c:pt>
                <c:pt idx="254">
                  <c:v>18.22751416</c:v>
                </c:pt>
                <c:pt idx="255">
                  <c:v>29.968176874</c:v>
                </c:pt>
                <c:pt idx="256">
                  <c:v>29.541073886</c:v>
                </c:pt>
                <c:pt idx="257">
                  <c:v>28.168590951</c:v>
                </c:pt>
                <c:pt idx="258">
                  <c:v>29.419499988</c:v>
                </c:pt>
                <c:pt idx="259">
                  <c:v>29.173909408</c:v>
                </c:pt>
                <c:pt idx="260">
                  <c:v>29.332630575</c:v>
                </c:pt>
                <c:pt idx="261">
                  <c:v>28.112371553</c:v>
                </c:pt>
                <c:pt idx="262">
                  <c:v>29.16762445</c:v>
                </c:pt>
                <c:pt idx="263">
                  <c:v>29.545519755</c:v>
                </c:pt>
                <c:pt idx="264">
                  <c:v>29.198696353</c:v>
                </c:pt>
                <c:pt idx="265">
                  <c:v>27.957637409</c:v>
                </c:pt>
                <c:pt idx="266">
                  <c:v>29.067432133</c:v>
                </c:pt>
                <c:pt idx="267">
                  <c:v>29.424570852</c:v>
                </c:pt>
                <c:pt idx="268">
                  <c:v>29.07469661</c:v>
                </c:pt>
                <c:pt idx="269">
                  <c:v>27.736245136</c:v>
                </c:pt>
                <c:pt idx="270">
                  <c:v>18.638756731</c:v>
                </c:pt>
                <c:pt idx="271">
                  <c:v>11.81133311</c:v>
                </c:pt>
                <c:pt idx="272">
                  <c:v>29.512984733</c:v>
                </c:pt>
                <c:pt idx="273">
                  <c:v>28.356616865</c:v>
                </c:pt>
                <c:pt idx="274">
                  <c:v>29.411346177</c:v>
                </c:pt>
                <c:pt idx="275">
                  <c:v>29.719171239</c:v>
                </c:pt>
                <c:pt idx="276">
                  <c:v>29.192454973</c:v>
                </c:pt>
                <c:pt idx="277">
                  <c:v>28.096429047</c:v>
                </c:pt>
                <c:pt idx="278">
                  <c:v>29.193431709</c:v>
                </c:pt>
                <c:pt idx="279">
                  <c:v>7.699800067</c:v>
                </c:pt>
                <c:pt idx="280">
                  <c:v>27.193615697</c:v>
                </c:pt>
                <c:pt idx="281">
                  <c:v>29.214229973</c:v>
                </c:pt>
                <c:pt idx="282">
                  <c:v>28.87727286</c:v>
                </c:pt>
                <c:pt idx="283">
                  <c:v>28.351651477</c:v>
                </c:pt>
                <c:pt idx="284">
                  <c:v>27.367188943</c:v>
                </c:pt>
                <c:pt idx="285">
                  <c:v>29.099045608</c:v>
                </c:pt>
                <c:pt idx="286">
                  <c:v>16.872792816</c:v>
                </c:pt>
                <c:pt idx="287">
                  <c:v>30.037586262</c:v>
                </c:pt>
                <c:pt idx="288">
                  <c:v>27.87496919</c:v>
                </c:pt>
                <c:pt idx="289">
                  <c:v>29.958458862</c:v>
                </c:pt>
                <c:pt idx="290">
                  <c:v>29.268728039</c:v>
                </c:pt>
                <c:pt idx="291">
                  <c:v>29.711019112</c:v>
                </c:pt>
                <c:pt idx="292">
                  <c:v>27.850649191</c:v>
                </c:pt>
                <c:pt idx="293">
                  <c:v>29.564262677</c:v>
                </c:pt>
                <c:pt idx="294">
                  <c:v>29.233153325</c:v>
                </c:pt>
                <c:pt idx="295">
                  <c:v>29.498793959</c:v>
                </c:pt>
                <c:pt idx="296">
                  <c:v>27.627441872</c:v>
                </c:pt>
                <c:pt idx="297">
                  <c:v>29.44139438</c:v>
                </c:pt>
                <c:pt idx="298">
                  <c:v>28.892041072</c:v>
                </c:pt>
                <c:pt idx="299">
                  <c:v>29.479912587</c:v>
                </c:pt>
                <c:pt idx="300">
                  <c:v>27.441401418</c:v>
                </c:pt>
                <c:pt idx="301">
                  <c:v>29.203148359</c:v>
                </c:pt>
                <c:pt idx="302">
                  <c:v>16.699503646</c:v>
                </c:pt>
                <c:pt idx="303">
                  <c:v>30.003844483</c:v>
                </c:pt>
                <c:pt idx="304">
                  <c:v>28.034290553</c:v>
                </c:pt>
                <c:pt idx="305">
                  <c:v>29.908083581</c:v>
                </c:pt>
                <c:pt idx="306">
                  <c:v>29.280405365</c:v>
                </c:pt>
                <c:pt idx="307">
                  <c:v>29.805463675</c:v>
                </c:pt>
                <c:pt idx="308">
                  <c:v>27.861321036</c:v>
                </c:pt>
                <c:pt idx="309">
                  <c:v>29.607567825</c:v>
                </c:pt>
                <c:pt idx="310">
                  <c:v>29.339260891</c:v>
                </c:pt>
                <c:pt idx="311">
                  <c:v>29.474324796</c:v>
                </c:pt>
                <c:pt idx="312">
                  <c:v>27.713193388</c:v>
                </c:pt>
                <c:pt idx="313">
                  <c:v>29.418452962</c:v>
                </c:pt>
                <c:pt idx="314">
                  <c:v>28.960233944</c:v>
                </c:pt>
                <c:pt idx="315">
                  <c:v>29.457684629</c:v>
                </c:pt>
                <c:pt idx="316">
                  <c:v>27.262959951</c:v>
                </c:pt>
                <c:pt idx="317">
                  <c:v>29.203311263</c:v>
                </c:pt>
                <c:pt idx="318">
                  <c:v>16.446444034</c:v>
                </c:pt>
                <c:pt idx="319">
                  <c:v>29.879463024</c:v>
                </c:pt>
                <c:pt idx="320">
                  <c:v>28.013438886</c:v>
                </c:pt>
                <c:pt idx="321">
                  <c:v>29.837286611</c:v>
                </c:pt>
                <c:pt idx="322">
                  <c:v>28.706155944</c:v>
                </c:pt>
                <c:pt idx="323">
                  <c:v>29.113987614</c:v>
                </c:pt>
                <c:pt idx="324">
                  <c:v>27.742516358</c:v>
                </c:pt>
                <c:pt idx="325">
                  <c:v>29.643388794</c:v>
                </c:pt>
                <c:pt idx="326">
                  <c:v>29.097266535</c:v>
                </c:pt>
                <c:pt idx="327">
                  <c:v>29.461386961</c:v>
                </c:pt>
                <c:pt idx="328">
                  <c:v>27.486497624</c:v>
                </c:pt>
                <c:pt idx="329">
                  <c:v>29.415257239</c:v>
                </c:pt>
                <c:pt idx="330">
                  <c:v>28.804344436</c:v>
                </c:pt>
                <c:pt idx="331">
                  <c:v>29.280187012</c:v>
                </c:pt>
                <c:pt idx="332">
                  <c:v>27.365090832</c:v>
                </c:pt>
                <c:pt idx="333">
                  <c:v>29.2102092</c:v>
                </c:pt>
                <c:pt idx="334">
                  <c:v>16.658392412</c:v>
                </c:pt>
                <c:pt idx="335">
                  <c:v>29.919421767</c:v>
                </c:pt>
                <c:pt idx="336">
                  <c:v>27.869874293</c:v>
                </c:pt>
                <c:pt idx="337">
                  <c:v>29.77466812</c:v>
                </c:pt>
                <c:pt idx="338">
                  <c:v>29.289633766</c:v>
                </c:pt>
                <c:pt idx="339">
                  <c:v>29.76394701</c:v>
                </c:pt>
                <c:pt idx="340">
                  <c:v>27.787231873</c:v>
                </c:pt>
                <c:pt idx="341">
                  <c:v>29.533185764</c:v>
                </c:pt>
                <c:pt idx="342">
                  <c:v>29.032183772</c:v>
                </c:pt>
                <c:pt idx="343">
                  <c:v>29.54324108</c:v>
                </c:pt>
                <c:pt idx="344">
                  <c:v>27.052484843</c:v>
                </c:pt>
                <c:pt idx="345">
                  <c:v>29.425067009</c:v>
                </c:pt>
                <c:pt idx="346">
                  <c:v>28.977546349</c:v>
                </c:pt>
                <c:pt idx="347">
                  <c:v>27.817450846</c:v>
                </c:pt>
                <c:pt idx="348">
                  <c:v>28.798006463</c:v>
                </c:pt>
                <c:pt idx="349">
                  <c:v>29.161071473</c:v>
                </c:pt>
                <c:pt idx="350">
                  <c:v>18.728484537</c:v>
                </c:pt>
                <c:pt idx="351">
                  <c:v>28.304133287</c:v>
                </c:pt>
                <c:pt idx="352">
                  <c:v>28.837770518</c:v>
                </c:pt>
                <c:pt idx="353">
                  <c:v>29.774442333</c:v>
                </c:pt>
                <c:pt idx="354">
                  <c:v>29.379765326</c:v>
                </c:pt>
                <c:pt idx="355">
                  <c:v>28.180367456</c:v>
                </c:pt>
                <c:pt idx="356">
                  <c:v>29.136132129</c:v>
                </c:pt>
                <c:pt idx="357">
                  <c:v>29.49020852</c:v>
                </c:pt>
                <c:pt idx="358">
                  <c:v>29.09397852</c:v>
                </c:pt>
                <c:pt idx="359">
                  <c:v>27.995761799</c:v>
                </c:pt>
                <c:pt idx="360">
                  <c:v>28.882849008</c:v>
                </c:pt>
                <c:pt idx="361">
                  <c:v>29.45901073</c:v>
                </c:pt>
                <c:pt idx="362">
                  <c:v>28.906717988</c:v>
                </c:pt>
                <c:pt idx="363">
                  <c:v>27.847093726</c:v>
                </c:pt>
                <c:pt idx="364">
                  <c:v>28.813328008</c:v>
                </c:pt>
                <c:pt idx="365">
                  <c:v>28.692625446</c:v>
                </c:pt>
                <c:pt idx="366">
                  <c:v>17.47774301</c:v>
                </c:pt>
                <c:pt idx="367">
                  <c:v>28.291386732</c:v>
                </c:pt>
                <c:pt idx="368">
                  <c:v>29.354121489</c:v>
                </c:pt>
                <c:pt idx="369">
                  <c:v>29.852485902</c:v>
                </c:pt>
                <c:pt idx="370">
                  <c:v>29.365043472</c:v>
                </c:pt>
                <c:pt idx="371">
                  <c:v>28.161065212</c:v>
                </c:pt>
                <c:pt idx="372">
                  <c:v>29.342385302</c:v>
                </c:pt>
                <c:pt idx="373">
                  <c:v>29.646018704</c:v>
                </c:pt>
                <c:pt idx="374">
                  <c:v>29.237670274</c:v>
                </c:pt>
                <c:pt idx="375">
                  <c:v>27.995861607</c:v>
                </c:pt>
                <c:pt idx="376">
                  <c:v>28.948757187</c:v>
                </c:pt>
                <c:pt idx="377">
                  <c:v>29.446914479</c:v>
                </c:pt>
                <c:pt idx="378">
                  <c:v>29.037927287</c:v>
                </c:pt>
                <c:pt idx="379">
                  <c:v>27.846205002</c:v>
                </c:pt>
                <c:pt idx="380">
                  <c:v>28.907462867</c:v>
                </c:pt>
                <c:pt idx="381">
                  <c:v>29.283571853</c:v>
                </c:pt>
                <c:pt idx="382">
                  <c:v>18.100838791</c:v>
                </c:pt>
                <c:pt idx="383">
                  <c:v>28.350525548</c:v>
                </c:pt>
                <c:pt idx="384">
                  <c:v>29.477146089</c:v>
                </c:pt>
                <c:pt idx="385">
                  <c:v>29.813045185</c:v>
                </c:pt>
                <c:pt idx="386">
                  <c:v>29.429257444</c:v>
                </c:pt>
                <c:pt idx="387">
                  <c:v>27.68617724</c:v>
                </c:pt>
                <c:pt idx="388">
                  <c:v>29.052269153</c:v>
                </c:pt>
                <c:pt idx="389">
                  <c:v>29.676997189</c:v>
                </c:pt>
                <c:pt idx="390">
                  <c:v>29.227985035</c:v>
                </c:pt>
                <c:pt idx="391">
                  <c:v>28.050813887</c:v>
                </c:pt>
                <c:pt idx="392">
                  <c:v>29.026603466</c:v>
                </c:pt>
                <c:pt idx="393">
                  <c:v>28.508616563</c:v>
                </c:pt>
                <c:pt idx="394">
                  <c:v>29.048024204</c:v>
                </c:pt>
                <c:pt idx="395">
                  <c:v>27.86206244</c:v>
                </c:pt>
                <c:pt idx="396">
                  <c:v>28.940328903</c:v>
                </c:pt>
                <c:pt idx="397">
                  <c:v>29.305975195</c:v>
                </c:pt>
                <c:pt idx="398">
                  <c:v>18.76572113</c:v>
                </c:pt>
                <c:pt idx="399">
                  <c:v>11.434643168</c:v>
                </c:pt>
                <c:pt idx="400">
                  <c:v>29.367843882</c:v>
                </c:pt>
                <c:pt idx="401">
                  <c:v>29.795229098</c:v>
                </c:pt>
                <c:pt idx="402">
                  <c:v>29.365208188</c:v>
                </c:pt>
                <c:pt idx="403">
                  <c:v>28.230616454</c:v>
                </c:pt>
                <c:pt idx="404">
                  <c:v>29.219067234</c:v>
                </c:pt>
                <c:pt idx="405">
                  <c:v>29.659455308</c:v>
                </c:pt>
                <c:pt idx="406">
                  <c:v>29.254008245</c:v>
                </c:pt>
                <c:pt idx="407">
                  <c:v>7.906318362</c:v>
                </c:pt>
                <c:pt idx="408">
                  <c:v>28.280739419</c:v>
                </c:pt>
                <c:pt idx="409">
                  <c:v>29.430911891</c:v>
                </c:pt>
                <c:pt idx="410">
                  <c:v>27.547146867</c:v>
                </c:pt>
                <c:pt idx="411">
                  <c:v>29.365317999</c:v>
                </c:pt>
                <c:pt idx="412">
                  <c:v>28.969261598</c:v>
                </c:pt>
                <c:pt idx="413">
                  <c:v>29.21672993</c:v>
                </c:pt>
                <c:pt idx="414">
                  <c:v>16.776529593</c:v>
                </c:pt>
                <c:pt idx="415">
                  <c:v>29.948975589</c:v>
                </c:pt>
                <c:pt idx="416">
                  <c:v>29.411236022</c:v>
                </c:pt>
                <c:pt idx="417">
                  <c:v>29.802975065</c:v>
                </c:pt>
                <c:pt idx="418">
                  <c:v>27.894921505</c:v>
                </c:pt>
                <c:pt idx="419">
                  <c:v>29.755206557</c:v>
                </c:pt>
                <c:pt idx="420">
                  <c:v>29.212273783</c:v>
                </c:pt>
                <c:pt idx="421">
                  <c:v>29.684401266</c:v>
                </c:pt>
                <c:pt idx="422">
                  <c:v>27.677882677</c:v>
                </c:pt>
                <c:pt idx="423">
                  <c:v>29.499680483</c:v>
                </c:pt>
                <c:pt idx="424">
                  <c:v>28.967818932</c:v>
                </c:pt>
                <c:pt idx="425">
                  <c:v>29.475707715</c:v>
                </c:pt>
                <c:pt idx="426">
                  <c:v>27.543426944</c:v>
                </c:pt>
                <c:pt idx="427">
                  <c:v>29.291545701</c:v>
                </c:pt>
                <c:pt idx="428">
                  <c:v>28.824486003</c:v>
                </c:pt>
                <c:pt idx="429">
                  <c:v>28.657913649</c:v>
                </c:pt>
                <c:pt idx="430">
                  <c:v>16.012669441</c:v>
                </c:pt>
                <c:pt idx="431">
                  <c:v>29.923241081</c:v>
                </c:pt>
                <c:pt idx="432">
                  <c:v>29.454093704</c:v>
                </c:pt>
                <c:pt idx="433">
                  <c:v>29.96943496</c:v>
                </c:pt>
                <c:pt idx="434">
                  <c:v>27.94942811</c:v>
                </c:pt>
                <c:pt idx="435">
                  <c:v>29.738078891</c:v>
                </c:pt>
                <c:pt idx="436">
                  <c:v>29.255697543</c:v>
                </c:pt>
                <c:pt idx="437">
                  <c:v>29.646410432</c:v>
                </c:pt>
                <c:pt idx="438">
                  <c:v>27.830119026</c:v>
                </c:pt>
                <c:pt idx="439">
                  <c:v>29.560367532</c:v>
                </c:pt>
                <c:pt idx="440">
                  <c:v>29.104222328</c:v>
                </c:pt>
                <c:pt idx="441">
                  <c:v>29.502284954</c:v>
                </c:pt>
                <c:pt idx="442">
                  <c:v>27.657655046</c:v>
                </c:pt>
                <c:pt idx="443">
                  <c:v>29.144512613</c:v>
                </c:pt>
                <c:pt idx="444">
                  <c:v>28.897995125</c:v>
                </c:pt>
                <c:pt idx="445">
                  <c:v>29.324743854</c:v>
                </c:pt>
                <c:pt idx="446">
                  <c:v>17.048901751</c:v>
                </c:pt>
                <c:pt idx="447">
                  <c:v>30.003099347</c:v>
                </c:pt>
                <c:pt idx="448">
                  <c:v>29.424350343</c:v>
                </c:pt>
                <c:pt idx="449">
                  <c:v>29.8718477</c:v>
                </c:pt>
                <c:pt idx="450">
                  <c:v>26.802994045</c:v>
                </c:pt>
                <c:pt idx="451">
                  <c:v>29.561146479</c:v>
                </c:pt>
                <c:pt idx="452">
                  <c:v>29.335972756</c:v>
                </c:pt>
                <c:pt idx="453">
                  <c:v>29.694840556</c:v>
                </c:pt>
                <c:pt idx="454">
                  <c:v>27.190508442</c:v>
                </c:pt>
                <c:pt idx="455">
                  <c:v>29.447300964</c:v>
                </c:pt>
                <c:pt idx="456">
                  <c:v>28.978455288</c:v>
                </c:pt>
                <c:pt idx="457">
                  <c:v>27.865770052</c:v>
                </c:pt>
                <c:pt idx="458">
                  <c:v>28.860504296</c:v>
                </c:pt>
                <c:pt idx="459">
                  <c:v>29.287175931</c:v>
                </c:pt>
                <c:pt idx="460">
                  <c:v>28.879237543</c:v>
                </c:pt>
                <c:pt idx="461">
                  <c:v>27.789936107</c:v>
                </c:pt>
                <c:pt idx="462">
                  <c:v>15.964263095</c:v>
                </c:pt>
                <c:pt idx="463">
                  <c:v>29.808292146</c:v>
                </c:pt>
                <c:pt idx="464">
                  <c:v>29.448736566</c:v>
                </c:pt>
                <c:pt idx="465">
                  <c:v>28.306173802</c:v>
                </c:pt>
                <c:pt idx="466">
                  <c:v>29.256460516</c:v>
                </c:pt>
                <c:pt idx="467">
                  <c:v>29.649656582</c:v>
                </c:pt>
                <c:pt idx="468">
                  <c:v>29.317572812</c:v>
                </c:pt>
                <c:pt idx="469">
                  <c:v>28.109755138</c:v>
                </c:pt>
                <c:pt idx="470">
                  <c:v>28.913050681</c:v>
                </c:pt>
                <c:pt idx="471">
                  <c:v>29.447135326</c:v>
                </c:pt>
                <c:pt idx="472">
                  <c:v>28.45984918</c:v>
                </c:pt>
                <c:pt idx="473">
                  <c:v>27.919616711</c:v>
                </c:pt>
                <c:pt idx="474">
                  <c:v>28.922421768</c:v>
                </c:pt>
                <c:pt idx="475">
                  <c:v>29.328905761</c:v>
                </c:pt>
                <c:pt idx="476">
                  <c:v>28.912092616</c:v>
                </c:pt>
                <c:pt idx="477">
                  <c:v>27.764684319</c:v>
                </c:pt>
                <c:pt idx="478">
                  <c:v>18.247654357</c:v>
                </c:pt>
                <c:pt idx="479">
                  <c:v>29.831675861</c:v>
                </c:pt>
                <c:pt idx="480">
                  <c:v>29.323813063</c:v>
                </c:pt>
                <c:pt idx="481">
                  <c:v>28.262876068</c:v>
                </c:pt>
                <c:pt idx="482">
                  <c:v>29.290180008</c:v>
                </c:pt>
                <c:pt idx="483">
                  <c:v>29.746978309</c:v>
                </c:pt>
                <c:pt idx="484">
                  <c:v>29.384877479</c:v>
                </c:pt>
                <c:pt idx="485">
                  <c:v>28.092157316</c:v>
                </c:pt>
                <c:pt idx="486">
                  <c:v>29.193485974</c:v>
                </c:pt>
                <c:pt idx="487">
                  <c:v>29.396262532</c:v>
                </c:pt>
                <c:pt idx="488">
                  <c:v>29.157769022</c:v>
                </c:pt>
                <c:pt idx="489">
                  <c:v>28.07312622</c:v>
                </c:pt>
                <c:pt idx="490">
                  <c:v>28.84004758</c:v>
                </c:pt>
                <c:pt idx="491">
                  <c:v>29.373446305</c:v>
                </c:pt>
                <c:pt idx="492">
                  <c:v>28.979578173</c:v>
                </c:pt>
                <c:pt idx="493">
                  <c:v>27.264805768</c:v>
                </c:pt>
                <c:pt idx="494">
                  <c:v>16.667974583</c:v>
                </c:pt>
                <c:pt idx="495">
                  <c:v>30.076817319</c:v>
                </c:pt>
                <c:pt idx="496">
                  <c:v>29.430580987</c:v>
                </c:pt>
                <c:pt idx="497">
                  <c:v>28.344436848</c:v>
                </c:pt>
                <c:pt idx="498">
                  <c:v>29.367624223</c:v>
                </c:pt>
                <c:pt idx="499">
                  <c:v>29.853337066</c:v>
                </c:pt>
                <c:pt idx="500">
                  <c:v>28.563835876</c:v>
                </c:pt>
                <c:pt idx="501">
                  <c:v>28.106686503</c:v>
                </c:pt>
                <c:pt idx="502">
                  <c:v>29.304061376</c:v>
                </c:pt>
                <c:pt idx="503">
                  <c:v>29.458347665</c:v>
                </c:pt>
                <c:pt idx="504">
                  <c:v>29.167895297</c:v>
                </c:pt>
                <c:pt idx="505">
                  <c:v>27.870912907</c:v>
                </c:pt>
                <c:pt idx="506">
                  <c:v>29.014162819</c:v>
                </c:pt>
                <c:pt idx="507">
                  <c:v>29.490762268</c:v>
                </c:pt>
                <c:pt idx="508">
                  <c:v>29.059687358</c:v>
                </c:pt>
                <c:pt idx="509">
                  <c:v>27.849908394</c:v>
                </c:pt>
                <c:pt idx="510">
                  <c:v>18.115892462</c:v>
                </c:pt>
                <c:pt idx="511">
                  <c:v>29.914235902</c:v>
                </c:pt>
                <c:pt idx="512">
                  <c:v>29.53612943</c:v>
                </c:pt>
                <c:pt idx="513">
                  <c:v>28.108044668</c:v>
                </c:pt>
                <c:pt idx="514">
                  <c:v>28.909697733</c:v>
                </c:pt>
                <c:pt idx="515">
                  <c:v>29.742415284</c:v>
                </c:pt>
                <c:pt idx="516">
                  <c:v>29.386197033</c:v>
                </c:pt>
                <c:pt idx="517">
                  <c:v>28.150263464</c:v>
                </c:pt>
                <c:pt idx="518">
                  <c:v>0.72186705</c:v>
                </c:pt>
                <c:pt idx="519">
                  <c:v>29.098398647</c:v>
                </c:pt>
                <c:pt idx="520">
                  <c:v>29.501675356</c:v>
                </c:pt>
                <c:pt idx="521">
                  <c:v>27.506331062</c:v>
                </c:pt>
                <c:pt idx="522">
                  <c:v>29.362737653</c:v>
                </c:pt>
                <c:pt idx="523">
                  <c:v>28.868673884</c:v>
                </c:pt>
                <c:pt idx="524">
                  <c:v>5.768801893</c:v>
                </c:pt>
                <c:pt idx="525">
                  <c:v>27.321960215</c:v>
                </c:pt>
                <c:pt idx="526">
                  <c:v>1.283335874</c:v>
                </c:pt>
                <c:pt idx="527">
                  <c:v>29.464371607</c:v>
                </c:pt>
                <c:pt idx="528">
                  <c:v>29.889698677</c:v>
                </c:pt>
                <c:pt idx="529">
                  <c:v>27.791755615</c:v>
                </c:pt>
                <c:pt idx="530">
                  <c:v>29.728678332</c:v>
                </c:pt>
                <c:pt idx="531">
                  <c:v>29.256733016</c:v>
                </c:pt>
                <c:pt idx="532">
                  <c:v>29.610637991</c:v>
                </c:pt>
                <c:pt idx="533">
                  <c:v>27.73472675</c:v>
                </c:pt>
                <c:pt idx="534">
                  <c:v>7.90449986</c:v>
                </c:pt>
                <c:pt idx="535">
                  <c:v>28.488345424</c:v>
                </c:pt>
                <c:pt idx="536">
                  <c:v>27.934116978</c:v>
                </c:pt>
                <c:pt idx="537">
                  <c:v>28.976958243</c:v>
                </c:pt>
                <c:pt idx="538">
                  <c:v>29.380589746</c:v>
                </c:pt>
                <c:pt idx="539">
                  <c:v>28.914700829</c:v>
                </c:pt>
                <c:pt idx="540">
                  <c:v>27.871951599</c:v>
                </c:pt>
                <c:pt idx="541">
                  <c:v>17.569147255</c:v>
                </c:pt>
                <c:pt idx="542">
                  <c:v>29.848684628</c:v>
                </c:pt>
                <c:pt idx="543">
                  <c:v>29.288159016</c:v>
                </c:pt>
                <c:pt idx="544">
                  <c:v>28.348939164</c:v>
                </c:pt>
                <c:pt idx="545">
                  <c:v>29.211078462</c:v>
                </c:pt>
                <c:pt idx="546">
                  <c:v>29.722602092</c:v>
                </c:pt>
                <c:pt idx="547">
                  <c:v>29.260439518</c:v>
                </c:pt>
                <c:pt idx="548">
                  <c:v>28.12415145</c:v>
                </c:pt>
                <c:pt idx="549">
                  <c:v>29.161558783</c:v>
                </c:pt>
                <c:pt idx="550">
                  <c:v>29.583976715</c:v>
                </c:pt>
                <c:pt idx="551">
                  <c:v>29.213958264</c:v>
                </c:pt>
                <c:pt idx="552">
                  <c:v>28.038594758</c:v>
                </c:pt>
                <c:pt idx="553">
                  <c:v>29.006339257</c:v>
                </c:pt>
                <c:pt idx="554">
                  <c:v>29.364219924</c:v>
                </c:pt>
                <c:pt idx="555">
                  <c:v>28.898580031</c:v>
                </c:pt>
                <c:pt idx="556">
                  <c:v>27.305524554</c:v>
                </c:pt>
                <c:pt idx="557">
                  <c:v>16.316960485</c:v>
                </c:pt>
                <c:pt idx="558">
                  <c:v>29.900510588</c:v>
                </c:pt>
                <c:pt idx="559">
                  <c:v>29.61789728</c:v>
                </c:pt>
                <c:pt idx="560">
                  <c:v>28.301175063</c:v>
                </c:pt>
                <c:pt idx="561">
                  <c:v>29.376852744</c:v>
                </c:pt>
                <c:pt idx="562">
                  <c:v>29.793589957</c:v>
                </c:pt>
                <c:pt idx="563">
                  <c:v>29.159826199</c:v>
                </c:pt>
                <c:pt idx="564">
                  <c:v>28.136344467</c:v>
                </c:pt>
                <c:pt idx="565">
                  <c:v>29.234731378</c:v>
                </c:pt>
                <c:pt idx="566">
                  <c:v>29.506109372</c:v>
                </c:pt>
                <c:pt idx="567">
                  <c:v>29.164916251</c:v>
                </c:pt>
                <c:pt idx="568">
                  <c:v>27.955298511</c:v>
                </c:pt>
                <c:pt idx="569">
                  <c:v>28.976958243</c:v>
                </c:pt>
                <c:pt idx="570">
                  <c:v>29.211567445</c:v>
                </c:pt>
                <c:pt idx="571">
                  <c:v>28.945129223</c:v>
                </c:pt>
                <c:pt idx="572">
                  <c:v>27.75992405</c:v>
                </c:pt>
                <c:pt idx="573">
                  <c:v>17.754211921</c:v>
                </c:pt>
                <c:pt idx="574">
                  <c:v>29.836039595</c:v>
                </c:pt>
                <c:pt idx="575">
                  <c:v>29.46105537</c:v>
                </c:pt>
                <c:pt idx="576">
                  <c:v>28.327361516</c:v>
                </c:pt>
                <c:pt idx="577">
                  <c:v>28.868726949</c:v>
                </c:pt>
                <c:pt idx="578">
                  <c:v>29.172392101</c:v>
                </c:pt>
                <c:pt idx="579">
                  <c:v>27.746339275</c:v>
                </c:pt>
                <c:pt idx="580">
                  <c:v>29.653911233</c:v>
                </c:pt>
                <c:pt idx="581">
                  <c:v>29.084711394</c:v>
                </c:pt>
                <c:pt idx="582">
                  <c:v>29.61141959</c:v>
                </c:pt>
                <c:pt idx="583">
                  <c:v>27.734236984</c:v>
                </c:pt>
                <c:pt idx="584">
                  <c:v>29.42495675</c:v>
                </c:pt>
                <c:pt idx="585">
                  <c:v>28.997502637</c:v>
                </c:pt>
                <c:pt idx="586">
                  <c:v>29.324798608</c:v>
                </c:pt>
                <c:pt idx="587">
                  <c:v>27.420225205</c:v>
                </c:pt>
                <c:pt idx="588">
                  <c:v>29.235438836</c:v>
                </c:pt>
                <c:pt idx="589">
                  <c:v>17.004544573</c:v>
                </c:pt>
                <c:pt idx="590">
                  <c:v>29.979045645</c:v>
                </c:pt>
                <c:pt idx="591">
                  <c:v>28.159600938</c:v>
                </c:pt>
                <c:pt idx="592">
                  <c:v>29.667915415</c:v>
                </c:pt>
                <c:pt idx="593">
                  <c:v>29.321185265</c:v>
                </c:pt>
                <c:pt idx="594">
                  <c:v>29.806425295</c:v>
                </c:pt>
                <c:pt idx="595">
                  <c:v>27.840824493</c:v>
                </c:pt>
                <c:pt idx="596">
                  <c:v>29.660743622</c:v>
                </c:pt>
                <c:pt idx="597">
                  <c:v>29.194951205</c:v>
                </c:pt>
                <c:pt idx="598">
                  <c:v>29.604163476</c:v>
                </c:pt>
                <c:pt idx="599">
                  <c:v>27.268876916</c:v>
                </c:pt>
                <c:pt idx="600">
                  <c:v>29.456192908</c:v>
                </c:pt>
                <c:pt idx="601">
                  <c:v>29.056192804</c:v>
                </c:pt>
                <c:pt idx="602">
                  <c:v>28.448456333</c:v>
                </c:pt>
                <c:pt idx="603">
                  <c:v>27.571471892</c:v>
                </c:pt>
                <c:pt idx="604">
                  <c:v>29.23217393</c:v>
                </c:pt>
                <c:pt idx="605">
                  <c:v>18.23396858</c:v>
                </c:pt>
                <c:pt idx="606">
                  <c:v>29.943608205</c:v>
                </c:pt>
                <c:pt idx="607">
                  <c:v>28.071972128</c:v>
                </c:pt>
                <c:pt idx="608">
                  <c:v>29.668980273</c:v>
                </c:pt>
                <c:pt idx="609">
                  <c:v>29.390541403</c:v>
                </c:pt>
                <c:pt idx="610">
                  <c:v>29.732055094</c:v>
                </c:pt>
                <c:pt idx="611">
                  <c:v>27.913116346</c:v>
                </c:pt>
                <c:pt idx="612">
                  <c:v>29.629351854</c:v>
                </c:pt>
                <c:pt idx="613">
                  <c:v>29.228039428</c:v>
                </c:pt>
                <c:pt idx="614">
                  <c:v>29.590665408</c:v>
                </c:pt>
                <c:pt idx="615">
                  <c:v>27.672810806</c:v>
                </c:pt>
                <c:pt idx="616">
                  <c:v>29.331151491</c:v>
                </c:pt>
                <c:pt idx="617">
                  <c:v>28.98021986</c:v>
                </c:pt>
                <c:pt idx="618">
                  <c:v>29.336959119</c:v>
                </c:pt>
                <c:pt idx="619">
                  <c:v>27.52064623</c:v>
                </c:pt>
                <c:pt idx="620">
                  <c:v>28.598632462</c:v>
                </c:pt>
                <c:pt idx="621">
                  <c:v>17.007988138</c:v>
                </c:pt>
                <c:pt idx="622">
                  <c:v>29.898119914</c:v>
                </c:pt>
                <c:pt idx="623">
                  <c:v>27.930937548</c:v>
                </c:pt>
                <c:pt idx="624">
                  <c:v>29.702534407</c:v>
                </c:pt>
                <c:pt idx="625">
                  <c:v>29.286465967</c:v>
                </c:pt>
                <c:pt idx="626">
                  <c:v>29.843069591</c:v>
                </c:pt>
                <c:pt idx="627">
                  <c:v>27.85158759</c:v>
                </c:pt>
                <c:pt idx="628">
                  <c:v>29.67727758</c:v>
                </c:pt>
                <c:pt idx="629">
                  <c:v>29.129161077</c:v>
                </c:pt>
                <c:pt idx="630">
                  <c:v>29.572557191</c:v>
                </c:pt>
                <c:pt idx="631">
                  <c:v>27.608549669</c:v>
                </c:pt>
                <c:pt idx="632">
                  <c:v>29.493919032</c:v>
                </c:pt>
                <c:pt idx="633">
                  <c:v>28.967712074</c:v>
                </c:pt>
                <c:pt idx="634">
                  <c:v>29.526745071</c:v>
                </c:pt>
                <c:pt idx="635">
                  <c:v>27.432582008</c:v>
                </c:pt>
                <c:pt idx="636">
                  <c:v>29.293512522</c:v>
                </c:pt>
                <c:pt idx="637">
                  <c:v>18.044770326</c:v>
                </c:pt>
                <c:pt idx="638">
                  <c:v>29.904040378</c:v>
                </c:pt>
                <c:pt idx="639">
                  <c:v>27.89383156</c:v>
                </c:pt>
                <c:pt idx="640">
                  <c:v>29.884921167</c:v>
                </c:pt>
                <c:pt idx="641">
                  <c:v>29.409363501</c:v>
                </c:pt>
                <c:pt idx="642">
                  <c:v>29.327317526</c:v>
                </c:pt>
                <c:pt idx="643">
                  <c:v>27.775879835</c:v>
                </c:pt>
                <c:pt idx="644">
                  <c:v>29.692426519</c:v>
                </c:pt>
                <c:pt idx="645">
                  <c:v>29.263819795</c:v>
                </c:pt>
                <c:pt idx="646">
                  <c:v>29.541851817</c:v>
                </c:pt>
                <c:pt idx="647">
                  <c:v>27.677346141</c:v>
                </c:pt>
                <c:pt idx="648">
                  <c:v>29.353956898</c:v>
                </c:pt>
                <c:pt idx="649">
                  <c:v>29.116524424</c:v>
                </c:pt>
                <c:pt idx="650">
                  <c:v>29.427437766</c:v>
                </c:pt>
                <c:pt idx="651">
                  <c:v>27.451953811</c:v>
                </c:pt>
                <c:pt idx="652">
                  <c:v>29.314781981</c:v>
                </c:pt>
                <c:pt idx="653">
                  <c:v>18.245343707</c:v>
                </c:pt>
                <c:pt idx="654">
                  <c:v>10.263941109</c:v>
                </c:pt>
                <c:pt idx="655">
                  <c:v>27.938589275</c:v>
                </c:pt>
                <c:pt idx="656">
                  <c:v>29.680530492</c:v>
                </c:pt>
                <c:pt idx="657">
                  <c:v>29.427272352</c:v>
                </c:pt>
                <c:pt idx="658">
                  <c:v>27.826519499</c:v>
                </c:pt>
                <c:pt idx="659">
                  <c:v>29.249704142</c:v>
                </c:pt>
                <c:pt idx="660">
                  <c:v>29.642493612</c:v>
                </c:pt>
                <c:pt idx="661">
                  <c:v>29.245074559</c:v>
                </c:pt>
                <c:pt idx="662">
                  <c:v>28.067206234</c:v>
                </c:pt>
                <c:pt idx="663">
                  <c:v>8.435358773</c:v>
                </c:pt>
                <c:pt idx="664">
                  <c:v>29.389386445</c:v>
                </c:pt>
                <c:pt idx="665">
                  <c:v>29.006285685</c:v>
                </c:pt>
                <c:pt idx="666">
                  <c:v>27.934116978</c:v>
                </c:pt>
                <c:pt idx="667">
                  <c:v>28.824538905</c:v>
                </c:pt>
                <c:pt idx="668">
                  <c:v>29.32288233</c:v>
                </c:pt>
                <c:pt idx="669">
                  <c:v>16.692492797</c:v>
                </c:pt>
                <c:pt idx="670">
                  <c:v>28.496822698</c:v>
                </c:pt>
                <c:pt idx="671">
                  <c:v>29.386801869</c:v>
                </c:pt>
                <c:pt idx="672">
                  <c:v>29.718496411</c:v>
                </c:pt>
                <c:pt idx="673">
                  <c:v>29.411731729</c:v>
                </c:pt>
                <c:pt idx="674">
                  <c:v>28.222803955</c:v>
                </c:pt>
                <c:pt idx="675">
                  <c:v>29.270855455</c:v>
                </c:pt>
                <c:pt idx="676">
                  <c:v>29.686252862</c:v>
                </c:pt>
                <c:pt idx="677">
                  <c:v>29.278658631</c:v>
                </c:pt>
                <c:pt idx="678">
                  <c:v>28.126014987</c:v>
                </c:pt>
                <c:pt idx="679">
                  <c:v>29.039215865</c:v>
                </c:pt>
                <c:pt idx="680">
                  <c:v>29.316478305</c:v>
                </c:pt>
                <c:pt idx="681">
                  <c:v>28.977706746</c:v>
                </c:pt>
                <c:pt idx="682">
                  <c:v>28.013988532</c:v>
                </c:pt>
                <c:pt idx="683">
                  <c:v>28.89985627</c:v>
                </c:pt>
                <c:pt idx="684">
                  <c:v>28.748613209</c:v>
                </c:pt>
                <c:pt idx="685">
                  <c:v>17.469344651</c:v>
                </c:pt>
                <c:pt idx="686">
                  <c:v>28.462531177</c:v>
                </c:pt>
                <c:pt idx="687">
                  <c:v>29.431022194</c:v>
                </c:pt>
                <c:pt idx="688">
                  <c:v>29.846699272</c:v>
                </c:pt>
                <c:pt idx="689">
                  <c:v>29.544852789</c:v>
                </c:pt>
                <c:pt idx="690">
                  <c:v>28.178193369</c:v>
                </c:pt>
                <c:pt idx="691">
                  <c:v>29.295916774</c:v>
                </c:pt>
                <c:pt idx="692">
                  <c:v>29.627730913</c:v>
                </c:pt>
                <c:pt idx="693">
                  <c:v>29.243658744</c:v>
                </c:pt>
                <c:pt idx="694">
                  <c:v>28.017286859</c:v>
                </c:pt>
                <c:pt idx="695">
                  <c:v>29.118737746</c:v>
                </c:pt>
                <c:pt idx="696">
                  <c:v>29.485170364</c:v>
                </c:pt>
                <c:pt idx="697">
                  <c:v>29.120735423</c:v>
                </c:pt>
                <c:pt idx="698">
                  <c:v>27.902900517</c:v>
                </c:pt>
                <c:pt idx="699">
                  <c:v>28.92487203</c:v>
                </c:pt>
                <c:pt idx="700">
                  <c:v>29.133375733</c:v>
                </c:pt>
                <c:pt idx="701">
                  <c:v>18.02493044</c:v>
                </c:pt>
                <c:pt idx="702">
                  <c:v>28.301124065</c:v>
                </c:pt>
                <c:pt idx="703">
                  <c:v>29.43742119</c:v>
                </c:pt>
                <c:pt idx="704">
                  <c:v>29.822046162</c:v>
                </c:pt>
                <c:pt idx="705">
                  <c:v>27.079118237</c:v>
                </c:pt>
                <c:pt idx="706">
                  <c:v>29.581413518</c:v>
                </c:pt>
                <c:pt idx="707">
                  <c:v>29.245891438</c:v>
                </c:pt>
                <c:pt idx="708">
                  <c:v>29.500511647</c:v>
                </c:pt>
                <c:pt idx="709">
                  <c:v>27.744378673</c:v>
                </c:pt>
                <c:pt idx="710">
                  <c:v>29.40292165</c:v>
                </c:pt>
                <c:pt idx="711">
                  <c:v>29.079003199</c:v>
                </c:pt>
                <c:pt idx="712">
                  <c:v>29.489156455</c:v>
                </c:pt>
                <c:pt idx="713">
                  <c:v>27.538597373</c:v>
                </c:pt>
                <c:pt idx="714">
                  <c:v>29.312976432</c:v>
                </c:pt>
                <c:pt idx="715">
                  <c:v>28.908739891</c:v>
                </c:pt>
                <c:pt idx="716">
                  <c:v>29.339534936</c:v>
                </c:pt>
                <c:pt idx="717">
                  <c:v>16.367345091</c:v>
                </c:pt>
                <c:pt idx="718">
                  <c:v>29.762254908</c:v>
                </c:pt>
                <c:pt idx="719">
                  <c:v>29.507051773</c:v>
                </c:pt>
                <c:pt idx="720">
                  <c:v>29.746358556</c:v>
                </c:pt>
                <c:pt idx="721">
                  <c:v>27.870517236</c:v>
                </c:pt>
                <c:pt idx="722">
                  <c:v>29.52668956</c:v>
                </c:pt>
                <c:pt idx="723">
                  <c:v>29.292529078</c:v>
                </c:pt>
                <c:pt idx="724">
                  <c:v>29.696805759</c:v>
                </c:pt>
                <c:pt idx="725">
                  <c:v>27.656632265</c:v>
                </c:pt>
                <c:pt idx="726">
                  <c:v>29.456413894</c:v>
                </c:pt>
                <c:pt idx="727">
                  <c:v>28.423845961</c:v>
                </c:pt>
                <c:pt idx="728">
                  <c:v>29.480963993</c:v>
                </c:pt>
                <c:pt idx="729">
                  <c:v>27.58692097</c:v>
                </c:pt>
                <c:pt idx="730">
                  <c:v>29.404022621</c:v>
                </c:pt>
                <c:pt idx="731">
                  <c:v>28.883486419</c:v>
                </c:pt>
                <c:pt idx="732">
                  <c:v>29.307943955</c:v>
                </c:pt>
                <c:pt idx="733">
                  <c:v>16.117874323</c:v>
                </c:pt>
                <c:pt idx="734">
                  <c:v>29.698434268</c:v>
                </c:pt>
                <c:pt idx="735">
                  <c:v>29.574784698</c:v>
                </c:pt>
                <c:pt idx="736">
                  <c:v>29.892031112</c:v>
                </c:pt>
                <c:pt idx="737">
                  <c:v>27.84077514</c:v>
                </c:pt>
                <c:pt idx="738">
                  <c:v>29.707366161</c:v>
                </c:pt>
                <c:pt idx="739">
                  <c:v>29.1568488</c:v>
                </c:pt>
                <c:pt idx="740">
                  <c:v>29.669821005</c:v>
                </c:pt>
                <c:pt idx="741">
                  <c:v>27.755557817</c:v>
                </c:pt>
                <c:pt idx="742">
                  <c:v>29.453265153</c:v>
                </c:pt>
                <c:pt idx="743">
                  <c:v>29.125919864</c:v>
                </c:pt>
                <c:pt idx="744">
                  <c:v>29.520140727</c:v>
                </c:pt>
                <c:pt idx="745">
                  <c:v>27.605055746</c:v>
                </c:pt>
                <c:pt idx="746">
                  <c:v>29.329398697</c:v>
                </c:pt>
                <c:pt idx="747">
                  <c:v>28.835176165</c:v>
                </c:pt>
                <c:pt idx="748">
                  <c:v>28.635550004</c:v>
                </c:pt>
                <c:pt idx="749">
                  <c:v>18.10937518</c:v>
                </c:pt>
                <c:pt idx="750">
                  <c:v>29.753628184</c:v>
                </c:pt>
                <c:pt idx="751">
                  <c:v>29.55463797</c:v>
                </c:pt>
                <c:pt idx="752">
                  <c:v>29.916515182</c:v>
                </c:pt>
                <c:pt idx="753">
                  <c:v>27.893484777</c:v>
                </c:pt>
                <c:pt idx="754">
                  <c:v>29.589884905</c:v>
                </c:pt>
                <c:pt idx="755">
                  <c:v>29.232010703</c:v>
                </c:pt>
                <c:pt idx="756">
                  <c:v>29.693212442</c:v>
                </c:pt>
                <c:pt idx="757">
                  <c:v>27.650594528</c:v>
                </c:pt>
                <c:pt idx="758">
                  <c:v>29.509158532</c:v>
                </c:pt>
                <c:pt idx="759">
                  <c:v>29.118089909</c:v>
                </c:pt>
                <c:pt idx="760">
                  <c:v>29.046519963</c:v>
                </c:pt>
                <c:pt idx="761">
                  <c:v>27.50710187</c:v>
                </c:pt>
                <c:pt idx="762">
                  <c:v>29.409363501</c:v>
                </c:pt>
                <c:pt idx="763">
                  <c:v>28.915020235</c:v>
                </c:pt>
                <c:pt idx="764">
                  <c:v>29.30160112</c:v>
                </c:pt>
                <c:pt idx="765">
                  <c:v>17.719838152</c:v>
                </c:pt>
                <c:pt idx="766">
                  <c:v>30.033622838</c:v>
                </c:pt>
                <c:pt idx="767">
                  <c:v>29.567546526</c:v>
                </c:pt>
                <c:pt idx="768">
                  <c:v>30.018410708</c:v>
                </c:pt>
                <c:pt idx="769">
                  <c:v>27.358226535</c:v>
                </c:pt>
                <c:pt idx="770">
                  <c:v>29.774837463</c:v>
                </c:pt>
                <c:pt idx="771">
                  <c:v>29.331808843</c:v>
                </c:pt>
                <c:pt idx="772">
                  <c:v>28.206887964</c:v>
                </c:pt>
                <c:pt idx="773">
                  <c:v>29.15446732</c:v>
                </c:pt>
                <c:pt idx="774">
                  <c:v>29.626054264</c:v>
                </c:pt>
                <c:pt idx="775">
                  <c:v>29.179221225</c:v>
                </c:pt>
                <c:pt idx="776">
                  <c:v>27.955198992</c:v>
                </c:pt>
                <c:pt idx="777">
                  <c:v>29.047540681</c:v>
                </c:pt>
                <c:pt idx="778">
                  <c:v>29.418563172</c:v>
                </c:pt>
                <c:pt idx="779">
                  <c:v>28.87960927</c:v>
                </c:pt>
                <c:pt idx="780">
                  <c:v>27.949378371</c:v>
                </c:pt>
                <c:pt idx="781">
                  <c:v>18.260384021</c:v>
                </c:pt>
                <c:pt idx="782">
                  <c:v>9.258146324</c:v>
                </c:pt>
                <c:pt idx="783">
                  <c:v>29.42798916</c:v>
                </c:pt>
                <c:pt idx="784">
                  <c:v>28.401640555</c:v>
                </c:pt>
                <c:pt idx="785">
                  <c:v>29.378116623</c:v>
                </c:pt>
                <c:pt idx="786">
                  <c:v>29.724570972</c:v>
                </c:pt>
                <c:pt idx="787">
                  <c:v>29.287121318</c:v>
                </c:pt>
                <c:pt idx="788">
                  <c:v>28.188662404</c:v>
                </c:pt>
                <c:pt idx="789">
                  <c:v>29.156199267</c:v>
                </c:pt>
                <c:pt idx="790">
                  <c:v>28.953827191</c:v>
                </c:pt>
                <c:pt idx="791">
                  <c:v>8.33083533900001</c:v>
                </c:pt>
                <c:pt idx="792">
                  <c:v>28.037443504</c:v>
                </c:pt>
                <c:pt idx="793">
                  <c:v>28.880299645</c:v>
                </c:pt>
                <c:pt idx="794">
                  <c:v>29.443767769</c:v>
                </c:pt>
                <c:pt idx="795">
                  <c:v>28.797848049</c:v>
                </c:pt>
                <c:pt idx="796">
                  <c:v>27.731788413</c:v>
                </c:pt>
                <c:pt idx="797">
                  <c:v>17.354066661</c:v>
                </c:pt>
                <c:pt idx="798">
                  <c:v>29.81774313</c:v>
                </c:pt>
                <c:pt idx="799">
                  <c:v>29.496910274</c:v>
                </c:pt>
                <c:pt idx="800">
                  <c:v>28.477601011</c:v>
                </c:pt>
                <c:pt idx="801">
                  <c:v>29.167570281</c:v>
                </c:pt>
                <c:pt idx="802">
                  <c:v>29.751148222</c:v>
                </c:pt>
                <c:pt idx="803">
                  <c:v>29.320364175</c:v>
                </c:pt>
                <c:pt idx="804">
                  <c:v>28.241327617</c:v>
                </c:pt>
                <c:pt idx="805">
                  <c:v>29.077657253</c:v>
                </c:pt>
                <c:pt idx="806">
                  <c:v>29.502728314</c:v>
                </c:pt>
                <c:pt idx="807">
                  <c:v>28.982733411</c:v>
                </c:pt>
                <c:pt idx="808">
                  <c:v>28.037693769</c:v>
                </c:pt>
                <c:pt idx="809">
                  <c:v>29.016628651</c:v>
                </c:pt>
                <c:pt idx="810">
                  <c:v>29.406995655</c:v>
                </c:pt>
                <c:pt idx="811">
                  <c:v>28.874193626</c:v>
                </c:pt>
                <c:pt idx="812">
                  <c:v>27.228456097</c:v>
                </c:pt>
                <c:pt idx="813">
                  <c:v>16.313096288</c:v>
                </c:pt>
                <c:pt idx="814">
                  <c:v>29.878269322</c:v>
                </c:pt>
                <c:pt idx="815">
                  <c:v>29.663096484</c:v>
                </c:pt>
                <c:pt idx="816">
                  <c:v>28.383983269</c:v>
                </c:pt>
                <c:pt idx="817">
                  <c:v>29.410024364</c:v>
                </c:pt>
                <c:pt idx="818">
                  <c:v>29.813328152</c:v>
                </c:pt>
                <c:pt idx="819">
                  <c:v>29.318229556</c:v>
                </c:pt>
                <c:pt idx="820">
                  <c:v>28.161469176</c:v>
                </c:pt>
                <c:pt idx="821">
                  <c:v>29.27249214</c:v>
                </c:pt>
                <c:pt idx="822">
                  <c:v>29.581357801</c:v>
                </c:pt>
                <c:pt idx="823">
                  <c:v>29.21672993</c:v>
                </c:pt>
                <c:pt idx="824">
                  <c:v>27.990921971</c:v>
                </c:pt>
                <c:pt idx="825">
                  <c:v>29.043834206</c:v>
                </c:pt>
                <c:pt idx="826">
                  <c:v>29.375863696</c:v>
                </c:pt>
                <c:pt idx="827">
                  <c:v>28.837346918</c:v>
                </c:pt>
                <c:pt idx="828">
                  <c:v>27.703563147</c:v>
                </c:pt>
                <c:pt idx="829">
                  <c:v>16.368112697</c:v>
                </c:pt>
                <c:pt idx="830">
                  <c:v>29.958687448</c:v>
                </c:pt>
                <c:pt idx="831">
                  <c:v>29.495525364</c:v>
                </c:pt>
                <c:pt idx="832">
                  <c:v>27.831795837</c:v>
                </c:pt>
                <c:pt idx="833">
                  <c:v>28.829935937</c:v>
                </c:pt>
                <c:pt idx="834">
                  <c:v>29.749232171</c:v>
                </c:pt>
                <c:pt idx="835">
                  <c:v>27.760512861</c:v>
                </c:pt>
                <c:pt idx="836">
                  <c:v>29.70657949</c:v>
                </c:pt>
                <c:pt idx="837">
                  <c:v>29.092900644</c:v>
                </c:pt>
                <c:pt idx="838">
                  <c:v>29.515979843</c:v>
                </c:pt>
                <c:pt idx="839">
                  <c:v>27.641056383</c:v>
                </c:pt>
                <c:pt idx="840">
                  <c:v>29.465808874</c:v>
                </c:pt>
                <c:pt idx="841">
                  <c:v>28.977920611</c:v>
                </c:pt>
                <c:pt idx="842">
                  <c:v>29.407546283</c:v>
                </c:pt>
                <c:pt idx="843">
                  <c:v>27.56048888</c:v>
                </c:pt>
                <c:pt idx="844">
                  <c:v>29.30247583</c:v>
                </c:pt>
                <c:pt idx="845">
                  <c:v>16.468794549</c:v>
                </c:pt>
                <c:pt idx="846">
                  <c:v>30.03735647</c:v>
                </c:pt>
                <c:pt idx="847">
                  <c:v>28.005845991</c:v>
                </c:pt>
                <c:pt idx="848">
                  <c:v>29.667971458</c:v>
                </c:pt>
                <c:pt idx="849">
                  <c:v>29.438966192</c:v>
                </c:pt>
                <c:pt idx="850">
                  <c:v>29.653295353</c:v>
                </c:pt>
                <c:pt idx="851">
                  <c:v>27.922048924</c:v>
                </c:pt>
                <c:pt idx="852">
                  <c:v>29.679240459</c:v>
                </c:pt>
                <c:pt idx="853">
                  <c:v>29.280296188</c:v>
                </c:pt>
                <c:pt idx="854">
                  <c:v>29.022044232</c:v>
                </c:pt>
                <c:pt idx="855">
                  <c:v>27.679589975</c:v>
                </c:pt>
                <c:pt idx="856">
                  <c:v>29.449785749</c:v>
                </c:pt>
                <c:pt idx="857">
                  <c:v>29.173096545</c:v>
                </c:pt>
                <c:pt idx="858">
                  <c:v>29.358127102</c:v>
                </c:pt>
                <c:pt idx="859">
                  <c:v>27.52677208</c:v>
                </c:pt>
                <c:pt idx="860">
                  <c:v>29.233479805</c:v>
                </c:pt>
                <c:pt idx="861">
                  <c:v>18.206552988</c:v>
                </c:pt>
                <c:pt idx="862">
                  <c:v>29.457353122</c:v>
                </c:pt>
                <c:pt idx="863">
                  <c:v>28.11468648</c:v>
                </c:pt>
                <c:pt idx="864">
                  <c:v>29.877871442</c:v>
                </c:pt>
                <c:pt idx="865">
                  <c:v>29.372842019</c:v>
                </c:pt>
                <c:pt idx="866">
                  <c:v>29.672735912</c:v>
                </c:pt>
                <c:pt idx="867">
                  <c:v>27.899232578</c:v>
                </c:pt>
                <c:pt idx="868">
                  <c:v>29.542685359</c:v>
                </c:pt>
                <c:pt idx="869">
                  <c:v>29.145594317</c:v>
                </c:pt>
                <c:pt idx="870">
                  <c:v>29.583976715</c:v>
                </c:pt>
                <c:pt idx="871">
                  <c:v>26.91133564</c:v>
                </c:pt>
                <c:pt idx="872">
                  <c:v>29.457463624</c:v>
                </c:pt>
                <c:pt idx="873">
                  <c:v>29.014538027</c:v>
                </c:pt>
                <c:pt idx="874">
                  <c:v>29.497464274</c:v>
                </c:pt>
                <c:pt idx="875">
                  <c:v>26.956046758</c:v>
                </c:pt>
                <c:pt idx="876">
                  <c:v>29.116416465</c:v>
                </c:pt>
                <c:pt idx="877">
                  <c:v>16.774038997</c:v>
                </c:pt>
                <c:pt idx="878">
                  <c:v>30.026560197</c:v>
                </c:pt>
                <c:pt idx="879">
                  <c:v>28.045203785</c:v>
                </c:pt>
                <c:pt idx="880">
                  <c:v>29.867189491</c:v>
                </c:pt>
                <c:pt idx="881">
                  <c:v>29.290507762</c:v>
                </c:pt>
                <c:pt idx="882">
                  <c:v>29.796585765</c:v>
                </c:pt>
                <c:pt idx="883">
                  <c:v>27.773325677</c:v>
                </c:pt>
                <c:pt idx="884">
                  <c:v>29.74337284</c:v>
                </c:pt>
                <c:pt idx="885">
                  <c:v>29.223579831</c:v>
                </c:pt>
                <c:pt idx="886">
                  <c:v>29.75819465</c:v>
                </c:pt>
                <c:pt idx="887">
                  <c:v>27.697797984</c:v>
                </c:pt>
                <c:pt idx="888">
                  <c:v>29.531464269</c:v>
                </c:pt>
                <c:pt idx="889">
                  <c:v>28.971826692</c:v>
                </c:pt>
                <c:pt idx="890">
                  <c:v>29.431077346</c:v>
                </c:pt>
                <c:pt idx="891">
                  <c:v>27.474044151</c:v>
                </c:pt>
                <c:pt idx="892">
                  <c:v>29.338000352</c:v>
                </c:pt>
                <c:pt idx="893">
                  <c:v>19.053692506</c:v>
                </c:pt>
                <c:pt idx="894">
                  <c:v>30.039079998</c:v>
                </c:pt>
                <c:pt idx="895">
                  <c:v>28.012889262</c:v>
                </c:pt>
                <c:pt idx="896">
                  <c:v>29.839100638</c:v>
                </c:pt>
                <c:pt idx="897">
                  <c:v>28.759510473</c:v>
                </c:pt>
                <c:pt idx="898">
                  <c:v>28.208559819</c:v>
                </c:pt>
                <c:pt idx="899">
                  <c:v>29.226027003</c:v>
                </c:pt>
                <c:pt idx="900">
                  <c:v>29.583363736</c:v>
                </c:pt>
                <c:pt idx="901">
                  <c:v>29.265946499</c:v>
                </c:pt>
                <c:pt idx="902">
                  <c:v>28.065049571</c:v>
                </c:pt>
                <c:pt idx="903">
                  <c:v>29.103089763</c:v>
                </c:pt>
                <c:pt idx="904">
                  <c:v>29.382788427</c:v>
                </c:pt>
                <c:pt idx="905">
                  <c:v>29.106811379</c:v>
                </c:pt>
                <c:pt idx="906">
                  <c:v>27.947388971</c:v>
                </c:pt>
                <c:pt idx="907">
                  <c:v>28.879290646</c:v>
                </c:pt>
                <c:pt idx="908">
                  <c:v>29.330822826</c:v>
                </c:pt>
                <c:pt idx="909">
                  <c:v>18.69344219</c:v>
                </c:pt>
                <c:pt idx="910">
                  <c:v>9.602998019</c:v>
                </c:pt>
                <c:pt idx="911">
                  <c:v>29.488381297</c:v>
                </c:pt>
                <c:pt idx="912">
                  <c:v>29.647697613</c:v>
                </c:pt>
                <c:pt idx="913">
                  <c:v>29.371963103</c:v>
                </c:pt>
                <c:pt idx="914">
                  <c:v>28.290571343</c:v>
                </c:pt>
                <c:pt idx="915">
                  <c:v>29.110587904</c:v>
                </c:pt>
                <c:pt idx="916">
                  <c:v>29.564262677</c:v>
                </c:pt>
                <c:pt idx="917">
                  <c:v>29.188874169</c:v>
                </c:pt>
                <c:pt idx="918">
                  <c:v>27.557877469</c:v>
                </c:pt>
                <c:pt idx="919">
                  <c:v>8.720471735</c:v>
                </c:pt>
                <c:pt idx="920">
                  <c:v>29.42666585</c:v>
                </c:pt>
                <c:pt idx="921">
                  <c:v>28.909484874</c:v>
                </c:pt>
                <c:pt idx="922">
                  <c:v>27.975166707</c:v>
                </c:pt>
                <c:pt idx="923">
                  <c:v>27.805040322</c:v>
                </c:pt>
                <c:pt idx="924">
                  <c:v>29.277130409</c:v>
                </c:pt>
                <c:pt idx="925">
                  <c:v>18.893086089</c:v>
                </c:pt>
                <c:pt idx="926">
                  <c:v>28.378290399</c:v>
                </c:pt>
                <c:pt idx="927">
                  <c:v>29.504834456</c:v>
                </c:pt>
                <c:pt idx="928">
                  <c:v>29.700512279</c:v>
                </c:pt>
                <c:pt idx="929">
                  <c:v>29.378116623</c:v>
                </c:pt>
                <c:pt idx="930">
                  <c:v>28.201620382</c:v>
                </c:pt>
                <c:pt idx="931">
                  <c:v>29.044263894</c:v>
                </c:pt>
                <c:pt idx="932">
                  <c:v>29.680810949</c:v>
                </c:pt>
                <c:pt idx="933">
                  <c:v>29.161071473</c:v>
                </c:pt>
                <c:pt idx="934">
                  <c:v>28.108698647</c:v>
                </c:pt>
                <c:pt idx="935">
                  <c:v>29.034008568</c:v>
                </c:pt>
                <c:pt idx="936">
                  <c:v>29.473992915</c:v>
                </c:pt>
                <c:pt idx="937">
                  <c:v>28.903153744</c:v>
                </c:pt>
                <c:pt idx="938">
                  <c:v>27.943162437</c:v>
                </c:pt>
                <c:pt idx="939">
                  <c:v>28.208914481</c:v>
                </c:pt>
                <c:pt idx="940">
                  <c:v>29.266764544</c:v>
                </c:pt>
                <c:pt idx="941">
                  <c:v>16.783395999</c:v>
                </c:pt>
                <c:pt idx="942">
                  <c:v>28.319954975</c:v>
                </c:pt>
                <c:pt idx="943">
                  <c:v>29.501176612</c:v>
                </c:pt>
                <c:pt idx="944">
                  <c:v>29.651447865</c:v>
                </c:pt>
                <c:pt idx="945">
                  <c:v>29.373666051</c:v>
                </c:pt>
                <c:pt idx="946">
                  <c:v>28.102612793</c:v>
                </c:pt>
                <c:pt idx="947">
                  <c:v>29.172554662</c:v>
                </c:pt>
                <c:pt idx="948">
                  <c:v>29.614825608</c:v>
                </c:pt>
                <c:pt idx="949">
                  <c:v>29.316587752</c:v>
                </c:pt>
                <c:pt idx="950">
                  <c:v>28.052517398</c:v>
                </c:pt>
                <c:pt idx="951">
                  <c:v>29.196362308</c:v>
                </c:pt>
                <c:pt idx="952">
                  <c:v>29.377786905</c:v>
                </c:pt>
                <c:pt idx="953">
                  <c:v>29.001304401</c:v>
                </c:pt>
                <c:pt idx="954">
                  <c:v>27.714318167</c:v>
                </c:pt>
                <c:pt idx="955">
                  <c:v>28.735515843</c:v>
                </c:pt>
                <c:pt idx="956">
                  <c:v>29.261093705</c:v>
                </c:pt>
                <c:pt idx="957">
                  <c:v>18.287621379</c:v>
                </c:pt>
                <c:pt idx="958">
                  <c:v>28.36588683</c:v>
                </c:pt>
                <c:pt idx="959">
                  <c:v>29.436317716</c:v>
                </c:pt>
                <c:pt idx="960">
                  <c:v>28.78227922</c:v>
                </c:pt>
                <c:pt idx="961">
                  <c:v>27.84655061</c:v>
                </c:pt>
                <c:pt idx="962">
                  <c:v>29.56593234</c:v>
                </c:pt>
                <c:pt idx="963">
                  <c:v>29.221187437</c:v>
                </c:pt>
                <c:pt idx="964">
                  <c:v>29.107890286</c:v>
                </c:pt>
                <c:pt idx="965">
                  <c:v>27.659846974</c:v>
                </c:pt>
                <c:pt idx="966">
                  <c:v>29.383887891</c:v>
                </c:pt>
                <c:pt idx="967">
                  <c:v>28.9866383</c:v>
                </c:pt>
                <c:pt idx="968">
                  <c:v>29.515258743</c:v>
                </c:pt>
                <c:pt idx="969">
                  <c:v>27.563971531</c:v>
                </c:pt>
                <c:pt idx="970">
                  <c:v>29.23070496</c:v>
                </c:pt>
                <c:pt idx="971">
                  <c:v>28.888958688</c:v>
                </c:pt>
                <c:pt idx="972">
                  <c:v>29.340466725</c:v>
                </c:pt>
                <c:pt idx="973">
                  <c:v>16.700125144</c:v>
                </c:pt>
                <c:pt idx="974">
                  <c:v>29.842615943</c:v>
                </c:pt>
                <c:pt idx="975">
                  <c:v>29.373391369</c:v>
                </c:pt>
                <c:pt idx="976">
                  <c:v>29.831732525</c:v>
                </c:pt>
                <c:pt idx="977">
                  <c:v>27.983989464</c:v>
                </c:pt>
                <c:pt idx="978">
                  <c:v>29.686421201</c:v>
                </c:pt>
                <c:pt idx="979">
                  <c:v>29.293840351</c:v>
                </c:pt>
                <c:pt idx="980">
                  <c:v>29.648872963</c:v>
                </c:pt>
                <c:pt idx="981">
                  <c:v>27.835692735</c:v>
                </c:pt>
                <c:pt idx="982">
                  <c:v>28.703637676</c:v>
                </c:pt>
                <c:pt idx="983">
                  <c:v>28.998412828</c:v>
                </c:pt>
                <c:pt idx="984">
                  <c:v>29.583920989</c:v>
                </c:pt>
                <c:pt idx="985">
                  <c:v>27.555556631</c:v>
                </c:pt>
                <c:pt idx="986">
                  <c:v>29.39857362</c:v>
                </c:pt>
                <c:pt idx="987">
                  <c:v>28.923114191</c:v>
                </c:pt>
                <c:pt idx="988">
                  <c:v>29.31160874</c:v>
                </c:pt>
                <c:pt idx="989">
                  <c:v>16.494721841</c:v>
                </c:pt>
                <c:pt idx="990">
                  <c:v>1.125768643</c:v>
                </c:pt>
                <c:pt idx="991">
                  <c:v>28.527102895</c:v>
                </c:pt>
                <c:pt idx="992">
                  <c:v>29.486498941</c:v>
                </c:pt>
                <c:pt idx="993">
                  <c:v>29.026067011</c:v>
                </c:pt>
                <c:pt idx="994">
                  <c:v>29.282752868</c:v>
                </c:pt>
                <c:pt idx="995">
                  <c:v>28.947796755</c:v>
                </c:pt>
                <c:pt idx="996">
                  <c:v>29.362737653</c:v>
                </c:pt>
                <c:pt idx="997">
                  <c:v>28.863951935</c:v>
                </c:pt>
                <c:pt idx="998">
                  <c:v>29.182311641</c:v>
                </c:pt>
                <c:pt idx="999">
                  <c:v>28.828560031</c:v>
                </c:pt>
                <c:pt idx="1000">
                  <c:v>28.98583584</c:v>
                </c:pt>
              </c:numCache>
            </c:numRef>
          </c:yVal>
          <c:smooth val="0"/>
        </c:ser>
        <c:ser>
          <c:idx val="4"/>
          <c:order val="4"/>
          <c:tx>
            <c:strRef>
              <c:f>label 8</c:f>
              <c:strCache>
                <c:ptCount val="1"/>
                <c:pt idx="0">
                  <c:v>16 K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9</c:f>
              <c:numCache>
                <c:formatCode>General</c:formatCode>
                <c:ptCount val="1001"/>
                <c:pt idx="0">
                  <c:v>16384</c:v>
                </c:pt>
                <c:pt idx="1">
                  <c:v>16384</c:v>
                </c:pt>
                <c:pt idx="2">
                  <c:v>16384</c:v>
                </c:pt>
                <c:pt idx="3">
                  <c:v>16384</c:v>
                </c:pt>
                <c:pt idx="4">
                  <c:v>16384</c:v>
                </c:pt>
                <c:pt idx="5">
                  <c:v>16384</c:v>
                </c:pt>
                <c:pt idx="6">
                  <c:v>16384</c:v>
                </c:pt>
                <c:pt idx="7">
                  <c:v>16384</c:v>
                </c:pt>
                <c:pt idx="8">
                  <c:v>16384</c:v>
                </c:pt>
                <c:pt idx="9">
                  <c:v>16384</c:v>
                </c:pt>
                <c:pt idx="10">
                  <c:v>16384</c:v>
                </c:pt>
                <c:pt idx="11">
                  <c:v>16384</c:v>
                </c:pt>
                <c:pt idx="12">
                  <c:v>16384</c:v>
                </c:pt>
                <c:pt idx="13">
                  <c:v>16384</c:v>
                </c:pt>
                <c:pt idx="14">
                  <c:v>16384</c:v>
                </c:pt>
                <c:pt idx="15">
                  <c:v>16384</c:v>
                </c:pt>
                <c:pt idx="16">
                  <c:v>16384</c:v>
                </c:pt>
                <c:pt idx="17">
                  <c:v>16384</c:v>
                </c:pt>
                <c:pt idx="18">
                  <c:v>16384</c:v>
                </c:pt>
                <c:pt idx="19">
                  <c:v>16384</c:v>
                </c:pt>
                <c:pt idx="20">
                  <c:v>16384</c:v>
                </c:pt>
                <c:pt idx="21">
                  <c:v>16384</c:v>
                </c:pt>
                <c:pt idx="22">
                  <c:v>16384</c:v>
                </c:pt>
                <c:pt idx="23">
                  <c:v>16384</c:v>
                </c:pt>
                <c:pt idx="24">
                  <c:v>16384</c:v>
                </c:pt>
                <c:pt idx="25">
                  <c:v>16384</c:v>
                </c:pt>
                <c:pt idx="26">
                  <c:v>16384</c:v>
                </c:pt>
                <c:pt idx="27">
                  <c:v>16384</c:v>
                </c:pt>
                <c:pt idx="28">
                  <c:v>16384</c:v>
                </c:pt>
                <c:pt idx="29">
                  <c:v>16384</c:v>
                </c:pt>
                <c:pt idx="30">
                  <c:v>16384</c:v>
                </c:pt>
                <c:pt idx="31">
                  <c:v>16384</c:v>
                </c:pt>
                <c:pt idx="32">
                  <c:v>16384</c:v>
                </c:pt>
                <c:pt idx="33">
                  <c:v>16384</c:v>
                </c:pt>
                <c:pt idx="34">
                  <c:v>16384</c:v>
                </c:pt>
                <c:pt idx="35">
                  <c:v>16384</c:v>
                </c:pt>
                <c:pt idx="36">
                  <c:v>16384</c:v>
                </c:pt>
                <c:pt idx="37">
                  <c:v>16384</c:v>
                </c:pt>
                <c:pt idx="38">
                  <c:v>16384</c:v>
                </c:pt>
                <c:pt idx="39">
                  <c:v>16384</c:v>
                </c:pt>
                <c:pt idx="40">
                  <c:v>16384</c:v>
                </c:pt>
                <c:pt idx="41">
                  <c:v>16384</c:v>
                </c:pt>
                <c:pt idx="42">
                  <c:v>16384</c:v>
                </c:pt>
                <c:pt idx="43">
                  <c:v>16384</c:v>
                </c:pt>
                <c:pt idx="44">
                  <c:v>16384</c:v>
                </c:pt>
                <c:pt idx="45">
                  <c:v>16384</c:v>
                </c:pt>
                <c:pt idx="46">
                  <c:v>16384</c:v>
                </c:pt>
                <c:pt idx="47">
                  <c:v>16384</c:v>
                </c:pt>
                <c:pt idx="48">
                  <c:v>16384</c:v>
                </c:pt>
                <c:pt idx="49">
                  <c:v>16384</c:v>
                </c:pt>
                <c:pt idx="50">
                  <c:v>16384</c:v>
                </c:pt>
                <c:pt idx="51">
                  <c:v>16384</c:v>
                </c:pt>
                <c:pt idx="52">
                  <c:v>16384</c:v>
                </c:pt>
                <c:pt idx="53">
                  <c:v>16384</c:v>
                </c:pt>
                <c:pt idx="54">
                  <c:v>16384</c:v>
                </c:pt>
                <c:pt idx="55">
                  <c:v>16384</c:v>
                </c:pt>
                <c:pt idx="56">
                  <c:v>16384</c:v>
                </c:pt>
                <c:pt idx="57">
                  <c:v>16384</c:v>
                </c:pt>
                <c:pt idx="58">
                  <c:v>16384</c:v>
                </c:pt>
                <c:pt idx="59">
                  <c:v>16384</c:v>
                </c:pt>
                <c:pt idx="60">
                  <c:v>16384</c:v>
                </c:pt>
                <c:pt idx="61">
                  <c:v>16384</c:v>
                </c:pt>
                <c:pt idx="62">
                  <c:v>16384</c:v>
                </c:pt>
                <c:pt idx="63">
                  <c:v>16384</c:v>
                </c:pt>
                <c:pt idx="64">
                  <c:v>16384</c:v>
                </c:pt>
                <c:pt idx="65">
                  <c:v>16384</c:v>
                </c:pt>
                <c:pt idx="66">
                  <c:v>16384</c:v>
                </c:pt>
                <c:pt idx="67">
                  <c:v>16384</c:v>
                </c:pt>
                <c:pt idx="68">
                  <c:v>16384</c:v>
                </c:pt>
                <c:pt idx="69">
                  <c:v>16384</c:v>
                </c:pt>
                <c:pt idx="70">
                  <c:v>16384</c:v>
                </c:pt>
                <c:pt idx="71">
                  <c:v>16384</c:v>
                </c:pt>
                <c:pt idx="72">
                  <c:v>16384</c:v>
                </c:pt>
                <c:pt idx="73">
                  <c:v>16384</c:v>
                </c:pt>
                <c:pt idx="74">
                  <c:v>16384</c:v>
                </c:pt>
                <c:pt idx="75">
                  <c:v>16384</c:v>
                </c:pt>
                <c:pt idx="76">
                  <c:v>16384</c:v>
                </c:pt>
                <c:pt idx="77">
                  <c:v>16384</c:v>
                </c:pt>
                <c:pt idx="78">
                  <c:v>16384</c:v>
                </c:pt>
                <c:pt idx="79">
                  <c:v>16384</c:v>
                </c:pt>
                <c:pt idx="80">
                  <c:v>16384</c:v>
                </c:pt>
                <c:pt idx="81">
                  <c:v>16384</c:v>
                </c:pt>
                <c:pt idx="82">
                  <c:v>16384</c:v>
                </c:pt>
                <c:pt idx="83">
                  <c:v>16384</c:v>
                </c:pt>
                <c:pt idx="84">
                  <c:v>16384</c:v>
                </c:pt>
                <c:pt idx="85">
                  <c:v>16384</c:v>
                </c:pt>
                <c:pt idx="86">
                  <c:v>16384</c:v>
                </c:pt>
                <c:pt idx="87">
                  <c:v>16384</c:v>
                </c:pt>
                <c:pt idx="88">
                  <c:v>16384</c:v>
                </c:pt>
                <c:pt idx="89">
                  <c:v>16384</c:v>
                </c:pt>
                <c:pt idx="90">
                  <c:v>16384</c:v>
                </c:pt>
                <c:pt idx="91">
                  <c:v>16384</c:v>
                </c:pt>
                <c:pt idx="92">
                  <c:v>16384</c:v>
                </c:pt>
                <c:pt idx="93">
                  <c:v>16384</c:v>
                </c:pt>
                <c:pt idx="94">
                  <c:v>16384</c:v>
                </c:pt>
                <c:pt idx="95">
                  <c:v>16384</c:v>
                </c:pt>
                <c:pt idx="96">
                  <c:v>16384</c:v>
                </c:pt>
                <c:pt idx="97">
                  <c:v>16384</c:v>
                </c:pt>
                <c:pt idx="98">
                  <c:v>16384</c:v>
                </c:pt>
                <c:pt idx="99">
                  <c:v>16384</c:v>
                </c:pt>
                <c:pt idx="100">
                  <c:v>16384</c:v>
                </c:pt>
                <c:pt idx="101">
                  <c:v>16384</c:v>
                </c:pt>
                <c:pt idx="102">
                  <c:v>16384</c:v>
                </c:pt>
                <c:pt idx="103">
                  <c:v>16384</c:v>
                </c:pt>
                <c:pt idx="104">
                  <c:v>16384</c:v>
                </c:pt>
                <c:pt idx="105">
                  <c:v>16384</c:v>
                </c:pt>
                <c:pt idx="106">
                  <c:v>16384</c:v>
                </c:pt>
                <c:pt idx="107">
                  <c:v>16384</c:v>
                </c:pt>
                <c:pt idx="108">
                  <c:v>16384</c:v>
                </c:pt>
                <c:pt idx="109">
                  <c:v>16384</c:v>
                </c:pt>
                <c:pt idx="110">
                  <c:v>16384</c:v>
                </c:pt>
                <c:pt idx="111">
                  <c:v>16384</c:v>
                </c:pt>
                <c:pt idx="112">
                  <c:v>16384</c:v>
                </c:pt>
                <c:pt idx="113">
                  <c:v>16384</c:v>
                </c:pt>
                <c:pt idx="114">
                  <c:v>16384</c:v>
                </c:pt>
                <c:pt idx="115">
                  <c:v>16384</c:v>
                </c:pt>
                <c:pt idx="116">
                  <c:v>16384</c:v>
                </c:pt>
                <c:pt idx="117">
                  <c:v>16384</c:v>
                </c:pt>
                <c:pt idx="118">
                  <c:v>16384</c:v>
                </c:pt>
                <c:pt idx="119">
                  <c:v>16384</c:v>
                </c:pt>
                <c:pt idx="120">
                  <c:v>16384</c:v>
                </c:pt>
                <c:pt idx="121">
                  <c:v>16384</c:v>
                </c:pt>
                <c:pt idx="122">
                  <c:v>16384</c:v>
                </c:pt>
                <c:pt idx="123">
                  <c:v>16384</c:v>
                </c:pt>
                <c:pt idx="124">
                  <c:v>16384</c:v>
                </c:pt>
                <c:pt idx="125">
                  <c:v>16384</c:v>
                </c:pt>
                <c:pt idx="126">
                  <c:v>16384</c:v>
                </c:pt>
                <c:pt idx="127">
                  <c:v>16384</c:v>
                </c:pt>
                <c:pt idx="128">
                  <c:v>16384</c:v>
                </c:pt>
                <c:pt idx="129">
                  <c:v>16384</c:v>
                </c:pt>
                <c:pt idx="130">
                  <c:v>16384</c:v>
                </c:pt>
                <c:pt idx="131">
                  <c:v>16384</c:v>
                </c:pt>
                <c:pt idx="132">
                  <c:v>16384</c:v>
                </c:pt>
                <c:pt idx="133">
                  <c:v>16384</c:v>
                </c:pt>
                <c:pt idx="134">
                  <c:v>16384</c:v>
                </c:pt>
                <c:pt idx="135">
                  <c:v>16384</c:v>
                </c:pt>
                <c:pt idx="136">
                  <c:v>16384</c:v>
                </c:pt>
                <c:pt idx="137">
                  <c:v>16384</c:v>
                </c:pt>
                <c:pt idx="138">
                  <c:v>16384</c:v>
                </c:pt>
                <c:pt idx="139">
                  <c:v>16384</c:v>
                </c:pt>
                <c:pt idx="140">
                  <c:v>16384</c:v>
                </c:pt>
                <c:pt idx="141">
                  <c:v>16384</c:v>
                </c:pt>
                <c:pt idx="142">
                  <c:v>16384</c:v>
                </c:pt>
                <c:pt idx="143">
                  <c:v>16384</c:v>
                </c:pt>
                <c:pt idx="144">
                  <c:v>16384</c:v>
                </c:pt>
                <c:pt idx="145">
                  <c:v>16384</c:v>
                </c:pt>
                <c:pt idx="146">
                  <c:v>16384</c:v>
                </c:pt>
                <c:pt idx="147">
                  <c:v>16384</c:v>
                </c:pt>
                <c:pt idx="148">
                  <c:v>16384</c:v>
                </c:pt>
                <c:pt idx="149">
                  <c:v>16384</c:v>
                </c:pt>
                <c:pt idx="150">
                  <c:v>16384</c:v>
                </c:pt>
                <c:pt idx="151">
                  <c:v>16384</c:v>
                </c:pt>
                <c:pt idx="152">
                  <c:v>16384</c:v>
                </c:pt>
                <c:pt idx="153">
                  <c:v>16384</c:v>
                </c:pt>
                <c:pt idx="154">
                  <c:v>16384</c:v>
                </c:pt>
                <c:pt idx="155">
                  <c:v>16384</c:v>
                </c:pt>
                <c:pt idx="156">
                  <c:v>16384</c:v>
                </c:pt>
                <c:pt idx="157">
                  <c:v>16384</c:v>
                </c:pt>
                <c:pt idx="158">
                  <c:v>16384</c:v>
                </c:pt>
                <c:pt idx="159">
                  <c:v>16384</c:v>
                </c:pt>
                <c:pt idx="160">
                  <c:v>16384</c:v>
                </c:pt>
                <c:pt idx="161">
                  <c:v>16384</c:v>
                </c:pt>
                <c:pt idx="162">
                  <c:v>16384</c:v>
                </c:pt>
                <c:pt idx="163">
                  <c:v>16384</c:v>
                </c:pt>
                <c:pt idx="164">
                  <c:v>16384</c:v>
                </c:pt>
                <c:pt idx="165">
                  <c:v>16384</c:v>
                </c:pt>
                <c:pt idx="166">
                  <c:v>16384</c:v>
                </c:pt>
                <c:pt idx="167">
                  <c:v>16384</c:v>
                </c:pt>
                <c:pt idx="168">
                  <c:v>16384</c:v>
                </c:pt>
                <c:pt idx="169">
                  <c:v>16384</c:v>
                </c:pt>
                <c:pt idx="170">
                  <c:v>16384</c:v>
                </c:pt>
                <c:pt idx="171">
                  <c:v>16384</c:v>
                </c:pt>
                <c:pt idx="172">
                  <c:v>16384</c:v>
                </c:pt>
                <c:pt idx="173">
                  <c:v>16384</c:v>
                </c:pt>
                <c:pt idx="174">
                  <c:v>16384</c:v>
                </c:pt>
                <c:pt idx="175">
                  <c:v>16384</c:v>
                </c:pt>
                <c:pt idx="176">
                  <c:v>16384</c:v>
                </c:pt>
                <c:pt idx="177">
                  <c:v>16384</c:v>
                </c:pt>
                <c:pt idx="178">
                  <c:v>16384</c:v>
                </c:pt>
                <c:pt idx="179">
                  <c:v>16384</c:v>
                </c:pt>
                <c:pt idx="180">
                  <c:v>16384</c:v>
                </c:pt>
                <c:pt idx="181">
                  <c:v>16384</c:v>
                </c:pt>
                <c:pt idx="182">
                  <c:v>16384</c:v>
                </c:pt>
                <c:pt idx="183">
                  <c:v>16384</c:v>
                </c:pt>
                <c:pt idx="184">
                  <c:v>16384</c:v>
                </c:pt>
                <c:pt idx="185">
                  <c:v>16384</c:v>
                </c:pt>
                <c:pt idx="186">
                  <c:v>16384</c:v>
                </c:pt>
                <c:pt idx="187">
                  <c:v>16384</c:v>
                </c:pt>
                <c:pt idx="188">
                  <c:v>16384</c:v>
                </c:pt>
                <c:pt idx="189">
                  <c:v>16384</c:v>
                </c:pt>
                <c:pt idx="190">
                  <c:v>16384</c:v>
                </c:pt>
                <c:pt idx="191">
                  <c:v>16384</c:v>
                </c:pt>
                <c:pt idx="192">
                  <c:v>16384</c:v>
                </c:pt>
                <c:pt idx="193">
                  <c:v>16384</c:v>
                </c:pt>
                <c:pt idx="194">
                  <c:v>16384</c:v>
                </c:pt>
                <c:pt idx="195">
                  <c:v>16384</c:v>
                </c:pt>
                <c:pt idx="196">
                  <c:v>16384</c:v>
                </c:pt>
                <c:pt idx="197">
                  <c:v>16384</c:v>
                </c:pt>
                <c:pt idx="198">
                  <c:v>16384</c:v>
                </c:pt>
                <c:pt idx="199">
                  <c:v>16384</c:v>
                </c:pt>
                <c:pt idx="200">
                  <c:v>16384</c:v>
                </c:pt>
                <c:pt idx="201">
                  <c:v>16384</c:v>
                </c:pt>
                <c:pt idx="202">
                  <c:v>16384</c:v>
                </c:pt>
                <c:pt idx="203">
                  <c:v>16384</c:v>
                </c:pt>
                <c:pt idx="204">
                  <c:v>16384</c:v>
                </c:pt>
                <c:pt idx="205">
                  <c:v>16384</c:v>
                </c:pt>
                <c:pt idx="206">
                  <c:v>16384</c:v>
                </c:pt>
                <c:pt idx="207">
                  <c:v>16384</c:v>
                </c:pt>
                <c:pt idx="208">
                  <c:v>16384</c:v>
                </c:pt>
                <c:pt idx="209">
                  <c:v>16384</c:v>
                </c:pt>
                <c:pt idx="210">
                  <c:v>16384</c:v>
                </c:pt>
                <c:pt idx="211">
                  <c:v>16384</c:v>
                </c:pt>
                <c:pt idx="212">
                  <c:v>16384</c:v>
                </c:pt>
                <c:pt idx="213">
                  <c:v>16384</c:v>
                </c:pt>
                <c:pt idx="214">
                  <c:v>16384</c:v>
                </c:pt>
                <c:pt idx="215">
                  <c:v>16384</c:v>
                </c:pt>
                <c:pt idx="216">
                  <c:v>16384</c:v>
                </c:pt>
                <c:pt idx="217">
                  <c:v>16384</c:v>
                </c:pt>
                <c:pt idx="218">
                  <c:v>16384</c:v>
                </c:pt>
                <c:pt idx="219">
                  <c:v>16384</c:v>
                </c:pt>
                <c:pt idx="220">
                  <c:v>16384</c:v>
                </c:pt>
                <c:pt idx="221">
                  <c:v>16384</c:v>
                </c:pt>
                <c:pt idx="222">
                  <c:v>16384</c:v>
                </c:pt>
                <c:pt idx="223">
                  <c:v>16384</c:v>
                </c:pt>
                <c:pt idx="224">
                  <c:v>16384</c:v>
                </c:pt>
                <c:pt idx="225">
                  <c:v>16384</c:v>
                </c:pt>
                <c:pt idx="226">
                  <c:v>16384</c:v>
                </c:pt>
                <c:pt idx="227">
                  <c:v>16384</c:v>
                </c:pt>
                <c:pt idx="228">
                  <c:v>16384</c:v>
                </c:pt>
                <c:pt idx="229">
                  <c:v>16384</c:v>
                </c:pt>
                <c:pt idx="230">
                  <c:v>16384</c:v>
                </c:pt>
                <c:pt idx="231">
                  <c:v>16384</c:v>
                </c:pt>
                <c:pt idx="232">
                  <c:v>16384</c:v>
                </c:pt>
                <c:pt idx="233">
                  <c:v>16384</c:v>
                </c:pt>
                <c:pt idx="234">
                  <c:v>16384</c:v>
                </c:pt>
                <c:pt idx="235">
                  <c:v>16384</c:v>
                </c:pt>
                <c:pt idx="236">
                  <c:v>16384</c:v>
                </c:pt>
                <c:pt idx="237">
                  <c:v>16384</c:v>
                </c:pt>
                <c:pt idx="238">
                  <c:v>16384</c:v>
                </c:pt>
                <c:pt idx="239">
                  <c:v>16384</c:v>
                </c:pt>
                <c:pt idx="240">
                  <c:v>16384</c:v>
                </c:pt>
                <c:pt idx="241">
                  <c:v>16384</c:v>
                </c:pt>
                <c:pt idx="242">
                  <c:v>16384</c:v>
                </c:pt>
                <c:pt idx="243">
                  <c:v>16384</c:v>
                </c:pt>
                <c:pt idx="244">
                  <c:v>16384</c:v>
                </c:pt>
                <c:pt idx="245">
                  <c:v>16384</c:v>
                </c:pt>
                <c:pt idx="246">
                  <c:v>16384</c:v>
                </c:pt>
                <c:pt idx="247">
                  <c:v>16384</c:v>
                </c:pt>
                <c:pt idx="248">
                  <c:v>16384</c:v>
                </c:pt>
                <c:pt idx="249">
                  <c:v>16384</c:v>
                </c:pt>
                <c:pt idx="250">
                  <c:v>16384</c:v>
                </c:pt>
                <c:pt idx="251">
                  <c:v>16384</c:v>
                </c:pt>
                <c:pt idx="252">
                  <c:v>16384</c:v>
                </c:pt>
                <c:pt idx="253">
                  <c:v>16384</c:v>
                </c:pt>
                <c:pt idx="254">
                  <c:v>16384</c:v>
                </c:pt>
                <c:pt idx="255">
                  <c:v>16384</c:v>
                </c:pt>
                <c:pt idx="256">
                  <c:v>16384</c:v>
                </c:pt>
                <c:pt idx="257">
                  <c:v>16384</c:v>
                </c:pt>
                <c:pt idx="258">
                  <c:v>16384</c:v>
                </c:pt>
                <c:pt idx="259">
                  <c:v>16384</c:v>
                </c:pt>
                <c:pt idx="260">
                  <c:v>16384</c:v>
                </c:pt>
                <c:pt idx="261">
                  <c:v>16384</c:v>
                </c:pt>
                <c:pt idx="262">
                  <c:v>16384</c:v>
                </c:pt>
                <c:pt idx="263">
                  <c:v>16384</c:v>
                </c:pt>
                <c:pt idx="264">
                  <c:v>16384</c:v>
                </c:pt>
                <c:pt idx="265">
                  <c:v>16384</c:v>
                </c:pt>
                <c:pt idx="266">
                  <c:v>16384</c:v>
                </c:pt>
                <c:pt idx="267">
                  <c:v>16384</c:v>
                </c:pt>
                <c:pt idx="268">
                  <c:v>16384</c:v>
                </c:pt>
                <c:pt idx="269">
                  <c:v>16384</c:v>
                </c:pt>
                <c:pt idx="270">
                  <c:v>16384</c:v>
                </c:pt>
                <c:pt idx="271">
                  <c:v>16384</c:v>
                </c:pt>
                <c:pt idx="272">
                  <c:v>16384</c:v>
                </c:pt>
                <c:pt idx="273">
                  <c:v>16384</c:v>
                </c:pt>
                <c:pt idx="274">
                  <c:v>16384</c:v>
                </c:pt>
                <c:pt idx="275">
                  <c:v>16384</c:v>
                </c:pt>
                <c:pt idx="276">
                  <c:v>16384</c:v>
                </c:pt>
                <c:pt idx="277">
                  <c:v>16384</c:v>
                </c:pt>
                <c:pt idx="278">
                  <c:v>16384</c:v>
                </c:pt>
                <c:pt idx="279">
                  <c:v>16384</c:v>
                </c:pt>
                <c:pt idx="280">
                  <c:v>16384</c:v>
                </c:pt>
                <c:pt idx="281">
                  <c:v>16384</c:v>
                </c:pt>
                <c:pt idx="282">
                  <c:v>16384</c:v>
                </c:pt>
                <c:pt idx="283">
                  <c:v>16384</c:v>
                </c:pt>
                <c:pt idx="284">
                  <c:v>16384</c:v>
                </c:pt>
                <c:pt idx="285">
                  <c:v>16384</c:v>
                </c:pt>
                <c:pt idx="286">
                  <c:v>16384</c:v>
                </c:pt>
                <c:pt idx="287">
                  <c:v>16384</c:v>
                </c:pt>
                <c:pt idx="288">
                  <c:v>16384</c:v>
                </c:pt>
                <c:pt idx="289">
                  <c:v>16384</c:v>
                </c:pt>
                <c:pt idx="290">
                  <c:v>16384</c:v>
                </c:pt>
                <c:pt idx="291">
                  <c:v>16384</c:v>
                </c:pt>
                <c:pt idx="292">
                  <c:v>16384</c:v>
                </c:pt>
                <c:pt idx="293">
                  <c:v>16384</c:v>
                </c:pt>
                <c:pt idx="294">
                  <c:v>16384</c:v>
                </c:pt>
                <c:pt idx="295">
                  <c:v>16384</c:v>
                </c:pt>
                <c:pt idx="296">
                  <c:v>16384</c:v>
                </c:pt>
                <c:pt idx="297">
                  <c:v>16384</c:v>
                </c:pt>
                <c:pt idx="298">
                  <c:v>16384</c:v>
                </c:pt>
                <c:pt idx="299">
                  <c:v>16384</c:v>
                </c:pt>
                <c:pt idx="300">
                  <c:v>16384</c:v>
                </c:pt>
                <c:pt idx="301">
                  <c:v>16384</c:v>
                </c:pt>
                <c:pt idx="302">
                  <c:v>16384</c:v>
                </c:pt>
                <c:pt idx="303">
                  <c:v>16384</c:v>
                </c:pt>
                <c:pt idx="304">
                  <c:v>16384</c:v>
                </c:pt>
                <c:pt idx="305">
                  <c:v>16384</c:v>
                </c:pt>
                <c:pt idx="306">
                  <c:v>16384</c:v>
                </c:pt>
                <c:pt idx="307">
                  <c:v>16384</c:v>
                </c:pt>
                <c:pt idx="308">
                  <c:v>16384</c:v>
                </c:pt>
                <c:pt idx="309">
                  <c:v>16384</c:v>
                </c:pt>
                <c:pt idx="310">
                  <c:v>16384</c:v>
                </c:pt>
                <c:pt idx="311">
                  <c:v>16384</c:v>
                </c:pt>
                <c:pt idx="312">
                  <c:v>16384</c:v>
                </c:pt>
                <c:pt idx="313">
                  <c:v>16384</c:v>
                </c:pt>
                <c:pt idx="314">
                  <c:v>16384</c:v>
                </c:pt>
                <c:pt idx="315">
                  <c:v>16384</c:v>
                </c:pt>
                <c:pt idx="316">
                  <c:v>16384</c:v>
                </c:pt>
                <c:pt idx="317">
                  <c:v>16384</c:v>
                </c:pt>
                <c:pt idx="318">
                  <c:v>16384</c:v>
                </c:pt>
                <c:pt idx="319">
                  <c:v>16384</c:v>
                </c:pt>
                <c:pt idx="320">
                  <c:v>16384</c:v>
                </c:pt>
                <c:pt idx="321">
                  <c:v>16384</c:v>
                </c:pt>
                <c:pt idx="322">
                  <c:v>16384</c:v>
                </c:pt>
                <c:pt idx="323">
                  <c:v>16384</c:v>
                </c:pt>
                <c:pt idx="324">
                  <c:v>16384</c:v>
                </c:pt>
                <c:pt idx="325">
                  <c:v>16384</c:v>
                </c:pt>
                <c:pt idx="326">
                  <c:v>16384</c:v>
                </c:pt>
                <c:pt idx="327">
                  <c:v>16384</c:v>
                </c:pt>
                <c:pt idx="328">
                  <c:v>16384</c:v>
                </c:pt>
                <c:pt idx="329">
                  <c:v>16384</c:v>
                </c:pt>
                <c:pt idx="330">
                  <c:v>16384</c:v>
                </c:pt>
                <c:pt idx="331">
                  <c:v>16384</c:v>
                </c:pt>
                <c:pt idx="332">
                  <c:v>16384</c:v>
                </c:pt>
                <c:pt idx="333">
                  <c:v>16384</c:v>
                </c:pt>
                <c:pt idx="334">
                  <c:v>16384</c:v>
                </c:pt>
                <c:pt idx="335">
                  <c:v>16384</c:v>
                </c:pt>
                <c:pt idx="336">
                  <c:v>16384</c:v>
                </c:pt>
                <c:pt idx="337">
                  <c:v>16384</c:v>
                </c:pt>
                <c:pt idx="338">
                  <c:v>16384</c:v>
                </c:pt>
                <c:pt idx="339">
                  <c:v>16384</c:v>
                </c:pt>
                <c:pt idx="340">
                  <c:v>16384</c:v>
                </c:pt>
                <c:pt idx="341">
                  <c:v>16384</c:v>
                </c:pt>
                <c:pt idx="342">
                  <c:v>16384</c:v>
                </c:pt>
                <c:pt idx="343">
                  <c:v>16384</c:v>
                </c:pt>
                <c:pt idx="344">
                  <c:v>16384</c:v>
                </c:pt>
                <c:pt idx="345">
                  <c:v>16384</c:v>
                </c:pt>
                <c:pt idx="346">
                  <c:v>16384</c:v>
                </c:pt>
                <c:pt idx="347">
                  <c:v>16384</c:v>
                </c:pt>
                <c:pt idx="348">
                  <c:v>16384</c:v>
                </c:pt>
                <c:pt idx="349">
                  <c:v>16384</c:v>
                </c:pt>
                <c:pt idx="350">
                  <c:v>16384</c:v>
                </c:pt>
                <c:pt idx="351">
                  <c:v>16384</c:v>
                </c:pt>
                <c:pt idx="352">
                  <c:v>16384</c:v>
                </c:pt>
                <c:pt idx="353">
                  <c:v>16384</c:v>
                </c:pt>
                <c:pt idx="354">
                  <c:v>16384</c:v>
                </c:pt>
                <c:pt idx="355">
                  <c:v>16384</c:v>
                </c:pt>
                <c:pt idx="356">
                  <c:v>16384</c:v>
                </c:pt>
                <c:pt idx="357">
                  <c:v>16384</c:v>
                </c:pt>
                <c:pt idx="358">
                  <c:v>16384</c:v>
                </c:pt>
                <c:pt idx="359">
                  <c:v>16384</c:v>
                </c:pt>
                <c:pt idx="360">
                  <c:v>16384</c:v>
                </c:pt>
                <c:pt idx="361">
                  <c:v>16384</c:v>
                </c:pt>
                <c:pt idx="362">
                  <c:v>16384</c:v>
                </c:pt>
                <c:pt idx="363">
                  <c:v>16384</c:v>
                </c:pt>
                <c:pt idx="364">
                  <c:v>16384</c:v>
                </c:pt>
                <c:pt idx="365">
                  <c:v>16384</c:v>
                </c:pt>
                <c:pt idx="366">
                  <c:v>16384</c:v>
                </c:pt>
                <c:pt idx="367">
                  <c:v>16384</c:v>
                </c:pt>
                <c:pt idx="368">
                  <c:v>16384</c:v>
                </c:pt>
                <c:pt idx="369">
                  <c:v>16384</c:v>
                </c:pt>
                <c:pt idx="370">
                  <c:v>16384</c:v>
                </c:pt>
                <c:pt idx="371">
                  <c:v>16384</c:v>
                </c:pt>
                <c:pt idx="372">
                  <c:v>16384</c:v>
                </c:pt>
                <c:pt idx="373">
                  <c:v>16384</c:v>
                </c:pt>
                <c:pt idx="374">
                  <c:v>16384</c:v>
                </c:pt>
                <c:pt idx="375">
                  <c:v>16384</c:v>
                </c:pt>
                <c:pt idx="376">
                  <c:v>16384</c:v>
                </c:pt>
                <c:pt idx="377">
                  <c:v>16384</c:v>
                </c:pt>
                <c:pt idx="378">
                  <c:v>16384</c:v>
                </c:pt>
                <c:pt idx="379">
                  <c:v>16384</c:v>
                </c:pt>
                <c:pt idx="380">
                  <c:v>16384</c:v>
                </c:pt>
                <c:pt idx="381">
                  <c:v>16384</c:v>
                </c:pt>
                <c:pt idx="382">
                  <c:v>16384</c:v>
                </c:pt>
                <c:pt idx="383">
                  <c:v>16384</c:v>
                </c:pt>
                <c:pt idx="384">
                  <c:v>16384</c:v>
                </c:pt>
                <c:pt idx="385">
                  <c:v>16384</c:v>
                </c:pt>
                <c:pt idx="386">
                  <c:v>16384</c:v>
                </c:pt>
                <c:pt idx="387">
                  <c:v>16384</c:v>
                </c:pt>
                <c:pt idx="388">
                  <c:v>16384</c:v>
                </c:pt>
                <c:pt idx="389">
                  <c:v>16384</c:v>
                </c:pt>
                <c:pt idx="390">
                  <c:v>16384</c:v>
                </c:pt>
                <c:pt idx="391">
                  <c:v>16384</c:v>
                </c:pt>
                <c:pt idx="392">
                  <c:v>16384</c:v>
                </c:pt>
                <c:pt idx="393">
                  <c:v>16384</c:v>
                </c:pt>
                <c:pt idx="394">
                  <c:v>16384</c:v>
                </c:pt>
                <c:pt idx="395">
                  <c:v>16384</c:v>
                </c:pt>
                <c:pt idx="396">
                  <c:v>16384</c:v>
                </c:pt>
                <c:pt idx="397">
                  <c:v>16384</c:v>
                </c:pt>
                <c:pt idx="398">
                  <c:v>16384</c:v>
                </c:pt>
                <c:pt idx="399">
                  <c:v>16384</c:v>
                </c:pt>
                <c:pt idx="400">
                  <c:v>16384</c:v>
                </c:pt>
                <c:pt idx="401">
                  <c:v>16384</c:v>
                </c:pt>
                <c:pt idx="402">
                  <c:v>16384</c:v>
                </c:pt>
                <c:pt idx="403">
                  <c:v>16384</c:v>
                </c:pt>
                <c:pt idx="404">
                  <c:v>16384</c:v>
                </c:pt>
                <c:pt idx="405">
                  <c:v>16384</c:v>
                </c:pt>
                <c:pt idx="406">
                  <c:v>16384</c:v>
                </c:pt>
                <c:pt idx="407">
                  <c:v>16384</c:v>
                </c:pt>
                <c:pt idx="408">
                  <c:v>16384</c:v>
                </c:pt>
                <c:pt idx="409">
                  <c:v>16384</c:v>
                </c:pt>
                <c:pt idx="410">
                  <c:v>16384</c:v>
                </c:pt>
                <c:pt idx="411">
                  <c:v>16384</c:v>
                </c:pt>
                <c:pt idx="412">
                  <c:v>16384</c:v>
                </c:pt>
                <c:pt idx="413">
                  <c:v>16384</c:v>
                </c:pt>
                <c:pt idx="414">
                  <c:v>16384</c:v>
                </c:pt>
                <c:pt idx="415">
                  <c:v>16384</c:v>
                </c:pt>
                <c:pt idx="416">
                  <c:v>16384</c:v>
                </c:pt>
                <c:pt idx="417">
                  <c:v>16384</c:v>
                </c:pt>
                <c:pt idx="418">
                  <c:v>16384</c:v>
                </c:pt>
                <c:pt idx="419">
                  <c:v>16384</c:v>
                </c:pt>
                <c:pt idx="420">
                  <c:v>16384</c:v>
                </c:pt>
                <c:pt idx="421">
                  <c:v>16384</c:v>
                </c:pt>
                <c:pt idx="422">
                  <c:v>16384</c:v>
                </c:pt>
                <c:pt idx="423">
                  <c:v>16384</c:v>
                </c:pt>
                <c:pt idx="424">
                  <c:v>16384</c:v>
                </c:pt>
                <c:pt idx="425">
                  <c:v>16384</c:v>
                </c:pt>
                <c:pt idx="426">
                  <c:v>16384</c:v>
                </c:pt>
                <c:pt idx="427">
                  <c:v>16384</c:v>
                </c:pt>
                <c:pt idx="428">
                  <c:v>16384</c:v>
                </c:pt>
                <c:pt idx="429">
                  <c:v>16384</c:v>
                </c:pt>
                <c:pt idx="430">
                  <c:v>16384</c:v>
                </c:pt>
                <c:pt idx="431">
                  <c:v>16384</c:v>
                </c:pt>
                <c:pt idx="432">
                  <c:v>16384</c:v>
                </c:pt>
                <c:pt idx="433">
                  <c:v>16384</c:v>
                </c:pt>
                <c:pt idx="434">
                  <c:v>16384</c:v>
                </c:pt>
                <c:pt idx="435">
                  <c:v>16384</c:v>
                </c:pt>
                <c:pt idx="436">
                  <c:v>16384</c:v>
                </c:pt>
                <c:pt idx="437">
                  <c:v>16384</c:v>
                </c:pt>
                <c:pt idx="438">
                  <c:v>16384</c:v>
                </c:pt>
                <c:pt idx="439">
                  <c:v>16384</c:v>
                </c:pt>
                <c:pt idx="440">
                  <c:v>16384</c:v>
                </c:pt>
                <c:pt idx="441">
                  <c:v>16384</c:v>
                </c:pt>
                <c:pt idx="442">
                  <c:v>16384</c:v>
                </c:pt>
                <c:pt idx="443">
                  <c:v>16384</c:v>
                </c:pt>
                <c:pt idx="444">
                  <c:v>16384</c:v>
                </c:pt>
                <c:pt idx="445">
                  <c:v>16384</c:v>
                </c:pt>
                <c:pt idx="446">
                  <c:v>16384</c:v>
                </c:pt>
                <c:pt idx="447">
                  <c:v>16384</c:v>
                </c:pt>
                <c:pt idx="448">
                  <c:v>16384</c:v>
                </c:pt>
                <c:pt idx="449">
                  <c:v>16384</c:v>
                </c:pt>
                <c:pt idx="450">
                  <c:v>16384</c:v>
                </c:pt>
                <c:pt idx="451">
                  <c:v>16384</c:v>
                </c:pt>
                <c:pt idx="452">
                  <c:v>16384</c:v>
                </c:pt>
                <c:pt idx="453">
                  <c:v>16384</c:v>
                </c:pt>
                <c:pt idx="454">
                  <c:v>16384</c:v>
                </c:pt>
                <c:pt idx="455">
                  <c:v>16384</c:v>
                </c:pt>
                <c:pt idx="456">
                  <c:v>16384</c:v>
                </c:pt>
                <c:pt idx="457">
                  <c:v>16384</c:v>
                </c:pt>
                <c:pt idx="458">
                  <c:v>16384</c:v>
                </c:pt>
                <c:pt idx="459">
                  <c:v>16384</c:v>
                </c:pt>
                <c:pt idx="460">
                  <c:v>16384</c:v>
                </c:pt>
                <c:pt idx="461">
                  <c:v>16384</c:v>
                </c:pt>
                <c:pt idx="462">
                  <c:v>16384</c:v>
                </c:pt>
                <c:pt idx="463">
                  <c:v>16384</c:v>
                </c:pt>
                <c:pt idx="464">
                  <c:v>16384</c:v>
                </c:pt>
                <c:pt idx="465">
                  <c:v>16384</c:v>
                </c:pt>
                <c:pt idx="466">
                  <c:v>16384</c:v>
                </c:pt>
                <c:pt idx="467">
                  <c:v>16384</c:v>
                </c:pt>
                <c:pt idx="468">
                  <c:v>16384</c:v>
                </c:pt>
                <c:pt idx="469">
                  <c:v>16384</c:v>
                </c:pt>
                <c:pt idx="470">
                  <c:v>16384</c:v>
                </c:pt>
                <c:pt idx="471">
                  <c:v>16384</c:v>
                </c:pt>
                <c:pt idx="472">
                  <c:v>16384</c:v>
                </c:pt>
                <c:pt idx="473">
                  <c:v>16384</c:v>
                </c:pt>
                <c:pt idx="474">
                  <c:v>16384</c:v>
                </c:pt>
                <c:pt idx="475">
                  <c:v>16384</c:v>
                </c:pt>
                <c:pt idx="476">
                  <c:v>16384</c:v>
                </c:pt>
                <c:pt idx="477">
                  <c:v>16384</c:v>
                </c:pt>
                <c:pt idx="478">
                  <c:v>16384</c:v>
                </c:pt>
                <c:pt idx="479">
                  <c:v>16384</c:v>
                </c:pt>
                <c:pt idx="480">
                  <c:v>16384</c:v>
                </c:pt>
                <c:pt idx="481">
                  <c:v>16384</c:v>
                </c:pt>
                <c:pt idx="482">
                  <c:v>16384</c:v>
                </c:pt>
                <c:pt idx="483">
                  <c:v>16384</c:v>
                </c:pt>
                <c:pt idx="484">
                  <c:v>16384</c:v>
                </c:pt>
                <c:pt idx="485">
                  <c:v>16384</c:v>
                </c:pt>
                <c:pt idx="486">
                  <c:v>16384</c:v>
                </c:pt>
                <c:pt idx="487">
                  <c:v>16384</c:v>
                </c:pt>
                <c:pt idx="488">
                  <c:v>16384</c:v>
                </c:pt>
                <c:pt idx="489">
                  <c:v>16384</c:v>
                </c:pt>
                <c:pt idx="490">
                  <c:v>16384</c:v>
                </c:pt>
                <c:pt idx="491">
                  <c:v>16384</c:v>
                </c:pt>
                <c:pt idx="492">
                  <c:v>16384</c:v>
                </c:pt>
                <c:pt idx="493">
                  <c:v>16384</c:v>
                </c:pt>
                <c:pt idx="494">
                  <c:v>16384</c:v>
                </c:pt>
                <c:pt idx="495">
                  <c:v>16384</c:v>
                </c:pt>
                <c:pt idx="496">
                  <c:v>16384</c:v>
                </c:pt>
                <c:pt idx="497">
                  <c:v>16384</c:v>
                </c:pt>
                <c:pt idx="498">
                  <c:v>16384</c:v>
                </c:pt>
                <c:pt idx="499">
                  <c:v>16384</c:v>
                </c:pt>
                <c:pt idx="500">
                  <c:v>16384</c:v>
                </c:pt>
                <c:pt idx="501">
                  <c:v>16384</c:v>
                </c:pt>
                <c:pt idx="502">
                  <c:v>16384</c:v>
                </c:pt>
                <c:pt idx="503">
                  <c:v>16384</c:v>
                </c:pt>
                <c:pt idx="504">
                  <c:v>16384</c:v>
                </c:pt>
                <c:pt idx="505">
                  <c:v>16384</c:v>
                </c:pt>
                <c:pt idx="506">
                  <c:v>16384</c:v>
                </c:pt>
                <c:pt idx="507">
                  <c:v>16384</c:v>
                </c:pt>
                <c:pt idx="508">
                  <c:v>16384</c:v>
                </c:pt>
                <c:pt idx="509">
                  <c:v>16384</c:v>
                </c:pt>
                <c:pt idx="510">
                  <c:v>16384</c:v>
                </c:pt>
                <c:pt idx="511">
                  <c:v>16384</c:v>
                </c:pt>
                <c:pt idx="512">
                  <c:v>16384</c:v>
                </c:pt>
                <c:pt idx="513">
                  <c:v>16384</c:v>
                </c:pt>
                <c:pt idx="514">
                  <c:v>16384</c:v>
                </c:pt>
                <c:pt idx="515">
                  <c:v>16384</c:v>
                </c:pt>
                <c:pt idx="516">
                  <c:v>16384</c:v>
                </c:pt>
                <c:pt idx="517">
                  <c:v>16384</c:v>
                </c:pt>
                <c:pt idx="518">
                  <c:v>16384</c:v>
                </c:pt>
                <c:pt idx="519">
                  <c:v>16384</c:v>
                </c:pt>
                <c:pt idx="520">
                  <c:v>16384</c:v>
                </c:pt>
                <c:pt idx="521">
                  <c:v>16384</c:v>
                </c:pt>
                <c:pt idx="522">
                  <c:v>16384</c:v>
                </c:pt>
                <c:pt idx="523">
                  <c:v>16384</c:v>
                </c:pt>
                <c:pt idx="524">
                  <c:v>16384</c:v>
                </c:pt>
                <c:pt idx="525">
                  <c:v>16384</c:v>
                </c:pt>
                <c:pt idx="526">
                  <c:v>16384</c:v>
                </c:pt>
                <c:pt idx="527">
                  <c:v>16384</c:v>
                </c:pt>
                <c:pt idx="528">
                  <c:v>16384</c:v>
                </c:pt>
                <c:pt idx="529">
                  <c:v>16384</c:v>
                </c:pt>
                <c:pt idx="530">
                  <c:v>16384</c:v>
                </c:pt>
                <c:pt idx="531">
                  <c:v>16384</c:v>
                </c:pt>
                <c:pt idx="532">
                  <c:v>16384</c:v>
                </c:pt>
                <c:pt idx="533">
                  <c:v>16384</c:v>
                </c:pt>
                <c:pt idx="534">
                  <c:v>16384</c:v>
                </c:pt>
                <c:pt idx="535">
                  <c:v>16384</c:v>
                </c:pt>
                <c:pt idx="536">
                  <c:v>16384</c:v>
                </c:pt>
                <c:pt idx="537">
                  <c:v>16384</c:v>
                </c:pt>
                <c:pt idx="538">
                  <c:v>16384</c:v>
                </c:pt>
                <c:pt idx="539">
                  <c:v>16384</c:v>
                </c:pt>
                <c:pt idx="540">
                  <c:v>16384</c:v>
                </c:pt>
                <c:pt idx="541">
                  <c:v>16384</c:v>
                </c:pt>
                <c:pt idx="542">
                  <c:v>16384</c:v>
                </c:pt>
                <c:pt idx="543">
                  <c:v>16384</c:v>
                </c:pt>
                <c:pt idx="544">
                  <c:v>16384</c:v>
                </c:pt>
                <c:pt idx="545">
                  <c:v>16384</c:v>
                </c:pt>
                <c:pt idx="546">
                  <c:v>16384</c:v>
                </c:pt>
                <c:pt idx="547">
                  <c:v>16384</c:v>
                </c:pt>
                <c:pt idx="548">
                  <c:v>16384</c:v>
                </c:pt>
                <c:pt idx="549">
                  <c:v>16384</c:v>
                </c:pt>
                <c:pt idx="550">
                  <c:v>16384</c:v>
                </c:pt>
                <c:pt idx="551">
                  <c:v>16384</c:v>
                </c:pt>
                <c:pt idx="552">
                  <c:v>16384</c:v>
                </c:pt>
                <c:pt idx="553">
                  <c:v>16384</c:v>
                </c:pt>
                <c:pt idx="554">
                  <c:v>16384</c:v>
                </c:pt>
                <c:pt idx="555">
                  <c:v>16384</c:v>
                </c:pt>
                <c:pt idx="556">
                  <c:v>16384</c:v>
                </c:pt>
                <c:pt idx="557">
                  <c:v>16384</c:v>
                </c:pt>
                <c:pt idx="558">
                  <c:v>16384</c:v>
                </c:pt>
                <c:pt idx="559">
                  <c:v>16384</c:v>
                </c:pt>
                <c:pt idx="560">
                  <c:v>16384</c:v>
                </c:pt>
                <c:pt idx="561">
                  <c:v>16384</c:v>
                </c:pt>
                <c:pt idx="562">
                  <c:v>16384</c:v>
                </c:pt>
                <c:pt idx="563">
                  <c:v>16384</c:v>
                </c:pt>
                <c:pt idx="564">
                  <c:v>16384</c:v>
                </c:pt>
                <c:pt idx="565">
                  <c:v>16384</c:v>
                </c:pt>
                <c:pt idx="566">
                  <c:v>16384</c:v>
                </c:pt>
                <c:pt idx="567">
                  <c:v>16384</c:v>
                </c:pt>
                <c:pt idx="568">
                  <c:v>16384</c:v>
                </c:pt>
                <c:pt idx="569">
                  <c:v>16384</c:v>
                </c:pt>
                <c:pt idx="570">
                  <c:v>16384</c:v>
                </c:pt>
                <c:pt idx="571">
                  <c:v>16384</c:v>
                </c:pt>
                <c:pt idx="572">
                  <c:v>16384</c:v>
                </c:pt>
                <c:pt idx="573">
                  <c:v>16384</c:v>
                </c:pt>
                <c:pt idx="574">
                  <c:v>16384</c:v>
                </c:pt>
                <c:pt idx="575">
                  <c:v>16384</c:v>
                </c:pt>
                <c:pt idx="576">
                  <c:v>16384</c:v>
                </c:pt>
                <c:pt idx="577">
                  <c:v>16384</c:v>
                </c:pt>
                <c:pt idx="578">
                  <c:v>16384</c:v>
                </c:pt>
                <c:pt idx="579">
                  <c:v>16384</c:v>
                </c:pt>
                <c:pt idx="580">
                  <c:v>16384</c:v>
                </c:pt>
                <c:pt idx="581">
                  <c:v>16384</c:v>
                </c:pt>
                <c:pt idx="582">
                  <c:v>16384</c:v>
                </c:pt>
                <c:pt idx="583">
                  <c:v>16384</c:v>
                </c:pt>
                <c:pt idx="584">
                  <c:v>16384</c:v>
                </c:pt>
                <c:pt idx="585">
                  <c:v>16384</c:v>
                </c:pt>
                <c:pt idx="586">
                  <c:v>16384</c:v>
                </c:pt>
                <c:pt idx="587">
                  <c:v>16384</c:v>
                </c:pt>
                <c:pt idx="588">
                  <c:v>16384</c:v>
                </c:pt>
                <c:pt idx="589">
                  <c:v>16384</c:v>
                </c:pt>
                <c:pt idx="590">
                  <c:v>16384</c:v>
                </c:pt>
                <c:pt idx="591">
                  <c:v>16384</c:v>
                </c:pt>
                <c:pt idx="592">
                  <c:v>16384</c:v>
                </c:pt>
                <c:pt idx="593">
                  <c:v>16384</c:v>
                </c:pt>
                <c:pt idx="594">
                  <c:v>16384</c:v>
                </c:pt>
                <c:pt idx="595">
                  <c:v>16384</c:v>
                </c:pt>
                <c:pt idx="596">
                  <c:v>16384</c:v>
                </c:pt>
                <c:pt idx="597">
                  <c:v>16384</c:v>
                </c:pt>
                <c:pt idx="598">
                  <c:v>16384</c:v>
                </c:pt>
                <c:pt idx="599">
                  <c:v>16384</c:v>
                </c:pt>
                <c:pt idx="600">
                  <c:v>16384</c:v>
                </c:pt>
                <c:pt idx="601">
                  <c:v>16384</c:v>
                </c:pt>
                <c:pt idx="602">
                  <c:v>16384</c:v>
                </c:pt>
                <c:pt idx="603">
                  <c:v>16384</c:v>
                </c:pt>
                <c:pt idx="604">
                  <c:v>16384</c:v>
                </c:pt>
                <c:pt idx="605">
                  <c:v>16384</c:v>
                </c:pt>
                <c:pt idx="606">
                  <c:v>16384</c:v>
                </c:pt>
                <c:pt idx="607">
                  <c:v>16384</c:v>
                </c:pt>
                <c:pt idx="608">
                  <c:v>16384</c:v>
                </c:pt>
                <c:pt idx="609">
                  <c:v>16384</c:v>
                </c:pt>
                <c:pt idx="610">
                  <c:v>16384</c:v>
                </c:pt>
                <c:pt idx="611">
                  <c:v>16384</c:v>
                </c:pt>
                <c:pt idx="612">
                  <c:v>16384</c:v>
                </c:pt>
                <c:pt idx="613">
                  <c:v>16384</c:v>
                </c:pt>
                <c:pt idx="614">
                  <c:v>16384</c:v>
                </c:pt>
                <c:pt idx="615">
                  <c:v>16384</c:v>
                </c:pt>
                <c:pt idx="616">
                  <c:v>16384</c:v>
                </c:pt>
                <c:pt idx="617">
                  <c:v>16384</c:v>
                </c:pt>
                <c:pt idx="618">
                  <c:v>16384</c:v>
                </c:pt>
                <c:pt idx="619">
                  <c:v>16384</c:v>
                </c:pt>
                <c:pt idx="620">
                  <c:v>16384</c:v>
                </c:pt>
                <c:pt idx="621">
                  <c:v>16384</c:v>
                </c:pt>
                <c:pt idx="622">
                  <c:v>16384</c:v>
                </c:pt>
                <c:pt idx="623">
                  <c:v>16384</c:v>
                </c:pt>
                <c:pt idx="624">
                  <c:v>16384</c:v>
                </c:pt>
                <c:pt idx="625">
                  <c:v>16384</c:v>
                </c:pt>
                <c:pt idx="626">
                  <c:v>16384</c:v>
                </c:pt>
                <c:pt idx="627">
                  <c:v>16384</c:v>
                </c:pt>
                <c:pt idx="628">
                  <c:v>16384</c:v>
                </c:pt>
                <c:pt idx="629">
                  <c:v>16384</c:v>
                </c:pt>
                <c:pt idx="630">
                  <c:v>16384</c:v>
                </c:pt>
                <c:pt idx="631">
                  <c:v>16384</c:v>
                </c:pt>
                <c:pt idx="632">
                  <c:v>16384</c:v>
                </c:pt>
                <c:pt idx="633">
                  <c:v>16384</c:v>
                </c:pt>
                <c:pt idx="634">
                  <c:v>16384</c:v>
                </c:pt>
                <c:pt idx="635">
                  <c:v>16384</c:v>
                </c:pt>
                <c:pt idx="636">
                  <c:v>16384</c:v>
                </c:pt>
                <c:pt idx="637">
                  <c:v>16384</c:v>
                </c:pt>
                <c:pt idx="638">
                  <c:v>16384</c:v>
                </c:pt>
                <c:pt idx="639">
                  <c:v>16384</c:v>
                </c:pt>
                <c:pt idx="640">
                  <c:v>16384</c:v>
                </c:pt>
                <c:pt idx="641">
                  <c:v>16384</c:v>
                </c:pt>
                <c:pt idx="642">
                  <c:v>16384</c:v>
                </c:pt>
                <c:pt idx="643">
                  <c:v>16384</c:v>
                </c:pt>
                <c:pt idx="644">
                  <c:v>16384</c:v>
                </c:pt>
                <c:pt idx="645">
                  <c:v>16384</c:v>
                </c:pt>
                <c:pt idx="646">
                  <c:v>16384</c:v>
                </c:pt>
                <c:pt idx="647">
                  <c:v>16384</c:v>
                </c:pt>
                <c:pt idx="648">
                  <c:v>16384</c:v>
                </c:pt>
                <c:pt idx="649">
                  <c:v>16384</c:v>
                </c:pt>
                <c:pt idx="650">
                  <c:v>16384</c:v>
                </c:pt>
                <c:pt idx="651">
                  <c:v>16384</c:v>
                </c:pt>
                <c:pt idx="652">
                  <c:v>16384</c:v>
                </c:pt>
                <c:pt idx="653">
                  <c:v>16384</c:v>
                </c:pt>
                <c:pt idx="654">
                  <c:v>16384</c:v>
                </c:pt>
                <c:pt idx="655">
                  <c:v>16384</c:v>
                </c:pt>
                <c:pt idx="656">
                  <c:v>16384</c:v>
                </c:pt>
                <c:pt idx="657">
                  <c:v>16384</c:v>
                </c:pt>
                <c:pt idx="658">
                  <c:v>16384</c:v>
                </c:pt>
                <c:pt idx="659">
                  <c:v>16384</c:v>
                </c:pt>
                <c:pt idx="660">
                  <c:v>16384</c:v>
                </c:pt>
                <c:pt idx="661">
                  <c:v>16384</c:v>
                </c:pt>
                <c:pt idx="662">
                  <c:v>16384</c:v>
                </c:pt>
                <c:pt idx="663">
                  <c:v>16384</c:v>
                </c:pt>
                <c:pt idx="664">
                  <c:v>16384</c:v>
                </c:pt>
                <c:pt idx="665">
                  <c:v>16384</c:v>
                </c:pt>
                <c:pt idx="666">
                  <c:v>16384</c:v>
                </c:pt>
                <c:pt idx="667">
                  <c:v>16384</c:v>
                </c:pt>
                <c:pt idx="668">
                  <c:v>16384</c:v>
                </c:pt>
                <c:pt idx="669">
                  <c:v>16384</c:v>
                </c:pt>
                <c:pt idx="670">
                  <c:v>16384</c:v>
                </c:pt>
                <c:pt idx="671">
                  <c:v>16384</c:v>
                </c:pt>
                <c:pt idx="672">
                  <c:v>16384</c:v>
                </c:pt>
                <c:pt idx="673">
                  <c:v>16384</c:v>
                </c:pt>
                <c:pt idx="674">
                  <c:v>16384</c:v>
                </c:pt>
                <c:pt idx="675">
                  <c:v>16384</c:v>
                </c:pt>
                <c:pt idx="676">
                  <c:v>16384</c:v>
                </c:pt>
                <c:pt idx="677">
                  <c:v>16384</c:v>
                </c:pt>
                <c:pt idx="678">
                  <c:v>16384</c:v>
                </c:pt>
                <c:pt idx="679">
                  <c:v>16384</c:v>
                </c:pt>
                <c:pt idx="680">
                  <c:v>16384</c:v>
                </c:pt>
                <c:pt idx="681">
                  <c:v>16384</c:v>
                </c:pt>
                <c:pt idx="682">
                  <c:v>16384</c:v>
                </c:pt>
                <c:pt idx="683">
                  <c:v>16384</c:v>
                </c:pt>
                <c:pt idx="684">
                  <c:v>16384</c:v>
                </c:pt>
                <c:pt idx="685">
                  <c:v>16384</c:v>
                </c:pt>
                <c:pt idx="686">
                  <c:v>16384</c:v>
                </c:pt>
                <c:pt idx="687">
                  <c:v>16384</c:v>
                </c:pt>
                <c:pt idx="688">
                  <c:v>16384</c:v>
                </c:pt>
                <c:pt idx="689">
                  <c:v>16384</c:v>
                </c:pt>
                <c:pt idx="690">
                  <c:v>16384</c:v>
                </c:pt>
                <c:pt idx="691">
                  <c:v>16384</c:v>
                </c:pt>
                <c:pt idx="692">
                  <c:v>16384</c:v>
                </c:pt>
                <c:pt idx="693">
                  <c:v>16384</c:v>
                </c:pt>
                <c:pt idx="694">
                  <c:v>16384</c:v>
                </c:pt>
                <c:pt idx="695">
                  <c:v>16384</c:v>
                </c:pt>
                <c:pt idx="696">
                  <c:v>16384</c:v>
                </c:pt>
                <c:pt idx="697">
                  <c:v>16384</c:v>
                </c:pt>
                <c:pt idx="698">
                  <c:v>16384</c:v>
                </c:pt>
                <c:pt idx="699">
                  <c:v>16384</c:v>
                </c:pt>
                <c:pt idx="700">
                  <c:v>16384</c:v>
                </c:pt>
                <c:pt idx="701">
                  <c:v>16384</c:v>
                </c:pt>
                <c:pt idx="702">
                  <c:v>16384</c:v>
                </c:pt>
                <c:pt idx="703">
                  <c:v>16384</c:v>
                </c:pt>
                <c:pt idx="704">
                  <c:v>16384</c:v>
                </c:pt>
                <c:pt idx="705">
                  <c:v>16384</c:v>
                </c:pt>
                <c:pt idx="706">
                  <c:v>16384</c:v>
                </c:pt>
                <c:pt idx="707">
                  <c:v>16384</c:v>
                </c:pt>
                <c:pt idx="708">
                  <c:v>16384</c:v>
                </c:pt>
                <c:pt idx="709">
                  <c:v>16384</c:v>
                </c:pt>
                <c:pt idx="710">
                  <c:v>16384</c:v>
                </c:pt>
                <c:pt idx="711">
                  <c:v>16384</c:v>
                </c:pt>
                <c:pt idx="712">
                  <c:v>16384</c:v>
                </c:pt>
                <c:pt idx="713">
                  <c:v>16384</c:v>
                </c:pt>
                <c:pt idx="714">
                  <c:v>16384</c:v>
                </c:pt>
                <c:pt idx="715">
                  <c:v>16384</c:v>
                </c:pt>
                <c:pt idx="716">
                  <c:v>16384</c:v>
                </c:pt>
                <c:pt idx="717">
                  <c:v>16384</c:v>
                </c:pt>
                <c:pt idx="718">
                  <c:v>16384</c:v>
                </c:pt>
                <c:pt idx="719">
                  <c:v>16384</c:v>
                </c:pt>
                <c:pt idx="720">
                  <c:v>16384</c:v>
                </c:pt>
                <c:pt idx="721">
                  <c:v>16384</c:v>
                </c:pt>
                <c:pt idx="722">
                  <c:v>16384</c:v>
                </c:pt>
                <c:pt idx="723">
                  <c:v>16384</c:v>
                </c:pt>
                <c:pt idx="724">
                  <c:v>16384</c:v>
                </c:pt>
                <c:pt idx="725">
                  <c:v>16384</c:v>
                </c:pt>
                <c:pt idx="726">
                  <c:v>16384</c:v>
                </c:pt>
                <c:pt idx="727">
                  <c:v>16384</c:v>
                </c:pt>
                <c:pt idx="728">
                  <c:v>16384</c:v>
                </c:pt>
                <c:pt idx="729">
                  <c:v>16384</c:v>
                </c:pt>
                <c:pt idx="730">
                  <c:v>16384</c:v>
                </c:pt>
                <c:pt idx="731">
                  <c:v>16384</c:v>
                </c:pt>
                <c:pt idx="732">
                  <c:v>16384</c:v>
                </c:pt>
                <c:pt idx="733">
                  <c:v>16384</c:v>
                </c:pt>
                <c:pt idx="734">
                  <c:v>16384</c:v>
                </c:pt>
                <c:pt idx="735">
                  <c:v>16384</c:v>
                </c:pt>
                <c:pt idx="736">
                  <c:v>16384</c:v>
                </c:pt>
                <c:pt idx="737">
                  <c:v>16384</c:v>
                </c:pt>
                <c:pt idx="738">
                  <c:v>16384</c:v>
                </c:pt>
                <c:pt idx="739">
                  <c:v>16384</c:v>
                </c:pt>
                <c:pt idx="740">
                  <c:v>16384</c:v>
                </c:pt>
                <c:pt idx="741">
                  <c:v>16384</c:v>
                </c:pt>
                <c:pt idx="742">
                  <c:v>16384</c:v>
                </c:pt>
                <c:pt idx="743">
                  <c:v>16384</c:v>
                </c:pt>
                <c:pt idx="744">
                  <c:v>16384</c:v>
                </c:pt>
                <c:pt idx="745">
                  <c:v>16384</c:v>
                </c:pt>
                <c:pt idx="746">
                  <c:v>16384</c:v>
                </c:pt>
                <c:pt idx="747">
                  <c:v>16384</c:v>
                </c:pt>
                <c:pt idx="748">
                  <c:v>16384</c:v>
                </c:pt>
                <c:pt idx="749">
                  <c:v>16384</c:v>
                </c:pt>
                <c:pt idx="750">
                  <c:v>16384</c:v>
                </c:pt>
                <c:pt idx="751">
                  <c:v>16384</c:v>
                </c:pt>
                <c:pt idx="752">
                  <c:v>16384</c:v>
                </c:pt>
                <c:pt idx="753">
                  <c:v>16384</c:v>
                </c:pt>
                <c:pt idx="754">
                  <c:v>16384</c:v>
                </c:pt>
                <c:pt idx="755">
                  <c:v>16384</c:v>
                </c:pt>
                <c:pt idx="756">
                  <c:v>16384</c:v>
                </c:pt>
                <c:pt idx="757">
                  <c:v>16384</c:v>
                </c:pt>
                <c:pt idx="758">
                  <c:v>16384</c:v>
                </c:pt>
                <c:pt idx="759">
                  <c:v>16384</c:v>
                </c:pt>
                <c:pt idx="760">
                  <c:v>16384</c:v>
                </c:pt>
                <c:pt idx="761">
                  <c:v>16384</c:v>
                </c:pt>
                <c:pt idx="762">
                  <c:v>16384</c:v>
                </c:pt>
                <c:pt idx="763">
                  <c:v>16384</c:v>
                </c:pt>
                <c:pt idx="764">
                  <c:v>16384</c:v>
                </c:pt>
                <c:pt idx="765">
                  <c:v>16384</c:v>
                </c:pt>
                <c:pt idx="766">
                  <c:v>16384</c:v>
                </c:pt>
                <c:pt idx="767">
                  <c:v>16384</c:v>
                </c:pt>
                <c:pt idx="768">
                  <c:v>16384</c:v>
                </c:pt>
                <c:pt idx="769">
                  <c:v>16384</c:v>
                </c:pt>
                <c:pt idx="770">
                  <c:v>16384</c:v>
                </c:pt>
                <c:pt idx="771">
                  <c:v>16384</c:v>
                </c:pt>
                <c:pt idx="772">
                  <c:v>16384</c:v>
                </c:pt>
                <c:pt idx="773">
                  <c:v>16384</c:v>
                </c:pt>
                <c:pt idx="774">
                  <c:v>16384</c:v>
                </c:pt>
                <c:pt idx="775">
                  <c:v>16384</c:v>
                </c:pt>
                <c:pt idx="776">
                  <c:v>16384</c:v>
                </c:pt>
                <c:pt idx="777">
                  <c:v>16384</c:v>
                </c:pt>
                <c:pt idx="778">
                  <c:v>16384</c:v>
                </c:pt>
                <c:pt idx="779">
                  <c:v>16384</c:v>
                </c:pt>
                <c:pt idx="780">
                  <c:v>16384</c:v>
                </c:pt>
                <c:pt idx="781">
                  <c:v>16384</c:v>
                </c:pt>
                <c:pt idx="782">
                  <c:v>16384</c:v>
                </c:pt>
                <c:pt idx="783">
                  <c:v>16384</c:v>
                </c:pt>
                <c:pt idx="784">
                  <c:v>16384</c:v>
                </c:pt>
                <c:pt idx="785">
                  <c:v>16384</c:v>
                </c:pt>
                <c:pt idx="786">
                  <c:v>16384</c:v>
                </c:pt>
                <c:pt idx="787">
                  <c:v>16384</c:v>
                </c:pt>
                <c:pt idx="788">
                  <c:v>16384</c:v>
                </c:pt>
                <c:pt idx="789">
                  <c:v>16384</c:v>
                </c:pt>
                <c:pt idx="790">
                  <c:v>16384</c:v>
                </c:pt>
                <c:pt idx="791">
                  <c:v>16384</c:v>
                </c:pt>
                <c:pt idx="792">
                  <c:v>16384</c:v>
                </c:pt>
                <c:pt idx="793">
                  <c:v>16384</c:v>
                </c:pt>
                <c:pt idx="794">
                  <c:v>16384</c:v>
                </c:pt>
                <c:pt idx="795">
                  <c:v>16384</c:v>
                </c:pt>
                <c:pt idx="796">
                  <c:v>16384</c:v>
                </c:pt>
                <c:pt idx="797">
                  <c:v>16384</c:v>
                </c:pt>
                <c:pt idx="798">
                  <c:v>16384</c:v>
                </c:pt>
                <c:pt idx="799">
                  <c:v>16384</c:v>
                </c:pt>
                <c:pt idx="800">
                  <c:v>16384</c:v>
                </c:pt>
                <c:pt idx="801">
                  <c:v>16384</c:v>
                </c:pt>
                <c:pt idx="802">
                  <c:v>16384</c:v>
                </c:pt>
                <c:pt idx="803">
                  <c:v>16384</c:v>
                </c:pt>
                <c:pt idx="804">
                  <c:v>16384</c:v>
                </c:pt>
                <c:pt idx="805">
                  <c:v>16384</c:v>
                </c:pt>
                <c:pt idx="806">
                  <c:v>16384</c:v>
                </c:pt>
                <c:pt idx="807">
                  <c:v>16384</c:v>
                </c:pt>
                <c:pt idx="808">
                  <c:v>16384</c:v>
                </c:pt>
                <c:pt idx="809">
                  <c:v>16384</c:v>
                </c:pt>
                <c:pt idx="810">
                  <c:v>16384</c:v>
                </c:pt>
                <c:pt idx="811">
                  <c:v>16384</c:v>
                </c:pt>
                <c:pt idx="812">
                  <c:v>16384</c:v>
                </c:pt>
                <c:pt idx="813">
                  <c:v>16384</c:v>
                </c:pt>
                <c:pt idx="814">
                  <c:v>16384</c:v>
                </c:pt>
                <c:pt idx="815">
                  <c:v>16384</c:v>
                </c:pt>
                <c:pt idx="816">
                  <c:v>16384</c:v>
                </c:pt>
                <c:pt idx="817">
                  <c:v>16384</c:v>
                </c:pt>
                <c:pt idx="818">
                  <c:v>16384</c:v>
                </c:pt>
                <c:pt idx="819">
                  <c:v>16384</c:v>
                </c:pt>
                <c:pt idx="820">
                  <c:v>16384</c:v>
                </c:pt>
                <c:pt idx="821">
                  <c:v>16384</c:v>
                </c:pt>
                <c:pt idx="822">
                  <c:v>16384</c:v>
                </c:pt>
                <c:pt idx="823">
                  <c:v>16384</c:v>
                </c:pt>
                <c:pt idx="824">
                  <c:v>16384</c:v>
                </c:pt>
                <c:pt idx="825">
                  <c:v>16384</c:v>
                </c:pt>
                <c:pt idx="826">
                  <c:v>16384</c:v>
                </c:pt>
                <c:pt idx="827">
                  <c:v>16384</c:v>
                </c:pt>
                <c:pt idx="828">
                  <c:v>16384</c:v>
                </c:pt>
                <c:pt idx="829">
                  <c:v>16384</c:v>
                </c:pt>
                <c:pt idx="830">
                  <c:v>16384</c:v>
                </c:pt>
                <c:pt idx="831">
                  <c:v>16384</c:v>
                </c:pt>
                <c:pt idx="832">
                  <c:v>16384</c:v>
                </c:pt>
                <c:pt idx="833">
                  <c:v>16384</c:v>
                </c:pt>
                <c:pt idx="834">
                  <c:v>16384</c:v>
                </c:pt>
                <c:pt idx="835">
                  <c:v>16384</c:v>
                </c:pt>
                <c:pt idx="836">
                  <c:v>16384</c:v>
                </c:pt>
                <c:pt idx="837">
                  <c:v>16384</c:v>
                </c:pt>
                <c:pt idx="838">
                  <c:v>16384</c:v>
                </c:pt>
                <c:pt idx="839">
                  <c:v>16384</c:v>
                </c:pt>
                <c:pt idx="840">
                  <c:v>16384</c:v>
                </c:pt>
                <c:pt idx="841">
                  <c:v>16384</c:v>
                </c:pt>
                <c:pt idx="842">
                  <c:v>16384</c:v>
                </c:pt>
                <c:pt idx="843">
                  <c:v>16384</c:v>
                </c:pt>
                <c:pt idx="844">
                  <c:v>16384</c:v>
                </c:pt>
                <c:pt idx="845">
                  <c:v>16384</c:v>
                </c:pt>
                <c:pt idx="846">
                  <c:v>16384</c:v>
                </c:pt>
                <c:pt idx="847">
                  <c:v>16384</c:v>
                </c:pt>
                <c:pt idx="848">
                  <c:v>16384</c:v>
                </c:pt>
                <c:pt idx="849">
                  <c:v>16384</c:v>
                </c:pt>
                <c:pt idx="850">
                  <c:v>16384</c:v>
                </c:pt>
                <c:pt idx="851">
                  <c:v>16384</c:v>
                </c:pt>
                <c:pt idx="852">
                  <c:v>16384</c:v>
                </c:pt>
                <c:pt idx="853">
                  <c:v>16384</c:v>
                </c:pt>
                <c:pt idx="854">
                  <c:v>16384</c:v>
                </c:pt>
                <c:pt idx="855">
                  <c:v>16384</c:v>
                </c:pt>
                <c:pt idx="856">
                  <c:v>16384</c:v>
                </c:pt>
                <c:pt idx="857">
                  <c:v>16384</c:v>
                </c:pt>
                <c:pt idx="858">
                  <c:v>16384</c:v>
                </c:pt>
                <c:pt idx="859">
                  <c:v>16384</c:v>
                </c:pt>
                <c:pt idx="860">
                  <c:v>16384</c:v>
                </c:pt>
                <c:pt idx="861">
                  <c:v>16384</c:v>
                </c:pt>
                <c:pt idx="862">
                  <c:v>16384</c:v>
                </c:pt>
                <c:pt idx="863">
                  <c:v>16384</c:v>
                </c:pt>
                <c:pt idx="864">
                  <c:v>16384</c:v>
                </c:pt>
                <c:pt idx="865">
                  <c:v>16384</c:v>
                </c:pt>
                <c:pt idx="866">
                  <c:v>16384</c:v>
                </c:pt>
                <c:pt idx="867">
                  <c:v>16384</c:v>
                </c:pt>
                <c:pt idx="868">
                  <c:v>16384</c:v>
                </c:pt>
                <c:pt idx="869">
                  <c:v>16384</c:v>
                </c:pt>
                <c:pt idx="870">
                  <c:v>16384</c:v>
                </c:pt>
                <c:pt idx="871">
                  <c:v>16384</c:v>
                </c:pt>
                <c:pt idx="872">
                  <c:v>16384</c:v>
                </c:pt>
                <c:pt idx="873">
                  <c:v>16384</c:v>
                </c:pt>
                <c:pt idx="874">
                  <c:v>16384</c:v>
                </c:pt>
                <c:pt idx="875">
                  <c:v>16384</c:v>
                </c:pt>
                <c:pt idx="876">
                  <c:v>16384</c:v>
                </c:pt>
                <c:pt idx="877">
                  <c:v>16384</c:v>
                </c:pt>
                <c:pt idx="878">
                  <c:v>16384</c:v>
                </c:pt>
                <c:pt idx="879">
                  <c:v>16384</c:v>
                </c:pt>
                <c:pt idx="880">
                  <c:v>16384</c:v>
                </c:pt>
                <c:pt idx="881">
                  <c:v>16384</c:v>
                </c:pt>
                <c:pt idx="882">
                  <c:v>16384</c:v>
                </c:pt>
                <c:pt idx="883">
                  <c:v>16384</c:v>
                </c:pt>
                <c:pt idx="884">
                  <c:v>16384</c:v>
                </c:pt>
                <c:pt idx="885">
                  <c:v>16384</c:v>
                </c:pt>
                <c:pt idx="886">
                  <c:v>16384</c:v>
                </c:pt>
                <c:pt idx="887">
                  <c:v>16384</c:v>
                </c:pt>
                <c:pt idx="888">
                  <c:v>16384</c:v>
                </c:pt>
                <c:pt idx="889">
                  <c:v>16384</c:v>
                </c:pt>
                <c:pt idx="890">
                  <c:v>16384</c:v>
                </c:pt>
                <c:pt idx="891">
                  <c:v>16384</c:v>
                </c:pt>
                <c:pt idx="892">
                  <c:v>16384</c:v>
                </c:pt>
                <c:pt idx="893">
                  <c:v>16384</c:v>
                </c:pt>
                <c:pt idx="894">
                  <c:v>16384</c:v>
                </c:pt>
                <c:pt idx="895">
                  <c:v>16384</c:v>
                </c:pt>
                <c:pt idx="896">
                  <c:v>16384</c:v>
                </c:pt>
                <c:pt idx="897">
                  <c:v>16384</c:v>
                </c:pt>
                <c:pt idx="898">
                  <c:v>16384</c:v>
                </c:pt>
                <c:pt idx="899">
                  <c:v>16384</c:v>
                </c:pt>
                <c:pt idx="900">
                  <c:v>16384</c:v>
                </c:pt>
                <c:pt idx="901">
                  <c:v>16384</c:v>
                </c:pt>
                <c:pt idx="902">
                  <c:v>16384</c:v>
                </c:pt>
                <c:pt idx="903">
                  <c:v>16384</c:v>
                </c:pt>
                <c:pt idx="904">
                  <c:v>16384</c:v>
                </c:pt>
                <c:pt idx="905">
                  <c:v>16384</c:v>
                </c:pt>
                <c:pt idx="906">
                  <c:v>16384</c:v>
                </c:pt>
                <c:pt idx="907">
                  <c:v>16384</c:v>
                </c:pt>
                <c:pt idx="908">
                  <c:v>16384</c:v>
                </c:pt>
                <c:pt idx="909">
                  <c:v>16384</c:v>
                </c:pt>
                <c:pt idx="910">
                  <c:v>16384</c:v>
                </c:pt>
                <c:pt idx="911">
                  <c:v>16384</c:v>
                </c:pt>
                <c:pt idx="912">
                  <c:v>16384</c:v>
                </c:pt>
                <c:pt idx="913">
                  <c:v>16384</c:v>
                </c:pt>
                <c:pt idx="914">
                  <c:v>16384</c:v>
                </c:pt>
                <c:pt idx="915">
                  <c:v>16384</c:v>
                </c:pt>
                <c:pt idx="916">
                  <c:v>16384</c:v>
                </c:pt>
                <c:pt idx="917">
                  <c:v>16384</c:v>
                </c:pt>
                <c:pt idx="918">
                  <c:v>16384</c:v>
                </c:pt>
                <c:pt idx="919">
                  <c:v>16384</c:v>
                </c:pt>
                <c:pt idx="920">
                  <c:v>16384</c:v>
                </c:pt>
                <c:pt idx="921">
                  <c:v>16384</c:v>
                </c:pt>
                <c:pt idx="922">
                  <c:v>16384</c:v>
                </c:pt>
                <c:pt idx="923">
                  <c:v>16384</c:v>
                </c:pt>
                <c:pt idx="924">
                  <c:v>16384</c:v>
                </c:pt>
                <c:pt idx="925">
                  <c:v>16384</c:v>
                </c:pt>
                <c:pt idx="926">
                  <c:v>16384</c:v>
                </c:pt>
                <c:pt idx="927">
                  <c:v>16384</c:v>
                </c:pt>
                <c:pt idx="928">
                  <c:v>16384</c:v>
                </c:pt>
                <c:pt idx="929">
                  <c:v>16384</c:v>
                </c:pt>
                <c:pt idx="930">
                  <c:v>16384</c:v>
                </c:pt>
                <c:pt idx="931">
                  <c:v>16384</c:v>
                </c:pt>
                <c:pt idx="932">
                  <c:v>16384</c:v>
                </c:pt>
                <c:pt idx="933">
                  <c:v>16384</c:v>
                </c:pt>
                <c:pt idx="934">
                  <c:v>16384</c:v>
                </c:pt>
                <c:pt idx="935">
                  <c:v>16384</c:v>
                </c:pt>
                <c:pt idx="936">
                  <c:v>16384</c:v>
                </c:pt>
                <c:pt idx="937">
                  <c:v>16384</c:v>
                </c:pt>
                <c:pt idx="938">
                  <c:v>16384</c:v>
                </c:pt>
                <c:pt idx="939">
                  <c:v>16384</c:v>
                </c:pt>
                <c:pt idx="940">
                  <c:v>16384</c:v>
                </c:pt>
                <c:pt idx="941">
                  <c:v>16384</c:v>
                </c:pt>
                <c:pt idx="942">
                  <c:v>16384</c:v>
                </c:pt>
                <c:pt idx="943">
                  <c:v>16384</c:v>
                </c:pt>
                <c:pt idx="944">
                  <c:v>16384</c:v>
                </c:pt>
                <c:pt idx="945">
                  <c:v>16384</c:v>
                </c:pt>
                <c:pt idx="946">
                  <c:v>16384</c:v>
                </c:pt>
                <c:pt idx="947">
                  <c:v>16384</c:v>
                </c:pt>
                <c:pt idx="948">
                  <c:v>16384</c:v>
                </c:pt>
                <c:pt idx="949">
                  <c:v>16384</c:v>
                </c:pt>
                <c:pt idx="950">
                  <c:v>16384</c:v>
                </c:pt>
                <c:pt idx="951">
                  <c:v>16384</c:v>
                </c:pt>
                <c:pt idx="952">
                  <c:v>16384</c:v>
                </c:pt>
                <c:pt idx="953">
                  <c:v>16384</c:v>
                </c:pt>
                <c:pt idx="954">
                  <c:v>16384</c:v>
                </c:pt>
                <c:pt idx="955">
                  <c:v>16384</c:v>
                </c:pt>
                <c:pt idx="956">
                  <c:v>16384</c:v>
                </c:pt>
                <c:pt idx="957">
                  <c:v>16384</c:v>
                </c:pt>
                <c:pt idx="958">
                  <c:v>16384</c:v>
                </c:pt>
                <c:pt idx="959">
                  <c:v>16384</c:v>
                </c:pt>
                <c:pt idx="960">
                  <c:v>16384</c:v>
                </c:pt>
                <c:pt idx="961">
                  <c:v>16384</c:v>
                </c:pt>
                <c:pt idx="962">
                  <c:v>16384</c:v>
                </c:pt>
                <c:pt idx="963">
                  <c:v>16384</c:v>
                </c:pt>
                <c:pt idx="964">
                  <c:v>16384</c:v>
                </c:pt>
                <c:pt idx="965">
                  <c:v>16384</c:v>
                </c:pt>
                <c:pt idx="966">
                  <c:v>16384</c:v>
                </c:pt>
                <c:pt idx="967">
                  <c:v>16384</c:v>
                </c:pt>
                <c:pt idx="968">
                  <c:v>16384</c:v>
                </c:pt>
                <c:pt idx="969">
                  <c:v>16384</c:v>
                </c:pt>
                <c:pt idx="970">
                  <c:v>16384</c:v>
                </c:pt>
                <c:pt idx="971">
                  <c:v>16384</c:v>
                </c:pt>
                <c:pt idx="972">
                  <c:v>16384</c:v>
                </c:pt>
                <c:pt idx="973">
                  <c:v>16384</c:v>
                </c:pt>
                <c:pt idx="974">
                  <c:v>16384</c:v>
                </c:pt>
                <c:pt idx="975">
                  <c:v>16384</c:v>
                </c:pt>
                <c:pt idx="976">
                  <c:v>16384</c:v>
                </c:pt>
                <c:pt idx="977">
                  <c:v>16384</c:v>
                </c:pt>
                <c:pt idx="978">
                  <c:v>16384</c:v>
                </c:pt>
                <c:pt idx="979">
                  <c:v>16384</c:v>
                </c:pt>
                <c:pt idx="980">
                  <c:v>16384</c:v>
                </c:pt>
                <c:pt idx="981">
                  <c:v>16384</c:v>
                </c:pt>
                <c:pt idx="982">
                  <c:v>16384</c:v>
                </c:pt>
                <c:pt idx="983">
                  <c:v>16384</c:v>
                </c:pt>
                <c:pt idx="984">
                  <c:v>16384</c:v>
                </c:pt>
                <c:pt idx="985">
                  <c:v>16384</c:v>
                </c:pt>
                <c:pt idx="986">
                  <c:v>16384</c:v>
                </c:pt>
                <c:pt idx="987">
                  <c:v>16384</c:v>
                </c:pt>
                <c:pt idx="988">
                  <c:v>16384</c:v>
                </c:pt>
                <c:pt idx="989">
                  <c:v>16384</c:v>
                </c:pt>
                <c:pt idx="990">
                  <c:v>16384</c:v>
                </c:pt>
                <c:pt idx="991">
                  <c:v>16384</c:v>
                </c:pt>
                <c:pt idx="992">
                  <c:v>16384</c:v>
                </c:pt>
                <c:pt idx="993">
                  <c:v>16384</c:v>
                </c:pt>
                <c:pt idx="994">
                  <c:v>16384</c:v>
                </c:pt>
                <c:pt idx="995">
                  <c:v>16384</c:v>
                </c:pt>
                <c:pt idx="996">
                  <c:v>16384</c:v>
                </c:pt>
                <c:pt idx="997">
                  <c:v>16384</c:v>
                </c:pt>
                <c:pt idx="998">
                  <c:v>16384</c:v>
                </c:pt>
                <c:pt idx="999">
                  <c:v>16384</c:v>
                </c:pt>
                <c:pt idx="1000">
                  <c:v>16384</c:v>
                </c:pt>
              </c:numCache>
            </c:numRef>
          </c:xVal>
          <c:yVal>
            <c:numRef>
              <c:f>8</c:f>
              <c:numCache>
                <c:formatCode>General</c:formatCode>
                <c:ptCount val="1001"/>
                <c:pt idx="0">
                  <c:v>7.0219105</c:v>
                </c:pt>
                <c:pt idx="1">
                  <c:v>30.737987288</c:v>
                </c:pt>
                <c:pt idx="2">
                  <c:v>30.004303046</c:v>
                </c:pt>
                <c:pt idx="3">
                  <c:v>30.406368764</c:v>
                </c:pt>
                <c:pt idx="4">
                  <c:v>29.634103911</c:v>
                </c:pt>
                <c:pt idx="5">
                  <c:v>30.474483891</c:v>
                </c:pt>
                <c:pt idx="6">
                  <c:v>8.75976687700001</c:v>
                </c:pt>
                <c:pt idx="7">
                  <c:v>1.486951175</c:v>
                </c:pt>
                <c:pt idx="8">
                  <c:v>30.07385128</c:v>
                </c:pt>
                <c:pt idx="9">
                  <c:v>30.906356695</c:v>
                </c:pt>
                <c:pt idx="10">
                  <c:v>29.927032857</c:v>
                </c:pt>
                <c:pt idx="11">
                  <c:v>11.366962773</c:v>
                </c:pt>
                <c:pt idx="12">
                  <c:v>29.680698766</c:v>
                </c:pt>
                <c:pt idx="13">
                  <c:v>30.54721182</c:v>
                </c:pt>
                <c:pt idx="14">
                  <c:v>29.534601983</c:v>
                </c:pt>
                <c:pt idx="15">
                  <c:v>22.361014851</c:v>
                </c:pt>
                <c:pt idx="16">
                  <c:v>29.993129561</c:v>
                </c:pt>
                <c:pt idx="17">
                  <c:v>30.315864797</c:v>
                </c:pt>
                <c:pt idx="18">
                  <c:v>29.754360979</c:v>
                </c:pt>
                <c:pt idx="19">
                  <c:v>30.571948234</c:v>
                </c:pt>
                <c:pt idx="20">
                  <c:v>29.56404007</c:v>
                </c:pt>
                <c:pt idx="21">
                  <c:v>30.25614812</c:v>
                </c:pt>
                <c:pt idx="22">
                  <c:v>29.234676959</c:v>
                </c:pt>
                <c:pt idx="23">
                  <c:v>22.125804532</c:v>
                </c:pt>
                <c:pt idx="24">
                  <c:v>29.871592029</c:v>
                </c:pt>
                <c:pt idx="25">
                  <c:v>30.657675048</c:v>
                </c:pt>
                <c:pt idx="26">
                  <c:v>29.634215742</c:v>
                </c:pt>
                <c:pt idx="27">
                  <c:v>30.611812796</c:v>
                </c:pt>
                <c:pt idx="28">
                  <c:v>29.64459178</c:v>
                </c:pt>
                <c:pt idx="29">
                  <c:v>30.299079462</c:v>
                </c:pt>
                <c:pt idx="30">
                  <c:v>29.277348716</c:v>
                </c:pt>
                <c:pt idx="31">
                  <c:v>23.939477723</c:v>
                </c:pt>
                <c:pt idx="32">
                  <c:v>29.861425548</c:v>
                </c:pt>
                <c:pt idx="33">
                  <c:v>30.366185793</c:v>
                </c:pt>
                <c:pt idx="34">
                  <c:v>29.830315997</c:v>
                </c:pt>
                <c:pt idx="35">
                  <c:v>30.587756491</c:v>
                </c:pt>
                <c:pt idx="36">
                  <c:v>29.627088175</c:v>
                </c:pt>
                <c:pt idx="37">
                  <c:v>30.302440889</c:v>
                </c:pt>
                <c:pt idx="38">
                  <c:v>29.418921359</c:v>
                </c:pt>
                <c:pt idx="39">
                  <c:v>23.071987223</c:v>
                </c:pt>
                <c:pt idx="40">
                  <c:v>30.000950126</c:v>
                </c:pt>
                <c:pt idx="41">
                  <c:v>30.768066041</c:v>
                </c:pt>
                <c:pt idx="42">
                  <c:v>29.817629909</c:v>
                </c:pt>
                <c:pt idx="43">
                  <c:v>30.064007072</c:v>
                </c:pt>
                <c:pt idx="44">
                  <c:v>29.59774757</c:v>
                </c:pt>
                <c:pt idx="45">
                  <c:v>30.110059654</c:v>
                </c:pt>
                <c:pt idx="46">
                  <c:v>29.376907693</c:v>
                </c:pt>
                <c:pt idx="47">
                  <c:v>23.300191441</c:v>
                </c:pt>
                <c:pt idx="48">
                  <c:v>29.706298546</c:v>
                </c:pt>
                <c:pt idx="49">
                  <c:v>30.821473283</c:v>
                </c:pt>
                <c:pt idx="50">
                  <c:v>29.594038771</c:v>
                </c:pt>
                <c:pt idx="51">
                  <c:v>30.560139926</c:v>
                </c:pt>
                <c:pt idx="52">
                  <c:v>29.420161306</c:v>
                </c:pt>
                <c:pt idx="53">
                  <c:v>30.359640781</c:v>
                </c:pt>
                <c:pt idx="54">
                  <c:v>29.298376076</c:v>
                </c:pt>
                <c:pt idx="55">
                  <c:v>23.02147783</c:v>
                </c:pt>
                <c:pt idx="56">
                  <c:v>29.773059461</c:v>
                </c:pt>
                <c:pt idx="57">
                  <c:v>30.803277718</c:v>
                </c:pt>
                <c:pt idx="58">
                  <c:v>29.642381718</c:v>
                </c:pt>
                <c:pt idx="59">
                  <c:v>29.42085021</c:v>
                </c:pt>
                <c:pt idx="60">
                  <c:v>30.402631118</c:v>
                </c:pt>
                <c:pt idx="61">
                  <c:v>29.562092398</c:v>
                </c:pt>
                <c:pt idx="62">
                  <c:v>30.19869843</c:v>
                </c:pt>
                <c:pt idx="63">
                  <c:v>15.262132698</c:v>
                </c:pt>
                <c:pt idx="64">
                  <c:v>30.81690726</c:v>
                </c:pt>
                <c:pt idx="65">
                  <c:v>29.76575213</c:v>
                </c:pt>
                <c:pt idx="66">
                  <c:v>30.510152528</c:v>
                </c:pt>
                <c:pt idx="67">
                  <c:v>29.684148793</c:v>
                </c:pt>
                <c:pt idx="68">
                  <c:v>30.425129728</c:v>
                </c:pt>
                <c:pt idx="69">
                  <c:v>29.383640505</c:v>
                </c:pt>
                <c:pt idx="70">
                  <c:v>30.188192062</c:v>
                </c:pt>
                <c:pt idx="71">
                  <c:v>22.179626708</c:v>
                </c:pt>
                <c:pt idx="72">
                  <c:v>30.870696718</c:v>
                </c:pt>
                <c:pt idx="73">
                  <c:v>29.543157721</c:v>
                </c:pt>
                <c:pt idx="74">
                  <c:v>30.339612389</c:v>
                </c:pt>
                <c:pt idx="75">
                  <c:v>29.699304751</c:v>
                </c:pt>
                <c:pt idx="76">
                  <c:v>30.320312809</c:v>
                </c:pt>
                <c:pt idx="77">
                  <c:v>29.473578074</c:v>
                </c:pt>
                <c:pt idx="78">
                  <c:v>30.160278358</c:v>
                </c:pt>
                <c:pt idx="79">
                  <c:v>22.105110959</c:v>
                </c:pt>
                <c:pt idx="80">
                  <c:v>30.830367304</c:v>
                </c:pt>
                <c:pt idx="81">
                  <c:v>29.884295653</c:v>
                </c:pt>
                <c:pt idx="82">
                  <c:v>30.702654541</c:v>
                </c:pt>
                <c:pt idx="83">
                  <c:v>29.824736187</c:v>
                </c:pt>
                <c:pt idx="84">
                  <c:v>30.511041609</c:v>
                </c:pt>
                <c:pt idx="85">
                  <c:v>29.609130739</c:v>
                </c:pt>
                <c:pt idx="86">
                  <c:v>30.292767842</c:v>
                </c:pt>
                <c:pt idx="87">
                  <c:v>23.00084413</c:v>
                </c:pt>
                <c:pt idx="88">
                  <c:v>30.647833722</c:v>
                </c:pt>
                <c:pt idx="89">
                  <c:v>29.922385926</c:v>
                </c:pt>
                <c:pt idx="90">
                  <c:v>30.699023722</c:v>
                </c:pt>
                <c:pt idx="91">
                  <c:v>29.646214567</c:v>
                </c:pt>
                <c:pt idx="92">
                  <c:v>30.543142474</c:v>
                </c:pt>
                <c:pt idx="93">
                  <c:v>29.595488717</c:v>
                </c:pt>
                <c:pt idx="94">
                  <c:v>30.347585389</c:v>
                </c:pt>
                <c:pt idx="95">
                  <c:v>19.963357009</c:v>
                </c:pt>
                <c:pt idx="96">
                  <c:v>9.22404815</c:v>
                </c:pt>
                <c:pt idx="97">
                  <c:v>29.59582334</c:v>
                </c:pt>
                <c:pt idx="98">
                  <c:v>30.172330279</c:v>
                </c:pt>
                <c:pt idx="99">
                  <c:v>29.601010966</c:v>
                </c:pt>
                <c:pt idx="100">
                  <c:v>30.464641619</c:v>
                </c:pt>
                <c:pt idx="101">
                  <c:v>29.46876677</c:v>
                </c:pt>
                <c:pt idx="102">
                  <c:v>30.011641963</c:v>
                </c:pt>
                <c:pt idx="103">
                  <c:v>22.441067951</c:v>
                </c:pt>
                <c:pt idx="104">
                  <c:v>30.815093322</c:v>
                </c:pt>
                <c:pt idx="105">
                  <c:v>29.884039769</c:v>
                </c:pt>
                <c:pt idx="106">
                  <c:v>30.560466985</c:v>
                </c:pt>
                <c:pt idx="107">
                  <c:v>29.691949372</c:v>
                </c:pt>
                <c:pt idx="108">
                  <c:v>30.394099779</c:v>
                </c:pt>
                <c:pt idx="109">
                  <c:v>29.495719244</c:v>
                </c:pt>
                <c:pt idx="110">
                  <c:v>30.049971521</c:v>
                </c:pt>
                <c:pt idx="111">
                  <c:v>22.276474242</c:v>
                </c:pt>
                <c:pt idx="112">
                  <c:v>30.811375416</c:v>
                </c:pt>
                <c:pt idx="113">
                  <c:v>29.932251684</c:v>
                </c:pt>
                <c:pt idx="114">
                  <c:v>30.596843957</c:v>
                </c:pt>
                <c:pt idx="115">
                  <c:v>29.688918445</c:v>
                </c:pt>
                <c:pt idx="116">
                  <c:v>30.106163649</c:v>
                </c:pt>
                <c:pt idx="117">
                  <c:v>29.510905153</c:v>
                </c:pt>
                <c:pt idx="118">
                  <c:v>30.270843723</c:v>
                </c:pt>
                <c:pt idx="119">
                  <c:v>22.068366121</c:v>
                </c:pt>
                <c:pt idx="120">
                  <c:v>30.861840061</c:v>
                </c:pt>
                <c:pt idx="121">
                  <c:v>29.824339732</c:v>
                </c:pt>
                <c:pt idx="122">
                  <c:v>30.666983755</c:v>
                </c:pt>
                <c:pt idx="123">
                  <c:v>29.751683633</c:v>
                </c:pt>
                <c:pt idx="124">
                  <c:v>30.432469587</c:v>
                </c:pt>
                <c:pt idx="125">
                  <c:v>29.295889451</c:v>
                </c:pt>
                <c:pt idx="126">
                  <c:v>30.249737845</c:v>
                </c:pt>
                <c:pt idx="127">
                  <c:v>22.338830594</c:v>
                </c:pt>
                <c:pt idx="128">
                  <c:v>30.911223038</c:v>
                </c:pt>
                <c:pt idx="129">
                  <c:v>29.841368482</c:v>
                </c:pt>
                <c:pt idx="130">
                  <c:v>29.569745442</c:v>
                </c:pt>
                <c:pt idx="131">
                  <c:v>30.576620537</c:v>
                </c:pt>
                <c:pt idx="132">
                  <c:v>29.60650737</c:v>
                </c:pt>
                <c:pt idx="133">
                  <c:v>30.20514518</c:v>
                </c:pt>
                <c:pt idx="134">
                  <c:v>29.424129838</c:v>
                </c:pt>
                <c:pt idx="135">
                  <c:v>22.20984711</c:v>
                </c:pt>
                <c:pt idx="136">
                  <c:v>30.033680271</c:v>
                </c:pt>
                <c:pt idx="137">
                  <c:v>30.654234352</c:v>
                </c:pt>
                <c:pt idx="138">
                  <c:v>29.738416747</c:v>
                </c:pt>
                <c:pt idx="139">
                  <c:v>30.512908848</c:v>
                </c:pt>
                <c:pt idx="140">
                  <c:v>29.546992744</c:v>
                </c:pt>
                <c:pt idx="141">
                  <c:v>30.325786825</c:v>
                </c:pt>
                <c:pt idx="142">
                  <c:v>29.402206063</c:v>
                </c:pt>
                <c:pt idx="143">
                  <c:v>22.611757595</c:v>
                </c:pt>
                <c:pt idx="144">
                  <c:v>29.590135776</c:v>
                </c:pt>
                <c:pt idx="145">
                  <c:v>30.686217692</c:v>
                </c:pt>
                <c:pt idx="146">
                  <c:v>29.877700925</c:v>
                </c:pt>
                <c:pt idx="147">
                  <c:v>30.483267501</c:v>
                </c:pt>
                <c:pt idx="148">
                  <c:v>29.729044111</c:v>
                </c:pt>
                <c:pt idx="149">
                  <c:v>30.35855511</c:v>
                </c:pt>
                <c:pt idx="150">
                  <c:v>29.551468196</c:v>
                </c:pt>
                <c:pt idx="151">
                  <c:v>23.732718398</c:v>
                </c:pt>
                <c:pt idx="152">
                  <c:v>29.989607341</c:v>
                </c:pt>
                <c:pt idx="153">
                  <c:v>30.751830056</c:v>
                </c:pt>
                <c:pt idx="154">
                  <c:v>29.846500751</c:v>
                </c:pt>
                <c:pt idx="155">
                  <c:v>30.487320907</c:v>
                </c:pt>
                <c:pt idx="156">
                  <c:v>29.216892986</c:v>
                </c:pt>
                <c:pt idx="157">
                  <c:v>30.163840784</c:v>
                </c:pt>
                <c:pt idx="158">
                  <c:v>29.108240948</c:v>
                </c:pt>
                <c:pt idx="159">
                  <c:v>22.645224738</c:v>
                </c:pt>
                <c:pt idx="160">
                  <c:v>30.025354712</c:v>
                </c:pt>
                <c:pt idx="161">
                  <c:v>30.558593921</c:v>
                </c:pt>
                <c:pt idx="162">
                  <c:v>29.899884422</c:v>
                </c:pt>
                <c:pt idx="163">
                  <c:v>30.60656309</c:v>
                </c:pt>
                <c:pt idx="164">
                  <c:v>29.750810077</c:v>
                </c:pt>
                <c:pt idx="165">
                  <c:v>30.391041431</c:v>
                </c:pt>
                <c:pt idx="166">
                  <c:v>29.474518397</c:v>
                </c:pt>
                <c:pt idx="167">
                  <c:v>23.790436085</c:v>
                </c:pt>
                <c:pt idx="168">
                  <c:v>30.089119665</c:v>
                </c:pt>
                <c:pt idx="169">
                  <c:v>30.805392378</c:v>
                </c:pt>
                <c:pt idx="170">
                  <c:v>29.897123912</c:v>
                </c:pt>
                <c:pt idx="171">
                  <c:v>30.627124777</c:v>
                </c:pt>
                <c:pt idx="172">
                  <c:v>29.65570303</c:v>
                </c:pt>
                <c:pt idx="173">
                  <c:v>30.142247444</c:v>
                </c:pt>
                <c:pt idx="174">
                  <c:v>29.420960438</c:v>
                </c:pt>
                <c:pt idx="175">
                  <c:v>15.84563705</c:v>
                </c:pt>
                <c:pt idx="176">
                  <c:v>29.587571512</c:v>
                </c:pt>
                <c:pt idx="177">
                  <c:v>30.806782169</c:v>
                </c:pt>
                <c:pt idx="178">
                  <c:v>29.769504095</c:v>
                </c:pt>
                <c:pt idx="179">
                  <c:v>30.497207452</c:v>
                </c:pt>
                <c:pt idx="180">
                  <c:v>29.407573815</c:v>
                </c:pt>
                <c:pt idx="181">
                  <c:v>30.368005984</c:v>
                </c:pt>
                <c:pt idx="182">
                  <c:v>15.808657594</c:v>
                </c:pt>
                <c:pt idx="183">
                  <c:v>22.371796862</c:v>
                </c:pt>
                <c:pt idx="184">
                  <c:v>29.851975227</c:v>
                </c:pt>
                <c:pt idx="185">
                  <c:v>30.665277235</c:v>
                </c:pt>
                <c:pt idx="186">
                  <c:v>29.790199203</c:v>
                </c:pt>
                <c:pt idx="187">
                  <c:v>30.253088332</c:v>
                </c:pt>
                <c:pt idx="188">
                  <c:v>29.382458604</c:v>
                </c:pt>
                <c:pt idx="189">
                  <c:v>30.240738908</c:v>
                </c:pt>
                <c:pt idx="190">
                  <c:v>29.221622389</c:v>
                </c:pt>
                <c:pt idx="191">
                  <c:v>21.71869367</c:v>
                </c:pt>
                <c:pt idx="192">
                  <c:v>29.755347491</c:v>
                </c:pt>
                <c:pt idx="193">
                  <c:v>30.63832744</c:v>
                </c:pt>
                <c:pt idx="194">
                  <c:v>29.616473062</c:v>
                </c:pt>
                <c:pt idx="195">
                  <c:v>30.574715731</c:v>
                </c:pt>
                <c:pt idx="196">
                  <c:v>29.414017705</c:v>
                </c:pt>
                <c:pt idx="197">
                  <c:v>30.371353356</c:v>
                </c:pt>
                <c:pt idx="198">
                  <c:v>29.334739896</c:v>
                </c:pt>
                <c:pt idx="199">
                  <c:v>23.911522306</c:v>
                </c:pt>
                <c:pt idx="200">
                  <c:v>29.7875719</c:v>
                </c:pt>
                <c:pt idx="201">
                  <c:v>30.332375829</c:v>
                </c:pt>
                <c:pt idx="202">
                  <c:v>29.704893905</c:v>
                </c:pt>
                <c:pt idx="203">
                  <c:v>30.538124118</c:v>
                </c:pt>
                <c:pt idx="204">
                  <c:v>29.384245235</c:v>
                </c:pt>
                <c:pt idx="205">
                  <c:v>30.261978001</c:v>
                </c:pt>
                <c:pt idx="206">
                  <c:v>29.338274373</c:v>
                </c:pt>
                <c:pt idx="207">
                  <c:v>22.035638117</c:v>
                </c:pt>
                <c:pt idx="208">
                  <c:v>29.819668017</c:v>
                </c:pt>
                <c:pt idx="209">
                  <c:v>30.741988372</c:v>
                </c:pt>
                <c:pt idx="210">
                  <c:v>29.686112582</c:v>
                </c:pt>
                <c:pt idx="211">
                  <c:v>30.512582806</c:v>
                </c:pt>
                <c:pt idx="212">
                  <c:v>29.58458972</c:v>
                </c:pt>
                <c:pt idx="213">
                  <c:v>30.390129927</c:v>
                </c:pt>
                <c:pt idx="214">
                  <c:v>29.478556938</c:v>
                </c:pt>
                <c:pt idx="215">
                  <c:v>10.968783327</c:v>
                </c:pt>
                <c:pt idx="216">
                  <c:v>30.846746933</c:v>
                </c:pt>
                <c:pt idx="217">
                  <c:v>29.948033302</c:v>
                </c:pt>
                <c:pt idx="218">
                  <c:v>30.644574615</c:v>
                </c:pt>
                <c:pt idx="219">
                  <c:v>29.695542384</c:v>
                </c:pt>
                <c:pt idx="220">
                  <c:v>30.420503604</c:v>
                </c:pt>
                <c:pt idx="221">
                  <c:v>29.459563308</c:v>
                </c:pt>
                <c:pt idx="222">
                  <c:v>30.224298378</c:v>
                </c:pt>
                <c:pt idx="223">
                  <c:v>22.155847089</c:v>
                </c:pt>
                <c:pt idx="224">
                  <c:v>30.731942511</c:v>
                </c:pt>
                <c:pt idx="225">
                  <c:v>29.578516525</c:v>
                </c:pt>
                <c:pt idx="226">
                  <c:v>30.631873705</c:v>
                </c:pt>
                <c:pt idx="227">
                  <c:v>29.452933746</c:v>
                </c:pt>
                <c:pt idx="228">
                  <c:v>30.426367528</c:v>
                </c:pt>
                <c:pt idx="229">
                  <c:v>29.169737194</c:v>
                </c:pt>
                <c:pt idx="230">
                  <c:v>30.159786057</c:v>
                </c:pt>
                <c:pt idx="231">
                  <c:v>22.595199248</c:v>
                </c:pt>
                <c:pt idx="232">
                  <c:v>30.966868914</c:v>
                </c:pt>
                <c:pt idx="233">
                  <c:v>29.911843032</c:v>
                </c:pt>
                <c:pt idx="234">
                  <c:v>30.650375708</c:v>
                </c:pt>
                <c:pt idx="235">
                  <c:v>29.653099396</c:v>
                </c:pt>
                <c:pt idx="236">
                  <c:v>30.471527586</c:v>
                </c:pt>
                <c:pt idx="237">
                  <c:v>29.463570115</c:v>
                </c:pt>
                <c:pt idx="238">
                  <c:v>30.276358256</c:v>
                </c:pt>
                <c:pt idx="239">
                  <c:v>21.127395277</c:v>
                </c:pt>
                <c:pt idx="240">
                  <c:v>30.917155966</c:v>
                </c:pt>
                <c:pt idx="241">
                  <c:v>29.853308694</c:v>
                </c:pt>
                <c:pt idx="242">
                  <c:v>30.69857368</c:v>
                </c:pt>
                <c:pt idx="243">
                  <c:v>29.489682478</c:v>
                </c:pt>
                <c:pt idx="244">
                  <c:v>30.4511447</c:v>
                </c:pt>
                <c:pt idx="245">
                  <c:v>29.506497412</c:v>
                </c:pt>
                <c:pt idx="246">
                  <c:v>30.229388666</c:v>
                </c:pt>
                <c:pt idx="247">
                  <c:v>23.351654847</c:v>
                </c:pt>
                <c:pt idx="248">
                  <c:v>30.849079645</c:v>
                </c:pt>
                <c:pt idx="249">
                  <c:v>29.918595328</c:v>
                </c:pt>
                <c:pt idx="250">
                  <c:v>30.626856014</c:v>
                </c:pt>
                <c:pt idx="251">
                  <c:v>29.731604815</c:v>
                </c:pt>
                <c:pt idx="252">
                  <c:v>30.453181762</c:v>
                </c:pt>
                <c:pt idx="253">
                  <c:v>29.498184505</c:v>
                </c:pt>
                <c:pt idx="254">
                  <c:v>30.255914971</c:v>
                </c:pt>
                <c:pt idx="255">
                  <c:v>17.149523738</c:v>
                </c:pt>
                <c:pt idx="256">
                  <c:v>30.885752559</c:v>
                </c:pt>
                <c:pt idx="257">
                  <c:v>29.810866521</c:v>
                </c:pt>
                <c:pt idx="258">
                  <c:v>30.302090096</c:v>
                </c:pt>
                <c:pt idx="259">
                  <c:v>1.668416907</c:v>
                </c:pt>
                <c:pt idx="260">
                  <c:v>30.411402794</c:v>
                </c:pt>
                <c:pt idx="261">
                  <c:v>29.524608048</c:v>
                </c:pt>
                <c:pt idx="262">
                  <c:v>9.702995752</c:v>
                </c:pt>
                <c:pt idx="263">
                  <c:v>2.427518261</c:v>
                </c:pt>
                <c:pt idx="264">
                  <c:v>30.702894625</c:v>
                </c:pt>
                <c:pt idx="265">
                  <c:v>29.866791906</c:v>
                </c:pt>
                <c:pt idx="266">
                  <c:v>30.601792192</c:v>
                </c:pt>
                <c:pt idx="267">
                  <c:v>11.693082859</c:v>
                </c:pt>
                <c:pt idx="268">
                  <c:v>30.384573876</c:v>
                </c:pt>
                <c:pt idx="269">
                  <c:v>29.461773825</c:v>
                </c:pt>
                <c:pt idx="270">
                  <c:v>22.461833419</c:v>
                </c:pt>
                <c:pt idx="271">
                  <c:v>29.922499944</c:v>
                </c:pt>
                <c:pt idx="272">
                  <c:v>30.377022081</c:v>
                </c:pt>
                <c:pt idx="273">
                  <c:v>29.735151134</c:v>
                </c:pt>
                <c:pt idx="274">
                  <c:v>30.58662466</c:v>
                </c:pt>
                <c:pt idx="275">
                  <c:v>29.456966374</c:v>
                </c:pt>
                <c:pt idx="276">
                  <c:v>30.380018842</c:v>
                </c:pt>
                <c:pt idx="277">
                  <c:v>29.317791723</c:v>
                </c:pt>
                <c:pt idx="278">
                  <c:v>22.236418596</c:v>
                </c:pt>
                <c:pt idx="279">
                  <c:v>29.882476127</c:v>
                </c:pt>
                <c:pt idx="280">
                  <c:v>30.775753234</c:v>
                </c:pt>
                <c:pt idx="281">
                  <c:v>29.694307188</c:v>
                </c:pt>
                <c:pt idx="282">
                  <c:v>30.623571511</c:v>
                </c:pt>
                <c:pt idx="283">
                  <c:v>29.472610156</c:v>
                </c:pt>
                <c:pt idx="284">
                  <c:v>30.410578394</c:v>
                </c:pt>
                <c:pt idx="285">
                  <c:v>29.3848225</c:v>
                </c:pt>
                <c:pt idx="286">
                  <c:v>23.467340443</c:v>
                </c:pt>
                <c:pt idx="287">
                  <c:v>30.832606744</c:v>
                </c:pt>
                <c:pt idx="288">
                  <c:v>29.746471237</c:v>
                </c:pt>
                <c:pt idx="289">
                  <c:v>30.662672912</c:v>
                </c:pt>
                <c:pt idx="290">
                  <c:v>29.704556811</c:v>
                </c:pt>
                <c:pt idx="291">
                  <c:v>30.404691124</c:v>
                </c:pt>
                <c:pt idx="292">
                  <c:v>29.611614996</c:v>
                </c:pt>
                <c:pt idx="293">
                  <c:v>30.220896113</c:v>
                </c:pt>
                <c:pt idx="294">
                  <c:v>21.993609223</c:v>
                </c:pt>
                <c:pt idx="295">
                  <c:v>30.315016312</c:v>
                </c:pt>
                <c:pt idx="296">
                  <c:v>30.063949523</c:v>
                </c:pt>
                <c:pt idx="297">
                  <c:v>30.643079843</c:v>
                </c:pt>
                <c:pt idx="298">
                  <c:v>29.751120043</c:v>
                </c:pt>
                <c:pt idx="299">
                  <c:v>30.484865065</c:v>
                </c:pt>
                <c:pt idx="300">
                  <c:v>29.260766608</c:v>
                </c:pt>
                <c:pt idx="301">
                  <c:v>30.377403988</c:v>
                </c:pt>
                <c:pt idx="302">
                  <c:v>22.859067575</c:v>
                </c:pt>
                <c:pt idx="303">
                  <c:v>30.903984909</c:v>
                </c:pt>
                <c:pt idx="304">
                  <c:v>29.884722137</c:v>
                </c:pt>
                <c:pt idx="305">
                  <c:v>30.657884506</c:v>
                </c:pt>
                <c:pt idx="306">
                  <c:v>29.807330405</c:v>
                </c:pt>
                <c:pt idx="307">
                  <c:v>30.468808291</c:v>
                </c:pt>
                <c:pt idx="308">
                  <c:v>29.530936755</c:v>
                </c:pt>
                <c:pt idx="309">
                  <c:v>30.276358256</c:v>
                </c:pt>
                <c:pt idx="310">
                  <c:v>21.751465309</c:v>
                </c:pt>
                <c:pt idx="311">
                  <c:v>30.883535758</c:v>
                </c:pt>
                <c:pt idx="312">
                  <c:v>29.953259457</c:v>
                </c:pt>
                <c:pt idx="313">
                  <c:v>30.641824348</c:v>
                </c:pt>
                <c:pt idx="314">
                  <c:v>29.494334446</c:v>
                </c:pt>
                <c:pt idx="315">
                  <c:v>30.502153129</c:v>
                </c:pt>
                <c:pt idx="316">
                  <c:v>29.560923919</c:v>
                </c:pt>
                <c:pt idx="317">
                  <c:v>30.258771288</c:v>
                </c:pt>
                <c:pt idx="318">
                  <c:v>13.076242343</c:v>
                </c:pt>
                <c:pt idx="319">
                  <c:v>30.970502298</c:v>
                </c:pt>
                <c:pt idx="320">
                  <c:v>29.977100128</c:v>
                </c:pt>
                <c:pt idx="321">
                  <c:v>30.616706189</c:v>
                </c:pt>
                <c:pt idx="322">
                  <c:v>29.846075358</c:v>
                </c:pt>
                <c:pt idx="323">
                  <c:v>30.48871174</c:v>
                </c:pt>
                <c:pt idx="324">
                  <c:v>29.555805953</c:v>
                </c:pt>
                <c:pt idx="325">
                  <c:v>30.331204241</c:v>
                </c:pt>
                <c:pt idx="326">
                  <c:v>21.891370828</c:v>
                </c:pt>
                <c:pt idx="327">
                  <c:v>30.828249215</c:v>
                </c:pt>
                <c:pt idx="328">
                  <c:v>29.717146845</c:v>
                </c:pt>
                <c:pt idx="329">
                  <c:v>30.471202427</c:v>
                </c:pt>
                <c:pt idx="330">
                  <c:v>29.709276823</c:v>
                </c:pt>
                <c:pt idx="331">
                  <c:v>30.52963527</c:v>
                </c:pt>
                <c:pt idx="332">
                  <c:v>29.427520474</c:v>
                </c:pt>
                <c:pt idx="333">
                  <c:v>30.320137205</c:v>
                </c:pt>
                <c:pt idx="334">
                  <c:v>23.175588821</c:v>
                </c:pt>
                <c:pt idx="335">
                  <c:v>30.942160113</c:v>
                </c:pt>
                <c:pt idx="336">
                  <c:v>29.990695418</c:v>
                </c:pt>
                <c:pt idx="337">
                  <c:v>30.808051219</c:v>
                </c:pt>
                <c:pt idx="338">
                  <c:v>29.858700517</c:v>
                </c:pt>
                <c:pt idx="339">
                  <c:v>30.495105284</c:v>
                </c:pt>
                <c:pt idx="340">
                  <c:v>29.578265851</c:v>
                </c:pt>
                <c:pt idx="341">
                  <c:v>30.335803243</c:v>
                </c:pt>
                <c:pt idx="342">
                  <c:v>22.915701684</c:v>
                </c:pt>
                <c:pt idx="343">
                  <c:v>20.644558923</c:v>
                </c:pt>
                <c:pt idx="344">
                  <c:v>29.997626604</c:v>
                </c:pt>
                <c:pt idx="345">
                  <c:v>30.702774583</c:v>
                </c:pt>
                <c:pt idx="346">
                  <c:v>29.683840222</c:v>
                </c:pt>
                <c:pt idx="347">
                  <c:v>30.44624506</c:v>
                </c:pt>
                <c:pt idx="348">
                  <c:v>29.431270379</c:v>
                </c:pt>
                <c:pt idx="349">
                  <c:v>30.238206192</c:v>
                </c:pt>
                <c:pt idx="350">
                  <c:v>12.870840628</c:v>
                </c:pt>
                <c:pt idx="351">
                  <c:v>30.98476928</c:v>
                </c:pt>
                <c:pt idx="352">
                  <c:v>29.582082135</c:v>
                </c:pt>
                <c:pt idx="353">
                  <c:v>30.710038854</c:v>
                </c:pt>
                <c:pt idx="354">
                  <c:v>29.68689817</c:v>
                </c:pt>
                <c:pt idx="355">
                  <c:v>30.43205681</c:v>
                </c:pt>
                <c:pt idx="356">
                  <c:v>29.523720026</c:v>
                </c:pt>
                <c:pt idx="357">
                  <c:v>29.240147026</c:v>
                </c:pt>
                <c:pt idx="358">
                  <c:v>22.373533785</c:v>
                </c:pt>
                <c:pt idx="359">
                  <c:v>30.004360367</c:v>
                </c:pt>
                <c:pt idx="360">
                  <c:v>30.75523247</c:v>
                </c:pt>
                <c:pt idx="361">
                  <c:v>29.871251141</c:v>
                </c:pt>
                <c:pt idx="362">
                  <c:v>30.556483283</c:v>
                </c:pt>
                <c:pt idx="363">
                  <c:v>29.665309636</c:v>
                </c:pt>
                <c:pt idx="364">
                  <c:v>30.29893333</c:v>
                </c:pt>
                <c:pt idx="365">
                  <c:v>29.499625073</c:v>
                </c:pt>
                <c:pt idx="366">
                  <c:v>22.498902151</c:v>
                </c:pt>
                <c:pt idx="367">
                  <c:v>30.110867841</c:v>
                </c:pt>
                <c:pt idx="368">
                  <c:v>30.795757925</c:v>
                </c:pt>
                <c:pt idx="369">
                  <c:v>29.906859116</c:v>
                </c:pt>
                <c:pt idx="370">
                  <c:v>30.553273293</c:v>
                </c:pt>
                <c:pt idx="371">
                  <c:v>29.425701011</c:v>
                </c:pt>
                <c:pt idx="372">
                  <c:v>30.33609622</c:v>
                </c:pt>
                <c:pt idx="373">
                  <c:v>29.548994021</c:v>
                </c:pt>
                <c:pt idx="374">
                  <c:v>21.946878295</c:v>
                </c:pt>
                <c:pt idx="375">
                  <c:v>30.033565405</c:v>
                </c:pt>
                <c:pt idx="376">
                  <c:v>30.731010444</c:v>
                </c:pt>
                <c:pt idx="377">
                  <c:v>29.976213285</c:v>
                </c:pt>
                <c:pt idx="378">
                  <c:v>30.564749137</c:v>
                </c:pt>
                <c:pt idx="379">
                  <c:v>29.161125618</c:v>
                </c:pt>
                <c:pt idx="380">
                  <c:v>30.127705302</c:v>
                </c:pt>
                <c:pt idx="381">
                  <c:v>29.492368257</c:v>
                </c:pt>
                <c:pt idx="382">
                  <c:v>22.37369315</c:v>
                </c:pt>
                <c:pt idx="383">
                  <c:v>30.126954002</c:v>
                </c:pt>
                <c:pt idx="384">
                  <c:v>30.817481718</c:v>
                </c:pt>
                <c:pt idx="385">
                  <c:v>29.698799303</c:v>
                </c:pt>
                <c:pt idx="386">
                  <c:v>30.573168252</c:v>
                </c:pt>
                <c:pt idx="387">
                  <c:v>29.709810729</c:v>
                </c:pt>
                <c:pt idx="388">
                  <c:v>30.329944886</c:v>
                </c:pt>
                <c:pt idx="389">
                  <c:v>29.467329214</c:v>
                </c:pt>
                <c:pt idx="390">
                  <c:v>23.41936432</c:v>
                </c:pt>
                <c:pt idx="391">
                  <c:v>30.052789084</c:v>
                </c:pt>
                <c:pt idx="392">
                  <c:v>30.673302529</c:v>
                </c:pt>
                <c:pt idx="393">
                  <c:v>29.793222588</c:v>
                </c:pt>
                <c:pt idx="394">
                  <c:v>30.55921825</c:v>
                </c:pt>
                <c:pt idx="395">
                  <c:v>29.704753448</c:v>
                </c:pt>
                <c:pt idx="396">
                  <c:v>30.333283872</c:v>
                </c:pt>
                <c:pt idx="397">
                  <c:v>29.541768465</c:v>
                </c:pt>
                <c:pt idx="398">
                  <c:v>22.29962706</c:v>
                </c:pt>
                <c:pt idx="399">
                  <c:v>29.824764506</c:v>
                </c:pt>
                <c:pt idx="400">
                  <c:v>30.695873707</c:v>
                </c:pt>
                <c:pt idx="401">
                  <c:v>29.917170539</c:v>
                </c:pt>
                <c:pt idx="402">
                  <c:v>30.519282893</c:v>
                </c:pt>
                <c:pt idx="403">
                  <c:v>29.683587759</c:v>
                </c:pt>
                <c:pt idx="404">
                  <c:v>30.200411487</c:v>
                </c:pt>
                <c:pt idx="405">
                  <c:v>29.47006622</c:v>
                </c:pt>
                <c:pt idx="406">
                  <c:v>23.639857925</c:v>
                </c:pt>
                <c:pt idx="407">
                  <c:v>30.106105938</c:v>
                </c:pt>
                <c:pt idx="408">
                  <c:v>30.638745831</c:v>
                </c:pt>
                <c:pt idx="409">
                  <c:v>29.862561124</c:v>
                </c:pt>
                <c:pt idx="410">
                  <c:v>30.573436073</c:v>
                </c:pt>
                <c:pt idx="411">
                  <c:v>29.713098885</c:v>
                </c:pt>
                <c:pt idx="412">
                  <c:v>30.228545014</c:v>
                </c:pt>
                <c:pt idx="413">
                  <c:v>29.247579799</c:v>
                </c:pt>
                <c:pt idx="414">
                  <c:v>23.606617151</c:v>
                </c:pt>
                <c:pt idx="415">
                  <c:v>10.990844317</c:v>
                </c:pt>
                <c:pt idx="416">
                  <c:v>30.41269837</c:v>
                </c:pt>
                <c:pt idx="417">
                  <c:v>9.725994478</c:v>
                </c:pt>
                <c:pt idx="418">
                  <c:v>30.54079641</c:v>
                </c:pt>
                <c:pt idx="419">
                  <c:v>29.717484225</c:v>
                </c:pt>
                <c:pt idx="420">
                  <c:v>30.415643271</c:v>
                </c:pt>
                <c:pt idx="421">
                  <c:v>29.472305967</c:v>
                </c:pt>
                <c:pt idx="422">
                  <c:v>22.683655257</c:v>
                </c:pt>
                <c:pt idx="423">
                  <c:v>30.18668346</c:v>
                </c:pt>
                <c:pt idx="424">
                  <c:v>30.815184014</c:v>
                </c:pt>
                <c:pt idx="425">
                  <c:v>29.829891065</c:v>
                </c:pt>
                <c:pt idx="426">
                  <c:v>30.656448276</c:v>
                </c:pt>
                <c:pt idx="427">
                  <c:v>29.617869353</c:v>
                </c:pt>
                <c:pt idx="428">
                  <c:v>30.060324348</c:v>
                </c:pt>
                <c:pt idx="429">
                  <c:v>29.362819998</c:v>
                </c:pt>
                <c:pt idx="430">
                  <c:v>23.052616315</c:v>
                </c:pt>
                <c:pt idx="431">
                  <c:v>29.723699007</c:v>
                </c:pt>
                <c:pt idx="432">
                  <c:v>30.023977134</c:v>
                </c:pt>
                <c:pt idx="433">
                  <c:v>30.187611813</c:v>
                </c:pt>
                <c:pt idx="434">
                  <c:v>29.873807991</c:v>
                </c:pt>
                <c:pt idx="435">
                  <c:v>30.461450895</c:v>
                </c:pt>
                <c:pt idx="436">
                  <c:v>29.584812636</c:v>
                </c:pt>
                <c:pt idx="437">
                  <c:v>30.298436492</c:v>
                </c:pt>
                <c:pt idx="438">
                  <c:v>22.089674419</c:v>
                </c:pt>
                <c:pt idx="439">
                  <c:v>30.875703584</c:v>
                </c:pt>
                <c:pt idx="440">
                  <c:v>29.988891544</c:v>
                </c:pt>
                <c:pt idx="441">
                  <c:v>30.765082636</c:v>
                </c:pt>
                <c:pt idx="442">
                  <c:v>29.581970697</c:v>
                </c:pt>
                <c:pt idx="443">
                  <c:v>30.339846829</c:v>
                </c:pt>
                <c:pt idx="444">
                  <c:v>29.54332444</c:v>
                </c:pt>
                <c:pt idx="445">
                  <c:v>30.248426987</c:v>
                </c:pt>
                <c:pt idx="446">
                  <c:v>21.745682864</c:v>
                </c:pt>
                <c:pt idx="447">
                  <c:v>30.816272357</c:v>
                </c:pt>
                <c:pt idx="448">
                  <c:v>30.060842177</c:v>
                </c:pt>
                <c:pt idx="449">
                  <c:v>30.617213521</c:v>
                </c:pt>
                <c:pt idx="450">
                  <c:v>29.831789189</c:v>
                </c:pt>
                <c:pt idx="451">
                  <c:v>30.408046589</c:v>
                </c:pt>
                <c:pt idx="452">
                  <c:v>29.631028877</c:v>
                </c:pt>
                <c:pt idx="453">
                  <c:v>30.22150672</c:v>
                </c:pt>
                <c:pt idx="454">
                  <c:v>22.013755042</c:v>
                </c:pt>
                <c:pt idx="455">
                  <c:v>30.687087084</c:v>
                </c:pt>
                <c:pt idx="456">
                  <c:v>29.7245991</c:v>
                </c:pt>
                <c:pt idx="457">
                  <c:v>30.70652636</c:v>
                </c:pt>
                <c:pt idx="458">
                  <c:v>29.842133957</c:v>
                </c:pt>
                <c:pt idx="459">
                  <c:v>30.479037724</c:v>
                </c:pt>
                <c:pt idx="460">
                  <c:v>29.588853588</c:v>
                </c:pt>
                <c:pt idx="461">
                  <c:v>30.274403139</c:v>
                </c:pt>
                <c:pt idx="462">
                  <c:v>21.005199166</c:v>
                </c:pt>
                <c:pt idx="463">
                  <c:v>30.936339461</c:v>
                </c:pt>
                <c:pt idx="464">
                  <c:v>30.021480595</c:v>
                </c:pt>
                <c:pt idx="465">
                  <c:v>30.593089136</c:v>
                </c:pt>
                <c:pt idx="466">
                  <c:v>29.72724344</c:v>
                </c:pt>
                <c:pt idx="467">
                  <c:v>30.471025071</c:v>
                </c:pt>
                <c:pt idx="468">
                  <c:v>29.663460651</c:v>
                </c:pt>
                <c:pt idx="469">
                  <c:v>30.324118066</c:v>
                </c:pt>
                <c:pt idx="470">
                  <c:v>22.880947539</c:v>
                </c:pt>
                <c:pt idx="471">
                  <c:v>30.771019881</c:v>
                </c:pt>
                <c:pt idx="472">
                  <c:v>29.899855961</c:v>
                </c:pt>
                <c:pt idx="473">
                  <c:v>30.722894829</c:v>
                </c:pt>
                <c:pt idx="474">
                  <c:v>29.859722346</c:v>
                </c:pt>
                <c:pt idx="475">
                  <c:v>30.508937534</c:v>
                </c:pt>
                <c:pt idx="476">
                  <c:v>29.590442403</c:v>
                </c:pt>
                <c:pt idx="477">
                  <c:v>30.204331925</c:v>
                </c:pt>
                <c:pt idx="478">
                  <c:v>21.431934568</c:v>
                </c:pt>
                <c:pt idx="479">
                  <c:v>30.846565178</c:v>
                </c:pt>
                <c:pt idx="480">
                  <c:v>29.625132188</c:v>
                </c:pt>
                <c:pt idx="481">
                  <c:v>30.741416725</c:v>
                </c:pt>
                <c:pt idx="482">
                  <c:v>29.540462684</c:v>
                </c:pt>
                <c:pt idx="483">
                  <c:v>30.519994579</c:v>
                </c:pt>
                <c:pt idx="484">
                  <c:v>29.399811852</c:v>
                </c:pt>
                <c:pt idx="485">
                  <c:v>30.305773822</c:v>
                </c:pt>
                <c:pt idx="486">
                  <c:v>22.22671028</c:v>
                </c:pt>
                <c:pt idx="487">
                  <c:v>31.032308552</c:v>
                </c:pt>
                <c:pt idx="488">
                  <c:v>29.971350884</c:v>
                </c:pt>
                <c:pt idx="489">
                  <c:v>30.753696774</c:v>
                </c:pt>
                <c:pt idx="490">
                  <c:v>29.809084214</c:v>
                </c:pt>
                <c:pt idx="491">
                  <c:v>30.627811638</c:v>
                </c:pt>
                <c:pt idx="492">
                  <c:v>29.584506127</c:v>
                </c:pt>
                <c:pt idx="493">
                  <c:v>30.421446394</c:v>
                </c:pt>
                <c:pt idx="494">
                  <c:v>21.590992675</c:v>
                </c:pt>
                <c:pt idx="495">
                  <c:v>18.25518393</c:v>
                </c:pt>
                <c:pt idx="496">
                  <c:v>2.178234041</c:v>
                </c:pt>
                <c:pt idx="497">
                  <c:v>29.874148937</c:v>
                </c:pt>
                <c:pt idx="498">
                  <c:v>30.166766657</c:v>
                </c:pt>
                <c:pt idx="499">
                  <c:v>30.150666905</c:v>
                </c:pt>
                <c:pt idx="500">
                  <c:v>30.017578791</c:v>
                </c:pt>
                <c:pt idx="501">
                  <c:v>29.882788843</c:v>
                </c:pt>
                <c:pt idx="502">
                  <c:v>11.637539668</c:v>
                </c:pt>
                <c:pt idx="503">
                  <c:v>30.718688419</c:v>
                </c:pt>
                <c:pt idx="504">
                  <c:v>30.189671798</c:v>
                </c:pt>
                <c:pt idx="505">
                  <c:v>29.910646741</c:v>
                </c:pt>
                <c:pt idx="506">
                  <c:v>30.351016241</c:v>
                </c:pt>
                <c:pt idx="507">
                  <c:v>30.282195928</c:v>
                </c:pt>
                <c:pt idx="508">
                  <c:v>30.159612307</c:v>
                </c:pt>
                <c:pt idx="509">
                  <c:v>29.964717682</c:v>
                </c:pt>
                <c:pt idx="510">
                  <c:v>22.825629307</c:v>
                </c:pt>
                <c:pt idx="511">
                  <c:v>30.58379545</c:v>
                </c:pt>
                <c:pt idx="512">
                  <c:v>30.528745105</c:v>
                </c:pt>
                <c:pt idx="513">
                  <c:v>30.148699049</c:v>
                </c:pt>
                <c:pt idx="514">
                  <c:v>30.283684895</c:v>
                </c:pt>
                <c:pt idx="515">
                  <c:v>1.726440935</c:v>
                </c:pt>
                <c:pt idx="516">
                  <c:v>29.871620437</c:v>
                </c:pt>
                <c:pt idx="517">
                  <c:v>29.758363806</c:v>
                </c:pt>
                <c:pt idx="518">
                  <c:v>2.036411209</c:v>
                </c:pt>
                <c:pt idx="519">
                  <c:v>30.05235779</c:v>
                </c:pt>
                <c:pt idx="520">
                  <c:v>30.338469544</c:v>
                </c:pt>
                <c:pt idx="521">
                  <c:v>30.118749934</c:v>
                </c:pt>
                <c:pt idx="522">
                  <c:v>30.144185529</c:v>
                </c:pt>
                <c:pt idx="523">
                  <c:v>12.60355777</c:v>
                </c:pt>
                <c:pt idx="524">
                  <c:v>30.055693452</c:v>
                </c:pt>
                <c:pt idx="525">
                  <c:v>29.791414135</c:v>
                </c:pt>
                <c:pt idx="526">
                  <c:v>21.783505089</c:v>
                </c:pt>
                <c:pt idx="527">
                  <c:v>30.432233713</c:v>
                </c:pt>
                <c:pt idx="528">
                  <c:v>30.393599815</c:v>
                </c:pt>
                <c:pt idx="529">
                  <c:v>30.321512825</c:v>
                </c:pt>
                <c:pt idx="530">
                  <c:v>30.145053408</c:v>
                </c:pt>
                <c:pt idx="531">
                  <c:v>30.036523502</c:v>
                </c:pt>
                <c:pt idx="532">
                  <c:v>30.066338013</c:v>
                </c:pt>
                <c:pt idx="533">
                  <c:v>29.379545488</c:v>
                </c:pt>
                <c:pt idx="534">
                  <c:v>22.137764966</c:v>
                </c:pt>
                <c:pt idx="535">
                  <c:v>30.381370516</c:v>
                </c:pt>
                <c:pt idx="536">
                  <c:v>30.485841437</c:v>
                </c:pt>
                <c:pt idx="537">
                  <c:v>30.25466186</c:v>
                </c:pt>
                <c:pt idx="538">
                  <c:v>30.19544706</c:v>
                </c:pt>
                <c:pt idx="539">
                  <c:v>30.077191715</c:v>
                </c:pt>
                <c:pt idx="540">
                  <c:v>30.003357275</c:v>
                </c:pt>
                <c:pt idx="541">
                  <c:v>29.867331488</c:v>
                </c:pt>
                <c:pt idx="542">
                  <c:v>21.22845863</c:v>
                </c:pt>
                <c:pt idx="543">
                  <c:v>30.349022147</c:v>
                </c:pt>
                <c:pt idx="544">
                  <c:v>30.312120115</c:v>
                </c:pt>
                <c:pt idx="545">
                  <c:v>30.252039404</c:v>
                </c:pt>
                <c:pt idx="546">
                  <c:v>30.20334446</c:v>
                </c:pt>
                <c:pt idx="547">
                  <c:v>29.995077159</c:v>
                </c:pt>
                <c:pt idx="548">
                  <c:v>30.280035727</c:v>
                </c:pt>
                <c:pt idx="549">
                  <c:v>29.817856352</c:v>
                </c:pt>
                <c:pt idx="550">
                  <c:v>22.003592746</c:v>
                </c:pt>
                <c:pt idx="551">
                  <c:v>30.448310981</c:v>
                </c:pt>
                <c:pt idx="552">
                  <c:v>30.314109362</c:v>
                </c:pt>
                <c:pt idx="553">
                  <c:v>30.283188556</c:v>
                </c:pt>
                <c:pt idx="554">
                  <c:v>30.174185275</c:v>
                </c:pt>
                <c:pt idx="555">
                  <c:v>29.987631824</c:v>
                </c:pt>
                <c:pt idx="556">
                  <c:v>29.908681613</c:v>
                </c:pt>
                <c:pt idx="557">
                  <c:v>29.938185675</c:v>
                </c:pt>
                <c:pt idx="558">
                  <c:v>23.222673373</c:v>
                </c:pt>
                <c:pt idx="559">
                  <c:v>30.534383694</c:v>
                </c:pt>
                <c:pt idx="560">
                  <c:v>30.363250461</c:v>
                </c:pt>
                <c:pt idx="561">
                  <c:v>30.009204815</c:v>
                </c:pt>
                <c:pt idx="562">
                  <c:v>29.689591931</c:v>
                </c:pt>
                <c:pt idx="563">
                  <c:v>30.180795554</c:v>
                </c:pt>
                <c:pt idx="564">
                  <c:v>29.963945906</c:v>
                </c:pt>
                <c:pt idx="565">
                  <c:v>29.9344196</c:v>
                </c:pt>
                <c:pt idx="566">
                  <c:v>22.310096398</c:v>
                </c:pt>
                <c:pt idx="567">
                  <c:v>30.391364881</c:v>
                </c:pt>
                <c:pt idx="568">
                  <c:v>30.36436582</c:v>
                </c:pt>
                <c:pt idx="569">
                  <c:v>30.282254316</c:v>
                </c:pt>
                <c:pt idx="570">
                  <c:v>30.170881221</c:v>
                </c:pt>
                <c:pt idx="571">
                  <c:v>30.035949069</c:v>
                </c:pt>
                <c:pt idx="572">
                  <c:v>29.771846026</c:v>
                </c:pt>
                <c:pt idx="573">
                  <c:v>29.875313896</c:v>
                </c:pt>
                <c:pt idx="574">
                  <c:v>11.052924952</c:v>
                </c:pt>
                <c:pt idx="575">
                  <c:v>30.171228982</c:v>
                </c:pt>
                <c:pt idx="576">
                  <c:v>30.260287104</c:v>
                </c:pt>
                <c:pt idx="577">
                  <c:v>30.190571317</c:v>
                </c:pt>
                <c:pt idx="578">
                  <c:v>30.111185354</c:v>
                </c:pt>
                <c:pt idx="579">
                  <c:v>30.062251911</c:v>
                </c:pt>
                <c:pt idx="580">
                  <c:v>29.919136783</c:v>
                </c:pt>
                <c:pt idx="581">
                  <c:v>29.994160611</c:v>
                </c:pt>
                <c:pt idx="582">
                  <c:v>22.363992004</c:v>
                </c:pt>
                <c:pt idx="583">
                  <c:v>30.498451124</c:v>
                </c:pt>
                <c:pt idx="584">
                  <c:v>30.125827122</c:v>
                </c:pt>
                <c:pt idx="585">
                  <c:v>30.355415904</c:v>
                </c:pt>
                <c:pt idx="586">
                  <c:v>30.280882255</c:v>
                </c:pt>
                <c:pt idx="587">
                  <c:v>30.133688142</c:v>
                </c:pt>
                <c:pt idx="588">
                  <c:v>30.068582963</c:v>
                </c:pt>
                <c:pt idx="589">
                  <c:v>29.56493052</c:v>
                </c:pt>
                <c:pt idx="590">
                  <c:v>23.273363436</c:v>
                </c:pt>
                <c:pt idx="591">
                  <c:v>30.47797307</c:v>
                </c:pt>
                <c:pt idx="592">
                  <c:v>30.399306268</c:v>
                </c:pt>
                <c:pt idx="593">
                  <c:v>30.322273861</c:v>
                </c:pt>
                <c:pt idx="594">
                  <c:v>30.331116376</c:v>
                </c:pt>
                <c:pt idx="595">
                  <c:v>30.18346368</c:v>
                </c:pt>
                <c:pt idx="596">
                  <c:v>29.98588557</c:v>
                </c:pt>
                <c:pt idx="597">
                  <c:v>29.873467052</c:v>
                </c:pt>
                <c:pt idx="598">
                  <c:v>20.779972441</c:v>
                </c:pt>
                <c:pt idx="599">
                  <c:v>30.477411199</c:v>
                </c:pt>
                <c:pt idx="600">
                  <c:v>30.405721232</c:v>
                </c:pt>
                <c:pt idx="601">
                  <c:v>30.228923197</c:v>
                </c:pt>
                <c:pt idx="602">
                  <c:v>30.269968585</c:v>
                </c:pt>
                <c:pt idx="603">
                  <c:v>30.156629917</c:v>
                </c:pt>
                <c:pt idx="604">
                  <c:v>29.564958347</c:v>
                </c:pt>
                <c:pt idx="605">
                  <c:v>29.734700761</c:v>
                </c:pt>
                <c:pt idx="606">
                  <c:v>11.815625028</c:v>
                </c:pt>
                <c:pt idx="607">
                  <c:v>30.496378393</c:v>
                </c:pt>
                <c:pt idx="608">
                  <c:v>30.368182143</c:v>
                </c:pt>
                <c:pt idx="609">
                  <c:v>30.308698051</c:v>
                </c:pt>
                <c:pt idx="610">
                  <c:v>30.096961537</c:v>
                </c:pt>
                <c:pt idx="611">
                  <c:v>30.031383104</c:v>
                </c:pt>
                <c:pt idx="612">
                  <c:v>29.867530286</c:v>
                </c:pt>
                <c:pt idx="613">
                  <c:v>29.875171823</c:v>
                </c:pt>
                <c:pt idx="614">
                  <c:v>21.651296475</c:v>
                </c:pt>
                <c:pt idx="615">
                  <c:v>30.495164496</c:v>
                </c:pt>
                <c:pt idx="616">
                  <c:v>30.362516717</c:v>
                </c:pt>
                <c:pt idx="617">
                  <c:v>29.849904334</c:v>
                </c:pt>
                <c:pt idx="618">
                  <c:v>29.827681614</c:v>
                </c:pt>
                <c:pt idx="619">
                  <c:v>30.035776743</c:v>
                </c:pt>
                <c:pt idx="620">
                  <c:v>29.997053657</c:v>
                </c:pt>
                <c:pt idx="621">
                  <c:v>29.883073135</c:v>
                </c:pt>
                <c:pt idx="622">
                  <c:v>22.271388336</c:v>
                </c:pt>
                <c:pt idx="623">
                  <c:v>30.508730106</c:v>
                </c:pt>
                <c:pt idx="624">
                  <c:v>30.430111013</c:v>
                </c:pt>
                <c:pt idx="625">
                  <c:v>30.372528047</c:v>
                </c:pt>
                <c:pt idx="626">
                  <c:v>30.18442084</c:v>
                </c:pt>
                <c:pt idx="627">
                  <c:v>30.100768625</c:v>
                </c:pt>
                <c:pt idx="628">
                  <c:v>29.963545741</c:v>
                </c:pt>
                <c:pt idx="629">
                  <c:v>29.884039769</c:v>
                </c:pt>
                <c:pt idx="630">
                  <c:v>21.756150742</c:v>
                </c:pt>
                <c:pt idx="631">
                  <c:v>30.465262115</c:v>
                </c:pt>
                <c:pt idx="632">
                  <c:v>30.065388327</c:v>
                </c:pt>
                <c:pt idx="633">
                  <c:v>30.301388536</c:v>
                </c:pt>
                <c:pt idx="634">
                  <c:v>30.053105374</c:v>
                </c:pt>
                <c:pt idx="635">
                  <c:v>30.022771856</c:v>
                </c:pt>
                <c:pt idx="636">
                  <c:v>29.984454365</c:v>
                </c:pt>
                <c:pt idx="637">
                  <c:v>29.910789151</c:v>
                </c:pt>
                <c:pt idx="638">
                  <c:v>22.012304915</c:v>
                </c:pt>
                <c:pt idx="639">
                  <c:v>30.505293133</c:v>
                </c:pt>
                <c:pt idx="640">
                  <c:v>30.340520865</c:v>
                </c:pt>
                <c:pt idx="641">
                  <c:v>30.335393084</c:v>
                </c:pt>
                <c:pt idx="642">
                  <c:v>30.162218762</c:v>
                </c:pt>
                <c:pt idx="643">
                  <c:v>30.127503025</c:v>
                </c:pt>
                <c:pt idx="644">
                  <c:v>29.954259202</c:v>
                </c:pt>
                <c:pt idx="645">
                  <c:v>29.898205288</c:v>
                </c:pt>
                <c:pt idx="646">
                  <c:v>21.600836762</c:v>
                </c:pt>
                <c:pt idx="647">
                  <c:v>30.440520973</c:v>
                </c:pt>
                <c:pt idx="648">
                  <c:v>30.060928483</c:v>
                </c:pt>
                <c:pt idx="649">
                  <c:v>30.347849273</c:v>
                </c:pt>
                <c:pt idx="650">
                  <c:v>30.23232727</c:v>
                </c:pt>
                <c:pt idx="651">
                  <c:v>30.061877887</c:v>
                </c:pt>
                <c:pt idx="652">
                  <c:v>30.035719302</c:v>
                </c:pt>
                <c:pt idx="653">
                  <c:v>29.897977624</c:v>
                </c:pt>
                <c:pt idx="654">
                  <c:v>22.090389029</c:v>
                </c:pt>
                <c:pt idx="655">
                  <c:v>30.460771476</c:v>
                </c:pt>
                <c:pt idx="656">
                  <c:v>30.43506444</c:v>
                </c:pt>
                <c:pt idx="657">
                  <c:v>30.367007788</c:v>
                </c:pt>
                <c:pt idx="658">
                  <c:v>30.201311646</c:v>
                </c:pt>
                <c:pt idx="659">
                  <c:v>30.215256438</c:v>
                </c:pt>
                <c:pt idx="660">
                  <c:v>29.6833353</c:v>
                </c:pt>
                <c:pt idx="661">
                  <c:v>29.882561413</c:v>
                </c:pt>
                <c:pt idx="662">
                  <c:v>23.336457233</c:v>
                </c:pt>
                <c:pt idx="663">
                  <c:v>30.562548437</c:v>
                </c:pt>
                <c:pt idx="664">
                  <c:v>30.417057026</c:v>
                </c:pt>
                <c:pt idx="665">
                  <c:v>30.379725016</c:v>
                </c:pt>
                <c:pt idx="666">
                  <c:v>30.249242618</c:v>
                </c:pt>
                <c:pt idx="667">
                  <c:v>30.217901591</c:v>
                </c:pt>
                <c:pt idx="668">
                  <c:v>30.051610243</c:v>
                </c:pt>
                <c:pt idx="669">
                  <c:v>29.931966455</c:v>
                </c:pt>
                <c:pt idx="670">
                  <c:v>11.010897959</c:v>
                </c:pt>
                <c:pt idx="671">
                  <c:v>30.403955375</c:v>
                </c:pt>
                <c:pt idx="672">
                  <c:v>30.354565203</c:v>
                </c:pt>
                <c:pt idx="673">
                  <c:v>10.217579546</c:v>
                </c:pt>
                <c:pt idx="674">
                  <c:v>29.781386855</c:v>
                </c:pt>
                <c:pt idx="675">
                  <c:v>29.977586484</c:v>
                </c:pt>
                <c:pt idx="676">
                  <c:v>29.975440916</c:v>
                </c:pt>
                <c:pt idx="677">
                  <c:v>29.897351564</c:v>
                </c:pt>
                <c:pt idx="678">
                  <c:v>21.93774285</c:v>
                </c:pt>
                <c:pt idx="679">
                  <c:v>30.376728312</c:v>
                </c:pt>
                <c:pt idx="680">
                  <c:v>30.262998461</c:v>
                </c:pt>
                <c:pt idx="681">
                  <c:v>29.888532596</c:v>
                </c:pt>
                <c:pt idx="682">
                  <c:v>30.241466778</c:v>
                </c:pt>
                <c:pt idx="683">
                  <c:v>30.091252711</c:v>
                </c:pt>
                <c:pt idx="684">
                  <c:v>29.960116194</c:v>
                </c:pt>
                <c:pt idx="685">
                  <c:v>29.841623636</c:v>
                </c:pt>
                <c:pt idx="686">
                  <c:v>22.430827752</c:v>
                </c:pt>
                <c:pt idx="687">
                  <c:v>30.557285885</c:v>
                </c:pt>
                <c:pt idx="688">
                  <c:v>30.433059287</c:v>
                </c:pt>
                <c:pt idx="689">
                  <c:v>29.965375153</c:v>
                </c:pt>
                <c:pt idx="690">
                  <c:v>30.194198952</c:v>
                </c:pt>
                <c:pt idx="691">
                  <c:v>29.92654814</c:v>
                </c:pt>
                <c:pt idx="692">
                  <c:v>29.830004379</c:v>
                </c:pt>
                <c:pt idx="693">
                  <c:v>29.871023887</c:v>
                </c:pt>
                <c:pt idx="694">
                  <c:v>22.868470496</c:v>
                </c:pt>
                <c:pt idx="695">
                  <c:v>30.517829969</c:v>
                </c:pt>
                <c:pt idx="696">
                  <c:v>30.331467841</c:v>
                </c:pt>
                <c:pt idx="697">
                  <c:v>30.249563057</c:v>
                </c:pt>
                <c:pt idx="698">
                  <c:v>30.18952672</c:v>
                </c:pt>
                <c:pt idx="699">
                  <c:v>30.145140199</c:v>
                </c:pt>
                <c:pt idx="700">
                  <c:v>29.471172225</c:v>
                </c:pt>
                <c:pt idx="701">
                  <c:v>29.74007798</c:v>
                </c:pt>
                <c:pt idx="702">
                  <c:v>22.100009696</c:v>
                </c:pt>
                <c:pt idx="703">
                  <c:v>29.916458196</c:v>
                </c:pt>
                <c:pt idx="704">
                  <c:v>30.364629996</c:v>
                </c:pt>
                <c:pt idx="705">
                  <c:v>30.286400446</c:v>
                </c:pt>
                <c:pt idx="706">
                  <c:v>30.085430786</c:v>
                </c:pt>
                <c:pt idx="707">
                  <c:v>29.939726615</c:v>
                </c:pt>
                <c:pt idx="708">
                  <c:v>30.001494567</c:v>
                </c:pt>
                <c:pt idx="709">
                  <c:v>29.842644296</c:v>
                </c:pt>
                <c:pt idx="710">
                  <c:v>22.403470314</c:v>
                </c:pt>
                <c:pt idx="711">
                  <c:v>30.283684895</c:v>
                </c:pt>
                <c:pt idx="712">
                  <c:v>29.880230455</c:v>
                </c:pt>
                <c:pt idx="713">
                  <c:v>30.23168713</c:v>
                </c:pt>
                <c:pt idx="714">
                  <c:v>30.152635017</c:v>
                </c:pt>
                <c:pt idx="715">
                  <c:v>30.014624424</c:v>
                </c:pt>
                <c:pt idx="716">
                  <c:v>29.982851578</c:v>
                </c:pt>
                <c:pt idx="717">
                  <c:v>29.610889215</c:v>
                </c:pt>
                <c:pt idx="718">
                  <c:v>22.402623459</c:v>
                </c:pt>
                <c:pt idx="719">
                  <c:v>30.484273356</c:v>
                </c:pt>
                <c:pt idx="720">
                  <c:v>30.38154683</c:v>
                </c:pt>
                <c:pt idx="721">
                  <c:v>30.244844555</c:v>
                </c:pt>
                <c:pt idx="722">
                  <c:v>30.097711342</c:v>
                </c:pt>
                <c:pt idx="723">
                  <c:v>30.038304386</c:v>
                </c:pt>
                <c:pt idx="724">
                  <c:v>29.965489499</c:v>
                </c:pt>
                <c:pt idx="725">
                  <c:v>29.954544856</c:v>
                </c:pt>
                <c:pt idx="726">
                  <c:v>22.252013693</c:v>
                </c:pt>
                <c:pt idx="727">
                  <c:v>30.489688358</c:v>
                </c:pt>
                <c:pt idx="728">
                  <c:v>30.37296858</c:v>
                </c:pt>
                <c:pt idx="729">
                  <c:v>30.215372699</c:v>
                </c:pt>
                <c:pt idx="730">
                  <c:v>30.122389215</c:v>
                </c:pt>
                <c:pt idx="731">
                  <c:v>29.710625674</c:v>
                </c:pt>
                <c:pt idx="732">
                  <c:v>29.692258113</c:v>
                </c:pt>
                <c:pt idx="733">
                  <c:v>29.842474181</c:v>
                </c:pt>
                <c:pt idx="734">
                  <c:v>22.021178368</c:v>
                </c:pt>
                <c:pt idx="735">
                  <c:v>30.485160929</c:v>
                </c:pt>
                <c:pt idx="736">
                  <c:v>30.490191488</c:v>
                </c:pt>
                <c:pt idx="737">
                  <c:v>30.354447869</c:v>
                </c:pt>
                <c:pt idx="738">
                  <c:v>30.185146002</c:v>
                </c:pt>
                <c:pt idx="739">
                  <c:v>30.157961785</c:v>
                </c:pt>
                <c:pt idx="740">
                  <c:v>30.073016287</c:v>
                </c:pt>
                <c:pt idx="741">
                  <c:v>29.904353545</c:v>
                </c:pt>
                <c:pt idx="742">
                  <c:v>23.080938626</c:v>
                </c:pt>
                <c:pt idx="743">
                  <c:v>30.476050966</c:v>
                </c:pt>
                <c:pt idx="744">
                  <c:v>30.432115777</c:v>
                </c:pt>
                <c:pt idx="745">
                  <c:v>30.001924402</c:v>
                </c:pt>
                <c:pt idx="746">
                  <c:v>30.216971374</c:v>
                </c:pt>
                <c:pt idx="747">
                  <c:v>30.133832684</c:v>
                </c:pt>
                <c:pt idx="748">
                  <c:v>30.058569617</c:v>
                </c:pt>
                <c:pt idx="749">
                  <c:v>29.986687104</c:v>
                </c:pt>
                <c:pt idx="750">
                  <c:v>13.353804051</c:v>
                </c:pt>
                <c:pt idx="751">
                  <c:v>30.472739602</c:v>
                </c:pt>
                <c:pt idx="752">
                  <c:v>30.426367528</c:v>
                </c:pt>
                <c:pt idx="753">
                  <c:v>30.320020137</c:v>
                </c:pt>
                <c:pt idx="754">
                  <c:v>30.125509299</c:v>
                </c:pt>
                <c:pt idx="755">
                  <c:v>30.104518971</c:v>
                </c:pt>
                <c:pt idx="756">
                  <c:v>29.964288913</c:v>
                </c:pt>
                <c:pt idx="757">
                  <c:v>29.470619212</c:v>
                </c:pt>
                <c:pt idx="758">
                  <c:v>6.020064883</c:v>
                </c:pt>
                <c:pt idx="759">
                  <c:v>29.973495866</c:v>
                </c:pt>
                <c:pt idx="760">
                  <c:v>30.445979462</c:v>
                </c:pt>
                <c:pt idx="761">
                  <c:v>30.286926093</c:v>
                </c:pt>
                <c:pt idx="762">
                  <c:v>30.150464319</c:v>
                </c:pt>
                <c:pt idx="763">
                  <c:v>30.0902438</c:v>
                </c:pt>
                <c:pt idx="764">
                  <c:v>29.991583119</c:v>
                </c:pt>
                <c:pt idx="765">
                  <c:v>29.855748962</c:v>
                </c:pt>
                <c:pt idx="766">
                  <c:v>22.295321804</c:v>
                </c:pt>
                <c:pt idx="767">
                  <c:v>30.553332731</c:v>
                </c:pt>
                <c:pt idx="768">
                  <c:v>30.355445239</c:v>
                </c:pt>
                <c:pt idx="769">
                  <c:v>30.328919906</c:v>
                </c:pt>
                <c:pt idx="770">
                  <c:v>30.210606744</c:v>
                </c:pt>
                <c:pt idx="771">
                  <c:v>2.013824424</c:v>
                </c:pt>
                <c:pt idx="772">
                  <c:v>30.074455958</c:v>
                </c:pt>
                <c:pt idx="773">
                  <c:v>29.906175737</c:v>
                </c:pt>
                <c:pt idx="774">
                  <c:v>2.002866209</c:v>
                </c:pt>
                <c:pt idx="775">
                  <c:v>30.479717958</c:v>
                </c:pt>
                <c:pt idx="776">
                  <c:v>29.950803223</c:v>
                </c:pt>
                <c:pt idx="777">
                  <c:v>30.290284823</c:v>
                </c:pt>
                <c:pt idx="778">
                  <c:v>30.149277804</c:v>
                </c:pt>
                <c:pt idx="779">
                  <c:v>13.062631243</c:v>
                </c:pt>
                <c:pt idx="780">
                  <c:v>29.874575131</c:v>
                </c:pt>
                <c:pt idx="781">
                  <c:v>29.811347497</c:v>
                </c:pt>
                <c:pt idx="782">
                  <c:v>22.477472969</c:v>
                </c:pt>
                <c:pt idx="783">
                  <c:v>29.656151013</c:v>
                </c:pt>
                <c:pt idx="784">
                  <c:v>30.310189625</c:v>
                </c:pt>
                <c:pt idx="785">
                  <c:v>30.084422266</c:v>
                </c:pt>
                <c:pt idx="786">
                  <c:v>29.836351339</c:v>
                </c:pt>
                <c:pt idx="787">
                  <c:v>29.901222173</c:v>
                </c:pt>
                <c:pt idx="788">
                  <c:v>29.542824287</c:v>
                </c:pt>
                <c:pt idx="789">
                  <c:v>29.758363806</c:v>
                </c:pt>
                <c:pt idx="790">
                  <c:v>24.306981934</c:v>
                </c:pt>
                <c:pt idx="791">
                  <c:v>30.34623672</c:v>
                </c:pt>
                <c:pt idx="792">
                  <c:v>30.249679582</c:v>
                </c:pt>
                <c:pt idx="793">
                  <c:v>30.154603386</c:v>
                </c:pt>
                <c:pt idx="794">
                  <c:v>30.006510077</c:v>
                </c:pt>
                <c:pt idx="795">
                  <c:v>30.095260196</c:v>
                </c:pt>
                <c:pt idx="796">
                  <c:v>29.925607265</c:v>
                </c:pt>
                <c:pt idx="797">
                  <c:v>29.730619876</c:v>
                </c:pt>
                <c:pt idx="798">
                  <c:v>20.989380529</c:v>
                </c:pt>
                <c:pt idx="799">
                  <c:v>30.339143519</c:v>
                </c:pt>
                <c:pt idx="800">
                  <c:v>30.29238806</c:v>
                </c:pt>
                <c:pt idx="801">
                  <c:v>30.175402741</c:v>
                </c:pt>
                <c:pt idx="802">
                  <c:v>29.689732244</c:v>
                </c:pt>
                <c:pt idx="803">
                  <c:v>30.041464537</c:v>
                </c:pt>
                <c:pt idx="804">
                  <c:v>29.882504556</c:v>
                </c:pt>
                <c:pt idx="805">
                  <c:v>19.707640581</c:v>
                </c:pt>
                <c:pt idx="806">
                  <c:v>3.602018718</c:v>
                </c:pt>
                <c:pt idx="807">
                  <c:v>30.27346944</c:v>
                </c:pt>
                <c:pt idx="808">
                  <c:v>30.236692588</c:v>
                </c:pt>
                <c:pt idx="809">
                  <c:v>30.137562359</c:v>
                </c:pt>
                <c:pt idx="810">
                  <c:v>29.896554798</c:v>
                </c:pt>
                <c:pt idx="811">
                  <c:v>29.898404498</c:v>
                </c:pt>
                <c:pt idx="812">
                  <c:v>8.785337742</c:v>
                </c:pt>
                <c:pt idx="813">
                  <c:v>2.30279993</c:v>
                </c:pt>
                <c:pt idx="814">
                  <c:v>30.378696668</c:v>
                </c:pt>
                <c:pt idx="815">
                  <c:v>30.358232358</c:v>
                </c:pt>
                <c:pt idx="816">
                  <c:v>29.879178801</c:v>
                </c:pt>
                <c:pt idx="817">
                  <c:v>11.381019384</c:v>
                </c:pt>
                <c:pt idx="818">
                  <c:v>29.916344224</c:v>
                </c:pt>
                <c:pt idx="819">
                  <c:v>29.356480827</c:v>
                </c:pt>
                <c:pt idx="820">
                  <c:v>29.665029472</c:v>
                </c:pt>
                <c:pt idx="821">
                  <c:v>22.424470393</c:v>
                </c:pt>
                <c:pt idx="822">
                  <c:v>30.286400446</c:v>
                </c:pt>
                <c:pt idx="823">
                  <c:v>30.313816809</c:v>
                </c:pt>
                <c:pt idx="824">
                  <c:v>30.062971215</c:v>
                </c:pt>
                <c:pt idx="825">
                  <c:v>30.091425674</c:v>
                </c:pt>
                <c:pt idx="826">
                  <c:v>29.964803438</c:v>
                </c:pt>
                <c:pt idx="827">
                  <c:v>29.825755692</c:v>
                </c:pt>
                <c:pt idx="828">
                  <c:v>29.782601068</c:v>
                </c:pt>
                <c:pt idx="829">
                  <c:v>22.085372199</c:v>
                </c:pt>
                <c:pt idx="830">
                  <c:v>30.026617603</c:v>
                </c:pt>
                <c:pt idx="831">
                  <c:v>30.21781438</c:v>
                </c:pt>
                <c:pt idx="832">
                  <c:v>30.242922624</c:v>
                </c:pt>
                <c:pt idx="833">
                  <c:v>30.072958703</c:v>
                </c:pt>
                <c:pt idx="834">
                  <c:v>29.727890531</c:v>
                </c:pt>
                <c:pt idx="835">
                  <c:v>29.81579019</c:v>
                </c:pt>
                <c:pt idx="836">
                  <c:v>29.853450559</c:v>
                </c:pt>
                <c:pt idx="837">
                  <c:v>21.389480037</c:v>
                </c:pt>
                <c:pt idx="838">
                  <c:v>30.370384304</c:v>
                </c:pt>
                <c:pt idx="839">
                  <c:v>30.252359902</c:v>
                </c:pt>
                <c:pt idx="840">
                  <c:v>29.980104341</c:v>
                </c:pt>
                <c:pt idx="841">
                  <c:v>30.130277343</c:v>
                </c:pt>
                <c:pt idx="842">
                  <c:v>30.075550201</c:v>
                </c:pt>
                <c:pt idx="843">
                  <c:v>29.973438663</c:v>
                </c:pt>
                <c:pt idx="844">
                  <c:v>29.816441142</c:v>
                </c:pt>
                <c:pt idx="845">
                  <c:v>22.018291782</c:v>
                </c:pt>
                <c:pt idx="846">
                  <c:v>30.432587525</c:v>
                </c:pt>
                <c:pt idx="847">
                  <c:v>30.34222074</c:v>
                </c:pt>
                <c:pt idx="848">
                  <c:v>29.644815602</c:v>
                </c:pt>
                <c:pt idx="849">
                  <c:v>30.111878135</c:v>
                </c:pt>
                <c:pt idx="850">
                  <c:v>30.077796528</c:v>
                </c:pt>
                <c:pt idx="851">
                  <c:v>30.007714049</c:v>
                </c:pt>
                <c:pt idx="852">
                  <c:v>29.852911478</c:v>
                </c:pt>
                <c:pt idx="853">
                  <c:v>23.551428999</c:v>
                </c:pt>
                <c:pt idx="854">
                  <c:v>30.474276931</c:v>
                </c:pt>
                <c:pt idx="855">
                  <c:v>30.269501866</c:v>
                </c:pt>
                <c:pt idx="856">
                  <c:v>30.192457578</c:v>
                </c:pt>
                <c:pt idx="857">
                  <c:v>30.110232833</c:v>
                </c:pt>
                <c:pt idx="858">
                  <c:v>30.082664721</c:v>
                </c:pt>
                <c:pt idx="859">
                  <c:v>29.624908663</c:v>
                </c:pt>
                <c:pt idx="860">
                  <c:v>29.74751357</c:v>
                </c:pt>
                <c:pt idx="861">
                  <c:v>23.453708</c:v>
                </c:pt>
                <c:pt idx="862">
                  <c:v>30.321015246</c:v>
                </c:pt>
                <c:pt idx="863">
                  <c:v>30.336272009</c:v>
                </c:pt>
                <c:pt idx="864">
                  <c:v>30.188482195</c:v>
                </c:pt>
                <c:pt idx="865">
                  <c:v>30.114158762</c:v>
                </c:pt>
                <c:pt idx="866">
                  <c:v>30.105298007</c:v>
                </c:pt>
                <c:pt idx="867">
                  <c:v>29.942723342</c:v>
                </c:pt>
                <c:pt idx="868">
                  <c:v>29.839554179</c:v>
                </c:pt>
                <c:pt idx="869">
                  <c:v>15.77662709</c:v>
                </c:pt>
                <c:pt idx="870">
                  <c:v>30.526045255</c:v>
                </c:pt>
                <c:pt idx="871">
                  <c:v>30.433973368</c:v>
                </c:pt>
                <c:pt idx="872">
                  <c:v>30.117103881</c:v>
                </c:pt>
                <c:pt idx="873">
                  <c:v>29.608851635</c:v>
                </c:pt>
                <c:pt idx="874">
                  <c:v>30.014022148</c:v>
                </c:pt>
                <c:pt idx="875">
                  <c:v>29.750838256</c:v>
                </c:pt>
                <c:pt idx="876">
                  <c:v>29.808546734</c:v>
                </c:pt>
                <c:pt idx="877">
                  <c:v>22.342167345</c:v>
                </c:pt>
                <c:pt idx="878">
                  <c:v>30.378667288</c:v>
                </c:pt>
                <c:pt idx="879">
                  <c:v>30.145632023</c:v>
                </c:pt>
                <c:pt idx="880">
                  <c:v>30.176272419</c:v>
                </c:pt>
                <c:pt idx="881">
                  <c:v>29.999087717</c:v>
                </c:pt>
                <c:pt idx="882">
                  <c:v>30.016201926</c:v>
                </c:pt>
                <c:pt idx="883">
                  <c:v>29.843409836</c:v>
                </c:pt>
                <c:pt idx="884">
                  <c:v>29.800458597</c:v>
                </c:pt>
                <c:pt idx="885">
                  <c:v>21.923334744</c:v>
                </c:pt>
                <c:pt idx="886">
                  <c:v>30.483622501</c:v>
                </c:pt>
                <c:pt idx="887">
                  <c:v>29.94426475</c:v>
                </c:pt>
                <c:pt idx="888">
                  <c:v>30.219180732</c:v>
                </c:pt>
                <c:pt idx="889">
                  <c:v>30.021451901</c:v>
                </c:pt>
                <c:pt idx="890">
                  <c:v>30.014108186</c:v>
                </c:pt>
                <c:pt idx="891">
                  <c:v>29.897095456</c:v>
                </c:pt>
                <c:pt idx="892">
                  <c:v>29.854642279</c:v>
                </c:pt>
                <c:pt idx="893">
                  <c:v>23.396425605</c:v>
                </c:pt>
                <c:pt idx="894">
                  <c:v>30.495638201</c:v>
                </c:pt>
                <c:pt idx="895">
                  <c:v>30.382545982</c:v>
                </c:pt>
                <c:pt idx="896">
                  <c:v>30.285641211</c:v>
                </c:pt>
                <c:pt idx="897">
                  <c:v>30.039683279</c:v>
                </c:pt>
                <c:pt idx="898">
                  <c:v>30.09598108</c:v>
                </c:pt>
                <c:pt idx="899">
                  <c:v>29.961173554</c:v>
                </c:pt>
                <c:pt idx="900">
                  <c:v>29.881140054</c:v>
                </c:pt>
                <c:pt idx="901">
                  <c:v>20.16400632</c:v>
                </c:pt>
                <c:pt idx="902">
                  <c:v>9.17944929700001</c:v>
                </c:pt>
                <c:pt idx="903">
                  <c:v>29.490873021</c:v>
                </c:pt>
                <c:pt idx="904">
                  <c:v>30.215547092</c:v>
                </c:pt>
                <c:pt idx="905">
                  <c:v>30.027277793</c:v>
                </c:pt>
                <c:pt idx="906">
                  <c:v>29.935731913</c:v>
                </c:pt>
                <c:pt idx="907">
                  <c:v>29.908482266</c:v>
                </c:pt>
                <c:pt idx="908">
                  <c:v>29.900567514</c:v>
                </c:pt>
                <c:pt idx="909">
                  <c:v>22.894239139</c:v>
                </c:pt>
                <c:pt idx="910">
                  <c:v>30.427605429</c:v>
                </c:pt>
                <c:pt idx="911">
                  <c:v>30.259383426</c:v>
                </c:pt>
                <c:pt idx="912">
                  <c:v>30.294579242</c:v>
                </c:pt>
                <c:pt idx="913">
                  <c:v>30.058512088</c:v>
                </c:pt>
                <c:pt idx="914">
                  <c:v>30.059950372</c:v>
                </c:pt>
                <c:pt idx="915">
                  <c:v>29.58907657</c:v>
                </c:pt>
                <c:pt idx="916">
                  <c:v>29.898432956</c:v>
                </c:pt>
                <c:pt idx="917">
                  <c:v>22.246529288</c:v>
                </c:pt>
                <c:pt idx="918">
                  <c:v>30.477854779</c:v>
                </c:pt>
                <c:pt idx="919">
                  <c:v>30.401336399</c:v>
                </c:pt>
                <c:pt idx="920">
                  <c:v>30.341869026</c:v>
                </c:pt>
                <c:pt idx="921">
                  <c:v>30.101259002</c:v>
                </c:pt>
                <c:pt idx="922">
                  <c:v>30.024981605</c:v>
                </c:pt>
                <c:pt idx="923">
                  <c:v>29.962145248</c:v>
                </c:pt>
                <c:pt idx="924">
                  <c:v>29.711862228</c:v>
                </c:pt>
                <c:pt idx="925">
                  <c:v>24.530195799</c:v>
                </c:pt>
                <c:pt idx="926">
                  <c:v>30.40633933</c:v>
                </c:pt>
                <c:pt idx="927">
                  <c:v>30.378020935</c:v>
                </c:pt>
                <c:pt idx="928">
                  <c:v>30.060755871</c:v>
                </c:pt>
                <c:pt idx="929">
                  <c:v>30.049281586</c:v>
                </c:pt>
                <c:pt idx="930">
                  <c:v>29.649600608</c:v>
                </c:pt>
                <c:pt idx="931">
                  <c:v>29.895302823</c:v>
                </c:pt>
                <c:pt idx="932">
                  <c:v>29.776672131</c:v>
                </c:pt>
                <c:pt idx="933">
                  <c:v>21.402436424</c:v>
                </c:pt>
                <c:pt idx="934">
                  <c:v>30.293644299</c:v>
                </c:pt>
                <c:pt idx="935">
                  <c:v>30.323561853</c:v>
                </c:pt>
                <c:pt idx="936">
                  <c:v>29.855323305</c:v>
                </c:pt>
                <c:pt idx="937">
                  <c:v>30.159206899</c:v>
                </c:pt>
                <c:pt idx="938">
                  <c:v>30.025326011</c:v>
                </c:pt>
                <c:pt idx="939">
                  <c:v>29.825727371</c:v>
                </c:pt>
                <c:pt idx="940">
                  <c:v>29.657887076</c:v>
                </c:pt>
                <c:pt idx="941">
                  <c:v>22.515351888</c:v>
                </c:pt>
                <c:pt idx="942">
                  <c:v>30.410195653</c:v>
                </c:pt>
                <c:pt idx="943">
                  <c:v>30.286634065</c:v>
                </c:pt>
                <c:pt idx="944">
                  <c:v>29.723220855</c:v>
                </c:pt>
                <c:pt idx="945">
                  <c:v>30.016374028</c:v>
                </c:pt>
                <c:pt idx="946">
                  <c:v>30.037586262</c:v>
                </c:pt>
                <c:pt idx="947">
                  <c:v>29.933078878</c:v>
                </c:pt>
                <c:pt idx="948">
                  <c:v>29.710822392</c:v>
                </c:pt>
                <c:pt idx="949">
                  <c:v>22.272288467</c:v>
                </c:pt>
                <c:pt idx="950">
                  <c:v>30.418853863</c:v>
                </c:pt>
                <c:pt idx="951">
                  <c:v>30.326372399</c:v>
                </c:pt>
                <c:pt idx="952">
                  <c:v>30.09185809</c:v>
                </c:pt>
                <c:pt idx="953">
                  <c:v>30.108847455</c:v>
                </c:pt>
                <c:pt idx="954">
                  <c:v>30.035288497</c:v>
                </c:pt>
                <c:pt idx="955">
                  <c:v>29.936644894</c:v>
                </c:pt>
                <c:pt idx="956">
                  <c:v>29.874347826</c:v>
                </c:pt>
                <c:pt idx="957">
                  <c:v>23.222776387</c:v>
                </c:pt>
                <c:pt idx="958">
                  <c:v>30.048419212</c:v>
                </c:pt>
                <c:pt idx="959">
                  <c:v>30.373174166</c:v>
                </c:pt>
                <c:pt idx="960">
                  <c:v>30.248601761</c:v>
                </c:pt>
                <c:pt idx="961">
                  <c:v>29.685719803</c:v>
                </c:pt>
                <c:pt idx="962">
                  <c:v>30.012989732</c:v>
                </c:pt>
                <c:pt idx="963">
                  <c:v>29.9602305</c:v>
                </c:pt>
                <c:pt idx="964">
                  <c:v>29.787854384</c:v>
                </c:pt>
                <c:pt idx="965">
                  <c:v>22.664178408</c:v>
                </c:pt>
                <c:pt idx="966">
                  <c:v>30.407310678</c:v>
                </c:pt>
                <c:pt idx="967">
                  <c:v>29.977958413</c:v>
                </c:pt>
                <c:pt idx="968">
                  <c:v>30.131953741</c:v>
                </c:pt>
                <c:pt idx="969">
                  <c:v>30.077191715</c:v>
                </c:pt>
                <c:pt idx="970">
                  <c:v>30.022398814</c:v>
                </c:pt>
                <c:pt idx="971">
                  <c:v>29.886740991</c:v>
                </c:pt>
                <c:pt idx="972">
                  <c:v>29.509907059</c:v>
                </c:pt>
                <c:pt idx="973">
                  <c:v>23.645160931</c:v>
                </c:pt>
                <c:pt idx="974">
                  <c:v>30.460741937</c:v>
                </c:pt>
                <c:pt idx="975">
                  <c:v>30.357880272</c:v>
                </c:pt>
                <c:pt idx="976">
                  <c:v>30.225752571</c:v>
                </c:pt>
                <c:pt idx="977">
                  <c:v>30.14577668</c:v>
                </c:pt>
                <c:pt idx="978">
                  <c:v>30.032129645</c:v>
                </c:pt>
                <c:pt idx="979">
                  <c:v>29.907172342</c:v>
                </c:pt>
                <c:pt idx="980">
                  <c:v>29.831052575</c:v>
                </c:pt>
                <c:pt idx="981">
                  <c:v>15.084817572</c:v>
                </c:pt>
                <c:pt idx="982">
                  <c:v>30.385661408</c:v>
                </c:pt>
                <c:pt idx="983">
                  <c:v>30.240884479</c:v>
                </c:pt>
                <c:pt idx="984">
                  <c:v>30.107029341</c:v>
                </c:pt>
                <c:pt idx="985">
                  <c:v>30.134642148</c:v>
                </c:pt>
                <c:pt idx="986">
                  <c:v>29.617869353</c:v>
                </c:pt>
                <c:pt idx="987">
                  <c:v>29.724120919</c:v>
                </c:pt>
                <c:pt idx="988">
                  <c:v>16.099947197</c:v>
                </c:pt>
                <c:pt idx="989">
                  <c:v>22.352342641</c:v>
                </c:pt>
                <c:pt idx="990">
                  <c:v>30.48134473</c:v>
                </c:pt>
                <c:pt idx="991">
                  <c:v>30.275949703</c:v>
                </c:pt>
                <c:pt idx="992">
                  <c:v>30.187147629</c:v>
                </c:pt>
                <c:pt idx="993">
                  <c:v>30.127503025</c:v>
                </c:pt>
                <c:pt idx="994">
                  <c:v>30.087966793</c:v>
                </c:pt>
                <c:pt idx="995">
                  <c:v>29.951831364</c:v>
                </c:pt>
                <c:pt idx="996">
                  <c:v>29.831165898</c:v>
                </c:pt>
                <c:pt idx="997">
                  <c:v>21.138855186</c:v>
                </c:pt>
                <c:pt idx="998">
                  <c:v>30.84268825</c:v>
                </c:pt>
                <c:pt idx="999">
                  <c:v>29.930711513</c:v>
                </c:pt>
                <c:pt idx="1000">
                  <c:v>30.251048816</c:v>
                </c:pt>
              </c:numCache>
            </c:numRef>
          </c:yVal>
          <c:smooth val="0"/>
        </c:ser>
        <c:ser>
          <c:idx val="5"/>
          <c:order val="5"/>
          <c:tx>
            <c:strRef>
              <c:f>label 10</c:f>
              <c:strCache>
                <c:ptCount val="1"/>
                <c:pt idx="0">
                  <c:v>64 K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1</c:f>
              <c:numCache>
                <c:formatCode>General</c:formatCode>
                <c:ptCount val="1001"/>
                <c:pt idx="0">
                  <c:v>65536</c:v>
                </c:pt>
                <c:pt idx="1">
                  <c:v>65536</c:v>
                </c:pt>
                <c:pt idx="2">
                  <c:v>65536</c:v>
                </c:pt>
                <c:pt idx="3">
                  <c:v>65536</c:v>
                </c:pt>
                <c:pt idx="4">
                  <c:v>65536</c:v>
                </c:pt>
                <c:pt idx="5">
                  <c:v>65536</c:v>
                </c:pt>
                <c:pt idx="6">
                  <c:v>65536</c:v>
                </c:pt>
                <c:pt idx="7">
                  <c:v>65536</c:v>
                </c:pt>
                <c:pt idx="8">
                  <c:v>65536</c:v>
                </c:pt>
                <c:pt idx="9">
                  <c:v>65536</c:v>
                </c:pt>
                <c:pt idx="10">
                  <c:v>65536</c:v>
                </c:pt>
                <c:pt idx="11">
                  <c:v>65536</c:v>
                </c:pt>
                <c:pt idx="12">
                  <c:v>65536</c:v>
                </c:pt>
                <c:pt idx="13">
                  <c:v>65536</c:v>
                </c:pt>
                <c:pt idx="14">
                  <c:v>65536</c:v>
                </c:pt>
                <c:pt idx="15">
                  <c:v>65536</c:v>
                </c:pt>
                <c:pt idx="16">
                  <c:v>65536</c:v>
                </c:pt>
                <c:pt idx="17">
                  <c:v>65536</c:v>
                </c:pt>
                <c:pt idx="18">
                  <c:v>65536</c:v>
                </c:pt>
                <c:pt idx="19">
                  <c:v>65536</c:v>
                </c:pt>
                <c:pt idx="20">
                  <c:v>65536</c:v>
                </c:pt>
                <c:pt idx="21">
                  <c:v>65536</c:v>
                </c:pt>
                <c:pt idx="22">
                  <c:v>65536</c:v>
                </c:pt>
                <c:pt idx="23">
                  <c:v>65536</c:v>
                </c:pt>
                <c:pt idx="24">
                  <c:v>65536</c:v>
                </c:pt>
                <c:pt idx="25">
                  <c:v>65536</c:v>
                </c:pt>
                <c:pt idx="26">
                  <c:v>65536</c:v>
                </c:pt>
                <c:pt idx="27">
                  <c:v>65536</c:v>
                </c:pt>
                <c:pt idx="28">
                  <c:v>65536</c:v>
                </c:pt>
                <c:pt idx="29">
                  <c:v>65536</c:v>
                </c:pt>
                <c:pt idx="30">
                  <c:v>65536</c:v>
                </c:pt>
                <c:pt idx="31">
                  <c:v>65536</c:v>
                </c:pt>
                <c:pt idx="32">
                  <c:v>65536</c:v>
                </c:pt>
                <c:pt idx="33">
                  <c:v>65536</c:v>
                </c:pt>
                <c:pt idx="34">
                  <c:v>65536</c:v>
                </c:pt>
                <c:pt idx="35">
                  <c:v>65536</c:v>
                </c:pt>
                <c:pt idx="36">
                  <c:v>65536</c:v>
                </c:pt>
                <c:pt idx="37">
                  <c:v>65536</c:v>
                </c:pt>
                <c:pt idx="38">
                  <c:v>65536</c:v>
                </c:pt>
                <c:pt idx="39">
                  <c:v>65536</c:v>
                </c:pt>
                <c:pt idx="40">
                  <c:v>65536</c:v>
                </c:pt>
                <c:pt idx="41">
                  <c:v>65536</c:v>
                </c:pt>
                <c:pt idx="42">
                  <c:v>65536</c:v>
                </c:pt>
                <c:pt idx="43">
                  <c:v>65536</c:v>
                </c:pt>
                <c:pt idx="44">
                  <c:v>65536</c:v>
                </c:pt>
                <c:pt idx="45">
                  <c:v>65536</c:v>
                </c:pt>
                <c:pt idx="46">
                  <c:v>65536</c:v>
                </c:pt>
                <c:pt idx="47">
                  <c:v>65536</c:v>
                </c:pt>
                <c:pt idx="48">
                  <c:v>65536</c:v>
                </c:pt>
                <c:pt idx="49">
                  <c:v>65536</c:v>
                </c:pt>
                <c:pt idx="50">
                  <c:v>65536</c:v>
                </c:pt>
                <c:pt idx="51">
                  <c:v>65536</c:v>
                </c:pt>
                <c:pt idx="52">
                  <c:v>65536</c:v>
                </c:pt>
                <c:pt idx="53">
                  <c:v>65536</c:v>
                </c:pt>
                <c:pt idx="54">
                  <c:v>65536</c:v>
                </c:pt>
                <c:pt idx="55">
                  <c:v>65536</c:v>
                </c:pt>
                <c:pt idx="56">
                  <c:v>65536</c:v>
                </c:pt>
                <c:pt idx="57">
                  <c:v>65536</c:v>
                </c:pt>
                <c:pt idx="58">
                  <c:v>65536</c:v>
                </c:pt>
                <c:pt idx="59">
                  <c:v>65536</c:v>
                </c:pt>
                <c:pt idx="60">
                  <c:v>65536</c:v>
                </c:pt>
                <c:pt idx="61">
                  <c:v>65536</c:v>
                </c:pt>
                <c:pt idx="62">
                  <c:v>65536</c:v>
                </c:pt>
                <c:pt idx="63">
                  <c:v>65536</c:v>
                </c:pt>
                <c:pt idx="64">
                  <c:v>65536</c:v>
                </c:pt>
                <c:pt idx="65">
                  <c:v>65536</c:v>
                </c:pt>
                <c:pt idx="66">
                  <c:v>65536</c:v>
                </c:pt>
                <c:pt idx="67">
                  <c:v>65536</c:v>
                </c:pt>
                <c:pt idx="68">
                  <c:v>65536</c:v>
                </c:pt>
                <c:pt idx="69">
                  <c:v>65536</c:v>
                </c:pt>
                <c:pt idx="70">
                  <c:v>65536</c:v>
                </c:pt>
                <c:pt idx="71">
                  <c:v>65536</c:v>
                </c:pt>
                <c:pt idx="72">
                  <c:v>65536</c:v>
                </c:pt>
                <c:pt idx="73">
                  <c:v>65536</c:v>
                </c:pt>
                <c:pt idx="74">
                  <c:v>65536</c:v>
                </c:pt>
                <c:pt idx="75">
                  <c:v>65536</c:v>
                </c:pt>
                <c:pt idx="76">
                  <c:v>65536</c:v>
                </c:pt>
                <c:pt idx="77">
                  <c:v>65536</c:v>
                </c:pt>
                <c:pt idx="78">
                  <c:v>65536</c:v>
                </c:pt>
                <c:pt idx="79">
                  <c:v>65536</c:v>
                </c:pt>
                <c:pt idx="80">
                  <c:v>65536</c:v>
                </c:pt>
                <c:pt idx="81">
                  <c:v>65536</c:v>
                </c:pt>
                <c:pt idx="82">
                  <c:v>65536</c:v>
                </c:pt>
                <c:pt idx="83">
                  <c:v>65536</c:v>
                </c:pt>
                <c:pt idx="84">
                  <c:v>65536</c:v>
                </c:pt>
                <c:pt idx="85">
                  <c:v>65536</c:v>
                </c:pt>
                <c:pt idx="86">
                  <c:v>65536</c:v>
                </c:pt>
                <c:pt idx="87">
                  <c:v>65536</c:v>
                </c:pt>
                <c:pt idx="88">
                  <c:v>65536</c:v>
                </c:pt>
                <c:pt idx="89">
                  <c:v>65536</c:v>
                </c:pt>
                <c:pt idx="90">
                  <c:v>65536</c:v>
                </c:pt>
                <c:pt idx="91">
                  <c:v>65536</c:v>
                </c:pt>
                <c:pt idx="92">
                  <c:v>65536</c:v>
                </c:pt>
                <c:pt idx="93">
                  <c:v>65536</c:v>
                </c:pt>
                <c:pt idx="94">
                  <c:v>65536</c:v>
                </c:pt>
                <c:pt idx="95">
                  <c:v>65536</c:v>
                </c:pt>
                <c:pt idx="96">
                  <c:v>65536</c:v>
                </c:pt>
                <c:pt idx="97">
                  <c:v>65536</c:v>
                </c:pt>
                <c:pt idx="98">
                  <c:v>65536</c:v>
                </c:pt>
                <c:pt idx="99">
                  <c:v>65536</c:v>
                </c:pt>
                <c:pt idx="100">
                  <c:v>65536</c:v>
                </c:pt>
                <c:pt idx="101">
                  <c:v>65536</c:v>
                </c:pt>
                <c:pt idx="102">
                  <c:v>65536</c:v>
                </c:pt>
                <c:pt idx="103">
                  <c:v>65536</c:v>
                </c:pt>
                <c:pt idx="104">
                  <c:v>65536</c:v>
                </c:pt>
                <c:pt idx="105">
                  <c:v>65536</c:v>
                </c:pt>
                <c:pt idx="106">
                  <c:v>65536</c:v>
                </c:pt>
                <c:pt idx="107">
                  <c:v>65536</c:v>
                </c:pt>
                <c:pt idx="108">
                  <c:v>65536</c:v>
                </c:pt>
                <c:pt idx="109">
                  <c:v>65536</c:v>
                </c:pt>
                <c:pt idx="110">
                  <c:v>65536</c:v>
                </c:pt>
                <c:pt idx="111">
                  <c:v>65536</c:v>
                </c:pt>
                <c:pt idx="112">
                  <c:v>65536</c:v>
                </c:pt>
                <c:pt idx="113">
                  <c:v>65536</c:v>
                </c:pt>
                <c:pt idx="114">
                  <c:v>65536</c:v>
                </c:pt>
                <c:pt idx="115">
                  <c:v>65536</c:v>
                </c:pt>
                <c:pt idx="116">
                  <c:v>65536</c:v>
                </c:pt>
                <c:pt idx="117">
                  <c:v>65536</c:v>
                </c:pt>
                <c:pt idx="118">
                  <c:v>65536</c:v>
                </c:pt>
                <c:pt idx="119">
                  <c:v>65536</c:v>
                </c:pt>
                <c:pt idx="120">
                  <c:v>65536</c:v>
                </c:pt>
                <c:pt idx="121">
                  <c:v>65536</c:v>
                </c:pt>
                <c:pt idx="122">
                  <c:v>65536</c:v>
                </c:pt>
                <c:pt idx="123">
                  <c:v>65536</c:v>
                </c:pt>
                <c:pt idx="124">
                  <c:v>65536</c:v>
                </c:pt>
                <c:pt idx="125">
                  <c:v>65536</c:v>
                </c:pt>
                <c:pt idx="126">
                  <c:v>65536</c:v>
                </c:pt>
                <c:pt idx="127">
                  <c:v>65536</c:v>
                </c:pt>
                <c:pt idx="128">
                  <c:v>65536</c:v>
                </c:pt>
                <c:pt idx="129">
                  <c:v>65536</c:v>
                </c:pt>
                <c:pt idx="130">
                  <c:v>65536</c:v>
                </c:pt>
                <c:pt idx="131">
                  <c:v>65536</c:v>
                </c:pt>
                <c:pt idx="132">
                  <c:v>65536</c:v>
                </c:pt>
                <c:pt idx="133">
                  <c:v>65536</c:v>
                </c:pt>
                <c:pt idx="134">
                  <c:v>65536</c:v>
                </c:pt>
                <c:pt idx="135">
                  <c:v>65536</c:v>
                </c:pt>
                <c:pt idx="136">
                  <c:v>65536</c:v>
                </c:pt>
                <c:pt idx="137">
                  <c:v>65536</c:v>
                </c:pt>
                <c:pt idx="138">
                  <c:v>65536</c:v>
                </c:pt>
                <c:pt idx="139">
                  <c:v>65536</c:v>
                </c:pt>
                <c:pt idx="140">
                  <c:v>65536</c:v>
                </c:pt>
                <c:pt idx="141">
                  <c:v>65536</c:v>
                </c:pt>
                <c:pt idx="142">
                  <c:v>65536</c:v>
                </c:pt>
                <c:pt idx="143">
                  <c:v>65536</c:v>
                </c:pt>
                <c:pt idx="144">
                  <c:v>65536</c:v>
                </c:pt>
                <c:pt idx="145">
                  <c:v>65536</c:v>
                </c:pt>
                <c:pt idx="146">
                  <c:v>65536</c:v>
                </c:pt>
                <c:pt idx="147">
                  <c:v>65536</c:v>
                </c:pt>
                <c:pt idx="148">
                  <c:v>65536</c:v>
                </c:pt>
                <c:pt idx="149">
                  <c:v>65536</c:v>
                </c:pt>
                <c:pt idx="150">
                  <c:v>65536</c:v>
                </c:pt>
                <c:pt idx="151">
                  <c:v>65536</c:v>
                </c:pt>
                <c:pt idx="152">
                  <c:v>65536</c:v>
                </c:pt>
                <c:pt idx="153">
                  <c:v>65536</c:v>
                </c:pt>
                <c:pt idx="154">
                  <c:v>65536</c:v>
                </c:pt>
                <c:pt idx="155">
                  <c:v>65536</c:v>
                </c:pt>
                <c:pt idx="156">
                  <c:v>65536</c:v>
                </c:pt>
                <c:pt idx="157">
                  <c:v>65536</c:v>
                </c:pt>
                <c:pt idx="158">
                  <c:v>65536</c:v>
                </c:pt>
                <c:pt idx="159">
                  <c:v>65536</c:v>
                </c:pt>
                <c:pt idx="160">
                  <c:v>65536</c:v>
                </c:pt>
                <c:pt idx="161">
                  <c:v>65536</c:v>
                </c:pt>
                <c:pt idx="162">
                  <c:v>65536</c:v>
                </c:pt>
                <c:pt idx="163">
                  <c:v>65536</c:v>
                </c:pt>
                <c:pt idx="164">
                  <c:v>65536</c:v>
                </c:pt>
                <c:pt idx="165">
                  <c:v>65536</c:v>
                </c:pt>
                <c:pt idx="166">
                  <c:v>65536</c:v>
                </c:pt>
                <c:pt idx="167">
                  <c:v>65536</c:v>
                </c:pt>
                <c:pt idx="168">
                  <c:v>65536</c:v>
                </c:pt>
                <c:pt idx="169">
                  <c:v>65536</c:v>
                </c:pt>
                <c:pt idx="170">
                  <c:v>65536</c:v>
                </c:pt>
                <c:pt idx="171">
                  <c:v>65536</c:v>
                </c:pt>
                <c:pt idx="172">
                  <c:v>65536</c:v>
                </c:pt>
                <c:pt idx="173">
                  <c:v>65536</c:v>
                </c:pt>
                <c:pt idx="174">
                  <c:v>65536</c:v>
                </c:pt>
                <c:pt idx="175">
                  <c:v>65536</c:v>
                </c:pt>
                <c:pt idx="176">
                  <c:v>65536</c:v>
                </c:pt>
                <c:pt idx="177">
                  <c:v>65536</c:v>
                </c:pt>
                <c:pt idx="178">
                  <c:v>65536</c:v>
                </c:pt>
                <c:pt idx="179">
                  <c:v>65536</c:v>
                </c:pt>
                <c:pt idx="180">
                  <c:v>65536</c:v>
                </c:pt>
                <c:pt idx="181">
                  <c:v>65536</c:v>
                </c:pt>
                <c:pt idx="182">
                  <c:v>65536</c:v>
                </c:pt>
                <c:pt idx="183">
                  <c:v>65536</c:v>
                </c:pt>
                <c:pt idx="184">
                  <c:v>65536</c:v>
                </c:pt>
                <c:pt idx="185">
                  <c:v>65536</c:v>
                </c:pt>
                <c:pt idx="186">
                  <c:v>65536</c:v>
                </c:pt>
                <c:pt idx="187">
                  <c:v>65536</c:v>
                </c:pt>
                <c:pt idx="188">
                  <c:v>65536</c:v>
                </c:pt>
                <c:pt idx="189">
                  <c:v>65536</c:v>
                </c:pt>
                <c:pt idx="190">
                  <c:v>65536</c:v>
                </c:pt>
                <c:pt idx="191">
                  <c:v>65536</c:v>
                </c:pt>
                <c:pt idx="192">
                  <c:v>65536</c:v>
                </c:pt>
                <c:pt idx="193">
                  <c:v>65536</c:v>
                </c:pt>
                <c:pt idx="194">
                  <c:v>65536</c:v>
                </c:pt>
                <c:pt idx="195">
                  <c:v>65536</c:v>
                </c:pt>
                <c:pt idx="196">
                  <c:v>65536</c:v>
                </c:pt>
                <c:pt idx="197">
                  <c:v>65536</c:v>
                </c:pt>
                <c:pt idx="198">
                  <c:v>65536</c:v>
                </c:pt>
                <c:pt idx="199">
                  <c:v>65536</c:v>
                </c:pt>
                <c:pt idx="200">
                  <c:v>65536</c:v>
                </c:pt>
                <c:pt idx="201">
                  <c:v>65536</c:v>
                </c:pt>
                <c:pt idx="202">
                  <c:v>65536</c:v>
                </c:pt>
                <c:pt idx="203">
                  <c:v>65536</c:v>
                </c:pt>
                <c:pt idx="204">
                  <c:v>65536</c:v>
                </c:pt>
                <c:pt idx="205">
                  <c:v>65536</c:v>
                </c:pt>
                <c:pt idx="206">
                  <c:v>65536</c:v>
                </c:pt>
                <c:pt idx="207">
                  <c:v>65536</c:v>
                </c:pt>
                <c:pt idx="208">
                  <c:v>65536</c:v>
                </c:pt>
                <c:pt idx="209">
                  <c:v>65536</c:v>
                </c:pt>
                <c:pt idx="210">
                  <c:v>65536</c:v>
                </c:pt>
                <c:pt idx="211">
                  <c:v>65536</c:v>
                </c:pt>
                <c:pt idx="212">
                  <c:v>65536</c:v>
                </c:pt>
                <c:pt idx="213">
                  <c:v>65536</c:v>
                </c:pt>
                <c:pt idx="214">
                  <c:v>65536</c:v>
                </c:pt>
                <c:pt idx="215">
                  <c:v>65536</c:v>
                </c:pt>
                <c:pt idx="216">
                  <c:v>65536</c:v>
                </c:pt>
                <c:pt idx="217">
                  <c:v>65536</c:v>
                </c:pt>
                <c:pt idx="218">
                  <c:v>65536</c:v>
                </c:pt>
                <c:pt idx="219">
                  <c:v>65536</c:v>
                </c:pt>
                <c:pt idx="220">
                  <c:v>65536</c:v>
                </c:pt>
                <c:pt idx="221">
                  <c:v>65536</c:v>
                </c:pt>
                <c:pt idx="222">
                  <c:v>65536</c:v>
                </c:pt>
                <c:pt idx="223">
                  <c:v>65536</c:v>
                </c:pt>
                <c:pt idx="224">
                  <c:v>65536</c:v>
                </c:pt>
                <c:pt idx="225">
                  <c:v>65536</c:v>
                </c:pt>
                <c:pt idx="226">
                  <c:v>65536</c:v>
                </c:pt>
                <c:pt idx="227">
                  <c:v>65536</c:v>
                </c:pt>
                <c:pt idx="228">
                  <c:v>65536</c:v>
                </c:pt>
                <c:pt idx="229">
                  <c:v>65536</c:v>
                </c:pt>
                <c:pt idx="230">
                  <c:v>65536</c:v>
                </c:pt>
                <c:pt idx="231">
                  <c:v>65536</c:v>
                </c:pt>
                <c:pt idx="232">
                  <c:v>65536</c:v>
                </c:pt>
                <c:pt idx="233">
                  <c:v>65536</c:v>
                </c:pt>
                <c:pt idx="234">
                  <c:v>65536</c:v>
                </c:pt>
                <c:pt idx="235">
                  <c:v>65536</c:v>
                </c:pt>
                <c:pt idx="236">
                  <c:v>65536</c:v>
                </c:pt>
                <c:pt idx="237">
                  <c:v>65536</c:v>
                </c:pt>
                <c:pt idx="238">
                  <c:v>65536</c:v>
                </c:pt>
                <c:pt idx="239">
                  <c:v>65536</c:v>
                </c:pt>
                <c:pt idx="240">
                  <c:v>65536</c:v>
                </c:pt>
                <c:pt idx="241">
                  <c:v>65536</c:v>
                </c:pt>
                <c:pt idx="242">
                  <c:v>65536</c:v>
                </c:pt>
                <c:pt idx="243">
                  <c:v>65536</c:v>
                </c:pt>
                <c:pt idx="244">
                  <c:v>65536</c:v>
                </c:pt>
                <c:pt idx="245">
                  <c:v>65536</c:v>
                </c:pt>
                <c:pt idx="246">
                  <c:v>65536</c:v>
                </c:pt>
                <c:pt idx="247">
                  <c:v>65536</c:v>
                </c:pt>
                <c:pt idx="248">
                  <c:v>65536</c:v>
                </c:pt>
                <c:pt idx="249">
                  <c:v>65536</c:v>
                </c:pt>
                <c:pt idx="250">
                  <c:v>65536</c:v>
                </c:pt>
                <c:pt idx="251">
                  <c:v>65536</c:v>
                </c:pt>
                <c:pt idx="252">
                  <c:v>65536</c:v>
                </c:pt>
                <c:pt idx="253">
                  <c:v>65536</c:v>
                </c:pt>
                <c:pt idx="254">
                  <c:v>65536</c:v>
                </c:pt>
                <c:pt idx="255">
                  <c:v>65536</c:v>
                </c:pt>
                <c:pt idx="256">
                  <c:v>65536</c:v>
                </c:pt>
                <c:pt idx="257">
                  <c:v>65536</c:v>
                </c:pt>
                <c:pt idx="258">
                  <c:v>65536</c:v>
                </c:pt>
                <c:pt idx="259">
                  <c:v>65536</c:v>
                </c:pt>
                <c:pt idx="260">
                  <c:v>65536</c:v>
                </c:pt>
                <c:pt idx="261">
                  <c:v>65536</c:v>
                </c:pt>
                <c:pt idx="262">
                  <c:v>65536</c:v>
                </c:pt>
                <c:pt idx="263">
                  <c:v>65536</c:v>
                </c:pt>
                <c:pt idx="264">
                  <c:v>65536</c:v>
                </c:pt>
                <c:pt idx="265">
                  <c:v>65536</c:v>
                </c:pt>
                <c:pt idx="266">
                  <c:v>65536</c:v>
                </c:pt>
                <c:pt idx="267">
                  <c:v>65536</c:v>
                </c:pt>
                <c:pt idx="268">
                  <c:v>65536</c:v>
                </c:pt>
                <c:pt idx="269">
                  <c:v>65536</c:v>
                </c:pt>
                <c:pt idx="270">
                  <c:v>65536</c:v>
                </c:pt>
                <c:pt idx="271">
                  <c:v>65536</c:v>
                </c:pt>
                <c:pt idx="272">
                  <c:v>65536</c:v>
                </c:pt>
                <c:pt idx="273">
                  <c:v>65536</c:v>
                </c:pt>
                <c:pt idx="274">
                  <c:v>65536</c:v>
                </c:pt>
                <c:pt idx="275">
                  <c:v>65536</c:v>
                </c:pt>
                <c:pt idx="276">
                  <c:v>65536</c:v>
                </c:pt>
                <c:pt idx="277">
                  <c:v>65536</c:v>
                </c:pt>
                <c:pt idx="278">
                  <c:v>65536</c:v>
                </c:pt>
                <c:pt idx="279">
                  <c:v>65536</c:v>
                </c:pt>
                <c:pt idx="280">
                  <c:v>65536</c:v>
                </c:pt>
                <c:pt idx="281">
                  <c:v>65536</c:v>
                </c:pt>
                <c:pt idx="282">
                  <c:v>65536</c:v>
                </c:pt>
                <c:pt idx="283">
                  <c:v>65536</c:v>
                </c:pt>
                <c:pt idx="284">
                  <c:v>65536</c:v>
                </c:pt>
                <c:pt idx="285">
                  <c:v>65536</c:v>
                </c:pt>
                <c:pt idx="286">
                  <c:v>65536</c:v>
                </c:pt>
                <c:pt idx="287">
                  <c:v>65536</c:v>
                </c:pt>
                <c:pt idx="288">
                  <c:v>65536</c:v>
                </c:pt>
                <c:pt idx="289">
                  <c:v>65536</c:v>
                </c:pt>
                <c:pt idx="290">
                  <c:v>65536</c:v>
                </c:pt>
                <c:pt idx="291">
                  <c:v>65536</c:v>
                </c:pt>
                <c:pt idx="292">
                  <c:v>65536</c:v>
                </c:pt>
                <c:pt idx="293">
                  <c:v>65536</c:v>
                </c:pt>
                <c:pt idx="294">
                  <c:v>65536</c:v>
                </c:pt>
                <c:pt idx="295">
                  <c:v>65536</c:v>
                </c:pt>
                <c:pt idx="296">
                  <c:v>65536</c:v>
                </c:pt>
                <c:pt idx="297">
                  <c:v>65536</c:v>
                </c:pt>
                <c:pt idx="298">
                  <c:v>65536</c:v>
                </c:pt>
                <c:pt idx="299">
                  <c:v>65536</c:v>
                </c:pt>
                <c:pt idx="300">
                  <c:v>65536</c:v>
                </c:pt>
                <c:pt idx="301">
                  <c:v>65536</c:v>
                </c:pt>
                <c:pt idx="302">
                  <c:v>65536</c:v>
                </c:pt>
                <c:pt idx="303">
                  <c:v>65536</c:v>
                </c:pt>
                <c:pt idx="304">
                  <c:v>65536</c:v>
                </c:pt>
                <c:pt idx="305">
                  <c:v>65536</c:v>
                </c:pt>
                <c:pt idx="306">
                  <c:v>65536</c:v>
                </c:pt>
                <c:pt idx="307">
                  <c:v>65536</c:v>
                </c:pt>
                <c:pt idx="308">
                  <c:v>65536</c:v>
                </c:pt>
                <c:pt idx="309">
                  <c:v>65536</c:v>
                </c:pt>
                <c:pt idx="310">
                  <c:v>65536</c:v>
                </c:pt>
                <c:pt idx="311">
                  <c:v>65536</c:v>
                </c:pt>
                <c:pt idx="312">
                  <c:v>65536</c:v>
                </c:pt>
                <c:pt idx="313">
                  <c:v>65536</c:v>
                </c:pt>
                <c:pt idx="314">
                  <c:v>65536</c:v>
                </c:pt>
                <c:pt idx="315">
                  <c:v>65536</c:v>
                </c:pt>
                <c:pt idx="316">
                  <c:v>65536</c:v>
                </c:pt>
                <c:pt idx="317">
                  <c:v>65536</c:v>
                </c:pt>
                <c:pt idx="318">
                  <c:v>65536</c:v>
                </c:pt>
                <c:pt idx="319">
                  <c:v>65536</c:v>
                </c:pt>
                <c:pt idx="320">
                  <c:v>65536</c:v>
                </c:pt>
                <c:pt idx="321">
                  <c:v>65536</c:v>
                </c:pt>
                <c:pt idx="322">
                  <c:v>65536</c:v>
                </c:pt>
                <c:pt idx="323">
                  <c:v>65536</c:v>
                </c:pt>
                <c:pt idx="324">
                  <c:v>65536</c:v>
                </c:pt>
                <c:pt idx="325">
                  <c:v>65536</c:v>
                </c:pt>
                <c:pt idx="326">
                  <c:v>65536</c:v>
                </c:pt>
                <c:pt idx="327">
                  <c:v>65536</c:v>
                </c:pt>
                <c:pt idx="328">
                  <c:v>65536</c:v>
                </c:pt>
                <c:pt idx="329">
                  <c:v>65536</c:v>
                </c:pt>
                <c:pt idx="330">
                  <c:v>65536</c:v>
                </c:pt>
                <c:pt idx="331">
                  <c:v>65536</c:v>
                </c:pt>
                <c:pt idx="332">
                  <c:v>65536</c:v>
                </c:pt>
                <c:pt idx="333">
                  <c:v>65536</c:v>
                </c:pt>
                <c:pt idx="334">
                  <c:v>65536</c:v>
                </c:pt>
                <c:pt idx="335">
                  <c:v>65536</c:v>
                </c:pt>
                <c:pt idx="336">
                  <c:v>65536</c:v>
                </c:pt>
                <c:pt idx="337">
                  <c:v>65536</c:v>
                </c:pt>
                <c:pt idx="338">
                  <c:v>65536</c:v>
                </c:pt>
                <c:pt idx="339">
                  <c:v>65536</c:v>
                </c:pt>
                <c:pt idx="340">
                  <c:v>65536</c:v>
                </c:pt>
                <c:pt idx="341">
                  <c:v>65536</c:v>
                </c:pt>
                <c:pt idx="342">
                  <c:v>65536</c:v>
                </c:pt>
                <c:pt idx="343">
                  <c:v>65536</c:v>
                </c:pt>
                <c:pt idx="344">
                  <c:v>65536</c:v>
                </c:pt>
                <c:pt idx="345">
                  <c:v>65536</c:v>
                </c:pt>
                <c:pt idx="346">
                  <c:v>65536</c:v>
                </c:pt>
                <c:pt idx="347">
                  <c:v>65536</c:v>
                </c:pt>
                <c:pt idx="348">
                  <c:v>65536</c:v>
                </c:pt>
                <c:pt idx="349">
                  <c:v>65536</c:v>
                </c:pt>
                <c:pt idx="350">
                  <c:v>65536</c:v>
                </c:pt>
                <c:pt idx="351">
                  <c:v>65536</c:v>
                </c:pt>
                <c:pt idx="352">
                  <c:v>65536</c:v>
                </c:pt>
                <c:pt idx="353">
                  <c:v>65536</c:v>
                </c:pt>
                <c:pt idx="354">
                  <c:v>65536</c:v>
                </c:pt>
                <c:pt idx="355">
                  <c:v>65536</c:v>
                </c:pt>
                <c:pt idx="356">
                  <c:v>65536</c:v>
                </c:pt>
                <c:pt idx="357">
                  <c:v>65536</c:v>
                </c:pt>
                <c:pt idx="358">
                  <c:v>65536</c:v>
                </c:pt>
                <c:pt idx="359">
                  <c:v>65536</c:v>
                </c:pt>
                <c:pt idx="360">
                  <c:v>65536</c:v>
                </c:pt>
                <c:pt idx="361">
                  <c:v>65536</c:v>
                </c:pt>
                <c:pt idx="362">
                  <c:v>65536</c:v>
                </c:pt>
                <c:pt idx="363">
                  <c:v>65536</c:v>
                </c:pt>
                <c:pt idx="364">
                  <c:v>65536</c:v>
                </c:pt>
                <c:pt idx="365">
                  <c:v>65536</c:v>
                </c:pt>
                <c:pt idx="366">
                  <c:v>65536</c:v>
                </c:pt>
                <c:pt idx="367">
                  <c:v>65536</c:v>
                </c:pt>
                <c:pt idx="368">
                  <c:v>65536</c:v>
                </c:pt>
                <c:pt idx="369">
                  <c:v>65536</c:v>
                </c:pt>
                <c:pt idx="370">
                  <c:v>65536</c:v>
                </c:pt>
                <c:pt idx="371">
                  <c:v>65536</c:v>
                </c:pt>
                <c:pt idx="372">
                  <c:v>65536</c:v>
                </c:pt>
                <c:pt idx="373">
                  <c:v>65536</c:v>
                </c:pt>
                <c:pt idx="374">
                  <c:v>65536</c:v>
                </c:pt>
                <c:pt idx="375">
                  <c:v>65536</c:v>
                </c:pt>
                <c:pt idx="376">
                  <c:v>65536</c:v>
                </c:pt>
                <c:pt idx="377">
                  <c:v>65536</c:v>
                </c:pt>
                <c:pt idx="378">
                  <c:v>65536</c:v>
                </c:pt>
                <c:pt idx="379">
                  <c:v>65536</c:v>
                </c:pt>
                <c:pt idx="380">
                  <c:v>65536</c:v>
                </c:pt>
                <c:pt idx="381">
                  <c:v>65536</c:v>
                </c:pt>
                <c:pt idx="382">
                  <c:v>65536</c:v>
                </c:pt>
                <c:pt idx="383">
                  <c:v>65536</c:v>
                </c:pt>
                <c:pt idx="384">
                  <c:v>65536</c:v>
                </c:pt>
                <c:pt idx="385">
                  <c:v>65536</c:v>
                </c:pt>
                <c:pt idx="386">
                  <c:v>65536</c:v>
                </c:pt>
                <c:pt idx="387">
                  <c:v>65536</c:v>
                </c:pt>
                <c:pt idx="388">
                  <c:v>65536</c:v>
                </c:pt>
                <c:pt idx="389">
                  <c:v>65536</c:v>
                </c:pt>
                <c:pt idx="390">
                  <c:v>65536</c:v>
                </c:pt>
                <c:pt idx="391">
                  <c:v>65536</c:v>
                </c:pt>
                <c:pt idx="392">
                  <c:v>65536</c:v>
                </c:pt>
                <c:pt idx="393">
                  <c:v>65536</c:v>
                </c:pt>
                <c:pt idx="394">
                  <c:v>65536</c:v>
                </c:pt>
                <c:pt idx="395">
                  <c:v>65536</c:v>
                </c:pt>
                <c:pt idx="396">
                  <c:v>65536</c:v>
                </c:pt>
                <c:pt idx="397">
                  <c:v>65536</c:v>
                </c:pt>
                <c:pt idx="398">
                  <c:v>65536</c:v>
                </c:pt>
                <c:pt idx="399">
                  <c:v>65536</c:v>
                </c:pt>
                <c:pt idx="400">
                  <c:v>65536</c:v>
                </c:pt>
                <c:pt idx="401">
                  <c:v>65536</c:v>
                </c:pt>
                <c:pt idx="402">
                  <c:v>65536</c:v>
                </c:pt>
                <c:pt idx="403">
                  <c:v>65536</c:v>
                </c:pt>
                <c:pt idx="404">
                  <c:v>65536</c:v>
                </c:pt>
                <c:pt idx="405">
                  <c:v>65536</c:v>
                </c:pt>
                <c:pt idx="406">
                  <c:v>65536</c:v>
                </c:pt>
                <c:pt idx="407">
                  <c:v>65536</c:v>
                </c:pt>
                <c:pt idx="408">
                  <c:v>65536</c:v>
                </c:pt>
                <c:pt idx="409">
                  <c:v>65536</c:v>
                </c:pt>
                <c:pt idx="410">
                  <c:v>65536</c:v>
                </c:pt>
                <c:pt idx="411">
                  <c:v>65536</c:v>
                </c:pt>
                <c:pt idx="412">
                  <c:v>65536</c:v>
                </c:pt>
                <c:pt idx="413">
                  <c:v>65536</c:v>
                </c:pt>
                <c:pt idx="414">
                  <c:v>65536</c:v>
                </c:pt>
                <c:pt idx="415">
                  <c:v>65536</c:v>
                </c:pt>
                <c:pt idx="416">
                  <c:v>65536</c:v>
                </c:pt>
                <c:pt idx="417">
                  <c:v>65536</c:v>
                </c:pt>
                <c:pt idx="418">
                  <c:v>65536</c:v>
                </c:pt>
                <c:pt idx="419">
                  <c:v>65536</c:v>
                </c:pt>
                <c:pt idx="420">
                  <c:v>65536</c:v>
                </c:pt>
                <c:pt idx="421">
                  <c:v>65536</c:v>
                </c:pt>
                <c:pt idx="422">
                  <c:v>65536</c:v>
                </c:pt>
                <c:pt idx="423">
                  <c:v>65536</c:v>
                </c:pt>
                <c:pt idx="424">
                  <c:v>65536</c:v>
                </c:pt>
                <c:pt idx="425">
                  <c:v>65536</c:v>
                </c:pt>
                <c:pt idx="426">
                  <c:v>65536</c:v>
                </c:pt>
                <c:pt idx="427">
                  <c:v>65536</c:v>
                </c:pt>
                <c:pt idx="428">
                  <c:v>65536</c:v>
                </c:pt>
                <c:pt idx="429">
                  <c:v>65536</c:v>
                </c:pt>
                <c:pt idx="430">
                  <c:v>65536</c:v>
                </c:pt>
                <c:pt idx="431">
                  <c:v>65536</c:v>
                </c:pt>
                <c:pt idx="432">
                  <c:v>65536</c:v>
                </c:pt>
                <c:pt idx="433">
                  <c:v>65536</c:v>
                </c:pt>
                <c:pt idx="434">
                  <c:v>65536</c:v>
                </c:pt>
                <c:pt idx="435">
                  <c:v>65536</c:v>
                </c:pt>
                <c:pt idx="436">
                  <c:v>65536</c:v>
                </c:pt>
                <c:pt idx="437">
                  <c:v>65536</c:v>
                </c:pt>
                <c:pt idx="438">
                  <c:v>65536</c:v>
                </c:pt>
                <c:pt idx="439">
                  <c:v>65536</c:v>
                </c:pt>
                <c:pt idx="440">
                  <c:v>65536</c:v>
                </c:pt>
                <c:pt idx="441">
                  <c:v>65536</c:v>
                </c:pt>
                <c:pt idx="442">
                  <c:v>65536</c:v>
                </c:pt>
                <c:pt idx="443">
                  <c:v>65536</c:v>
                </c:pt>
                <c:pt idx="444">
                  <c:v>65536</c:v>
                </c:pt>
                <c:pt idx="445">
                  <c:v>65536</c:v>
                </c:pt>
                <c:pt idx="446">
                  <c:v>65536</c:v>
                </c:pt>
                <c:pt idx="447">
                  <c:v>65536</c:v>
                </c:pt>
                <c:pt idx="448">
                  <c:v>65536</c:v>
                </c:pt>
                <c:pt idx="449">
                  <c:v>65536</c:v>
                </c:pt>
                <c:pt idx="450">
                  <c:v>65536</c:v>
                </c:pt>
                <c:pt idx="451">
                  <c:v>65536</c:v>
                </c:pt>
                <c:pt idx="452">
                  <c:v>65536</c:v>
                </c:pt>
                <c:pt idx="453">
                  <c:v>65536</c:v>
                </c:pt>
                <c:pt idx="454">
                  <c:v>65536</c:v>
                </c:pt>
                <c:pt idx="455">
                  <c:v>65536</c:v>
                </c:pt>
                <c:pt idx="456">
                  <c:v>65536</c:v>
                </c:pt>
                <c:pt idx="457">
                  <c:v>65536</c:v>
                </c:pt>
                <c:pt idx="458">
                  <c:v>65536</c:v>
                </c:pt>
                <c:pt idx="459">
                  <c:v>65536</c:v>
                </c:pt>
                <c:pt idx="460">
                  <c:v>65536</c:v>
                </c:pt>
                <c:pt idx="461">
                  <c:v>65536</c:v>
                </c:pt>
                <c:pt idx="462">
                  <c:v>65536</c:v>
                </c:pt>
                <c:pt idx="463">
                  <c:v>65536</c:v>
                </c:pt>
                <c:pt idx="464">
                  <c:v>65536</c:v>
                </c:pt>
                <c:pt idx="465">
                  <c:v>65536</c:v>
                </c:pt>
                <c:pt idx="466">
                  <c:v>65536</c:v>
                </c:pt>
                <c:pt idx="467">
                  <c:v>65536</c:v>
                </c:pt>
                <c:pt idx="468">
                  <c:v>65536</c:v>
                </c:pt>
                <c:pt idx="469">
                  <c:v>65536</c:v>
                </c:pt>
                <c:pt idx="470">
                  <c:v>65536</c:v>
                </c:pt>
                <c:pt idx="471">
                  <c:v>65536</c:v>
                </c:pt>
                <c:pt idx="472">
                  <c:v>65536</c:v>
                </c:pt>
                <c:pt idx="473">
                  <c:v>65536</c:v>
                </c:pt>
                <c:pt idx="474">
                  <c:v>65536</c:v>
                </c:pt>
                <c:pt idx="475">
                  <c:v>65536</c:v>
                </c:pt>
                <c:pt idx="476">
                  <c:v>65536</c:v>
                </c:pt>
                <c:pt idx="477">
                  <c:v>65536</c:v>
                </c:pt>
                <c:pt idx="478">
                  <c:v>65536</c:v>
                </c:pt>
                <c:pt idx="479">
                  <c:v>65536</c:v>
                </c:pt>
                <c:pt idx="480">
                  <c:v>65536</c:v>
                </c:pt>
                <c:pt idx="481">
                  <c:v>65536</c:v>
                </c:pt>
                <c:pt idx="482">
                  <c:v>65536</c:v>
                </c:pt>
                <c:pt idx="483">
                  <c:v>65536</c:v>
                </c:pt>
                <c:pt idx="484">
                  <c:v>65536</c:v>
                </c:pt>
                <c:pt idx="485">
                  <c:v>65536</c:v>
                </c:pt>
                <c:pt idx="486">
                  <c:v>65536</c:v>
                </c:pt>
                <c:pt idx="487">
                  <c:v>65536</c:v>
                </c:pt>
                <c:pt idx="488">
                  <c:v>65536</c:v>
                </c:pt>
                <c:pt idx="489">
                  <c:v>65536</c:v>
                </c:pt>
                <c:pt idx="490">
                  <c:v>65536</c:v>
                </c:pt>
                <c:pt idx="491">
                  <c:v>65536</c:v>
                </c:pt>
                <c:pt idx="492">
                  <c:v>65536</c:v>
                </c:pt>
                <c:pt idx="493">
                  <c:v>65536</c:v>
                </c:pt>
                <c:pt idx="494">
                  <c:v>65536</c:v>
                </c:pt>
                <c:pt idx="495">
                  <c:v>65536</c:v>
                </c:pt>
                <c:pt idx="496">
                  <c:v>65536</c:v>
                </c:pt>
                <c:pt idx="497">
                  <c:v>65536</c:v>
                </c:pt>
                <c:pt idx="498">
                  <c:v>65536</c:v>
                </c:pt>
                <c:pt idx="499">
                  <c:v>65536</c:v>
                </c:pt>
                <c:pt idx="500">
                  <c:v>65536</c:v>
                </c:pt>
                <c:pt idx="501">
                  <c:v>65536</c:v>
                </c:pt>
                <c:pt idx="502">
                  <c:v>65536</c:v>
                </c:pt>
                <c:pt idx="503">
                  <c:v>65536</c:v>
                </c:pt>
                <c:pt idx="504">
                  <c:v>65536</c:v>
                </c:pt>
                <c:pt idx="505">
                  <c:v>65536</c:v>
                </c:pt>
                <c:pt idx="506">
                  <c:v>65536</c:v>
                </c:pt>
                <c:pt idx="507">
                  <c:v>65536</c:v>
                </c:pt>
                <c:pt idx="508">
                  <c:v>65536</c:v>
                </c:pt>
                <c:pt idx="509">
                  <c:v>65536</c:v>
                </c:pt>
                <c:pt idx="510">
                  <c:v>65536</c:v>
                </c:pt>
                <c:pt idx="511">
                  <c:v>65536</c:v>
                </c:pt>
                <c:pt idx="512">
                  <c:v>65536</c:v>
                </c:pt>
                <c:pt idx="513">
                  <c:v>65536</c:v>
                </c:pt>
                <c:pt idx="514">
                  <c:v>65536</c:v>
                </c:pt>
                <c:pt idx="515">
                  <c:v>65536</c:v>
                </c:pt>
                <c:pt idx="516">
                  <c:v>65536</c:v>
                </c:pt>
                <c:pt idx="517">
                  <c:v>65536</c:v>
                </c:pt>
                <c:pt idx="518">
                  <c:v>65536</c:v>
                </c:pt>
                <c:pt idx="519">
                  <c:v>65536</c:v>
                </c:pt>
                <c:pt idx="520">
                  <c:v>65536</c:v>
                </c:pt>
                <c:pt idx="521">
                  <c:v>65536</c:v>
                </c:pt>
                <c:pt idx="522">
                  <c:v>65536</c:v>
                </c:pt>
                <c:pt idx="523">
                  <c:v>65536</c:v>
                </c:pt>
                <c:pt idx="524">
                  <c:v>65536</c:v>
                </c:pt>
                <c:pt idx="525">
                  <c:v>65536</c:v>
                </c:pt>
                <c:pt idx="526">
                  <c:v>65536</c:v>
                </c:pt>
                <c:pt idx="527">
                  <c:v>65536</c:v>
                </c:pt>
                <c:pt idx="528">
                  <c:v>65536</c:v>
                </c:pt>
                <c:pt idx="529">
                  <c:v>65536</c:v>
                </c:pt>
                <c:pt idx="530">
                  <c:v>65536</c:v>
                </c:pt>
                <c:pt idx="531">
                  <c:v>65536</c:v>
                </c:pt>
                <c:pt idx="532">
                  <c:v>65536</c:v>
                </c:pt>
                <c:pt idx="533">
                  <c:v>65536</c:v>
                </c:pt>
                <c:pt idx="534">
                  <c:v>65536</c:v>
                </c:pt>
                <c:pt idx="535">
                  <c:v>65536</c:v>
                </c:pt>
                <c:pt idx="536">
                  <c:v>65536</c:v>
                </c:pt>
                <c:pt idx="537">
                  <c:v>65536</c:v>
                </c:pt>
                <c:pt idx="538">
                  <c:v>65536</c:v>
                </c:pt>
                <c:pt idx="539">
                  <c:v>65536</c:v>
                </c:pt>
                <c:pt idx="540">
                  <c:v>65536</c:v>
                </c:pt>
                <c:pt idx="541">
                  <c:v>65536</c:v>
                </c:pt>
                <c:pt idx="542">
                  <c:v>65536</c:v>
                </c:pt>
                <c:pt idx="543">
                  <c:v>65536</c:v>
                </c:pt>
                <c:pt idx="544">
                  <c:v>65536</c:v>
                </c:pt>
                <c:pt idx="545">
                  <c:v>65536</c:v>
                </c:pt>
                <c:pt idx="546">
                  <c:v>65536</c:v>
                </c:pt>
                <c:pt idx="547">
                  <c:v>65536</c:v>
                </c:pt>
                <c:pt idx="548">
                  <c:v>65536</c:v>
                </c:pt>
                <c:pt idx="549">
                  <c:v>65536</c:v>
                </c:pt>
                <c:pt idx="550">
                  <c:v>65536</c:v>
                </c:pt>
                <c:pt idx="551">
                  <c:v>65536</c:v>
                </c:pt>
                <c:pt idx="552">
                  <c:v>65536</c:v>
                </c:pt>
                <c:pt idx="553">
                  <c:v>65536</c:v>
                </c:pt>
                <c:pt idx="554">
                  <c:v>65536</c:v>
                </c:pt>
                <c:pt idx="555">
                  <c:v>65536</c:v>
                </c:pt>
                <c:pt idx="556">
                  <c:v>65536</c:v>
                </c:pt>
                <c:pt idx="557">
                  <c:v>65536</c:v>
                </c:pt>
                <c:pt idx="558">
                  <c:v>65536</c:v>
                </c:pt>
                <c:pt idx="559">
                  <c:v>65536</c:v>
                </c:pt>
                <c:pt idx="560">
                  <c:v>65536</c:v>
                </c:pt>
                <c:pt idx="561">
                  <c:v>65536</c:v>
                </c:pt>
                <c:pt idx="562">
                  <c:v>65536</c:v>
                </c:pt>
                <c:pt idx="563">
                  <c:v>65536</c:v>
                </c:pt>
                <c:pt idx="564">
                  <c:v>65536</c:v>
                </c:pt>
                <c:pt idx="565">
                  <c:v>65536</c:v>
                </c:pt>
                <c:pt idx="566">
                  <c:v>65536</c:v>
                </c:pt>
                <c:pt idx="567">
                  <c:v>65536</c:v>
                </c:pt>
                <c:pt idx="568">
                  <c:v>65536</c:v>
                </c:pt>
                <c:pt idx="569">
                  <c:v>65536</c:v>
                </c:pt>
                <c:pt idx="570">
                  <c:v>65536</c:v>
                </c:pt>
                <c:pt idx="571">
                  <c:v>65536</c:v>
                </c:pt>
                <c:pt idx="572">
                  <c:v>65536</c:v>
                </c:pt>
                <c:pt idx="573">
                  <c:v>65536</c:v>
                </c:pt>
                <c:pt idx="574">
                  <c:v>65536</c:v>
                </c:pt>
                <c:pt idx="575">
                  <c:v>65536</c:v>
                </c:pt>
                <c:pt idx="576">
                  <c:v>65536</c:v>
                </c:pt>
                <c:pt idx="577">
                  <c:v>65536</c:v>
                </c:pt>
                <c:pt idx="578">
                  <c:v>65536</c:v>
                </c:pt>
                <c:pt idx="579">
                  <c:v>65536</c:v>
                </c:pt>
                <c:pt idx="580">
                  <c:v>65536</c:v>
                </c:pt>
                <c:pt idx="581">
                  <c:v>65536</c:v>
                </c:pt>
                <c:pt idx="582">
                  <c:v>65536</c:v>
                </c:pt>
                <c:pt idx="583">
                  <c:v>65536</c:v>
                </c:pt>
                <c:pt idx="584">
                  <c:v>65536</c:v>
                </c:pt>
                <c:pt idx="585">
                  <c:v>65536</c:v>
                </c:pt>
                <c:pt idx="586">
                  <c:v>65536</c:v>
                </c:pt>
                <c:pt idx="587">
                  <c:v>65536</c:v>
                </c:pt>
                <c:pt idx="588">
                  <c:v>65536</c:v>
                </c:pt>
                <c:pt idx="589">
                  <c:v>65536</c:v>
                </c:pt>
                <c:pt idx="590">
                  <c:v>65536</c:v>
                </c:pt>
                <c:pt idx="591">
                  <c:v>65536</c:v>
                </c:pt>
                <c:pt idx="592">
                  <c:v>65536</c:v>
                </c:pt>
                <c:pt idx="593">
                  <c:v>65536</c:v>
                </c:pt>
                <c:pt idx="594">
                  <c:v>65536</c:v>
                </c:pt>
                <c:pt idx="595">
                  <c:v>65536</c:v>
                </c:pt>
                <c:pt idx="596">
                  <c:v>65536</c:v>
                </c:pt>
                <c:pt idx="597">
                  <c:v>65536</c:v>
                </c:pt>
                <c:pt idx="598">
                  <c:v>65536</c:v>
                </c:pt>
                <c:pt idx="599">
                  <c:v>65536</c:v>
                </c:pt>
                <c:pt idx="600">
                  <c:v>65536</c:v>
                </c:pt>
                <c:pt idx="601">
                  <c:v>65536</c:v>
                </c:pt>
                <c:pt idx="602">
                  <c:v>65536</c:v>
                </c:pt>
                <c:pt idx="603">
                  <c:v>65536</c:v>
                </c:pt>
                <c:pt idx="604">
                  <c:v>65536</c:v>
                </c:pt>
                <c:pt idx="605">
                  <c:v>65536</c:v>
                </c:pt>
                <c:pt idx="606">
                  <c:v>65536</c:v>
                </c:pt>
                <c:pt idx="607">
                  <c:v>65536</c:v>
                </c:pt>
                <c:pt idx="608">
                  <c:v>65536</c:v>
                </c:pt>
                <c:pt idx="609">
                  <c:v>65536</c:v>
                </c:pt>
                <c:pt idx="610">
                  <c:v>65536</c:v>
                </c:pt>
                <c:pt idx="611">
                  <c:v>65536</c:v>
                </c:pt>
                <c:pt idx="612">
                  <c:v>65536</c:v>
                </c:pt>
                <c:pt idx="613">
                  <c:v>65536</c:v>
                </c:pt>
                <c:pt idx="614">
                  <c:v>65536</c:v>
                </c:pt>
                <c:pt idx="615">
                  <c:v>65536</c:v>
                </c:pt>
                <c:pt idx="616">
                  <c:v>65536</c:v>
                </c:pt>
                <c:pt idx="617">
                  <c:v>65536</c:v>
                </c:pt>
                <c:pt idx="618">
                  <c:v>65536</c:v>
                </c:pt>
                <c:pt idx="619">
                  <c:v>65536</c:v>
                </c:pt>
                <c:pt idx="620">
                  <c:v>65536</c:v>
                </c:pt>
                <c:pt idx="621">
                  <c:v>65536</c:v>
                </c:pt>
                <c:pt idx="622">
                  <c:v>65536</c:v>
                </c:pt>
                <c:pt idx="623">
                  <c:v>65536</c:v>
                </c:pt>
                <c:pt idx="624">
                  <c:v>65536</c:v>
                </c:pt>
                <c:pt idx="625">
                  <c:v>65536</c:v>
                </c:pt>
                <c:pt idx="626">
                  <c:v>65536</c:v>
                </c:pt>
                <c:pt idx="627">
                  <c:v>65536</c:v>
                </c:pt>
                <c:pt idx="628">
                  <c:v>65536</c:v>
                </c:pt>
                <c:pt idx="629">
                  <c:v>65536</c:v>
                </c:pt>
                <c:pt idx="630">
                  <c:v>65536</c:v>
                </c:pt>
                <c:pt idx="631">
                  <c:v>65536</c:v>
                </c:pt>
                <c:pt idx="632">
                  <c:v>65536</c:v>
                </c:pt>
                <c:pt idx="633">
                  <c:v>65536</c:v>
                </c:pt>
                <c:pt idx="634">
                  <c:v>65536</c:v>
                </c:pt>
                <c:pt idx="635">
                  <c:v>65536</c:v>
                </c:pt>
                <c:pt idx="636">
                  <c:v>65536</c:v>
                </c:pt>
                <c:pt idx="637">
                  <c:v>65536</c:v>
                </c:pt>
                <c:pt idx="638">
                  <c:v>65536</c:v>
                </c:pt>
                <c:pt idx="639">
                  <c:v>65536</c:v>
                </c:pt>
                <c:pt idx="640">
                  <c:v>65536</c:v>
                </c:pt>
                <c:pt idx="641">
                  <c:v>65536</c:v>
                </c:pt>
                <c:pt idx="642">
                  <c:v>65536</c:v>
                </c:pt>
                <c:pt idx="643">
                  <c:v>65536</c:v>
                </c:pt>
                <c:pt idx="644">
                  <c:v>65536</c:v>
                </c:pt>
                <c:pt idx="645">
                  <c:v>65536</c:v>
                </c:pt>
                <c:pt idx="646">
                  <c:v>65536</c:v>
                </c:pt>
                <c:pt idx="647">
                  <c:v>65536</c:v>
                </c:pt>
                <c:pt idx="648">
                  <c:v>65536</c:v>
                </c:pt>
                <c:pt idx="649">
                  <c:v>65536</c:v>
                </c:pt>
                <c:pt idx="650">
                  <c:v>65536</c:v>
                </c:pt>
                <c:pt idx="651">
                  <c:v>65536</c:v>
                </c:pt>
                <c:pt idx="652">
                  <c:v>65536</c:v>
                </c:pt>
                <c:pt idx="653">
                  <c:v>65536</c:v>
                </c:pt>
                <c:pt idx="654">
                  <c:v>65536</c:v>
                </c:pt>
                <c:pt idx="655">
                  <c:v>65536</c:v>
                </c:pt>
                <c:pt idx="656">
                  <c:v>65536</c:v>
                </c:pt>
                <c:pt idx="657">
                  <c:v>65536</c:v>
                </c:pt>
                <c:pt idx="658">
                  <c:v>65536</c:v>
                </c:pt>
                <c:pt idx="659">
                  <c:v>65536</c:v>
                </c:pt>
                <c:pt idx="660">
                  <c:v>65536</c:v>
                </c:pt>
                <c:pt idx="661">
                  <c:v>65536</c:v>
                </c:pt>
                <c:pt idx="662">
                  <c:v>65536</c:v>
                </c:pt>
                <c:pt idx="663">
                  <c:v>65536</c:v>
                </c:pt>
                <c:pt idx="664">
                  <c:v>65536</c:v>
                </c:pt>
                <c:pt idx="665">
                  <c:v>65536</c:v>
                </c:pt>
                <c:pt idx="666">
                  <c:v>65536</c:v>
                </c:pt>
                <c:pt idx="667">
                  <c:v>65536</c:v>
                </c:pt>
                <c:pt idx="668">
                  <c:v>65536</c:v>
                </c:pt>
                <c:pt idx="669">
                  <c:v>65536</c:v>
                </c:pt>
                <c:pt idx="670">
                  <c:v>65536</c:v>
                </c:pt>
                <c:pt idx="671">
                  <c:v>65536</c:v>
                </c:pt>
                <c:pt idx="672">
                  <c:v>65536</c:v>
                </c:pt>
                <c:pt idx="673">
                  <c:v>65536</c:v>
                </c:pt>
                <c:pt idx="674">
                  <c:v>65536</c:v>
                </c:pt>
                <c:pt idx="675">
                  <c:v>65536</c:v>
                </c:pt>
                <c:pt idx="676">
                  <c:v>65536</c:v>
                </c:pt>
                <c:pt idx="677">
                  <c:v>65536</c:v>
                </c:pt>
                <c:pt idx="678">
                  <c:v>65536</c:v>
                </c:pt>
                <c:pt idx="679">
                  <c:v>65536</c:v>
                </c:pt>
                <c:pt idx="680">
                  <c:v>65536</c:v>
                </c:pt>
                <c:pt idx="681">
                  <c:v>65536</c:v>
                </c:pt>
                <c:pt idx="682">
                  <c:v>65536</c:v>
                </c:pt>
                <c:pt idx="683">
                  <c:v>65536</c:v>
                </c:pt>
                <c:pt idx="684">
                  <c:v>65536</c:v>
                </c:pt>
                <c:pt idx="685">
                  <c:v>65536</c:v>
                </c:pt>
                <c:pt idx="686">
                  <c:v>65536</c:v>
                </c:pt>
                <c:pt idx="687">
                  <c:v>65536</c:v>
                </c:pt>
                <c:pt idx="688">
                  <c:v>65536</c:v>
                </c:pt>
                <c:pt idx="689">
                  <c:v>65536</c:v>
                </c:pt>
                <c:pt idx="690">
                  <c:v>65536</c:v>
                </c:pt>
                <c:pt idx="691">
                  <c:v>65536</c:v>
                </c:pt>
                <c:pt idx="692">
                  <c:v>65536</c:v>
                </c:pt>
                <c:pt idx="693">
                  <c:v>65536</c:v>
                </c:pt>
                <c:pt idx="694">
                  <c:v>65536</c:v>
                </c:pt>
                <c:pt idx="695">
                  <c:v>65536</c:v>
                </c:pt>
                <c:pt idx="696">
                  <c:v>65536</c:v>
                </c:pt>
                <c:pt idx="697">
                  <c:v>65536</c:v>
                </c:pt>
                <c:pt idx="698">
                  <c:v>65536</c:v>
                </c:pt>
                <c:pt idx="699">
                  <c:v>65536</c:v>
                </c:pt>
                <c:pt idx="700">
                  <c:v>65536</c:v>
                </c:pt>
                <c:pt idx="701">
                  <c:v>65536</c:v>
                </c:pt>
                <c:pt idx="702">
                  <c:v>65536</c:v>
                </c:pt>
                <c:pt idx="703">
                  <c:v>65536</c:v>
                </c:pt>
                <c:pt idx="704">
                  <c:v>65536</c:v>
                </c:pt>
                <c:pt idx="705">
                  <c:v>65536</c:v>
                </c:pt>
                <c:pt idx="706">
                  <c:v>65536</c:v>
                </c:pt>
                <c:pt idx="707">
                  <c:v>65536</c:v>
                </c:pt>
                <c:pt idx="708">
                  <c:v>65536</c:v>
                </c:pt>
                <c:pt idx="709">
                  <c:v>65536</c:v>
                </c:pt>
                <c:pt idx="710">
                  <c:v>65536</c:v>
                </c:pt>
                <c:pt idx="711">
                  <c:v>65536</c:v>
                </c:pt>
                <c:pt idx="712">
                  <c:v>65536</c:v>
                </c:pt>
                <c:pt idx="713">
                  <c:v>65536</c:v>
                </c:pt>
                <c:pt idx="714">
                  <c:v>65536</c:v>
                </c:pt>
                <c:pt idx="715">
                  <c:v>65536</c:v>
                </c:pt>
                <c:pt idx="716">
                  <c:v>65536</c:v>
                </c:pt>
                <c:pt idx="717">
                  <c:v>65536</c:v>
                </c:pt>
                <c:pt idx="718">
                  <c:v>65536</c:v>
                </c:pt>
                <c:pt idx="719">
                  <c:v>65536</c:v>
                </c:pt>
                <c:pt idx="720">
                  <c:v>65536</c:v>
                </c:pt>
                <c:pt idx="721">
                  <c:v>65536</c:v>
                </c:pt>
                <c:pt idx="722">
                  <c:v>65536</c:v>
                </c:pt>
                <c:pt idx="723">
                  <c:v>65536</c:v>
                </c:pt>
                <c:pt idx="724">
                  <c:v>65536</c:v>
                </c:pt>
                <c:pt idx="725">
                  <c:v>65536</c:v>
                </c:pt>
                <c:pt idx="726">
                  <c:v>65536</c:v>
                </c:pt>
                <c:pt idx="727">
                  <c:v>65536</c:v>
                </c:pt>
                <c:pt idx="728">
                  <c:v>65536</c:v>
                </c:pt>
                <c:pt idx="729">
                  <c:v>65536</c:v>
                </c:pt>
                <c:pt idx="730">
                  <c:v>65536</c:v>
                </c:pt>
                <c:pt idx="731">
                  <c:v>65536</c:v>
                </c:pt>
                <c:pt idx="732">
                  <c:v>65536</c:v>
                </c:pt>
                <c:pt idx="733">
                  <c:v>65536</c:v>
                </c:pt>
                <c:pt idx="734">
                  <c:v>65536</c:v>
                </c:pt>
                <c:pt idx="735">
                  <c:v>65536</c:v>
                </c:pt>
                <c:pt idx="736">
                  <c:v>65536</c:v>
                </c:pt>
                <c:pt idx="737">
                  <c:v>65536</c:v>
                </c:pt>
                <c:pt idx="738">
                  <c:v>65536</c:v>
                </c:pt>
                <c:pt idx="739">
                  <c:v>65536</c:v>
                </c:pt>
                <c:pt idx="740">
                  <c:v>65536</c:v>
                </c:pt>
                <c:pt idx="741">
                  <c:v>65536</c:v>
                </c:pt>
                <c:pt idx="742">
                  <c:v>65536</c:v>
                </c:pt>
                <c:pt idx="743">
                  <c:v>65536</c:v>
                </c:pt>
                <c:pt idx="744">
                  <c:v>65536</c:v>
                </c:pt>
                <c:pt idx="745">
                  <c:v>65536</c:v>
                </c:pt>
                <c:pt idx="746">
                  <c:v>65536</c:v>
                </c:pt>
                <c:pt idx="747">
                  <c:v>65536</c:v>
                </c:pt>
                <c:pt idx="748">
                  <c:v>65536</c:v>
                </c:pt>
                <c:pt idx="749">
                  <c:v>65536</c:v>
                </c:pt>
                <c:pt idx="750">
                  <c:v>65536</c:v>
                </c:pt>
                <c:pt idx="751">
                  <c:v>65536</c:v>
                </c:pt>
                <c:pt idx="752">
                  <c:v>65536</c:v>
                </c:pt>
                <c:pt idx="753">
                  <c:v>65536</c:v>
                </c:pt>
                <c:pt idx="754">
                  <c:v>65536</c:v>
                </c:pt>
                <c:pt idx="755">
                  <c:v>65536</c:v>
                </c:pt>
                <c:pt idx="756">
                  <c:v>65536</c:v>
                </c:pt>
                <c:pt idx="757">
                  <c:v>65536</c:v>
                </c:pt>
                <c:pt idx="758">
                  <c:v>65536</c:v>
                </c:pt>
                <c:pt idx="759">
                  <c:v>65536</c:v>
                </c:pt>
                <c:pt idx="760">
                  <c:v>65536</c:v>
                </c:pt>
                <c:pt idx="761">
                  <c:v>65536</c:v>
                </c:pt>
                <c:pt idx="762">
                  <c:v>65536</c:v>
                </c:pt>
                <c:pt idx="763">
                  <c:v>65536</c:v>
                </c:pt>
                <c:pt idx="764">
                  <c:v>65536</c:v>
                </c:pt>
                <c:pt idx="765">
                  <c:v>65536</c:v>
                </c:pt>
                <c:pt idx="766">
                  <c:v>65536</c:v>
                </c:pt>
                <c:pt idx="767">
                  <c:v>65536</c:v>
                </c:pt>
                <c:pt idx="768">
                  <c:v>65536</c:v>
                </c:pt>
                <c:pt idx="769">
                  <c:v>65536</c:v>
                </c:pt>
                <c:pt idx="770">
                  <c:v>65536</c:v>
                </c:pt>
                <c:pt idx="771">
                  <c:v>65536</c:v>
                </c:pt>
                <c:pt idx="772">
                  <c:v>65536</c:v>
                </c:pt>
                <c:pt idx="773">
                  <c:v>65536</c:v>
                </c:pt>
                <c:pt idx="774">
                  <c:v>65536</c:v>
                </c:pt>
                <c:pt idx="775">
                  <c:v>65536</c:v>
                </c:pt>
                <c:pt idx="776">
                  <c:v>65536</c:v>
                </c:pt>
                <c:pt idx="777">
                  <c:v>65536</c:v>
                </c:pt>
                <c:pt idx="778">
                  <c:v>65536</c:v>
                </c:pt>
                <c:pt idx="779">
                  <c:v>65536</c:v>
                </c:pt>
                <c:pt idx="780">
                  <c:v>65536</c:v>
                </c:pt>
                <c:pt idx="781">
                  <c:v>65536</c:v>
                </c:pt>
                <c:pt idx="782">
                  <c:v>65536</c:v>
                </c:pt>
                <c:pt idx="783">
                  <c:v>65536</c:v>
                </c:pt>
                <c:pt idx="784">
                  <c:v>65536</c:v>
                </c:pt>
                <c:pt idx="785">
                  <c:v>65536</c:v>
                </c:pt>
                <c:pt idx="786">
                  <c:v>65536</c:v>
                </c:pt>
                <c:pt idx="787">
                  <c:v>65536</c:v>
                </c:pt>
                <c:pt idx="788">
                  <c:v>65536</c:v>
                </c:pt>
                <c:pt idx="789">
                  <c:v>65536</c:v>
                </c:pt>
                <c:pt idx="790">
                  <c:v>65536</c:v>
                </c:pt>
                <c:pt idx="791">
                  <c:v>65536</c:v>
                </c:pt>
                <c:pt idx="792">
                  <c:v>65536</c:v>
                </c:pt>
                <c:pt idx="793">
                  <c:v>65536</c:v>
                </c:pt>
                <c:pt idx="794">
                  <c:v>65536</c:v>
                </c:pt>
                <c:pt idx="795">
                  <c:v>65536</c:v>
                </c:pt>
                <c:pt idx="796">
                  <c:v>65536</c:v>
                </c:pt>
                <c:pt idx="797">
                  <c:v>65536</c:v>
                </c:pt>
                <c:pt idx="798">
                  <c:v>65536</c:v>
                </c:pt>
                <c:pt idx="799">
                  <c:v>65536</c:v>
                </c:pt>
                <c:pt idx="800">
                  <c:v>65536</c:v>
                </c:pt>
                <c:pt idx="801">
                  <c:v>65536</c:v>
                </c:pt>
                <c:pt idx="802">
                  <c:v>65536</c:v>
                </c:pt>
                <c:pt idx="803">
                  <c:v>65536</c:v>
                </c:pt>
                <c:pt idx="804">
                  <c:v>65536</c:v>
                </c:pt>
                <c:pt idx="805">
                  <c:v>65536</c:v>
                </c:pt>
                <c:pt idx="806">
                  <c:v>65536</c:v>
                </c:pt>
                <c:pt idx="807">
                  <c:v>65536</c:v>
                </c:pt>
                <c:pt idx="808">
                  <c:v>65536</c:v>
                </c:pt>
                <c:pt idx="809">
                  <c:v>65536</c:v>
                </c:pt>
                <c:pt idx="810">
                  <c:v>65536</c:v>
                </c:pt>
                <c:pt idx="811">
                  <c:v>65536</c:v>
                </c:pt>
                <c:pt idx="812">
                  <c:v>65536</c:v>
                </c:pt>
                <c:pt idx="813">
                  <c:v>65536</c:v>
                </c:pt>
                <c:pt idx="814">
                  <c:v>65536</c:v>
                </c:pt>
                <c:pt idx="815">
                  <c:v>65536</c:v>
                </c:pt>
                <c:pt idx="816">
                  <c:v>65536</c:v>
                </c:pt>
                <c:pt idx="817">
                  <c:v>65536</c:v>
                </c:pt>
                <c:pt idx="818">
                  <c:v>65536</c:v>
                </c:pt>
                <c:pt idx="819">
                  <c:v>65536</c:v>
                </c:pt>
                <c:pt idx="820">
                  <c:v>65536</c:v>
                </c:pt>
                <c:pt idx="821">
                  <c:v>65536</c:v>
                </c:pt>
                <c:pt idx="822">
                  <c:v>65536</c:v>
                </c:pt>
                <c:pt idx="823">
                  <c:v>65536</c:v>
                </c:pt>
                <c:pt idx="824">
                  <c:v>65536</c:v>
                </c:pt>
                <c:pt idx="825">
                  <c:v>65536</c:v>
                </c:pt>
                <c:pt idx="826">
                  <c:v>65536</c:v>
                </c:pt>
                <c:pt idx="827">
                  <c:v>65536</c:v>
                </c:pt>
                <c:pt idx="828">
                  <c:v>65536</c:v>
                </c:pt>
                <c:pt idx="829">
                  <c:v>65536</c:v>
                </c:pt>
                <c:pt idx="830">
                  <c:v>65536</c:v>
                </c:pt>
                <c:pt idx="831">
                  <c:v>65536</c:v>
                </c:pt>
                <c:pt idx="832">
                  <c:v>65536</c:v>
                </c:pt>
                <c:pt idx="833">
                  <c:v>65536</c:v>
                </c:pt>
                <c:pt idx="834">
                  <c:v>65536</c:v>
                </c:pt>
                <c:pt idx="835">
                  <c:v>65536</c:v>
                </c:pt>
                <c:pt idx="836">
                  <c:v>65536</c:v>
                </c:pt>
                <c:pt idx="837">
                  <c:v>65536</c:v>
                </c:pt>
                <c:pt idx="838">
                  <c:v>65536</c:v>
                </c:pt>
                <c:pt idx="839">
                  <c:v>65536</c:v>
                </c:pt>
                <c:pt idx="840">
                  <c:v>65536</c:v>
                </c:pt>
                <c:pt idx="841">
                  <c:v>65536</c:v>
                </c:pt>
                <c:pt idx="842">
                  <c:v>65536</c:v>
                </c:pt>
                <c:pt idx="843">
                  <c:v>65536</c:v>
                </c:pt>
                <c:pt idx="844">
                  <c:v>65536</c:v>
                </c:pt>
                <c:pt idx="845">
                  <c:v>65536</c:v>
                </c:pt>
                <c:pt idx="846">
                  <c:v>65536</c:v>
                </c:pt>
                <c:pt idx="847">
                  <c:v>65536</c:v>
                </c:pt>
                <c:pt idx="848">
                  <c:v>65536</c:v>
                </c:pt>
                <c:pt idx="849">
                  <c:v>65536</c:v>
                </c:pt>
                <c:pt idx="850">
                  <c:v>65536</c:v>
                </c:pt>
                <c:pt idx="851">
                  <c:v>65536</c:v>
                </c:pt>
                <c:pt idx="852">
                  <c:v>65536</c:v>
                </c:pt>
                <c:pt idx="853">
                  <c:v>65536</c:v>
                </c:pt>
                <c:pt idx="854">
                  <c:v>65536</c:v>
                </c:pt>
                <c:pt idx="855">
                  <c:v>65536</c:v>
                </c:pt>
                <c:pt idx="856">
                  <c:v>65536</c:v>
                </c:pt>
                <c:pt idx="857">
                  <c:v>65536</c:v>
                </c:pt>
                <c:pt idx="858">
                  <c:v>65536</c:v>
                </c:pt>
                <c:pt idx="859">
                  <c:v>65536</c:v>
                </c:pt>
                <c:pt idx="860">
                  <c:v>65536</c:v>
                </c:pt>
                <c:pt idx="861">
                  <c:v>65536</c:v>
                </c:pt>
                <c:pt idx="862">
                  <c:v>65536</c:v>
                </c:pt>
                <c:pt idx="863">
                  <c:v>65536</c:v>
                </c:pt>
                <c:pt idx="864">
                  <c:v>65536</c:v>
                </c:pt>
                <c:pt idx="865">
                  <c:v>65536</c:v>
                </c:pt>
                <c:pt idx="866">
                  <c:v>65536</c:v>
                </c:pt>
                <c:pt idx="867">
                  <c:v>65536</c:v>
                </c:pt>
                <c:pt idx="868">
                  <c:v>65536</c:v>
                </c:pt>
                <c:pt idx="869">
                  <c:v>65536</c:v>
                </c:pt>
                <c:pt idx="870">
                  <c:v>65536</c:v>
                </c:pt>
                <c:pt idx="871">
                  <c:v>65536</c:v>
                </c:pt>
                <c:pt idx="872">
                  <c:v>65536</c:v>
                </c:pt>
                <c:pt idx="873">
                  <c:v>65536</c:v>
                </c:pt>
                <c:pt idx="874">
                  <c:v>65536</c:v>
                </c:pt>
                <c:pt idx="875">
                  <c:v>65536</c:v>
                </c:pt>
                <c:pt idx="876">
                  <c:v>65536</c:v>
                </c:pt>
                <c:pt idx="877">
                  <c:v>65536</c:v>
                </c:pt>
                <c:pt idx="878">
                  <c:v>65536</c:v>
                </c:pt>
                <c:pt idx="879">
                  <c:v>65536</c:v>
                </c:pt>
                <c:pt idx="880">
                  <c:v>65536</c:v>
                </c:pt>
                <c:pt idx="881">
                  <c:v>65536</c:v>
                </c:pt>
                <c:pt idx="882">
                  <c:v>65536</c:v>
                </c:pt>
                <c:pt idx="883">
                  <c:v>65536</c:v>
                </c:pt>
                <c:pt idx="884">
                  <c:v>65536</c:v>
                </c:pt>
                <c:pt idx="885">
                  <c:v>65536</c:v>
                </c:pt>
                <c:pt idx="886">
                  <c:v>65536</c:v>
                </c:pt>
                <c:pt idx="887">
                  <c:v>65536</c:v>
                </c:pt>
                <c:pt idx="888">
                  <c:v>65536</c:v>
                </c:pt>
                <c:pt idx="889">
                  <c:v>65536</c:v>
                </c:pt>
                <c:pt idx="890">
                  <c:v>65536</c:v>
                </c:pt>
                <c:pt idx="891">
                  <c:v>65536</c:v>
                </c:pt>
                <c:pt idx="892">
                  <c:v>65536</c:v>
                </c:pt>
                <c:pt idx="893">
                  <c:v>65536</c:v>
                </c:pt>
                <c:pt idx="894">
                  <c:v>65536</c:v>
                </c:pt>
                <c:pt idx="895">
                  <c:v>65536</c:v>
                </c:pt>
                <c:pt idx="896">
                  <c:v>65536</c:v>
                </c:pt>
                <c:pt idx="897">
                  <c:v>65536</c:v>
                </c:pt>
                <c:pt idx="898">
                  <c:v>65536</c:v>
                </c:pt>
                <c:pt idx="899">
                  <c:v>65536</c:v>
                </c:pt>
                <c:pt idx="900">
                  <c:v>65536</c:v>
                </c:pt>
                <c:pt idx="901">
                  <c:v>65536</c:v>
                </c:pt>
                <c:pt idx="902">
                  <c:v>65536</c:v>
                </c:pt>
                <c:pt idx="903">
                  <c:v>65536</c:v>
                </c:pt>
                <c:pt idx="904">
                  <c:v>65536</c:v>
                </c:pt>
                <c:pt idx="905">
                  <c:v>65536</c:v>
                </c:pt>
                <c:pt idx="906">
                  <c:v>65536</c:v>
                </c:pt>
                <c:pt idx="907">
                  <c:v>65536</c:v>
                </c:pt>
                <c:pt idx="908">
                  <c:v>65536</c:v>
                </c:pt>
                <c:pt idx="909">
                  <c:v>65536</c:v>
                </c:pt>
                <c:pt idx="910">
                  <c:v>65536</c:v>
                </c:pt>
                <c:pt idx="911">
                  <c:v>65536</c:v>
                </c:pt>
                <c:pt idx="912">
                  <c:v>65536</c:v>
                </c:pt>
                <c:pt idx="913">
                  <c:v>65536</c:v>
                </c:pt>
                <c:pt idx="914">
                  <c:v>65536</c:v>
                </c:pt>
                <c:pt idx="915">
                  <c:v>65536</c:v>
                </c:pt>
                <c:pt idx="916">
                  <c:v>65536</c:v>
                </c:pt>
                <c:pt idx="917">
                  <c:v>65536</c:v>
                </c:pt>
                <c:pt idx="918">
                  <c:v>65536</c:v>
                </c:pt>
                <c:pt idx="919">
                  <c:v>65536</c:v>
                </c:pt>
                <c:pt idx="920">
                  <c:v>65536</c:v>
                </c:pt>
                <c:pt idx="921">
                  <c:v>65536</c:v>
                </c:pt>
                <c:pt idx="922">
                  <c:v>65536</c:v>
                </c:pt>
                <c:pt idx="923">
                  <c:v>65536</c:v>
                </c:pt>
                <c:pt idx="924">
                  <c:v>65536</c:v>
                </c:pt>
                <c:pt idx="925">
                  <c:v>65536</c:v>
                </c:pt>
                <c:pt idx="926">
                  <c:v>65536</c:v>
                </c:pt>
                <c:pt idx="927">
                  <c:v>65536</c:v>
                </c:pt>
                <c:pt idx="928">
                  <c:v>65536</c:v>
                </c:pt>
                <c:pt idx="929">
                  <c:v>65536</c:v>
                </c:pt>
                <c:pt idx="930">
                  <c:v>65536</c:v>
                </c:pt>
                <c:pt idx="931">
                  <c:v>65536</c:v>
                </c:pt>
                <c:pt idx="932">
                  <c:v>65536</c:v>
                </c:pt>
                <c:pt idx="933">
                  <c:v>65536</c:v>
                </c:pt>
                <c:pt idx="934">
                  <c:v>65536</c:v>
                </c:pt>
                <c:pt idx="935">
                  <c:v>65536</c:v>
                </c:pt>
                <c:pt idx="936">
                  <c:v>65536</c:v>
                </c:pt>
                <c:pt idx="937">
                  <c:v>65536</c:v>
                </c:pt>
                <c:pt idx="938">
                  <c:v>65536</c:v>
                </c:pt>
                <c:pt idx="939">
                  <c:v>65536</c:v>
                </c:pt>
                <c:pt idx="940">
                  <c:v>65536</c:v>
                </c:pt>
                <c:pt idx="941">
                  <c:v>65536</c:v>
                </c:pt>
                <c:pt idx="942">
                  <c:v>65536</c:v>
                </c:pt>
                <c:pt idx="943">
                  <c:v>65536</c:v>
                </c:pt>
                <c:pt idx="944">
                  <c:v>65536</c:v>
                </c:pt>
                <c:pt idx="945">
                  <c:v>65536</c:v>
                </c:pt>
                <c:pt idx="946">
                  <c:v>65536</c:v>
                </c:pt>
                <c:pt idx="947">
                  <c:v>65536</c:v>
                </c:pt>
                <c:pt idx="948">
                  <c:v>65536</c:v>
                </c:pt>
                <c:pt idx="949">
                  <c:v>65536</c:v>
                </c:pt>
                <c:pt idx="950">
                  <c:v>65536</c:v>
                </c:pt>
                <c:pt idx="951">
                  <c:v>65536</c:v>
                </c:pt>
                <c:pt idx="952">
                  <c:v>65536</c:v>
                </c:pt>
                <c:pt idx="953">
                  <c:v>65536</c:v>
                </c:pt>
                <c:pt idx="954">
                  <c:v>65536</c:v>
                </c:pt>
                <c:pt idx="955">
                  <c:v>65536</c:v>
                </c:pt>
                <c:pt idx="956">
                  <c:v>65536</c:v>
                </c:pt>
                <c:pt idx="957">
                  <c:v>65536</c:v>
                </c:pt>
                <c:pt idx="958">
                  <c:v>65536</c:v>
                </c:pt>
                <c:pt idx="959">
                  <c:v>65536</c:v>
                </c:pt>
                <c:pt idx="960">
                  <c:v>65536</c:v>
                </c:pt>
                <c:pt idx="961">
                  <c:v>65536</c:v>
                </c:pt>
                <c:pt idx="962">
                  <c:v>65536</c:v>
                </c:pt>
                <c:pt idx="963">
                  <c:v>65536</c:v>
                </c:pt>
                <c:pt idx="964">
                  <c:v>65536</c:v>
                </c:pt>
                <c:pt idx="965">
                  <c:v>65536</c:v>
                </c:pt>
                <c:pt idx="966">
                  <c:v>65536</c:v>
                </c:pt>
                <c:pt idx="967">
                  <c:v>65536</c:v>
                </c:pt>
                <c:pt idx="968">
                  <c:v>65536</c:v>
                </c:pt>
                <c:pt idx="969">
                  <c:v>65536</c:v>
                </c:pt>
                <c:pt idx="970">
                  <c:v>65536</c:v>
                </c:pt>
                <c:pt idx="971">
                  <c:v>65536</c:v>
                </c:pt>
                <c:pt idx="972">
                  <c:v>65536</c:v>
                </c:pt>
                <c:pt idx="973">
                  <c:v>65536</c:v>
                </c:pt>
                <c:pt idx="974">
                  <c:v>65536</c:v>
                </c:pt>
                <c:pt idx="975">
                  <c:v>65536</c:v>
                </c:pt>
                <c:pt idx="976">
                  <c:v>65536</c:v>
                </c:pt>
                <c:pt idx="977">
                  <c:v>65536</c:v>
                </c:pt>
                <c:pt idx="978">
                  <c:v>65536</c:v>
                </c:pt>
                <c:pt idx="979">
                  <c:v>65536</c:v>
                </c:pt>
                <c:pt idx="980">
                  <c:v>65536</c:v>
                </c:pt>
                <c:pt idx="981">
                  <c:v>65536</c:v>
                </c:pt>
                <c:pt idx="982">
                  <c:v>65536</c:v>
                </c:pt>
                <c:pt idx="983">
                  <c:v>65536</c:v>
                </c:pt>
                <c:pt idx="984">
                  <c:v>65536</c:v>
                </c:pt>
                <c:pt idx="985">
                  <c:v>65536</c:v>
                </c:pt>
                <c:pt idx="986">
                  <c:v>65536</c:v>
                </c:pt>
                <c:pt idx="987">
                  <c:v>65536</c:v>
                </c:pt>
                <c:pt idx="988">
                  <c:v>65536</c:v>
                </c:pt>
                <c:pt idx="989">
                  <c:v>65536</c:v>
                </c:pt>
                <c:pt idx="990">
                  <c:v>65536</c:v>
                </c:pt>
                <c:pt idx="991">
                  <c:v>65536</c:v>
                </c:pt>
                <c:pt idx="992">
                  <c:v>65536</c:v>
                </c:pt>
                <c:pt idx="993">
                  <c:v>65536</c:v>
                </c:pt>
                <c:pt idx="994">
                  <c:v>65536</c:v>
                </c:pt>
                <c:pt idx="995">
                  <c:v>65536</c:v>
                </c:pt>
                <c:pt idx="996">
                  <c:v>65536</c:v>
                </c:pt>
                <c:pt idx="997">
                  <c:v>65536</c:v>
                </c:pt>
                <c:pt idx="998">
                  <c:v>65536</c:v>
                </c:pt>
                <c:pt idx="999">
                  <c:v>65536</c:v>
                </c:pt>
                <c:pt idx="1000">
                  <c:v>65536</c:v>
                </c:pt>
              </c:numCache>
            </c:numRef>
          </c:xVal>
          <c:yVal>
            <c:numRef>
              <c:f>10</c:f>
              <c:numCache>
                <c:formatCode>General</c:formatCode>
                <c:ptCount val="1001"/>
                <c:pt idx="0">
                  <c:v>16.503539946</c:v>
                </c:pt>
                <c:pt idx="1">
                  <c:v>8.163897431</c:v>
                </c:pt>
                <c:pt idx="2">
                  <c:v>21.36362153</c:v>
                </c:pt>
                <c:pt idx="3">
                  <c:v>28.596093973</c:v>
                </c:pt>
                <c:pt idx="4">
                  <c:v>31.276078872</c:v>
                </c:pt>
                <c:pt idx="5">
                  <c:v>28.131462212</c:v>
                </c:pt>
                <c:pt idx="6">
                  <c:v>31.279247868</c:v>
                </c:pt>
                <c:pt idx="7">
                  <c:v>28.327163532</c:v>
                </c:pt>
                <c:pt idx="8">
                  <c:v>31.247345866</c:v>
                </c:pt>
                <c:pt idx="9">
                  <c:v>28.392135486</c:v>
                </c:pt>
                <c:pt idx="10">
                  <c:v>31.229140916</c:v>
                </c:pt>
                <c:pt idx="11">
                  <c:v>28.254270533</c:v>
                </c:pt>
                <c:pt idx="12">
                  <c:v>31.260072412</c:v>
                </c:pt>
                <c:pt idx="13">
                  <c:v>28.38328436</c:v>
                </c:pt>
                <c:pt idx="14">
                  <c:v>31.356881999</c:v>
                </c:pt>
                <c:pt idx="15">
                  <c:v>28.203924707</c:v>
                </c:pt>
                <c:pt idx="16">
                  <c:v>31.21256213</c:v>
                </c:pt>
                <c:pt idx="17">
                  <c:v>28.457225697</c:v>
                </c:pt>
                <c:pt idx="18">
                  <c:v>30.970769492</c:v>
                </c:pt>
                <c:pt idx="19">
                  <c:v>28.402398153</c:v>
                </c:pt>
                <c:pt idx="20">
                  <c:v>31.313345427</c:v>
                </c:pt>
                <c:pt idx="21">
                  <c:v>28.904310697</c:v>
                </c:pt>
                <c:pt idx="22">
                  <c:v>31.292436854</c:v>
                </c:pt>
                <c:pt idx="23">
                  <c:v>28.275953288</c:v>
                </c:pt>
                <c:pt idx="24">
                  <c:v>31.157560343</c:v>
                </c:pt>
                <c:pt idx="25">
                  <c:v>28.880239899</c:v>
                </c:pt>
                <c:pt idx="26">
                  <c:v>31.416179867</c:v>
                </c:pt>
                <c:pt idx="27">
                  <c:v>19.29132197</c:v>
                </c:pt>
                <c:pt idx="28">
                  <c:v>31.36275239</c:v>
                </c:pt>
                <c:pt idx="29">
                  <c:v>22.660916445</c:v>
                </c:pt>
                <c:pt idx="30">
                  <c:v>31.331945614</c:v>
                </c:pt>
                <c:pt idx="31">
                  <c:v>28.291673403</c:v>
                </c:pt>
                <c:pt idx="32">
                  <c:v>31.312557242</c:v>
                </c:pt>
                <c:pt idx="33">
                  <c:v>25.648157269</c:v>
                </c:pt>
                <c:pt idx="34">
                  <c:v>31.226183838</c:v>
                </c:pt>
                <c:pt idx="35">
                  <c:v>28.286342269</c:v>
                </c:pt>
                <c:pt idx="36">
                  <c:v>31.316717121</c:v>
                </c:pt>
                <c:pt idx="37">
                  <c:v>28.360310041</c:v>
                </c:pt>
                <c:pt idx="38">
                  <c:v>31.23499463</c:v>
                </c:pt>
                <c:pt idx="39">
                  <c:v>28.286361373</c:v>
                </c:pt>
                <c:pt idx="40">
                  <c:v>31.244509656</c:v>
                </c:pt>
                <c:pt idx="41">
                  <c:v>28.398366652</c:v>
                </c:pt>
                <c:pt idx="42">
                  <c:v>31.333148906</c:v>
                </c:pt>
                <c:pt idx="43">
                  <c:v>28.017474287</c:v>
                </c:pt>
                <c:pt idx="44">
                  <c:v>31.250812182</c:v>
                </c:pt>
                <c:pt idx="45">
                  <c:v>28.35894659</c:v>
                </c:pt>
                <c:pt idx="46">
                  <c:v>31.357774157</c:v>
                </c:pt>
                <c:pt idx="47">
                  <c:v>28.37286891</c:v>
                </c:pt>
                <c:pt idx="48">
                  <c:v>31.274521861</c:v>
                </c:pt>
                <c:pt idx="49">
                  <c:v>20.117618022</c:v>
                </c:pt>
                <c:pt idx="50">
                  <c:v>21.717165787</c:v>
                </c:pt>
                <c:pt idx="51">
                  <c:v>28.445306867</c:v>
                </c:pt>
                <c:pt idx="52">
                  <c:v>31.071331821</c:v>
                </c:pt>
                <c:pt idx="53">
                  <c:v>28.464310857</c:v>
                </c:pt>
                <c:pt idx="54">
                  <c:v>31.283375534</c:v>
                </c:pt>
                <c:pt idx="55">
                  <c:v>28.870571057</c:v>
                </c:pt>
                <c:pt idx="56">
                  <c:v>31.104646225</c:v>
                </c:pt>
                <c:pt idx="57">
                  <c:v>28.495206975</c:v>
                </c:pt>
                <c:pt idx="58">
                  <c:v>31.284551729</c:v>
                </c:pt>
                <c:pt idx="59">
                  <c:v>25.543750487</c:v>
                </c:pt>
                <c:pt idx="60">
                  <c:v>31.347118538</c:v>
                </c:pt>
                <c:pt idx="61">
                  <c:v>28.201810284</c:v>
                </c:pt>
                <c:pt idx="62">
                  <c:v>30.992626311</c:v>
                </c:pt>
                <c:pt idx="63">
                  <c:v>28.383130476</c:v>
                </c:pt>
                <c:pt idx="64">
                  <c:v>10.009105355</c:v>
                </c:pt>
                <c:pt idx="65">
                  <c:v>6.880006339</c:v>
                </c:pt>
                <c:pt idx="66">
                  <c:v>21.687383165</c:v>
                </c:pt>
                <c:pt idx="67">
                  <c:v>28.39397054</c:v>
                </c:pt>
                <c:pt idx="68">
                  <c:v>31.278905243</c:v>
                </c:pt>
                <c:pt idx="69">
                  <c:v>28.320184775</c:v>
                </c:pt>
                <c:pt idx="70">
                  <c:v>31.188954009</c:v>
                </c:pt>
                <c:pt idx="71">
                  <c:v>28.885923448</c:v>
                </c:pt>
                <c:pt idx="72">
                  <c:v>31.166757652</c:v>
                </c:pt>
                <c:pt idx="73">
                  <c:v>28.594681727</c:v>
                </c:pt>
                <c:pt idx="74">
                  <c:v>31.340996008</c:v>
                </c:pt>
                <c:pt idx="75">
                  <c:v>25.41854836</c:v>
                </c:pt>
                <c:pt idx="76">
                  <c:v>31.203221533</c:v>
                </c:pt>
                <c:pt idx="77">
                  <c:v>28.443104587</c:v>
                </c:pt>
                <c:pt idx="78">
                  <c:v>31.311932965</c:v>
                </c:pt>
                <c:pt idx="79">
                  <c:v>28.777045016</c:v>
                </c:pt>
                <c:pt idx="80">
                  <c:v>31.370066058</c:v>
                </c:pt>
                <c:pt idx="81">
                  <c:v>28.771311991</c:v>
                </c:pt>
                <c:pt idx="82">
                  <c:v>31.205166707</c:v>
                </c:pt>
                <c:pt idx="83">
                  <c:v>28.570915757</c:v>
                </c:pt>
                <c:pt idx="84">
                  <c:v>31.377704415</c:v>
                </c:pt>
                <c:pt idx="85">
                  <c:v>28.847920776</c:v>
                </c:pt>
                <c:pt idx="86">
                  <c:v>31.205027204</c:v>
                </c:pt>
                <c:pt idx="87">
                  <c:v>21.12727804</c:v>
                </c:pt>
                <c:pt idx="88">
                  <c:v>19.84049752</c:v>
                </c:pt>
                <c:pt idx="89">
                  <c:v>28.251710223</c:v>
                </c:pt>
                <c:pt idx="90">
                  <c:v>31.200145399</c:v>
                </c:pt>
                <c:pt idx="91">
                  <c:v>28.517500734</c:v>
                </c:pt>
                <c:pt idx="92">
                  <c:v>31.323579824</c:v>
                </c:pt>
                <c:pt idx="93">
                  <c:v>28.276863292</c:v>
                </c:pt>
                <c:pt idx="94">
                  <c:v>31.227014247</c:v>
                </c:pt>
                <c:pt idx="95">
                  <c:v>28.193001494</c:v>
                </c:pt>
                <c:pt idx="96">
                  <c:v>31.246662021</c:v>
                </c:pt>
                <c:pt idx="97">
                  <c:v>28.294355653</c:v>
                </c:pt>
                <c:pt idx="98">
                  <c:v>31.200168642</c:v>
                </c:pt>
                <c:pt idx="99">
                  <c:v>28.362070558</c:v>
                </c:pt>
                <c:pt idx="100">
                  <c:v>31.1563705</c:v>
                </c:pt>
                <c:pt idx="101">
                  <c:v>25.686067009</c:v>
                </c:pt>
                <c:pt idx="102">
                  <c:v>31.241448681</c:v>
                </c:pt>
                <c:pt idx="103">
                  <c:v>28.397031631</c:v>
                </c:pt>
                <c:pt idx="104">
                  <c:v>31.198146624</c:v>
                </c:pt>
                <c:pt idx="105">
                  <c:v>28.925065139</c:v>
                </c:pt>
                <c:pt idx="106">
                  <c:v>31.359582106</c:v>
                </c:pt>
                <c:pt idx="107">
                  <c:v>17.042177024</c:v>
                </c:pt>
                <c:pt idx="108">
                  <c:v>31.289000258</c:v>
                </c:pt>
                <c:pt idx="109">
                  <c:v>23.012521901</c:v>
                </c:pt>
                <c:pt idx="110">
                  <c:v>31.312315332</c:v>
                </c:pt>
                <c:pt idx="111">
                  <c:v>28.276042377</c:v>
                </c:pt>
                <c:pt idx="112">
                  <c:v>31.294798489</c:v>
                </c:pt>
                <c:pt idx="113">
                  <c:v>23.467353593</c:v>
                </c:pt>
                <c:pt idx="114">
                  <c:v>31.210011321</c:v>
                </c:pt>
                <c:pt idx="115">
                  <c:v>28.763520059</c:v>
                </c:pt>
                <c:pt idx="116">
                  <c:v>31.328055083</c:v>
                </c:pt>
                <c:pt idx="117">
                  <c:v>28.541884594</c:v>
                </c:pt>
                <c:pt idx="118">
                  <c:v>31.321690134</c:v>
                </c:pt>
                <c:pt idx="119">
                  <c:v>28.834342365</c:v>
                </c:pt>
                <c:pt idx="120">
                  <c:v>31.158039396</c:v>
                </c:pt>
                <c:pt idx="121">
                  <c:v>28.320114558</c:v>
                </c:pt>
                <c:pt idx="122">
                  <c:v>31.374828822</c:v>
                </c:pt>
                <c:pt idx="123">
                  <c:v>28.646198425</c:v>
                </c:pt>
                <c:pt idx="124">
                  <c:v>7.396517523</c:v>
                </c:pt>
                <c:pt idx="125">
                  <c:v>22.601645661</c:v>
                </c:pt>
                <c:pt idx="126">
                  <c:v>31.408035982</c:v>
                </c:pt>
                <c:pt idx="127">
                  <c:v>28.5317671</c:v>
                </c:pt>
                <c:pt idx="128">
                  <c:v>11.141061792</c:v>
                </c:pt>
                <c:pt idx="129">
                  <c:v>6.796698257</c:v>
                </c:pt>
                <c:pt idx="130">
                  <c:v>22.142278827</c:v>
                </c:pt>
                <c:pt idx="131">
                  <c:v>28.190496551</c:v>
                </c:pt>
                <c:pt idx="132">
                  <c:v>31.234132739</c:v>
                </c:pt>
                <c:pt idx="133">
                  <c:v>28.3143069</c:v>
                </c:pt>
                <c:pt idx="134">
                  <c:v>31.211980602</c:v>
                </c:pt>
                <c:pt idx="135">
                  <c:v>28.895981371</c:v>
                </c:pt>
                <c:pt idx="136">
                  <c:v>31.23623708</c:v>
                </c:pt>
                <c:pt idx="137">
                  <c:v>28.480415471</c:v>
                </c:pt>
                <c:pt idx="138">
                  <c:v>31.220954055</c:v>
                </c:pt>
                <c:pt idx="139">
                  <c:v>23.25701472</c:v>
                </c:pt>
                <c:pt idx="140">
                  <c:v>31.306026979</c:v>
                </c:pt>
                <c:pt idx="141">
                  <c:v>28.354191542</c:v>
                </c:pt>
                <c:pt idx="142">
                  <c:v>31.310387987</c:v>
                </c:pt>
                <c:pt idx="143">
                  <c:v>28.71511774</c:v>
                </c:pt>
                <c:pt idx="144">
                  <c:v>31.127895482</c:v>
                </c:pt>
                <c:pt idx="145">
                  <c:v>29.105914598</c:v>
                </c:pt>
                <c:pt idx="146">
                  <c:v>31.122513545</c:v>
                </c:pt>
                <c:pt idx="147">
                  <c:v>28.566914219</c:v>
                </c:pt>
                <c:pt idx="148">
                  <c:v>31.294073593</c:v>
                </c:pt>
                <c:pt idx="149">
                  <c:v>28.709160081</c:v>
                </c:pt>
                <c:pt idx="150">
                  <c:v>31.248534897</c:v>
                </c:pt>
                <c:pt idx="151">
                  <c:v>22.656752471</c:v>
                </c:pt>
                <c:pt idx="152">
                  <c:v>20.227727061</c:v>
                </c:pt>
                <c:pt idx="153">
                  <c:v>28.54892116</c:v>
                </c:pt>
                <c:pt idx="154">
                  <c:v>31.104592323</c:v>
                </c:pt>
                <c:pt idx="155">
                  <c:v>28.515410223</c:v>
                </c:pt>
                <c:pt idx="156">
                  <c:v>31.199750272</c:v>
                </c:pt>
                <c:pt idx="157">
                  <c:v>28.18742291</c:v>
                </c:pt>
                <c:pt idx="158">
                  <c:v>31.063972443</c:v>
                </c:pt>
                <c:pt idx="159">
                  <c:v>28.590061988</c:v>
                </c:pt>
                <c:pt idx="160">
                  <c:v>31.28040039</c:v>
                </c:pt>
                <c:pt idx="161">
                  <c:v>28.463143723</c:v>
                </c:pt>
                <c:pt idx="162">
                  <c:v>31.063212122</c:v>
                </c:pt>
                <c:pt idx="163">
                  <c:v>28.428026206</c:v>
                </c:pt>
                <c:pt idx="164">
                  <c:v>31.197875492</c:v>
                </c:pt>
                <c:pt idx="165">
                  <c:v>24.234447991</c:v>
                </c:pt>
                <c:pt idx="166">
                  <c:v>31.231718143</c:v>
                </c:pt>
                <c:pt idx="167">
                  <c:v>28.333704848</c:v>
                </c:pt>
                <c:pt idx="168">
                  <c:v>31.143542964</c:v>
                </c:pt>
                <c:pt idx="169">
                  <c:v>28.850100073</c:v>
                </c:pt>
                <c:pt idx="170">
                  <c:v>31.197410706</c:v>
                </c:pt>
                <c:pt idx="171">
                  <c:v>17.506191089</c:v>
                </c:pt>
                <c:pt idx="172">
                  <c:v>31.250664498</c:v>
                </c:pt>
                <c:pt idx="173">
                  <c:v>23.209889563</c:v>
                </c:pt>
                <c:pt idx="174">
                  <c:v>31.020433039</c:v>
                </c:pt>
                <c:pt idx="175">
                  <c:v>28.476729675</c:v>
                </c:pt>
                <c:pt idx="176">
                  <c:v>31.237999975</c:v>
                </c:pt>
                <c:pt idx="177">
                  <c:v>22.330798676</c:v>
                </c:pt>
                <c:pt idx="178">
                  <c:v>31.16398243</c:v>
                </c:pt>
                <c:pt idx="179">
                  <c:v>28.830458551</c:v>
                </c:pt>
                <c:pt idx="180">
                  <c:v>31.287488707</c:v>
                </c:pt>
                <c:pt idx="181">
                  <c:v>28.540250791</c:v>
                </c:pt>
                <c:pt idx="182">
                  <c:v>31.157993036</c:v>
                </c:pt>
                <c:pt idx="183">
                  <c:v>28.364292323</c:v>
                </c:pt>
                <c:pt idx="184">
                  <c:v>31.291392547</c:v>
                </c:pt>
                <c:pt idx="185">
                  <c:v>28.693641102</c:v>
                </c:pt>
                <c:pt idx="186">
                  <c:v>31.260873512</c:v>
                </c:pt>
                <c:pt idx="187">
                  <c:v>28.107290116</c:v>
                </c:pt>
                <c:pt idx="188">
                  <c:v>31.237246643</c:v>
                </c:pt>
                <c:pt idx="189">
                  <c:v>28.25696476</c:v>
                </c:pt>
                <c:pt idx="190">
                  <c:v>31.174421068</c:v>
                </c:pt>
                <c:pt idx="191">
                  <c:v>28.384656564</c:v>
                </c:pt>
                <c:pt idx="192">
                  <c:v>10.858866309</c:v>
                </c:pt>
                <c:pt idx="193">
                  <c:v>6.695442711</c:v>
                </c:pt>
                <c:pt idx="194">
                  <c:v>22.493436326</c:v>
                </c:pt>
                <c:pt idx="195">
                  <c:v>28.057353491</c:v>
                </c:pt>
                <c:pt idx="196">
                  <c:v>31.087914715</c:v>
                </c:pt>
                <c:pt idx="197">
                  <c:v>27.96166297</c:v>
                </c:pt>
                <c:pt idx="198">
                  <c:v>31.024040702</c:v>
                </c:pt>
                <c:pt idx="199">
                  <c:v>28.794040047</c:v>
                </c:pt>
                <c:pt idx="200">
                  <c:v>31.197310004</c:v>
                </c:pt>
                <c:pt idx="201">
                  <c:v>25.601622683</c:v>
                </c:pt>
                <c:pt idx="202">
                  <c:v>10.077861128</c:v>
                </c:pt>
                <c:pt idx="203">
                  <c:v>6.448663264</c:v>
                </c:pt>
                <c:pt idx="204">
                  <c:v>21.355778159</c:v>
                </c:pt>
                <c:pt idx="205">
                  <c:v>28.55135396</c:v>
                </c:pt>
                <c:pt idx="206">
                  <c:v>31.2210937</c:v>
                </c:pt>
                <c:pt idx="207">
                  <c:v>28.254880502</c:v>
                </c:pt>
                <c:pt idx="208">
                  <c:v>31.320409647</c:v>
                </c:pt>
                <c:pt idx="209">
                  <c:v>28.828057329</c:v>
                </c:pt>
                <c:pt idx="210">
                  <c:v>31.223739434</c:v>
                </c:pt>
                <c:pt idx="211">
                  <c:v>28.284139065</c:v>
                </c:pt>
                <c:pt idx="212">
                  <c:v>31.323415834</c:v>
                </c:pt>
                <c:pt idx="213">
                  <c:v>28.442164536</c:v>
                </c:pt>
                <c:pt idx="214">
                  <c:v>31.260927958</c:v>
                </c:pt>
                <c:pt idx="215">
                  <c:v>28.338395503</c:v>
                </c:pt>
                <c:pt idx="216">
                  <c:v>31.185400777</c:v>
                </c:pt>
                <c:pt idx="217">
                  <c:v>28.30315777</c:v>
                </c:pt>
                <c:pt idx="218">
                  <c:v>31.341457264</c:v>
                </c:pt>
                <c:pt idx="219">
                  <c:v>28.409539543</c:v>
                </c:pt>
                <c:pt idx="220">
                  <c:v>31.219573188</c:v>
                </c:pt>
                <c:pt idx="221">
                  <c:v>28.224953229</c:v>
                </c:pt>
                <c:pt idx="222">
                  <c:v>31.132862702</c:v>
                </c:pt>
                <c:pt idx="223">
                  <c:v>28.931072783</c:v>
                </c:pt>
                <c:pt idx="224">
                  <c:v>31.308897775</c:v>
                </c:pt>
                <c:pt idx="225">
                  <c:v>28.447148801</c:v>
                </c:pt>
                <c:pt idx="226">
                  <c:v>31.30436559</c:v>
                </c:pt>
                <c:pt idx="227">
                  <c:v>28.777064789</c:v>
                </c:pt>
                <c:pt idx="228">
                  <c:v>31.392043227</c:v>
                </c:pt>
                <c:pt idx="229">
                  <c:v>19.018059961</c:v>
                </c:pt>
                <c:pt idx="230">
                  <c:v>31.217478847</c:v>
                </c:pt>
                <c:pt idx="231">
                  <c:v>22.397519721</c:v>
                </c:pt>
                <c:pt idx="232">
                  <c:v>31.348393388</c:v>
                </c:pt>
                <c:pt idx="233">
                  <c:v>28.268948856</c:v>
                </c:pt>
                <c:pt idx="234">
                  <c:v>31.131065372</c:v>
                </c:pt>
                <c:pt idx="235">
                  <c:v>25.998160719</c:v>
                </c:pt>
                <c:pt idx="236">
                  <c:v>31.220519612</c:v>
                </c:pt>
                <c:pt idx="237">
                  <c:v>28.418799151</c:v>
                </c:pt>
                <c:pt idx="238">
                  <c:v>31.370927635</c:v>
                </c:pt>
                <c:pt idx="239">
                  <c:v>28.19866456</c:v>
                </c:pt>
                <c:pt idx="240">
                  <c:v>31.360090874</c:v>
                </c:pt>
                <c:pt idx="241">
                  <c:v>28.199645546</c:v>
                </c:pt>
                <c:pt idx="242">
                  <c:v>31.185563326</c:v>
                </c:pt>
                <c:pt idx="243">
                  <c:v>28.433591053</c:v>
                </c:pt>
                <c:pt idx="244">
                  <c:v>31.184510661</c:v>
                </c:pt>
                <c:pt idx="245">
                  <c:v>29.024216394</c:v>
                </c:pt>
                <c:pt idx="246">
                  <c:v>31.311761294</c:v>
                </c:pt>
                <c:pt idx="247">
                  <c:v>28.169500373</c:v>
                </c:pt>
                <c:pt idx="248">
                  <c:v>31.319699178</c:v>
                </c:pt>
                <c:pt idx="249">
                  <c:v>28.700116776</c:v>
                </c:pt>
                <c:pt idx="250">
                  <c:v>31.079117504</c:v>
                </c:pt>
                <c:pt idx="251">
                  <c:v>7.40016339</c:v>
                </c:pt>
                <c:pt idx="252">
                  <c:v>31.246801896</c:v>
                </c:pt>
                <c:pt idx="253">
                  <c:v>28.569077249</c:v>
                </c:pt>
                <c:pt idx="254">
                  <c:v>31.293917706</c:v>
                </c:pt>
                <c:pt idx="255">
                  <c:v>28.752132859</c:v>
                </c:pt>
                <c:pt idx="256">
                  <c:v>31.375447774</c:v>
                </c:pt>
                <c:pt idx="257">
                  <c:v>18.633955191</c:v>
                </c:pt>
                <c:pt idx="258">
                  <c:v>19.78411961</c:v>
                </c:pt>
                <c:pt idx="259">
                  <c:v>28.500920994</c:v>
                </c:pt>
                <c:pt idx="260">
                  <c:v>31.201454813</c:v>
                </c:pt>
                <c:pt idx="261">
                  <c:v>28.284387386</c:v>
                </c:pt>
                <c:pt idx="262">
                  <c:v>31.182645451</c:v>
                </c:pt>
                <c:pt idx="263">
                  <c:v>28.461634973</c:v>
                </c:pt>
                <c:pt idx="264">
                  <c:v>31.254380336</c:v>
                </c:pt>
                <c:pt idx="265">
                  <c:v>28.291667033</c:v>
                </c:pt>
                <c:pt idx="266">
                  <c:v>7.712672317</c:v>
                </c:pt>
                <c:pt idx="267">
                  <c:v>6.882995148</c:v>
                </c:pt>
                <c:pt idx="268">
                  <c:v>21.696648438</c:v>
                </c:pt>
                <c:pt idx="269">
                  <c:v>28.324334582</c:v>
                </c:pt>
                <c:pt idx="270">
                  <c:v>31.360623141</c:v>
                </c:pt>
                <c:pt idx="271">
                  <c:v>28.248686732</c:v>
                </c:pt>
                <c:pt idx="272">
                  <c:v>31.339815565</c:v>
                </c:pt>
                <c:pt idx="273">
                  <c:v>28.902974225</c:v>
                </c:pt>
                <c:pt idx="274">
                  <c:v>31.210251653</c:v>
                </c:pt>
                <c:pt idx="275">
                  <c:v>28.436963188</c:v>
                </c:pt>
                <c:pt idx="276">
                  <c:v>31.318934093</c:v>
                </c:pt>
                <c:pt idx="277">
                  <c:v>25.432661612</c:v>
                </c:pt>
                <c:pt idx="278">
                  <c:v>31.198441001</c:v>
                </c:pt>
                <c:pt idx="279">
                  <c:v>28.471393094</c:v>
                </c:pt>
                <c:pt idx="280">
                  <c:v>31.312143656</c:v>
                </c:pt>
                <c:pt idx="281">
                  <c:v>28.656560649</c:v>
                </c:pt>
                <c:pt idx="282">
                  <c:v>31.394616035</c:v>
                </c:pt>
                <c:pt idx="283">
                  <c:v>28.757641031</c:v>
                </c:pt>
                <c:pt idx="284">
                  <c:v>31.116933101</c:v>
                </c:pt>
                <c:pt idx="285">
                  <c:v>28.764889763</c:v>
                </c:pt>
                <c:pt idx="286">
                  <c:v>31.392474614</c:v>
                </c:pt>
                <c:pt idx="287">
                  <c:v>29.119810788</c:v>
                </c:pt>
                <c:pt idx="288">
                  <c:v>31.28921064</c:v>
                </c:pt>
                <c:pt idx="289">
                  <c:v>20.82680733</c:v>
                </c:pt>
                <c:pt idx="290">
                  <c:v>19.925653638</c:v>
                </c:pt>
                <c:pt idx="291">
                  <c:v>28.195298084</c:v>
                </c:pt>
                <c:pt idx="292">
                  <c:v>31.323181565</c:v>
                </c:pt>
                <c:pt idx="293">
                  <c:v>28.361289502</c:v>
                </c:pt>
                <c:pt idx="294">
                  <c:v>31.303398478</c:v>
                </c:pt>
                <c:pt idx="295">
                  <c:v>28.229056145</c:v>
                </c:pt>
                <c:pt idx="296">
                  <c:v>31.348150924</c:v>
                </c:pt>
                <c:pt idx="297">
                  <c:v>28.183420593</c:v>
                </c:pt>
                <c:pt idx="298">
                  <c:v>31.236803981</c:v>
                </c:pt>
                <c:pt idx="299">
                  <c:v>28.954821386</c:v>
                </c:pt>
                <c:pt idx="300">
                  <c:v>31.220325668</c:v>
                </c:pt>
                <c:pt idx="301">
                  <c:v>28.269457689</c:v>
                </c:pt>
                <c:pt idx="302">
                  <c:v>31.168079728</c:v>
                </c:pt>
                <c:pt idx="303">
                  <c:v>26.726492221</c:v>
                </c:pt>
                <c:pt idx="304">
                  <c:v>31.222544531</c:v>
                </c:pt>
                <c:pt idx="305">
                  <c:v>28.73457608</c:v>
                </c:pt>
                <c:pt idx="306">
                  <c:v>31.358752458</c:v>
                </c:pt>
                <c:pt idx="307">
                  <c:v>28.334529115</c:v>
                </c:pt>
                <c:pt idx="308">
                  <c:v>29.518635739</c:v>
                </c:pt>
                <c:pt idx="309">
                  <c:v>28.427923292</c:v>
                </c:pt>
                <c:pt idx="310">
                  <c:v>31.360584003</c:v>
                </c:pt>
                <c:pt idx="311">
                  <c:v>28.957624184</c:v>
                </c:pt>
                <c:pt idx="312">
                  <c:v>31.26134797</c:v>
                </c:pt>
                <c:pt idx="313">
                  <c:v>21.632273852</c:v>
                </c:pt>
                <c:pt idx="314">
                  <c:v>31.247423578</c:v>
                </c:pt>
                <c:pt idx="315">
                  <c:v>28.341540516</c:v>
                </c:pt>
                <c:pt idx="316">
                  <c:v>31.236780683</c:v>
                </c:pt>
                <c:pt idx="317">
                  <c:v>28.807501259</c:v>
                </c:pt>
                <c:pt idx="318">
                  <c:v>31.347016867</c:v>
                </c:pt>
                <c:pt idx="319">
                  <c:v>28.475471171</c:v>
                </c:pt>
                <c:pt idx="320">
                  <c:v>31.273735629</c:v>
                </c:pt>
                <c:pt idx="321">
                  <c:v>28.087007839</c:v>
                </c:pt>
                <c:pt idx="322">
                  <c:v>31.186979892</c:v>
                </c:pt>
                <c:pt idx="323">
                  <c:v>28.392745005</c:v>
                </c:pt>
                <c:pt idx="324">
                  <c:v>31.258563654</c:v>
                </c:pt>
                <c:pt idx="325">
                  <c:v>26.604361449</c:v>
                </c:pt>
                <c:pt idx="326">
                  <c:v>31.143288219</c:v>
                </c:pt>
                <c:pt idx="327">
                  <c:v>28.433108465</c:v>
                </c:pt>
                <c:pt idx="328">
                  <c:v>31.085330403</c:v>
                </c:pt>
                <c:pt idx="329">
                  <c:v>28.448507863</c:v>
                </c:pt>
                <c:pt idx="330">
                  <c:v>10.686440606</c:v>
                </c:pt>
                <c:pt idx="331">
                  <c:v>6.78488436</c:v>
                </c:pt>
                <c:pt idx="332">
                  <c:v>22.11470164</c:v>
                </c:pt>
                <c:pt idx="333">
                  <c:v>28.204944048</c:v>
                </c:pt>
                <c:pt idx="334">
                  <c:v>31.204631954</c:v>
                </c:pt>
                <c:pt idx="335">
                  <c:v>28.255166434</c:v>
                </c:pt>
                <c:pt idx="336">
                  <c:v>31.142315596</c:v>
                </c:pt>
                <c:pt idx="337">
                  <c:v>28.47720729</c:v>
                </c:pt>
                <c:pt idx="338">
                  <c:v>31.156957684</c:v>
                </c:pt>
                <c:pt idx="339">
                  <c:v>28.306065392</c:v>
                </c:pt>
                <c:pt idx="340">
                  <c:v>31.130324902</c:v>
                </c:pt>
                <c:pt idx="341">
                  <c:v>24.888813793</c:v>
                </c:pt>
                <c:pt idx="342">
                  <c:v>31.27065336</c:v>
                </c:pt>
                <c:pt idx="343">
                  <c:v>28.200784841</c:v>
                </c:pt>
                <c:pt idx="344">
                  <c:v>31.279208933</c:v>
                </c:pt>
                <c:pt idx="345">
                  <c:v>28.268624484</c:v>
                </c:pt>
                <c:pt idx="346">
                  <c:v>31.327594221</c:v>
                </c:pt>
                <c:pt idx="347">
                  <c:v>28.770607053</c:v>
                </c:pt>
                <c:pt idx="348">
                  <c:v>31.064341097</c:v>
                </c:pt>
                <c:pt idx="349">
                  <c:v>28.64457878</c:v>
                </c:pt>
                <c:pt idx="350">
                  <c:v>31.254792397</c:v>
                </c:pt>
                <c:pt idx="351">
                  <c:v>28.731973979</c:v>
                </c:pt>
                <c:pt idx="352">
                  <c:v>31.299366889</c:v>
                </c:pt>
                <c:pt idx="353">
                  <c:v>22.233947442</c:v>
                </c:pt>
                <c:pt idx="354">
                  <c:v>20.196334218</c:v>
                </c:pt>
                <c:pt idx="355">
                  <c:v>28.606003143</c:v>
                </c:pt>
                <c:pt idx="356">
                  <c:v>31.313368839</c:v>
                </c:pt>
                <c:pt idx="357">
                  <c:v>28.836784344</c:v>
                </c:pt>
                <c:pt idx="358">
                  <c:v>31.307680742</c:v>
                </c:pt>
                <c:pt idx="359">
                  <c:v>28.982298856</c:v>
                </c:pt>
                <c:pt idx="360">
                  <c:v>31.174954786</c:v>
                </c:pt>
                <c:pt idx="361">
                  <c:v>28.494593048</c:v>
                </c:pt>
                <c:pt idx="362">
                  <c:v>31.284995746</c:v>
                </c:pt>
                <c:pt idx="363">
                  <c:v>28.17195737</c:v>
                </c:pt>
                <c:pt idx="364">
                  <c:v>31.085761092</c:v>
                </c:pt>
                <c:pt idx="365">
                  <c:v>28.471567292</c:v>
                </c:pt>
                <c:pt idx="366">
                  <c:v>31.257101698</c:v>
                </c:pt>
                <c:pt idx="367">
                  <c:v>23.455253557</c:v>
                </c:pt>
                <c:pt idx="368">
                  <c:v>31.254248167</c:v>
                </c:pt>
                <c:pt idx="369">
                  <c:v>28.295062935</c:v>
                </c:pt>
                <c:pt idx="370">
                  <c:v>31.271455003</c:v>
                </c:pt>
                <c:pt idx="371">
                  <c:v>28.803195471</c:v>
                </c:pt>
                <c:pt idx="372">
                  <c:v>31.276180083</c:v>
                </c:pt>
                <c:pt idx="373">
                  <c:v>17.372948882</c:v>
                </c:pt>
                <c:pt idx="374">
                  <c:v>31.275199142</c:v>
                </c:pt>
                <c:pt idx="375">
                  <c:v>23.844438817</c:v>
                </c:pt>
                <c:pt idx="376">
                  <c:v>31.219542159</c:v>
                </c:pt>
                <c:pt idx="377">
                  <c:v>28.326959165</c:v>
                </c:pt>
                <c:pt idx="378">
                  <c:v>7.555436198</c:v>
                </c:pt>
                <c:pt idx="379">
                  <c:v>22.511031504</c:v>
                </c:pt>
                <c:pt idx="380">
                  <c:v>31.339307455</c:v>
                </c:pt>
                <c:pt idx="381">
                  <c:v>28.821213065</c:v>
                </c:pt>
                <c:pt idx="382">
                  <c:v>31.352781856</c:v>
                </c:pt>
                <c:pt idx="383">
                  <c:v>28.238236537</c:v>
                </c:pt>
                <c:pt idx="384">
                  <c:v>31.274957808</c:v>
                </c:pt>
                <c:pt idx="385">
                  <c:v>28.238655411</c:v>
                </c:pt>
                <c:pt idx="386">
                  <c:v>31.316287814</c:v>
                </c:pt>
                <c:pt idx="387">
                  <c:v>28.289125418</c:v>
                </c:pt>
                <c:pt idx="388">
                  <c:v>31.206864088</c:v>
                </c:pt>
                <c:pt idx="389">
                  <c:v>22.000807079</c:v>
                </c:pt>
                <c:pt idx="390">
                  <c:v>31.215245194</c:v>
                </c:pt>
                <c:pt idx="391">
                  <c:v>28.549180639</c:v>
                </c:pt>
                <c:pt idx="392">
                  <c:v>31.264101664</c:v>
                </c:pt>
                <c:pt idx="393">
                  <c:v>28.192659885</c:v>
                </c:pt>
                <c:pt idx="394">
                  <c:v>8.626106705</c:v>
                </c:pt>
                <c:pt idx="395">
                  <c:v>6.698755753</c:v>
                </c:pt>
                <c:pt idx="396">
                  <c:v>22.485208363</c:v>
                </c:pt>
                <c:pt idx="397">
                  <c:v>28.056094192</c:v>
                </c:pt>
                <c:pt idx="398">
                  <c:v>31.253253053</c:v>
                </c:pt>
                <c:pt idx="399">
                  <c:v>28.138682249</c:v>
                </c:pt>
                <c:pt idx="400">
                  <c:v>31.201942965</c:v>
                </c:pt>
                <c:pt idx="401">
                  <c:v>28.576601687</c:v>
                </c:pt>
                <c:pt idx="402">
                  <c:v>31.237611655</c:v>
                </c:pt>
                <c:pt idx="403">
                  <c:v>25.805528922</c:v>
                </c:pt>
                <c:pt idx="404">
                  <c:v>10.010149993</c:v>
                </c:pt>
                <c:pt idx="405">
                  <c:v>6.455161925</c:v>
                </c:pt>
                <c:pt idx="406">
                  <c:v>21.355658375</c:v>
                </c:pt>
                <c:pt idx="407">
                  <c:v>28.584682849</c:v>
                </c:pt>
                <c:pt idx="408">
                  <c:v>31.378488046</c:v>
                </c:pt>
                <c:pt idx="409">
                  <c:v>27.965029902</c:v>
                </c:pt>
                <c:pt idx="410">
                  <c:v>31.423384874</c:v>
                </c:pt>
                <c:pt idx="411">
                  <c:v>28.346790153</c:v>
                </c:pt>
                <c:pt idx="412">
                  <c:v>31.379608707</c:v>
                </c:pt>
                <c:pt idx="413">
                  <c:v>28.294871774</c:v>
                </c:pt>
                <c:pt idx="414">
                  <c:v>31.257770448</c:v>
                </c:pt>
                <c:pt idx="415">
                  <c:v>27.81710596</c:v>
                </c:pt>
                <c:pt idx="416">
                  <c:v>31.419267323</c:v>
                </c:pt>
                <c:pt idx="417">
                  <c:v>28.557194373</c:v>
                </c:pt>
                <c:pt idx="418">
                  <c:v>31.284832159</c:v>
                </c:pt>
                <c:pt idx="419">
                  <c:v>28.782846263</c:v>
                </c:pt>
                <c:pt idx="420">
                  <c:v>31.491646379</c:v>
                </c:pt>
                <c:pt idx="421">
                  <c:v>28.365848406</c:v>
                </c:pt>
                <c:pt idx="422">
                  <c:v>31.263137038</c:v>
                </c:pt>
                <c:pt idx="423">
                  <c:v>28.311212582</c:v>
                </c:pt>
                <c:pt idx="424">
                  <c:v>31.192678418</c:v>
                </c:pt>
                <c:pt idx="425">
                  <c:v>28.915891981</c:v>
                </c:pt>
                <c:pt idx="426">
                  <c:v>31.350481864</c:v>
                </c:pt>
                <c:pt idx="427">
                  <c:v>28.388382704</c:v>
                </c:pt>
                <c:pt idx="428">
                  <c:v>31.35391633</c:v>
                </c:pt>
                <c:pt idx="429">
                  <c:v>28.767069706</c:v>
                </c:pt>
                <c:pt idx="430">
                  <c:v>31.489917878</c:v>
                </c:pt>
                <c:pt idx="431">
                  <c:v>18.959344309</c:v>
                </c:pt>
                <c:pt idx="432">
                  <c:v>31.227813654</c:v>
                </c:pt>
                <c:pt idx="433">
                  <c:v>22.382457695</c:v>
                </c:pt>
                <c:pt idx="434">
                  <c:v>31.341308723</c:v>
                </c:pt>
                <c:pt idx="435">
                  <c:v>28.238319041</c:v>
                </c:pt>
                <c:pt idx="436">
                  <c:v>31.275596182</c:v>
                </c:pt>
                <c:pt idx="437">
                  <c:v>26.66864046</c:v>
                </c:pt>
                <c:pt idx="438">
                  <c:v>31.289405441</c:v>
                </c:pt>
                <c:pt idx="439">
                  <c:v>28.226367237</c:v>
                </c:pt>
                <c:pt idx="440">
                  <c:v>31.366353984</c:v>
                </c:pt>
                <c:pt idx="441">
                  <c:v>28.634375311</c:v>
                </c:pt>
                <c:pt idx="442">
                  <c:v>31.288384712</c:v>
                </c:pt>
                <c:pt idx="443">
                  <c:v>28.227242344</c:v>
                </c:pt>
                <c:pt idx="444">
                  <c:v>31.336603022</c:v>
                </c:pt>
                <c:pt idx="445">
                  <c:v>28.383970445</c:v>
                </c:pt>
                <c:pt idx="446">
                  <c:v>31.236244846</c:v>
                </c:pt>
                <c:pt idx="447">
                  <c:v>28.751172271</c:v>
                </c:pt>
                <c:pt idx="448">
                  <c:v>31.282269524</c:v>
                </c:pt>
                <c:pt idx="449">
                  <c:v>28.43621018</c:v>
                </c:pt>
                <c:pt idx="450">
                  <c:v>31.328680003</c:v>
                </c:pt>
                <c:pt idx="451">
                  <c:v>28.626239942</c:v>
                </c:pt>
                <c:pt idx="452">
                  <c:v>31.380564859</c:v>
                </c:pt>
                <c:pt idx="453">
                  <c:v>19.056637323</c:v>
                </c:pt>
                <c:pt idx="454">
                  <c:v>21.732194923</c:v>
                </c:pt>
                <c:pt idx="455">
                  <c:v>28.457109682</c:v>
                </c:pt>
                <c:pt idx="456">
                  <c:v>31.282666744</c:v>
                </c:pt>
                <c:pt idx="457">
                  <c:v>28.268624484</c:v>
                </c:pt>
                <c:pt idx="458">
                  <c:v>31.392882481</c:v>
                </c:pt>
                <c:pt idx="459">
                  <c:v>28.682217486</c:v>
                </c:pt>
                <c:pt idx="460">
                  <c:v>31.260492401</c:v>
                </c:pt>
                <c:pt idx="461">
                  <c:v>28.363607189</c:v>
                </c:pt>
                <c:pt idx="462">
                  <c:v>31.32390781</c:v>
                </c:pt>
                <c:pt idx="463">
                  <c:v>25.542145914</c:v>
                </c:pt>
                <c:pt idx="464">
                  <c:v>31.34775986</c:v>
                </c:pt>
                <c:pt idx="465">
                  <c:v>28.231219058</c:v>
                </c:pt>
                <c:pt idx="466">
                  <c:v>31.189867607</c:v>
                </c:pt>
                <c:pt idx="467">
                  <c:v>28.515837361</c:v>
                </c:pt>
                <c:pt idx="468">
                  <c:v>9.99053926600001</c:v>
                </c:pt>
                <c:pt idx="469">
                  <c:v>6.875178099</c:v>
                </c:pt>
                <c:pt idx="470">
                  <c:v>21.711844278</c:v>
                </c:pt>
                <c:pt idx="471">
                  <c:v>28.37734181</c:v>
                </c:pt>
                <c:pt idx="472">
                  <c:v>31.244975847</c:v>
                </c:pt>
                <c:pt idx="473">
                  <c:v>28.379700582</c:v>
                </c:pt>
                <c:pt idx="474">
                  <c:v>31.242955787</c:v>
                </c:pt>
                <c:pt idx="475">
                  <c:v>28.880777616</c:v>
                </c:pt>
                <c:pt idx="476">
                  <c:v>31.116609435</c:v>
                </c:pt>
                <c:pt idx="477">
                  <c:v>28.337839445</c:v>
                </c:pt>
                <c:pt idx="478">
                  <c:v>31.297963484</c:v>
                </c:pt>
                <c:pt idx="479">
                  <c:v>25.661127308</c:v>
                </c:pt>
                <c:pt idx="480">
                  <c:v>31.203539254</c:v>
                </c:pt>
                <c:pt idx="481">
                  <c:v>28.338951582</c:v>
                </c:pt>
                <c:pt idx="482">
                  <c:v>31.285034695</c:v>
                </c:pt>
                <c:pt idx="483">
                  <c:v>28.401236091</c:v>
                </c:pt>
                <c:pt idx="484">
                  <c:v>31.268622196</c:v>
                </c:pt>
                <c:pt idx="485">
                  <c:v>28.801498605</c:v>
                </c:pt>
                <c:pt idx="486">
                  <c:v>31.198952301</c:v>
                </c:pt>
                <c:pt idx="487">
                  <c:v>28.270965217</c:v>
                </c:pt>
                <c:pt idx="488">
                  <c:v>31.393737468</c:v>
                </c:pt>
                <c:pt idx="489">
                  <c:v>28.862029111</c:v>
                </c:pt>
                <c:pt idx="490">
                  <c:v>31.360411797</c:v>
                </c:pt>
                <c:pt idx="491">
                  <c:v>21.381181042</c:v>
                </c:pt>
                <c:pt idx="492">
                  <c:v>19.94418516</c:v>
                </c:pt>
                <c:pt idx="493">
                  <c:v>28.216396116</c:v>
                </c:pt>
                <c:pt idx="494">
                  <c:v>31.227487677</c:v>
                </c:pt>
                <c:pt idx="495">
                  <c:v>28.766766733</c:v>
                </c:pt>
                <c:pt idx="496">
                  <c:v>31.360302213</c:v>
                </c:pt>
                <c:pt idx="497">
                  <c:v>28.218271898</c:v>
                </c:pt>
                <c:pt idx="498">
                  <c:v>31.144940274</c:v>
                </c:pt>
                <c:pt idx="499">
                  <c:v>28.46429796</c:v>
                </c:pt>
                <c:pt idx="500">
                  <c:v>31.211569668</c:v>
                </c:pt>
                <c:pt idx="501">
                  <c:v>28.926257145</c:v>
                </c:pt>
                <c:pt idx="502">
                  <c:v>31.204887703</c:v>
                </c:pt>
                <c:pt idx="503">
                  <c:v>28.387908064</c:v>
                </c:pt>
                <c:pt idx="504">
                  <c:v>31.340370596</c:v>
                </c:pt>
                <c:pt idx="505">
                  <c:v>6.821557846</c:v>
                </c:pt>
                <c:pt idx="506">
                  <c:v>31.333023884</c:v>
                </c:pt>
                <c:pt idx="507">
                  <c:v>28.895210503</c:v>
                </c:pt>
                <c:pt idx="508">
                  <c:v>31.354057167</c:v>
                </c:pt>
                <c:pt idx="509">
                  <c:v>28.425826601</c:v>
                </c:pt>
                <c:pt idx="510">
                  <c:v>31.24056313</c:v>
                </c:pt>
                <c:pt idx="511">
                  <c:v>28.759003593</c:v>
                </c:pt>
                <c:pt idx="512">
                  <c:v>31.290660016</c:v>
                </c:pt>
                <c:pt idx="513">
                  <c:v>28.472380243</c:v>
                </c:pt>
                <c:pt idx="514">
                  <c:v>31.38848278</c:v>
                </c:pt>
                <c:pt idx="515">
                  <c:v>28.808967634</c:v>
                </c:pt>
                <c:pt idx="516">
                  <c:v>31.380980255</c:v>
                </c:pt>
                <c:pt idx="517">
                  <c:v>17.995881173</c:v>
                </c:pt>
                <c:pt idx="518">
                  <c:v>22.119003613</c:v>
                </c:pt>
                <c:pt idx="519">
                  <c:v>28.29991928</c:v>
                </c:pt>
                <c:pt idx="520">
                  <c:v>31.340362779</c:v>
                </c:pt>
                <c:pt idx="521">
                  <c:v>28.336810476</c:v>
                </c:pt>
                <c:pt idx="522">
                  <c:v>31.357961986</c:v>
                </c:pt>
                <c:pt idx="523">
                  <c:v>28.732144809</c:v>
                </c:pt>
                <c:pt idx="524">
                  <c:v>31.207112123</c:v>
                </c:pt>
                <c:pt idx="525">
                  <c:v>28.473122263</c:v>
                </c:pt>
                <c:pt idx="526">
                  <c:v>31.314391199</c:v>
                </c:pt>
                <c:pt idx="527">
                  <c:v>23.255602787</c:v>
                </c:pt>
                <c:pt idx="528">
                  <c:v>31.25703949</c:v>
                </c:pt>
                <c:pt idx="529">
                  <c:v>28.429190462</c:v>
                </c:pt>
                <c:pt idx="530">
                  <c:v>31.171907423</c:v>
                </c:pt>
                <c:pt idx="531">
                  <c:v>28.479976482</c:v>
                </c:pt>
                <c:pt idx="532">
                  <c:v>10.740128846</c:v>
                </c:pt>
                <c:pt idx="533">
                  <c:v>6.786878107</c:v>
                </c:pt>
                <c:pt idx="534">
                  <c:v>22.105702112</c:v>
                </c:pt>
                <c:pt idx="535">
                  <c:v>28.187682183</c:v>
                </c:pt>
                <c:pt idx="536">
                  <c:v>31.216897136</c:v>
                </c:pt>
                <c:pt idx="537">
                  <c:v>28.217917002</c:v>
                </c:pt>
                <c:pt idx="538">
                  <c:v>31.218937099</c:v>
                </c:pt>
                <c:pt idx="539">
                  <c:v>28.549855307</c:v>
                </c:pt>
                <c:pt idx="540">
                  <c:v>31.24750129</c:v>
                </c:pt>
                <c:pt idx="541">
                  <c:v>28.282006233</c:v>
                </c:pt>
                <c:pt idx="542">
                  <c:v>31.27416377</c:v>
                </c:pt>
                <c:pt idx="543">
                  <c:v>23.649665016</c:v>
                </c:pt>
                <c:pt idx="544">
                  <c:v>31.20715863</c:v>
                </c:pt>
                <c:pt idx="545">
                  <c:v>28.470773742</c:v>
                </c:pt>
                <c:pt idx="546">
                  <c:v>31.255406622</c:v>
                </c:pt>
                <c:pt idx="547">
                  <c:v>28.371997564</c:v>
                </c:pt>
                <c:pt idx="548">
                  <c:v>31.134559942</c:v>
                </c:pt>
                <c:pt idx="549">
                  <c:v>28.934923782</c:v>
                </c:pt>
                <c:pt idx="550">
                  <c:v>31.127016356</c:v>
                </c:pt>
                <c:pt idx="551">
                  <c:v>28.471205995</c:v>
                </c:pt>
                <c:pt idx="552">
                  <c:v>31.261674654</c:v>
                </c:pt>
                <c:pt idx="553">
                  <c:v>28.825067937</c:v>
                </c:pt>
                <c:pt idx="554">
                  <c:v>31.174436538</c:v>
                </c:pt>
                <c:pt idx="555">
                  <c:v>23.03844319</c:v>
                </c:pt>
                <c:pt idx="556">
                  <c:v>20.218882982</c:v>
                </c:pt>
                <c:pt idx="557">
                  <c:v>28.091177514</c:v>
                </c:pt>
                <c:pt idx="558">
                  <c:v>31.246265715</c:v>
                </c:pt>
                <c:pt idx="559">
                  <c:v>28.751172271</c:v>
                </c:pt>
                <c:pt idx="560">
                  <c:v>31.117341546</c:v>
                </c:pt>
                <c:pt idx="561">
                  <c:v>27.876676149</c:v>
                </c:pt>
                <c:pt idx="562">
                  <c:v>31.127425066</c:v>
                </c:pt>
                <c:pt idx="563">
                  <c:v>28.463911054</c:v>
                </c:pt>
                <c:pt idx="564">
                  <c:v>31.194389931</c:v>
                </c:pt>
                <c:pt idx="565">
                  <c:v>28.316610532</c:v>
                </c:pt>
                <c:pt idx="566">
                  <c:v>31.178219374</c:v>
                </c:pt>
                <c:pt idx="567">
                  <c:v>28.357461666</c:v>
                </c:pt>
                <c:pt idx="568">
                  <c:v>31.216439538</c:v>
                </c:pt>
                <c:pt idx="569">
                  <c:v>23.773906408</c:v>
                </c:pt>
                <c:pt idx="570">
                  <c:v>31.235196522</c:v>
                </c:pt>
                <c:pt idx="571">
                  <c:v>28.414930073</c:v>
                </c:pt>
                <c:pt idx="572">
                  <c:v>31.277869627</c:v>
                </c:pt>
                <c:pt idx="573">
                  <c:v>28.934970427</c:v>
                </c:pt>
                <c:pt idx="574">
                  <c:v>31.328680003</c:v>
                </c:pt>
                <c:pt idx="575">
                  <c:v>17.869305649</c:v>
                </c:pt>
                <c:pt idx="576">
                  <c:v>31.097070947</c:v>
                </c:pt>
                <c:pt idx="577">
                  <c:v>23.825095931</c:v>
                </c:pt>
                <c:pt idx="578">
                  <c:v>31.285985092</c:v>
                </c:pt>
                <c:pt idx="579">
                  <c:v>28.274222533</c:v>
                </c:pt>
                <c:pt idx="580">
                  <c:v>31.238194139</c:v>
                </c:pt>
                <c:pt idx="581">
                  <c:v>22.349491829</c:v>
                </c:pt>
                <c:pt idx="582">
                  <c:v>31.255468824</c:v>
                </c:pt>
                <c:pt idx="583">
                  <c:v>28.653136235</c:v>
                </c:pt>
                <c:pt idx="584">
                  <c:v>31.219650761</c:v>
                </c:pt>
                <c:pt idx="585">
                  <c:v>28.587459975</c:v>
                </c:pt>
                <c:pt idx="586">
                  <c:v>31.1496967</c:v>
                </c:pt>
                <c:pt idx="587">
                  <c:v>29.370294679</c:v>
                </c:pt>
                <c:pt idx="588">
                  <c:v>31.150932373</c:v>
                </c:pt>
                <c:pt idx="589">
                  <c:v>28.437677617</c:v>
                </c:pt>
                <c:pt idx="590">
                  <c:v>31.114274616</c:v>
                </c:pt>
                <c:pt idx="591">
                  <c:v>28.772030142</c:v>
                </c:pt>
                <c:pt idx="592">
                  <c:v>31.031818029</c:v>
                </c:pt>
                <c:pt idx="593">
                  <c:v>28.450421077</c:v>
                </c:pt>
                <c:pt idx="594">
                  <c:v>31.244160022</c:v>
                </c:pt>
                <c:pt idx="595">
                  <c:v>28.435341374</c:v>
                </c:pt>
                <c:pt idx="596">
                  <c:v>10.583231444</c:v>
                </c:pt>
                <c:pt idx="597">
                  <c:v>6.69745277699999</c:v>
                </c:pt>
                <c:pt idx="598">
                  <c:v>22.499313102</c:v>
                </c:pt>
                <c:pt idx="599">
                  <c:v>28.006439037</c:v>
                </c:pt>
                <c:pt idx="600">
                  <c:v>31.158410287</c:v>
                </c:pt>
                <c:pt idx="601">
                  <c:v>27.844254944</c:v>
                </c:pt>
                <c:pt idx="602">
                  <c:v>31.183953397</c:v>
                </c:pt>
                <c:pt idx="603">
                  <c:v>28.150635582</c:v>
                </c:pt>
                <c:pt idx="604">
                  <c:v>31.056808466</c:v>
                </c:pt>
                <c:pt idx="605">
                  <c:v>25.793469349</c:v>
                </c:pt>
                <c:pt idx="606">
                  <c:v>10.149942056</c:v>
                </c:pt>
                <c:pt idx="607">
                  <c:v>6.451085272</c:v>
                </c:pt>
                <c:pt idx="608">
                  <c:v>21.358943864</c:v>
                </c:pt>
                <c:pt idx="609">
                  <c:v>28.110679633</c:v>
                </c:pt>
                <c:pt idx="610">
                  <c:v>31.22515171</c:v>
                </c:pt>
                <c:pt idx="611">
                  <c:v>28.273198179</c:v>
                </c:pt>
                <c:pt idx="612">
                  <c:v>31.314508267</c:v>
                </c:pt>
                <c:pt idx="613">
                  <c:v>28.617248794</c:v>
                </c:pt>
                <c:pt idx="614">
                  <c:v>31.033006042</c:v>
                </c:pt>
                <c:pt idx="615">
                  <c:v>28.617320492</c:v>
                </c:pt>
                <c:pt idx="616">
                  <c:v>31.247446892</c:v>
                </c:pt>
                <c:pt idx="617">
                  <c:v>28.337411231</c:v>
                </c:pt>
                <c:pt idx="618">
                  <c:v>31.226051908</c:v>
                </c:pt>
                <c:pt idx="619">
                  <c:v>28.3022907</c:v>
                </c:pt>
                <c:pt idx="620">
                  <c:v>31.275339272</c:v>
                </c:pt>
                <c:pt idx="621">
                  <c:v>28.394894573</c:v>
                </c:pt>
                <c:pt idx="622">
                  <c:v>31.388420049</c:v>
                </c:pt>
                <c:pt idx="623">
                  <c:v>28.276163284</c:v>
                </c:pt>
                <c:pt idx="624">
                  <c:v>31.191423944</c:v>
                </c:pt>
                <c:pt idx="625">
                  <c:v>28.38845326</c:v>
                </c:pt>
                <c:pt idx="626">
                  <c:v>31.249786196</c:v>
                </c:pt>
                <c:pt idx="627">
                  <c:v>28.833144689</c:v>
                </c:pt>
                <c:pt idx="628">
                  <c:v>31.263113701</c:v>
                </c:pt>
                <c:pt idx="629">
                  <c:v>28.41066374</c:v>
                </c:pt>
                <c:pt idx="630">
                  <c:v>31.296123655</c:v>
                </c:pt>
                <c:pt idx="631">
                  <c:v>28.818886095</c:v>
                </c:pt>
                <c:pt idx="632">
                  <c:v>7.61914026</c:v>
                </c:pt>
                <c:pt idx="633">
                  <c:v>28.476865213</c:v>
                </c:pt>
                <c:pt idx="634">
                  <c:v>31.403506448</c:v>
                </c:pt>
                <c:pt idx="635">
                  <c:v>28.255833631</c:v>
                </c:pt>
                <c:pt idx="636">
                  <c:v>31.420634482</c:v>
                </c:pt>
                <c:pt idx="637">
                  <c:v>28.768788866</c:v>
                </c:pt>
                <c:pt idx="638">
                  <c:v>31.422787605</c:v>
                </c:pt>
                <c:pt idx="639">
                  <c:v>17.882179516</c:v>
                </c:pt>
                <c:pt idx="640">
                  <c:v>21.539070359</c:v>
                </c:pt>
                <c:pt idx="641">
                  <c:v>28.150831106</c:v>
                </c:pt>
                <c:pt idx="642">
                  <c:v>31.305457563</c:v>
                </c:pt>
                <c:pt idx="643">
                  <c:v>28.311525173</c:v>
                </c:pt>
                <c:pt idx="644">
                  <c:v>31.306768031</c:v>
                </c:pt>
                <c:pt idx="645">
                  <c:v>28.269673949</c:v>
                </c:pt>
                <c:pt idx="646">
                  <c:v>31.31033337</c:v>
                </c:pt>
                <c:pt idx="647">
                  <c:v>28.346604688</c:v>
                </c:pt>
                <c:pt idx="648">
                  <c:v>31.327242725</c:v>
                </c:pt>
                <c:pt idx="649">
                  <c:v>26.800432737</c:v>
                </c:pt>
                <c:pt idx="650">
                  <c:v>31.37146027</c:v>
                </c:pt>
                <c:pt idx="651">
                  <c:v>28.391769786</c:v>
                </c:pt>
                <c:pt idx="652">
                  <c:v>31.322916064</c:v>
                </c:pt>
                <c:pt idx="653">
                  <c:v>28.326199199</c:v>
                </c:pt>
                <c:pt idx="654">
                  <c:v>31.309576545</c:v>
                </c:pt>
                <c:pt idx="655">
                  <c:v>28.153379473</c:v>
                </c:pt>
                <c:pt idx="656">
                  <c:v>31.332586317</c:v>
                </c:pt>
                <c:pt idx="657">
                  <c:v>28.320689072</c:v>
                </c:pt>
                <c:pt idx="658">
                  <c:v>31.360028255</c:v>
                </c:pt>
                <c:pt idx="659">
                  <c:v>28.807455024</c:v>
                </c:pt>
                <c:pt idx="660">
                  <c:v>31.357085469</c:v>
                </c:pt>
                <c:pt idx="661">
                  <c:v>21.34667473</c:v>
                </c:pt>
                <c:pt idx="662">
                  <c:v>19.798996737</c:v>
                </c:pt>
                <c:pt idx="663">
                  <c:v>28.487066517</c:v>
                </c:pt>
                <c:pt idx="664">
                  <c:v>31.147843374</c:v>
                </c:pt>
                <c:pt idx="665">
                  <c:v>28.371440187</c:v>
                </c:pt>
                <c:pt idx="666">
                  <c:v>31.324954288</c:v>
                </c:pt>
                <c:pt idx="667">
                  <c:v>28.755758671</c:v>
                </c:pt>
                <c:pt idx="668">
                  <c:v>31.184789301</c:v>
                </c:pt>
                <c:pt idx="669">
                  <c:v>28.585788432</c:v>
                </c:pt>
                <c:pt idx="670">
                  <c:v>7.669179855</c:v>
                </c:pt>
                <c:pt idx="671">
                  <c:v>6.870180065</c:v>
                </c:pt>
                <c:pt idx="672">
                  <c:v>21.755476428</c:v>
                </c:pt>
                <c:pt idx="673">
                  <c:v>28.560044063</c:v>
                </c:pt>
                <c:pt idx="674">
                  <c:v>31.292234222</c:v>
                </c:pt>
                <c:pt idx="675">
                  <c:v>28.233356926</c:v>
                </c:pt>
                <c:pt idx="676">
                  <c:v>31.360936248</c:v>
                </c:pt>
                <c:pt idx="677">
                  <c:v>28.837333681</c:v>
                </c:pt>
                <c:pt idx="678">
                  <c:v>31.166950931</c:v>
                </c:pt>
                <c:pt idx="679">
                  <c:v>28.338446636</c:v>
                </c:pt>
                <c:pt idx="680">
                  <c:v>31.240718486</c:v>
                </c:pt>
                <c:pt idx="681">
                  <c:v>26.598059258</c:v>
                </c:pt>
                <c:pt idx="682">
                  <c:v>31.266583515</c:v>
                </c:pt>
                <c:pt idx="683">
                  <c:v>28.325343488</c:v>
                </c:pt>
                <c:pt idx="684">
                  <c:v>31.241207868</c:v>
                </c:pt>
                <c:pt idx="685">
                  <c:v>28.353718045</c:v>
                </c:pt>
                <c:pt idx="686">
                  <c:v>31.246848521</c:v>
                </c:pt>
                <c:pt idx="687">
                  <c:v>28.799419061</c:v>
                </c:pt>
                <c:pt idx="688">
                  <c:v>31.26118463</c:v>
                </c:pt>
                <c:pt idx="689">
                  <c:v>28.301353559</c:v>
                </c:pt>
                <c:pt idx="690">
                  <c:v>31.307204877</c:v>
                </c:pt>
                <c:pt idx="691">
                  <c:v>28.869993919</c:v>
                </c:pt>
                <c:pt idx="692">
                  <c:v>31.209313604</c:v>
                </c:pt>
                <c:pt idx="693">
                  <c:v>20.798712772</c:v>
                </c:pt>
                <c:pt idx="694">
                  <c:v>19.924629858</c:v>
                </c:pt>
                <c:pt idx="695">
                  <c:v>28.307659737</c:v>
                </c:pt>
                <c:pt idx="696">
                  <c:v>31.245084627</c:v>
                </c:pt>
                <c:pt idx="697">
                  <c:v>28.657227328</c:v>
                </c:pt>
                <c:pt idx="698">
                  <c:v>31.359942155</c:v>
                </c:pt>
                <c:pt idx="699">
                  <c:v>28.28561632</c:v>
                </c:pt>
                <c:pt idx="700">
                  <c:v>31.068450647</c:v>
                </c:pt>
                <c:pt idx="701">
                  <c:v>28.441243862</c:v>
                </c:pt>
                <c:pt idx="702">
                  <c:v>31.153357667</c:v>
                </c:pt>
                <c:pt idx="703">
                  <c:v>28.902575302</c:v>
                </c:pt>
                <c:pt idx="704">
                  <c:v>31.268365401</c:v>
                </c:pt>
                <c:pt idx="705">
                  <c:v>28.430091057</c:v>
                </c:pt>
                <c:pt idx="706">
                  <c:v>31.147055778</c:v>
                </c:pt>
                <c:pt idx="707">
                  <c:v>26.194571303</c:v>
                </c:pt>
                <c:pt idx="708">
                  <c:v>31.283531316</c:v>
                </c:pt>
                <c:pt idx="709">
                  <c:v>28.77604322</c:v>
                </c:pt>
                <c:pt idx="710">
                  <c:v>31.297152686</c:v>
                </c:pt>
                <c:pt idx="711">
                  <c:v>28.495620583</c:v>
                </c:pt>
                <c:pt idx="712">
                  <c:v>31.295757275</c:v>
                </c:pt>
                <c:pt idx="713">
                  <c:v>28.8916956</c:v>
                </c:pt>
                <c:pt idx="714">
                  <c:v>31.353298227</c:v>
                </c:pt>
                <c:pt idx="715">
                  <c:v>28.633892409</c:v>
                </c:pt>
                <c:pt idx="716">
                  <c:v>31.238326172</c:v>
                </c:pt>
                <c:pt idx="717">
                  <c:v>20.698317634</c:v>
                </c:pt>
                <c:pt idx="718">
                  <c:v>31.268637759</c:v>
                </c:pt>
                <c:pt idx="719">
                  <c:v>28.257390546</c:v>
                </c:pt>
                <c:pt idx="720">
                  <c:v>31.198348039</c:v>
                </c:pt>
                <c:pt idx="721">
                  <c:v>28.187207907</c:v>
                </c:pt>
                <c:pt idx="722">
                  <c:v>31.137445674</c:v>
                </c:pt>
                <c:pt idx="723">
                  <c:v>28.457238588</c:v>
                </c:pt>
                <c:pt idx="724">
                  <c:v>31.229179726</c:v>
                </c:pt>
                <c:pt idx="725">
                  <c:v>28.313821973</c:v>
                </c:pt>
                <c:pt idx="726">
                  <c:v>31.240166978</c:v>
                </c:pt>
                <c:pt idx="727">
                  <c:v>28.326908073</c:v>
                </c:pt>
                <c:pt idx="728">
                  <c:v>31.175720588</c:v>
                </c:pt>
                <c:pt idx="729">
                  <c:v>26.359961264</c:v>
                </c:pt>
                <c:pt idx="730">
                  <c:v>31.133348711</c:v>
                </c:pt>
                <c:pt idx="731">
                  <c:v>28.29448946</c:v>
                </c:pt>
                <c:pt idx="732">
                  <c:v>31.279645012</c:v>
                </c:pt>
                <c:pt idx="733">
                  <c:v>28.340651915</c:v>
                </c:pt>
                <c:pt idx="734">
                  <c:v>10.822406959</c:v>
                </c:pt>
                <c:pt idx="735">
                  <c:v>6.789152189</c:v>
                </c:pt>
                <c:pt idx="736">
                  <c:v>22.125761672</c:v>
                </c:pt>
                <c:pt idx="737">
                  <c:v>28.222055907</c:v>
                </c:pt>
                <c:pt idx="738">
                  <c:v>31.252934319</c:v>
                </c:pt>
                <c:pt idx="739">
                  <c:v>28.142104556</c:v>
                </c:pt>
                <c:pt idx="740">
                  <c:v>31.171567146</c:v>
                </c:pt>
                <c:pt idx="741">
                  <c:v>28.463169515</c:v>
                </c:pt>
                <c:pt idx="742">
                  <c:v>31.23098064</c:v>
                </c:pt>
                <c:pt idx="743">
                  <c:v>28.295241353</c:v>
                </c:pt>
                <c:pt idx="744">
                  <c:v>31.10854308</c:v>
                </c:pt>
                <c:pt idx="745">
                  <c:v>23.528433648</c:v>
                </c:pt>
                <c:pt idx="746">
                  <c:v>30.984242054</c:v>
                </c:pt>
                <c:pt idx="747">
                  <c:v>28.555772986</c:v>
                </c:pt>
                <c:pt idx="748">
                  <c:v>31.215291725</c:v>
                </c:pt>
                <c:pt idx="749">
                  <c:v>28.447921712</c:v>
                </c:pt>
                <c:pt idx="750">
                  <c:v>31.296131451</c:v>
                </c:pt>
                <c:pt idx="751">
                  <c:v>28.269807523</c:v>
                </c:pt>
                <c:pt idx="752">
                  <c:v>31.234854861</c:v>
                </c:pt>
                <c:pt idx="753">
                  <c:v>28.485380861</c:v>
                </c:pt>
                <c:pt idx="754">
                  <c:v>31.280579506</c:v>
                </c:pt>
                <c:pt idx="755">
                  <c:v>29.0856742</c:v>
                </c:pt>
                <c:pt idx="756">
                  <c:v>31.280127827</c:v>
                </c:pt>
                <c:pt idx="757">
                  <c:v>23.427123936</c:v>
                </c:pt>
                <c:pt idx="758">
                  <c:v>20.190897939</c:v>
                </c:pt>
                <c:pt idx="759">
                  <c:v>7.150834092</c:v>
                </c:pt>
                <c:pt idx="760">
                  <c:v>31.305083164</c:v>
                </c:pt>
                <c:pt idx="761">
                  <c:v>28.91726958</c:v>
                </c:pt>
                <c:pt idx="762">
                  <c:v>31.300380537</c:v>
                </c:pt>
                <c:pt idx="763">
                  <c:v>26.470235725</c:v>
                </c:pt>
                <c:pt idx="764">
                  <c:v>31.05205734</c:v>
                </c:pt>
                <c:pt idx="765">
                  <c:v>28.626050803</c:v>
                </c:pt>
                <c:pt idx="766">
                  <c:v>31.213174696</c:v>
                </c:pt>
                <c:pt idx="767">
                  <c:v>21.481915861</c:v>
                </c:pt>
                <c:pt idx="768">
                  <c:v>31.202299404</c:v>
                </c:pt>
                <c:pt idx="769">
                  <c:v>28.397756891</c:v>
                </c:pt>
                <c:pt idx="770">
                  <c:v>31.252397927</c:v>
                </c:pt>
                <c:pt idx="771">
                  <c:v>28.408762293</c:v>
                </c:pt>
                <c:pt idx="772">
                  <c:v>31.310473816</c:v>
                </c:pt>
                <c:pt idx="773">
                  <c:v>29.224660615</c:v>
                </c:pt>
                <c:pt idx="774">
                  <c:v>31.155173022</c:v>
                </c:pt>
                <c:pt idx="775">
                  <c:v>28.559596124</c:v>
                </c:pt>
                <c:pt idx="776">
                  <c:v>31.243476316</c:v>
                </c:pt>
                <c:pt idx="777">
                  <c:v>28.754508288</c:v>
                </c:pt>
                <c:pt idx="778">
                  <c:v>31.2035935</c:v>
                </c:pt>
                <c:pt idx="779">
                  <c:v>28.54182624</c:v>
                </c:pt>
                <c:pt idx="780">
                  <c:v>31.244641742</c:v>
                </c:pt>
                <c:pt idx="781">
                  <c:v>28.915273102</c:v>
                </c:pt>
                <c:pt idx="782">
                  <c:v>31.303616853</c:v>
                </c:pt>
                <c:pt idx="783">
                  <c:v>19.952784169</c:v>
                </c:pt>
                <c:pt idx="784">
                  <c:v>31.166247407</c:v>
                </c:pt>
                <c:pt idx="785">
                  <c:v>21.201005671</c:v>
                </c:pt>
                <c:pt idx="786">
                  <c:v>31.222552289</c:v>
                </c:pt>
                <c:pt idx="787">
                  <c:v>28.722043017</c:v>
                </c:pt>
                <c:pt idx="788">
                  <c:v>31.146569341</c:v>
                </c:pt>
                <c:pt idx="789">
                  <c:v>28.127337241</c:v>
                </c:pt>
                <c:pt idx="790">
                  <c:v>31.165860868</c:v>
                </c:pt>
                <c:pt idx="791">
                  <c:v>28.282719264</c:v>
                </c:pt>
                <c:pt idx="792">
                  <c:v>31.231555113</c:v>
                </c:pt>
                <c:pt idx="793">
                  <c:v>22.08938315</c:v>
                </c:pt>
                <c:pt idx="794">
                  <c:v>31.295055719</c:v>
                </c:pt>
                <c:pt idx="795">
                  <c:v>28.372766396</c:v>
                </c:pt>
                <c:pt idx="796">
                  <c:v>31.20245438</c:v>
                </c:pt>
                <c:pt idx="797">
                  <c:v>28.310019696</c:v>
                </c:pt>
                <c:pt idx="798">
                  <c:v>8.512880494</c:v>
                </c:pt>
                <c:pt idx="799">
                  <c:v>6.69611426399999</c:v>
                </c:pt>
                <c:pt idx="800">
                  <c:v>22.498644308</c:v>
                </c:pt>
                <c:pt idx="801">
                  <c:v>28.094682506</c:v>
                </c:pt>
                <c:pt idx="802">
                  <c:v>31.108835768</c:v>
                </c:pt>
                <c:pt idx="803">
                  <c:v>27.791681846</c:v>
                </c:pt>
                <c:pt idx="804">
                  <c:v>31.229792945</c:v>
                </c:pt>
                <c:pt idx="805">
                  <c:v>28.857402125</c:v>
                </c:pt>
                <c:pt idx="806">
                  <c:v>31.230375137</c:v>
                </c:pt>
                <c:pt idx="807">
                  <c:v>25.764664512</c:v>
                </c:pt>
                <c:pt idx="808">
                  <c:v>10.025006622</c:v>
                </c:pt>
                <c:pt idx="809">
                  <c:v>6.457722906</c:v>
                </c:pt>
                <c:pt idx="810">
                  <c:v>21.359001959</c:v>
                </c:pt>
                <c:pt idx="811">
                  <c:v>28.570727348</c:v>
                </c:pt>
                <c:pt idx="812">
                  <c:v>31.17107221</c:v>
                </c:pt>
                <c:pt idx="813">
                  <c:v>28.324551683</c:v>
                </c:pt>
                <c:pt idx="814">
                  <c:v>31.315975598</c:v>
                </c:pt>
                <c:pt idx="815">
                  <c:v>29.033934766</c:v>
                </c:pt>
                <c:pt idx="816">
                  <c:v>31.157398086</c:v>
                </c:pt>
                <c:pt idx="817">
                  <c:v>28.219197207</c:v>
                </c:pt>
                <c:pt idx="818">
                  <c:v>31.181979912</c:v>
                </c:pt>
                <c:pt idx="819">
                  <c:v>28.30861643</c:v>
                </c:pt>
                <c:pt idx="820">
                  <c:v>31.289202848</c:v>
                </c:pt>
                <c:pt idx="821">
                  <c:v>28.313349822</c:v>
                </c:pt>
                <c:pt idx="822">
                  <c:v>31.219270655</c:v>
                </c:pt>
                <c:pt idx="823">
                  <c:v>28.459217437</c:v>
                </c:pt>
                <c:pt idx="824">
                  <c:v>31.319464964</c:v>
                </c:pt>
                <c:pt idx="825">
                  <c:v>28.299434845</c:v>
                </c:pt>
                <c:pt idx="826">
                  <c:v>31.314851673</c:v>
                </c:pt>
                <c:pt idx="827">
                  <c:v>28.279415434</c:v>
                </c:pt>
                <c:pt idx="828">
                  <c:v>31.296942197</c:v>
                </c:pt>
                <c:pt idx="829">
                  <c:v>28.776155259</c:v>
                </c:pt>
                <c:pt idx="830">
                  <c:v>31.342778566</c:v>
                </c:pt>
                <c:pt idx="831">
                  <c:v>28.336567624</c:v>
                </c:pt>
                <c:pt idx="832">
                  <c:v>31.392929543</c:v>
                </c:pt>
                <c:pt idx="833">
                  <c:v>28.88613596</c:v>
                </c:pt>
                <c:pt idx="834">
                  <c:v>31.399676598</c:v>
                </c:pt>
                <c:pt idx="835">
                  <c:v>18.954356181</c:v>
                </c:pt>
                <c:pt idx="836">
                  <c:v>31.295351927</c:v>
                </c:pt>
                <c:pt idx="837">
                  <c:v>22.390371211</c:v>
                </c:pt>
                <c:pt idx="838">
                  <c:v>31.371663929</c:v>
                </c:pt>
                <c:pt idx="839">
                  <c:v>28.510621974</c:v>
                </c:pt>
                <c:pt idx="840">
                  <c:v>31.294128154</c:v>
                </c:pt>
                <c:pt idx="841">
                  <c:v>27.277324873</c:v>
                </c:pt>
                <c:pt idx="842">
                  <c:v>31.268147517</c:v>
                </c:pt>
                <c:pt idx="843">
                  <c:v>28.754310869</c:v>
                </c:pt>
                <c:pt idx="844">
                  <c:v>31.323236227</c:v>
                </c:pt>
                <c:pt idx="845">
                  <c:v>28.463440333</c:v>
                </c:pt>
                <c:pt idx="846">
                  <c:v>31.299608599</c:v>
                </c:pt>
                <c:pt idx="847">
                  <c:v>28.610751821</c:v>
                </c:pt>
                <c:pt idx="848">
                  <c:v>31.362799362</c:v>
                </c:pt>
                <c:pt idx="849">
                  <c:v>28.394746981</c:v>
                </c:pt>
                <c:pt idx="850">
                  <c:v>31.248900173</c:v>
                </c:pt>
                <c:pt idx="851">
                  <c:v>28.925830942</c:v>
                </c:pt>
                <c:pt idx="852">
                  <c:v>31.347924106</c:v>
                </c:pt>
                <c:pt idx="853">
                  <c:v>28.257441387</c:v>
                </c:pt>
                <c:pt idx="854">
                  <c:v>31.29441655</c:v>
                </c:pt>
                <c:pt idx="855">
                  <c:v>28.840219698</c:v>
                </c:pt>
                <c:pt idx="856">
                  <c:v>31.401842546</c:v>
                </c:pt>
                <c:pt idx="857">
                  <c:v>18.182289819</c:v>
                </c:pt>
                <c:pt idx="858">
                  <c:v>21.726287469</c:v>
                </c:pt>
                <c:pt idx="859">
                  <c:v>28.446575586</c:v>
                </c:pt>
                <c:pt idx="860">
                  <c:v>31.204709453</c:v>
                </c:pt>
                <c:pt idx="861">
                  <c:v>28.288271946</c:v>
                </c:pt>
                <c:pt idx="862">
                  <c:v>31.348268245</c:v>
                </c:pt>
                <c:pt idx="863">
                  <c:v>28.828183003</c:v>
                </c:pt>
                <c:pt idx="864">
                  <c:v>31.159855297</c:v>
                </c:pt>
                <c:pt idx="865">
                  <c:v>28.433764788</c:v>
                </c:pt>
                <c:pt idx="866">
                  <c:v>31.327547355</c:v>
                </c:pt>
                <c:pt idx="867">
                  <c:v>25.522854914</c:v>
                </c:pt>
                <c:pt idx="868">
                  <c:v>31.314562899</c:v>
                </c:pt>
                <c:pt idx="869">
                  <c:v>28.334120171</c:v>
                </c:pt>
                <c:pt idx="870">
                  <c:v>31.322447544</c:v>
                </c:pt>
                <c:pt idx="871">
                  <c:v>28.661764188</c:v>
                </c:pt>
                <c:pt idx="872">
                  <c:v>9.95108713500001</c:v>
                </c:pt>
                <c:pt idx="873">
                  <c:v>6.874573587</c:v>
                </c:pt>
                <c:pt idx="874">
                  <c:v>21.695119909</c:v>
                </c:pt>
                <c:pt idx="875">
                  <c:v>28.339699448</c:v>
                </c:pt>
                <c:pt idx="876">
                  <c:v>31.28189568</c:v>
                </c:pt>
                <c:pt idx="877">
                  <c:v>28.349310158</c:v>
                </c:pt>
                <c:pt idx="878">
                  <c:v>31.338713378</c:v>
                </c:pt>
                <c:pt idx="879">
                  <c:v>28.902867844</c:v>
                </c:pt>
                <c:pt idx="880">
                  <c:v>31.15728219</c:v>
                </c:pt>
                <c:pt idx="881">
                  <c:v>28.270952494</c:v>
                </c:pt>
                <c:pt idx="882">
                  <c:v>31.307462311</c:v>
                </c:pt>
                <c:pt idx="883">
                  <c:v>25.226681622</c:v>
                </c:pt>
                <c:pt idx="884">
                  <c:v>31.302189672</c:v>
                </c:pt>
                <c:pt idx="885">
                  <c:v>28.19909492</c:v>
                </c:pt>
                <c:pt idx="886">
                  <c:v>7.472523774</c:v>
                </c:pt>
                <c:pt idx="887">
                  <c:v>22.559643525</c:v>
                </c:pt>
                <c:pt idx="888">
                  <c:v>31.514015612</c:v>
                </c:pt>
                <c:pt idx="889">
                  <c:v>29.008837248</c:v>
                </c:pt>
                <c:pt idx="890">
                  <c:v>31.27033427</c:v>
                </c:pt>
                <c:pt idx="891">
                  <c:v>28.522278345</c:v>
                </c:pt>
                <c:pt idx="892">
                  <c:v>31.262880333</c:v>
                </c:pt>
                <c:pt idx="893">
                  <c:v>28.858634959</c:v>
                </c:pt>
                <c:pt idx="894">
                  <c:v>31.211864299</c:v>
                </c:pt>
                <c:pt idx="895">
                  <c:v>28.309643352</c:v>
                </c:pt>
                <c:pt idx="896">
                  <c:v>31.203624497</c:v>
                </c:pt>
                <c:pt idx="897">
                  <c:v>28.824935677</c:v>
                </c:pt>
                <c:pt idx="898">
                  <c:v>31.355035237</c:v>
                </c:pt>
                <c:pt idx="899">
                  <c:v>17.80245845</c:v>
                </c:pt>
                <c:pt idx="900">
                  <c:v>31.239902883</c:v>
                </c:pt>
                <c:pt idx="901">
                  <c:v>23.000835709</c:v>
                </c:pt>
                <c:pt idx="902">
                  <c:v>31.33542291</c:v>
                </c:pt>
                <c:pt idx="903">
                  <c:v>28.478653141</c:v>
                </c:pt>
                <c:pt idx="904">
                  <c:v>31.241052507</c:v>
                </c:pt>
                <c:pt idx="905">
                  <c:v>23.617373297</c:v>
                </c:pt>
                <c:pt idx="906">
                  <c:v>31.347626901</c:v>
                </c:pt>
                <c:pt idx="907">
                  <c:v>28.512575903</c:v>
                </c:pt>
                <c:pt idx="908">
                  <c:v>31.263035911</c:v>
                </c:pt>
                <c:pt idx="909">
                  <c:v>28.649738771</c:v>
                </c:pt>
                <c:pt idx="910">
                  <c:v>31.167917362</c:v>
                </c:pt>
                <c:pt idx="911">
                  <c:v>28.474206326</c:v>
                </c:pt>
                <c:pt idx="912">
                  <c:v>31.350669606</c:v>
                </c:pt>
                <c:pt idx="913">
                  <c:v>28.336535671</c:v>
                </c:pt>
                <c:pt idx="914">
                  <c:v>31.204709453</c:v>
                </c:pt>
                <c:pt idx="915">
                  <c:v>29.368235159</c:v>
                </c:pt>
                <c:pt idx="916">
                  <c:v>31.317224499</c:v>
                </c:pt>
                <c:pt idx="917">
                  <c:v>28.389543715</c:v>
                </c:pt>
                <c:pt idx="918">
                  <c:v>31.262374714</c:v>
                </c:pt>
                <c:pt idx="919">
                  <c:v>28.943262242</c:v>
                </c:pt>
                <c:pt idx="920">
                  <c:v>31.353110454</c:v>
                </c:pt>
                <c:pt idx="921">
                  <c:v>19.841954484</c:v>
                </c:pt>
                <c:pt idx="922">
                  <c:v>22.137277407</c:v>
                </c:pt>
                <c:pt idx="923">
                  <c:v>28.359458669</c:v>
                </c:pt>
                <c:pt idx="924">
                  <c:v>31.304880368</c:v>
                </c:pt>
                <c:pt idx="925">
                  <c:v>28.563076134</c:v>
                </c:pt>
                <c:pt idx="926">
                  <c:v>31.305083164</c:v>
                </c:pt>
                <c:pt idx="927">
                  <c:v>28.904576676</c:v>
                </c:pt>
                <c:pt idx="928">
                  <c:v>31.187955307</c:v>
                </c:pt>
                <c:pt idx="929">
                  <c:v>28.348075683</c:v>
                </c:pt>
                <c:pt idx="930">
                  <c:v>31.29589759</c:v>
                </c:pt>
                <c:pt idx="931">
                  <c:v>22.873807805</c:v>
                </c:pt>
                <c:pt idx="932">
                  <c:v>31.336509235</c:v>
                </c:pt>
                <c:pt idx="933">
                  <c:v>28.408672366</c:v>
                </c:pt>
                <c:pt idx="934">
                  <c:v>31.353947627</c:v>
                </c:pt>
                <c:pt idx="935">
                  <c:v>28.558648358</c:v>
                </c:pt>
                <c:pt idx="936">
                  <c:v>10.78726029</c:v>
                </c:pt>
                <c:pt idx="937">
                  <c:v>6.777588229</c:v>
                </c:pt>
                <c:pt idx="938">
                  <c:v>22.178158561</c:v>
                </c:pt>
                <c:pt idx="939">
                  <c:v>28.189971581</c:v>
                </c:pt>
                <c:pt idx="940">
                  <c:v>31.261410195</c:v>
                </c:pt>
                <c:pt idx="941">
                  <c:v>28.268630844</c:v>
                </c:pt>
                <c:pt idx="942">
                  <c:v>31.144546544</c:v>
                </c:pt>
                <c:pt idx="943">
                  <c:v>28.576666682</c:v>
                </c:pt>
                <c:pt idx="944">
                  <c:v>31.291080828</c:v>
                </c:pt>
                <c:pt idx="945">
                  <c:v>28.619927943</c:v>
                </c:pt>
                <c:pt idx="946">
                  <c:v>31.311090231</c:v>
                </c:pt>
                <c:pt idx="947">
                  <c:v>23.366376869</c:v>
                </c:pt>
                <c:pt idx="948">
                  <c:v>31.331047113</c:v>
                </c:pt>
                <c:pt idx="949">
                  <c:v>28.446949139</c:v>
                </c:pt>
                <c:pt idx="950">
                  <c:v>31.272972789</c:v>
                </c:pt>
                <c:pt idx="951">
                  <c:v>28.584637327</c:v>
                </c:pt>
                <c:pt idx="952">
                  <c:v>31.325985215</c:v>
                </c:pt>
                <c:pt idx="953">
                  <c:v>29.03310285</c:v>
                </c:pt>
                <c:pt idx="954">
                  <c:v>31.297667226</c:v>
                </c:pt>
                <c:pt idx="955">
                  <c:v>28.303623204</c:v>
                </c:pt>
                <c:pt idx="956">
                  <c:v>31.271275991</c:v>
                </c:pt>
                <c:pt idx="957">
                  <c:v>28.873131973</c:v>
                </c:pt>
                <c:pt idx="958">
                  <c:v>31.392827575</c:v>
                </c:pt>
                <c:pt idx="959">
                  <c:v>22.535159729</c:v>
                </c:pt>
                <c:pt idx="960">
                  <c:v>20.240076783</c:v>
                </c:pt>
                <c:pt idx="961">
                  <c:v>28.184400518</c:v>
                </c:pt>
                <c:pt idx="962">
                  <c:v>31.290145706</c:v>
                </c:pt>
                <c:pt idx="963">
                  <c:v>28.691413307</c:v>
                </c:pt>
                <c:pt idx="964">
                  <c:v>31.378135407</c:v>
                </c:pt>
                <c:pt idx="965">
                  <c:v>28.191995668</c:v>
                </c:pt>
                <c:pt idx="966">
                  <c:v>31.174490682</c:v>
                </c:pt>
                <c:pt idx="967">
                  <c:v>28.378316038</c:v>
                </c:pt>
                <c:pt idx="968">
                  <c:v>31.241596277</c:v>
                </c:pt>
                <c:pt idx="969">
                  <c:v>28.17351769</c:v>
                </c:pt>
                <c:pt idx="970">
                  <c:v>31.172363716</c:v>
                </c:pt>
                <c:pt idx="971">
                  <c:v>28.481370964</c:v>
                </c:pt>
                <c:pt idx="972">
                  <c:v>31.32935182</c:v>
                </c:pt>
                <c:pt idx="973">
                  <c:v>24.231269822</c:v>
                </c:pt>
                <c:pt idx="974">
                  <c:v>31.318301756</c:v>
                </c:pt>
                <c:pt idx="975">
                  <c:v>28.218569765</c:v>
                </c:pt>
                <c:pt idx="976">
                  <c:v>31.317411843</c:v>
                </c:pt>
                <c:pt idx="977">
                  <c:v>28.741267483</c:v>
                </c:pt>
                <c:pt idx="978">
                  <c:v>31.364960226</c:v>
                </c:pt>
                <c:pt idx="979">
                  <c:v>17.468664581</c:v>
                </c:pt>
                <c:pt idx="980">
                  <c:v>31.169131284</c:v>
                </c:pt>
                <c:pt idx="981">
                  <c:v>23.682420118</c:v>
                </c:pt>
                <c:pt idx="982">
                  <c:v>31.306432603</c:v>
                </c:pt>
                <c:pt idx="983">
                  <c:v>28.352899059</c:v>
                </c:pt>
                <c:pt idx="984">
                  <c:v>31.169224072</c:v>
                </c:pt>
                <c:pt idx="985">
                  <c:v>22.345664058</c:v>
                </c:pt>
                <c:pt idx="986">
                  <c:v>31.290480785</c:v>
                </c:pt>
                <c:pt idx="987">
                  <c:v>28.616303715</c:v>
                </c:pt>
                <c:pt idx="988">
                  <c:v>31.243989093</c:v>
                </c:pt>
                <c:pt idx="989">
                  <c:v>28.509489853</c:v>
                </c:pt>
                <c:pt idx="990">
                  <c:v>31.170793815</c:v>
                </c:pt>
                <c:pt idx="991">
                  <c:v>28.836182083</c:v>
                </c:pt>
                <c:pt idx="992">
                  <c:v>31.254263717</c:v>
                </c:pt>
                <c:pt idx="993">
                  <c:v>28.846298109</c:v>
                </c:pt>
                <c:pt idx="994">
                  <c:v>31.176997007</c:v>
                </c:pt>
                <c:pt idx="995">
                  <c:v>28.814279538</c:v>
                </c:pt>
                <c:pt idx="996">
                  <c:v>31.295164848</c:v>
                </c:pt>
                <c:pt idx="997">
                  <c:v>28.444225002</c:v>
                </c:pt>
                <c:pt idx="998">
                  <c:v>31.266295631</c:v>
                </c:pt>
                <c:pt idx="999">
                  <c:v>28.35269432</c:v>
                </c:pt>
                <c:pt idx="1000">
                  <c:v>10.565039817</c:v>
                </c:pt>
              </c:numCache>
            </c:numRef>
          </c:yVal>
          <c:smooth val="0"/>
        </c:ser>
        <c:ser>
          <c:idx val="6"/>
          <c:order val="6"/>
          <c:tx>
            <c:strRef>
              <c:f>label 12</c:f>
              <c:strCache>
                <c:ptCount val="1"/>
                <c:pt idx="0">
                  <c:v>256 K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3</c:f>
              <c:numCache>
                <c:formatCode>General</c:formatCode>
                <c:ptCount val="1001"/>
                <c:pt idx="0">
                  <c:v>262144</c:v>
                </c:pt>
                <c:pt idx="1">
                  <c:v>262144</c:v>
                </c:pt>
                <c:pt idx="2">
                  <c:v>262144</c:v>
                </c:pt>
                <c:pt idx="3">
                  <c:v>262144</c:v>
                </c:pt>
                <c:pt idx="4">
                  <c:v>262144</c:v>
                </c:pt>
                <c:pt idx="5">
                  <c:v>262144</c:v>
                </c:pt>
                <c:pt idx="6">
                  <c:v>262144</c:v>
                </c:pt>
                <c:pt idx="7">
                  <c:v>262144</c:v>
                </c:pt>
                <c:pt idx="8">
                  <c:v>262144</c:v>
                </c:pt>
                <c:pt idx="9">
                  <c:v>262144</c:v>
                </c:pt>
                <c:pt idx="10">
                  <c:v>262144</c:v>
                </c:pt>
                <c:pt idx="11">
                  <c:v>262144</c:v>
                </c:pt>
                <c:pt idx="12">
                  <c:v>262144</c:v>
                </c:pt>
                <c:pt idx="13">
                  <c:v>262144</c:v>
                </c:pt>
                <c:pt idx="14">
                  <c:v>262144</c:v>
                </c:pt>
                <c:pt idx="15">
                  <c:v>262144</c:v>
                </c:pt>
                <c:pt idx="16">
                  <c:v>262144</c:v>
                </c:pt>
                <c:pt idx="17">
                  <c:v>262144</c:v>
                </c:pt>
                <c:pt idx="18">
                  <c:v>262144</c:v>
                </c:pt>
                <c:pt idx="19">
                  <c:v>262144</c:v>
                </c:pt>
                <c:pt idx="20">
                  <c:v>262144</c:v>
                </c:pt>
                <c:pt idx="21">
                  <c:v>262144</c:v>
                </c:pt>
                <c:pt idx="22">
                  <c:v>262144</c:v>
                </c:pt>
                <c:pt idx="23">
                  <c:v>262144</c:v>
                </c:pt>
                <c:pt idx="24">
                  <c:v>262144</c:v>
                </c:pt>
                <c:pt idx="25">
                  <c:v>262144</c:v>
                </c:pt>
                <c:pt idx="26">
                  <c:v>262144</c:v>
                </c:pt>
                <c:pt idx="27">
                  <c:v>262144</c:v>
                </c:pt>
                <c:pt idx="28">
                  <c:v>262144</c:v>
                </c:pt>
                <c:pt idx="29">
                  <c:v>262144</c:v>
                </c:pt>
                <c:pt idx="30">
                  <c:v>262144</c:v>
                </c:pt>
                <c:pt idx="31">
                  <c:v>262144</c:v>
                </c:pt>
                <c:pt idx="32">
                  <c:v>262144</c:v>
                </c:pt>
                <c:pt idx="33">
                  <c:v>262144</c:v>
                </c:pt>
                <c:pt idx="34">
                  <c:v>262144</c:v>
                </c:pt>
                <c:pt idx="35">
                  <c:v>262144</c:v>
                </c:pt>
                <c:pt idx="36">
                  <c:v>262144</c:v>
                </c:pt>
                <c:pt idx="37">
                  <c:v>262144</c:v>
                </c:pt>
                <c:pt idx="38">
                  <c:v>262144</c:v>
                </c:pt>
                <c:pt idx="39">
                  <c:v>262144</c:v>
                </c:pt>
                <c:pt idx="40">
                  <c:v>262144</c:v>
                </c:pt>
                <c:pt idx="41">
                  <c:v>262144</c:v>
                </c:pt>
                <c:pt idx="42">
                  <c:v>262144</c:v>
                </c:pt>
                <c:pt idx="43">
                  <c:v>262144</c:v>
                </c:pt>
                <c:pt idx="44">
                  <c:v>262144</c:v>
                </c:pt>
                <c:pt idx="45">
                  <c:v>262144</c:v>
                </c:pt>
                <c:pt idx="46">
                  <c:v>262144</c:v>
                </c:pt>
                <c:pt idx="47">
                  <c:v>262144</c:v>
                </c:pt>
                <c:pt idx="48">
                  <c:v>262144</c:v>
                </c:pt>
                <c:pt idx="49">
                  <c:v>262144</c:v>
                </c:pt>
                <c:pt idx="50">
                  <c:v>262144</c:v>
                </c:pt>
                <c:pt idx="51">
                  <c:v>262144</c:v>
                </c:pt>
                <c:pt idx="52">
                  <c:v>262144</c:v>
                </c:pt>
                <c:pt idx="53">
                  <c:v>262144</c:v>
                </c:pt>
                <c:pt idx="54">
                  <c:v>262144</c:v>
                </c:pt>
                <c:pt idx="55">
                  <c:v>262144</c:v>
                </c:pt>
                <c:pt idx="56">
                  <c:v>262144</c:v>
                </c:pt>
                <c:pt idx="57">
                  <c:v>262144</c:v>
                </c:pt>
                <c:pt idx="58">
                  <c:v>262144</c:v>
                </c:pt>
                <c:pt idx="59">
                  <c:v>262144</c:v>
                </c:pt>
                <c:pt idx="60">
                  <c:v>262144</c:v>
                </c:pt>
                <c:pt idx="61">
                  <c:v>262144</c:v>
                </c:pt>
                <c:pt idx="62">
                  <c:v>262144</c:v>
                </c:pt>
                <c:pt idx="63">
                  <c:v>262144</c:v>
                </c:pt>
                <c:pt idx="64">
                  <c:v>262144</c:v>
                </c:pt>
                <c:pt idx="65">
                  <c:v>262144</c:v>
                </c:pt>
                <c:pt idx="66">
                  <c:v>262144</c:v>
                </c:pt>
                <c:pt idx="67">
                  <c:v>262144</c:v>
                </c:pt>
                <c:pt idx="68">
                  <c:v>262144</c:v>
                </c:pt>
                <c:pt idx="69">
                  <c:v>262144</c:v>
                </c:pt>
                <c:pt idx="70">
                  <c:v>262144</c:v>
                </c:pt>
                <c:pt idx="71">
                  <c:v>262144</c:v>
                </c:pt>
                <c:pt idx="72">
                  <c:v>262144</c:v>
                </c:pt>
                <c:pt idx="73">
                  <c:v>262144</c:v>
                </c:pt>
                <c:pt idx="74">
                  <c:v>262144</c:v>
                </c:pt>
                <c:pt idx="75">
                  <c:v>262144</c:v>
                </c:pt>
                <c:pt idx="76">
                  <c:v>262144</c:v>
                </c:pt>
                <c:pt idx="77">
                  <c:v>262144</c:v>
                </c:pt>
                <c:pt idx="78">
                  <c:v>262144</c:v>
                </c:pt>
                <c:pt idx="79">
                  <c:v>262144</c:v>
                </c:pt>
                <c:pt idx="80">
                  <c:v>262144</c:v>
                </c:pt>
                <c:pt idx="81">
                  <c:v>262144</c:v>
                </c:pt>
                <c:pt idx="82">
                  <c:v>262144</c:v>
                </c:pt>
                <c:pt idx="83">
                  <c:v>262144</c:v>
                </c:pt>
                <c:pt idx="84">
                  <c:v>262144</c:v>
                </c:pt>
                <c:pt idx="85">
                  <c:v>262144</c:v>
                </c:pt>
                <c:pt idx="86">
                  <c:v>262144</c:v>
                </c:pt>
                <c:pt idx="87">
                  <c:v>262144</c:v>
                </c:pt>
                <c:pt idx="88">
                  <c:v>262144</c:v>
                </c:pt>
                <c:pt idx="89">
                  <c:v>262144</c:v>
                </c:pt>
                <c:pt idx="90">
                  <c:v>262144</c:v>
                </c:pt>
                <c:pt idx="91">
                  <c:v>262144</c:v>
                </c:pt>
                <c:pt idx="92">
                  <c:v>262144</c:v>
                </c:pt>
                <c:pt idx="93">
                  <c:v>262144</c:v>
                </c:pt>
                <c:pt idx="94">
                  <c:v>262144</c:v>
                </c:pt>
                <c:pt idx="95">
                  <c:v>262144</c:v>
                </c:pt>
                <c:pt idx="96">
                  <c:v>262144</c:v>
                </c:pt>
                <c:pt idx="97">
                  <c:v>262144</c:v>
                </c:pt>
                <c:pt idx="98">
                  <c:v>262144</c:v>
                </c:pt>
                <c:pt idx="99">
                  <c:v>262144</c:v>
                </c:pt>
                <c:pt idx="100">
                  <c:v>262144</c:v>
                </c:pt>
                <c:pt idx="101">
                  <c:v>262144</c:v>
                </c:pt>
                <c:pt idx="102">
                  <c:v>262144</c:v>
                </c:pt>
                <c:pt idx="103">
                  <c:v>262144</c:v>
                </c:pt>
                <c:pt idx="104">
                  <c:v>262144</c:v>
                </c:pt>
                <c:pt idx="105">
                  <c:v>262144</c:v>
                </c:pt>
                <c:pt idx="106">
                  <c:v>262144</c:v>
                </c:pt>
                <c:pt idx="107">
                  <c:v>262144</c:v>
                </c:pt>
                <c:pt idx="108">
                  <c:v>262144</c:v>
                </c:pt>
                <c:pt idx="109">
                  <c:v>262144</c:v>
                </c:pt>
                <c:pt idx="110">
                  <c:v>262144</c:v>
                </c:pt>
                <c:pt idx="111">
                  <c:v>262144</c:v>
                </c:pt>
                <c:pt idx="112">
                  <c:v>262144</c:v>
                </c:pt>
                <c:pt idx="113">
                  <c:v>262144</c:v>
                </c:pt>
                <c:pt idx="114">
                  <c:v>262144</c:v>
                </c:pt>
                <c:pt idx="115">
                  <c:v>262144</c:v>
                </c:pt>
                <c:pt idx="116">
                  <c:v>262144</c:v>
                </c:pt>
                <c:pt idx="117">
                  <c:v>262144</c:v>
                </c:pt>
                <c:pt idx="118">
                  <c:v>262144</c:v>
                </c:pt>
                <c:pt idx="119">
                  <c:v>262144</c:v>
                </c:pt>
                <c:pt idx="120">
                  <c:v>262144</c:v>
                </c:pt>
                <c:pt idx="121">
                  <c:v>262144</c:v>
                </c:pt>
                <c:pt idx="122">
                  <c:v>262144</c:v>
                </c:pt>
                <c:pt idx="123">
                  <c:v>262144</c:v>
                </c:pt>
                <c:pt idx="124">
                  <c:v>262144</c:v>
                </c:pt>
                <c:pt idx="125">
                  <c:v>262144</c:v>
                </c:pt>
                <c:pt idx="126">
                  <c:v>262144</c:v>
                </c:pt>
                <c:pt idx="127">
                  <c:v>262144</c:v>
                </c:pt>
                <c:pt idx="128">
                  <c:v>262144</c:v>
                </c:pt>
                <c:pt idx="129">
                  <c:v>262144</c:v>
                </c:pt>
                <c:pt idx="130">
                  <c:v>262144</c:v>
                </c:pt>
                <c:pt idx="131">
                  <c:v>262144</c:v>
                </c:pt>
                <c:pt idx="132">
                  <c:v>262144</c:v>
                </c:pt>
                <c:pt idx="133">
                  <c:v>262144</c:v>
                </c:pt>
                <c:pt idx="134">
                  <c:v>262144</c:v>
                </c:pt>
                <c:pt idx="135">
                  <c:v>262144</c:v>
                </c:pt>
                <c:pt idx="136">
                  <c:v>262144</c:v>
                </c:pt>
                <c:pt idx="137">
                  <c:v>262144</c:v>
                </c:pt>
                <c:pt idx="138">
                  <c:v>262144</c:v>
                </c:pt>
                <c:pt idx="139">
                  <c:v>262144</c:v>
                </c:pt>
                <c:pt idx="140">
                  <c:v>262144</c:v>
                </c:pt>
                <c:pt idx="141">
                  <c:v>262144</c:v>
                </c:pt>
                <c:pt idx="142">
                  <c:v>262144</c:v>
                </c:pt>
                <c:pt idx="143">
                  <c:v>262144</c:v>
                </c:pt>
                <c:pt idx="144">
                  <c:v>262144</c:v>
                </c:pt>
                <c:pt idx="145">
                  <c:v>262144</c:v>
                </c:pt>
                <c:pt idx="146">
                  <c:v>262144</c:v>
                </c:pt>
                <c:pt idx="147">
                  <c:v>262144</c:v>
                </c:pt>
                <c:pt idx="148">
                  <c:v>262144</c:v>
                </c:pt>
                <c:pt idx="149">
                  <c:v>262144</c:v>
                </c:pt>
                <c:pt idx="150">
                  <c:v>262144</c:v>
                </c:pt>
                <c:pt idx="151">
                  <c:v>262144</c:v>
                </c:pt>
                <c:pt idx="152">
                  <c:v>262144</c:v>
                </c:pt>
                <c:pt idx="153">
                  <c:v>262144</c:v>
                </c:pt>
                <c:pt idx="154">
                  <c:v>262144</c:v>
                </c:pt>
                <c:pt idx="155">
                  <c:v>262144</c:v>
                </c:pt>
                <c:pt idx="156">
                  <c:v>262144</c:v>
                </c:pt>
                <c:pt idx="157">
                  <c:v>262144</c:v>
                </c:pt>
                <c:pt idx="158">
                  <c:v>262144</c:v>
                </c:pt>
                <c:pt idx="159">
                  <c:v>262144</c:v>
                </c:pt>
                <c:pt idx="160">
                  <c:v>262144</c:v>
                </c:pt>
                <c:pt idx="161">
                  <c:v>262144</c:v>
                </c:pt>
                <c:pt idx="162">
                  <c:v>262144</c:v>
                </c:pt>
                <c:pt idx="163">
                  <c:v>262144</c:v>
                </c:pt>
                <c:pt idx="164">
                  <c:v>262144</c:v>
                </c:pt>
                <c:pt idx="165">
                  <c:v>262144</c:v>
                </c:pt>
                <c:pt idx="166">
                  <c:v>262144</c:v>
                </c:pt>
                <c:pt idx="167">
                  <c:v>262144</c:v>
                </c:pt>
                <c:pt idx="168">
                  <c:v>262144</c:v>
                </c:pt>
                <c:pt idx="169">
                  <c:v>262144</c:v>
                </c:pt>
                <c:pt idx="170">
                  <c:v>262144</c:v>
                </c:pt>
                <c:pt idx="171">
                  <c:v>262144</c:v>
                </c:pt>
                <c:pt idx="172">
                  <c:v>262144</c:v>
                </c:pt>
                <c:pt idx="173">
                  <c:v>262144</c:v>
                </c:pt>
                <c:pt idx="174">
                  <c:v>262144</c:v>
                </c:pt>
                <c:pt idx="175">
                  <c:v>262144</c:v>
                </c:pt>
                <c:pt idx="176">
                  <c:v>262144</c:v>
                </c:pt>
                <c:pt idx="177">
                  <c:v>262144</c:v>
                </c:pt>
                <c:pt idx="178">
                  <c:v>262144</c:v>
                </c:pt>
                <c:pt idx="179">
                  <c:v>262144</c:v>
                </c:pt>
                <c:pt idx="180">
                  <c:v>262144</c:v>
                </c:pt>
                <c:pt idx="181">
                  <c:v>262144</c:v>
                </c:pt>
                <c:pt idx="182">
                  <c:v>262144</c:v>
                </c:pt>
                <c:pt idx="183">
                  <c:v>262144</c:v>
                </c:pt>
                <c:pt idx="184">
                  <c:v>262144</c:v>
                </c:pt>
                <c:pt idx="185">
                  <c:v>262144</c:v>
                </c:pt>
                <c:pt idx="186">
                  <c:v>262144</c:v>
                </c:pt>
                <c:pt idx="187">
                  <c:v>262144</c:v>
                </c:pt>
                <c:pt idx="188">
                  <c:v>262144</c:v>
                </c:pt>
                <c:pt idx="189">
                  <c:v>262144</c:v>
                </c:pt>
                <c:pt idx="190">
                  <c:v>262144</c:v>
                </c:pt>
                <c:pt idx="191">
                  <c:v>262144</c:v>
                </c:pt>
                <c:pt idx="192">
                  <c:v>262144</c:v>
                </c:pt>
                <c:pt idx="193">
                  <c:v>262144</c:v>
                </c:pt>
                <c:pt idx="194">
                  <c:v>262144</c:v>
                </c:pt>
                <c:pt idx="195">
                  <c:v>262144</c:v>
                </c:pt>
                <c:pt idx="196">
                  <c:v>262144</c:v>
                </c:pt>
                <c:pt idx="197">
                  <c:v>262144</c:v>
                </c:pt>
                <c:pt idx="198">
                  <c:v>262144</c:v>
                </c:pt>
                <c:pt idx="199">
                  <c:v>262144</c:v>
                </c:pt>
                <c:pt idx="200">
                  <c:v>262144</c:v>
                </c:pt>
                <c:pt idx="201">
                  <c:v>262144</c:v>
                </c:pt>
                <c:pt idx="202">
                  <c:v>262144</c:v>
                </c:pt>
                <c:pt idx="203">
                  <c:v>262144</c:v>
                </c:pt>
                <c:pt idx="204">
                  <c:v>262144</c:v>
                </c:pt>
                <c:pt idx="205">
                  <c:v>262144</c:v>
                </c:pt>
                <c:pt idx="206">
                  <c:v>262144</c:v>
                </c:pt>
                <c:pt idx="207">
                  <c:v>262144</c:v>
                </c:pt>
                <c:pt idx="208">
                  <c:v>262144</c:v>
                </c:pt>
                <c:pt idx="209">
                  <c:v>262144</c:v>
                </c:pt>
                <c:pt idx="210">
                  <c:v>262144</c:v>
                </c:pt>
                <c:pt idx="211">
                  <c:v>262144</c:v>
                </c:pt>
                <c:pt idx="212">
                  <c:v>262144</c:v>
                </c:pt>
                <c:pt idx="213">
                  <c:v>262144</c:v>
                </c:pt>
                <c:pt idx="214">
                  <c:v>262144</c:v>
                </c:pt>
                <c:pt idx="215">
                  <c:v>262144</c:v>
                </c:pt>
                <c:pt idx="216">
                  <c:v>262144</c:v>
                </c:pt>
                <c:pt idx="217">
                  <c:v>262144</c:v>
                </c:pt>
                <c:pt idx="218">
                  <c:v>262144</c:v>
                </c:pt>
                <c:pt idx="219">
                  <c:v>262144</c:v>
                </c:pt>
                <c:pt idx="220">
                  <c:v>262144</c:v>
                </c:pt>
                <c:pt idx="221">
                  <c:v>262144</c:v>
                </c:pt>
                <c:pt idx="222">
                  <c:v>262144</c:v>
                </c:pt>
                <c:pt idx="223">
                  <c:v>262144</c:v>
                </c:pt>
                <c:pt idx="224">
                  <c:v>262144</c:v>
                </c:pt>
                <c:pt idx="225">
                  <c:v>262144</c:v>
                </c:pt>
                <c:pt idx="226">
                  <c:v>262144</c:v>
                </c:pt>
                <c:pt idx="227">
                  <c:v>262144</c:v>
                </c:pt>
                <c:pt idx="228">
                  <c:v>262144</c:v>
                </c:pt>
                <c:pt idx="229">
                  <c:v>262144</c:v>
                </c:pt>
                <c:pt idx="230">
                  <c:v>262144</c:v>
                </c:pt>
                <c:pt idx="231">
                  <c:v>262144</c:v>
                </c:pt>
                <c:pt idx="232">
                  <c:v>262144</c:v>
                </c:pt>
                <c:pt idx="233">
                  <c:v>262144</c:v>
                </c:pt>
                <c:pt idx="234">
                  <c:v>262144</c:v>
                </c:pt>
                <c:pt idx="235">
                  <c:v>262144</c:v>
                </c:pt>
                <c:pt idx="236">
                  <c:v>262144</c:v>
                </c:pt>
                <c:pt idx="237">
                  <c:v>262144</c:v>
                </c:pt>
                <c:pt idx="238">
                  <c:v>262144</c:v>
                </c:pt>
                <c:pt idx="239">
                  <c:v>262144</c:v>
                </c:pt>
                <c:pt idx="240">
                  <c:v>262144</c:v>
                </c:pt>
                <c:pt idx="241">
                  <c:v>262144</c:v>
                </c:pt>
                <c:pt idx="242">
                  <c:v>262144</c:v>
                </c:pt>
                <c:pt idx="243">
                  <c:v>262144</c:v>
                </c:pt>
                <c:pt idx="244">
                  <c:v>262144</c:v>
                </c:pt>
                <c:pt idx="245">
                  <c:v>262144</c:v>
                </c:pt>
                <c:pt idx="246">
                  <c:v>262144</c:v>
                </c:pt>
                <c:pt idx="247">
                  <c:v>262144</c:v>
                </c:pt>
                <c:pt idx="248">
                  <c:v>262144</c:v>
                </c:pt>
                <c:pt idx="249">
                  <c:v>262144</c:v>
                </c:pt>
                <c:pt idx="250">
                  <c:v>262144</c:v>
                </c:pt>
                <c:pt idx="251">
                  <c:v>262144</c:v>
                </c:pt>
                <c:pt idx="252">
                  <c:v>262144</c:v>
                </c:pt>
                <c:pt idx="253">
                  <c:v>262144</c:v>
                </c:pt>
                <c:pt idx="254">
                  <c:v>262144</c:v>
                </c:pt>
                <c:pt idx="255">
                  <c:v>262144</c:v>
                </c:pt>
                <c:pt idx="256">
                  <c:v>262144</c:v>
                </c:pt>
                <c:pt idx="257">
                  <c:v>262144</c:v>
                </c:pt>
                <c:pt idx="258">
                  <c:v>262144</c:v>
                </c:pt>
                <c:pt idx="259">
                  <c:v>262144</c:v>
                </c:pt>
                <c:pt idx="260">
                  <c:v>262144</c:v>
                </c:pt>
                <c:pt idx="261">
                  <c:v>262144</c:v>
                </c:pt>
                <c:pt idx="262">
                  <c:v>262144</c:v>
                </c:pt>
                <c:pt idx="263">
                  <c:v>262144</c:v>
                </c:pt>
                <c:pt idx="264">
                  <c:v>262144</c:v>
                </c:pt>
                <c:pt idx="265">
                  <c:v>262144</c:v>
                </c:pt>
                <c:pt idx="266">
                  <c:v>262144</c:v>
                </c:pt>
                <c:pt idx="267">
                  <c:v>262144</c:v>
                </c:pt>
                <c:pt idx="268">
                  <c:v>262144</c:v>
                </c:pt>
                <c:pt idx="269">
                  <c:v>262144</c:v>
                </c:pt>
                <c:pt idx="270">
                  <c:v>262144</c:v>
                </c:pt>
                <c:pt idx="271">
                  <c:v>262144</c:v>
                </c:pt>
                <c:pt idx="272">
                  <c:v>262144</c:v>
                </c:pt>
                <c:pt idx="273">
                  <c:v>262144</c:v>
                </c:pt>
                <c:pt idx="274">
                  <c:v>262144</c:v>
                </c:pt>
                <c:pt idx="275">
                  <c:v>262144</c:v>
                </c:pt>
                <c:pt idx="276">
                  <c:v>262144</c:v>
                </c:pt>
                <c:pt idx="277">
                  <c:v>262144</c:v>
                </c:pt>
                <c:pt idx="278">
                  <c:v>262144</c:v>
                </c:pt>
                <c:pt idx="279">
                  <c:v>262144</c:v>
                </c:pt>
                <c:pt idx="280">
                  <c:v>262144</c:v>
                </c:pt>
                <c:pt idx="281">
                  <c:v>262144</c:v>
                </c:pt>
                <c:pt idx="282">
                  <c:v>262144</c:v>
                </c:pt>
                <c:pt idx="283">
                  <c:v>262144</c:v>
                </c:pt>
                <c:pt idx="284">
                  <c:v>262144</c:v>
                </c:pt>
                <c:pt idx="285">
                  <c:v>262144</c:v>
                </c:pt>
                <c:pt idx="286">
                  <c:v>262144</c:v>
                </c:pt>
                <c:pt idx="287">
                  <c:v>262144</c:v>
                </c:pt>
                <c:pt idx="288">
                  <c:v>262144</c:v>
                </c:pt>
                <c:pt idx="289">
                  <c:v>262144</c:v>
                </c:pt>
                <c:pt idx="290">
                  <c:v>262144</c:v>
                </c:pt>
                <c:pt idx="291">
                  <c:v>262144</c:v>
                </c:pt>
                <c:pt idx="292">
                  <c:v>262144</c:v>
                </c:pt>
                <c:pt idx="293">
                  <c:v>262144</c:v>
                </c:pt>
                <c:pt idx="294">
                  <c:v>262144</c:v>
                </c:pt>
                <c:pt idx="295">
                  <c:v>262144</c:v>
                </c:pt>
                <c:pt idx="296">
                  <c:v>262144</c:v>
                </c:pt>
                <c:pt idx="297">
                  <c:v>262144</c:v>
                </c:pt>
                <c:pt idx="298">
                  <c:v>262144</c:v>
                </c:pt>
                <c:pt idx="299">
                  <c:v>262144</c:v>
                </c:pt>
                <c:pt idx="300">
                  <c:v>262144</c:v>
                </c:pt>
                <c:pt idx="301">
                  <c:v>262144</c:v>
                </c:pt>
                <c:pt idx="302">
                  <c:v>262144</c:v>
                </c:pt>
                <c:pt idx="303">
                  <c:v>262144</c:v>
                </c:pt>
                <c:pt idx="304">
                  <c:v>262144</c:v>
                </c:pt>
                <c:pt idx="305">
                  <c:v>262144</c:v>
                </c:pt>
                <c:pt idx="306">
                  <c:v>262144</c:v>
                </c:pt>
                <c:pt idx="307">
                  <c:v>262144</c:v>
                </c:pt>
                <c:pt idx="308">
                  <c:v>262144</c:v>
                </c:pt>
                <c:pt idx="309">
                  <c:v>262144</c:v>
                </c:pt>
                <c:pt idx="310">
                  <c:v>262144</c:v>
                </c:pt>
                <c:pt idx="311">
                  <c:v>262144</c:v>
                </c:pt>
                <c:pt idx="312">
                  <c:v>262144</c:v>
                </c:pt>
                <c:pt idx="313">
                  <c:v>262144</c:v>
                </c:pt>
                <c:pt idx="314">
                  <c:v>262144</c:v>
                </c:pt>
                <c:pt idx="315">
                  <c:v>262144</c:v>
                </c:pt>
                <c:pt idx="316">
                  <c:v>262144</c:v>
                </c:pt>
                <c:pt idx="317">
                  <c:v>262144</c:v>
                </c:pt>
                <c:pt idx="318">
                  <c:v>262144</c:v>
                </c:pt>
                <c:pt idx="319">
                  <c:v>262144</c:v>
                </c:pt>
                <c:pt idx="320">
                  <c:v>262144</c:v>
                </c:pt>
                <c:pt idx="321">
                  <c:v>262144</c:v>
                </c:pt>
                <c:pt idx="322">
                  <c:v>262144</c:v>
                </c:pt>
                <c:pt idx="323">
                  <c:v>262144</c:v>
                </c:pt>
                <c:pt idx="324">
                  <c:v>262144</c:v>
                </c:pt>
                <c:pt idx="325">
                  <c:v>262144</c:v>
                </c:pt>
                <c:pt idx="326">
                  <c:v>262144</c:v>
                </c:pt>
                <c:pt idx="327">
                  <c:v>262144</c:v>
                </c:pt>
                <c:pt idx="328">
                  <c:v>262144</c:v>
                </c:pt>
                <c:pt idx="329">
                  <c:v>262144</c:v>
                </c:pt>
                <c:pt idx="330">
                  <c:v>262144</c:v>
                </c:pt>
                <c:pt idx="331">
                  <c:v>262144</c:v>
                </c:pt>
                <c:pt idx="332">
                  <c:v>262144</c:v>
                </c:pt>
                <c:pt idx="333">
                  <c:v>262144</c:v>
                </c:pt>
                <c:pt idx="334">
                  <c:v>262144</c:v>
                </c:pt>
                <c:pt idx="335">
                  <c:v>262144</c:v>
                </c:pt>
                <c:pt idx="336">
                  <c:v>262144</c:v>
                </c:pt>
                <c:pt idx="337">
                  <c:v>262144</c:v>
                </c:pt>
                <c:pt idx="338">
                  <c:v>262144</c:v>
                </c:pt>
                <c:pt idx="339">
                  <c:v>262144</c:v>
                </c:pt>
                <c:pt idx="340">
                  <c:v>262144</c:v>
                </c:pt>
                <c:pt idx="341">
                  <c:v>262144</c:v>
                </c:pt>
                <c:pt idx="342">
                  <c:v>262144</c:v>
                </c:pt>
                <c:pt idx="343">
                  <c:v>262144</c:v>
                </c:pt>
                <c:pt idx="344">
                  <c:v>262144</c:v>
                </c:pt>
                <c:pt idx="345">
                  <c:v>262144</c:v>
                </c:pt>
                <c:pt idx="346">
                  <c:v>262144</c:v>
                </c:pt>
                <c:pt idx="347">
                  <c:v>262144</c:v>
                </c:pt>
                <c:pt idx="348">
                  <c:v>262144</c:v>
                </c:pt>
                <c:pt idx="349">
                  <c:v>262144</c:v>
                </c:pt>
                <c:pt idx="350">
                  <c:v>262144</c:v>
                </c:pt>
                <c:pt idx="351">
                  <c:v>262144</c:v>
                </c:pt>
                <c:pt idx="352">
                  <c:v>262144</c:v>
                </c:pt>
                <c:pt idx="353">
                  <c:v>262144</c:v>
                </c:pt>
                <c:pt idx="354">
                  <c:v>262144</c:v>
                </c:pt>
                <c:pt idx="355">
                  <c:v>262144</c:v>
                </c:pt>
                <c:pt idx="356">
                  <c:v>262144</c:v>
                </c:pt>
                <c:pt idx="357">
                  <c:v>262144</c:v>
                </c:pt>
                <c:pt idx="358">
                  <c:v>262144</c:v>
                </c:pt>
                <c:pt idx="359">
                  <c:v>262144</c:v>
                </c:pt>
                <c:pt idx="360">
                  <c:v>262144</c:v>
                </c:pt>
                <c:pt idx="361">
                  <c:v>262144</c:v>
                </c:pt>
                <c:pt idx="362">
                  <c:v>262144</c:v>
                </c:pt>
                <c:pt idx="363">
                  <c:v>262144</c:v>
                </c:pt>
                <c:pt idx="364">
                  <c:v>262144</c:v>
                </c:pt>
                <c:pt idx="365">
                  <c:v>262144</c:v>
                </c:pt>
                <c:pt idx="366">
                  <c:v>262144</c:v>
                </c:pt>
                <c:pt idx="367">
                  <c:v>262144</c:v>
                </c:pt>
                <c:pt idx="368">
                  <c:v>262144</c:v>
                </c:pt>
                <c:pt idx="369">
                  <c:v>262144</c:v>
                </c:pt>
                <c:pt idx="370">
                  <c:v>262144</c:v>
                </c:pt>
                <c:pt idx="371">
                  <c:v>262144</c:v>
                </c:pt>
                <c:pt idx="372">
                  <c:v>262144</c:v>
                </c:pt>
                <c:pt idx="373">
                  <c:v>262144</c:v>
                </c:pt>
                <c:pt idx="374">
                  <c:v>262144</c:v>
                </c:pt>
                <c:pt idx="375">
                  <c:v>262144</c:v>
                </c:pt>
                <c:pt idx="376">
                  <c:v>262144</c:v>
                </c:pt>
                <c:pt idx="377">
                  <c:v>262144</c:v>
                </c:pt>
                <c:pt idx="378">
                  <c:v>262144</c:v>
                </c:pt>
                <c:pt idx="379">
                  <c:v>262144</c:v>
                </c:pt>
                <c:pt idx="380">
                  <c:v>262144</c:v>
                </c:pt>
                <c:pt idx="381">
                  <c:v>262144</c:v>
                </c:pt>
                <c:pt idx="382">
                  <c:v>262144</c:v>
                </c:pt>
                <c:pt idx="383">
                  <c:v>262144</c:v>
                </c:pt>
                <c:pt idx="384">
                  <c:v>262144</c:v>
                </c:pt>
                <c:pt idx="385">
                  <c:v>262144</c:v>
                </c:pt>
                <c:pt idx="386">
                  <c:v>262144</c:v>
                </c:pt>
                <c:pt idx="387">
                  <c:v>262144</c:v>
                </c:pt>
                <c:pt idx="388">
                  <c:v>262144</c:v>
                </c:pt>
                <c:pt idx="389">
                  <c:v>262144</c:v>
                </c:pt>
                <c:pt idx="390">
                  <c:v>262144</c:v>
                </c:pt>
                <c:pt idx="391">
                  <c:v>262144</c:v>
                </c:pt>
                <c:pt idx="392">
                  <c:v>262144</c:v>
                </c:pt>
                <c:pt idx="393">
                  <c:v>262144</c:v>
                </c:pt>
                <c:pt idx="394">
                  <c:v>262144</c:v>
                </c:pt>
                <c:pt idx="395">
                  <c:v>262144</c:v>
                </c:pt>
                <c:pt idx="396">
                  <c:v>262144</c:v>
                </c:pt>
                <c:pt idx="397">
                  <c:v>262144</c:v>
                </c:pt>
                <c:pt idx="398">
                  <c:v>262144</c:v>
                </c:pt>
                <c:pt idx="399">
                  <c:v>262144</c:v>
                </c:pt>
                <c:pt idx="400">
                  <c:v>262144</c:v>
                </c:pt>
                <c:pt idx="401">
                  <c:v>262144</c:v>
                </c:pt>
                <c:pt idx="402">
                  <c:v>262144</c:v>
                </c:pt>
                <c:pt idx="403">
                  <c:v>262144</c:v>
                </c:pt>
                <c:pt idx="404">
                  <c:v>262144</c:v>
                </c:pt>
                <c:pt idx="405">
                  <c:v>262144</c:v>
                </c:pt>
                <c:pt idx="406">
                  <c:v>262144</c:v>
                </c:pt>
                <c:pt idx="407">
                  <c:v>262144</c:v>
                </c:pt>
                <c:pt idx="408">
                  <c:v>262144</c:v>
                </c:pt>
                <c:pt idx="409">
                  <c:v>262144</c:v>
                </c:pt>
                <c:pt idx="410">
                  <c:v>262144</c:v>
                </c:pt>
                <c:pt idx="411">
                  <c:v>262144</c:v>
                </c:pt>
                <c:pt idx="412">
                  <c:v>262144</c:v>
                </c:pt>
                <c:pt idx="413">
                  <c:v>262144</c:v>
                </c:pt>
                <c:pt idx="414">
                  <c:v>262144</c:v>
                </c:pt>
                <c:pt idx="415">
                  <c:v>262144</c:v>
                </c:pt>
                <c:pt idx="416">
                  <c:v>262144</c:v>
                </c:pt>
                <c:pt idx="417">
                  <c:v>262144</c:v>
                </c:pt>
                <c:pt idx="418">
                  <c:v>262144</c:v>
                </c:pt>
                <c:pt idx="419">
                  <c:v>262144</c:v>
                </c:pt>
                <c:pt idx="420">
                  <c:v>262144</c:v>
                </c:pt>
                <c:pt idx="421">
                  <c:v>262144</c:v>
                </c:pt>
                <c:pt idx="422">
                  <c:v>262144</c:v>
                </c:pt>
                <c:pt idx="423">
                  <c:v>262144</c:v>
                </c:pt>
                <c:pt idx="424">
                  <c:v>262144</c:v>
                </c:pt>
                <c:pt idx="425">
                  <c:v>262144</c:v>
                </c:pt>
                <c:pt idx="426">
                  <c:v>262144</c:v>
                </c:pt>
                <c:pt idx="427">
                  <c:v>262144</c:v>
                </c:pt>
                <c:pt idx="428">
                  <c:v>262144</c:v>
                </c:pt>
                <c:pt idx="429">
                  <c:v>262144</c:v>
                </c:pt>
                <c:pt idx="430">
                  <c:v>262144</c:v>
                </c:pt>
                <c:pt idx="431">
                  <c:v>262144</c:v>
                </c:pt>
                <c:pt idx="432">
                  <c:v>262144</c:v>
                </c:pt>
                <c:pt idx="433">
                  <c:v>262144</c:v>
                </c:pt>
                <c:pt idx="434">
                  <c:v>262144</c:v>
                </c:pt>
                <c:pt idx="435">
                  <c:v>262144</c:v>
                </c:pt>
                <c:pt idx="436">
                  <c:v>262144</c:v>
                </c:pt>
                <c:pt idx="437">
                  <c:v>262144</c:v>
                </c:pt>
                <c:pt idx="438">
                  <c:v>262144</c:v>
                </c:pt>
                <c:pt idx="439">
                  <c:v>262144</c:v>
                </c:pt>
                <c:pt idx="440">
                  <c:v>262144</c:v>
                </c:pt>
                <c:pt idx="441">
                  <c:v>262144</c:v>
                </c:pt>
                <c:pt idx="442">
                  <c:v>262144</c:v>
                </c:pt>
                <c:pt idx="443">
                  <c:v>262144</c:v>
                </c:pt>
                <c:pt idx="444">
                  <c:v>262144</c:v>
                </c:pt>
                <c:pt idx="445">
                  <c:v>262144</c:v>
                </c:pt>
                <c:pt idx="446">
                  <c:v>262144</c:v>
                </c:pt>
                <c:pt idx="447">
                  <c:v>262144</c:v>
                </c:pt>
                <c:pt idx="448">
                  <c:v>262144</c:v>
                </c:pt>
                <c:pt idx="449">
                  <c:v>262144</c:v>
                </c:pt>
                <c:pt idx="450">
                  <c:v>262144</c:v>
                </c:pt>
                <c:pt idx="451">
                  <c:v>262144</c:v>
                </c:pt>
                <c:pt idx="452">
                  <c:v>262144</c:v>
                </c:pt>
                <c:pt idx="453">
                  <c:v>262144</c:v>
                </c:pt>
                <c:pt idx="454">
                  <c:v>262144</c:v>
                </c:pt>
                <c:pt idx="455">
                  <c:v>262144</c:v>
                </c:pt>
                <c:pt idx="456">
                  <c:v>262144</c:v>
                </c:pt>
                <c:pt idx="457">
                  <c:v>262144</c:v>
                </c:pt>
                <c:pt idx="458">
                  <c:v>262144</c:v>
                </c:pt>
                <c:pt idx="459">
                  <c:v>262144</c:v>
                </c:pt>
                <c:pt idx="460">
                  <c:v>262144</c:v>
                </c:pt>
                <c:pt idx="461">
                  <c:v>262144</c:v>
                </c:pt>
                <c:pt idx="462">
                  <c:v>262144</c:v>
                </c:pt>
                <c:pt idx="463">
                  <c:v>262144</c:v>
                </c:pt>
                <c:pt idx="464">
                  <c:v>262144</c:v>
                </c:pt>
                <c:pt idx="465">
                  <c:v>262144</c:v>
                </c:pt>
                <c:pt idx="466">
                  <c:v>262144</c:v>
                </c:pt>
                <c:pt idx="467">
                  <c:v>262144</c:v>
                </c:pt>
                <c:pt idx="468">
                  <c:v>262144</c:v>
                </c:pt>
                <c:pt idx="469">
                  <c:v>262144</c:v>
                </c:pt>
                <c:pt idx="470">
                  <c:v>262144</c:v>
                </c:pt>
                <c:pt idx="471">
                  <c:v>262144</c:v>
                </c:pt>
                <c:pt idx="472">
                  <c:v>262144</c:v>
                </c:pt>
                <c:pt idx="473">
                  <c:v>262144</c:v>
                </c:pt>
                <c:pt idx="474">
                  <c:v>262144</c:v>
                </c:pt>
                <c:pt idx="475">
                  <c:v>262144</c:v>
                </c:pt>
                <c:pt idx="476">
                  <c:v>262144</c:v>
                </c:pt>
                <c:pt idx="477">
                  <c:v>262144</c:v>
                </c:pt>
                <c:pt idx="478">
                  <c:v>262144</c:v>
                </c:pt>
                <c:pt idx="479">
                  <c:v>262144</c:v>
                </c:pt>
                <c:pt idx="480">
                  <c:v>262144</c:v>
                </c:pt>
                <c:pt idx="481">
                  <c:v>262144</c:v>
                </c:pt>
                <c:pt idx="482">
                  <c:v>262144</c:v>
                </c:pt>
                <c:pt idx="483">
                  <c:v>262144</c:v>
                </c:pt>
                <c:pt idx="484">
                  <c:v>262144</c:v>
                </c:pt>
                <c:pt idx="485">
                  <c:v>262144</c:v>
                </c:pt>
                <c:pt idx="486">
                  <c:v>262144</c:v>
                </c:pt>
                <c:pt idx="487">
                  <c:v>262144</c:v>
                </c:pt>
                <c:pt idx="488">
                  <c:v>262144</c:v>
                </c:pt>
                <c:pt idx="489">
                  <c:v>262144</c:v>
                </c:pt>
                <c:pt idx="490">
                  <c:v>262144</c:v>
                </c:pt>
                <c:pt idx="491">
                  <c:v>262144</c:v>
                </c:pt>
                <c:pt idx="492">
                  <c:v>262144</c:v>
                </c:pt>
                <c:pt idx="493">
                  <c:v>262144</c:v>
                </c:pt>
                <c:pt idx="494">
                  <c:v>262144</c:v>
                </c:pt>
                <c:pt idx="495">
                  <c:v>262144</c:v>
                </c:pt>
                <c:pt idx="496">
                  <c:v>262144</c:v>
                </c:pt>
                <c:pt idx="497">
                  <c:v>262144</c:v>
                </c:pt>
                <c:pt idx="498">
                  <c:v>262144</c:v>
                </c:pt>
                <c:pt idx="499">
                  <c:v>262144</c:v>
                </c:pt>
                <c:pt idx="500">
                  <c:v>262144</c:v>
                </c:pt>
                <c:pt idx="501">
                  <c:v>262144</c:v>
                </c:pt>
                <c:pt idx="502">
                  <c:v>262144</c:v>
                </c:pt>
                <c:pt idx="503">
                  <c:v>262144</c:v>
                </c:pt>
                <c:pt idx="504">
                  <c:v>262144</c:v>
                </c:pt>
                <c:pt idx="505">
                  <c:v>262144</c:v>
                </c:pt>
                <c:pt idx="506">
                  <c:v>262144</c:v>
                </c:pt>
                <c:pt idx="507">
                  <c:v>262144</c:v>
                </c:pt>
                <c:pt idx="508">
                  <c:v>262144</c:v>
                </c:pt>
                <c:pt idx="509">
                  <c:v>262144</c:v>
                </c:pt>
                <c:pt idx="510">
                  <c:v>262144</c:v>
                </c:pt>
                <c:pt idx="511">
                  <c:v>262144</c:v>
                </c:pt>
                <c:pt idx="512">
                  <c:v>262144</c:v>
                </c:pt>
                <c:pt idx="513">
                  <c:v>262144</c:v>
                </c:pt>
                <c:pt idx="514">
                  <c:v>262144</c:v>
                </c:pt>
                <c:pt idx="515">
                  <c:v>262144</c:v>
                </c:pt>
                <c:pt idx="516">
                  <c:v>262144</c:v>
                </c:pt>
                <c:pt idx="517">
                  <c:v>262144</c:v>
                </c:pt>
                <c:pt idx="518">
                  <c:v>262144</c:v>
                </c:pt>
                <c:pt idx="519">
                  <c:v>262144</c:v>
                </c:pt>
                <c:pt idx="520">
                  <c:v>262144</c:v>
                </c:pt>
                <c:pt idx="521">
                  <c:v>262144</c:v>
                </c:pt>
                <c:pt idx="522">
                  <c:v>262144</c:v>
                </c:pt>
                <c:pt idx="523">
                  <c:v>262144</c:v>
                </c:pt>
                <c:pt idx="524">
                  <c:v>262144</c:v>
                </c:pt>
                <c:pt idx="525">
                  <c:v>262144</c:v>
                </c:pt>
                <c:pt idx="526">
                  <c:v>262144</c:v>
                </c:pt>
                <c:pt idx="527">
                  <c:v>262144</c:v>
                </c:pt>
                <c:pt idx="528">
                  <c:v>262144</c:v>
                </c:pt>
                <c:pt idx="529">
                  <c:v>262144</c:v>
                </c:pt>
                <c:pt idx="530">
                  <c:v>262144</c:v>
                </c:pt>
                <c:pt idx="531">
                  <c:v>262144</c:v>
                </c:pt>
                <c:pt idx="532">
                  <c:v>262144</c:v>
                </c:pt>
                <c:pt idx="533">
                  <c:v>262144</c:v>
                </c:pt>
                <c:pt idx="534">
                  <c:v>262144</c:v>
                </c:pt>
                <c:pt idx="535">
                  <c:v>262144</c:v>
                </c:pt>
                <c:pt idx="536">
                  <c:v>262144</c:v>
                </c:pt>
                <c:pt idx="537">
                  <c:v>262144</c:v>
                </c:pt>
                <c:pt idx="538">
                  <c:v>262144</c:v>
                </c:pt>
                <c:pt idx="539">
                  <c:v>262144</c:v>
                </c:pt>
                <c:pt idx="540">
                  <c:v>262144</c:v>
                </c:pt>
                <c:pt idx="541">
                  <c:v>262144</c:v>
                </c:pt>
                <c:pt idx="542">
                  <c:v>262144</c:v>
                </c:pt>
                <c:pt idx="543">
                  <c:v>262144</c:v>
                </c:pt>
                <c:pt idx="544">
                  <c:v>262144</c:v>
                </c:pt>
                <c:pt idx="545">
                  <c:v>262144</c:v>
                </c:pt>
                <c:pt idx="546">
                  <c:v>262144</c:v>
                </c:pt>
                <c:pt idx="547">
                  <c:v>262144</c:v>
                </c:pt>
                <c:pt idx="548">
                  <c:v>262144</c:v>
                </c:pt>
                <c:pt idx="549">
                  <c:v>262144</c:v>
                </c:pt>
                <c:pt idx="550">
                  <c:v>262144</c:v>
                </c:pt>
                <c:pt idx="551">
                  <c:v>262144</c:v>
                </c:pt>
                <c:pt idx="552">
                  <c:v>262144</c:v>
                </c:pt>
                <c:pt idx="553">
                  <c:v>262144</c:v>
                </c:pt>
                <c:pt idx="554">
                  <c:v>262144</c:v>
                </c:pt>
                <c:pt idx="555">
                  <c:v>262144</c:v>
                </c:pt>
                <c:pt idx="556">
                  <c:v>262144</c:v>
                </c:pt>
                <c:pt idx="557">
                  <c:v>262144</c:v>
                </c:pt>
                <c:pt idx="558">
                  <c:v>262144</c:v>
                </c:pt>
                <c:pt idx="559">
                  <c:v>262144</c:v>
                </c:pt>
                <c:pt idx="560">
                  <c:v>262144</c:v>
                </c:pt>
                <c:pt idx="561">
                  <c:v>262144</c:v>
                </c:pt>
                <c:pt idx="562">
                  <c:v>262144</c:v>
                </c:pt>
                <c:pt idx="563">
                  <c:v>262144</c:v>
                </c:pt>
                <c:pt idx="564">
                  <c:v>262144</c:v>
                </c:pt>
                <c:pt idx="565">
                  <c:v>262144</c:v>
                </c:pt>
                <c:pt idx="566">
                  <c:v>262144</c:v>
                </c:pt>
                <c:pt idx="567">
                  <c:v>262144</c:v>
                </c:pt>
                <c:pt idx="568">
                  <c:v>262144</c:v>
                </c:pt>
                <c:pt idx="569">
                  <c:v>262144</c:v>
                </c:pt>
                <c:pt idx="570">
                  <c:v>262144</c:v>
                </c:pt>
                <c:pt idx="571">
                  <c:v>262144</c:v>
                </c:pt>
                <c:pt idx="572">
                  <c:v>262144</c:v>
                </c:pt>
                <c:pt idx="573">
                  <c:v>262144</c:v>
                </c:pt>
                <c:pt idx="574">
                  <c:v>262144</c:v>
                </c:pt>
                <c:pt idx="575">
                  <c:v>262144</c:v>
                </c:pt>
                <c:pt idx="576">
                  <c:v>262144</c:v>
                </c:pt>
                <c:pt idx="577">
                  <c:v>262144</c:v>
                </c:pt>
                <c:pt idx="578">
                  <c:v>262144</c:v>
                </c:pt>
                <c:pt idx="579">
                  <c:v>262144</c:v>
                </c:pt>
                <c:pt idx="580">
                  <c:v>262144</c:v>
                </c:pt>
                <c:pt idx="581">
                  <c:v>262144</c:v>
                </c:pt>
                <c:pt idx="582">
                  <c:v>262144</c:v>
                </c:pt>
                <c:pt idx="583">
                  <c:v>262144</c:v>
                </c:pt>
                <c:pt idx="584">
                  <c:v>262144</c:v>
                </c:pt>
                <c:pt idx="585">
                  <c:v>262144</c:v>
                </c:pt>
                <c:pt idx="586">
                  <c:v>262144</c:v>
                </c:pt>
                <c:pt idx="587">
                  <c:v>262144</c:v>
                </c:pt>
                <c:pt idx="588">
                  <c:v>262144</c:v>
                </c:pt>
                <c:pt idx="589">
                  <c:v>262144</c:v>
                </c:pt>
                <c:pt idx="590">
                  <c:v>262144</c:v>
                </c:pt>
                <c:pt idx="591">
                  <c:v>262144</c:v>
                </c:pt>
                <c:pt idx="592">
                  <c:v>262144</c:v>
                </c:pt>
                <c:pt idx="593">
                  <c:v>262144</c:v>
                </c:pt>
                <c:pt idx="594">
                  <c:v>262144</c:v>
                </c:pt>
                <c:pt idx="595">
                  <c:v>262144</c:v>
                </c:pt>
                <c:pt idx="596">
                  <c:v>262144</c:v>
                </c:pt>
                <c:pt idx="597">
                  <c:v>262144</c:v>
                </c:pt>
                <c:pt idx="598">
                  <c:v>262144</c:v>
                </c:pt>
                <c:pt idx="599">
                  <c:v>262144</c:v>
                </c:pt>
                <c:pt idx="600">
                  <c:v>262144</c:v>
                </c:pt>
                <c:pt idx="601">
                  <c:v>262144</c:v>
                </c:pt>
                <c:pt idx="602">
                  <c:v>262144</c:v>
                </c:pt>
                <c:pt idx="603">
                  <c:v>262144</c:v>
                </c:pt>
                <c:pt idx="604">
                  <c:v>262144</c:v>
                </c:pt>
                <c:pt idx="605">
                  <c:v>262144</c:v>
                </c:pt>
                <c:pt idx="606">
                  <c:v>262144</c:v>
                </c:pt>
                <c:pt idx="607">
                  <c:v>262144</c:v>
                </c:pt>
                <c:pt idx="608">
                  <c:v>262144</c:v>
                </c:pt>
                <c:pt idx="609">
                  <c:v>262144</c:v>
                </c:pt>
                <c:pt idx="610">
                  <c:v>262144</c:v>
                </c:pt>
                <c:pt idx="611">
                  <c:v>262144</c:v>
                </c:pt>
                <c:pt idx="612">
                  <c:v>262144</c:v>
                </c:pt>
                <c:pt idx="613">
                  <c:v>262144</c:v>
                </c:pt>
                <c:pt idx="614">
                  <c:v>262144</c:v>
                </c:pt>
                <c:pt idx="615">
                  <c:v>262144</c:v>
                </c:pt>
                <c:pt idx="616">
                  <c:v>262144</c:v>
                </c:pt>
                <c:pt idx="617">
                  <c:v>262144</c:v>
                </c:pt>
                <c:pt idx="618">
                  <c:v>262144</c:v>
                </c:pt>
                <c:pt idx="619">
                  <c:v>262144</c:v>
                </c:pt>
                <c:pt idx="620">
                  <c:v>262144</c:v>
                </c:pt>
                <c:pt idx="621">
                  <c:v>262144</c:v>
                </c:pt>
                <c:pt idx="622">
                  <c:v>262144</c:v>
                </c:pt>
                <c:pt idx="623">
                  <c:v>262144</c:v>
                </c:pt>
                <c:pt idx="624">
                  <c:v>262144</c:v>
                </c:pt>
                <c:pt idx="625">
                  <c:v>262144</c:v>
                </c:pt>
                <c:pt idx="626">
                  <c:v>262144</c:v>
                </c:pt>
                <c:pt idx="627">
                  <c:v>262144</c:v>
                </c:pt>
                <c:pt idx="628">
                  <c:v>262144</c:v>
                </c:pt>
                <c:pt idx="629">
                  <c:v>262144</c:v>
                </c:pt>
                <c:pt idx="630">
                  <c:v>262144</c:v>
                </c:pt>
                <c:pt idx="631">
                  <c:v>262144</c:v>
                </c:pt>
                <c:pt idx="632">
                  <c:v>262144</c:v>
                </c:pt>
                <c:pt idx="633">
                  <c:v>262144</c:v>
                </c:pt>
                <c:pt idx="634">
                  <c:v>262144</c:v>
                </c:pt>
                <c:pt idx="635">
                  <c:v>262144</c:v>
                </c:pt>
                <c:pt idx="636">
                  <c:v>262144</c:v>
                </c:pt>
                <c:pt idx="637">
                  <c:v>262144</c:v>
                </c:pt>
                <c:pt idx="638">
                  <c:v>262144</c:v>
                </c:pt>
                <c:pt idx="639">
                  <c:v>262144</c:v>
                </c:pt>
                <c:pt idx="640">
                  <c:v>262144</c:v>
                </c:pt>
                <c:pt idx="641">
                  <c:v>262144</c:v>
                </c:pt>
                <c:pt idx="642">
                  <c:v>262144</c:v>
                </c:pt>
                <c:pt idx="643">
                  <c:v>262144</c:v>
                </c:pt>
                <c:pt idx="644">
                  <c:v>262144</c:v>
                </c:pt>
                <c:pt idx="645">
                  <c:v>262144</c:v>
                </c:pt>
                <c:pt idx="646">
                  <c:v>262144</c:v>
                </c:pt>
                <c:pt idx="647">
                  <c:v>262144</c:v>
                </c:pt>
                <c:pt idx="648">
                  <c:v>262144</c:v>
                </c:pt>
                <c:pt idx="649">
                  <c:v>262144</c:v>
                </c:pt>
                <c:pt idx="650">
                  <c:v>262144</c:v>
                </c:pt>
                <c:pt idx="651">
                  <c:v>262144</c:v>
                </c:pt>
                <c:pt idx="652">
                  <c:v>262144</c:v>
                </c:pt>
                <c:pt idx="653">
                  <c:v>262144</c:v>
                </c:pt>
                <c:pt idx="654">
                  <c:v>262144</c:v>
                </c:pt>
                <c:pt idx="655">
                  <c:v>262144</c:v>
                </c:pt>
                <c:pt idx="656">
                  <c:v>262144</c:v>
                </c:pt>
                <c:pt idx="657">
                  <c:v>262144</c:v>
                </c:pt>
                <c:pt idx="658">
                  <c:v>262144</c:v>
                </c:pt>
                <c:pt idx="659">
                  <c:v>262144</c:v>
                </c:pt>
                <c:pt idx="660">
                  <c:v>262144</c:v>
                </c:pt>
                <c:pt idx="661">
                  <c:v>262144</c:v>
                </c:pt>
                <c:pt idx="662">
                  <c:v>262144</c:v>
                </c:pt>
                <c:pt idx="663">
                  <c:v>262144</c:v>
                </c:pt>
                <c:pt idx="664">
                  <c:v>262144</c:v>
                </c:pt>
                <c:pt idx="665">
                  <c:v>262144</c:v>
                </c:pt>
                <c:pt idx="666">
                  <c:v>262144</c:v>
                </c:pt>
                <c:pt idx="667">
                  <c:v>262144</c:v>
                </c:pt>
                <c:pt idx="668">
                  <c:v>262144</c:v>
                </c:pt>
                <c:pt idx="669">
                  <c:v>262144</c:v>
                </c:pt>
                <c:pt idx="670">
                  <c:v>262144</c:v>
                </c:pt>
                <c:pt idx="671">
                  <c:v>262144</c:v>
                </c:pt>
                <c:pt idx="672">
                  <c:v>262144</c:v>
                </c:pt>
                <c:pt idx="673">
                  <c:v>262144</c:v>
                </c:pt>
                <c:pt idx="674">
                  <c:v>262144</c:v>
                </c:pt>
                <c:pt idx="675">
                  <c:v>262144</c:v>
                </c:pt>
                <c:pt idx="676">
                  <c:v>262144</c:v>
                </c:pt>
                <c:pt idx="677">
                  <c:v>262144</c:v>
                </c:pt>
                <c:pt idx="678">
                  <c:v>262144</c:v>
                </c:pt>
                <c:pt idx="679">
                  <c:v>262144</c:v>
                </c:pt>
                <c:pt idx="680">
                  <c:v>262144</c:v>
                </c:pt>
                <c:pt idx="681">
                  <c:v>262144</c:v>
                </c:pt>
                <c:pt idx="682">
                  <c:v>262144</c:v>
                </c:pt>
                <c:pt idx="683">
                  <c:v>262144</c:v>
                </c:pt>
                <c:pt idx="684">
                  <c:v>262144</c:v>
                </c:pt>
                <c:pt idx="685">
                  <c:v>262144</c:v>
                </c:pt>
                <c:pt idx="686">
                  <c:v>262144</c:v>
                </c:pt>
                <c:pt idx="687">
                  <c:v>262144</c:v>
                </c:pt>
                <c:pt idx="688">
                  <c:v>262144</c:v>
                </c:pt>
                <c:pt idx="689">
                  <c:v>262144</c:v>
                </c:pt>
                <c:pt idx="690">
                  <c:v>262144</c:v>
                </c:pt>
                <c:pt idx="691">
                  <c:v>262144</c:v>
                </c:pt>
                <c:pt idx="692">
                  <c:v>262144</c:v>
                </c:pt>
                <c:pt idx="693">
                  <c:v>262144</c:v>
                </c:pt>
                <c:pt idx="694">
                  <c:v>262144</c:v>
                </c:pt>
                <c:pt idx="695">
                  <c:v>262144</c:v>
                </c:pt>
                <c:pt idx="696">
                  <c:v>262144</c:v>
                </c:pt>
                <c:pt idx="697">
                  <c:v>262144</c:v>
                </c:pt>
                <c:pt idx="698">
                  <c:v>262144</c:v>
                </c:pt>
                <c:pt idx="699">
                  <c:v>262144</c:v>
                </c:pt>
                <c:pt idx="700">
                  <c:v>262144</c:v>
                </c:pt>
                <c:pt idx="701">
                  <c:v>262144</c:v>
                </c:pt>
                <c:pt idx="702">
                  <c:v>262144</c:v>
                </c:pt>
                <c:pt idx="703">
                  <c:v>262144</c:v>
                </c:pt>
                <c:pt idx="704">
                  <c:v>262144</c:v>
                </c:pt>
                <c:pt idx="705">
                  <c:v>262144</c:v>
                </c:pt>
                <c:pt idx="706">
                  <c:v>262144</c:v>
                </c:pt>
                <c:pt idx="707">
                  <c:v>262144</c:v>
                </c:pt>
                <c:pt idx="708">
                  <c:v>262144</c:v>
                </c:pt>
                <c:pt idx="709">
                  <c:v>262144</c:v>
                </c:pt>
                <c:pt idx="710">
                  <c:v>262144</c:v>
                </c:pt>
                <c:pt idx="711">
                  <c:v>262144</c:v>
                </c:pt>
                <c:pt idx="712">
                  <c:v>262144</c:v>
                </c:pt>
                <c:pt idx="713">
                  <c:v>262144</c:v>
                </c:pt>
                <c:pt idx="714">
                  <c:v>262144</c:v>
                </c:pt>
                <c:pt idx="715">
                  <c:v>262144</c:v>
                </c:pt>
                <c:pt idx="716">
                  <c:v>262144</c:v>
                </c:pt>
                <c:pt idx="717">
                  <c:v>262144</c:v>
                </c:pt>
                <c:pt idx="718">
                  <c:v>262144</c:v>
                </c:pt>
                <c:pt idx="719">
                  <c:v>262144</c:v>
                </c:pt>
                <c:pt idx="720">
                  <c:v>262144</c:v>
                </c:pt>
                <c:pt idx="721">
                  <c:v>262144</c:v>
                </c:pt>
                <c:pt idx="722">
                  <c:v>262144</c:v>
                </c:pt>
                <c:pt idx="723">
                  <c:v>262144</c:v>
                </c:pt>
                <c:pt idx="724">
                  <c:v>262144</c:v>
                </c:pt>
                <c:pt idx="725">
                  <c:v>262144</c:v>
                </c:pt>
                <c:pt idx="726">
                  <c:v>262144</c:v>
                </c:pt>
                <c:pt idx="727">
                  <c:v>262144</c:v>
                </c:pt>
                <c:pt idx="728">
                  <c:v>262144</c:v>
                </c:pt>
                <c:pt idx="729">
                  <c:v>262144</c:v>
                </c:pt>
                <c:pt idx="730">
                  <c:v>262144</c:v>
                </c:pt>
                <c:pt idx="731">
                  <c:v>262144</c:v>
                </c:pt>
                <c:pt idx="732">
                  <c:v>262144</c:v>
                </c:pt>
                <c:pt idx="733">
                  <c:v>262144</c:v>
                </c:pt>
                <c:pt idx="734">
                  <c:v>262144</c:v>
                </c:pt>
                <c:pt idx="735">
                  <c:v>262144</c:v>
                </c:pt>
                <c:pt idx="736">
                  <c:v>262144</c:v>
                </c:pt>
                <c:pt idx="737">
                  <c:v>262144</c:v>
                </c:pt>
                <c:pt idx="738">
                  <c:v>262144</c:v>
                </c:pt>
                <c:pt idx="739">
                  <c:v>262144</c:v>
                </c:pt>
                <c:pt idx="740">
                  <c:v>262144</c:v>
                </c:pt>
                <c:pt idx="741">
                  <c:v>262144</c:v>
                </c:pt>
                <c:pt idx="742">
                  <c:v>262144</c:v>
                </c:pt>
                <c:pt idx="743">
                  <c:v>262144</c:v>
                </c:pt>
                <c:pt idx="744">
                  <c:v>262144</c:v>
                </c:pt>
                <c:pt idx="745">
                  <c:v>262144</c:v>
                </c:pt>
                <c:pt idx="746">
                  <c:v>262144</c:v>
                </c:pt>
                <c:pt idx="747">
                  <c:v>262144</c:v>
                </c:pt>
                <c:pt idx="748">
                  <c:v>262144</c:v>
                </c:pt>
                <c:pt idx="749">
                  <c:v>262144</c:v>
                </c:pt>
                <c:pt idx="750">
                  <c:v>262144</c:v>
                </c:pt>
                <c:pt idx="751">
                  <c:v>262144</c:v>
                </c:pt>
                <c:pt idx="752">
                  <c:v>262144</c:v>
                </c:pt>
                <c:pt idx="753">
                  <c:v>262144</c:v>
                </c:pt>
                <c:pt idx="754">
                  <c:v>262144</c:v>
                </c:pt>
                <c:pt idx="755">
                  <c:v>262144</c:v>
                </c:pt>
                <c:pt idx="756">
                  <c:v>262144</c:v>
                </c:pt>
                <c:pt idx="757">
                  <c:v>262144</c:v>
                </c:pt>
                <c:pt idx="758">
                  <c:v>262144</c:v>
                </c:pt>
                <c:pt idx="759">
                  <c:v>262144</c:v>
                </c:pt>
                <c:pt idx="760">
                  <c:v>262144</c:v>
                </c:pt>
                <c:pt idx="761">
                  <c:v>262144</c:v>
                </c:pt>
                <c:pt idx="762">
                  <c:v>262144</c:v>
                </c:pt>
                <c:pt idx="763">
                  <c:v>262144</c:v>
                </c:pt>
                <c:pt idx="764">
                  <c:v>262144</c:v>
                </c:pt>
                <c:pt idx="765">
                  <c:v>262144</c:v>
                </c:pt>
                <c:pt idx="766">
                  <c:v>262144</c:v>
                </c:pt>
                <c:pt idx="767">
                  <c:v>262144</c:v>
                </c:pt>
                <c:pt idx="768">
                  <c:v>262144</c:v>
                </c:pt>
                <c:pt idx="769">
                  <c:v>262144</c:v>
                </c:pt>
                <c:pt idx="770">
                  <c:v>262144</c:v>
                </c:pt>
                <c:pt idx="771">
                  <c:v>262144</c:v>
                </c:pt>
                <c:pt idx="772">
                  <c:v>262144</c:v>
                </c:pt>
                <c:pt idx="773">
                  <c:v>262144</c:v>
                </c:pt>
                <c:pt idx="774">
                  <c:v>262144</c:v>
                </c:pt>
                <c:pt idx="775">
                  <c:v>262144</c:v>
                </c:pt>
                <c:pt idx="776">
                  <c:v>262144</c:v>
                </c:pt>
                <c:pt idx="777">
                  <c:v>262144</c:v>
                </c:pt>
                <c:pt idx="778">
                  <c:v>262144</c:v>
                </c:pt>
                <c:pt idx="779">
                  <c:v>262144</c:v>
                </c:pt>
                <c:pt idx="780">
                  <c:v>262144</c:v>
                </c:pt>
                <c:pt idx="781">
                  <c:v>262144</c:v>
                </c:pt>
                <c:pt idx="782">
                  <c:v>262144</c:v>
                </c:pt>
                <c:pt idx="783">
                  <c:v>262144</c:v>
                </c:pt>
                <c:pt idx="784">
                  <c:v>262144</c:v>
                </c:pt>
                <c:pt idx="785">
                  <c:v>262144</c:v>
                </c:pt>
                <c:pt idx="786">
                  <c:v>262144</c:v>
                </c:pt>
                <c:pt idx="787">
                  <c:v>262144</c:v>
                </c:pt>
                <c:pt idx="788">
                  <c:v>262144</c:v>
                </c:pt>
                <c:pt idx="789">
                  <c:v>262144</c:v>
                </c:pt>
                <c:pt idx="790">
                  <c:v>262144</c:v>
                </c:pt>
                <c:pt idx="791">
                  <c:v>262144</c:v>
                </c:pt>
                <c:pt idx="792">
                  <c:v>262144</c:v>
                </c:pt>
                <c:pt idx="793">
                  <c:v>262144</c:v>
                </c:pt>
                <c:pt idx="794">
                  <c:v>262144</c:v>
                </c:pt>
                <c:pt idx="795">
                  <c:v>262144</c:v>
                </c:pt>
                <c:pt idx="796">
                  <c:v>262144</c:v>
                </c:pt>
                <c:pt idx="797">
                  <c:v>262144</c:v>
                </c:pt>
                <c:pt idx="798">
                  <c:v>262144</c:v>
                </c:pt>
                <c:pt idx="799">
                  <c:v>262144</c:v>
                </c:pt>
                <c:pt idx="800">
                  <c:v>262144</c:v>
                </c:pt>
                <c:pt idx="801">
                  <c:v>262144</c:v>
                </c:pt>
                <c:pt idx="802">
                  <c:v>262144</c:v>
                </c:pt>
                <c:pt idx="803">
                  <c:v>262144</c:v>
                </c:pt>
                <c:pt idx="804">
                  <c:v>262144</c:v>
                </c:pt>
                <c:pt idx="805">
                  <c:v>262144</c:v>
                </c:pt>
                <c:pt idx="806">
                  <c:v>262144</c:v>
                </c:pt>
                <c:pt idx="807">
                  <c:v>262144</c:v>
                </c:pt>
                <c:pt idx="808">
                  <c:v>262144</c:v>
                </c:pt>
                <c:pt idx="809">
                  <c:v>262144</c:v>
                </c:pt>
                <c:pt idx="810">
                  <c:v>262144</c:v>
                </c:pt>
                <c:pt idx="811">
                  <c:v>262144</c:v>
                </c:pt>
                <c:pt idx="812">
                  <c:v>262144</c:v>
                </c:pt>
                <c:pt idx="813">
                  <c:v>262144</c:v>
                </c:pt>
                <c:pt idx="814">
                  <c:v>262144</c:v>
                </c:pt>
                <c:pt idx="815">
                  <c:v>262144</c:v>
                </c:pt>
                <c:pt idx="816">
                  <c:v>262144</c:v>
                </c:pt>
                <c:pt idx="817">
                  <c:v>262144</c:v>
                </c:pt>
                <c:pt idx="818">
                  <c:v>262144</c:v>
                </c:pt>
                <c:pt idx="819">
                  <c:v>262144</c:v>
                </c:pt>
                <c:pt idx="820">
                  <c:v>262144</c:v>
                </c:pt>
                <c:pt idx="821">
                  <c:v>262144</c:v>
                </c:pt>
                <c:pt idx="822">
                  <c:v>262144</c:v>
                </c:pt>
                <c:pt idx="823">
                  <c:v>262144</c:v>
                </c:pt>
                <c:pt idx="824">
                  <c:v>262144</c:v>
                </c:pt>
                <c:pt idx="825">
                  <c:v>262144</c:v>
                </c:pt>
                <c:pt idx="826">
                  <c:v>262144</c:v>
                </c:pt>
                <c:pt idx="827">
                  <c:v>262144</c:v>
                </c:pt>
                <c:pt idx="828">
                  <c:v>262144</c:v>
                </c:pt>
                <c:pt idx="829">
                  <c:v>262144</c:v>
                </c:pt>
                <c:pt idx="830">
                  <c:v>262144</c:v>
                </c:pt>
                <c:pt idx="831">
                  <c:v>262144</c:v>
                </c:pt>
                <c:pt idx="832">
                  <c:v>262144</c:v>
                </c:pt>
                <c:pt idx="833">
                  <c:v>262144</c:v>
                </c:pt>
                <c:pt idx="834">
                  <c:v>262144</c:v>
                </c:pt>
                <c:pt idx="835">
                  <c:v>262144</c:v>
                </c:pt>
                <c:pt idx="836">
                  <c:v>262144</c:v>
                </c:pt>
                <c:pt idx="837">
                  <c:v>262144</c:v>
                </c:pt>
                <c:pt idx="838">
                  <c:v>262144</c:v>
                </c:pt>
                <c:pt idx="839">
                  <c:v>262144</c:v>
                </c:pt>
                <c:pt idx="840">
                  <c:v>262144</c:v>
                </c:pt>
                <c:pt idx="841">
                  <c:v>262144</c:v>
                </c:pt>
                <c:pt idx="842">
                  <c:v>262144</c:v>
                </c:pt>
                <c:pt idx="843">
                  <c:v>262144</c:v>
                </c:pt>
                <c:pt idx="844">
                  <c:v>262144</c:v>
                </c:pt>
                <c:pt idx="845">
                  <c:v>262144</c:v>
                </c:pt>
                <c:pt idx="846">
                  <c:v>262144</c:v>
                </c:pt>
                <c:pt idx="847">
                  <c:v>262144</c:v>
                </c:pt>
                <c:pt idx="848">
                  <c:v>262144</c:v>
                </c:pt>
                <c:pt idx="849">
                  <c:v>262144</c:v>
                </c:pt>
                <c:pt idx="850">
                  <c:v>262144</c:v>
                </c:pt>
                <c:pt idx="851">
                  <c:v>262144</c:v>
                </c:pt>
                <c:pt idx="852">
                  <c:v>262144</c:v>
                </c:pt>
                <c:pt idx="853">
                  <c:v>262144</c:v>
                </c:pt>
                <c:pt idx="854">
                  <c:v>262144</c:v>
                </c:pt>
                <c:pt idx="855">
                  <c:v>262144</c:v>
                </c:pt>
                <c:pt idx="856">
                  <c:v>262144</c:v>
                </c:pt>
                <c:pt idx="857">
                  <c:v>262144</c:v>
                </c:pt>
                <c:pt idx="858">
                  <c:v>262144</c:v>
                </c:pt>
                <c:pt idx="859">
                  <c:v>262144</c:v>
                </c:pt>
                <c:pt idx="860">
                  <c:v>262144</c:v>
                </c:pt>
                <c:pt idx="861">
                  <c:v>262144</c:v>
                </c:pt>
                <c:pt idx="862">
                  <c:v>262144</c:v>
                </c:pt>
                <c:pt idx="863">
                  <c:v>262144</c:v>
                </c:pt>
                <c:pt idx="864">
                  <c:v>262144</c:v>
                </c:pt>
                <c:pt idx="865">
                  <c:v>262144</c:v>
                </c:pt>
                <c:pt idx="866">
                  <c:v>262144</c:v>
                </c:pt>
                <c:pt idx="867">
                  <c:v>262144</c:v>
                </c:pt>
                <c:pt idx="868">
                  <c:v>262144</c:v>
                </c:pt>
                <c:pt idx="869">
                  <c:v>262144</c:v>
                </c:pt>
                <c:pt idx="870">
                  <c:v>262144</c:v>
                </c:pt>
                <c:pt idx="871">
                  <c:v>262144</c:v>
                </c:pt>
                <c:pt idx="872">
                  <c:v>262144</c:v>
                </c:pt>
                <c:pt idx="873">
                  <c:v>262144</c:v>
                </c:pt>
                <c:pt idx="874">
                  <c:v>262144</c:v>
                </c:pt>
                <c:pt idx="875">
                  <c:v>262144</c:v>
                </c:pt>
                <c:pt idx="876">
                  <c:v>262144</c:v>
                </c:pt>
                <c:pt idx="877">
                  <c:v>262144</c:v>
                </c:pt>
                <c:pt idx="878">
                  <c:v>262144</c:v>
                </c:pt>
                <c:pt idx="879">
                  <c:v>262144</c:v>
                </c:pt>
                <c:pt idx="880">
                  <c:v>262144</c:v>
                </c:pt>
                <c:pt idx="881">
                  <c:v>262144</c:v>
                </c:pt>
                <c:pt idx="882">
                  <c:v>262144</c:v>
                </c:pt>
                <c:pt idx="883">
                  <c:v>262144</c:v>
                </c:pt>
                <c:pt idx="884">
                  <c:v>262144</c:v>
                </c:pt>
                <c:pt idx="885">
                  <c:v>262144</c:v>
                </c:pt>
                <c:pt idx="886">
                  <c:v>262144</c:v>
                </c:pt>
                <c:pt idx="887">
                  <c:v>262144</c:v>
                </c:pt>
                <c:pt idx="888">
                  <c:v>262144</c:v>
                </c:pt>
                <c:pt idx="889">
                  <c:v>262144</c:v>
                </c:pt>
                <c:pt idx="890">
                  <c:v>262144</c:v>
                </c:pt>
                <c:pt idx="891">
                  <c:v>262144</c:v>
                </c:pt>
                <c:pt idx="892">
                  <c:v>262144</c:v>
                </c:pt>
                <c:pt idx="893">
                  <c:v>262144</c:v>
                </c:pt>
                <c:pt idx="894">
                  <c:v>262144</c:v>
                </c:pt>
                <c:pt idx="895">
                  <c:v>262144</c:v>
                </c:pt>
                <c:pt idx="896">
                  <c:v>262144</c:v>
                </c:pt>
                <c:pt idx="897">
                  <c:v>262144</c:v>
                </c:pt>
                <c:pt idx="898">
                  <c:v>262144</c:v>
                </c:pt>
                <c:pt idx="899">
                  <c:v>262144</c:v>
                </c:pt>
                <c:pt idx="900">
                  <c:v>262144</c:v>
                </c:pt>
                <c:pt idx="901">
                  <c:v>262144</c:v>
                </c:pt>
                <c:pt idx="902">
                  <c:v>262144</c:v>
                </c:pt>
                <c:pt idx="903">
                  <c:v>262144</c:v>
                </c:pt>
                <c:pt idx="904">
                  <c:v>262144</c:v>
                </c:pt>
                <c:pt idx="905">
                  <c:v>262144</c:v>
                </c:pt>
                <c:pt idx="906">
                  <c:v>262144</c:v>
                </c:pt>
                <c:pt idx="907">
                  <c:v>262144</c:v>
                </c:pt>
                <c:pt idx="908">
                  <c:v>262144</c:v>
                </c:pt>
                <c:pt idx="909">
                  <c:v>262144</c:v>
                </c:pt>
                <c:pt idx="910">
                  <c:v>262144</c:v>
                </c:pt>
                <c:pt idx="911">
                  <c:v>262144</c:v>
                </c:pt>
                <c:pt idx="912">
                  <c:v>262144</c:v>
                </c:pt>
                <c:pt idx="913">
                  <c:v>262144</c:v>
                </c:pt>
                <c:pt idx="914">
                  <c:v>262144</c:v>
                </c:pt>
                <c:pt idx="915">
                  <c:v>262144</c:v>
                </c:pt>
                <c:pt idx="916">
                  <c:v>262144</c:v>
                </c:pt>
                <c:pt idx="917">
                  <c:v>262144</c:v>
                </c:pt>
                <c:pt idx="918">
                  <c:v>262144</c:v>
                </c:pt>
                <c:pt idx="919">
                  <c:v>262144</c:v>
                </c:pt>
                <c:pt idx="920">
                  <c:v>262144</c:v>
                </c:pt>
                <c:pt idx="921">
                  <c:v>262144</c:v>
                </c:pt>
                <c:pt idx="922">
                  <c:v>262144</c:v>
                </c:pt>
                <c:pt idx="923">
                  <c:v>262144</c:v>
                </c:pt>
                <c:pt idx="924">
                  <c:v>262144</c:v>
                </c:pt>
                <c:pt idx="925">
                  <c:v>262144</c:v>
                </c:pt>
                <c:pt idx="926">
                  <c:v>262144</c:v>
                </c:pt>
                <c:pt idx="927">
                  <c:v>262144</c:v>
                </c:pt>
                <c:pt idx="928">
                  <c:v>262144</c:v>
                </c:pt>
                <c:pt idx="929">
                  <c:v>262144</c:v>
                </c:pt>
                <c:pt idx="930">
                  <c:v>262144</c:v>
                </c:pt>
                <c:pt idx="931">
                  <c:v>262144</c:v>
                </c:pt>
                <c:pt idx="932">
                  <c:v>262144</c:v>
                </c:pt>
                <c:pt idx="933">
                  <c:v>262144</c:v>
                </c:pt>
                <c:pt idx="934">
                  <c:v>262144</c:v>
                </c:pt>
                <c:pt idx="935">
                  <c:v>262144</c:v>
                </c:pt>
                <c:pt idx="936">
                  <c:v>262144</c:v>
                </c:pt>
                <c:pt idx="937">
                  <c:v>262144</c:v>
                </c:pt>
                <c:pt idx="938">
                  <c:v>262144</c:v>
                </c:pt>
                <c:pt idx="939">
                  <c:v>262144</c:v>
                </c:pt>
                <c:pt idx="940">
                  <c:v>262144</c:v>
                </c:pt>
                <c:pt idx="941">
                  <c:v>262144</c:v>
                </c:pt>
                <c:pt idx="942">
                  <c:v>262144</c:v>
                </c:pt>
                <c:pt idx="943">
                  <c:v>262144</c:v>
                </c:pt>
                <c:pt idx="944">
                  <c:v>262144</c:v>
                </c:pt>
                <c:pt idx="945">
                  <c:v>262144</c:v>
                </c:pt>
                <c:pt idx="946">
                  <c:v>262144</c:v>
                </c:pt>
                <c:pt idx="947">
                  <c:v>262144</c:v>
                </c:pt>
                <c:pt idx="948">
                  <c:v>262144</c:v>
                </c:pt>
                <c:pt idx="949">
                  <c:v>262144</c:v>
                </c:pt>
                <c:pt idx="950">
                  <c:v>262144</c:v>
                </c:pt>
                <c:pt idx="951">
                  <c:v>262144</c:v>
                </c:pt>
                <c:pt idx="952">
                  <c:v>262144</c:v>
                </c:pt>
                <c:pt idx="953">
                  <c:v>262144</c:v>
                </c:pt>
                <c:pt idx="954">
                  <c:v>262144</c:v>
                </c:pt>
                <c:pt idx="955">
                  <c:v>262144</c:v>
                </c:pt>
                <c:pt idx="956">
                  <c:v>262144</c:v>
                </c:pt>
                <c:pt idx="957">
                  <c:v>262144</c:v>
                </c:pt>
                <c:pt idx="958">
                  <c:v>262144</c:v>
                </c:pt>
                <c:pt idx="959">
                  <c:v>262144</c:v>
                </c:pt>
                <c:pt idx="960">
                  <c:v>262144</c:v>
                </c:pt>
                <c:pt idx="961">
                  <c:v>262144</c:v>
                </c:pt>
                <c:pt idx="962">
                  <c:v>262144</c:v>
                </c:pt>
                <c:pt idx="963">
                  <c:v>262144</c:v>
                </c:pt>
                <c:pt idx="964">
                  <c:v>262144</c:v>
                </c:pt>
                <c:pt idx="965">
                  <c:v>262144</c:v>
                </c:pt>
                <c:pt idx="966">
                  <c:v>262144</c:v>
                </c:pt>
                <c:pt idx="967">
                  <c:v>262144</c:v>
                </c:pt>
                <c:pt idx="968">
                  <c:v>262144</c:v>
                </c:pt>
                <c:pt idx="969">
                  <c:v>262144</c:v>
                </c:pt>
                <c:pt idx="970">
                  <c:v>262144</c:v>
                </c:pt>
                <c:pt idx="971">
                  <c:v>262144</c:v>
                </c:pt>
                <c:pt idx="972">
                  <c:v>262144</c:v>
                </c:pt>
                <c:pt idx="973">
                  <c:v>262144</c:v>
                </c:pt>
                <c:pt idx="974">
                  <c:v>262144</c:v>
                </c:pt>
                <c:pt idx="975">
                  <c:v>262144</c:v>
                </c:pt>
                <c:pt idx="976">
                  <c:v>262144</c:v>
                </c:pt>
                <c:pt idx="977">
                  <c:v>262144</c:v>
                </c:pt>
                <c:pt idx="978">
                  <c:v>262144</c:v>
                </c:pt>
                <c:pt idx="979">
                  <c:v>262144</c:v>
                </c:pt>
                <c:pt idx="980">
                  <c:v>262144</c:v>
                </c:pt>
                <c:pt idx="981">
                  <c:v>262144</c:v>
                </c:pt>
                <c:pt idx="982">
                  <c:v>262144</c:v>
                </c:pt>
                <c:pt idx="983">
                  <c:v>262144</c:v>
                </c:pt>
                <c:pt idx="984">
                  <c:v>262144</c:v>
                </c:pt>
                <c:pt idx="985">
                  <c:v>262144</c:v>
                </c:pt>
                <c:pt idx="986">
                  <c:v>262144</c:v>
                </c:pt>
                <c:pt idx="987">
                  <c:v>262144</c:v>
                </c:pt>
                <c:pt idx="988">
                  <c:v>262144</c:v>
                </c:pt>
                <c:pt idx="989">
                  <c:v>262144</c:v>
                </c:pt>
                <c:pt idx="990">
                  <c:v>262144</c:v>
                </c:pt>
                <c:pt idx="991">
                  <c:v>262144</c:v>
                </c:pt>
                <c:pt idx="992">
                  <c:v>262144</c:v>
                </c:pt>
                <c:pt idx="993">
                  <c:v>262144</c:v>
                </c:pt>
                <c:pt idx="994">
                  <c:v>262144</c:v>
                </c:pt>
                <c:pt idx="995">
                  <c:v>262144</c:v>
                </c:pt>
                <c:pt idx="996">
                  <c:v>262144</c:v>
                </c:pt>
                <c:pt idx="997">
                  <c:v>262144</c:v>
                </c:pt>
                <c:pt idx="998">
                  <c:v>262144</c:v>
                </c:pt>
                <c:pt idx="999">
                  <c:v>262144</c:v>
                </c:pt>
                <c:pt idx="1000">
                  <c:v>262144</c:v>
                </c:pt>
              </c:numCache>
            </c:numRef>
          </c:xVal>
          <c:yVal>
            <c:numRef>
              <c:f>12</c:f>
              <c:numCache>
                <c:formatCode>General</c:formatCode>
                <c:ptCount val="1001"/>
                <c:pt idx="0">
                  <c:v>14.57632509</c:v>
                </c:pt>
                <c:pt idx="1">
                  <c:v>29.963515371</c:v>
                </c:pt>
                <c:pt idx="2">
                  <c:v>29.431497886</c:v>
                </c:pt>
                <c:pt idx="3">
                  <c:v>30.017460462</c:v>
                </c:pt>
                <c:pt idx="4">
                  <c:v>30.026603252</c:v>
                </c:pt>
                <c:pt idx="5">
                  <c:v>30.071035164</c:v>
                </c:pt>
                <c:pt idx="6">
                  <c:v>25.947777082</c:v>
                </c:pt>
                <c:pt idx="7">
                  <c:v>28.051934925</c:v>
                </c:pt>
                <c:pt idx="8">
                  <c:v>29.06566701</c:v>
                </c:pt>
                <c:pt idx="9">
                  <c:v>30.08502737</c:v>
                </c:pt>
                <c:pt idx="10">
                  <c:v>29.878599712</c:v>
                </c:pt>
                <c:pt idx="11">
                  <c:v>30.171707167</c:v>
                </c:pt>
                <c:pt idx="12">
                  <c:v>23.742747396</c:v>
                </c:pt>
                <c:pt idx="13">
                  <c:v>29.98981135</c:v>
                </c:pt>
                <c:pt idx="14">
                  <c:v>29.20545973</c:v>
                </c:pt>
                <c:pt idx="15">
                  <c:v>30.063719327</c:v>
                </c:pt>
                <c:pt idx="16">
                  <c:v>12.135572134</c:v>
                </c:pt>
                <c:pt idx="17">
                  <c:v>29.889613351</c:v>
                </c:pt>
                <c:pt idx="18">
                  <c:v>28.687132325</c:v>
                </c:pt>
                <c:pt idx="19">
                  <c:v>29.944268318</c:v>
                </c:pt>
                <c:pt idx="20">
                  <c:v>30.044954045</c:v>
                </c:pt>
                <c:pt idx="21">
                  <c:v>27.231517438</c:v>
                </c:pt>
                <c:pt idx="22">
                  <c:v>26.54892703</c:v>
                </c:pt>
                <c:pt idx="23">
                  <c:v>30.243943619</c:v>
                </c:pt>
                <c:pt idx="24">
                  <c:v>30.020987434</c:v>
                </c:pt>
                <c:pt idx="25">
                  <c:v>28.432970127</c:v>
                </c:pt>
                <c:pt idx="26">
                  <c:v>30.205573609</c:v>
                </c:pt>
                <c:pt idx="27">
                  <c:v>26.830329882</c:v>
                </c:pt>
                <c:pt idx="28">
                  <c:v>30.135213135</c:v>
                </c:pt>
                <c:pt idx="29">
                  <c:v>30.133281624</c:v>
                </c:pt>
                <c:pt idx="30">
                  <c:v>28.749703551</c:v>
                </c:pt>
                <c:pt idx="31">
                  <c:v>16.447622235</c:v>
                </c:pt>
                <c:pt idx="32">
                  <c:v>11.528486284</c:v>
                </c:pt>
                <c:pt idx="33">
                  <c:v>29.89437458</c:v>
                </c:pt>
                <c:pt idx="34">
                  <c:v>28.308332604</c:v>
                </c:pt>
                <c:pt idx="35">
                  <c:v>29.888038461</c:v>
                </c:pt>
                <c:pt idx="36">
                  <c:v>30.037042306</c:v>
                </c:pt>
                <c:pt idx="37">
                  <c:v>27.571853067</c:v>
                </c:pt>
                <c:pt idx="38">
                  <c:v>26.539937455</c:v>
                </c:pt>
                <c:pt idx="39">
                  <c:v>29.989514286</c:v>
                </c:pt>
                <c:pt idx="40">
                  <c:v>29.883131771</c:v>
                </c:pt>
                <c:pt idx="41">
                  <c:v>28.279113099</c:v>
                </c:pt>
                <c:pt idx="42">
                  <c:v>30.073439176</c:v>
                </c:pt>
                <c:pt idx="43">
                  <c:v>27.364114903</c:v>
                </c:pt>
                <c:pt idx="44">
                  <c:v>29.973190188</c:v>
                </c:pt>
                <c:pt idx="45">
                  <c:v>30.214275524</c:v>
                </c:pt>
                <c:pt idx="46">
                  <c:v>27.922359186</c:v>
                </c:pt>
                <c:pt idx="47">
                  <c:v>29.744291729</c:v>
                </c:pt>
                <c:pt idx="48">
                  <c:v>11.569722947</c:v>
                </c:pt>
                <c:pt idx="49">
                  <c:v>29.908514304</c:v>
                </c:pt>
                <c:pt idx="50">
                  <c:v>29.541676757</c:v>
                </c:pt>
                <c:pt idx="51">
                  <c:v>11.841015605</c:v>
                </c:pt>
                <c:pt idx="52">
                  <c:v>30.114602659</c:v>
                </c:pt>
                <c:pt idx="53">
                  <c:v>29.443477974</c:v>
                </c:pt>
                <c:pt idx="54">
                  <c:v>29.98368336</c:v>
                </c:pt>
                <c:pt idx="55">
                  <c:v>29.940859236</c:v>
                </c:pt>
                <c:pt idx="56">
                  <c:v>30.053080215</c:v>
                </c:pt>
                <c:pt idx="57">
                  <c:v>25.964560646</c:v>
                </c:pt>
                <c:pt idx="58">
                  <c:v>28.052077409</c:v>
                </c:pt>
                <c:pt idx="59">
                  <c:v>29.55303562</c:v>
                </c:pt>
                <c:pt idx="60">
                  <c:v>29.881308833</c:v>
                </c:pt>
                <c:pt idx="61">
                  <c:v>29.955707166</c:v>
                </c:pt>
                <c:pt idx="62">
                  <c:v>30.069187431</c:v>
                </c:pt>
                <c:pt idx="63">
                  <c:v>17.06376328</c:v>
                </c:pt>
                <c:pt idx="64">
                  <c:v>29.982354319</c:v>
                </c:pt>
                <c:pt idx="65">
                  <c:v>27.33372165</c:v>
                </c:pt>
                <c:pt idx="66">
                  <c:v>28.139176951</c:v>
                </c:pt>
                <c:pt idx="67">
                  <c:v>10.516759661</c:v>
                </c:pt>
                <c:pt idx="68">
                  <c:v>29.987436792</c:v>
                </c:pt>
                <c:pt idx="69">
                  <c:v>28.732274576</c:v>
                </c:pt>
                <c:pt idx="70">
                  <c:v>30.051883381</c:v>
                </c:pt>
                <c:pt idx="71">
                  <c:v>30.272796557</c:v>
                </c:pt>
                <c:pt idx="72">
                  <c:v>26.964141385</c:v>
                </c:pt>
                <c:pt idx="73">
                  <c:v>26.528235741</c:v>
                </c:pt>
                <c:pt idx="74">
                  <c:v>30.160359807</c:v>
                </c:pt>
                <c:pt idx="75">
                  <c:v>30.087496663</c:v>
                </c:pt>
                <c:pt idx="76">
                  <c:v>28.05037082</c:v>
                </c:pt>
                <c:pt idx="77">
                  <c:v>29.952695344</c:v>
                </c:pt>
                <c:pt idx="78">
                  <c:v>27.383246862</c:v>
                </c:pt>
                <c:pt idx="79">
                  <c:v>30.129531333</c:v>
                </c:pt>
                <c:pt idx="80">
                  <c:v>30.016287977</c:v>
                </c:pt>
                <c:pt idx="81">
                  <c:v>28.479574625</c:v>
                </c:pt>
                <c:pt idx="82">
                  <c:v>30.006676692</c:v>
                </c:pt>
                <c:pt idx="83">
                  <c:v>12.439329908</c:v>
                </c:pt>
                <c:pt idx="84">
                  <c:v>30.020228895</c:v>
                </c:pt>
                <c:pt idx="85">
                  <c:v>28.188213391</c:v>
                </c:pt>
                <c:pt idx="86">
                  <c:v>29.875290809</c:v>
                </c:pt>
                <c:pt idx="87">
                  <c:v>30.022545877</c:v>
                </c:pt>
                <c:pt idx="88">
                  <c:v>27.574123701</c:v>
                </c:pt>
                <c:pt idx="89">
                  <c:v>26.544317921</c:v>
                </c:pt>
                <c:pt idx="90">
                  <c:v>29.972988193</c:v>
                </c:pt>
                <c:pt idx="91">
                  <c:v>30.1825954</c:v>
                </c:pt>
                <c:pt idx="92">
                  <c:v>28.076985903</c:v>
                </c:pt>
                <c:pt idx="93">
                  <c:v>30.153166885</c:v>
                </c:pt>
                <c:pt idx="94">
                  <c:v>27.254412993</c:v>
                </c:pt>
                <c:pt idx="95">
                  <c:v>17.013128457</c:v>
                </c:pt>
                <c:pt idx="96">
                  <c:v>29.566210635</c:v>
                </c:pt>
                <c:pt idx="97">
                  <c:v>29.750248281</c:v>
                </c:pt>
                <c:pt idx="98">
                  <c:v>29.316262834</c:v>
                </c:pt>
                <c:pt idx="99">
                  <c:v>10.484354247</c:v>
                </c:pt>
                <c:pt idx="100">
                  <c:v>29.693675594</c:v>
                </c:pt>
                <c:pt idx="101">
                  <c:v>29.528102562</c:v>
                </c:pt>
                <c:pt idx="102">
                  <c:v>11.877288906</c:v>
                </c:pt>
                <c:pt idx="103">
                  <c:v>29.835180561</c:v>
                </c:pt>
                <c:pt idx="104">
                  <c:v>29.758501246</c:v>
                </c:pt>
                <c:pt idx="105">
                  <c:v>29.996960555</c:v>
                </c:pt>
                <c:pt idx="106">
                  <c:v>29.984924858</c:v>
                </c:pt>
                <c:pt idx="107">
                  <c:v>30.016053132</c:v>
                </c:pt>
                <c:pt idx="108">
                  <c:v>25.951591694</c:v>
                </c:pt>
                <c:pt idx="109">
                  <c:v>27.905353059</c:v>
                </c:pt>
                <c:pt idx="110">
                  <c:v>29.072693471</c:v>
                </c:pt>
                <c:pt idx="111">
                  <c:v>30.054491019</c:v>
                </c:pt>
                <c:pt idx="112">
                  <c:v>29.992150487</c:v>
                </c:pt>
                <c:pt idx="113">
                  <c:v>30.052747751</c:v>
                </c:pt>
                <c:pt idx="114">
                  <c:v>23.805817103</c:v>
                </c:pt>
                <c:pt idx="115">
                  <c:v>29.919790474</c:v>
                </c:pt>
                <c:pt idx="116">
                  <c:v>29.205493673</c:v>
                </c:pt>
                <c:pt idx="117">
                  <c:v>30.01659095</c:v>
                </c:pt>
                <c:pt idx="118">
                  <c:v>12.139149678</c:v>
                </c:pt>
                <c:pt idx="119">
                  <c:v>29.987551306</c:v>
                </c:pt>
                <c:pt idx="120">
                  <c:v>28.748083692</c:v>
                </c:pt>
                <c:pt idx="121">
                  <c:v>30.040473327</c:v>
                </c:pt>
                <c:pt idx="122">
                  <c:v>30.093166224</c:v>
                </c:pt>
                <c:pt idx="123">
                  <c:v>27.111038805</c:v>
                </c:pt>
                <c:pt idx="124">
                  <c:v>26.386137229</c:v>
                </c:pt>
                <c:pt idx="125">
                  <c:v>30.084186354</c:v>
                </c:pt>
                <c:pt idx="126">
                  <c:v>29.873767149</c:v>
                </c:pt>
                <c:pt idx="127">
                  <c:v>16.036341175</c:v>
                </c:pt>
                <c:pt idx="128">
                  <c:v>30.016132011</c:v>
                </c:pt>
                <c:pt idx="129">
                  <c:v>30.215795968</c:v>
                </c:pt>
                <c:pt idx="130">
                  <c:v>23.815578448</c:v>
                </c:pt>
                <c:pt idx="131">
                  <c:v>30.073876474</c:v>
                </c:pt>
                <c:pt idx="132">
                  <c:v>27.868877482</c:v>
                </c:pt>
                <c:pt idx="133">
                  <c:v>29.872444283</c:v>
                </c:pt>
                <c:pt idx="134">
                  <c:v>12.450344492</c:v>
                </c:pt>
                <c:pt idx="135">
                  <c:v>29.913014494</c:v>
                </c:pt>
                <c:pt idx="136">
                  <c:v>28.023345184</c:v>
                </c:pt>
                <c:pt idx="137">
                  <c:v>29.89502719</c:v>
                </c:pt>
                <c:pt idx="138">
                  <c:v>30.11666713</c:v>
                </c:pt>
                <c:pt idx="139">
                  <c:v>27.767460874</c:v>
                </c:pt>
                <c:pt idx="140">
                  <c:v>26.54164181</c:v>
                </c:pt>
                <c:pt idx="141">
                  <c:v>29.972403675</c:v>
                </c:pt>
                <c:pt idx="142">
                  <c:v>30.07403484</c:v>
                </c:pt>
                <c:pt idx="143">
                  <c:v>27.936610728</c:v>
                </c:pt>
                <c:pt idx="144">
                  <c:v>25.43706009</c:v>
                </c:pt>
                <c:pt idx="145">
                  <c:v>28.435632579</c:v>
                </c:pt>
                <c:pt idx="146">
                  <c:v>27.90849567</c:v>
                </c:pt>
                <c:pt idx="147">
                  <c:v>29.961982699</c:v>
                </c:pt>
                <c:pt idx="148">
                  <c:v>29.866759958</c:v>
                </c:pt>
                <c:pt idx="149">
                  <c:v>29.878649449</c:v>
                </c:pt>
                <c:pt idx="150">
                  <c:v>12.312306519</c:v>
                </c:pt>
                <c:pt idx="151">
                  <c:v>29.729582244</c:v>
                </c:pt>
                <c:pt idx="152">
                  <c:v>29.601733459</c:v>
                </c:pt>
                <c:pt idx="153">
                  <c:v>11.857219839</c:v>
                </c:pt>
                <c:pt idx="154">
                  <c:v>30.13842805</c:v>
                </c:pt>
                <c:pt idx="155">
                  <c:v>29.45656755</c:v>
                </c:pt>
                <c:pt idx="156">
                  <c:v>29.842598223</c:v>
                </c:pt>
                <c:pt idx="157">
                  <c:v>30.050429698</c:v>
                </c:pt>
                <c:pt idx="158">
                  <c:v>30.090366307</c:v>
                </c:pt>
                <c:pt idx="159">
                  <c:v>16.898933103</c:v>
                </c:pt>
                <c:pt idx="160">
                  <c:v>30.025788819</c:v>
                </c:pt>
                <c:pt idx="161">
                  <c:v>23.581426973</c:v>
                </c:pt>
                <c:pt idx="162">
                  <c:v>30.069124464</c:v>
                </c:pt>
                <c:pt idx="163">
                  <c:v>29.363640037</c:v>
                </c:pt>
                <c:pt idx="164">
                  <c:v>29.906391069</c:v>
                </c:pt>
                <c:pt idx="165">
                  <c:v>30.028298633</c:v>
                </c:pt>
                <c:pt idx="166">
                  <c:v>26.693547584</c:v>
                </c:pt>
                <c:pt idx="167">
                  <c:v>26.289013788</c:v>
                </c:pt>
                <c:pt idx="168">
                  <c:v>29.720883051</c:v>
                </c:pt>
                <c:pt idx="169">
                  <c:v>11.209663597</c:v>
                </c:pt>
                <c:pt idx="170">
                  <c:v>29.993188629</c:v>
                </c:pt>
                <c:pt idx="171">
                  <c:v>28.70938804</c:v>
                </c:pt>
                <c:pt idx="172">
                  <c:v>30.072226325</c:v>
                </c:pt>
                <c:pt idx="173">
                  <c:v>30.160511845</c:v>
                </c:pt>
                <c:pt idx="174">
                  <c:v>27.048384881</c:v>
                </c:pt>
                <c:pt idx="175">
                  <c:v>26.519846506</c:v>
                </c:pt>
                <c:pt idx="176">
                  <c:v>29.905497727</c:v>
                </c:pt>
                <c:pt idx="177">
                  <c:v>30.039922085</c:v>
                </c:pt>
                <c:pt idx="178">
                  <c:v>28.343380226</c:v>
                </c:pt>
                <c:pt idx="179">
                  <c:v>30.106325962</c:v>
                </c:pt>
                <c:pt idx="180">
                  <c:v>27.256591729</c:v>
                </c:pt>
                <c:pt idx="181">
                  <c:v>30.144274122</c:v>
                </c:pt>
                <c:pt idx="182">
                  <c:v>30.015889998</c:v>
                </c:pt>
                <c:pt idx="183">
                  <c:v>28.825482909</c:v>
                </c:pt>
                <c:pt idx="184">
                  <c:v>29.947542552</c:v>
                </c:pt>
                <c:pt idx="185">
                  <c:v>12.390058716</c:v>
                </c:pt>
                <c:pt idx="186">
                  <c:v>29.985182473</c:v>
                </c:pt>
                <c:pt idx="187">
                  <c:v>28.331681125</c:v>
                </c:pt>
                <c:pt idx="188">
                  <c:v>29.99812795</c:v>
                </c:pt>
                <c:pt idx="189">
                  <c:v>30.028851244</c:v>
                </c:pt>
                <c:pt idx="190">
                  <c:v>27.330644719</c:v>
                </c:pt>
                <c:pt idx="191">
                  <c:v>15.449882907</c:v>
                </c:pt>
                <c:pt idx="192">
                  <c:v>30.225543523</c:v>
                </c:pt>
                <c:pt idx="193">
                  <c:v>29.879548293</c:v>
                </c:pt>
                <c:pt idx="194">
                  <c:v>30.032592662</c:v>
                </c:pt>
                <c:pt idx="195">
                  <c:v>30.117587571</c:v>
                </c:pt>
                <c:pt idx="196">
                  <c:v>27.603265149</c:v>
                </c:pt>
                <c:pt idx="197">
                  <c:v>30.2046024</c:v>
                </c:pt>
                <c:pt idx="198">
                  <c:v>28.503292274</c:v>
                </c:pt>
                <c:pt idx="199">
                  <c:v>29.719190571</c:v>
                </c:pt>
                <c:pt idx="200">
                  <c:v>29.280381483</c:v>
                </c:pt>
                <c:pt idx="201">
                  <c:v>10.484871537</c:v>
                </c:pt>
                <c:pt idx="202">
                  <c:v>29.839936865</c:v>
                </c:pt>
                <c:pt idx="203">
                  <c:v>29.681402784</c:v>
                </c:pt>
                <c:pt idx="204">
                  <c:v>11.8559916</c:v>
                </c:pt>
                <c:pt idx="205">
                  <c:v>30.028551611</c:v>
                </c:pt>
                <c:pt idx="206">
                  <c:v>29.406814985</c:v>
                </c:pt>
                <c:pt idx="207">
                  <c:v>30.128671572</c:v>
                </c:pt>
                <c:pt idx="208">
                  <c:v>29.971333011</c:v>
                </c:pt>
                <c:pt idx="209">
                  <c:v>30.032100931</c:v>
                </c:pt>
                <c:pt idx="210">
                  <c:v>25.955060252</c:v>
                </c:pt>
                <c:pt idx="211">
                  <c:v>27.922996795</c:v>
                </c:pt>
                <c:pt idx="212">
                  <c:v>29.19301964</c:v>
                </c:pt>
                <c:pt idx="213">
                  <c:v>29.995023453</c:v>
                </c:pt>
                <c:pt idx="214">
                  <c:v>29.919279274</c:v>
                </c:pt>
                <c:pt idx="215">
                  <c:v>30.190424416</c:v>
                </c:pt>
                <c:pt idx="216">
                  <c:v>23.72941276</c:v>
                </c:pt>
                <c:pt idx="217">
                  <c:v>30.043317845</c:v>
                </c:pt>
                <c:pt idx="218">
                  <c:v>28.851920271</c:v>
                </c:pt>
                <c:pt idx="219">
                  <c:v>29.916217787</c:v>
                </c:pt>
                <c:pt idx="220">
                  <c:v>12.193698987</c:v>
                </c:pt>
                <c:pt idx="221">
                  <c:v>29.876018954</c:v>
                </c:pt>
                <c:pt idx="222">
                  <c:v>29.211480853</c:v>
                </c:pt>
                <c:pt idx="223">
                  <c:v>16.525669983</c:v>
                </c:pt>
                <c:pt idx="224">
                  <c:v>30.310207905</c:v>
                </c:pt>
                <c:pt idx="225">
                  <c:v>29.631666544</c:v>
                </c:pt>
                <c:pt idx="226">
                  <c:v>29.986440198</c:v>
                </c:pt>
                <c:pt idx="227">
                  <c:v>26.945848984</c:v>
                </c:pt>
                <c:pt idx="228">
                  <c:v>29.998606035</c:v>
                </c:pt>
                <c:pt idx="229">
                  <c:v>30.199277291</c:v>
                </c:pt>
                <c:pt idx="230">
                  <c:v>28.644317564</c:v>
                </c:pt>
                <c:pt idx="231">
                  <c:v>30.127849787</c:v>
                </c:pt>
                <c:pt idx="232">
                  <c:v>30.098462987</c:v>
                </c:pt>
                <c:pt idx="233">
                  <c:v>27.387510167</c:v>
                </c:pt>
                <c:pt idx="234">
                  <c:v>26.407586951</c:v>
                </c:pt>
                <c:pt idx="235">
                  <c:v>29.893352157</c:v>
                </c:pt>
                <c:pt idx="236">
                  <c:v>11.262204246</c:v>
                </c:pt>
                <c:pt idx="237">
                  <c:v>30.068505608</c:v>
                </c:pt>
                <c:pt idx="238">
                  <c:v>28.166881207</c:v>
                </c:pt>
                <c:pt idx="239">
                  <c:v>30.129664998</c:v>
                </c:pt>
                <c:pt idx="240">
                  <c:v>29.98492128</c:v>
                </c:pt>
                <c:pt idx="241">
                  <c:v>27.365862685</c:v>
                </c:pt>
                <c:pt idx="242">
                  <c:v>26.625816336</c:v>
                </c:pt>
                <c:pt idx="243">
                  <c:v>30.024778912</c:v>
                </c:pt>
                <c:pt idx="244">
                  <c:v>30.059639331</c:v>
                </c:pt>
                <c:pt idx="245">
                  <c:v>27.863911488</c:v>
                </c:pt>
                <c:pt idx="246">
                  <c:v>29.895402408</c:v>
                </c:pt>
                <c:pt idx="247">
                  <c:v>27.650883573</c:v>
                </c:pt>
                <c:pt idx="248">
                  <c:v>30.119376275</c:v>
                </c:pt>
                <c:pt idx="249">
                  <c:v>30.024081165</c:v>
                </c:pt>
                <c:pt idx="250">
                  <c:v>28.091747487</c:v>
                </c:pt>
                <c:pt idx="251">
                  <c:v>29.913055443</c:v>
                </c:pt>
                <c:pt idx="252">
                  <c:v>11.525136942</c:v>
                </c:pt>
                <c:pt idx="253">
                  <c:v>29.621262888</c:v>
                </c:pt>
                <c:pt idx="254">
                  <c:v>29.718985378</c:v>
                </c:pt>
                <c:pt idx="255">
                  <c:v>11.869343282</c:v>
                </c:pt>
                <c:pt idx="256">
                  <c:v>16.410884785</c:v>
                </c:pt>
                <c:pt idx="257">
                  <c:v>30.032931859</c:v>
                </c:pt>
                <c:pt idx="258">
                  <c:v>30.031061888</c:v>
                </c:pt>
                <c:pt idx="259">
                  <c:v>30.089514184</c:v>
                </c:pt>
                <c:pt idx="260">
                  <c:v>29.880631951</c:v>
                </c:pt>
                <c:pt idx="261">
                  <c:v>30.017627199</c:v>
                </c:pt>
                <c:pt idx="262">
                  <c:v>30.161145355</c:v>
                </c:pt>
                <c:pt idx="263">
                  <c:v>24.255444832</c:v>
                </c:pt>
                <c:pt idx="264">
                  <c:v>30.056060133</c:v>
                </c:pt>
                <c:pt idx="265">
                  <c:v>29.353898606</c:v>
                </c:pt>
                <c:pt idx="266">
                  <c:v>30.023726026</c:v>
                </c:pt>
                <c:pt idx="267">
                  <c:v>30.070292085</c:v>
                </c:pt>
                <c:pt idx="268">
                  <c:v>26.550486665</c:v>
                </c:pt>
                <c:pt idx="269">
                  <c:v>26.302268579</c:v>
                </c:pt>
                <c:pt idx="270">
                  <c:v>29.917998681</c:v>
                </c:pt>
                <c:pt idx="271">
                  <c:v>11.179720262</c:v>
                </c:pt>
                <c:pt idx="272">
                  <c:v>29.965828968</c:v>
                </c:pt>
                <c:pt idx="273">
                  <c:v>28.780649095</c:v>
                </c:pt>
                <c:pt idx="274">
                  <c:v>29.932870292</c:v>
                </c:pt>
                <c:pt idx="275">
                  <c:v>30.041425031</c:v>
                </c:pt>
                <c:pt idx="276">
                  <c:v>27.218662956</c:v>
                </c:pt>
                <c:pt idx="277">
                  <c:v>26.42992357</c:v>
                </c:pt>
                <c:pt idx="278">
                  <c:v>30.029911666</c:v>
                </c:pt>
                <c:pt idx="279">
                  <c:v>29.881038787</c:v>
                </c:pt>
                <c:pt idx="280">
                  <c:v>28.837293969</c:v>
                </c:pt>
                <c:pt idx="281">
                  <c:v>30.05731662</c:v>
                </c:pt>
                <c:pt idx="282">
                  <c:v>26.96677749</c:v>
                </c:pt>
                <c:pt idx="283">
                  <c:v>30.174683482</c:v>
                </c:pt>
                <c:pt idx="284">
                  <c:v>29.984667248</c:v>
                </c:pt>
                <c:pt idx="285">
                  <c:v>28.914774026</c:v>
                </c:pt>
                <c:pt idx="286">
                  <c:v>29.920278534</c:v>
                </c:pt>
                <c:pt idx="287">
                  <c:v>9.24432445499999</c:v>
                </c:pt>
                <c:pt idx="288">
                  <c:v>27.82392213</c:v>
                </c:pt>
                <c:pt idx="289">
                  <c:v>30.033305163</c:v>
                </c:pt>
                <c:pt idx="290">
                  <c:v>29.920132471</c:v>
                </c:pt>
                <c:pt idx="291">
                  <c:v>30.055946892</c:v>
                </c:pt>
                <c:pt idx="292">
                  <c:v>29.836443447</c:v>
                </c:pt>
                <c:pt idx="293">
                  <c:v>25.895569415</c:v>
                </c:pt>
                <c:pt idx="294">
                  <c:v>28.383120858</c:v>
                </c:pt>
                <c:pt idx="295">
                  <c:v>28.012948596</c:v>
                </c:pt>
                <c:pt idx="296">
                  <c:v>30.086967109</c:v>
                </c:pt>
                <c:pt idx="297">
                  <c:v>29.851569182</c:v>
                </c:pt>
                <c:pt idx="298">
                  <c:v>30.165497381</c:v>
                </c:pt>
                <c:pt idx="299">
                  <c:v>24.491368052</c:v>
                </c:pt>
                <c:pt idx="300">
                  <c:v>30.166323032</c:v>
                </c:pt>
                <c:pt idx="301">
                  <c:v>27.254049412</c:v>
                </c:pt>
                <c:pt idx="302">
                  <c:v>29.890594631</c:v>
                </c:pt>
                <c:pt idx="303">
                  <c:v>11.513762826</c:v>
                </c:pt>
                <c:pt idx="304">
                  <c:v>29.710676609</c:v>
                </c:pt>
                <c:pt idx="305">
                  <c:v>29.675636653</c:v>
                </c:pt>
                <c:pt idx="306">
                  <c:v>11.905005459</c:v>
                </c:pt>
                <c:pt idx="307">
                  <c:v>29.841173575</c:v>
                </c:pt>
                <c:pt idx="308">
                  <c:v>29.408463468</c:v>
                </c:pt>
                <c:pt idx="309">
                  <c:v>29.984227174</c:v>
                </c:pt>
                <c:pt idx="310">
                  <c:v>29.795661875</c:v>
                </c:pt>
                <c:pt idx="311">
                  <c:v>30.033798729</c:v>
                </c:pt>
                <c:pt idx="312">
                  <c:v>26.197314436</c:v>
                </c:pt>
                <c:pt idx="313">
                  <c:v>27.901950911</c:v>
                </c:pt>
                <c:pt idx="314">
                  <c:v>29.069516935</c:v>
                </c:pt>
                <c:pt idx="315">
                  <c:v>29.904520808</c:v>
                </c:pt>
                <c:pt idx="316">
                  <c:v>30.021105791</c:v>
                </c:pt>
                <c:pt idx="317">
                  <c:v>30.130528429</c:v>
                </c:pt>
                <c:pt idx="318">
                  <c:v>23.863100421</c:v>
                </c:pt>
                <c:pt idx="319">
                  <c:v>29.981653177</c:v>
                </c:pt>
                <c:pt idx="320">
                  <c:v>16.336478357</c:v>
                </c:pt>
                <c:pt idx="321">
                  <c:v>30.007873511</c:v>
                </c:pt>
                <c:pt idx="322">
                  <c:v>11.261399985</c:v>
                </c:pt>
                <c:pt idx="323">
                  <c:v>30.018593593</c:v>
                </c:pt>
                <c:pt idx="324">
                  <c:v>28.682184748</c:v>
                </c:pt>
                <c:pt idx="325">
                  <c:v>29.94880069</c:v>
                </c:pt>
                <c:pt idx="326">
                  <c:v>30.063424394</c:v>
                </c:pt>
                <c:pt idx="327">
                  <c:v>27.23496762</c:v>
                </c:pt>
                <c:pt idx="328">
                  <c:v>26.433554546</c:v>
                </c:pt>
                <c:pt idx="329">
                  <c:v>30.17092288</c:v>
                </c:pt>
                <c:pt idx="330">
                  <c:v>29.899256504</c:v>
                </c:pt>
                <c:pt idx="331">
                  <c:v>28.601394395</c:v>
                </c:pt>
                <c:pt idx="332">
                  <c:v>30.01728297</c:v>
                </c:pt>
                <c:pt idx="333">
                  <c:v>27.052027613</c:v>
                </c:pt>
                <c:pt idx="334">
                  <c:v>30.142055819</c:v>
                </c:pt>
                <c:pt idx="335">
                  <c:v>30.366059195</c:v>
                </c:pt>
                <c:pt idx="336">
                  <c:v>28.18728379</c:v>
                </c:pt>
                <c:pt idx="337">
                  <c:v>30.051886975</c:v>
                </c:pt>
                <c:pt idx="338">
                  <c:v>12.430715015</c:v>
                </c:pt>
                <c:pt idx="339">
                  <c:v>29.882142098</c:v>
                </c:pt>
                <c:pt idx="340">
                  <c:v>27.998268128</c:v>
                </c:pt>
                <c:pt idx="341">
                  <c:v>29.880990819</c:v>
                </c:pt>
                <c:pt idx="342">
                  <c:v>30.051831269</c:v>
                </c:pt>
                <c:pt idx="343">
                  <c:v>27.845327133</c:v>
                </c:pt>
                <c:pt idx="344">
                  <c:v>26.632430883</c:v>
                </c:pt>
                <c:pt idx="345">
                  <c:v>29.922068819</c:v>
                </c:pt>
                <c:pt idx="346">
                  <c:v>30.152971503</c:v>
                </c:pt>
                <c:pt idx="347">
                  <c:v>27.886493677</c:v>
                </c:pt>
                <c:pt idx="348">
                  <c:v>29.89203289</c:v>
                </c:pt>
                <c:pt idx="349">
                  <c:v>27.632193271</c:v>
                </c:pt>
                <c:pt idx="350">
                  <c:v>30.237318387</c:v>
                </c:pt>
                <c:pt idx="351">
                  <c:v>16.192509039</c:v>
                </c:pt>
                <c:pt idx="352">
                  <c:v>30.008570505</c:v>
                </c:pt>
                <c:pt idx="353">
                  <c:v>30.024301786</c:v>
                </c:pt>
                <c:pt idx="354">
                  <c:v>10.605963023</c:v>
                </c:pt>
                <c:pt idx="355">
                  <c:v>29.848681082</c:v>
                </c:pt>
                <c:pt idx="356">
                  <c:v>29.694401188</c:v>
                </c:pt>
                <c:pt idx="357">
                  <c:v>11.84974274</c:v>
                </c:pt>
                <c:pt idx="358">
                  <c:v>30.167983524</c:v>
                </c:pt>
                <c:pt idx="359">
                  <c:v>29.405483256</c:v>
                </c:pt>
                <c:pt idx="360">
                  <c:v>30.216893253</c:v>
                </c:pt>
                <c:pt idx="361">
                  <c:v>29.963140227</c:v>
                </c:pt>
                <c:pt idx="362">
                  <c:v>30.005032118</c:v>
                </c:pt>
                <c:pt idx="363">
                  <c:v>25.83780645</c:v>
                </c:pt>
                <c:pt idx="364">
                  <c:v>28.036550409</c:v>
                </c:pt>
                <c:pt idx="365">
                  <c:v>29.493950188</c:v>
                </c:pt>
                <c:pt idx="366">
                  <c:v>30.110507038</c:v>
                </c:pt>
                <c:pt idx="367">
                  <c:v>30.001048626</c:v>
                </c:pt>
                <c:pt idx="368">
                  <c:v>30.05940201</c:v>
                </c:pt>
                <c:pt idx="369">
                  <c:v>23.408367969</c:v>
                </c:pt>
                <c:pt idx="370">
                  <c:v>30.038787343</c:v>
                </c:pt>
                <c:pt idx="371">
                  <c:v>29.071433873</c:v>
                </c:pt>
                <c:pt idx="372">
                  <c:v>29.9964682</c:v>
                </c:pt>
                <c:pt idx="373">
                  <c:v>12.143046486</c:v>
                </c:pt>
                <c:pt idx="374">
                  <c:v>29.874305207</c:v>
                </c:pt>
                <c:pt idx="375">
                  <c:v>29.201802774</c:v>
                </c:pt>
                <c:pt idx="376">
                  <c:v>30.033802318</c:v>
                </c:pt>
                <c:pt idx="377">
                  <c:v>30.213380042</c:v>
                </c:pt>
                <c:pt idx="378">
                  <c:v>26.710888466</c:v>
                </c:pt>
                <c:pt idx="379">
                  <c:v>26.437848503</c:v>
                </c:pt>
                <c:pt idx="380">
                  <c:v>29.986934014</c:v>
                </c:pt>
                <c:pt idx="381">
                  <c:v>29.908978857</c:v>
                </c:pt>
                <c:pt idx="382">
                  <c:v>28.886297007</c:v>
                </c:pt>
                <c:pt idx="383">
                  <c:v>30.095418788</c:v>
                </c:pt>
                <c:pt idx="384">
                  <c:v>16.506947298</c:v>
                </c:pt>
                <c:pt idx="385">
                  <c:v>30.095838703</c:v>
                </c:pt>
                <c:pt idx="386">
                  <c:v>25.726323574</c:v>
                </c:pt>
                <c:pt idx="387">
                  <c:v>30.007579672</c:v>
                </c:pt>
                <c:pt idx="388">
                  <c:v>30.108872708</c:v>
                </c:pt>
                <c:pt idx="389">
                  <c:v>11.546557185</c:v>
                </c:pt>
                <c:pt idx="390">
                  <c:v>29.885861263</c:v>
                </c:pt>
                <c:pt idx="391">
                  <c:v>28.46238288</c:v>
                </c:pt>
                <c:pt idx="392">
                  <c:v>29.866763508</c:v>
                </c:pt>
                <c:pt idx="393">
                  <c:v>30.084141333</c:v>
                </c:pt>
                <c:pt idx="394">
                  <c:v>27.410331031</c:v>
                </c:pt>
                <c:pt idx="395">
                  <c:v>26.608591337</c:v>
                </c:pt>
                <c:pt idx="396">
                  <c:v>30.102382241</c:v>
                </c:pt>
                <c:pt idx="397">
                  <c:v>29.988531869</c:v>
                </c:pt>
                <c:pt idx="398">
                  <c:v>27.893096205</c:v>
                </c:pt>
                <c:pt idx="399">
                  <c:v>30.063708537</c:v>
                </c:pt>
                <c:pt idx="400">
                  <c:v>27.485437858</c:v>
                </c:pt>
                <c:pt idx="401">
                  <c:v>30.140756084</c:v>
                </c:pt>
                <c:pt idx="402">
                  <c:v>30.055551456</c:v>
                </c:pt>
                <c:pt idx="403">
                  <c:v>27.914925662</c:v>
                </c:pt>
                <c:pt idx="404">
                  <c:v>29.90634124</c:v>
                </c:pt>
                <c:pt idx="405">
                  <c:v>11.548889198</c:v>
                </c:pt>
                <c:pt idx="406">
                  <c:v>29.744539944</c:v>
                </c:pt>
                <c:pt idx="407">
                  <c:v>29.58415349</c:v>
                </c:pt>
                <c:pt idx="408">
                  <c:v>11.856241367</c:v>
                </c:pt>
                <c:pt idx="409">
                  <c:v>30.048345553</c:v>
                </c:pt>
                <c:pt idx="410">
                  <c:v>29.350408356</c:v>
                </c:pt>
                <c:pt idx="411">
                  <c:v>29.874541391</c:v>
                </c:pt>
                <c:pt idx="412">
                  <c:v>30.057868501</c:v>
                </c:pt>
                <c:pt idx="413">
                  <c:v>30.087577719</c:v>
                </c:pt>
                <c:pt idx="414">
                  <c:v>26.081049629</c:v>
                </c:pt>
                <c:pt idx="415">
                  <c:v>28.046786095</c:v>
                </c:pt>
                <c:pt idx="416">
                  <c:v>16.369268505</c:v>
                </c:pt>
                <c:pt idx="417">
                  <c:v>30.084618562</c:v>
                </c:pt>
                <c:pt idx="418">
                  <c:v>29.315479639</c:v>
                </c:pt>
                <c:pt idx="419">
                  <c:v>29.919284618</c:v>
                </c:pt>
                <c:pt idx="420">
                  <c:v>30.057940409</c:v>
                </c:pt>
                <c:pt idx="421">
                  <c:v>26.96585002</c:v>
                </c:pt>
                <c:pt idx="422">
                  <c:v>26.287294974</c:v>
                </c:pt>
                <c:pt idx="423">
                  <c:v>30.019066952</c:v>
                </c:pt>
                <c:pt idx="424">
                  <c:v>11.164149779</c:v>
                </c:pt>
                <c:pt idx="425">
                  <c:v>29.864461633</c:v>
                </c:pt>
                <c:pt idx="426">
                  <c:v>29.201404043</c:v>
                </c:pt>
                <c:pt idx="427">
                  <c:v>30.00983736</c:v>
                </c:pt>
                <c:pt idx="428">
                  <c:v>30.201881532</c:v>
                </c:pt>
                <c:pt idx="429">
                  <c:v>26.753962692</c:v>
                </c:pt>
                <c:pt idx="430">
                  <c:v>26.523720601</c:v>
                </c:pt>
                <c:pt idx="431">
                  <c:v>30.070725693</c:v>
                </c:pt>
                <c:pt idx="432">
                  <c:v>29.867265814</c:v>
                </c:pt>
                <c:pt idx="433">
                  <c:v>28.326065092</c:v>
                </c:pt>
                <c:pt idx="434">
                  <c:v>30.184230491</c:v>
                </c:pt>
                <c:pt idx="435">
                  <c:v>27.175088607</c:v>
                </c:pt>
                <c:pt idx="436">
                  <c:v>30.040029818</c:v>
                </c:pt>
                <c:pt idx="437">
                  <c:v>30.179722637</c:v>
                </c:pt>
                <c:pt idx="438">
                  <c:v>28.784671173</c:v>
                </c:pt>
                <c:pt idx="439">
                  <c:v>29.837054559</c:v>
                </c:pt>
                <c:pt idx="440">
                  <c:v>12.402451139</c:v>
                </c:pt>
                <c:pt idx="441">
                  <c:v>29.89116174</c:v>
                </c:pt>
                <c:pt idx="442">
                  <c:v>28.417373833</c:v>
                </c:pt>
                <c:pt idx="443">
                  <c:v>29.951963457</c:v>
                </c:pt>
                <c:pt idx="444">
                  <c:v>30.127678211</c:v>
                </c:pt>
                <c:pt idx="445">
                  <c:v>27.32850614</c:v>
                </c:pt>
                <c:pt idx="446">
                  <c:v>26.546221946</c:v>
                </c:pt>
                <c:pt idx="447">
                  <c:v>30.002725003</c:v>
                </c:pt>
                <c:pt idx="448">
                  <c:v>16.617116622</c:v>
                </c:pt>
                <c:pt idx="449">
                  <c:v>29.916069983</c:v>
                </c:pt>
                <c:pt idx="450">
                  <c:v>29.881790309</c:v>
                </c:pt>
                <c:pt idx="451">
                  <c:v>27.85358653</c:v>
                </c:pt>
                <c:pt idx="452">
                  <c:v>30.20755979</c:v>
                </c:pt>
                <c:pt idx="453">
                  <c:v>28.454430318</c:v>
                </c:pt>
                <c:pt idx="454">
                  <c:v>29.690056724</c:v>
                </c:pt>
                <c:pt idx="455">
                  <c:v>29.34578454</c:v>
                </c:pt>
                <c:pt idx="456">
                  <c:v>10.484038867</c:v>
                </c:pt>
                <c:pt idx="457">
                  <c:v>29.666901418</c:v>
                </c:pt>
                <c:pt idx="458">
                  <c:v>29.5907918</c:v>
                </c:pt>
                <c:pt idx="459">
                  <c:v>11.881210937</c:v>
                </c:pt>
                <c:pt idx="460">
                  <c:v>29.999417203</c:v>
                </c:pt>
                <c:pt idx="461">
                  <c:v>29.431639217</c:v>
                </c:pt>
                <c:pt idx="462">
                  <c:v>30.044569675</c:v>
                </c:pt>
                <c:pt idx="463">
                  <c:v>29.926243418</c:v>
                </c:pt>
                <c:pt idx="464">
                  <c:v>30.015323524</c:v>
                </c:pt>
                <c:pt idx="465">
                  <c:v>26.087599365</c:v>
                </c:pt>
                <c:pt idx="466">
                  <c:v>27.915020242</c:v>
                </c:pt>
                <c:pt idx="467">
                  <c:v>29.18884874</c:v>
                </c:pt>
                <c:pt idx="468">
                  <c:v>29.926715651</c:v>
                </c:pt>
                <c:pt idx="469">
                  <c:v>30.295790006</c:v>
                </c:pt>
                <c:pt idx="470">
                  <c:v>30.079863157</c:v>
                </c:pt>
                <c:pt idx="471">
                  <c:v>23.618398838</c:v>
                </c:pt>
                <c:pt idx="472">
                  <c:v>30.032964164</c:v>
                </c:pt>
                <c:pt idx="473">
                  <c:v>29.078084577</c:v>
                </c:pt>
                <c:pt idx="474">
                  <c:v>29.960630576</c:v>
                </c:pt>
                <c:pt idx="475">
                  <c:v>12.145410837</c:v>
                </c:pt>
                <c:pt idx="476">
                  <c:v>29.904357104</c:v>
                </c:pt>
                <c:pt idx="477">
                  <c:v>29.185067136</c:v>
                </c:pt>
                <c:pt idx="478">
                  <c:v>30.022906369</c:v>
                </c:pt>
                <c:pt idx="479">
                  <c:v>30.164621082</c:v>
                </c:pt>
                <c:pt idx="480">
                  <c:v>17.288481091</c:v>
                </c:pt>
                <c:pt idx="481">
                  <c:v>30.167117945</c:v>
                </c:pt>
                <c:pt idx="482">
                  <c:v>30.18435739</c:v>
                </c:pt>
                <c:pt idx="483">
                  <c:v>25.190744836</c:v>
                </c:pt>
                <c:pt idx="484">
                  <c:v>29.987000215</c:v>
                </c:pt>
                <c:pt idx="485">
                  <c:v>28.636351135</c:v>
                </c:pt>
                <c:pt idx="486">
                  <c:v>29.99386167</c:v>
                </c:pt>
                <c:pt idx="487">
                  <c:v>30.033493613</c:v>
                </c:pt>
                <c:pt idx="488">
                  <c:v>27.175655808</c:v>
                </c:pt>
                <c:pt idx="489">
                  <c:v>26.487512341</c:v>
                </c:pt>
                <c:pt idx="490">
                  <c:v>30.101368978</c:v>
                </c:pt>
                <c:pt idx="491">
                  <c:v>11.213084236</c:v>
                </c:pt>
                <c:pt idx="492">
                  <c:v>29.899503755</c:v>
                </c:pt>
                <c:pt idx="493">
                  <c:v>28.0288465</c:v>
                </c:pt>
                <c:pt idx="494">
                  <c:v>30.011109699</c:v>
                </c:pt>
                <c:pt idx="495">
                  <c:v>30.088678321</c:v>
                </c:pt>
                <c:pt idx="496">
                  <c:v>27.686059801</c:v>
                </c:pt>
                <c:pt idx="497">
                  <c:v>26.537068859</c:v>
                </c:pt>
                <c:pt idx="498">
                  <c:v>30.014783959</c:v>
                </c:pt>
                <c:pt idx="499">
                  <c:v>30.171692676</c:v>
                </c:pt>
                <c:pt idx="500">
                  <c:v>27.869107747</c:v>
                </c:pt>
                <c:pt idx="501">
                  <c:v>30.0537218</c:v>
                </c:pt>
                <c:pt idx="502">
                  <c:v>27.50804135</c:v>
                </c:pt>
                <c:pt idx="503">
                  <c:v>30.239054022</c:v>
                </c:pt>
                <c:pt idx="504">
                  <c:v>30.107032948</c:v>
                </c:pt>
                <c:pt idx="505">
                  <c:v>27.894348654</c:v>
                </c:pt>
                <c:pt idx="506">
                  <c:v>29.942313041</c:v>
                </c:pt>
                <c:pt idx="507">
                  <c:v>11.525777896</c:v>
                </c:pt>
                <c:pt idx="508">
                  <c:v>29.706586513</c:v>
                </c:pt>
                <c:pt idx="509">
                  <c:v>29.7127445</c:v>
                </c:pt>
                <c:pt idx="510">
                  <c:v>11.899450565</c:v>
                </c:pt>
                <c:pt idx="511">
                  <c:v>30.022341423</c:v>
                </c:pt>
                <c:pt idx="512">
                  <c:v>16.24709977</c:v>
                </c:pt>
                <c:pt idx="513">
                  <c:v>30.200616559</c:v>
                </c:pt>
                <c:pt idx="514">
                  <c:v>30.244815433</c:v>
                </c:pt>
                <c:pt idx="515">
                  <c:v>29.892960988</c:v>
                </c:pt>
                <c:pt idx="516">
                  <c:v>30.137916581</c:v>
                </c:pt>
                <c:pt idx="517">
                  <c:v>30.086590668</c:v>
                </c:pt>
                <c:pt idx="518">
                  <c:v>24.248156379</c:v>
                </c:pt>
                <c:pt idx="519">
                  <c:v>29.976340229</c:v>
                </c:pt>
                <c:pt idx="520">
                  <c:v>29.092545299</c:v>
                </c:pt>
                <c:pt idx="521">
                  <c:v>30.019751913</c:v>
                </c:pt>
                <c:pt idx="522">
                  <c:v>30.092405835</c:v>
                </c:pt>
                <c:pt idx="523">
                  <c:v>26.821609673</c:v>
                </c:pt>
                <c:pt idx="524">
                  <c:v>26.29679389</c:v>
                </c:pt>
                <c:pt idx="525">
                  <c:v>29.989326387</c:v>
                </c:pt>
                <c:pt idx="526">
                  <c:v>11.16855598</c:v>
                </c:pt>
                <c:pt idx="527">
                  <c:v>30.016913649</c:v>
                </c:pt>
                <c:pt idx="528">
                  <c:v>29.050740963</c:v>
                </c:pt>
                <c:pt idx="529">
                  <c:v>30.183799042</c:v>
                </c:pt>
                <c:pt idx="530">
                  <c:v>30.190752678</c:v>
                </c:pt>
                <c:pt idx="531">
                  <c:v>26.62735116</c:v>
                </c:pt>
                <c:pt idx="532">
                  <c:v>26.501247586</c:v>
                </c:pt>
                <c:pt idx="533">
                  <c:v>30.127248377</c:v>
                </c:pt>
                <c:pt idx="534">
                  <c:v>30.120203014</c:v>
                </c:pt>
                <c:pt idx="535">
                  <c:v>28.362219412</c:v>
                </c:pt>
                <c:pt idx="536">
                  <c:v>30.19920652</c:v>
                </c:pt>
                <c:pt idx="537">
                  <c:v>26.897720593</c:v>
                </c:pt>
                <c:pt idx="538">
                  <c:v>30.162951909</c:v>
                </c:pt>
                <c:pt idx="539">
                  <c:v>30.004801033</c:v>
                </c:pt>
                <c:pt idx="540">
                  <c:v>28.623416152</c:v>
                </c:pt>
                <c:pt idx="541">
                  <c:v>29.924147955</c:v>
                </c:pt>
                <c:pt idx="542">
                  <c:v>12.427119062</c:v>
                </c:pt>
                <c:pt idx="543">
                  <c:v>29.855944059</c:v>
                </c:pt>
                <c:pt idx="544">
                  <c:v>16.484309342</c:v>
                </c:pt>
                <c:pt idx="545">
                  <c:v>30.220687132</c:v>
                </c:pt>
                <c:pt idx="546">
                  <c:v>29.902606301</c:v>
                </c:pt>
                <c:pt idx="547">
                  <c:v>28.250503289</c:v>
                </c:pt>
                <c:pt idx="548">
                  <c:v>30.040089071</c:v>
                </c:pt>
                <c:pt idx="549">
                  <c:v>27.528953867</c:v>
                </c:pt>
                <c:pt idx="550">
                  <c:v>30.069811712</c:v>
                </c:pt>
                <c:pt idx="551">
                  <c:v>30.100319728</c:v>
                </c:pt>
                <c:pt idx="552">
                  <c:v>28.564236868</c:v>
                </c:pt>
                <c:pt idx="553">
                  <c:v>30.008287403</c:v>
                </c:pt>
                <c:pt idx="554">
                  <c:v>29.956980276</c:v>
                </c:pt>
                <c:pt idx="555">
                  <c:v>27.713408861</c:v>
                </c:pt>
                <c:pt idx="556">
                  <c:v>26.515283859</c:v>
                </c:pt>
                <c:pt idx="557">
                  <c:v>29.301987216</c:v>
                </c:pt>
                <c:pt idx="558">
                  <c:v>10.485746783</c:v>
                </c:pt>
                <c:pt idx="559">
                  <c:v>29.800073389</c:v>
                </c:pt>
                <c:pt idx="560">
                  <c:v>29.59779935</c:v>
                </c:pt>
                <c:pt idx="561">
                  <c:v>11.858454488</c:v>
                </c:pt>
                <c:pt idx="562">
                  <c:v>30.029843481</c:v>
                </c:pt>
                <c:pt idx="563">
                  <c:v>29.419932252</c:v>
                </c:pt>
                <c:pt idx="564">
                  <c:v>29.998473531</c:v>
                </c:pt>
                <c:pt idx="565">
                  <c:v>29.968891682</c:v>
                </c:pt>
                <c:pt idx="566">
                  <c:v>29.829204117</c:v>
                </c:pt>
                <c:pt idx="567">
                  <c:v>26.216804609</c:v>
                </c:pt>
                <c:pt idx="568">
                  <c:v>27.915561381</c:v>
                </c:pt>
                <c:pt idx="569">
                  <c:v>29.070416519</c:v>
                </c:pt>
                <c:pt idx="570">
                  <c:v>29.867931441</c:v>
                </c:pt>
                <c:pt idx="571">
                  <c:v>29.873156308</c:v>
                </c:pt>
                <c:pt idx="572">
                  <c:v>30.141330918</c:v>
                </c:pt>
                <c:pt idx="573">
                  <c:v>23.951027929</c:v>
                </c:pt>
                <c:pt idx="574">
                  <c:v>30.017180778</c:v>
                </c:pt>
                <c:pt idx="575">
                  <c:v>29.093963362</c:v>
                </c:pt>
                <c:pt idx="576">
                  <c:v>16.323650888</c:v>
                </c:pt>
                <c:pt idx="577">
                  <c:v>11.393236147</c:v>
                </c:pt>
                <c:pt idx="578">
                  <c:v>29.887195981</c:v>
                </c:pt>
                <c:pt idx="579">
                  <c:v>28.73593317</c:v>
                </c:pt>
                <c:pt idx="580">
                  <c:v>29.884539103</c:v>
                </c:pt>
                <c:pt idx="581">
                  <c:v>29.89501652</c:v>
                </c:pt>
                <c:pt idx="582">
                  <c:v>27.515146745</c:v>
                </c:pt>
                <c:pt idx="583">
                  <c:v>26.422834088</c:v>
                </c:pt>
                <c:pt idx="584">
                  <c:v>29.991046197</c:v>
                </c:pt>
                <c:pt idx="585">
                  <c:v>29.917457267</c:v>
                </c:pt>
                <c:pt idx="586">
                  <c:v>28.794480523</c:v>
                </c:pt>
                <c:pt idx="587">
                  <c:v>30.011912583</c:v>
                </c:pt>
                <c:pt idx="588">
                  <c:v>27.074203617</c:v>
                </c:pt>
                <c:pt idx="589">
                  <c:v>30.088300036</c:v>
                </c:pt>
                <c:pt idx="590">
                  <c:v>30.066577242</c:v>
                </c:pt>
                <c:pt idx="591">
                  <c:v>28.802962718</c:v>
                </c:pt>
                <c:pt idx="592">
                  <c:v>29.875061718</c:v>
                </c:pt>
                <c:pt idx="593">
                  <c:v>12.405020781</c:v>
                </c:pt>
                <c:pt idx="594">
                  <c:v>30.036963318</c:v>
                </c:pt>
                <c:pt idx="595">
                  <c:v>28.261083345</c:v>
                </c:pt>
                <c:pt idx="596">
                  <c:v>29.894459934</c:v>
                </c:pt>
                <c:pt idx="597">
                  <c:v>29.991042617</c:v>
                </c:pt>
                <c:pt idx="598">
                  <c:v>27.445231718</c:v>
                </c:pt>
                <c:pt idx="599">
                  <c:v>26.637573254</c:v>
                </c:pt>
                <c:pt idx="600">
                  <c:v>30.09271395</c:v>
                </c:pt>
                <c:pt idx="601">
                  <c:v>30.012715509</c:v>
                </c:pt>
                <c:pt idx="602">
                  <c:v>28.030781852</c:v>
                </c:pt>
                <c:pt idx="603">
                  <c:v>29.861523133</c:v>
                </c:pt>
                <c:pt idx="604">
                  <c:v>27.504906987</c:v>
                </c:pt>
                <c:pt idx="605">
                  <c:v>30.099075866</c:v>
                </c:pt>
                <c:pt idx="606">
                  <c:v>30.388843623</c:v>
                </c:pt>
                <c:pt idx="607">
                  <c:v>27.774372457</c:v>
                </c:pt>
                <c:pt idx="608">
                  <c:v>16.293225892</c:v>
                </c:pt>
                <c:pt idx="609">
                  <c:v>10.846256458</c:v>
                </c:pt>
                <c:pt idx="610">
                  <c:v>29.712008022</c:v>
                </c:pt>
                <c:pt idx="611">
                  <c:v>29.596349413</c:v>
                </c:pt>
                <c:pt idx="612">
                  <c:v>11.86982489</c:v>
                </c:pt>
                <c:pt idx="613">
                  <c:v>30.07061594</c:v>
                </c:pt>
                <c:pt idx="614">
                  <c:v>29.544281377</c:v>
                </c:pt>
                <c:pt idx="615">
                  <c:v>29.983164609</c:v>
                </c:pt>
                <c:pt idx="616">
                  <c:v>29.982075289</c:v>
                </c:pt>
                <c:pt idx="617">
                  <c:v>30.03040512</c:v>
                </c:pt>
                <c:pt idx="618">
                  <c:v>25.950985997</c:v>
                </c:pt>
                <c:pt idx="619">
                  <c:v>28.051028381</c:v>
                </c:pt>
                <c:pt idx="620">
                  <c:v>29.05680765</c:v>
                </c:pt>
                <c:pt idx="621">
                  <c:v>30.153071003</c:v>
                </c:pt>
                <c:pt idx="622">
                  <c:v>30.063566465</c:v>
                </c:pt>
                <c:pt idx="623">
                  <c:v>30.193828893</c:v>
                </c:pt>
                <c:pt idx="624">
                  <c:v>23.533024497</c:v>
                </c:pt>
                <c:pt idx="625">
                  <c:v>30.011459163</c:v>
                </c:pt>
                <c:pt idx="626">
                  <c:v>28.635326478</c:v>
                </c:pt>
                <c:pt idx="627">
                  <c:v>29.85946156</c:v>
                </c:pt>
                <c:pt idx="628">
                  <c:v>12.248223439</c:v>
                </c:pt>
                <c:pt idx="629">
                  <c:v>29.996643656</c:v>
                </c:pt>
                <c:pt idx="630">
                  <c:v>28.736077759</c:v>
                </c:pt>
                <c:pt idx="631">
                  <c:v>30.100876795</c:v>
                </c:pt>
                <c:pt idx="632">
                  <c:v>29.984781741</c:v>
                </c:pt>
                <c:pt idx="633">
                  <c:v>27.159414723</c:v>
                </c:pt>
                <c:pt idx="634">
                  <c:v>26.406039897</c:v>
                </c:pt>
                <c:pt idx="635">
                  <c:v>30.189662731</c:v>
                </c:pt>
                <c:pt idx="636">
                  <c:v>29.884304538</c:v>
                </c:pt>
                <c:pt idx="637">
                  <c:v>28.324455903</c:v>
                </c:pt>
                <c:pt idx="638">
                  <c:v>30.160924529</c:v>
                </c:pt>
                <c:pt idx="639">
                  <c:v>27.22053374</c:v>
                </c:pt>
                <c:pt idx="640">
                  <c:v>16.364195997</c:v>
                </c:pt>
                <c:pt idx="641">
                  <c:v>28.581776225</c:v>
                </c:pt>
                <c:pt idx="642">
                  <c:v>29.915375499</c:v>
                </c:pt>
                <c:pt idx="643">
                  <c:v>29.983722714</c:v>
                </c:pt>
                <c:pt idx="644">
                  <c:v>11.659883021</c:v>
                </c:pt>
                <c:pt idx="645">
                  <c:v>30.051382034</c:v>
                </c:pt>
                <c:pt idx="646">
                  <c:v>28.167773153</c:v>
                </c:pt>
                <c:pt idx="647">
                  <c:v>29.893746893</c:v>
                </c:pt>
                <c:pt idx="648">
                  <c:v>30.013928941</c:v>
                </c:pt>
                <c:pt idx="649">
                  <c:v>27.562264861</c:v>
                </c:pt>
                <c:pt idx="650">
                  <c:v>26.609809985</c:v>
                </c:pt>
                <c:pt idx="651">
                  <c:v>30.24890216</c:v>
                </c:pt>
                <c:pt idx="652">
                  <c:v>30.044637927</c:v>
                </c:pt>
                <c:pt idx="653">
                  <c:v>27.879020467</c:v>
                </c:pt>
                <c:pt idx="654">
                  <c:v>30.192726027</c:v>
                </c:pt>
                <c:pt idx="655">
                  <c:v>27.222248483</c:v>
                </c:pt>
                <c:pt idx="656">
                  <c:v>30.094843901</c:v>
                </c:pt>
                <c:pt idx="657">
                  <c:v>30.100678484</c:v>
                </c:pt>
                <c:pt idx="658">
                  <c:v>27.919447651</c:v>
                </c:pt>
                <c:pt idx="659">
                  <c:v>29.870217872</c:v>
                </c:pt>
                <c:pt idx="660">
                  <c:v>11.552269091</c:v>
                </c:pt>
                <c:pt idx="661">
                  <c:v>29.597264746</c:v>
                </c:pt>
                <c:pt idx="662">
                  <c:v>29.613466725</c:v>
                </c:pt>
                <c:pt idx="663">
                  <c:v>11.878567325</c:v>
                </c:pt>
                <c:pt idx="664">
                  <c:v>30.059019068</c:v>
                </c:pt>
                <c:pt idx="665">
                  <c:v>29.371080806</c:v>
                </c:pt>
                <c:pt idx="666">
                  <c:v>30.007497255</c:v>
                </c:pt>
                <c:pt idx="667">
                  <c:v>30.28392942</c:v>
                </c:pt>
                <c:pt idx="668">
                  <c:v>30.010145579</c:v>
                </c:pt>
                <c:pt idx="669">
                  <c:v>25.843388022</c:v>
                </c:pt>
                <c:pt idx="670">
                  <c:v>28.050959492</c:v>
                </c:pt>
                <c:pt idx="671">
                  <c:v>29.408833456</c:v>
                </c:pt>
                <c:pt idx="672">
                  <c:v>30.014041865</c:v>
                </c:pt>
                <c:pt idx="673">
                  <c:v>16.671383263</c:v>
                </c:pt>
                <c:pt idx="674">
                  <c:v>30.059761589</c:v>
                </c:pt>
                <c:pt idx="675">
                  <c:v>30.027952365</c:v>
                </c:pt>
                <c:pt idx="676">
                  <c:v>26.07137996</c:v>
                </c:pt>
                <c:pt idx="677">
                  <c:v>26.272578755</c:v>
                </c:pt>
                <c:pt idx="678">
                  <c:v>30.043730919</c:v>
                </c:pt>
                <c:pt idx="679">
                  <c:v>11.18063179</c:v>
                </c:pt>
                <c:pt idx="680">
                  <c:v>29.912913011</c:v>
                </c:pt>
                <c:pt idx="681">
                  <c:v>28.727623411</c:v>
                </c:pt>
                <c:pt idx="682">
                  <c:v>29.996414489</c:v>
                </c:pt>
                <c:pt idx="683">
                  <c:v>30.05422682</c:v>
                </c:pt>
                <c:pt idx="684">
                  <c:v>27.15712089</c:v>
                </c:pt>
                <c:pt idx="685">
                  <c:v>26.421679732</c:v>
                </c:pt>
                <c:pt idx="686">
                  <c:v>30.043100536</c:v>
                </c:pt>
                <c:pt idx="687">
                  <c:v>29.872458488</c:v>
                </c:pt>
                <c:pt idx="688">
                  <c:v>28.869395245</c:v>
                </c:pt>
                <c:pt idx="689">
                  <c:v>30.035503898</c:v>
                </c:pt>
                <c:pt idx="690">
                  <c:v>26.954424657</c:v>
                </c:pt>
                <c:pt idx="691">
                  <c:v>29.994001294</c:v>
                </c:pt>
                <c:pt idx="692">
                  <c:v>30.165743623</c:v>
                </c:pt>
                <c:pt idx="693">
                  <c:v>28.82074698</c:v>
                </c:pt>
                <c:pt idx="694">
                  <c:v>29.867736187</c:v>
                </c:pt>
                <c:pt idx="695">
                  <c:v>12.395079966</c:v>
                </c:pt>
                <c:pt idx="696">
                  <c:v>30.096054972</c:v>
                </c:pt>
                <c:pt idx="697">
                  <c:v>28.161114129</c:v>
                </c:pt>
                <c:pt idx="698">
                  <c:v>29.839683512</c:v>
                </c:pt>
                <c:pt idx="699">
                  <c:v>30.151705196</c:v>
                </c:pt>
                <c:pt idx="700">
                  <c:v>27.453892796</c:v>
                </c:pt>
                <c:pt idx="701">
                  <c:v>26.555109141</c:v>
                </c:pt>
                <c:pt idx="702">
                  <c:v>29.833166896</c:v>
                </c:pt>
                <c:pt idx="703">
                  <c:v>30.034008723</c:v>
                </c:pt>
                <c:pt idx="704">
                  <c:v>15.725422718</c:v>
                </c:pt>
                <c:pt idx="705">
                  <c:v>30.022054475</c:v>
                </c:pt>
                <c:pt idx="706">
                  <c:v>30.018749585</c:v>
                </c:pt>
                <c:pt idx="707">
                  <c:v>24.658055706</c:v>
                </c:pt>
                <c:pt idx="708">
                  <c:v>30.049114497</c:v>
                </c:pt>
                <c:pt idx="709">
                  <c:v>27.427279312</c:v>
                </c:pt>
                <c:pt idx="710">
                  <c:v>29.889558245</c:v>
                </c:pt>
                <c:pt idx="711">
                  <c:v>11.504475954</c:v>
                </c:pt>
                <c:pt idx="712">
                  <c:v>29.849904334</c:v>
                </c:pt>
                <c:pt idx="713">
                  <c:v>29.635240811</c:v>
                </c:pt>
                <c:pt idx="714">
                  <c:v>11.855636127</c:v>
                </c:pt>
                <c:pt idx="715">
                  <c:v>29.994575915</c:v>
                </c:pt>
                <c:pt idx="716">
                  <c:v>29.456795448</c:v>
                </c:pt>
                <c:pt idx="717">
                  <c:v>29.848798085</c:v>
                </c:pt>
                <c:pt idx="718">
                  <c:v>29.906305648</c:v>
                </c:pt>
                <c:pt idx="719">
                  <c:v>30.060058249</c:v>
                </c:pt>
                <c:pt idx="720">
                  <c:v>26.195547514</c:v>
                </c:pt>
                <c:pt idx="721">
                  <c:v>28.047571838</c:v>
                </c:pt>
                <c:pt idx="722">
                  <c:v>29.423063534</c:v>
                </c:pt>
                <c:pt idx="723">
                  <c:v>30.106042817</c:v>
                </c:pt>
                <c:pt idx="724">
                  <c:v>30.041322675</c:v>
                </c:pt>
                <c:pt idx="725">
                  <c:v>30.082072316</c:v>
                </c:pt>
                <c:pt idx="726">
                  <c:v>23.414132648</c:v>
                </c:pt>
                <c:pt idx="727">
                  <c:v>30.032942627</c:v>
                </c:pt>
                <c:pt idx="728">
                  <c:v>29.160074907</c:v>
                </c:pt>
                <c:pt idx="729">
                  <c:v>29.946081102</c:v>
                </c:pt>
                <c:pt idx="730">
                  <c:v>12.135913822</c:v>
                </c:pt>
                <c:pt idx="731">
                  <c:v>29.886417529</c:v>
                </c:pt>
                <c:pt idx="732">
                  <c:v>28.833773291</c:v>
                </c:pt>
                <c:pt idx="733">
                  <c:v>29.938265929</c:v>
                </c:pt>
                <c:pt idx="734">
                  <c:v>30.020047784</c:v>
                </c:pt>
                <c:pt idx="735">
                  <c:v>27.253953345</c:v>
                </c:pt>
                <c:pt idx="736">
                  <c:v>26.436603835</c:v>
                </c:pt>
                <c:pt idx="737">
                  <c:v>16.27454526</c:v>
                </c:pt>
                <c:pt idx="738">
                  <c:v>28.885056827</c:v>
                </c:pt>
                <c:pt idx="739">
                  <c:v>30.014020356</c:v>
                </c:pt>
                <c:pt idx="740">
                  <c:v>29.885223271</c:v>
                </c:pt>
                <c:pt idx="741">
                  <c:v>30.100408064</c:v>
                </c:pt>
                <c:pt idx="742">
                  <c:v>24.118870113</c:v>
                </c:pt>
                <c:pt idx="743">
                  <c:v>29.837077587</c:v>
                </c:pt>
                <c:pt idx="744">
                  <c:v>28.469517377</c:v>
                </c:pt>
                <c:pt idx="745">
                  <c:v>29.872492224</c:v>
                </c:pt>
                <c:pt idx="746">
                  <c:v>12.37605454</c:v>
                </c:pt>
                <c:pt idx="747">
                  <c:v>30.054199861</c:v>
                </c:pt>
                <c:pt idx="748">
                  <c:v>28.180444883</c:v>
                </c:pt>
                <c:pt idx="749">
                  <c:v>29.841986883</c:v>
                </c:pt>
                <c:pt idx="750">
                  <c:v>30.153163267</c:v>
                </c:pt>
                <c:pt idx="751">
                  <c:v>27.478017277</c:v>
                </c:pt>
                <c:pt idx="752">
                  <c:v>26.656677959</c:v>
                </c:pt>
                <c:pt idx="753">
                  <c:v>29.963129509</c:v>
                </c:pt>
                <c:pt idx="754">
                  <c:v>30.086855436</c:v>
                </c:pt>
                <c:pt idx="755">
                  <c:v>27.977684924</c:v>
                </c:pt>
                <c:pt idx="756">
                  <c:v>30.088784603</c:v>
                </c:pt>
                <c:pt idx="757">
                  <c:v>27.366497485</c:v>
                </c:pt>
                <c:pt idx="758">
                  <c:v>30.147722452</c:v>
                </c:pt>
                <c:pt idx="759">
                  <c:v>29.874939182</c:v>
                </c:pt>
                <c:pt idx="760">
                  <c:v>28.197628271</c:v>
                </c:pt>
                <c:pt idx="761">
                  <c:v>29.905027944</c:v>
                </c:pt>
                <c:pt idx="762">
                  <c:v>11.514328915</c:v>
                </c:pt>
                <c:pt idx="763">
                  <c:v>29.786703297</c:v>
                </c:pt>
                <c:pt idx="764">
                  <c:v>29.645420061</c:v>
                </c:pt>
                <c:pt idx="765">
                  <c:v>11.859340976</c:v>
                </c:pt>
                <c:pt idx="766">
                  <c:v>30.037868122</c:v>
                </c:pt>
                <c:pt idx="767">
                  <c:v>29.35329341</c:v>
                </c:pt>
                <c:pt idx="768">
                  <c:v>30.048275488</c:v>
                </c:pt>
                <c:pt idx="769">
                  <c:v>16.610645244</c:v>
                </c:pt>
                <c:pt idx="770">
                  <c:v>30.158683866</c:v>
                </c:pt>
                <c:pt idx="771">
                  <c:v>30.020454839</c:v>
                </c:pt>
                <c:pt idx="772">
                  <c:v>30.077510319</c:v>
                </c:pt>
                <c:pt idx="773">
                  <c:v>24.132839697</c:v>
                </c:pt>
                <c:pt idx="774">
                  <c:v>30.022368325</c:v>
                </c:pt>
                <c:pt idx="775">
                  <c:v>29.357305656</c:v>
                </c:pt>
                <c:pt idx="776">
                  <c:v>29.923690057</c:v>
                </c:pt>
                <c:pt idx="777">
                  <c:v>30.043540544</c:v>
                </c:pt>
                <c:pt idx="778">
                  <c:v>26.684930215</c:v>
                </c:pt>
                <c:pt idx="779">
                  <c:v>26.239600379</c:v>
                </c:pt>
                <c:pt idx="780">
                  <c:v>30.278981281</c:v>
                </c:pt>
                <c:pt idx="781">
                  <c:v>11.157067453</c:v>
                </c:pt>
                <c:pt idx="782">
                  <c:v>29.875962122</c:v>
                </c:pt>
                <c:pt idx="783">
                  <c:v>29.09425137</c:v>
                </c:pt>
                <c:pt idx="784">
                  <c:v>30.002470668</c:v>
                </c:pt>
                <c:pt idx="785">
                  <c:v>30.163953029</c:v>
                </c:pt>
                <c:pt idx="786">
                  <c:v>26.770007524</c:v>
                </c:pt>
                <c:pt idx="787">
                  <c:v>26.496125583</c:v>
                </c:pt>
                <c:pt idx="788">
                  <c:v>30.102991674</c:v>
                </c:pt>
                <c:pt idx="789">
                  <c:v>29.974625681</c:v>
                </c:pt>
                <c:pt idx="790">
                  <c:v>28.683314256</c:v>
                </c:pt>
                <c:pt idx="791">
                  <c:v>30.024047086</c:v>
                </c:pt>
                <c:pt idx="792">
                  <c:v>26.941560305</c:v>
                </c:pt>
                <c:pt idx="793">
                  <c:v>30.096692987</c:v>
                </c:pt>
                <c:pt idx="794">
                  <c:v>30.0485827</c:v>
                </c:pt>
                <c:pt idx="795">
                  <c:v>28.63642456</c:v>
                </c:pt>
                <c:pt idx="796">
                  <c:v>29.898320901</c:v>
                </c:pt>
                <c:pt idx="797">
                  <c:v>12.428750031</c:v>
                </c:pt>
                <c:pt idx="798">
                  <c:v>30.059819123</c:v>
                </c:pt>
                <c:pt idx="799">
                  <c:v>28.286703665</c:v>
                </c:pt>
                <c:pt idx="800">
                  <c:v>29.891241741</c:v>
                </c:pt>
                <c:pt idx="801">
                  <c:v>16.58012163</c:v>
                </c:pt>
                <c:pt idx="802">
                  <c:v>29.364492719</c:v>
                </c:pt>
                <c:pt idx="803">
                  <c:v>25.660303194</c:v>
                </c:pt>
                <c:pt idx="804">
                  <c:v>28.286023866</c:v>
                </c:pt>
                <c:pt idx="805">
                  <c:v>28.008616359</c:v>
                </c:pt>
                <c:pt idx="806">
                  <c:v>29.981375949</c:v>
                </c:pt>
                <c:pt idx="807">
                  <c:v>29.923351542</c:v>
                </c:pt>
                <c:pt idx="808">
                  <c:v>30.182136809</c:v>
                </c:pt>
                <c:pt idx="809">
                  <c:v>24.55411829</c:v>
                </c:pt>
                <c:pt idx="810">
                  <c:v>30.044817539</c:v>
                </c:pt>
                <c:pt idx="811">
                  <c:v>27.392681038</c:v>
                </c:pt>
                <c:pt idx="812">
                  <c:v>29.905659664</c:v>
                </c:pt>
                <c:pt idx="813">
                  <c:v>11.525305301</c:v>
                </c:pt>
                <c:pt idx="814">
                  <c:v>29.715198275</c:v>
                </c:pt>
                <c:pt idx="815">
                  <c:v>29.650706165</c:v>
                </c:pt>
                <c:pt idx="816">
                  <c:v>11.85871863</c:v>
                </c:pt>
                <c:pt idx="817">
                  <c:v>29.996011666</c:v>
                </c:pt>
                <c:pt idx="818">
                  <c:v>29.577844588</c:v>
                </c:pt>
                <c:pt idx="819">
                  <c:v>29.99636615</c:v>
                </c:pt>
                <c:pt idx="820">
                  <c:v>29.986837396</c:v>
                </c:pt>
                <c:pt idx="821">
                  <c:v>29.863375599</c:v>
                </c:pt>
                <c:pt idx="822">
                  <c:v>26.070916072</c:v>
                </c:pt>
                <c:pt idx="823">
                  <c:v>28.045904925</c:v>
                </c:pt>
                <c:pt idx="824">
                  <c:v>29.419041905</c:v>
                </c:pt>
                <c:pt idx="825">
                  <c:v>30.143375553</c:v>
                </c:pt>
                <c:pt idx="826">
                  <c:v>30.09181665</c:v>
                </c:pt>
                <c:pt idx="827">
                  <c:v>30.143872742</c:v>
                </c:pt>
                <c:pt idx="828">
                  <c:v>23.332218963</c:v>
                </c:pt>
                <c:pt idx="829">
                  <c:v>29.991250225</c:v>
                </c:pt>
                <c:pt idx="830">
                  <c:v>29.111569286</c:v>
                </c:pt>
                <c:pt idx="831">
                  <c:v>29.8537538</c:v>
                </c:pt>
                <c:pt idx="832">
                  <c:v>12.160563101</c:v>
                </c:pt>
                <c:pt idx="833">
                  <c:v>16.342015114</c:v>
                </c:pt>
                <c:pt idx="834">
                  <c:v>29.977350456</c:v>
                </c:pt>
                <c:pt idx="835">
                  <c:v>29.896631271</c:v>
                </c:pt>
                <c:pt idx="836">
                  <c:v>30.019185293</c:v>
                </c:pt>
                <c:pt idx="837">
                  <c:v>29.548957537</c:v>
                </c:pt>
                <c:pt idx="838">
                  <c:v>30.028695147</c:v>
                </c:pt>
                <c:pt idx="839">
                  <c:v>27.080107503</c:v>
                </c:pt>
                <c:pt idx="840">
                  <c:v>29.970553744</c:v>
                </c:pt>
                <c:pt idx="841">
                  <c:v>30.085700937</c:v>
                </c:pt>
                <c:pt idx="842">
                  <c:v>29.190791621</c:v>
                </c:pt>
                <c:pt idx="843">
                  <c:v>29.91176114</c:v>
                </c:pt>
                <c:pt idx="844">
                  <c:v>29.962582888</c:v>
                </c:pt>
                <c:pt idx="845">
                  <c:v>27.315469388</c:v>
                </c:pt>
                <c:pt idx="846">
                  <c:v>26.496451063</c:v>
                </c:pt>
                <c:pt idx="847">
                  <c:v>29.911659666</c:v>
                </c:pt>
                <c:pt idx="848">
                  <c:v>11.24041407</c:v>
                </c:pt>
                <c:pt idx="849">
                  <c:v>30.009677878</c:v>
                </c:pt>
                <c:pt idx="850">
                  <c:v>28.235574433</c:v>
                </c:pt>
                <c:pt idx="851">
                  <c:v>29.853101218</c:v>
                </c:pt>
                <c:pt idx="852">
                  <c:v>30.024154705</c:v>
                </c:pt>
                <c:pt idx="853">
                  <c:v>27.566644578</c:v>
                </c:pt>
                <c:pt idx="854">
                  <c:v>26.503673754</c:v>
                </c:pt>
                <c:pt idx="855">
                  <c:v>30.193992153</c:v>
                </c:pt>
                <c:pt idx="856">
                  <c:v>30.059491904</c:v>
                </c:pt>
                <c:pt idx="857">
                  <c:v>27.851990442</c:v>
                </c:pt>
                <c:pt idx="858">
                  <c:v>29.997401003</c:v>
                </c:pt>
                <c:pt idx="859">
                  <c:v>27.556630877</c:v>
                </c:pt>
                <c:pt idx="860">
                  <c:v>30.167541674</c:v>
                </c:pt>
                <c:pt idx="861">
                  <c:v>29.851010666</c:v>
                </c:pt>
                <c:pt idx="862">
                  <c:v>28.090496089</c:v>
                </c:pt>
                <c:pt idx="863">
                  <c:v>29.850734075</c:v>
                </c:pt>
                <c:pt idx="864">
                  <c:v>11.553510633</c:v>
                </c:pt>
                <c:pt idx="865">
                  <c:v>16.245424456</c:v>
                </c:pt>
                <c:pt idx="866">
                  <c:v>29.639914448</c:v>
                </c:pt>
                <c:pt idx="867">
                  <c:v>11.183347607</c:v>
                </c:pt>
                <c:pt idx="868">
                  <c:v>30.028513934</c:v>
                </c:pt>
                <c:pt idx="869">
                  <c:v>29.233166928</c:v>
                </c:pt>
                <c:pt idx="870">
                  <c:v>29.940638056</c:v>
                </c:pt>
                <c:pt idx="871">
                  <c:v>30.008075976</c:v>
                </c:pt>
                <c:pt idx="872">
                  <c:v>30.095932419</c:v>
                </c:pt>
                <c:pt idx="873">
                  <c:v>25.952921109</c:v>
                </c:pt>
                <c:pt idx="874">
                  <c:v>28.037405965</c:v>
                </c:pt>
                <c:pt idx="875">
                  <c:v>29.237318188</c:v>
                </c:pt>
                <c:pt idx="876">
                  <c:v>30.026291107</c:v>
                </c:pt>
                <c:pt idx="877">
                  <c:v>30.058501302</c:v>
                </c:pt>
                <c:pt idx="878">
                  <c:v>30.055684465</c:v>
                </c:pt>
                <c:pt idx="879">
                  <c:v>23.591388286</c:v>
                </c:pt>
                <c:pt idx="880">
                  <c:v>29.978816748</c:v>
                </c:pt>
                <c:pt idx="881">
                  <c:v>28.763770284</c:v>
                </c:pt>
                <c:pt idx="882">
                  <c:v>29.928187686</c:v>
                </c:pt>
                <c:pt idx="883">
                  <c:v>12.235869637</c:v>
                </c:pt>
                <c:pt idx="884">
                  <c:v>29.901604663</c:v>
                </c:pt>
                <c:pt idx="885">
                  <c:v>28.740539363</c:v>
                </c:pt>
                <c:pt idx="886">
                  <c:v>30.005295453</c:v>
                </c:pt>
                <c:pt idx="887">
                  <c:v>29.969493935</c:v>
                </c:pt>
                <c:pt idx="888">
                  <c:v>27.232662483</c:v>
                </c:pt>
                <c:pt idx="889">
                  <c:v>26.421390812</c:v>
                </c:pt>
                <c:pt idx="890">
                  <c:v>30.006755522</c:v>
                </c:pt>
                <c:pt idx="891">
                  <c:v>29.884034438</c:v>
                </c:pt>
                <c:pt idx="892">
                  <c:v>28.478243253</c:v>
                </c:pt>
                <c:pt idx="893">
                  <c:v>30.036440926</c:v>
                </c:pt>
                <c:pt idx="894">
                  <c:v>27.314440583</c:v>
                </c:pt>
                <c:pt idx="895">
                  <c:v>30.111744628</c:v>
                </c:pt>
                <c:pt idx="896">
                  <c:v>29.966999301</c:v>
                </c:pt>
                <c:pt idx="897">
                  <c:v>16.408218173</c:v>
                </c:pt>
                <c:pt idx="898">
                  <c:v>30.047052091</c:v>
                </c:pt>
                <c:pt idx="899">
                  <c:v>11.389717893</c:v>
                </c:pt>
                <c:pt idx="900">
                  <c:v>30.01231404</c:v>
                </c:pt>
                <c:pt idx="901">
                  <c:v>28.190237226</c:v>
                </c:pt>
                <c:pt idx="902">
                  <c:v>29.84784791</c:v>
                </c:pt>
                <c:pt idx="903">
                  <c:v>30.030467925</c:v>
                </c:pt>
                <c:pt idx="904">
                  <c:v>27.587344974</c:v>
                </c:pt>
                <c:pt idx="905">
                  <c:v>26.531609449</c:v>
                </c:pt>
                <c:pt idx="906">
                  <c:v>29.96837523</c:v>
                </c:pt>
                <c:pt idx="907">
                  <c:v>30.099856423</c:v>
                </c:pt>
                <c:pt idx="908">
                  <c:v>27.967896478</c:v>
                </c:pt>
                <c:pt idx="909">
                  <c:v>30.06464193</c:v>
                </c:pt>
                <c:pt idx="910">
                  <c:v>27.518688764</c:v>
                </c:pt>
                <c:pt idx="911">
                  <c:v>30.075201043</c:v>
                </c:pt>
                <c:pt idx="912">
                  <c:v>30.205052598</c:v>
                </c:pt>
                <c:pt idx="913">
                  <c:v>27.817378481</c:v>
                </c:pt>
                <c:pt idx="914">
                  <c:v>29.946475448</c:v>
                </c:pt>
                <c:pt idx="915">
                  <c:v>11.543697384</c:v>
                </c:pt>
                <c:pt idx="916">
                  <c:v>29.751044312</c:v>
                </c:pt>
                <c:pt idx="917">
                  <c:v>29.677573581</c:v>
                </c:pt>
                <c:pt idx="918">
                  <c:v>11.853706706</c:v>
                </c:pt>
                <c:pt idx="919">
                  <c:v>30.002488579</c:v>
                </c:pt>
                <c:pt idx="920">
                  <c:v>29.574831689</c:v>
                </c:pt>
                <c:pt idx="921">
                  <c:v>29.882575627</c:v>
                </c:pt>
                <c:pt idx="922">
                  <c:v>30.033007237</c:v>
                </c:pt>
                <c:pt idx="923">
                  <c:v>30.06772128</c:v>
                </c:pt>
                <c:pt idx="924">
                  <c:v>25.960369425</c:v>
                </c:pt>
                <c:pt idx="925">
                  <c:v>28.043443264</c:v>
                </c:pt>
                <c:pt idx="926">
                  <c:v>29.044765772</c:v>
                </c:pt>
                <c:pt idx="927">
                  <c:v>30.088269414</c:v>
                </c:pt>
                <c:pt idx="928">
                  <c:v>30.028788446</c:v>
                </c:pt>
                <c:pt idx="929">
                  <c:v>17.21104254</c:v>
                </c:pt>
                <c:pt idx="930">
                  <c:v>30.032144002</c:v>
                </c:pt>
                <c:pt idx="931">
                  <c:v>29.979265605</c:v>
                </c:pt>
                <c:pt idx="932">
                  <c:v>27.189162479</c:v>
                </c:pt>
                <c:pt idx="933">
                  <c:v>28.137570021</c:v>
                </c:pt>
                <c:pt idx="934">
                  <c:v>10.517342881</c:v>
                </c:pt>
                <c:pt idx="935">
                  <c:v>30.173547594</c:v>
                </c:pt>
                <c:pt idx="936">
                  <c:v>28.924039693</c:v>
                </c:pt>
                <c:pt idx="937">
                  <c:v>29.907958994</c:v>
                </c:pt>
                <c:pt idx="938">
                  <c:v>30.195911498</c:v>
                </c:pt>
                <c:pt idx="939">
                  <c:v>26.832661959</c:v>
                </c:pt>
                <c:pt idx="940">
                  <c:v>26.491061413</c:v>
                </c:pt>
                <c:pt idx="941">
                  <c:v>29.953584366</c:v>
                </c:pt>
                <c:pt idx="942">
                  <c:v>30.007452464</c:v>
                </c:pt>
                <c:pt idx="943">
                  <c:v>28.408869885</c:v>
                </c:pt>
                <c:pt idx="944">
                  <c:v>30.230326921</c:v>
                </c:pt>
                <c:pt idx="945">
                  <c:v>27.088252001</c:v>
                </c:pt>
                <c:pt idx="946">
                  <c:v>30.141809963</c:v>
                </c:pt>
                <c:pt idx="947">
                  <c:v>29.980608679</c:v>
                </c:pt>
                <c:pt idx="948">
                  <c:v>28.658807548</c:v>
                </c:pt>
                <c:pt idx="949">
                  <c:v>30.035412352</c:v>
                </c:pt>
                <c:pt idx="950">
                  <c:v>12.404445167</c:v>
                </c:pt>
                <c:pt idx="951">
                  <c:v>29.885404536</c:v>
                </c:pt>
                <c:pt idx="952">
                  <c:v>28.274103234</c:v>
                </c:pt>
                <c:pt idx="953">
                  <c:v>29.892649838</c:v>
                </c:pt>
                <c:pt idx="954">
                  <c:v>30.050456651</c:v>
                </c:pt>
                <c:pt idx="955">
                  <c:v>27.578952121</c:v>
                </c:pt>
                <c:pt idx="956">
                  <c:v>26.499547018</c:v>
                </c:pt>
                <c:pt idx="957">
                  <c:v>30.028165866</c:v>
                </c:pt>
                <c:pt idx="958">
                  <c:v>30.178044544</c:v>
                </c:pt>
                <c:pt idx="959">
                  <c:v>28.017630479</c:v>
                </c:pt>
                <c:pt idx="960">
                  <c:v>30.057485598</c:v>
                </c:pt>
                <c:pt idx="961">
                  <c:v>16.475605749</c:v>
                </c:pt>
                <c:pt idx="962">
                  <c:v>30.108869101</c:v>
                </c:pt>
                <c:pt idx="963">
                  <c:v>28.38227613</c:v>
                </c:pt>
                <c:pt idx="964">
                  <c:v>29.849023228</c:v>
                </c:pt>
                <c:pt idx="965">
                  <c:v>29.256266363</c:v>
                </c:pt>
                <c:pt idx="966">
                  <c:v>10.48270407</c:v>
                </c:pt>
                <c:pt idx="967">
                  <c:v>29.821632083</c:v>
                </c:pt>
                <c:pt idx="968">
                  <c:v>29.744111939</c:v>
                </c:pt>
                <c:pt idx="969">
                  <c:v>11.849605559</c:v>
                </c:pt>
                <c:pt idx="970">
                  <c:v>29.989981359</c:v>
                </c:pt>
                <c:pt idx="971">
                  <c:v>29.453239262</c:v>
                </c:pt>
                <c:pt idx="972">
                  <c:v>30.030975753</c:v>
                </c:pt>
                <c:pt idx="973">
                  <c:v>29.921767751</c:v>
                </c:pt>
                <c:pt idx="974">
                  <c:v>29.838861471</c:v>
                </c:pt>
                <c:pt idx="975">
                  <c:v>26.213165937</c:v>
                </c:pt>
                <c:pt idx="976">
                  <c:v>28.012472374</c:v>
                </c:pt>
                <c:pt idx="977">
                  <c:v>28.964401524</c:v>
                </c:pt>
                <c:pt idx="978">
                  <c:v>30.037728089</c:v>
                </c:pt>
                <c:pt idx="979">
                  <c:v>30.130727134</c:v>
                </c:pt>
                <c:pt idx="980">
                  <c:v>30.062456909</c:v>
                </c:pt>
                <c:pt idx="981">
                  <c:v>23.738269458</c:v>
                </c:pt>
                <c:pt idx="982">
                  <c:v>29.995318836</c:v>
                </c:pt>
                <c:pt idx="983">
                  <c:v>29.103297056</c:v>
                </c:pt>
                <c:pt idx="984">
                  <c:v>29.867608386</c:v>
                </c:pt>
                <c:pt idx="985">
                  <c:v>12.163029063</c:v>
                </c:pt>
                <c:pt idx="986">
                  <c:v>30.059569213</c:v>
                </c:pt>
                <c:pt idx="987">
                  <c:v>28.570371651</c:v>
                </c:pt>
                <c:pt idx="988">
                  <c:v>29.885427638</c:v>
                </c:pt>
                <c:pt idx="989">
                  <c:v>29.976311622</c:v>
                </c:pt>
                <c:pt idx="990">
                  <c:v>27.440433522</c:v>
                </c:pt>
                <c:pt idx="991">
                  <c:v>26.430656079</c:v>
                </c:pt>
                <c:pt idx="992">
                  <c:v>30.009394755</c:v>
                </c:pt>
                <c:pt idx="993">
                  <c:v>16.323202888</c:v>
                </c:pt>
                <c:pt idx="994">
                  <c:v>30.227154182</c:v>
                </c:pt>
                <c:pt idx="995">
                  <c:v>30.102688758</c:v>
                </c:pt>
                <c:pt idx="996">
                  <c:v>28.922787949</c:v>
                </c:pt>
                <c:pt idx="997">
                  <c:v>30.168374681</c:v>
                </c:pt>
                <c:pt idx="998">
                  <c:v>25.827115063</c:v>
                </c:pt>
                <c:pt idx="999">
                  <c:v>29.890802627</c:v>
                </c:pt>
                <c:pt idx="1000">
                  <c:v>30.042488138</c:v>
                </c:pt>
              </c:numCache>
            </c:numRef>
          </c:yVal>
          <c:smooth val="0"/>
        </c:ser>
        <c:ser>
          <c:idx val="7"/>
          <c:order val="7"/>
          <c:tx>
            <c:strRef>
              <c:f>label 14</c:f>
              <c:strCache>
                <c:ptCount val="1"/>
                <c:pt idx="0">
                  <c:v>1 M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5</c:f>
              <c:numCache>
                <c:formatCode>General</c:formatCode>
                <c:ptCount val="1001"/>
                <c:pt idx="0">
                  <c:v>1048576</c:v>
                </c:pt>
                <c:pt idx="1">
                  <c:v>1048576</c:v>
                </c:pt>
                <c:pt idx="2">
                  <c:v>1048576</c:v>
                </c:pt>
                <c:pt idx="3">
                  <c:v>1048576</c:v>
                </c:pt>
                <c:pt idx="4">
                  <c:v>1048576</c:v>
                </c:pt>
                <c:pt idx="5">
                  <c:v>1048576</c:v>
                </c:pt>
                <c:pt idx="6">
                  <c:v>1048576</c:v>
                </c:pt>
                <c:pt idx="7">
                  <c:v>1048576</c:v>
                </c:pt>
                <c:pt idx="8">
                  <c:v>1048576</c:v>
                </c:pt>
                <c:pt idx="9">
                  <c:v>1048576</c:v>
                </c:pt>
                <c:pt idx="10">
                  <c:v>1048576</c:v>
                </c:pt>
                <c:pt idx="11">
                  <c:v>1048576</c:v>
                </c:pt>
                <c:pt idx="12">
                  <c:v>1048576</c:v>
                </c:pt>
                <c:pt idx="13">
                  <c:v>1048576</c:v>
                </c:pt>
                <c:pt idx="14">
                  <c:v>1048576</c:v>
                </c:pt>
                <c:pt idx="15">
                  <c:v>1048576</c:v>
                </c:pt>
                <c:pt idx="16">
                  <c:v>1048576</c:v>
                </c:pt>
                <c:pt idx="17">
                  <c:v>1048576</c:v>
                </c:pt>
                <c:pt idx="18">
                  <c:v>1048576</c:v>
                </c:pt>
                <c:pt idx="19">
                  <c:v>1048576</c:v>
                </c:pt>
                <c:pt idx="20">
                  <c:v>1048576</c:v>
                </c:pt>
                <c:pt idx="21">
                  <c:v>1048576</c:v>
                </c:pt>
                <c:pt idx="22">
                  <c:v>1048576</c:v>
                </c:pt>
                <c:pt idx="23">
                  <c:v>1048576</c:v>
                </c:pt>
                <c:pt idx="24">
                  <c:v>1048576</c:v>
                </c:pt>
                <c:pt idx="25">
                  <c:v>1048576</c:v>
                </c:pt>
                <c:pt idx="26">
                  <c:v>1048576</c:v>
                </c:pt>
                <c:pt idx="27">
                  <c:v>1048576</c:v>
                </c:pt>
                <c:pt idx="28">
                  <c:v>1048576</c:v>
                </c:pt>
                <c:pt idx="29">
                  <c:v>1048576</c:v>
                </c:pt>
                <c:pt idx="30">
                  <c:v>1048576</c:v>
                </c:pt>
                <c:pt idx="31">
                  <c:v>1048576</c:v>
                </c:pt>
                <c:pt idx="32">
                  <c:v>1048576</c:v>
                </c:pt>
                <c:pt idx="33">
                  <c:v>1048576</c:v>
                </c:pt>
                <c:pt idx="34">
                  <c:v>1048576</c:v>
                </c:pt>
                <c:pt idx="35">
                  <c:v>1048576</c:v>
                </c:pt>
                <c:pt idx="36">
                  <c:v>1048576</c:v>
                </c:pt>
                <c:pt idx="37">
                  <c:v>1048576</c:v>
                </c:pt>
                <c:pt idx="38">
                  <c:v>1048576</c:v>
                </c:pt>
                <c:pt idx="39">
                  <c:v>1048576</c:v>
                </c:pt>
                <c:pt idx="40">
                  <c:v>1048576</c:v>
                </c:pt>
                <c:pt idx="41">
                  <c:v>1048576</c:v>
                </c:pt>
                <c:pt idx="42">
                  <c:v>1048576</c:v>
                </c:pt>
                <c:pt idx="43">
                  <c:v>1048576</c:v>
                </c:pt>
                <c:pt idx="44">
                  <c:v>1048576</c:v>
                </c:pt>
                <c:pt idx="45">
                  <c:v>1048576</c:v>
                </c:pt>
                <c:pt idx="46">
                  <c:v>1048576</c:v>
                </c:pt>
                <c:pt idx="47">
                  <c:v>1048576</c:v>
                </c:pt>
                <c:pt idx="48">
                  <c:v>1048576</c:v>
                </c:pt>
                <c:pt idx="49">
                  <c:v>1048576</c:v>
                </c:pt>
                <c:pt idx="50">
                  <c:v>1048576</c:v>
                </c:pt>
                <c:pt idx="51">
                  <c:v>1048576</c:v>
                </c:pt>
                <c:pt idx="52">
                  <c:v>1048576</c:v>
                </c:pt>
                <c:pt idx="53">
                  <c:v>1048576</c:v>
                </c:pt>
                <c:pt idx="54">
                  <c:v>1048576</c:v>
                </c:pt>
                <c:pt idx="55">
                  <c:v>1048576</c:v>
                </c:pt>
                <c:pt idx="56">
                  <c:v>1048576</c:v>
                </c:pt>
                <c:pt idx="57">
                  <c:v>1048576</c:v>
                </c:pt>
                <c:pt idx="58">
                  <c:v>1048576</c:v>
                </c:pt>
                <c:pt idx="59">
                  <c:v>1048576</c:v>
                </c:pt>
                <c:pt idx="60">
                  <c:v>1048576</c:v>
                </c:pt>
                <c:pt idx="61">
                  <c:v>1048576</c:v>
                </c:pt>
                <c:pt idx="62">
                  <c:v>1048576</c:v>
                </c:pt>
                <c:pt idx="63">
                  <c:v>1048576</c:v>
                </c:pt>
                <c:pt idx="64">
                  <c:v>1048576</c:v>
                </c:pt>
                <c:pt idx="65">
                  <c:v>1048576</c:v>
                </c:pt>
                <c:pt idx="66">
                  <c:v>1048576</c:v>
                </c:pt>
                <c:pt idx="67">
                  <c:v>1048576</c:v>
                </c:pt>
                <c:pt idx="68">
                  <c:v>1048576</c:v>
                </c:pt>
                <c:pt idx="69">
                  <c:v>1048576</c:v>
                </c:pt>
                <c:pt idx="70">
                  <c:v>1048576</c:v>
                </c:pt>
                <c:pt idx="71">
                  <c:v>1048576</c:v>
                </c:pt>
                <c:pt idx="72">
                  <c:v>1048576</c:v>
                </c:pt>
                <c:pt idx="73">
                  <c:v>1048576</c:v>
                </c:pt>
                <c:pt idx="74">
                  <c:v>1048576</c:v>
                </c:pt>
                <c:pt idx="75">
                  <c:v>1048576</c:v>
                </c:pt>
                <c:pt idx="76">
                  <c:v>1048576</c:v>
                </c:pt>
                <c:pt idx="77">
                  <c:v>1048576</c:v>
                </c:pt>
                <c:pt idx="78">
                  <c:v>1048576</c:v>
                </c:pt>
                <c:pt idx="79">
                  <c:v>1048576</c:v>
                </c:pt>
                <c:pt idx="80">
                  <c:v>1048576</c:v>
                </c:pt>
                <c:pt idx="81">
                  <c:v>1048576</c:v>
                </c:pt>
                <c:pt idx="82">
                  <c:v>1048576</c:v>
                </c:pt>
                <c:pt idx="83">
                  <c:v>1048576</c:v>
                </c:pt>
                <c:pt idx="84">
                  <c:v>1048576</c:v>
                </c:pt>
                <c:pt idx="85">
                  <c:v>1048576</c:v>
                </c:pt>
                <c:pt idx="86">
                  <c:v>1048576</c:v>
                </c:pt>
                <c:pt idx="87">
                  <c:v>1048576</c:v>
                </c:pt>
                <c:pt idx="88">
                  <c:v>1048576</c:v>
                </c:pt>
                <c:pt idx="89">
                  <c:v>1048576</c:v>
                </c:pt>
                <c:pt idx="90">
                  <c:v>1048576</c:v>
                </c:pt>
                <c:pt idx="91">
                  <c:v>1048576</c:v>
                </c:pt>
                <c:pt idx="92">
                  <c:v>1048576</c:v>
                </c:pt>
                <c:pt idx="93">
                  <c:v>1048576</c:v>
                </c:pt>
                <c:pt idx="94">
                  <c:v>1048576</c:v>
                </c:pt>
                <c:pt idx="95">
                  <c:v>1048576</c:v>
                </c:pt>
                <c:pt idx="96">
                  <c:v>1048576</c:v>
                </c:pt>
                <c:pt idx="97">
                  <c:v>1048576</c:v>
                </c:pt>
                <c:pt idx="98">
                  <c:v>1048576</c:v>
                </c:pt>
                <c:pt idx="99">
                  <c:v>1048576</c:v>
                </c:pt>
                <c:pt idx="100">
                  <c:v>1048576</c:v>
                </c:pt>
                <c:pt idx="101">
                  <c:v>1048576</c:v>
                </c:pt>
                <c:pt idx="102">
                  <c:v>1048576</c:v>
                </c:pt>
                <c:pt idx="103">
                  <c:v>1048576</c:v>
                </c:pt>
                <c:pt idx="104">
                  <c:v>1048576</c:v>
                </c:pt>
                <c:pt idx="105">
                  <c:v>1048576</c:v>
                </c:pt>
                <c:pt idx="106">
                  <c:v>1048576</c:v>
                </c:pt>
                <c:pt idx="107">
                  <c:v>1048576</c:v>
                </c:pt>
                <c:pt idx="108">
                  <c:v>1048576</c:v>
                </c:pt>
                <c:pt idx="109">
                  <c:v>1048576</c:v>
                </c:pt>
                <c:pt idx="110">
                  <c:v>1048576</c:v>
                </c:pt>
                <c:pt idx="111">
                  <c:v>1048576</c:v>
                </c:pt>
                <c:pt idx="112">
                  <c:v>1048576</c:v>
                </c:pt>
                <c:pt idx="113">
                  <c:v>1048576</c:v>
                </c:pt>
                <c:pt idx="114">
                  <c:v>1048576</c:v>
                </c:pt>
                <c:pt idx="115">
                  <c:v>1048576</c:v>
                </c:pt>
                <c:pt idx="116">
                  <c:v>1048576</c:v>
                </c:pt>
                <c:pt idx="117">
                  <c:v>1048576</c:v>
                </c:pt>
                <c:pt idx="118">
                  <c:v>1048576</c:v>
                </c:pt>
                <c:pt idx="119">
                  <c:v>1048576</c:v>
                </c:pt>
                <c:pt idx="120">
                  <c:v>1048576</c:v>
                </c:pt>
                <c:pt idx="121">
                  <c:v>1048576</c:v>
                </c:pt>
                <c:pt idx="122">
                  <c:v>1048576</c:v>
                </c:pt>
                <c:pt idx="123">
                  <c:v>1048576</c:v>
                </c:pt>
                <c:pt idx="124">
                  <c:v>1048576</c:v>
                </c:pt>
                <c:pt idx="125">
                  <c:v>1048576</c:v>
                </c:pt>
                <c:pt idx="126">
                  <c:v>1048576</c:v>
                </c:pt>
                <c:pt idx="127">
                  <c:v>1048576</c:v>
                </c:pt>
                <c:pt idx="128">
                  <c:v>1048576</c:v>
                </c:pt>
                <c:pt idx="129">
                  <c:v>1048576</c:v>
                </c:pt>
                <c:pt idx="130">
                  <c:v>1048576</c:v>
                </c:pt>
                <c:pt idx="131">
                  <c:v>1048576</c:v>
                </c:pt>
                <c:pt idx="132">
                  <c:v>1048576</c:v>
                </c:pt>
                <c:pt idx="133">
                  <c:v>1048576</c:v>
                </c:pt>
                <c:pt idx="134">
                  <c:v>1048576</c:v>
                </c:pt>
                <c:pt idx="135">
                  <c:v>1048576</c:v>
                </c:pt>
                <c:pt idx="136">
                  <c:v>1048576</c:v>
                </c:pt>
                <c:pt idx="137">
                  <c:v>1048576</c:v>
                </c:pt>
                <c:pt idx="138">
                  <c:v>1048576</c:v>
                </c:pt>
                <c:pt idx="139">
                  <c:v>1048576</c:v>
                </c:pt>
                <c:pt idx="140">
                  <c:v>1048576</c:v>
                </c:pt>
                <c:pt idx="141">
                  <c:v>1048576</c:v>
                </c:pt>
                <c:pt idx="142">
                  <c:v>1048576</c:v>
                </c:pt>
                <c:pt idx="143">
                  <c:v>1048576</c:v>
                </c:pt>
                <c:pt idx="144">
                  <c:v>1048576</c:v>
                </c:pt>
                <c:pt idx="145">
                  <c:v>1048576</c:v>
                </c:pt>
                <c:pt idx="146">
                  <c:v>1048576</c:v>
                </c:pt>
                <c:pt idx="147">
                  <c:v>1048576</c:v>
                </c:pt>
                <c:pt idx="148">
                  <c:v>1048576</c:v>
                </c:pt>
                <c:pt idx="149">
                  <c:v>1048576</c:v>
                </c:pt>
                <c:pt idx="150">
                  <c:v>1048576</c:v>
                </c:pt>
                <c:pt idx="151">
                  <c:v>1048576</c:v>
                </c:pt>
                <c:pt idx="152">
                  <c:v>1048576</c:v>
                </c:pt>
                <c:pt idx="153">
                  <c:v>1048576</c:v>
                </c:pt>
                <c:pt idx="154">
                  <c:v>1048576</c:v>
                </c:pt>
                <c:pt idx="155">
                  <c:v>1048576</c:v>
                </c:pt>
                <c:pt idx="156">
                  <c:v>1048576</c:v>
                </c:pt>
                <c:pt idx="157">
                  <c:v>1048576</c:v>
                </c:pt>
                <c:pt idx="158">
                  <c:v>1048576</c:v>
                </c:pt>
                <c:pt idx="159">
                  <c:v>1048576</c:v>
                </c:pt>
                <c:pt idx="160">
                  <c:v>1048576</c:v>
                </c:pt>
                <c:pt idx="161">
                  <c:v>1048576</c:v>
                </c:pt>
                <c:pt idx="162">
                  <c:v>1048576</c:v>
                </c:pt>
                <c:pt idx="163">
                  <c:v>1048576</c:v>
                </c:pt>
                <c:pt idx="164">
                  <c:v>1048576</c:v>
                </c:pt>
                <c:pt idx="165">
                  <c:v>1048576</c:v>
                </c:pt>
                <c:pt idx="166">
                  <c:v>1048576</c:v>
                </c:pt>
                <c:pt idx="167">
                  <c:v>1048576</c:v>
                </c:pt>
                <c:pt idx="168">
                  <c:v>1048576</c:v>
                </c:pt>
                <c:pt idx="169">
                  <c:v>1048576</c:v>
                </c:pt>
                <c:pt idx="170">
                  <c:v>1048576</c:v>
                </c:pt>
                <c:pt idx="171">
                  <c:v>1048576</c:v>
                </c:pt>
                <c:pt idx="172">
                  <c:v>1048576</c:v>
                </c:pt>
                <c:pt idx="173">
                  <c:v>1048576</c:v>
                </c:pt>
                <c:pt idx="174">
                  <c:v>1048576</c:v>
                </c:pt>
                <c:pt idx="175">
                  <c:v>1048576</c:v>
                </c:pt>
                <c:pt idx="176">
                  <c:v>1048576</c:v>
                </c:pt>
                <c:pt idx="177">
                  <c:v>1048576</c:v>
                </c:pt>
                <c:pt idx="178">
                  <c:v>1048576</c:v>
                </c:pt>
                <c:pt idx="179">
                  <c:v>1048576</c:v>
                </c:pt>
                <c:pt idx="180">
                  <c:v>1048576</c:v>
                </c:pt>
                <c:pt idx="181">
                  <c:v>1048576</c:v>
                </c:pt>
                <c:pt idx="182">
                  <c:v>1048576</c:v>
                </c:pt>
                <c:pt idx="183">
                  <c:v>1048576</c:v>
                </c:pt>
                <c:pt idx="184">
                  <c:v>1048576</c:v>
                </c:pt>
                <c:pt idx="185">
                  <c:v>1048576</c:v>
                </c:pt>
                <c:pt idx="186">
                  <c:v>1048576</c:v>
                </c:pt>
                <c:pt idx="187">
                  <c:v>1048576</c:v>
                </c:pt>
                <c:pt idx="188">
                  <c:v>1048576</c:v>
                </c:pt>
                <c:pt idx="189">
                  <c:v>1048576</c:v>
                </c:pt>
                <c:pt idx="190">
                  <c:v>1048576</c:v>
                </c:pt>
                <c:pt idx="191">
                  <c:v>1048576</c:v>
                </c:pt>
                <c:pt idx="192">
                  <c:v>1048576</c:v>
                </c:pt>
                <c:pt idx="193">
                  <c:v>1048576</c:v>
                </c:pt>
                <c:pt idx="194">
                  <c:v>1048576</c:v>
                </c:pt>
                <c:pt idx="195">
                  <c:v>1048576</c:v>
                </c:pt>
                <c:pt idx="196">
                  <c:v>1048576</c:v>
                </c:pt>
                <c:pt idx="197">
                  <c:v>1048576</c:v>
                </c:pt>
                <c:pt idx="198">
                  <c:v>1048576</c:v>
                </c:pt>
                <c:pt idx="199">
                  <c:v>1048576</c:v>
                </c:pt>
                <c:pt idx="200">
                  <c:v>1048576</c:v>
                </c:pt>
                <c:pt idx="201">
                  <c:v>1048576</c:v>
                </c:pt>
                <c:pt idx="202">
                  <c:v>1048576</c:v>
                </c:pt>
                <c:pt idx="203">
                  <c:v>1048576</c:v>
                </c:pt>
                <c:pt idx="204">
                  <c:v>1048576</c:v>
                </c:pt>
                <c:pt idx="205">
                  <c:v>1048576</c:v>
                </c:pt>
                <c:pt idx="206">
                  <c:v>1048576</c:v>
                </c:pt>
                <c:pt idx="207">
                  <c:v>1048576</c:v>
                </c:pt>
                <c:pt idx="208">
                  <c:v>1048576</c:v>
                </c:pt>
                <c:pt idx="209">
                  <c:v>1048576</c:v>
                </c:pt>
                <c:pt idx="210">
                  <c:v>1048576</c:v>
                </c:pt>
                <c:pt idx="211">
                  <c:v>1048576</c:v>
                </c:pt>
                <c:pt idx="212">
                  <c:v>1048576</c:v>
                </c:pt>
                <c:pt idx="213">
                  <c:v>1048576</c:v>
                </c:pt>
                <c:pt idx="214">
                  <c:v>1048576</c:v>
                </c:pt>
                <c:pt idx="215">
                  <c:v>1048576</c:v>
                </c:pt>
                <c:pt idx="216">
                  <c:v>1048576</c:v>
                </c:pt>
                <c:pt idx="217">
                  <c:v>1048576</c:v>
                </c:pt>
                <c:pt idx="218">
                  <c:v>1048576</c:v>
                </c:pt>
                <c:pt idx="219">
                  <c:v>1048576</c:v>
                </c:pt>
                <c:pt idx="220">
                  <c:v>1048576</c:v>
                </c:pt>
                <c:pt idx="221">
                  <c:v>1048576</c:v>
                </c:pt>
                <c:pt idx="222">
                  <c:v>1048576</c:v>
                </c:pt>
                <c:pt idx="223">
                  <c:v>1048576</c:v>
                </c:pt>
                <c:pt idx="224">
                  <c:v>1048576</c:v>
                </c:pt>
                <c:pt idx="225">
                  <c:v>1048576</c:v>
                </c:pt>
                <c:pt idx="226">
                  <c:v>1048576</c:v>
                </c:pt>
                <c:pt idx="227">
                  <c:v>1048576</c:v>
                </c:pt>
                <c:pt idx="228">
                  <c:v>1048576</c:v>
                </c:pt>
                <c:pt idx="229">
                  <c:v>1048576</c:v>
                </c:pt>
                <c:pt idx="230">
                  <c:v>1048576</c:v>
                </c:pt>
                <c:pt idx="231">
                  <c:v>1048576</c:v>
                </c:pt>
                <c:pt idx="232">
                  <c:v>1048576</c:v>
                </c:pt>
                <c:pt idx="233">
                  <c:v>1048576</c:v>
                </c:pt>
                <c:pt idx="234">
                  <c:v>1048576</c:v>
                </c:pt>
                <c:pt idx="235">
                  <c:v>1048576</c:v>
                </c:pt>
                <c:pt idx="236">
                  <c:v>1048576</c:v>
                </c:pt>
                <c:pt idx="237">
                  <c:v>1048576</c:v>
                </c:pt>
                <c:pt idx="238">
                  <c:v>1048576</c:v>
                </c:pt>
                <c:pt idx="239">
                  <c:v>1048576</c:v>
                </c:pt>
                <c:pt idx="240">
                  <c:v>1048576</c:v>
                </c:pt>
                <c:pt idx="241">
                  <c:v>1048576</c:v>
                </c:pt>
                <c:pt idx="242">
                  <c:v>1048576</c:v>
                </c:pt>
                <c:pt idx="243">
                  <c:v>1048576</c:v>
                </c:pt>
                <c:pt idx="244">
                  <c:v>1048576</c:v>
                </c:pt>
                <c:pt idx="245">
                  <c:v>1048576</c:v>
                </c:pt>
                <c:pt idx="246">
                  <c:v>1048576</c:v>
                </c:pt>
                <c:pt idx="247">
                  <c:v>1048576</c:v>
                </c:pt>
                <c:pt idx="248">
                  <c:v>1048576</c:v>
                </c:pt>
                <c:pt idx="249">
                  <c:v>1048576</c:v>
                </c:pt>
                <c:pt idx="250">
                  <c:v>1048576</c:v>
                </c:pt>
                <c:pt idx="251">
                  <c:v>1048576</c:v>
                </c:pt>
                <c:pt idx="252">
                  <c:v>1048576</c:v>
                </c:pt>
                <c:pt idx="253">
                  <c:v>1048576</c:v>
                </c:pt>
                <c:pt idx="254">
                  <c:v>1048576</c:v>
                </c:pt>
                <c:pt idx="255">
                  <c:v>1048576</c:v>
                </c:pt>
                <c:pt idx="256">
                  <c:v>1048576</c:v>
                </c:pt>
                <c:pt idx="257">
                  <c:v>1048576</c:v>
                </c:pt>
                <c:pt idx="258">
                  <c:v>1048576</c:v>
                </c:pt>
                <c:pt idx="259">
                  <c:v>1048576</c:v>
                </c:pt>
                <c:pt idx="260">
                  <c:v>1048576</c:v>
                </c:pt>
                <c:pt idx="261">
                  <c:v>1048576</c:v>
                </c:pt>
                <c:pt idx="262">
                  <c:v>1048576</c:v>
                </c:pt>
              </c:numCache>
            </c:numRef>
          </c:xVal>
          <c:yVal>
            <c:numRef>
              <c:f>14</c:f>
              <c:numCache>
                <c:formatCode>General</c:formatCode>
                <c:ptCount val="1001"/>
                <c:pt idx="0">
                  <c:v>25.105506552</c:v>
                </c:pt>
                <c:pt idx="1">
                  <c:v>28.367027989</c:v>
                </c:pt>
                <c:pt idx="2">
                  <c:v>29.948266192</c:v>
                </c:pt>
                <c:pt idx="3">
                  <c:v>27.728930635</c:v>
                </c:pt>
                <c:pt idx="4">
                  <c:v>21.799474354</c:v>
                </c:pt>
                <c:pt idx="5">
                  <c:v>28.335328269</c:v>
                </c:pt>
                <c:pt idx="6">
                  <c:v>28.835399926</c:v>
                </c:pt>
                <c:pt idx="7">
                  <c:v>24.643346568</c:v>
                </c:pt>
                <c:pt idx="8">
                  <c:v>21.241476708</c:v>
                </c:pt>
                <c:pt idx="9">
                  <c:v>28.436341712</c:v>
                </c:pt>
                <c:pt idx="10">
                  <c:v>28.773270106</c:v>
                </c:pt>
                <c:pt idx="11">
                  <c:v>29.499306041</c:v>
                </c:pt>
                <c:pt idx="12">
                  <c:v>17.774289985</c:v>
                </c:pt>
                <c:pt idx="13">
                  <c:v>21.633601005</c:v>
                </c:pt>
                <c:pt idx="14">
                  <c:v>28.342199412</c:v>
                </c:pt>
                <c:pt idx="15">
                  <c:v>29.858642421</c:v>
                </c:pt>
                <c:pt idx="16">
                  <c:v>24.376498161</c:v>
                </c:pt>
                <c:pt idx="17">
                  <c:v>20.43040946</c:v>
                </c:pt>
                <c:pt idx="18">
                  <c:v>28.184743508</c:v>
                </c:pt>
                <c:pt idx="19">
                  <c:v>28.874270765</c:v>
                </c:pt>
                <c:pt idx="20">
                  <c:v>29.722655705</c:v>
                </c:pt>
                <c:pt idx="21">
                  <c:v>21.892705168</c:v>
                </c:pt>
                <c:pt idx="22">
                  <c:v>28.401005776</c:v>
                </c:pt>
                <c:pt idx="23">
                  <c:v>28.805627637</c:v>
                </c:pt>
                <c:pt idx="24">
                  <c:v>24.938055242</c:v>
                </c:pt>
                <c:pt idx="25">
                  <c:v>16.700694636</c:v>
                </c:pt>
                <c:pt idx="26">
                  <c:v>21.672410316</c:v>
                </c:pt>
                <c:pt idx="27">
                  <c:v>28.274785244</c:v>
                </c:pt>
                <c:pt idx="28">
                  <c:v>29.814594495</c:v>
                </c:pt>
                <c:pt idx="29">
                  <c:v>27.854106378</c:v>
                </c:pt>
                <c:pt idx="30">
                  <c:v>21.871944906</c:v>
                </c:pt>
                <c:pt idx="31">
                  <c:v>28.225981224</c:v>
                </c:pt>
                <c:pt idx="32">
                  <c:v>24.740316386</c:v>
                </c:pt>
                <c:pt idx="33">
                  <c:v>27.717885284</c:v>
                </c:pt>
                <c:pt idx="34">
                  <c:v>21.824578871</c:v>
                </c:pt>
                <c:pt idx="35">
                  <c:v>28.428842702</c:v>
                </c:pt>
                <c:pt idx="36">
                  <c:v>28.77745284</c:v>
                </c:pt>
                <c:pt idx="37">
                  <c:v>29.546472491</c:v>
                </c:pt>
                <c:pt idx="38">
                  <c:v>17.778940567</c:v>
                </c:pt>
                <c:pt idx="39">
                  <c:v>21.581631584</c:v>
                </c:pt>
                <c:pt idx="40">
                  <c:v>25.237100818</c:v>
                </c:pt>
                <c:pt idx="41">
                  <c:v>28.520866096</c:v>
                </c:pt>
                <c:pt idx="42">
                  <c:v>28.553454206</c:v>
                </c:pt>
                <c:pt idx="43">
                  <c:v>20.413292152</c:v>
                </c:pt>
                <c:pt idx="44">
                  <c:v>28.22502892</c:v>
                </c:pt>
                <c:pt idx="45">
                  <c:v>28.831382681</c:v>
                </c:pt>
                <c:pt idx="46">
                  <c:v>29.647896997</c:v>
                </c:pt>
                <c:pt idx="47">
                  <c:v>21.924404462</c:v>
                </c:pt>
                <c:pt idx="48">
                  <c:v>23.733198352</c:v>
                </c:pt>
                <c:pt idx="49">
                  <c:v>29.53543555</c:v>
                </c:pt>
                <c:pt idx="50">
                  <c:v>27.707734691</c:v>
                </c:pt>
                <c:pt idx="51">
                  <c:v>17.754200102</c:v>
                </c:pt>
                <c:pt idx="52">
                  <c:v>21.604166322</c:v>
                </c:pt>
                <c:pt idx="53">
                  <c:v>28.384759565</c:v>
                </c:pt>
                <c:pt idx="54">
                  <c:v>29.979149365</c:v>
                </c:pt>
                <c:pt idx="55">
                  <c:v>27.723052449</c:v>
                </c:pt>
                <c:pt idx="56">
                  <c:v>19.019870994</c:v>
                </c:pt>
                <c:pt idx="57">
                  <c:v>29.150749148</c:v>
                </c:pt>
                <c:pt idx="58">
                  <c:v>29.677555346</c:v>
                </c:pt>
                <c:pt idx="59">
                  <c:v>28.412412444</c:v>
                </c:pt>
                <c:pt idx="60">
                  <c:v>20.957530809</c:v>
                </c:pt>
                <c:pt idx="61">
                  <c:v>28.406154642</c:v>
                </c:pt>
                <c:pt idx="62">
                  <c:v>28.803022144</c:v>
                </c:pt>
                <c:pt idx="63">
                  <c:v>29.492494165</c:v>
                </c:pt>
                <c:pt idx="64">
                  <c:v>17.766895104</c:v>
                </c:pt>
                <c:pt idx="65">
                  <c:v>18.902519398</c:v>
                </c:pt>
                <c:pt idx="66">
                  <c:v>30.035342347</c:v>
                </c:pt>
                <c:pt idx="67">
                  <c:v>28.071328481</c:v>
                </c:pt>
                <c:pt idx="68">
                  <c:v>28.231374075</c:v>
                </c:pt>
                <c:pt idx="69">
                  <c:v>20.90313056</c:v>
                </c:pt>
                <c:pt idx="70">
                  <c:v>28.327659694</c:v>
                </c:pt>
                <c:pt idx="71">
                  <c:v>28.834851076</c:v>
                </c:pt>
                <c:pt idx="72">
                  <c:v>29.770655616</c:v>
                </c:pt>
                <c:pt idx="73">
                  <c:v>19.265947676</c:v>
                </c:pt>
                <c:pt idx="74">
                  <c:v>28.736957645</c:v>
                </c:pt>
                <c:pt idx="75">
                  <c:v>29.673511156</c:v>
                </c:pt>
                <c:pt idx="76">
                  <c:v>28.331009943</c:v>
                </c:pt>
                <c:pt idx="77">
                  <c:v>16.698451105</c:v>
                </c:pt>
                <c:pt idx="78">
                  <c:v>21.63082048</c:v>
                </c:pt>
                <c:pt idx="79">
                  <c:v>28.308225772</c:v>
                </c:pt>
                <c:pt idx="80">
                  <c:v>29.855210242</c:v>
                </c:pt>
                <c:pt idx="81">
                  <c:v>23.617360534</c:v>
                </c:pt>
                <c:pt idx="82">
                  <c:v>20.984892018</c:v>
                </c:pt>
                <c:pt idx="83">
                  <c:v>28.23151363</c:v>
                </c:pt>
                <c:pt idx="84">
                  <c:v>28.832575662</c:v>
                </c:pt>
                <c:pt idx="85">
                  <c:v>29.763901179</c:v>
                </c:pt>
                <c:pt idx="86">
                  <c:v>21.868081508</c:v>
                </c:pt>
                <c:pt idx="87">
                  <c:v>28.406596977</c:v>
                </c:pt>
                <c:pt idx="88">
                  <c:v>27.815617196</c:v>
                </c:pt>
                <c:pt idx="89">
                  <c:v>24.362003645</c:v>
                </c:pt>
                <c:pt idx="90">
                  <c:v>17.810870748</c:v>
                </c:pt>
                <c:pt idx="91">
                  <c:v>21.628938649</c:v>
                </c:pt>
                <c:pt idx="92">
                  <c:v>28.370113701</c:v>
                </c:pt>
                <c:pt idx="93">
                  <c:v>29.951308806</c:v>
                </c:pt>
                <c:pt idx="94">
                  <c:v>27.714528691</c:v>
                </c:pt>
                <c:pt idx="95">
                  <c:v>21.824628154</c:v>
                </c:pt>
                <c:pt idx="96">
                  <c:v>28.273799819</c:v>
                </c:pt>
                <c:pt idx="97">
                  <c:v>24.664431529</c:v>
                </c:pt>
                <c:pt idx="98">
                  <c:v>28.879313464</c:v>
                </c:pt>
                <c:pt idx="99">
                  <c:v>21.141347246</c:v>
                </c:pt>
                <c:pt idx="100">
                  <c:v>28.583431043</c:v>
                </c:pt>
                <c:pt idx="101">
                  <c:v>28.772983476</c:v>
                </c:pt>
                <c:pt idx="102">
                  <c:v>29.499008226</c:v>
                </c:pt>
                <c:pt idx="103">
                  <c:v>17.780721943</c:v>
                </c:pt>
                <c:pt idx="104">
                  <c:v>21.674801684</c:v>
                </c:pt>
                <c:pt idx="105">
                  <c:v>28.302872061</c:v>
                </c:pt>
                <c:pt idx="106">
                  <c:v>24.724952466</c:v>
                </c:pt>
                <c:pt idx="107">
                  <c:v>28.230838067</c:v>
                </c:pt>
                <c:pt idx="108">
                  <c:v>20.92411989</c:v>
                </c:pt>
                <c:pt idx="109">
                  <c:v>28.367429478</c:v>
                </c:pt>
                <c:pt idx="110">
                  <c:v>28.795954234</c:v>
                </c:pt>
                <c:pt idx="111">
                  <c:v>29.640625182</c:v>
                </c:pt>
                <c:pt idx="112">
                  <c:v>21.908653777</c:v>
                </c:pt>
                <c:pt idx="113">
                  <c:v>28.451757499</c:v>
                </c:pt>
                <c:pt idx="114">
                  <c:v>25.082513087</c:v>
                </c:pt>
                <c:pt idx="115">
                  <c:v>28.617529885</c:v>
                </c:pt>
                <c:pt idx="116">
                  <c:v>16.703112112</c:v>
                </c:pt>
                <c:pt idx="117">
                  <c:v>21.624794934</c:v>
                </c:pt>
                <c:pt idx="118">
                  <c:v>28.380368465</c:v>
                </c:pt>
                <c:pt idx="119">
                  <c:v>29.906968121</c:v>
                </c:pt>
                <c:pt idx="120">
                  <c:v>27.751173036</c:v>
                </c:pt>
                <c:pt idx="121">
                  <c:v>21.810528868</c:v>
                </c:pt>
                <c:pt idx="122">
                  <c:v>25.427544841</c:v>
                </c:pt>
                <c:pt idx="123">
                  <c:v>28.299272308</c:v>
                </c:pt>
                <c:pt idx="124">
                  <c:v>28.355916903</c:v>
                </c:pt>
                <c:pt idx="125">
                  <c:v>20.963704136</c:v>
                </c:pt>
                <c:pt idx="126">
                  <c:v>28.408053732</c:v>
                </c:pt>
                <c:pt idx="127">
                  <c:v>28.800741847</c:v>
                </c:pt>
                <c:pt idx="128">
                  <c:v>29.54791778</c:v>
                </c:pt>
                <c:pt idx="129">
                  <c:v>17.751502481</c:v>
                </c:pt>
                <c:pt idx="130">
                  <c:v>18.90796132</c:v>
                </c:pt>
                <c:pt idx="131">
                  <c:v>29.989338466</c:v>
                </c:pt>
                <c:pt idx="132">
                  <c:v>28.119415808</c:v>
                </c:pt>
                <c:pt idx="133">
                  <c:v>28.151330966</c:v>
                </c:pt>
                <c:pt idx="134">
                  <c:v>20.918534258</c:v>
                </c:pt>
                <c:pt idx="135">
                  <c:v>28.330623857</c:v>
                </c:pt>
                <c:pt idx="136">
                  <c:v>28.833856004</c:v>
                </c:pt>
                <c:pt idx="137">
                  <c:v>29.654951464</c:v>
                </c:pt>
                <c:pt idx="138">
                  <c:v>19.269655537</c:v>
                </c:pt>
                <c:pt idx="139">
                  <c:v>28.841682785</c:v>
                </c:pt>
                <c:pt idx="140">
                  <c:v>29.630583399</c:v>
                </c:pt>
                <c:pt idx="141">
                  <c:v>28.32199857</c:v>
                </c:pt>
                <c:pt idx="142">
                  <c:v>16.701028227</c:v>
                </c:pt>
                <c:pt idx="143">
                  <c:v>21.636610223</c:v>
                </c:pt>
                <c:pt idx="144">
                  <c:v>28.343795032</c:v>
                </c:pt>
                <c:pt idx="145">
                  <c:v>29.894180759</c:v>
                </c:pt>
                <c:pt idx="146">
                  <c:v>23.347553142</c:v>
                </c:pt>
                <c:pt idx="147">
                  <c:v>21.190473797</c:v>
                </c:pt>
                <c:pt idx="148">
                  <c:v>28.245366242</c:v>
                </c:pt>
                <c:pt idx="149">
                  <c:v>28.796430243</c:v>
                </c:pt>
                <c:pt idx="150">
                  <c:v>29.684522244</c:v>
                </c:pt>
                <c:pt idx="151">
                  <c:v>21.896628073</c:v>
                </c:pt>
                <c:pt idx="152">
                  <c:v>28.404890729</c:v>
                </c:pt>
                <c:pt idx="153">
                  <c:v>28.837747352</c:v>
                </c:pt>
                <c:pt idx="154">
                  <c:v>24.544952638</c:v>
                </c:pt>
                <c:pt idx="155">
                  <c:v>17.021978579</c:v>
                </c:pt>
                <c:pt idx="156">
                  <c:v>21.622482496</c:v>
                </c:pt>
                <c:pt idx="157">
                  <c:v>28.383021476</c:v>
                </c:pt>
                <c:pt idx="158">
                  <c:v>29.889190283</c:v>
                </c:pt>
                <c:pt idx="159">
                  <c:v>28.569710224</c:v>
                </c:pt>
                <c:pt idx="160">
                  <c:v>21.331652149</c:v>
                </c:pt>
                <c:pt idx="161">
                  <c:v>28.330312441</c:v>
                </c:pt>
                <c:pt idx="162">
                  <c:v>28.838918106</c:v>
                </c:pt>
                <c:pt idx="163">
                  <c:v>24.633326351</c:v>
                </c:pt>
                <c:pt idx="164">
                  <c:v>21.24311348</c:v>
                </c:pt>
                <c:pt idx="165">
                  <c:v>28.453464147</c:v>
                </c:pt>
                <c:pt idx="166">
                  <c:v>27.780262447</c:v>
                </c:pt>
                <c:pt idx="167">
                  <c:v>29.452054345</c:v>
                </c:pt>
                <c:pt idx="168">
                  <c:v>18.500108586</c:v>
                </c:pt>
                <c:pt idx="169">
                  <c:v>21.637078772</c:v>
                </c:pt>
                <c:pt idx="170">
                  <c:v>28.342863932</c:v>
                </c:pt>
                <c:pt idx="171">
                  <c:v>24.81445151</c:v>
                </c:pt>
                <c:pt idx="172">
                  <c:v>28.153951184</c:v>
                </c:pt>
                <c:pt idx="173">
                  <c:v>20.957896776</c:v>
                </c:pt>
                <c:pt idx="174">
                  <c:v>28.225858368</c:v>
                </c:pt>
                <c:pt idx="175">
                  <c:v>28.87352884</c:v>
                </c:pt>
                <c:pt idx="176">
                  <c:v>29.675787192</c:v>
                </c:pt>
                <c:pt idx="177">
                  <c:v>21.891104075</c:v>
                </c:pt>
                <c:pt idx="178">
                  <c:v>28.447247828</c:v>
                </c:pt>
                <c:pt idx="179">
                  <c:v>24.59135632</c:v>
                </c:pt>
                <c:pt idx="180">
                  <c:v>28.327892813</c:v>
                </c:pt>
                <c:pt idx="181">
                  <c:v>17.293886707</c:v>
                </c:pt>
                <c:pt idx="182">
                  <c:v>21.603606332</c:v>
                </c:pt>
                <c:pt idx="183">
                  <c:v>28.380792769</c:v>
                </c:pt>
                <c:pt idx="184">
                  <c:v>29.899436605</c:v>
                </c:pt>
                <c:pt idx="185">
                  <c:v>27.725550335</c:v>
                </c:pt>
                <c:pt idx="186">
                  <c:v>21.895261299</c:v>
                </c:pt>
                <c:pt idx="187">
                  <c:v>23.733061901</c:v>
                </c:pt>
                <c:pt idx="188">
                  <c:v>29.484315848</c:v>
                </c:pt>
                <c:pt idx="189">
                  <c:v>27.815950884</c:v>
                </c:pt>
                <c:pt idx="190">
                  <c:v>21.83004611</c:v>
                </c:pt>
                <c:pt idx="191">
                  <c:v>28.470445528</c:v>
                </c:pt>
                <c:pt idx="192">
                  <c:v>28.771860484</c:v>
                </c:pt>
                <c:pt idx="193">
                  <c:v>29.462717281</c:v>
                </c:pt>
                <c:pt idx="194">
                  <c:v>17.792207362</c:v>
                </c:pt>
                <c:pt idx="195">
                  <c:v>21.65919254</c:v>
                </c:pt>
                <c:pt idx="196">
                  <c:v>24.945769349</c:v>
                </c:pt>
                <c:pt idx="197">
                  <c:v>28.074220421</c:v>
                </c:pt>
                <c:pt idx="198">
                  <c:v>28.229129479</c:v>
                </c:pt>
                <c:pt idx="199">
                  <c:v>20.91422917</c:v>
                </c:pt>
                <c:pt idx="200">
                  <c:v>28.263858744</c:v>
                </c:pt>
                <c:pt idx="201">
                  <c:v>28.911228168</c:v>
                </c:pt>
                <c:pt idx="202">
                  <c:v>29.768950409</c:v>
                </c:pt>
                <c:pt idx="203">
                  <c:v>21.836812317</c:v>
                </c:pt>
                <c:pt idx="204">
                  <c:v>23.73529239</c:v>
                </c:pt>
                <c:pt idx="205">
                  <c:v>29.565688401</c:v>
                </c:pt>
                <c:pt idx="206">
                  <c:v>27.74985948</c:v>
                </c:pt>
                <c:pt idx="207">
                  <c:v>17.759063394</c:v>
                </c:pt>
                <c:pt idx="208">
                  <c:v>21.600368389</c:v>
                </c:pt>
                <c:pt idx="209">
                  <c:v>28.353596873</c:v>
                </c:pt>
                <c:pt idx="210">
                  <c:v>29.934338476</c:v>
                </c:pt>
                <c:pt idx="211">
                  <c:v>27.762539006</c:v>
                </c:pt>
                <c:pt idx="212">
                  <c:v>19.186628584</c:v>
                </c:pt>
                <c:pt idx="213">
                  <c:v>28.763703611</c:v>
                </c:pt>
                <c:pt idx="214">
                  <c:v>29.688665018</c:v>
                </c:pt>
                <c:pt idx="215">
                  <c:v>28.408379706</c:v>
                </c:pt>
                <c:pt idx="216">
                  <c:v>20.952255975</c:v>
                </c:pt>
                <c:pt idx="217">
                  <c:v>28.442634554</c:v>
                </c:pt>
                <c:pt idx="218">
                  <c:v>28.770668816</c:v>
                </c:pt>
                <c:pt idx="219">
                  <c:v>29.546153748</c:v>
                </c:pt>
                <c:pt idx="220">
                  <c:v>14.74403824</c:v>
                </c:pt>
                <c:pt idx="221">
                  <c:v>20.892738749</c:v>
                </c:pt>
                <c:pt idx="222">
                  <c:v>28.384630112</c:v>
                </c:pt>
                <c:pt idx="223">
                  <c:v>29.930260544</c:v>
                </c:pt>
                <c:pt idx="224">
                  <c:v>27.765673691</c:v>
                </c:pt>
                <c:pt idx="225">
                  <c:v>21.799321173</c:v>
                </c:pt>
                <c:pt idx="226">
                  <c:v>28.341371103</c:v>
                </c:pt>
                <c:pt idx="227">
                  <c:v>28.833880818</c:v>
                </c:pt>
                <c:pt idx="228">
                  <c:v>24.977841035</c:v>
                </c:pt>
                <c:pt idx="229">
                  <c:v>20.977122184</c:v>
                </c:pt>
                <c:pt idx="230">
                  <c:v>28.48047317</c:v>
                </c:pt>
                <c:pt idx="231">
                  <c:v>28.774014301</c:v>
                </c:pt>
                <c:pt idx="232">
                  <c:v>29.460544616</c:v>
                </c:pt>
                <c:pt idx="233">
                  <c:v>17.810059535</c:v>
                </c:pt>
                <c:pt idx="234">
                  <c:v>21.627557622</c:v>
                </c:pt>
                <c:pt idx="235">
                  <c:v>28.377192397</c:v>
                </c:pt>
                <c:pt idx="236">
                  <c:v>25.194552913</c:v>
                </c:pt>
                <c:pt idx="237">
                  <c:v>28.698236612</c:v>
                </c:pt>
                <c:pt idx="238">
                  <c:v>20.392818581</c:v>
                </c:pt>
                <c:pt idx="239">
                  <c:v>28.225514773</c:v>
                </c:pt>
                <c:pt idx="240">
                  <c:v>28.863890185</c:v>
                </c:pt>
                <c:pt idx="241">
                  <c:v>29.720641822</c:v>
                </c:pt>
                <c:pt idx="242">
                  <c:v>21.893016307</c:v>
                </c:pt>
                <c:pt idx="243">
                  <c:v>28.403447542</c:v>
                </c:pt>
                <c:pt idx="244">
                  <c:v>24.514290192</c:v>
                </c:pt>
                <c:pt idx="245">
                  <c:v>29.407161272</c:v>
                </c:pt>
                <c:pt idx="246">
                  <c:v>16.703153261</c:v>
                </c:pt>
                <c:pt idx="247">
                  <c:v>21.650078368</c:v>
                </c:pt>
                <c:pt idx="248">
                  <c:v>28.312486913</c:v>
                </c:pt>
                <c:pt idx="249">
                  <c:v>29.896614376</c:v>
                </c:pt>
                <c:pt idx="250">
                  <c:v>27.895057754</c:v>
                </c:pt>
                <c:pt idx="251">
                  <c:v>21.812284336</c:v>
                </c:pt>
                <c:pt idx="252">
                  <c:v>28.210419912</c:v>
                </c:pt>
                <c:pt idx="253">
                  <c:v>24.562725654</c:v>
                </c:pt>
                <c:pt idx="254">
                  <c:v>28.747396746</c:v>
                </c:pt>
                <c:pt idx="255">
                  <c:v>21.354212898</c:v>
                </c:pt>
                <c:pt idx="256">
                  <c:v>28.370592551</c:v>
                </c:pt>
                <c:pt idx="257">
                  <c:v>28.860993214</c:v>
                </c:pt>
                <c:pt idx="258">
                  <c:v>29.546668344</c:v>
                </c:pt>
                <c:pt idx="259">
                  <c:v>17.753762197</c:v>
                </c:pt>
                <c:pt idx="260">
                  <c:v>21.604054646</c:v>
                </c:pt>
                <c:pt idx="261">
                  <c:v>25.294415785</c:v>
                </c:pt>
                <c:pt idx="262">
                  <c:v>28.950369723</c:v>
                </c:pt>
              </c:numCache>
            </c:numRef>
          </c:yVal>
          <c:smooth val="0"/>
        </c:ser>
        <c:ser>
          <c:idx val="8"/>
          <c:order val="8"/>
          <c:tx>
            <c:strRef>
              <c:f>label 16</c:f>
              <c:strCache>
                <c:ptCount val="1"/>
                <c:pt idx="0">
                  <c:v>8 M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7</c:f>
              <c:numCache>
                <c:formatCode>General</c:formatCode>
                <c:ptCount val="1001"/>
                <c:pt idx="0">
                  <c:v>8388608</c:v>
                </c:pt>
                <c:pt idx="1">
                  <c:v>8388608</c:v>
                </c:pt>
                <c:pt idx="2">
                  <c:v>8388608</c:v>
                </c:pt>
                <c:pt idx="3">
                  <c:v>8388608</c:v>
                </c:pt>
                <c:pt idx="4">
                  <c:v>8388608</c:v>
                </c:pt>
                <c:pt idx="5">
                  <c:v>8388608</c:v>
                </c:pt>
                <c:pt idx="6">
                  <c:v>8388608</c:v>
                </c:pt>
                <c:pt idx="7">
                  <c:v>8388608</c:v>
                </c:pt>
                <c:pt idx="8">
                  <c:v>8388608</c:v>
                </c:pt>
                <c:pt idx="9">
                  <c:v>8388608</c:v>
                </c:pt>
                <c:pt idx="10">
                  <c:v>8388608</c:v>
                </c:pt>
                <c:pt idx="11">
                  <c:v>8388608</c:v>
                </c:pt>
                <c:pt idx="12">
                  <c:v>8388608</c:v>
                </c:pt>
                <c:pt idx="13">
                  <c:v>8388608</c:v>
                </c:pt>
                <c:pt idx="14">
                  <c:v>8388608</c:v>
                </c:pt>
                <c:pt idx="15">
                  <c:v>8388608</c:v>
                </c:pt>
                <c:pt idx="16">
                  <c:v>8388608</c:v>
                </c:pt>
                <c:pt idx="17">
                  <c:v>8388608</c:v>
                </c:pt>
                <c:pt idx="18">
                  <c:v>8388608</c:v>
                </c:pt>
                <c:pt idx="19">
                  <c:v>8388608</c:v>
                </c:pt>
                <c:pt idx="20">
                  <c:v>8388608</c:v>
                </c:pt>
                <c:pt idx="21">
                  <c:v>8388608</c:v>
                </c:pt>
                <c:pt idx="22">
                  <c:v>8388608</c:v>
                </c:pt>
                <c:pt idx="23">
                  <c:v>8388608</c:v>
                </c:pt>
                <c:pt idx="24">
                  <c:v>8388608</c:v>
                </c:pt>
                <c:pt idx="25">
                  <c:v>8388608</c:v>
                </c:pt>
                <c:pt idx="26">
                  <c:v>8388608</c:v>
                </c:pt>
                <c:pt idx="27">
                  <c:v>8388608</c:v>
                </c:pt>
                <c:pt idx="28">
                  <c:v>8388608</c:v>
                </c:pt>
                <c:pt idx="29">
                  <c:v>8388608</c:v>
                </c:pt>
                <c:pt idx="30">
                  <c:v>8388608</c:v>
                </c:pt>
                <c:pt idx="31">
                  <c:v>8388608</c:v>
                </c:pt>
                <c:pt idx="32">
                  <c:v>8388608</c:v>
                </c:pt>
                <c:pt idx="33">
                  <c:v>8388608</c:v>
                </c:pt>
                <c:pt idx="34">
                  <c:v>8388608</c:v>
                </c:pt>
                <c:pt idx="35">
                  <c:v>8388608</c:v>
                </c:pt>
                <c:pt idx="36">
                  <c:v>8388608</c:v>
                </c:pt>
                <c:pt idx="37">
                  <c:v>8388608</c:v>
                </c:pt>
                <c:pt idx="38">
                  <c:v>8388608</c:v>
                </c:pt>
                <c:pt idx="39">
                  <c:v>8388608</c:v>
                </c:pt>
                <c:pt idx="40">
                  <c:v>8388608</c:v>
                </c:pt>
                <c:pt idx="41">
                  <c:v>8388608</c:v>
                </c:pt>
                <c:pt idx="42">
                  <c:v>8388608</c:v>
                </c:pt>
                <c:pt idx="43">
                  <c:v>8388608</c:v>
                </c:pt>
                <c:pt idx="44">
                  <c:v>8388608</c:v>
                </c:pt>
                <c:pt idx="45">
                  <c:v>8388608</c:v>
                </c:pt>
                <c:pt idx="46">
                  <c:v>8388608</c:v>
                </c:pt>
                <c:pt idx="47">
                  <c:v>8388608</c:v>
                </c:pt>
                <c:pt idx="48">
                  <c:v>8388608</c:v>
                </c:pt>
                <c:pt idx="49">
                  <c:v>8388608</c:v>
                </c:pt>
                <c:pt idx="50">
                  <c:v>8388608</c:v>
                </c:pt>
                <c:pt idx="51">
                  <c:v>8388608</c:v>
                </c:pt>
                <c:pt idx="52">
                  <c:v>8388608</c:v>
                </c:pt>
                <c:pt idx="53">
                  <c:v>8388608</c:v>
                </c:pt>
                <c:pt idx="54">
                  <c:v>8388608</c:v>
                </c:pt>
                <c:pt idx="55">
                  <c:v>8388608</c:v>
                </c:pt>
                <c:pt idx="56">
                  <c:v>8388608</c:v>
                </c:pt>
                <c:pt idx="57">
                  <c:v>8388608</c:v>
                </c:pt>
                <c:pt idx="58">
                  <c:v>8388608</c:v>
                </c:pt>
                <c:pt idx="59">
                  <c:v>8388608</c:v>
                </c:pt>
                <c:pt idx="60">
                  <c:v>8388608</c:v>
                </c:pt>
                <c:pt idx="61">
                  <c:v>8388608</c:v>
                </c:pt>
                <c:pt idx="62">
                  <c:v>8388608</c:v>
                </c:pt>
                <c:pt idx="63">
                  <c:v>8388608</c:v>
                </c:pt>
                <c:pt idx="64">
                  <c:v>8388608</c:v>
                </c:pt>
                <c:pt idx="65">
                  <c:v>8388608</c:v>
                </c:pt>
                <c:pt idx="66">
                  <c:v>8388608</c:v>
                </c:pt>
                <c:pt idx="67">
                  <c:v>8388608</c:v>
                </c:pt>
                <c:pt idx="68">
                  <c:v>8388608</c:v>
                </c:pt>
                <c:pt idx="69">
                  <c:v>8388608</c:v>
                </c:pt>
                <c:pt idx="70">
                  <c:v>8388608</c:v>
                </c:pt>
                <c:pt idx="71">
                  <c:v>8388608</c:v>
                </c:pt>
                <c:pt idx="72">
                  <c:v>8388608</c:v>
                </c:pt>
                <c:pt idx="73">
                  <c:v>8388608</c:v>
                </c:pt>
                <c:pt idx="74">
                  <c:v>8388608</c:v>
                </c:pt>
                <c:pt idx="75">
                  <c:v>8388608</c:v>
                </c:pt>
                <c:pt idx="76">
                  <c:v>8388608</c:v>
                </c:pt>
                <c:pt idx="77">
                  <c:v>8388608</c:v>
                </c:pt>
                <c:pt idx="78">
                  <c:v>8388608</c:v>
                </c:pt>
                <c:pt idx="79">
                  <c:v>8388608</c:v>
                </c:pt>
                <c:pt idx="80">
                  <c:v>8388608</c:v>
                </c:pt>
                <c:pt idx="81">
                  <c:v>8388608</c:v>
                </c:pt>
                <c:pt idx="82">
                  <c:v>8388608</c:v>
                </c:pt>
                <c:pt idx="83">
                  <c:v>8388608</c:v>
                </c:pt>
                <c:pt idx="84">
                  <c:v>8388608</c:v>
                </c:pt>
                <c:pt idx="85">
                  <c:v>8388608</c:v>
                </c:pt>
                <c:pt idx="86">
                  <c:v>8388608</c:v>
                </c:pt>
                <c:pt idx="87">
                  <c:v>8388608</c:v>
                </c:pt>
                <c:pt idx="88">
                  <c:v>8388608</c:v>
                </c:pt>
                <c:pt idx="89">
                  <c:v>8388608</c:v>
                </c:pt>
                <c:pt idx="90">
                  <c:v>8388608</c:v>
                </c:pt>
                <c:pt idx="91">
                  <c:v>8388608</c:v>
                </c:pt>
                <c:pt idx="92">
                  <c:v>8388608</c:v>
                </c:pt>
                <c:pt idx="93">
                  <c:v>8388608</c:v>
                </c:pt>
                <c:pt idx="94">
                  <c:v>8388608</c:v>
                </c:pt>
                <c:pt idx="95">
                  <c:v>8388608</c:v>
                </c:pt>
                <c:pt idx="96">
                  <c:v>8388608</c:v>
                </c:pt>
                <c:pt idx="97">
                  <c:v>8388608</c:v>
                </c:pt>
                <c:pt idx="98">
                  <c:v>8388608</c:v>
                </c:pt>
                <c:pt idx="99">
                  <c:v>8388608</c:v>
                </c:pt>
              </c:numCache>
            </c:numRef>
          </c:xVal>
          <c:yVal>
            <c:numRef>
              <c:f>16</c:f>
              <c:numCache>
                <c:formatCode>General</c:formatCode>
                <c:ptCount val="1001"/>
                <c:pt idx="0">
                  <c:v>26.017208055</c:v>
                </c:pt>
                <c:pt idx="1">
                  <c:v>24.992233291</c:v>
                </c:pt>
                <c:pt idx="2">
                  <c:v>25.901726368</c:v>
                </c:pt>
                <c:pt idx="3">
                  <c:v>24.050937431</c:v>
                </c:pt>
                <c:pt idx="4">
                  <c:v>25.9075898</c:v>
                </c:pt>
                <c:pt idx="5">
                  <c:v>25.126294871</c:v>
                </c:pt>
                <c:pt idx="6">
                  <c:v>25.905452131</c:v>
                </c:pt>
                <c:pt idx="7">
                  <c:v>24.036120901</c:v>
                </c:pt>
                <c:pt idx="8">
                  <c:v>26.077692735</c:v>
                </c:pt>
                <c:pt idx="9">
                  <c:v>24.86215208</c:v>
                </c:pt>
                <c:pt idx="10">
                  <c:v>25.902273197</c:v>
                </c:pt>
                <c:pt idx="11">
                  <c:v>24.042444723</c:v>
                </c:pt>
                <c:pt idx="12">
                  <c:v>25.901241925</c:v>
                </c:pt>
                <c:pt idx="13">
                  <c:v>24.043725372</c:v>
                </c:pt>
                <c:pt idx="14">
                  <c:v>26.030505423</c:v>
                </c:pt>
                <c:pt idx="15">
                  <c:v>24.939517273</c:v>
                </c:pt>
                <c:pt idx="16">
                  <c:v>25.907185266</c:v>
                </c:pt>
                <c:pt idx="17">
                  <c:v>24.031897911</c:v>
                </c:pt>
                <c:pt idx="18">
                  <c:v>26.076887018</c:v>
                </c:pt>
                <c:pt idx="19">
                  <c:v>24.858119777</c:v>
                </c:pt>
                <c:pt idx="20">
                  <c:v>25.901540606</c:v>
                </c:pt>
                <c:pt idx="21">
                  <c:v>24.044627513</c:v>
                </c:pt>
                <c:pt idx="22">
                  <c:v>25.905220958</c:v>
                </c:pt>
                <c:pt idx="23">
                  <c:v>24.040291599</c:v>
                </c:pt>
                <c:pt idx="24">
                  <c:v>26.017943416</c:v>
                </c:pt>
                <c:pt idx="25">
                  <c:v>24.956775676</c:v>
                </c:pt>
                <c:pt idx="26">
                  <c:v>25.899277767</c:v>
                </c:pt>
                <c:pt idx="27">
                  <c:v>24.044022421</c:v>
                </c:pt>
                <c:pt idx="28">
                  <c:v>25.913885001</c:v>
                </c:pt>
                <c:pt idx="29">
                  <c:v>25.120569944</c:v>
                </c:pt>
                <c:pt idx="30">
                  <c:v>25.902482165</c:v>
                </c:pt>
                <c:pt idx="31">
                  <c:v>24.043941543</c:v>
                </c:pt>
                <c:pt idx="32">
                  <c:v>26.081711282</c:v>
                </c:pt>
                <c:pt idx="33">
                  <c:v>23.965465211</c:v>
                </c:pt>
                <c:pt idx="34">
                  <c:v>25.903524884</c:v>
                </c:pt>
                <c:pt idx="35">
                  <c:v>24.931758366</c:v>
                </c:pt>
                <c:pt idx="36">
                  <c:v>25.903979872</c:v>
                </c:pt>
                <c:pt idx="37">
                  <c:v>24.041861178</c:v>
                </c:pt>
                <c:pt idx="38">
                  <c:v>25.906767725</c:v>
                </c:pt>
                <c:pt idx="39">
                  <c:v>25.141540129</c:v>
                </c:pt>
                <c:pt idx="40">
                  <c:v>25.901385132</c:v>
                </c:pt>
                <c:pt idx="41">
                  <c:v>24.037485469</c:v>
                </c:pt>
                <c:pt idx="42">
                  <c:v>26.084957769</c:v>
                </c:pt>
                <c:pt idx="43">
                  <c:v>24.846253918</c:v>
                </c:pt>
                <c:pt idx="44">
                  <c:v>25.903606409</c:v>
                </c:pt>
                <c:pt idx="45">
                  <c:v>24.043403692</c:v>
                </c:pt>
                <c:pt idx="46">
                  <c:v>25.910260211</c:v>
                </c:pt>
                <c:pt idx="47">
                  <c:v>24.037253686</c:v>
                </c:pt>
                <c:pt idx="48">
                  <c:v>25.911791173</c:v>
                </c:pt>
                <c:pt idx="49">
                  <c:v>25.118633363</c:v>
                </c:pt>
                <c:pt idx="50">
                  <c:v>25.914836018</c:v>
                </c:pt>
                <c:pt idx="51">
                  <c:v>24.033158958</c:v>
                </c:pt>
                <c:pt idx="52">
                  <c:v>25.910274029</c:v>
                </c:pt>
                <c:pt idx="53">
                  <c:v>25.116862439</c:v>
                </c:pt>
                <c:pt idx="54">
                  <c:v>25.907514843</c:v>
                </c:pt>
                <c:pt idx="55">
                  <c:v>24.03825899</c:v>
                </c:pt>
                <c:pt idx="56">
                  <c:v>25.90702839</c:v>
                </c:pt>
                <c:pt idx="57">
                  <c:v>24.039371044</c:v>
                </c:pt>
                <c:pt idx="58">
                  <c:v>26.025972326</c:v>
                </c:pt>
                <c:pt idx="59">
                  <c:v>24.937830528</c:v>
                </c:pt>
                <c:pt idx="60">
                  <c:v>25.906740599</c:v>
                </c:pt>
                <c:pt idx="61">
                  <c:v>24.043559359</c:v>
                </c:pt>
                <c:pt idx="62">
                  <c:v>25.913412964</c:v>
                </c:pt>
                <c:pt idx="63">
                  <c:v>25.117431806</c:v>
                </c:pt>
                <c:pt idx="64">
                  <c:v>25.910885257</c:v>
                </c:pt>
                <c:pt idx="65">
                  <c:v>24.036159559</c:v>
                </c:pt>
                <c:pt idx="66">
                  <c:v>26.074237572</c:v>
                </c:pt>
                <c:pt idx="67">
                  <c:v>23.994852274</c:v>
                </c:pt>
                <c:pt idx="68">
                  <c:v>25.900279684</c:v>
                </c:pt>
                <c:pt idx="69">
                  <c:v>24.921292442</c:v>
                </c:pt>
                <c:pt idx="70">
                  <c:v>25.90585469</c:v>
                </c:pt>
                <c:pt idx="71">
                  <c:v>24.031743773</c:v>
                </c:pt>
                <c:pt idx="72">
                  <c:v>25.91056219</c:v>
                </c:pt>
                <c:pt idx="73">
                  <c:v>25.129254292</c:v>
                </c:pt>
                <c:pt idx="74">
                  <c:v>25.906528767</c:v>
                </c:pt>
                <c:pt idx="75">
                  <c:v>24.035013658</c:v>
                </c:pt>
                <c:pt idx="76">
                  <c:v>25.903367551</c:v>
                </c:pt>
                <c:pt idx="77">
                  <c:v>24.31197411</c:v>
                </c:pt>
                <c:pt idx="78">
                  <c:v>26.560812603</c:v>
                </c:pt>
                <c:pt idx="79">
                  <c:v>24.945616296</c:v>
                </c:pt>
                <c:pt idx="80">
                  <c:v>25.905057721</c:v>
                </c:pt>
                <c:pt idx="81">
                  <c:v>24.045694319</c:v>
                </c:pt>
                <c:pt idx="82">
                  <c:v>25.910366158</c:v>
                </c:pt>
                <c:pt idx="83">
                  <c:v>25.120934575</c:v>
                </c:pt>
                <c:pt idx="84">
                  <c:v>25.906464542</c:v>
                </c:pt>
                <c:pt idx="85">
                  <c:v>24.043103712</c:v>
                </c:pt>
                <c:pt idx="86">
                  <c:v>25.908063795</c:v>
                </c:pt>
                <c:pt idx="87">
                  <c:v>25.128738351</c:v>
                </c:pt>
                <c:pt idx="88">
                  <c:v>25.900393057</c:v>
                </c:pt>
                <c:pt idx="89">
                  <c:v>24.041252214</c:v>
                </c:pt>
                <c:pt idx="90">
                  <c:v>25.905061726</c:v>
                </c:pt>
                <c:pt idx="91">
                  <c:v>24.044487381</c:v>
                </c:pt>
                <c:pt idx="92">
                  <c:v>26.033935856</c:v>
                </c:pt>
                <c:pt idx="93">
                  <c:v>24.927094409</c:v>
                </c:pt>
                <c:pt idx="94">
                  <c:v>25.902742784</c:v>
                </c:pt>
                <c:pt idx="95">
                  <c:v>24.044239413</c:v>
                </c:pt>
                <c:pt idx="96">
                  <c:v>26.081690852</c:v>
                </c:pt>
                <c:pt idx="97">
                  <c:v>24.85541917</c:v>
                </c:pt>
                <c:pt idx="98">
                  <c:v>25.900023535</c:v>
                </c:pt>
                <c:pt idx="99">
                  <c:v>24.043309654</c:v>
                </c:pt>
              </c:numCache>
            </c:numRef>
          </c:yVal>
          <c:smooth val="0"/>
        </c:ser>
        <c:ser>
          <c:idx val="9"/>
          <c:order val="9"/>
          <c:tx>
            <c:strRef>
              <c:f>label 18</c:f>
              <c:strCache>
                <c:ptCount val="1"/>
                <c:pt idx="0">
                  <c:v>64 M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9</c:f>
              <c:numCache>
                <c:formatCode>General</c:formatCode>
                <c:ptCount val="1001"/>
                <c:pt idx="0">
                  <c:v>67108864</c:v>
                </c:pt>
                <c:pt idx="1">
                  <c:v>67108864</c:v>
                </c:pt>
                <c:pt idx="2">
                  <c:v>67108864</c:v>
                </c:pt>
                <c:pt idx="3">
                  <c:v>67108864</c:v>
                </c:pt>
                <c:pt idx="4">
                  <c:v>67108864</c:v>
                </c:pt>
                <c:pt idx="5">
                  <c:v>67108864</c:v>
                </c:pt>
                <c:pt idx="6">
                  <c:v>67108864</c:v>
                </c:pt>
                <c:pt idx="7">
                  <c:v>67108864</c:v>
                </c:pt>
                <c:pt idx="8">
                  <c:v>67108864</c:v>
                </c:pt>
                <c:pt idx="9">
                  <c:v>67108864</c:v>
                </c:pt>
                <c:pt idx="10">
                  <c:v>67108864</c:v>
                </c:pt>
                <c:pt idx="11">
                  <c:v>67108864</c:v>
                </c:pt>
                <c:pt idx="12">
                  <c:v>67108864</c:v>
                </c:pt>
                <c:pt idx="13">
                  <c:v>67108864</c:v>
                </c:pt>
                <c:pt idx="14">
                  <c:v>67108864</c:v>
                </c:pt>
                <c:pt idx="15">
                  <c:v>67108864</c:v>
                </c:pt>
                <c:pt idx="16">
                  <c:v>67108864</c:v>
                </c:pt>
                <c:pt idx="17">
                  <c:v>67108864</c:v>
                </c:pt>
                <c:pt idx="18">
                  <c:v>67108864</c:v>
                </c:pt>
                <c:pt idx="19">
                  <c:v>67108864</c:v>
                </c:pt>
                <c:pt idx="20">
                  <c:v>67108864</c:v>
                </c:pt>
                <c:pt idx="21">
                  <c:v>67108864</c:v>
                </c:pt>
                <c:pt idx="22">
                  <c:v>67108864</c:v>
                </c:pt>
                <c:pt idx="23">
                  <c:v>67108864</c:v>
                </c:pt>
                <c:pt idx="24">
                  <c:v>67108864</c:v>
                </c:pt>
                <c:pt idx="25">
                  <c:v>67108864</c:v>
                </c:pt>
                <c:pt idx="26">
                  <c:v>67108864</c:v>
                </c:pt>
                <c:pt idx="27">
                  <c:v>67108864</c:v>
                </c:pt>
                <c:pt idx="28">
                  <c:v>67108864</c:v>
                </c:pt>
                <c:pt idx="29">
                  <c:v>67108864</c:v>
                </c:pt>
                <c:pt idx="30">
                  <c:v>67108864</c:v>
                </c:pt>
                <c:pt idx="31">
                  <c:v>67108864</c:v>
                </c:pt>
                <c:pt idx="32">
                  <c:v>67108864</c:v>
                </c:pt>
                <c:pt idx="33">
                  <c:v>67108864</c:v>
                </c:pt>
                <c:pt idx="34">
                  <c:v>67108864</c:v>
                </c:pt>
                <c:pt idx="35">
                  <c:v>67108864</c:v>
                </c:pt>
                <c:pt idx="36">
                  <c:v>67108864</c:v>
                </c:pt>
                <c:pt idx="37">
                  <c:v>67108864</c:v>
                </c:pt>
                <c:pt idx="38">
                  <c:v>67108864</c:v>
                </c:pt>
                <c:pt idx="39">
                  <c:v>67108864</c:v>
                </c:pt>
                <c:pt idx="40">
                  <c:v>67108864</c:v>
                </c:pt>
                <c:pt idx="41">
                  <c:v>67108864</c:v>
                </c:pt>
                <c:pt idx="42">
                  <c:v>67108864</c:v>
                </c:pt>
                <c:pt idx="43">
                  <c:v>67108864</c:v>
                </c:pt>
                <c:pt idx="44">
                  <c:v>67108864</c:v>
                </c:pt>
                <c:pt idx="45">
                  <c:v>67108864</c:v>
                </c:pt>
                <c:pt idx="46">
                  <c:v>67108864</c:v>
                </c:pt>
                <c:pt idx="47">
                  <c:v>67108864</c:v>
                </c:pt>
                <c:pt idx="48">
                  <c:v>67108864</c:v>
                </c:pt>
                <c:pt idx="49">
                  <c:v>67108864</c:v>
                </c:pt>
                <c:pt idx="50">
                  <c:v>67108864</c:v>
                </c:pt>
                <c:pt idx="51">
                  <c:v>67108864</c:v>
                </c:pt>
                <c:pt idx="52">
                  <c:v>67108864</c:v>
                </c:pt>
                <c:pt idx="53">
                  <c:v>67108864</c:v>
                </c:pt>
                <c:pt idx="54">
                  <c:v>67108864</c:v>
                </c:pt>
                <c:pt idx="55">
                  <c:v>67108864</c:v>
                </c:pt>
                <c:pt idx="56">
                  <c:v>67108864</c:v>
                </c:pt>
                <c:pt idx="57">
                  <c:v>67108864</c:v>
                </c:pt>
                <c:pt idx="58">
                  <c:v>67108864</c:v>
                </c:pt>
                <c:pt idx="59">
                  <c:v>67108864</c:v>
                </c:pt>
                <c:pt idx="60">
                  <c:v>67108864</c:v>
                </c:pt>
                <c:pt idx="61">
                  <c:v>67108864</c:v>
                </c:pt>
                <c:pt idx="62">
                  <c:v>67108864</c:v>
                </c:pt>
                <c:pt idx="63">
                  <c:v>67108864</c:v>
                </c:pt>
                <c:pt idx="64">
                  <c:v>67108864</c:v>
                </c:pt>
                <c:pt idx="65">
                  <c:v>67108864</c:v>
                </c:pt>
                <c:pt idx="66">
                  <c:v>67108864</c:v>
                </c:pt>
                <c:pt idx="67">
                  <c:v>67108864</c:v>
                </c:pt>
                <c:pt idx="68">
                  <c:v>67108864</c:v>
                </c:pt>
                <c:pt idx="69">
                  <c:v>67108864</c:v>
                </c:pt>
                <c:pt idx="70">
                  <c:v>67108864</c:v>
                </c:pt>
                <c:pt idx="71">
                  <c:v>67108864</c:v>
                </c:pt>
                <c:pt idx="72">
                  <c:v>67108864</c:v>
                </c:pt>
                <c:pt idx="73">
                  <c:v>67108864</c:v>
                </c:pt>
                <c:pt idx="74">
                  <c:v>67108864</c:v>
                </c:pt>
                <c:pt idx="75">
                  <c:v>67108864</c:v>
                </c:pt>
                <c:pt idx="76">
                  <c:v>67108864</c:v>
                </c:pt>
                <c:pt idx="77">
                  <c:v>67108864</c:v>
                </c:pt>
                <c:pt idx="78">
                  <c:v>67108864</c:v>
                </c:pt>
                <c:pt idx="79">
                  <c:v>67108864</c:v>
                </c:pt>
                <c:pt idx="80">
                  <c:v>67108864</c:v>
                </c:pt>
                <c:pt idx="81">
                  <c:v>67108864</c:v>
                </c:pt>
                <c:pt idx="82">
                  <c:v>67108864</c:v>
                </c:pt>
                <c:pt idx="83">
                  <c:v>67108864</c:v>
                </c:pt>
                <c:pt idx="84">
                  <c:v>67108864</c:v>
                </c:pt>
                <c:pt idx="85">
                  <c:v>67108864</c:v>
                </c:pt>
                <c:pt idx="86">
                  <c:v>67108864</c:v>
                </c:pt>
                <c:pt idx="87">
                  <c:v>67108864</c:v>
                </c:pt>
                <c:pt idx="88">
                  <c:v>67108864</c:v>
                </c:pt>
                <c:pt idx="89">
                  <c:v>67108864</c:v>
                </c:pt>
                <c:pt idx="90">
                  <c:v>67108864</c:v>
                </c:pt>
                <c:pt idx="91">
                  <c:v>67108864</c:v>
                </c:pt>
                <c:pt idx="92">
                  <c:v>67108864</c:v>
                </c:pt>
                <c:pt idx="93">
                  <c:v>67108864</c:v>
                </c:pt>
                <c:pt idx="94">
                  <c:v>67108864</c:v>
                </c:pt>
                <c:pt idx="95">
                  <c:v>67108864</c:v>
                </c:pt>
                <c:pt idx="96">
                  <c:v>67108864</c:v>
                </c:pt>
                <c:pt idx="97">
                  <c:v>67108864</c:v>
                </c:pt>
                <c:pt idx="98">
                  <c:v>67108864</c:v>
                </c:pt>
                <c:pt idx="99">
                  <c:v>67108864</c:v>
                </c:pt>
              </c:numCache>
            </c:numRef>
          </c:xVal>
          <c:yVal>
            <c:numRef>
              <c:f>18</c:f>
              <c:numCache>
                <c:formatCode>General</c:formatCode>
                <c:ptCount val="1001"/>
                <c:pt idx="0">
                  <c:v>25.997203934</c:v>
                </c:pt>
                <c:pt idx="1">
                  <c:v>25.197189143</c:v>
                </c:pt>
                <c:pt idx="2">
                  <c:v>25.616066429</c:v>
                </c:pt>
                <c:pt idx="3">
                  <c:v>25.195910924</c:v>
                </c:pt>
                <c:pt idx="4">
                  <c:v>25.618211392</c:v>
                </c:pt>
                <c:pt idx="5">
                  <c:v>25.193544961</c:v>
                </c:pt>
                <c:pt idx="6">
                  <c:v>25.191559277</c:v>
                </c:pt>
                <c:pt idx="7">
                  <c:v>25.620929304</c:v>
                </c:pt>
                <c:pt idx="8">
                  <c:v>25.190973918</c:v>
                </c:pt>
                <c:pt idx="9">
                  <c:v>25.621826945</c:v>
                </c:pt>
                <c:pt idx="10">
                  <c:v>25.192917571</c:v>
                </c:pt>
                <c:pt idx="11">
                  <c:v>25.189344937</c:v>
                </c:pt>
                <c:pt idx="12">
                  <c:v>25.622661315</c:v>
                </c:pt>
                <c:pt idx="13">
                  <c:v>25.192753053</c:v>
                </c:pt>
                <c:pt idx="14">
                  <c:v>25.618759634</c:v>
                </c:pt>
                <c:pt idx="15">
                  <c:v>25.193674998</c:v>
                </c:pt>
                <c:pt idx="16">
                  <c:v>25.265718259</c:v>
                </c:pt>
                <c:pt idx="17">
                  <c:v>25.543058384</c:v>
                </c:pt>
                <c:pt idx="18">
                  <c:v>25.193306463</c:v>
                </c:pt>
                <c:pt idx="19">
                  <c:v>25.619826459</c:v>
                </c:pt>
                <c:pt idx="20">
                  <c:v>25.190600722</c:v>
                </c:pt>
                <c:pt idx="21">
                  <c:v>25.624936486</c:v>
                </c:pt>
                <c:pt idx="22">
                  <c:v>25.18645563</c:v>
                </c:pt>
                <c:pt idx="23">
                  <c:v>25.193154005</c:v>
                </c:pt>
                <c:pt idx="24">
                  <c:v>25.621665209</c:v>
                </c:pt>
                <c:pt idx="25">
                  <c:v>25.192514043</c:v>
                </c:pt>
                <c:pt idx="26">
                  <c:v>25.61835026</c:v>
                </c:pt>
                <c:pt idx="27">
                  <c:v>25.194266528</c:v>
                </c:pt>
                <c:pt idx="28">
                  <c:v>25.192367087</c:v>
                </c:pt>
                <c:pt idx="29">
                  <c:v>25.618594954</c:v>
                </c:pt>
                <c:pt idx="30">
                  <c:v>25.194610934</c:v>
                </c:pt>
                <c:pt idx="31">
                  <c:v>25.619361282</c:v>
                </c:pt>
                <c:pt idx="32">
                  <c:v>25.192705722</c:v>
                </c:pt>
                <c:pt idx="33">
                  <c:v>25.275796521</c:v>
                </c:pt>
                <c:pt idx="34">
                  <c:v>25.532271628</c:v>
                </c:pt>
                <c:pt idx="35">
                  <c:v>25.195007279</c:v>
                </c:pt>
                <c:pt idx="36">
                  <c:v>25.621647749</c:v>
                </c:pt>
                <c:pt idx="37">
                  <c:v>25.188282619</c:v>
                </c:pt>
                <c:pt idx="38">
                  <c:v>25.296058869</c:v>
                </c:pt>
                <c:pt idx="39">
                  <c:v>25.954736101</c:v>
                </c:pt>
                <c:pt idx="40">
                  <c:v>25.192058083</c:v>
                </c:pt>
                <c:pt idx="41">
                  <c:v>25.620468574</c:v>
                </c:pt>
                <c:pt idx="42">
                  <c:v>25.191920914</c:v>
                </c:pt>
                <c:pt idx="43">
                  <c:v>25.617858421</c:v>
                </c:pt>
                <c:pt idx="44">
                  <c:v>25.194974816</c:v>
                </c:pt>
                <c:pt idx="45">
                  <c:v>25.193126187</c:v>
                </c:pt>
                <c:pt idx="46">
                  <c:v>25.616316967</c:v>
                </c:pt>
                <c:pt idx="47">
                  <c:v>25.195880817</c:v>
                </c:pt>
                <c:pt idx="48">
                  <c:v>25.616826407</c:v>
                </c:pt>
                <c:pt idx="49">
                  <c:v>25.194497971</c:v>
                </c:pt>
                <c:pt idx="50">
                  <c:v>26.0597955</c:v>
                </c:pt>
                <c:pt idx="51">
                  <c:v>25.621679764</c:v>
                </c:pt>
                <c:pt idx="52">
                  <c:v>25.191247709</c:v>
                </c:pt>
                <c:pt idx="53">
                  <c:v>25.621510766</c:v>
                </c:pt>
                <c:pt idx="54">
                  <c:v>25.188000994</c:v>
                </c:pt>
                <c:pt idx="55">
                  <c:v>25.26807751</c:v>
                </c:pt>
                <c:pt idx="56">
                  <c:v>25.549234795</c:v>
                </c:pt>
                <c:pt idx="57">
                  <c:v>25.18990913</c:v>
                </c:pt>
                <c:pt idx="58">
                  <c:v>25.619381203</c:v>
                </c:pt>
                <c:pt idx="59">
                  <c:v>25.193972478</c:v>
                </c:pt>
                <c:pt idx="60">
                  <c:v>25.61768605</c:v>
                </c:pt>
                <c:pt idx="61">
                  <c:v>25.192498191</c:v>
                </c:pt>
                <c:pt idx="62">
                  <c:v>25.194861473</c:v>
                </c:pt>
                <c:pt idx="63">
                  <c:v>25.617238923</c:v>
                </c:pt>
                <c:pt idx="64">
                  <c:v>25.195690093</c:v>
                </c:pt>
                <c:pt idx="65">
                  <c:v>25.6184012</c:v>
                </c:pt>
                <c:pt idx="66">
                  <c:v>25.192532729</c:v>
                </c:pt>
                <c:pt idx="67">
                  <c:v>25.193314364</c:v>
                </c:pt>
                <c:pt idx="68">
                  <c:v>25.624401837</c:v>
                </c:pt>
                <c:pt idx="69">
                  <c:v>25.188031107</c:v>
                </c:pt>
                <c:pt idx="70">
                  <c:v>25.619316433</c:v>
                </c:pt>
                <c:pt idx="71">
                  <c:v>25.195077899</c:v>
                </c:pt>
                <c:pt idx="72">
                  <c:v>25.263626213</c:v>
                </c:pt>
                <c:pt idx="73">
                  <c:v>25.549812362</c:v>
                </c:pt>
                <c:pt idx="74">
                  <c:v>25.19104908</c:v>
                </c:pt>
                <c:pt idx="75">
                  <c:v>25.61769313</c:v>
                </c:pt>
                <c:pt idx="76">
                  <c:v>25.196911233</c:v>
                </c:pt>
                <c:pt idx="77">
                  <c:v>25.614866738</c:v>
                </c:pt>
                <c:pt idx="78">
                  <c:v>26.062698926</c:v>
                </c:pt>
                <c:pt idx="79">
                  <c:v>25.194705986</c:v>
                </c:pt>
                <c:pt idx="80">
                  <c:v>25.618523755</c:v>
                </c:pt>
                <c:pt idx="81">
                  <c:v>25.192232775</c:v>
                </c:pt>
                <c:pt idx="82">
                  <c:v>25.621044126</c:v>
                </c:pt>
                <c:pt idx="83">
                  <c:v>25.191635421</c:v>
                </c:pt>
                <c:pt idx="84">
                  <c:v>25.193655934</c:v>
                </c:pt>
                <c:pt idx="85">
                  <c:v>25.618695282</c:v>
                </c:pt>
                <c:pt idx="86">
                  <c:v>25.194481765</c:v>
                </c:pt>
                <c:pt idx="87">
                  <c:v>25.620033438</c:v>
                </c:pt>
                <c:pt idx="88">
                  <c:v>25.192506543</c:v>
                </c:pt>
                <c:pt idx="89">
                  <c:v>25.617874164</c:v>
                </c:pt>
                <c:pt idx="90">
                  <c:v>25.618829485</c:v>
                </c:pt>
                <c:pt idx="91">
                  <c:v>25.195437706</c:v>
                </c:pt>
                <c:pt idx="92">
                  <c:v>25.617786163</c:v>
                </c:pt>
                <c:pt idx="93">
                  <c:v>25.196477042</c:v>
                </c:pt>
                <c:pt idx="94">
                  <c:v>25.291514261</c:v>
                </c:pt>
                <c:pt idx="95">
                  <c:v>25.953369568</c:v>
                </c:pt>
                <c:pt idx="96">
                  <c:v>25.195813704</c:v>
                </c:pt>
                <c:pt idx="97">
                  <c:v>25.619432433</c:v>
                </c:pt>
                <c:pt idx="98">
                  <c:v>25.191342611</c:v>
                </c:pt>
                <c:pt idx="99">
                  <c:v>25.62144461</c:v>
                </c:pt>
              </c:numCache>
            </c:numRef>
          </c:yVal>
          <c:smooth val="0"/>
        </c:ser>
        <c:ser>
          <c:idx val="10"/>
          <c:order val="10"/>
          <c:tx>
            <c:strRef>
              <c:f>label 20</c:f>
              <c:strCache>
                <c:ptCount val="1"/>
                <c:pt idx="0">
                  <c:v>96 MB</c:v>
                </c:pt>
              </c:strCache>
            </c:strRef>
          </c:tx>
          <c:spPr>
            <a:solidFill>
              <a:srgbClr val="99ccff"/>
            </a:solidFill>
            <a:ln w="28440">
              <a:noFill/>
            </a:ln>
          </c:spPr>
          <c:marker>
            <c:symbol val="circle"/>
            <c:size val="5"/>
            <c:spPr>
              <a:solidFill>
                <a:srgbClr val="99cc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21</c:f>
              <c:numCache>
                <c:formatCode>General</c:formatCode>
                <c:ptCount val="1001"/>
                <c:pt idx="0">
                  <c:v>100663296</c:v>
                </c:pt>
                <c:pt idx="1">
                  <c:v>100663296</c:v>
                </c:pt>
                <c:pt idx="2">
                  <c:v>100663296</c:v>
                </c:pt>
                <c:pt idx="3">
                  <c:v>100663296</c:v>
                </c:pt>
                <c:pt idx="4">
                  <c:v>100663296</c:v>
                </c:pt>
                <c:pt idx="5">
                  <c:v>100663296</c:v>
                </c:pt>
                <c:pt idx="6">
                  <c:v>100663296</c:v>
                </c:pt>
                <c:pt idx="7">
                  <c:v>100663296</c:v>
                </c:pt>
                <c:pt idx="8">
                  <c:v>100663296</c:v>
                </c:pt>
                <c:pt idx="9">
                  <c:v>100663296</c:v>
                </c:pt>
                <c:pt idx="10">
                  <c:v>100663296</c:v>
                </c:pt>
                <c:pt idx="11">
                  <c:v>100663296</c:v>
                </c:pt>
                <c:pt idx="12">
                  <c:v>100663296</c:v>
                </c:pt>
                <c:pt idx="13">
                  <c:v>100663296</c:v>
                </c:pt>
                <c:pt idx="14">
                  <c:v>100663296</c:v>
                </c:pt>
                <c:pt idx="15">
                  <c:v>100663296</c:v>
                </c:pt>
                <c:pt idx="16">
                  <c:v>100663296</c:v>
                </c:pt>
                <c:pt idx="17">
                  <c:v>100663296</c:v>
                </c:pt>
                <c:pt idx="18">
                  <c:v>100663296</c:v>
                </c:pt>
                <c:pt idx="19">
                  <c:v>100663296</c:v>
                </c:pt>
                <c:pt idx="20">
                  <c:v>100663296</c:v>
                </c:pt>
                <c:pt idx="21">
                  <c:v>100663296</c:v>
                </c:pt>
                <c:pt idx="22">
                  <c:v>100663296</c:v>
                </c:pt>
                <c:pt idx="23">
                  <c:v>100663296</c:v>
                </c:pt>
                <c:pt idx="24">
                  <c:v>100663296</c:v>
                </c:pt>
                <c:pt idx="25">
                  <c:v>100663296</c:v>
                </c:pt>
                <c:pt idx="26">
                  <c:v>100663296</c:v>
                </c:pt>
                <c:pt idx="27">
                  <c:v>100663296</c:v>
                </c:pt>
                <c:pt idx="28">
                  <c:v>100663296</c:v>
                </c:pt>
                <c:pt idx="29">
                  <c:v>100663296</c:v>
                </c:pt>
                <c:pt idx="30">
                  <c:v>100663296</c:v>
                </c:pt>
                <c:pt idx="31">
                  <c:v>100663296</c:v>
                </c:pt>
                <c:pt idx="32">
                  <c:v>100663296</c:v>
                </c:pt>
                <c:pt idx="33">
                  <c:v>100663296</c:v>
                </c:pt>
                <c:pt idx="34">
                  <c:v>100663296</c:v>
                </c:pt>
                <c:pt idx="35">
                  <c:v>100663296</c:v>
                </c:pt>
                <c:pt idx="36">
                  <c:v>100663296</c:v>
                </c:pt>
                <c:pt idx="37">
                  <c:v>100663296</c:v>
                </c:pt>
                <c:pt idx="38">
                  <c:v>100663296</c:v>
                </c:pt>
                <c:pt idx="39">
                  <c:v>100663296</c:v>
                </c:pt>
                <c:pt idx="40">
                  <c:v>100663296</c:v>
                </c:pt>
                <c:pt idx="41">
                  <c:v>100663296</c:v>
                </c:pt>
                <c:pt idx="42">
                  <c:v>100663296</c:v>
                </c:pt>
                <c:pt idx="43">
                  <c:v>100663296</c:v>
                </c:pt>
                <c:pt idx="44">
                  <c:v>100663296</c:v>
                </c:pt>
                <c:pt idx="45">
                  <c:v>100663296</c:v>
                </c:pt>
                <c:pt idx="46">
                  <c:v>100663296</c:v>
                </c:pt>
                <c:pt idx="47">
                  <c:v>100663296</c:v>
                </c:pt>
                <c:pt idx="48">
                  <c:v>100663296</c:v>
                </c:pt>
                <c:pt idx="49">
                  <c:v>100663296</c:v>
                </c:pt>
                <c:pt idx="50">
                  <c:v>100663296</c:v>
                </c:pt>
                <c:pt idx="51">
                  <c:v>100663296</c:v>
                </c:pt>
                <c:pt idx="52">
                  <c:v>100663296</c:v>
                </c:pt>
                <c:pt idx="53">
                  <c:v>100663296</c:v>
                </c:pt>
                <c:pt idx="54">
                  <c:v>100663296</c:v>
                </c:pt>
                <c:pt idx="55">
                  <c:v>100663296</c:v>
                </c:pt>
                <c:pt idx="56">
                  <c:v>100663296</c:v>
                </c:pt>
                <c:pt idx="57">
                  <c:v>100663296</c:v>
                </c:pt>
                <c:pt idx="58">
                  <c:v>100663296</c:v>
                </c:pt>
                <c:pt idx="59">
                  <c:v>100663296</c:v>
                </c:pt>
                <c:pt idx="60">
                  <c:v>100663296</c:v>
                </c:pt>
                <c:pt idx="61">
                  <c:v>100663296</c:v>
                </c:pt>
                <c:pt idx="62">
                  <c:v>100663296</c:v>
                </c:pt>
                <c:pt idx="63">
                  <c:v>100663296</c:v>
                </c:pt>
                <c:pt idx="64">
                  <c:v>100663296</c:v>
                </c:pt>
                <c:pt idx="65">
                  <c:v>100663296</c:v>
                </c:pt>
                <c:pt idx="66">
                  <c:v>100663296</c:v>
                </c:pt>
                <c:pt idx="67">
                  <c:v>100663296</c:v>
                </c:pt>
                <c:pt idx="68">
                  <c:v>100663296</c:v>
                </c:pt>
                <c:pt idx="69">
                  <c:v>100663296</c:v>
                </c:pt>
                <c:pt idx="70">
                  <c:v>100663296</c:v>
                </c:pt>
                <c:pt idx="71">
                  <c:v>100663296</c:v>
                </c:pt>
                <c:pt idx="72">
                  <c:v>100663296</c:v>
                </c:pt>
                <c:pt idx="73">
                  <c:v>100663296</c:v>
                </c:pt>
                <c:pt idx="74">
                  <c:v>100663296</c:v>
                </c:pt>
                <c:pt idx="75">
                  <c:v>100663296</c:v>
                </c:pt>
                <c:pt idx="76">
                  <c:v>100663296</c:v>
                </c:pt>
                <c:pt idx="77">
                  <c:v>100663296</c:v>
                </c:pt>
                <c:pt idx="78">
                  <c:v>100663296</c:v>
                </c:pt>
                <c:pt idx="79">
                  <c:v>100663296</c:v>
                </c:pt>
                <c:pt idx="80">
                  <c:v>100663296</c:v>
                </c:pt>
                <c:pt idx="81">
                  <c:v>100663296</c:v>
                </c:pt>
                <c:pt idx="82">
                  <c:v>100663296</c:v>
                </c:pt>
                <c:pt idx="83">
                  <c:v>100663296</c:v>
                </c:pt>
                <c:pt idx="84">
                  <c:v>100663296</c:v>
                </c:pt>
                <c:pt idx="85">
                  <c:v>100663296</c:v>
                </c:pt>
                <c:pt idx="86">
                  <c:v>100663296</c:v>
                </c:pt>
                <c:pt idx="87">
                  <c:v>100663296</c:v>
                </c:pt>
                <c:pt idx="88">
                  <c:v>100663296</c:v>
                </c:pt>
                <c:pt idx="89">
                  <c:v>100663296</c:v>
                </c:pt>
                <c:pt idx="90">
                  <c:v>100663296</c:v>
                </c:pt>
                <c:pt idx="91">
                  <c:v>100663296</c:v>
                </c:pt>
                <c:pt idx="92">
                  <c:v>100663296</c:v>
                </c:pt>
                <c:pt idx="93">
                  <c:v>100663296</c:v>
                </c:pt>
                <c:pt idx="94">
                  <c:v>100663296</c:v>
                </c:pt>
                <c:pt idx="95">
                  <c:v>100663296</c:v>
                </c:pt>
                <c:pt idx="96">
                  <c:v>100663296</c:v>
                </c:pt>
                <c:pt idx="97">
                  <c:v>100663296</c:v>
                </c:pt>
                <c:pt idx="98">
                  <c:v>100663296</c:v>
                </c:pt>
                <c:pt idx="99">
                  <c:v>100663296</c:v>
                </c:pt>
              </c:numCache>
            </c:numRef>
          </c:xVal>
          <c:yVal>
            <c:numRef>
              <c:f>20</c:f>
              <c:numCache>
                <c:formatCode>General</c:formatCode>
                <c:ptCount val="1001"/>
                <c:pt idx="0">
                  <c:v>25.57708213</c:v>
                </c:pt>
                <c:pt idx="1">
                  <c:v>25.19299139</c:v>
                </c:pt>
                <c:pt idx="2">
                  <c:v>25.615461435</c:v>
                </c:pt>
                <c:pt idx="3">
                  <c:v>25.197091964</c:v>
                </c:pt>
                <c:pt idx="4">
                  <c:v>25.617440387</c:v>
                </c:pt>
                <c:pt idx="5">
                  <c:v>25.195846219</c:v>
                </c:pt>
                <c:pt idx="6">
                  <c:v>24.776726327</c:v>
                </c:pt>
                <c:pt idx="7">
                  <c:v>25.620276038</c:v>
                </c:pt>
                <c:pt idx="8">
                  <c:v>25.196003075</c:v>
                </c:pt>
                <c:pt idx="9">
                  <c:v>25.617186249</c:v>
                </c:pt>
                <c:pt idx="10">
                  <c:v>25.192516024</c:v>
                </c:pt>
                <c:pt idx="11">
                  <c:v>25.196041462</c:v>
                </c:pt>
                <c:pt idx="12">
                  <c:v>25.61636152</c:v>
                </c:pt>
                <c:pt idx="13">
                  <c:v>25.193210417</c:v>
                </c:pt>
                <c:pt idx="14">
                  <c:v>25.62514962</c:v>
                </c:pt>
                <c:pt idx="15">
                  <c:v>25.187571122</c:v>
                </c:pt>
                <c:pt idx="16">
                  <c:v>25.276059788</c:v>
                </c:pt>
                <c:pt idx="17">
                  <c:v>25.536368126</c:v>
                </c:pt>
                <c:pt idx="18">
                  <c:v>25.191420634</c:v>
                </c:pt>
                <c:pt idx="19">
                  <c:v>25.623234189</c:v>
                </c:pt>
                <c:pt idx="20">
                  <c:v>25.192749265</c:v>
                </c:pt>
                <c:pt idx="21">
                  <c:v>25.61983476</c:v>
                </c:pt>
                <c:pt idx="22">
                  <c:v>25.620573067</c:v>
                </c:pt>
                <c:pt idx="23">
                  <c:v>25.192713673</c:v>
                </c:pt>
                <c:pt idx="24">
                  <c:v>25.616044957</c:v>
                </c:pt>
                <c:pt idx="25">
                  <c:v>25.196045451</c:v>
                </c:pt>
                <c:pt idx="26">
                  <c:v>25.620057771</c:v>
                </c:pt>
                <c:pt idx="27">
                  <c:v>25.190424021</c:v>
                </c:pt>
                <c:pt idx="28">
                  <c:v>25.196636967</c:v>
                </c:pt>
                <c:pt idx="29">
                  <c:v>25.619121138</c:v>
                </c:pt>
                <c:pt idx="30">
                  <c:v>25.189697533</c:v>
                </c:pt>
                <c:pt idx="31">
                  <c:v>25.623007698</c:v>
                </c:pt>
                <c:pt idx="32">
                  <c:v>25.191023424</c:v>
                </c:pt>
                <c:pt idx="33">
                  <c:v>25.275026473</c:v>
                </c:pt>
                <c:pt idx="34">
                  <c:v>25.542506751</c:v>
                </c:pt>
                <c:pt idx="35">
                  <c:v>25.185676401</c:v>
                </c:pt>
                <c:pt idx="36">
                  <c:v>25.620819516</c:v>
                </c:pt>
                <c:pt idx="37">
                  <c:v>25.19776089</c:v>
                </c:pt>
                <c:pt idx="38">
                  <c:v>25.297230399</c:v>
                </c:pt>
                <c:pt idx="39">
                  <c:v>25.944614175</c:v>
                </c:pt>
                <c:pt idx="40">
                  <c:v>25.196994309</c:v>
                </c:pt>
                <c:pt idx="41">
                  <c:v>25.618946415</c:v>
                </c:pt>
                <c:pt idx="42">
                  <c:v>25.190469638</c:v>
                </c:pt>
                <c:pt idx="43">
                  <c:v>25.623357957</c:v>
                </c:pt>
                <c:pt idx="44">
                  <c:v>25.18981266</c:v>
                </c:pt>
                <c:pt idx="45">
                  <c:v>25.191543577</c:v>
                </c:pt>
                <c:pt idx="46">
                  <c:v>25.62495325</c:v>
                </c:pt>
                <c:pt idx="47">
                  <c:v>25.187814426</c:v>
                </c:pt>
                <c:pt idx="48">
                  <c:v>25.629072094</c:v>
                </c:pt>
                <c:pt idx="49">
                  <c:v>25.188573277</c:v>
                </c:pt>
                <c:pt idx="50">
                  <c:v>26.059209165</c:v>
                </c:pt>
                <c:pt idx="51">
                  <c:v>25.623279441</c:v>
                </c:pt>
                <c:pt idx="52">
                  <c:v>25.190786002</c:v>
                </c:pt>
                <c:pt idx="53">
                  <c:v>25.621372306</c:v>
                </c:pt>
                <c:pt idx="54">
                  <c:v>25.188752083</c:v>
                </c:pt>
                <c:pt idx="55">
                  <c:v>25.271489828</c:v>
                </c:pt>
                <c:pt idx="56">
                  <c:v>25.533414228</c:v>
                </c:pt>
                <c:pt idx="57">
                  <c:v>25.203395235</c:v>
                </c:pt>
                <c:pt idx="58">
                  <c:v>25.619892763</c:v>
                </c:pt>
                <c:pt idx="59">
                  <c:v>25.18973437</c:v>
                </c:pt>
                <c:pt idx="60">
                  <c:v>25.623560919</c:v>
                </c:pt>
                <c:pt idx="61">
                  <c:v>25.192625257</c:v>
                </c:pt>
                <c:pt idx="62">
                  <c:v>25.19114867</c:v>
                </c:pt>
                <c:pt idx="63">
                  <c:v>25.621176279</c:v>
                </c:pt>
                <c:pt idx="64">
                  <c:v>25.193695216</c:v>
                </c:pt>
                <c:pt idx="65">
                  <c:v>25.616027971</c:v>
                </c:pt>
                <c:pt idx="66">
                  <c:v>25.198080096</c:v>
                </c:pt>
                <c:pt idx="67">
                  <c:v>25.189235331</c:v>
                </c:pt>
                <c:pt idx="68">
                  <c:v>25.622432811</c:v>
                </c:pt>
                <c:pt idx="69">
                  <c:v>25.194260533</c:v>
                </c:pt>
                <c:pt idx="70">
                  <c:v>25.616745233</c:v>
                </c:pt>
                <c:pt idx="71">
                  <c:v>25.19534049</c:v>
                </c:pt>
                <c:pt idx="72">
                  <c:v>25.27393561</c:v>
                </c:pt>
                <c:pt idx="73">
                  <c:v>25.536743854</c:v>
                </c:pt>
                <c:pt idx="74">
                  <c:v>25.191115691</c:v>
                </c:pt>
                <c:pt idx="75">
                  <c:v>25.623133618</c:v>
                </c:pt>
                <c:pt idx="76">
                  <c:v>25.190224903</c:v>
                </c:pt>
                <c:pt idx="77">
                  <c:v>25.621084752</c:v>
                </c:pt>
                <c:pt idx="78">
                  <c:v>26.065455455</c:v>
                </c:pt>
                <c:pt idx="79">
                  <c:v>25.188358893</c:v>
                </c:pt>
                <c:pt idx="80">
                  <c:v>25.623295243</c:v>
                </c:pt>
                <c:pt idx="81">
                  <c:v>25.19266707</c:v>
                </c:pt>
                <c:pt idx="82">
                  <c:v>25.617061113</c:v>
                </c:pt>
                <c:pt idx="83">
                  <c:v>25.196957752</c:v>
                </c:pt>
                <c:pt idx="84">
                  <c:v>25.189428389</c:v>
                </c:pt>
                <c:pt idx="85">
                  <c:v>25.618880298</c:v>
                </c:pt>
                <c:pt idx="86">
                  <c:v>25.200162153</c:v>
                </c:pt>
                <c:pt idx="87">
                  <c:v>25.614643715</c:v>
                </c:pt>
                <c:pt idx="88">
                  <c:v>25.194352021</c:v>
                </c:pt>
                <c:pt idx="89">
                  <c:v>25.623010449</c:v>
                </c:pt>
                <c:pt idx="90">
                  <c:v>25.619400995</c:v>
                </c:pt>
                <c:pt idx="91">
                  <c:v>25.190683706</c:v>
                </c:pt>
                <c:pt idx="92">
                  <c:v>25.620670972</c:v>
                </c:pt>
                <c:pt idx="93">
                  <c:v>25.193278419</c:v>
                </c:pt>
                <c:pt idx="94">
                  <c:v>25.298896585</c:v>
                </c:pt>
                <c:pt idx="95">
                  <c:v>25.948475833</c:v>
                </c:pt>
                <c:pt idx="96">
                  <c:v>25.191085796</c:v>
                </c:pt>
                <c:pt idx="97">
                  <c:v>25.620137824</c:v>
                </c:pt>
                <c:pt idx="98">
                  <c:v>25.197084963</c:v>
                </c:pt>
                <c:pt idx="99">
                  <c:v>25.618237848</c:v>
                </c:pt>
              </c:numCache>
            </c:numRef>
          </c:yVal>
          <c:smooth val="0"/>
        </c:ser>
        <c:ser>
          <c:idx val="11"/>
          <c:order val="11"/>
          <c:tx>
            <c:strRef>
              <c:f>label 22</c:f>
              <c:strCache>
                <c:ptCount val="1"/>
                <c:pt idx="0">
                  <c:v>Cold</c:v>
                </c:pt>
              </c:strCache>
            </c:strRef>
          </c:tx>
          <c:spPr>
            <a:solidFill>
              <a:srgbClr val="a78e92"/>
            </a:solidFill>
            <a:ln w="28440">
              <a:solidFill>
                <a:srgbClr val="a78e92"/>
              </a:solidFill>
              <a:round/>
            </a:ln>
          </c:spPr>
          <c:marker>
            <c:symbol val="square"/>
            <c:size val="7"/>
            <c:spPr>
              <a:solidFill>
                <a:srgbClr val="a78e92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23</c:f>
              <c:numCache>
                <c:formatCode>General</c:formatCode>
                <c:ptCount val="1001"/>
                <c:pt idx="0">
                  <c:v>4096</c:v>
                </c:pt>
                <c:pt idx="1">
                  <c:v>8192</c:v>
                </c:pt>
                <c:pt idx="2">
                  <c:v>16384</c:v>
                </c:pt>
                <c:pt idx="3">
                  <c:v>65536</c:v>
                </c:pt>
                <c:pt idx="4">
                  <c:v>262144</c:v>
                </c:pt>
                <c:pt idx="5">
                  <c:v>1048576</c:v>
                </c:pt>
                <c:pt idx="6">
                  <c:v>8388608</c:v>
                </c:pt>
                <c:pt idx="7">
                  <c:v>67108864</c:v>
                </c:pt>
                <c:pt idx="8">
                  <c:v>100663296</c:v>
                </c:pt>
              </c:numCache>
            </c:numRef>
          </c:xVal>
          <c:yVal>
            <c:numRef>
              <c:f>22</c:f>
              <c:numCache>
                <c:formatCode>General</c:formatCode>
                <c:ptCount val="1001"/>
                <c:pt idx="0">
                  <c:v>0.115322677</c:v>
                </c:pt>
                <c:pt idx="1">
                  <c:v>4.12418074099999</c:v>
                </c:pt>
                <c:pt idx="2">
                  <c:v>7.0219105</c:v>
                </c:pt>
                <c:pt idx="3">
                  <c:v>16.503539946</c:v>
                </c:pt>
                <c:pt idx="4">
                  <c:v>14.57632509</c:v>
                </c:pt>
                <c:pt idx="5">
                  <c:v>25.105506552</c:v>
                </c:pt>
                <c:pt idx="6">
                  <c:v>26.017208055</c:v>
                </c:pt>
                <c:pt idx="7">
                  <c:v>25.997203934</c:v>
                </c:pt>
                <c:pt idx="8">
                  <c:v>25.57708213</c:v>
                </c:pt>
              </c:numCache>
            </c:numRef>
          </c:yVal>
          <c:smooth val="0"/>
        </c:ser>
        <c:axId val="93256379"/>
        <c:axId val="39297157"/>
      </c:scatterChart>
      <c:valAx>
        <c:axId val="93256379"/>
        <c:scaling>
          <c:logBase val="10"/>
          <c:orientation val="minMax"/>
          <c:min val="2048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en-US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Buffer Size (Bytes)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#,##0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39297157"/>
        <c:crosses val="autoZero"/>
        <c:crossBetween val="midCat"/>
      </c:valAx>
      <c:valAx>
        <c:axId val="39297157"/>
        <c:scaling>
          <c:orientation val="minMax"/>
          <c:max val="35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title>
          <c:tx>
            <c:rich>
              <a:bodyPr rot="-5400000"/>
              <a:lstStyle/>
              <a:p>
                <a:pPr>
                  <a:defRPr b="1" lang="en-US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Read Speed (MB/S)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93256379"/>
        <c:crosses val="autoZero"/>
        <c:crossBetween val="midCat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n-US" sz="2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64 KB Buffer Reads of 350 MB File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ineChart>
        <c:grouping val="stacked"/>
        <c:varyColors val="0"/>
        <c:ser>
          <c:idx val="0"/>
          <c:order val="0"/>
          <c:spPr>
            <a:solidFill>
              <a:srgbClr val="2da2bf"/>
            </a:solidFill>
            <a:ln w="28440">
              <a:solidFill>
                <a:srgbClr val="2da2bf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00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  <c:pt idx="12">
                  <c:v>13</c:v>
                </c:pt>
                <c:pt idx="13">
                  <c:v>14</c:v>
                </c:pt>
                <c:pt idx="14">
                  <c:v>15</c:v>
                </c:pt>
                <c:pt idx="15">
                  <c:v>16</c:v>
                </c:pt>
                <c:pt idx="16">
                  <c:v>17</c:v>
                </c:pt>
                <c:pt idx="17">
                  <c:v>18</c:v>
                </c:pt>
                <c:pt idx="18">
                  <c:v>19</c:v>
                </c:pt>
                <c:pt idx="19">
                  <c:v>20</c:v>
                </c:pt>
                <c:pt idx="20">
                  <c:v>21</c:v>
                </c:pt>
                <c:pt idx="21">
                  <c:v>22</c:v>
                </c:pt>
                <c:pt idx="22">
                  <c:v>23</c:v>
                </c:pt>
                <c:pt idx="23">
                  <c:v>24</c:v>
                </c:pt>
                <c:pt idx="24">
                  <c:v>25</c:v>
                </c:pt>
                <c:pt idx="25">
                  <c:v>26</c:v>
                </c:pt>
                <c:pt idx="26">
                  <c:v>27</c:v>
                </c:pt>
                <c:pt idx="27">
                  <c:v>28</c:v>
                </c:pt>
                <c:pt idx="28">
                  <c:v>29</c:v>
                </c:pt>
                <c:pt idx="29">
                  <c:v>30</c:v>
                </c:pt>
                <c:pt idx="30">
                  <c:v>31</c:v>
                </c:pt>
                <c:pt idx="31">
                  <c:v>32</c:v>
                </c:pt>
                <c:pt idx="32">
                  <c:v>33</c:v>
                </c:pt>
                <c:pt idx="33">
                  <c:v>34</c:v>
                </c:pt>
                <c:pt idx="34">
                  <c:v>35</c:v>
                </c:pt>
                <c:pt idx="35">
                  <c:v>36</c:v>
                </c:pt>
                <c:pt idx="36">
                  <c:v>37</c:v>
                </c:pt>
                <c:pt idx="37">
                  <c:v>38</c:v>
                </c:pt>
                <c:pt idx="38">
                  <c:v>39</c:v>
                </c:pt>
                <c:pt idx="39">
                  <c:v>40</c:v>
                </c:pt>
                <c:pt idx="40">
                  <c:v>41</c:v>
                </c:pt>
                <c:pt idx="41">
                  <c:v>42</c:v>
                </c:pt>
                <c:pt idx="42">
                  <c:v>43</c:v>
                </c:pt>
                <c:pt idx="43">
                  <c:v>44</c:v>
                </c:pt>
                <c:pt idx="44">
                  <c:v>45</c:v>
                </c:pt>
                <c:pt idx="45">
                  <c:v>46</c:v>
                </c:pt>
                <c:pt idx="46">
                  <c:v>47</c:v>
                </c:pt>
                <c:pt idx="47">
                  <c:v>48</c:v>
                </c:pt>
                <c:pt idx="48">
                  <c:v>49</c:v>
                </c:pt>
                <c:pt idx="49">
                  <c:v>50</c:v>
                </c:pt>
                <c:pt idx="50">
                  <c:v>51</c:v>
                </c:pt>
                <c:pt idx="51">
                  <c:v>52</c:v>
                </c:pt>
                <c:pt idx="52">
                  <c:v>53</c:v>
                </c:pt>
                <c:pt idx="53">
                  <c:v>54</c:v>
                </c:pt>
                <c:pt idx="54">
                  <c:v>55</c:v>
                </c:pt>
                <c:pt idx="55">
                  <c:v>56</c:v>
                </c:pt>
                <c:pt idx="56">
                  <c:v>57</c:v>
                </c:pt>
                <c:pt idx="57">
                  <c:v>58</c:v>
                </c:pt>
                <c:pt idx="58">
                  <c:v>59</c:v>
                </c:pt>
                <c:pt idx="59">
                  <c:v>60</c:v>
                </c:pt>
                <c:pt idx="60">
                  <c:v>61</c:v>
                </c:pt>
                <c:pt idx="61">
                  <c:v>62</c:v>
                </c:pt>
                <c:pt idx="62">
                  <c:v>63</c:v>
                </c:pt>
                <c:pt idx="63">
                  <c:v>64</c:v>
                </c:pt>
                <c:pt idx="64">
                  <c:v>65</c:v>
                </c:pt>
                <c:pt idx="65">
                  <c:v>66</c:v>
                </c:pt>
                <c:pt idx="66">
                  <c:v>67</c:v>
                </c:pt>
                <c:pt idx="67">
                  <c:v>68</c:v>
                </c:pt>
                <c:pt idx="68">
                  <c:v>69</c:v>
                </c:pt>
                <c:pt idx="69">
                  <c:v>70</c:v>
                </c:pt>
                <c:pt idx="70">
                  <c:v>71</c:v>
                </c:pt>
                <c:pt idx="71">
                  <c:v>72</c:v>
                </c:pt>
                <c:pt idx="72">
                  <c:v>73</c:v>
                </c:pt>
                <c:pt idx="73">
                  <c:v>74</c:v>
                </c:pt>
                <c:pt idx="74">
                  <c:v>75</c:v>
                </c:pt>
                <c:pt idx="75">
                  <c:v>76</c:v>
                </c:pt>
                <c:pt idx="76">
                  <c:v>77</c:v>
                </c:pt>
                <c:pt idx="77">
                  <c:v>78</c:v>
                </c:pt>
                <c:pt idx="78">
                  <c:v>79</c:v>
                </c:pt>
                <c:pt idx="79">
                  <c:v>80</c:v>
                </c:pt>
                <c:pt idx="80">
                  <c:v>81</c:v>
                </c:pt>
                <c:pt idx="81">
                  <c:v>82</c:v>
                </c:pt>
                <c:pt idx="82">
                  <c:v>83</c:v>
                </c:pt>
                <c:pt idx="83">
                  <c:v>84</c:v>
                </c:pt>
                <c:pt idx="84">
                  <c:v>85</c:v>
                </c:pt>
                <c:pt idx="85">
                  <c:v>86</c:v>
                </c:pt>
                <c:pt idx="86">
                  <c:v>87</c:v>
                </c:pt>
                <c:pt idx="87">
                  <c:v>88</c:v>
                </c:pt>
                <c:pt idx="88">
                  <c:v>89</c:v>
                </c:pt>
                <c:pt idx="89">
                  <c:v>90</c:v>
                </c:pt>
                <c:pt idx="90">
                  <c:v>91</c:v>
                </c:pt>
                <c:pt idx="91">
                  <c:v>92</c:v>
                </c:pt>
                <c:pt idx="92">
                  <c:v>93</c:v>
                </c:pt>
                <c:pt idx="93">
                  <c:v>94</c:v>
                </c:pt>
                <c:pt idx="94">
                  <c:v>95</c:v>
                </c:pt>
                <c:pt idx="95">
                  <c:v>96</c:v>
                </c:pt>
                <c:pt idx="96">
                  <c:v>97</c:v>
                </c:pt>
                <c:pt idx="97">
                  <c:v>98</c:v>
                </c:pt>
                <c:pt idx="98">
                  <c:v>99</c:v>
                </c:pt>
                <c:pt idx="99">
                  <c:v>100</c:v>
                </c:pt>
                <c:pt idx="100">
                  <c:v>101</c:v>
                </c:pt>
                <c:pt idx="101">
                  <c:v>102</c:v>
                </c:pt>
                <c:pt idx="102">
                  <c:v>103</c:v>
                </c:pt>
                <c:pt idx="103">
                  <c:v>104</c:v>
                </c:pt>
                <c:pt idx="104">
                  <c:v>105</c:v>
                </c:pt>
                <c:pt idx="105">
                  <c:v>106</c:v>
                </c:pt>
                <c:pt idx="106">
                  <c:v>107</c:v>
                </c:pt>
                <c:pt idx="107">
                  <c:v>108</c:v>
                </c:pt>
                <c:pt idx="108">
                  <c:v>109</c:v>
                </c:pt>
                <c:pt idx="109">
                  <c:v>110</c:v>
                </c:pt>
                <c:pt idx="110">
                  <c:v>111</c:v>
                </c:pt>
                <c:pt idx="111">
                  <c:v>112</c:v>
                </c:pt>
                <c:pt idx="112">
                  <c:v>113</c:v>
                </c:pt>
                <c:pt idx="113">
                  <c:v>114</c:v>
                </c:pt>
                <c:pt idx="114">
                  <c:v>115</c:v>
                </c:pt>
                <c:pt idx="115">
                  <c:v>116</c:v>
                </c:pt>
                <c:pt idx="116">
                  <c:v>117</c:v>
                </c:pt>
                <c:pt idx="117">
                  <c:v>118</c:v>
                </c:pt>
                <c:pt idx="118">
                  <c:v>119</c:v>
                </c:pt>
                <c:pt idx="119">
                  <c:v>120</c:v>
                </c:pt>
                <c:pt idx="120">
                  <c:v>121</c:v>
                </c:pt>
                <c:pt idx="121">
                  <c:v>122</c:v>
                </c:pt>
                <c:pt idx="122">
                  <c:v>123</c:v>
                </c:pt>
                <c:pt idx="123">
                  <c:v>124</c:v>
                </c:pt>
                <c:pt idx="124">
                  <c:v>125</c:v>
                </c:pt>
                <c:pt idx="125">
                  <c:v>126</c:v>
                </c:pt>
                <c:pt idx="126">
                  <c:v>127</c:v>
                </c:pt>
                <c:pt idx="127">
                  <c:v>128</c:v>
                </c:pt>
                <c:pt idx="128">
                  <c:v>129</c:v>
                </c:pt>
                <c:pt idx="129">
                  <c:v>130</c:v>
                </c:pt>
                <c:pt idx="130">
                  <c:v>131</c:v>
                </c:pt>
                <c:pt idx="131">
                  <c:v>132</c:v>
                </c:pt>
                <c:pt idx="132">
                  <c:v>133</c:v>
                </c:pt>
                <c:pt idx="133">
                  <c:v>134</c:v>
                </c:pt>
                <c:pt idx="134">
                  <c:v>135</c:v>
                </c:pt>
                <c:pt idx="135">
                  <c:v>136</c:v>
                </c:pt>
                <c:pt idx="136">
                  <c:v>137</c:v>
                </c:pt>
                <c:pt idx="137">
                  <c:v>138</c:v>
                </c:pt>
                <c:pt idx="138">
                  <c:v>139</c:v>
                </c:pt>
                <c:pt idx="139">
                  <c:v>140</c:v>
                </c:pt>
                <c:pt idx="140">
                  <c:v>141</c:v>
                </c:pt>
                <c:pt idx="141">
                  <c:v>142</c:v>
                </c:pt>
                <c:pt idx="142">
                  <c:v>143</c:v>
                </c:pt>
                <c:pt idx="143">
                  <c:v>144</c:v>
                </c:pt>
                <c:pt idx="144">
                  <c:v>145</c:v>
                </c:pt>
                <c:pt idx="145">
                  <c:v>146</c:v>
                </c:pt>
                <c:pt idx="146">
                  <c:v>147</c:v>
                </c:pt>
                <c:pt idx="147">
                  <c:v>148</c:v>
                </c:pt>
                <c:pt idx="148">
                  <c:v>149</c:v>
                </c:pt>
                <c:pt idx="149">
                  <c:v>150</c:v>
                </c:pt>
                <c:pt idx="150">
                  <c:v>151</c:v>
                </c:pt>
                <c:pt idx="151">
                  <c:v>152</c:v>
                </c:pt>
                <c:pt idx="152">
                  <c:v>153</c:v>
                </c:pt>
                <c:pt idx="153">
                  <c:v>154</c:v>
                </c:pt>
                <c:pt idx="154">
                  <c:v>155</c:v>
                </c:pt>
                <c:pt idx="155">
                  <c:v>156</c:v>
                </c:pt>
                <c:pt idx="156">
                  <c:v>157</c:v>
                </c:pt>
                <c:pt idx="157">
                  <c:v>158</c:v>
                </c:pt>
                <c:pt idx="158">
                  <c:v>159</c:v>
                </c:pt>
                <c:pt idx="159">
                  <c:v>160</c:v>
                </c:pt>
                <c:pt idx="160">
                  <c:v>161</c:v>
                </c:pt>
                <c:pt idx="161">
                  <c:v>162</c:v>
                </c:pt>
                <c:pt idx="162">
                  <c:v>163</c:v>
                </c:pt>
                <c:pt idx="163">
                  <c:v>164</c:v>
                </c:pt>
                <c:pt idx="164">
                  <c:v>165</c:v>
                </c:pt>
                <c:pt idx="165">
                  <c:v>166</c:v>
                </c:pt>
                <c:pt idx="166">
                  <c:v>167</c:v>
                </c:pt>
                <c:pt idx="167">
                  <c:v>168</c:v>
                </c:pt>
                <c:pt idx="168">
                  <c:v>169</c:v>
                </c:pt>
                <c:pt idx="169">
                  <c:v>170</c:v>
                </c:pt>
                <c:pt idx="170">
                  <c:v>171</c:v>
                </c:pt>
                <c:pt idx="171">
                  <c:v>172</c:v>
                </c:pt>
                <c:pt idx="172">
                  <c:v>173</c:v>
                </c:pt>
                <c:pt idx="173">
                  <c:v>174</c:v>
                </c:pt>
                <c:pt idx="174">
                  <c:v>175</c:v>
                </c:pt>
                <c:pt idx="175">
                  <c:v>176</c:v>
                </c:pt>
                <c:pt idx="176">
                  <c:v>177</c:v>
                </c:pt>
                <c:pt idx="177">
                  <c:v>178</c:v>
                </c:pt>
                <c:pt idx="178">
                  <c:v>179</c:v>
                </c:pt>
                <c:pt idx="179">
                  <c:v>180</c:v>
                </c:pt>
                <c:pt idx="180">
                  <c:v>181</c:v>
                </c:pt>
                <c:pt idx="181">
                  <c:v>182</c:v>
                </c:pt>
                <c:pt idx="182">
                  <c:v>183</c:v>
                </c:pt>
                <c:pt idx="183">
                  <c:v>184</c:v>
                </c:pt>
                <c:pt idx="184">
                  <c:v>185</c:v>
                </c:pt>
                <c:pt idx="185">
                  <c:v>186</c:v>
                </c:pt>
                <c:pt idx="186">
                  <c:v>187</c:v>
                </c:pt>
                <c:pt idx="187">
                  <c:v>188</c:v>
                </c:pt>
                <c:pt idx="188">
                  <c:v>189</c:v>
                </c:pt>
                <c:pt idx="189">
                  <c:v>190</c:v>
                </c:pt>
                <c:pt idx="190">
                  <c:v>191</c:v>
                </c:pt>
                <c:pt idx="191">
                  <c:v>192</c:v>
                </c:pt>
                <c:pt idx="192">
                  <c:v>193</c:v>
                </c:pt>
                <c:pt idx="193">
                  <c:v>194</c:v>
                </c:pt>
                <c:pt idx="194">
                  <c:v>195</c:v>
                </c:pt>
                <c:pt idx="195">
                  <c:v>196</c:v>
                </c:pt>
                <c:pt idx="196">
                  <c:v>197</c:v>
                </c:pt>
                <c:pt idx="197">
                  <c:v>198</c:v>
                </c:pt>
                <c:pt idx="198">
                  <c:v>199</c:v>
                </c:pt>
                <c:pt idx="199">
                  <c:v>200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00"/>
                <c:pt idx="0">
                  <c:v>31.087483967</c:v>
                </c:pt>
                <c:pt idx="1">
                  <c:v>27.321550271</c:v>
                </c:pt>
                <c:pt idx="2">
                  <c:v>30.987359826</c:v>
                </c:pt>
                <c:pt idx="3">
                  <c:v>23.577738585</c:v>
                </c:pt>
                <c:pt idx="4">
                  <c:v>31.131211928</c:v>
                </c:pt>
                <c:pt idx="5">
                  <c:v>27.358429078</c:v>
                </c:pt>
                <c:pt idx="6">
                  <c:v>31.112001778</c:v>
                </c:pt>
                <c:pt idx="7">
                  <c:v>27.396638133</c:v>
                </c:pt>
                <c:pt idx="8">
                  <c:v>31.163194016</c:v>
                </c:pt>
                <c:pt idx="9">
                  <c:v>27.235214095</c:v>
                </c:pt>
                <c:pt idx="10">
                  <c:v>31.112795307</c:v>
                </c:pt>
                <c:pt idx="11">
                  <c:v>27.256312347</c:v>
                </c:pt>
                <c:pt idx="12">
                  <c:v>31.096047336</c:v>
                </c:pt>
                <c:pt idx="13">
                  <c:v>27.454107255</c:v>
                </c:pt>
                <c:pt idx="14">
                  <c:v>31.076050417</c:v>
                </c:pt>
                <c:pt idx="15">
                  <c:v>25.246876714</c:v>
                </c:pt>
                <c:pt idx="16">
                  <c:v>20.610585275</c:v>
                </c:pt>
                <c:pt idx="17">
                  <c:v>27.329109485</c:v>
                </c:pt>
                <c:pt idx="18">
                  <c:v>30.883254884</c:v>
                </c:pt>
                <c:pt idx="19">
                  <c:v>27.264143138</c:v>
                </c:pt>
                <c:pt idx="20">
                  <c:v>31.159082548</c:v>
                </c:pt>
                <c:pt idx="21">
                  <c:v>27.185407727</c:v>
                </c:pt>
                <c:pt idx="22">
                  <c:v>31.030476832</c:v>
                </c:pt>
                <c:pt idx="23">
                  <c:v>27.446784522</c:v>
                </c:pt>
                <c:pt idx="24">
                  <c:v>31.081462428</c:v>
                </c:pt>
                <c:pt idx="25">
                  <c:v>26.884168212</c:v>
                </c:pt>
                <c:pt idx="26">
                  <c:v>30.683385014</c:v>
                </c:pt>
                <c:pt idx="27">
                  <c:v>27.236081958</c:v>
                </c:pt>
                <c:pt idx="28">
                  <c:v>31.055349969</c:v>
                </c:pt>
                <c:pt idx="29">
                  <c:v>26.917908284</c:v>
                </c:pt>
                <c:pt idx="30">
                  <c:v>30.991747165</c:v>
                </c:pt>
                <c:pt idx="31">
                  <c:v>27.287194356</c:v>
                </c:pt>
                <c:pt idx="32">
                  <c:v>31.191633016</c:v>
                </c:pt>
                <c:pt idx="33">
                  <c:v>2.151744373</c:v>
                </c:pt>
                <c:pt idx="34">
                  <c:v>31.243631701</c:v>
                </c:pt>
                <c:pt idx="35">
                  <c:v>27.871827941</c:v>
                </c:pt>
                <c:pt idx="36">
                  <c:v>31.357234161</c:v>
                </c:pt>
                <c:pt idx="37">
                  <c:v>27.11600631</c:v>
                </c:pt>
                <c:pt idx="38">
                  <c:v>30.863325926</c:v>
                </c:pt>
                <c:pt idx="39">
                  <c:v>27.440124889</c:v>
                </c:pt>
                <c:pt idx="40">
                  <c:v>30.918091751</c:v>
                </c:pt>
                <c:pt idx="41">
                  <c:v>27.328229739</c:v>
                </c:pt>
                <c:pt idx="42">
                  <c:v>31.010212058</c:v>
                </c:pt>
                <c:pt idx="43">
                  <c:v>27.232268494</c:v>
                </c:pt>
                <c:pt idx="44">
                  <c:v>31.215834599</c:v>
                </c:pt>
                <c:pt idx="45">
                  <c:v>21.470037048</c:v>
                </c:pt>
                <c:pt idx="46">
                  <c:v>31.20306655</c:v>
                </c:pt>
                <c:pt idx="47">
                  <c:v>27.097982191</c:v>
                </c:pt>
                <c:pt idx="48">
                  <c:v>31.211802271</c:v>
                </c:pt>
                <c:pt idx="49">
                  <c:v>27.760525128</c:v>
                </c:pt>
                <c:pt idx="50">
                  <c:v>31.183837302</c:v>
                </c:pt>
                <c:pt idx="51">
                  <c:v>17.630239552</c:v>
                </c:pt>
                <c:pt idx="52">
                  <c:v>31.044085776</c:v>
                </c:pt>
                <c:pt idx="53">
                  <c:v>22.864034349</c:v>
                </c:pt>
                <c:pt idx="54">
                  <c:v>31.169525636</c:v>
                </c:pt>
                <c:pt idx="55">
                  <c:v>27.157655056</c:v>
                </c:pt>
                <c:pt idx="56">
                  <c:v>31.013312094</c:v>
                </c:pt>
                <c:pt idx="57">
                  <c:v>24.931790733</c:v>
                </c:pt>
                <c:pt idx="58">
                  <c:v>8.219518187</c:v>
                </c:pt>
                <c:pt idx="59">
                  <c:v>5.874656299</c:v>
                </c:pt>
                <c:pt idx="60">
                  <c:v>31.158897093</c:v>
                </c:pt>
                <c:pt idx="61">
                  <c:v>27.487832594</c:v>
                </c:pt>
                <c:pt idx="62">
                  <c:v>31.195373555</c:v>
                </c:pt>
                <c:pt idx="63">
                  <c:v>27.474981374</c:v>
                </c:pt>
                <c:pt idx="64">
                  <c:v>30.959909855</c:v>
                </c:pt>
                <c:pt idx="65">
                  <c:v>27.203719183</c:v>
                </c:pt>
                <c:pt idx="66">
                  <c:v>30.947548454</c:v>
                </c:pt>
                <c:pt idx="67">
                  <c:v>21.398875133</c:v>
                </c:pt>
                <c:pt idx="68">
                  <c:v>31.083084861</c:v>
                </c:pt>
                <c:pt idx="69">
                  <c:v>27.234186899</c:v>
                </c:pt>
                <c:pt idx="70">
                  <c:v>31.019069853</c:v>
                </c:pt>
                <c:pt idx="71">
                  <c:v>27.503705821</c:v>
                </c:pt>
                <c:pt idx="72">
                  <c:v>31.159337551</c:v>
                </c:pt>
                <c:pt idx="73">
                  <c:v>27.234476159</c:v>
                </c:pt>
                <c:pt idx="74">
                  <c:v>31.078341066</c:v>
                </c:pt>
                <c:pt idx="75">
                  <c:v>27.663293875</c:v>
                </c:pt>
                <c:pt idx="76">
                  <c:v>31.154323255</c:v>
                </c:pt>
                <c:pt idx="77">
                  <c:v>17.865702662</c:v>
                </c:pt>
                <c:pt idx="78">
                  <c:v>31.080624365</c:v>
                </c:pt>
                <c:pt idx="79">
                  <c:v>21.423704885</c:v>
                </c:pt>
                <c:pt idx="80">
                  <c:v>30.986320499</c:v>
                </c:pt>
                <c:pt idx="81">
                  <c:v>26.851855385</c:v>
                </c:pt>
                <c:pt idx="82">
                  <c:v>31.121973912</c:v>
                </c:pt>
                <c:pt idx="83">
                  <c:v>27.703282162</c:v>
                </c:pt>
                <c:pt idx="84">
                  <c:v>31.126800438</c:v>
                </c:pt>
                <c:pt idx="85">
                  <c:v>27.128588263</c:v>
                </c:pt>
                <c:pt idx="86">
                  <c:v>30.947152076</c:v>
                </c:pt>
                <c:pt idx="87">
                  <c:v>27.53981668</c:v>
                </c:pt>
                <c:pt idx="88">
                  <c:v>31.151295371</c:v>
                </c:pt>
                <c:pt idx="89">
                  <c:v>27.053533329</c:v>
                </c:pt>
                <c:pt idx="90">
                  <c:v>31.052878513</c:v>
                </c:pt>
                <c:pt idx="91">
                  <c:v>27.476315226</c:v>
                </c:pt>
                <c:pt idx="92">
                  <c:v>31.230181071</c:v>
                </c:pt>
                <c:pt idx="93">
                  <c:v>27.351544306</c:v>
                </c:pt>
                <c:pt idx="94">
                  <c:v>31.105400876</c:v>
                </c:pt>
                <c:pt idx="95">
                  <c:v>18.766747004</c:v>
                </c:pt>
                <c:pt idx="96">
                  <c:v>21.086112765</c:v>
                </c:pt>
                <c:pt idx="97">
                  <c:v>27.290163707</c:v>
                </c:pt>
                <c:pt idx="98">
                  <c:v>31.066453347</c:v>
                </c:pt>
                <c:pt idx="99">
                  <c:v>27.081954912</c:v>
                </c:pt>
                <c:pt idx="100">
                  <c:v>31.145658278</c:v>
                </c:pt>
                <c:pt idx="101">
                  <c:v>27.276999172</c:v>
                </c:pt>
                <c:pt idx="102">
                  <c:v>30.88151662</c:v>
                </c:pt>
                <c:pt idx="103">
                  <c:v>27.441527279</c:v>
                </c:pt>
                <c:pt idx="104">
                  <c:v>31.051044363</c:v>
                </c:pt>
                <c:pt idx="105">
                  <c:v>27.307744113</c:v>
                </c:pt>
                <c:pt idx="106">
                  <c:v>31.089630137</c:v>
                </c:pt>
                <c:pt idx="107">
                  <c:v>27.505704812</c:v>
                </c:pt>
                <c:pt idx="108">
                  <c:v>30.996143394</c:v>
                </c:pt>
                <c:pt idx="109">
                  <c:v>26.719791098</c:v>
                </c:pt>
                <c:pt idx="110">
                  <c:v>31.062244493</c:v>
                </c:pt>
                <c:pt idx="111">
                  <c:v>27.452523631</c:v>
                </c:pt>
                <c:pt idx="112">
                  <c:v>31.168860656</c:v>
                </c:pt>
                <c:pt idx="113">
                  <c:v>27.560083837</c:v>
                </c:pt>
                <c:pt idx="114">
                  <c:v>31.177801592</c:v>
                </c:pt>
                <c:pt idx="115">
                  <c:v>19.665459415</c:v>
                </c:pt>
                <c:pt idx="116">
                  <c:v>31.090414832</c:v>
                </c:pt>
                <c:pt idx="117">
                  <c:v>26.817805487</c:v>
                </c:pt>
                <c:pt idx="118">
                  <c:v>30.959993772</c:v>
                </c:pt>
                <c:pt idx="119">
                  <c:v>27.388814643</c:v>
                </c:pt>
                <c:pt idx="120">
                  <c:v>31.131836733</c:v>
                </c:pt>
                <c:pt idx="121">
                  <c:v>20.607292751</c:v>
                </c:pt>
                <c:pt idx="122">
                  <c:v>8.46630945800001</c:v>
                </c:pt>
                <c:pt idx="123">
                  <c:v>5.805252027</c:v>
                </c:pt>
                <c:pt idx="124">
                  <c:v>31.08530733</c:v>
                </c:pt>
                <c:pt idx="125">
                  <c:v>27.549852898</c:v>
                </c:pt>
                <c:pt idx="126">
                  <c:v>31.135431778</c:v>
                </c:pt>
                <c:pt idx="127">
                  <c:v>27.365108712</c:v>
                </c:pt>
                <c:pt idx="128">
                  <c:v>30.986511546</c:v>
                </c:pt>
                <c:pt idx="129">
                  <c:v>27.247493309</c:v>
                </c:pt>
                <c:pt idx="130">
                  <c:v>31.074905219</c:v>
                </c:pt>
                <c:pt idx="131">
                  <c:v>21.039233033</c:v>
                </c:pt>
                <c:pt idx="132">
                  <c:v>30.943089792</c:v>
                </c:pt>
                <c:pt idx="133">
                  <c:v>27.28237128</c:v>
                </c:pt>
                <c:pt idx="134">
                  <c:v>30.903209596</c:v>
                </c:pt>
                <c:pt idx="135">
                  <c:v>27.604212726</c:v>
                </c:pt>
                <c:pt idx="136">
                  <c:v>31.125235123</c:v>
                </c:pt>
                <c:pt idx="137">
                  <c:v>27.203748634</c:v>
                </c:pt>
                <c:pt idx="138">
                  <c:v>31.189449513</c:v>
                </c:pt>
                <c:pt idx="139">
                  <c:v>27.773037136</c:v>
                </c:pt>
                <c:pt idx="140">
                  <c:v>31.08023226</c:v>
                </c:pt>
                <c:pt idx="141">
                  <c:v>18.159676397</c:v>
                </c:pt>
                <c:pt idx="142">
                  <c:v>31.009814074</c:v>
                </c:pt>
                <c:pt idx="143">
                  <c:v>21.201588809</c:v>
                </c:pt>
                <c:pt idx="144">
                  <c:v>31.104838735</c:v>
                </c:pt>
                <c:pt idx="145">
                  <c:v>27.466242442</c:v>
                </c:pt>
                <c:pt idx="146">
                  <c:v>31.05747635</c:v>
                </c:pt>
                <c:pt idx="147">
                  <c:v>27.383776532</c:v>
                </c:pt>
                <c:pt idx="148">
                  <c:v>31.158541646</c:v>
                </c:pt>
                <c:pt idx="149">
                  <c:v>27.345674738</c:v>
                </c:pt>
                <c:pt idx="150">
                  <c:v>30.990577596</c:v>
                </c:pt>
                <c:pt idx="151">
                  <c:v>27.022439534</c:v>
                </c:pt>
                <c:pt idx="152">
                  <c:v>31.134490506</c:v>
                </c:pt>
                <c:pt idx="153">
                  <c:v>27.155031388</c:v>
                </c:pt>
                <c:pt idx="154">
                  <c:v>31.048143933</c:v>
                </c:pt>
                <c:pt idx="155">
                  <c:v>26.728368455</c:v>
                </c:pt>
                <c:pt idx="156">
                  <c:v>30.906850864</c:v>
                </c:pt>
                <c:pt idx="157">
                  <c:v>21.36314568</c:v>
                </c:pt>
                <c:pt idx="158">
                  <c:v>30.991647787</c:v>
                </c:pt>
                <c:pt idx="159">
                  <c:v>27.432132801</c:v>
                </c:pt>
                <c:pt idx="160">
                  <c:v>2.134909333</c:v>
                </c:pt>
                <c:pt idx="161">
                  <c:v>22.090952205</c:v>
                </c:pt>
                <c:pt idx="162">
                  <c:v>31.027135841</c:v>
                </c:pt>
                <c:pt idx="163">
                  <c:v>27.268308775</c:v>
                </c:pt>
                <c:pt idx="164">
                  <c:v>30.909618497</c:v>
                </c:pt>
                <c:pt idx="165">
                  <c:v>26.999316899</c:v>
                </c:pt>
                <c:pt idx="166">
                  <c:v>30.805407484</c:v>
                </c:pt>
                <c:pt idx="167">
                  <c:v>27.430126524</c:v>
                </c:pt>
                <c:pt idx="168">
                  <c:v>30.942342997</c:v>
                </c:pt>
                <c:pt idx="169">
                  <c:v>27.24917156</c:v>
                </c:pt>
                <c:pt idx="170">
                  <c:v>31.082023724</c:v>
                </c:pt>
                <c:pt idx="171">
                  <c:v>27.276460301</c:v>
                </c:pt>
                <c:pt idx="172">
                  <c:v>30.949736336</c:v>
                </c:pt>
                <c:pt idx="173">
                  <c:v>25.061276794</c:v>
                </c:pt>
                <c:pt idx="174">
                  <c:v>31.021076383</c:v>
                </c:pt>
                <c:pt idx="175">
                  <c:v>27.120852697</c:v>
                </c:pt>
                <c:pt idx="176">
                  <c:v>30.97340351</c:v>
                </c:pt>
                <c:pt idx="177">
                  <c:v>27.912322615</c:v>
                </c:pt>
                <c:pt idx="178">
                  <c:v>30.888311386</c:v>
                </c:pt>
                <c:pt idx="179">
                  <c:v>19.956545992</c:v>
                </c:pt>
                <c:pt idx="180">
                  <c:v>31.006454575</c:v>
                </c:pt>
                <c:pt idx="181">
                  <c:v>25.739202758</c:v>
                </c:pt>
                <c:pt idx="182">
                  <c:v>30.888075987</c:v>
                </c:pt>
                <c:pt idx="183">
                  <c:v>27.384224156</c:v>
                </c:pt>
                <c:pt idx="184">
                  <c:v>31.03750599</c:v>
                </c:pt>
                <c:pt idx="185">
                  <c:v>21.062150735</c:v>
                </c:pt>
                <c:pt idx="186">
                  <c:v>8.693030735</c:v>
                </c:pt>
                <c:pt idx="187">
                  <c:v>21.088958317</c:v>
                </c:pt>
                <c:pt idx="188">
                  <c:v>31.087860871</c:v>
                </c:pt>
                <c:pt idx="189">
                  <c:v>30.723172793</c:v>
                </c:pt>
                <c:pt idx="190">
                  <c:v>30.983714845</c:v>
                </c:pt>
                <c:pt idx="191">
                  <c:v>26.652223586</c:v>
                </c:pt>
                <c:pt idx="192">
                  <c:v>30.932584627</c:v>
                </c:pt>
                <c:pt idx="193">
                  <c:v>27.006594343</c:v>
                </c:pt>
                <c:pt idx="194">
                  <c:v>31.03287574</c:v>
                </c:pt>
                <c:pt idx="195">
                  <c:v>20.635092495</c:v>
                </c:pt>
                <c:pt idx="196">
                  <c:v>30.711134797</c:v>
                </c:pt>
                <c:pt idx="197">
                  <c:v>27.41320164</c:v>
                </c:pt>
                <c:pt idx="198">
                  <c:v>30.953053053</c:v>
                </c:pt>
                <c:pt idx="199">
                  <c:v>27.55442053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61228786"/>
        <c:axId val="49001737"/>
      </c:lineChart>
      <c:catAx>
        <c:axId val="61228786"/>
        <c:scaling>
          <c:orientation val="minMax"/>
        </c:scaling>
        <c:delete val="1"/>
        <c:axPos val="b"/>
        <c:title>
          <c:tx>
            <c:rich>
              <a:bodyPr rot="0"/>
              <a:lstStyle/>
              <a:p>
                <a:pPr>
                  <a:defRPr b="1" lang="en-US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Time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49001737"/>
        <c:auto val="1"/>
        <c:lblAlgn val="ctr"/>
        <c:lblOffset val="100"/>
        <c:noMultiLvlLbl val="0"/>
      </c:catAx>
      <c:valAx>
        <c:axId val="49001737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title>
          <c:tx>
            <c:rich>
              <a:bodyPr rot="-5400000"/>
              <a:lstStyle/>
              <a:p>
                <a:pPr>
                  <a:defRPr b="1" lang="en-US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Read Speed (MB/s)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61228786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n-US" sz="2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64 MB Buffer Reads of 350 MB File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ineChart>
        <c:grouping val="stacked"/>
        <c:varyColors val="0"/>
        <c:ser>
          <c:idx val="0"/>
          <c:order val="0"/>
          <c:spPr>
            <a:solidFill>
              <a:srgbClr val="2da2bf"/>
            </a:solidFill>
            <a:ln w="28440">
              <a:solidFill>
                <a:srgbClr val="2da2bf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9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  <c:pt idx="12">
                  <c:v>13</c:v>
                </c:pt>
                <c:pt idx="13">
                  <c:v>14</c:v>
                </c:pt>
                <c:pt idx="14">
                  <c:v>15</c:v>
                </c:pt>
                <c:pt idx="15">
                  <c:v>16</c:v>
                </c:pt>
                <c:pt idx="16">
                  <c:v>17</c:v>
                </c:pt>
                <c:pt idx="17">
                  <c:v>18</c:v>
                </c:pt>
                <c:pt idx="18">
                  <c:v>19</c:v>
                </c:pt>
                <c:pt idx="19">
                  <c:v>20</c:v>
                </c:pt>
                <c:pt idx="20">
                  <c:v>21</c:v>
                </c:pt>
                <c:pt idx="21">
                  <c:v>22</c:v>
                </c:pt>
                <c:pt idx="22">
                  <c:v>23</c:v>
                </c:pt>
                <c:pt idx="23">
                  <c:v>24</c:v>
                </c:pt>
                <c:pt idx="24">
                  <c:v>25</c:v>
                </c:pt>
                <c:pt idx="25">
                  <c:v>26</c:v>
                </c:pt>
                <c:pt idx="26">
                  <c:v>27</c:v>
                </c:pt>
                <c:pt idx="27">
                  <c:v>28</c:v>
                </c:pt>
                <c:pt idx="28">
                  <c:v>29</c:v>
                </c:pt>
                <c:pt idx="29">
                  <c:v>30</c:v>
                </c:pt>
                <c:pt idx="30">
                  <c:v>31</c:v>
                </c:pt>
                <c:pt idx="31">
                  <c:v>32</c:v>
                </c:pt>
                <c:pt idx="32">
                  <c:v>33</c:v>
                </c:pt>
                <c:pt idx="33">
                  <c:v>34</c:v>
                </c:pt>
                <c:pt idx="34">
                  <c:v>35</c:v>
                </c:pt>
                <c:pt idx="35">
                  <c:v>36</c:v>
                </c:pt>
                <c:pt idx="36">
                  <c:v>37</c:v>
                </c:pt>
                <c:pt idx="37">
                  <c:v>38</c:v>
                </c:pt>
                <c:pt idx="38">
                  <c:v>39</c:v>
                </c:pt>
                <c:pt idx="39">
                  <c:v>40</c:v>
                </c:pt>
                <c:pt idx="40">
                  <c:v>41</c:v>
                </c:pt>
                <c:pt idx="41">
                  <c:v>42</c:v>
                </c:pt>
                <c:pt idx="42">
                  <c:v>43</c:v>
                </c:pt>
                <c:pt idx="43">
                  <c:v>44</c:v>
                </c:pt>
                <c:pt idx="44">
                  <c:v>45</c:v>
                </c:pt>
                <c:pt idx="45">
                  <c:v>46</c:v>
                </c:pt>
                <c:pt idx="46">
                  <c:v>47</c:v>
                </c:pt>
                <c:pt idx="47">
                  <c:v>48</c:v>
                </c:pt>
                <c:pt idx="48">
                  <c:v>49</c:v>
                </c:pt>
                <c:pt idx="49">
                  <c:v>50</c:v>
                </c:pt>
                <c:pt idx="50">
                  <c:v>51</c:v>
                </c:pt>
                <c:pt idx="51">
                  <c:v>52</c:v>
                </c:pt>
                <c:pt idx="52">
                  <c:v>53</c:v>
                </c:pt>
                <c:pt idx="53">
                  <c:v>54</c:v>
                </c:pt>
                <c:pt idx="54">
                  <c:v>55</c:v>
                </c:pt>
                <c:pt idx="55">
                  <c:v>56</c:v>
                </c:pt>
                <c:pt idx="56">
                  <c:v>57</c:v>
                </c:pt>
                <c:pt idx="57">
                  <c:v>58</c:v>
                </c:pt>
                <c:pt idx="58">
                  <c:v>59</c:v>
                </c:pt>
                <c:pt idx="59">
                  <c:v>60</c:v>
                </c:pt>
                <c:pt idx="60">
                  <c:v>61</c:v>
                </c:pt>
                <c:pt idx="61">
                  <c:v>62</c:v>
                </c:pt>
                <c:pt idx="62">
                  <c:v>63</c:v>
                </c:pt>
                <c:pt idx="63">
                  <c:v>64</c:v>
                </c:pt>
                <c:pt idx="64">
                  <c:v>65</c:v>
                </c:pt>
                <c:pt idx="65">
                  <c:v>66</c:v>
                </c:pt>
                <c:pt idx="66">
                  <c:v>67</c:v>
                </c:pt>
                <c:pt idx="67">
                  <c:v>68</c:v>
                </c:pt>
                <c:pt idx="68">
                  <c:v>69</c:v>
                </c:pt>
                <c:pt idx="69">
                  <c:v>70</c:v>
                </c:pt>
                <c:pt idx="70">
                  <c:v>71</c:v>
                </c:pt>
                <c:pt idx="71">
                  <c:v>72</c:v>
                </c:pt>
                <c:pt idx="72">
                  <c:v>73</c:v>
                </c:pt>
                <c:pt idx="73">
                  <c:v>74</c:v>
                </c:pt>
                <c:pt idx="74">
                  <c:v>75</c:v>
                </c:pt>
                <c:pt idx="75">
                  <c:v>76</c:v>
                </c:pt>
                <c:pt idx="76">
                  <c:v>77</c:v>
                </c:pt>
                <c:pt idx="77">
                  <c:v>78</c:v>
                </c:pt>
                <c:pt idx="78">
                  <c:v>79</c:v>
                </c:pt>
                <c:pt idx="79">
                  <c:v>80</c:v>
                </c:pt>
                <c:pt idx="80">
                  <c:v>81</c:v>
                </c:pt>
                <c:pt idx="81">
                  <c:v>82</c:v>
                </c:pt>
                <c:pt idx="82">
                  <c:v>83</c:v>
                </c:pt>
                <c:pt idx="83">
                  <c:v>84</c:v>
                </c:pt>
                <c:pt idx="84">
                  <c:v>85</c:v>
                </c:pt>
                <c:pt idx="85">
                  <c:v>86</c:v>
                </c:pt>
                <c:pt idx="86">
                  <c:v>87</c:v>
                </c:pt>
                <c:pt idx="87">
                  <c:v>88</c:v>
                </c:pt>
                <c:pt idx="88">
                  <c:v>89</c:v>
                </c:pt>
                <c:pt idx="89">
                  <c:v>90</c:v>
                </c:pt>
                <c:pt idx="90">
                  <c:v>91</c:v>
                </c:pt>
                <c:pt idx="91">
                  <c:v>92</c:v>
                </c:pt>
                <c:pt idx="92">
                  <c:v>93</c:v>
                </c:pt>
                <c:pt idx="93">
                  <c:v>94</c:v>
                </c:pt>
                <c:pt idx="94">
                  <c:v>95</c:v>
                </c:pt>
                <c:pt idx="95">
                  <c:v>96</c:v>
                </c:pt>
                <c:pt idx="96">
                  <c:v>97</c:v>
                </c:pt>
                <c:pt idx="97">
                  <c:v>98</c:v>
                </c:pt>
                <c:pt idx="98">
                  <c:v>9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9"/>
                <c:pt idx="0">
                  <c:v>24.647148397</c:v>
                </c:pt>
                <c:pt idx="1">
                  <c:v>24.507182289</c:v>
                </c:pt>
                <c:pt idx="2">
                  <c:v>24.614956059</c:v>
                </c:pt>
                <c:pt idx="3">
                  <c:v>24.896206239</c:v>
                </c:pt>
                <c:pt idx="4">
                  <c:v>23.74839455</c:v>
                </c:pt>
                <c:pt idx="5">
                  <c:v>24.465534238</c:v>
                </c:pt>
                <c:pt idx="6">
                  <c:v>24.719605062</c:v>
                </c:pt>
                <c:pt idx="7">
                  <c:v>24.479548603</c:v>
                </c:pt>
                <c:pt idx="8">
                  <c:v>24.809922321</c:v>
                </c:pt>
                <c:pt idx="9">
                  <c:v>24.960223557</c:v>
                </c:pt>
                <c:pt idx="10">
                  <c:v>23.940296031</c:v>
                </c:pt>
                <c:pt idx="11">
                  <c:v>24.114011512</c:v>
                </c:pt>
                <c:pt idx="12">
                  <c:v>24.767776123</c:v>
                </c:pt>
                <c:pt idx="13">
                  <c:v>24.399410331</c:v>
                </c:pt>
                <c:pt idx="14">
                  <c:v>24.708774242</c:v>
                </c:pt>
                <c:pt idx="15">
                  <c:v>25.174157187</c:v>
                </c:pt>
                <c:pt idx="16">
                  <c:v>24.047911034</c:v>
                </c:pt>
                <c:pt idx="17">
                  <c:v>24.190864401</c:v>
                </c:pt>
                <c:pt idx="18">
                  <c:v>24.686261404</c:v>
                </c:pt>
                <c:pt idx="19">
                  <c:v>24.635892995</c:v>
                </c:pt>
                <c:pt idx="20">
                  <c:v>24.651562653</c:v>
                </c:pt>
                <c:pt idx="21">
                  <c:v>24.680590745</c:v>
                </c:pt>
                <c:pt idx="22">
                  <c:v>24.682850445</c:v>
                </c:pt>
                <c:pt idx="23">
                  <c:v>24.420792428</c:v>
                </c:pt>
                <c:pt idx="24">
                  <c:v>24.358775235</c:v>
                </c:pt>
                <c:pt idx="25">
                  <c:v>24.374220112</c:v>
                </c:pt>
                <c:pt idx="26">
                  <c:v>24.592816549</c:v>
                </c:pt>
                <c:pt idx="27">
                  <c:v>24.973067408</c:v>
                </c:pt>
                <c:pt idx="28">
                  <c:v>23.953284779</c:v>
                </c:pt>
                <c:pt idx="29">
                  <c:v>24.309163761</c:v>
                </c:pt>
                <c:pt idx="30">
                  <c:v>24.789242508</c:v>
                </c:pt>
                <c:pt idx="31">
                  <c:v>24.413335829</c:v>
                </c:pt>
                <c:pt idx="32">
                  <c:v>24.551851929</c:v>
                </c:pt>
                <c:pt idx="33">
                  <c:v>25.141650002</c:v>
                </c:pt>
                <c:pt idx="34">
                  <c:v>23.903973596</c:v>
                </c:pt>
                <c:pt idx="35">
                  <c:v>24.332566627</c:v>
                </c:pt>
                <c:pt idx="36">
                  <c:v>24.568999899</c:v>
                </c:pt>
                <c:pt idx="37">
                  <c:v>24.592413402</c:v>
                </c:pt>
                <c:pt idx="38">
                  <c:v>24.550962562</c:v>
                </c:pt>
                <c:pt idx="39">
                  <c:v>24.947361265</c:v>
                </c:pt>
                <c:pt idx="40">
                  <c:v>23.780044921</c:v>
                </c:pt>
                <c:pt idx="41">
                  <c:v>24.544929961</c:v>
                </c:pt>
                <c:pt idx="42">
                  <c:v>24.612795393</c:v>
                </c:pt>
                <c:pt idx="43">
                  <c:v>24.506622702</c:v>
                </c:pt>
                <c:pt idx="44">
                  <c:v>24.709478974</c:v>
                </c:pt>
                <c:pt idx="45">
                  <c:v>25.092212613</c:v>
                </c:pt>
                <c:pt idx="46">
                  <c:v>23.887296633</c:v>
                </c:pt>
                <c:pt idx="47">
                  <c:v>24.114567822</c:v>
                </c:pt>
                <c:pt idx="48">
                  <c:v>24.687408466</c:v>
                </c:pt>
                <c:pt idx="49">
                  <c:v>24.402207812</c:v>
                </c:pt>
                <c:pt idx="50">
                  <c:v>24.651491982</c:v>
                </c:pt>
                <c:pt idx="51">
                  <c:v>25.205262333</c:v>
                </c:pt>
                <c:pt idx="52">
                  <c:v>24.104296835</c:v>
                </c:pt>
                <c:pt idx="53">
                  <c:v>24.115046978</c:v>
                </c:pt>
                <c:pt idx="54">
                  <c:v>24.687116348</c:v>
                </c:pt>
                <c:pt idx="55">
                  <c:v>24.479338019</c:v>
                </c:pt>
                <c:pt idx="56">
                  <c:v>24.641812267</c:v>
                </c:pt>
                <c:pt idx="57">
                  <c:v>24.850829201</c:v>
                </c:pt>
                <c:pt idx="58">
                  <c:v>24.683189054</c:v>
                </c:pt>
                <c:pt idx="59">
                  <c:v>24.34350761</c:v>
                </c:pt>
                <c:pt idx="60">
                  <c:v>24.530020257</c:v>
                </c:pt>
                <c:pt idx="61">
                  <c:v>24.129960936</c:v>
                </c:pt>
                <c:pt idx="62">
                  <c:v>24.515549377</c:v>
                </c:pt>
                <c:pt idx="63">
                  <c:v>25.055133042</c:v>
                </c:pt>
                <c:pt idx="64">
                  <c:v>24.286309555</c:v>
                </c:pt>
                <c:pt idx="65">
                  <c:v>24.083112854</c:v>
                </c:pt>
                <c:pt idx="66">
                  <c:v>24.62465422</c:v>
                </c:pt>
                <c:pt idx="67">
                  <c:v>24.375732691</c:v>
                </c:pt>
                <c:pt idx="68">
                  <c:v>24.50044518</c:v>
                </c:pt>
                <c:pt idx="69">
                  <c:v>25.153889339</c:v>
                </c:pt>
                <c:pt idx="70">
                  <c:v>23.905955795</c:v>
                </c:pt>
                <c:pt idx="71">
                  <c:v>24.354388053</c:v>
                </c:pt>
                <c:pt idx="72">
                  <c:v>24.623818918</c:v>
                </c:pt>
                <c:pt idx="73">
                  <c:v>24.588416999</c:v>
                </c:pt>
                <c:pt idx="74">
                  <c:v>24.507654058</c:v>
                </c:pt>
                <c:pt idx="75">
                  <c:v>24.916513077</c:v>
                </c:pt>
                <c:pt idx="76">
                  <c:v>23.93975646</c:v>
                </c:pt>
                <c:pt idx="77">
                  <c:v>24.576994044</c:v>
                </c:pt>
                <c:pt idx="78">
                  <c:v>24.659380498</c:v>
                </c:pt>
                <c:pt idx="79">
                  <c:v>24.430304273</c:v>
                </c:pt>
                <c:pt idx="80">
                  <c:v>24.708375878</c:v>
                </c:pt>
                <c:pt idx="81">
                  <c:v>25.064166283</c:v>
                </c:pt>
                <c:pt idx="82">
                  <c:v>23.943103997</c:v>
                </c:pt>
                <c:pt idx="83">
                  <c:v>24.190906064</c:v>
                </c:pt>
                <c:pt idx="84">
                  <c:v>24.686637863</c:v>
                </c:pt>
                <c:pt idx="85">
                  <c:v>24.479732855</c:v>
                </c:pt>
                <c:pt idx="86">
                  <c:v>24.625714426</c:v>
                </c:pt>
                <c:pt idx="87">
                  <c:v>25.082396766</c:v>
                </c:pt>
                <c:pt idx="88">
                  <c:v>24.07759995</c:v>
                </c:pt>
                <c:pt idx="89">
                  <c:v>24.344248533</c:v>
                </c:pt>
                <c:pt idx="90">
                  <c:v>24.607653245</c:v>
                </c:pt>
                <c:pt idx="91">
                  <c:v>24.715791936</c:v>
                </c:pt>
                <c:pt idx="92">
                  <c:v>24.626706543</c:v>
                </c:pt>
                <c:pt idx="93">
                  <c:v>24.786708088</c:v>
                </c:pt>
                <c:pt idx="94">
                  <c:v>24.346966808</c:v>
                </c:pt>
                <c:pt idx="95">
                  <c:v>24.266922064</c:v>
                </c:pt>
                <c:pt idx="96">
                  <c:v>24.531012198</c:v>
                </c:pt>
                <c:pt idx="97">
                  <c:v>24.070794395</c:v>
                </c:pt>
                <c:pt idx="98">
                  <c:v>24.49654870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86459518"/>
        <c:axId val="68479845"/>
      </c:lineChart>
      <c:catAx>
        <c:axId val="86459518"/>
        <c:scaling>
          <c:orientation val="minMax"/>
        </c:scaling>
        <c:delete val="1"/>
        <c:axPos val="b"/>
        <c:title>
          <c:tx>
            <c:rich>
              <a:bodyPr rot="0"/>
              <a:lstStyle/>
              <a:p>
                <a:pPr>
                  <a:defRPr b="1" lang="en-US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Time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68479845"/>
        <c:auto val="1"/>
        <c:lblAlgn val="ctr"/>
        <c:lblOffset val="100"/>
        <c:noMultiLvlLbl val="0"/>
      </c:catAx>
      <c:valAx>
        <c:axId val="68479845"/>
        <c:scaling>
          <c:orientation val="minMax"/>
          <c:min val="0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title>
          <c:tx>
            <c:rich>
              <a:bodyPr rot="-5400000"/>
              <a:lstStyle/>
              <a:p>
                <a:pPr>
                  <a:defRPr b="1" lang="en-US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Read Speed (MB/s)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86459518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n-US" sz="2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verage Sequential Read Speeds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scatterChart>
        <c:scatterStyle val="lineMarker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3 MB File</c:v>
                </c:pt>
              </c:strCache>
            </c:strRef>
          </c:tx>
          <c:spPr>
            <a:solidFill>
              <a:srgbClr val="da1f28"/>
            </a:solidFill>
            <a:ln w="28440">
              <a:solidFill>
                <a:srgbClr val="da1f28"/>
              </a:solidFill>
              <a:round/>
            </a:ln>
          </c:spP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9"/>
                <c:pt idx="0">
                  <c:v>4096</c:v>
                </c:pt>
                <c:pt idx="1">
                  <c:v>8192</c:v>
                </c:pt>
                <c:pt idx="2">
                  <c:v>16384</c:v>
                </c:pt>
                <c:pt idx="3">
                  <c:v>65536</c:v>
                </c:pt>
                <c:pt idx="4">
                  <c:v>262144</c:v>
                </c:pt>
                <c:pt idx="5">
                  <c:v>1048576</c:v>
                </c:pt>
                <c:pt idx="6">
                  <c:v>8388608</c:v>
                </c:pt>
                <c:pt idx="7">
                  <c:v>67108864</c:v>
                </c:pt>
                <c:pt idx="8">
                  <c:v>100663296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9"/>
                <c:pt idx="0">
                  <c:v>26.080142765034</c:v>
                </c:pt>
                <c:pt idx="1">
                  <c:v>27.804603567985</c:v>
                </c:pt>
                <c:pt idx="2">
                  <c:v>28.4375113171349</c:v>
                </c:pt>
                <c:pt idx="3">
                  <c:v>28.0257483680789</c:v>
                </c:pt>
                <c:pt idx="4">
                  <c:v>27.346877796047</c:v>
                </c:pt>
                <c:pt idx="5">
                  <c:v>25.7585935407376</c:v>
                </c:pt>
                <c:pt idx="6">
                  <c:v>25.20012183861</c:v>
                </c:pt>
                <c:pt idx="7">
                  <c:v>25.40618104687</c:v>
                </c:pt>
                <c:pt idx="8">
                  <c:v>25.40231258196</c:v>
                </c:pt>
              </c:numCache>
            </c:numRef>
          </c:yVal>
          <c:smooth val="0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350 MB File</c:v>
                </c:pt>
              </c:strCache>
            </c:strRef>
          </c:tx>
          <c:spPr>
            <a:solidFill>
              <a:srgbClr val="2da2bf"/>
            </a:solidFill>
            <a:ln w="28440">
              <a:solidFill>
                <a:srgbClr val="2da2bf"/>
              </a:solidFill>
              <a:round/>
            </a:ln>
          </c:spP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9"/>
                <c:pt idx="0">
                  <c:v>4096</c:v>
                </c:pt>
                <c:pt idx="1">
                  <c:v>8192</c:v>
                </c:pt>
                <c:pt idx="2">
                  <c:v>16384</c:v>
                </c:pt>
                <c:pt idx="3">
                  <c:v>65536</c:v>
                </c:pt>
                <c:pt idx="4">
                  <c:v>262144</c:v>
                </c:pt>
                <c:pt idx="5">
                  <c:v>1048576</c:v>
                </c:pt>
                <c:pt idx="6">
                  <c:v>8388608</c:v>
                </c:pt>
                <c:pt idx="7">
                  <c:v>67108864</c:v>
                </c:pt>
                <c:pt idx="8">
                  <c:v>100663296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9"/>
                <c:pt idx="0">
                  <c:v>26.0505563577163</c:v>
                </c:pt>
                <c:pt idx="1">
                  <c:v>27.6972238031089</c:v>
                </c:pt>
                <c:pt idx="2">
                  <c:v>28.3901618396863</c:v>
                </c:pt>
                <c:pt idx="3">
                  <c:v>27.7965422116014</c:v>
                </c:pt>
                <c:pt idx="4">
                  <c:v>27.0494360016911</c:v>
                </c:pt>
                <c:pt idx="5">
                  <c:v>25.5527501963766</c:v>
                </c:pt>
                <c:pt idx="6">
                  <c:v>24.34509230713</c:v>
                </c:pt>
                <c:pt idx="7">
                  <c:v>24.47120233425</c:v>
                </c:pt>
                <c:pt idx="8">
                  <c:v>24.49751014563</c:v>
                </c:pt>
              </c:numCache>
            </c:numRef>
          </c:yVal>
          <c:smooth val="0"/>
        </c:ser>
        <c:axId val="70135638"/>
        <c:axId val="56175391"/>
      </c:scatterChart>
      <c:valAx>
        <c:axId val="70135638"/>
        <c:scaling>
          <c:logBase val="10"/>
          <c:orientation val="minMax"/>
          <c:min val="2048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en-US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Buffer Size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#,##0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56175391"/>
        <c:crosses val="autoZero"/>
        <c:crossBetween val="midCat"/>
      </c:valAx>
      <c:valAx>
        <c:axId val="56175391"/>
        <c:scaling>
          <c:orientation val="minMax"/>
          <c:min val="0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title>
          <c:tx>
            <c:rich>
              <a:bodyPr rot="-5400000"/>
              <a:lstStyle/>
              <a:p>
                <a:pPr>
                  <a:defRPr b="1" lang="en-US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Read Speed (MB/s)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70135638"/>
        <c:crosses val="autoZero"/>
        <c:crossBetween val="midCat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578DBC-A7AE-4128-BE5C-7A2E623D7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on first 4 are due to GC. After that all are hit by GC. 16 KB is best. Huge buffers help overcome cold ca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71BF7B-0985-4215-A3C1-51A2D7C1981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30 ms spikes are Garbage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5FA4C9-B730-434D-A330-B5E5393D7BD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3AF360-0728-4099-AA64-8F87611A5BB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1D4-3AFE-46B2-9E89-AEB31FD2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104-D501-484B-9FCB-73B2D4D1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C29-AF4C-4905-9E9F-86D343EF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694-373C-4283-856E-FB3B32FD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09EC-DE51-4738-8747-EB9415D5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DB86-8118-456A-9828-42EF267E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D186-2DED-410F-8EC7-68C2C3CB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FC55-5EF2-4A93-B700-6937551C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1CB3-9CC1-4EF9-A411-05F2E934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A946-8BB4-4650-957E-D920E4A9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6BAF-F838-4789-BA46-98F5B63A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0B1-A239-4E7C-B18D-7A51C93F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A9EC-D1F4-4EB1-BC85-90176EA4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7CE6-8082-4F2E-A7BF-2A06F80C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8E64-12F6-4D1A-9EC0-7A47CE5B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E6B1-C3C6-4401-93FB-B3DEFED8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3204-BBF2-4155-AFF6-4B2B6EB0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D9406-399C-4DD4-8900-C1BFB3B8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422E4-6FAE-4F5A-84D2-6D496704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454E6-14E0-414E-8051-B581FE45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6C3C9-CB3B-4051-81BF-3A8912DF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BF360-54D1-4467-AB3F-0EEAC1E5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5B1-BFDA-4941-BA68-BB2BD86C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50DD3-1614-4316-AE99-90035567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78E9D-D1B5-402C-86CB-4BAFC208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FA380-6A08-4165-9885-5D7836E2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495B4-3C38-40BE-BFF3-C173C518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2B5CF-B267-48ED-9B7F-7EAB8C0C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B95F-B4FA-46DA-AB3A-B70F2064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66183-8BEC-46AE-9656-FDD61531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7CE6B-6822-4520-BCC3-4DC83C46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B7077-21C8-4533-AB93-E995581C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E6E5C-7D3D-42A0-8C0A-2A42BCCE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613-451B-46AF-B9C9-B37F83CF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3B97B-A77D-42C4-B8FA-666443F9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A46FA-B5BC-49C0-B29E-AB7D2DC5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4CD16-A6B5-47DA-88A8-5D7CCF96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8A33A-0EBF-4EC1-B634-675EC047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9D6CF-2C75-4751-9879-F08665DD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009B9-149D-4401-AA81-0C8E50A0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77D96-5F90-4AF7-9C7B-141C15EE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24E55-1CF4-453B-A9FE-848441EA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B6D43-66DE-4B28-849C-93765137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9338-8900-4174-8202-93CFF2BA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41F-F677-4D4A-BF92-A33F713E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8AA-DA36-4320-BDF3-B33EF80D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698C-47DA-41E6-8DF5-8BA77324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BFC-3FCE-4BE1-96CF-E80B2E12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Right Triangle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Right Triangle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Group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Freeform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Straight Connector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C9A6C2-6F50-43C1-8CC4-1D48106EF2D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DA184E-4C85-4245-AF80-7B5C2619C50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4b4"/>
            </a:gs>
            <a:gs pos="100000">
              <a:srgbClr val="000000"/>
            </a:gs>
          </a:gsLst>
          <a:path path="circle">
            <a:fillToRect l="82000" t="1000" r="18000" b="99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8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99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520" y="105984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def5fa"/>
                </a:solidFill>
                <a:latin typeface="Lucida Sans Unicode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922560" y="2931840"/>
            <a:ext cx="4571640" cy="1454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lick to edit Master text style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913F02-5059-4862-A16C-150F8DE66C7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hevron 6"/>
          <p:cNvSpPr/>
          <p:nvPr/>
        </p:nvSpPr>
        <p:spPr>
          <a:xfrm>
            <a:off x="3636720" y="3005640"/>
            <a:ext cx="182520" cy="228240"/>
          </a:xfrm>
          <a:prstGeom prst="chevron">
            <a:avLst>
              <a:gd name="adj" fmla="val 50000"/>
            </a:avLst>
          </a:prstGeom>
          <a:gradFill rotWithShape="0">
            <a:gsLst>
              <a:gs pos="0">
                <a:srgbClr val="168aa7"/>
              </a:gs>
              <a:gs pos="100000">
                <a:srgbClr val="51b7d9"/>
              </a:gs>
            </a:gsLst>
            <a:lin ang="16200000"/>
          </a:gradFill>
          <a:ln cap="rnd" w="3175">
            <a:solidFill>
              <a:srgbClr val="2da2bf">
                <a:shade val="50000"/>
              </a:srgbClr>
            </a:solidFill>
            <a:round/>
          </a:ln>
          <a:effectLst>
            <a:outerShdw blurRad="50760" dir="5400000" dist="25560">
              <a:srgbClr val="000000">
                <a:alpha val="46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06" name="Chevron 7"/>
          <p:cNvSpPr/>
          <p:nvPr/>
        </p:nvSpPr>
        <p:spPr>
          <a:xfrm>
            <a:off x="3450240" y="3005640"/>
            <a:ext cx="182520" cy="228240"/>
          </a:xfrm>
          <a:prstGeom prst="chevron">
            <a:avLst>
              <a:gd name="adj" fmla="val 50000"/>
            </a:avLst>
          </a:prstGeom>
          <a:gradFill rotWithShape="0">
            <a:gsLst>
              <a:gs pos="0">
                <a:srgbClr val="168aa7"/>
              </a:gs>
              <a:gs pos="100000">
                <a:srgbClr val="51b7d9"/>
              </a:gs>
            </a:gsLst>
            <a:lin ang="16200000"/>
          </a:gradFill>
          <a:ln cap="rnd" w="3175">
            <a:solidFill>
              <a:srgbClr val="2da2bf">
                <a:shade val="50000"/>
              </a:srgbClr>
            </a:solidFill>
            <a:round/>
          </a:ln>
          <a:effectLst>
            <a:outerShdw blurRad="50760" dir="5400000" dist="25560">
              <a:srgbClr val="000000">
                <a:alpha val="46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146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147" name="PlaceHolder 1"/>
          <p:cNvSpPr>
            <a:spLocks noGrp="1"/>
          </p:cNvSpPr>
          <p:nvPr>
            <p:ph type="dt" idx="10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11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2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AD8A92-836E-4C92-9D8E-DA4D19A7615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Ext2 On Singularity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 fontScale="83000"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cott Finl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niversity of Wisconsin – Madis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S 736 Proj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SIP communication is via message channe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shared memo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ssages and data passed via Exchange Hea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ject ownership is track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ro copy data passing via point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ommunication Channel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pplication creates buffer in ExHea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Disk Read Examp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47640" y="2895480"/>
            <a:ext cx="1447560" cy="837720"/>
          </a:xfrm>
          <a:prstGeom prst="rect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581280" y="2895480"/>
            <a:ext cx="1447560" cy="837720"/>
          </a:xfrm>
          <a:prstGeom prst="rect">
            <a:avLst/>
          </a:prstGeom>
          <a:solidFill>
            <a:srgbClr val="c0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Fil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515280" y="2895480"/>
            <a:ext cx="1447560" cy="837720"/>
          </a:xfrm>
          <a:prstGeom prst="rect">
            <a:avLst/>
          </a:prstGeom>
          <a:solidFill>
            <a:srgbClr val="00b05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Disk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2057400" y="4572000"/>
            <a:ext cx="4419360" cy="121896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Exchange 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2286000" y="4800600"/>
            <a:ext cx="1676160" cy="533160"/>
          </a:xfrm>
          <a:prstGeom prst="rect">
            <a:avLst/>
          </a:prstGeom>
          <a:solidFill>
            <a:schemeClr val="tx1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Lucida Sans Unicode"/>
              </a:rPr>
              <a:t>Empty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Curved Connector 14"/>
          <p:cNvCxnSpPr>
            <a:stCxn id="216" idx="2"/>
            <a:endCxn id="220" idx="0"/>
          </p:cNvCxnSpPr>
          <p:nvPr/>
        </p:nvCxnSpPr>
        <p:spPr>
          <a:xfrm>
            <a:off x="1371600" y="3733560"/>
            <a:ext cx="1752840" cy="1067400"/>
          </a:xfrm>
          <a:prstGeom prst="curved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pplication send read request to file syst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le system owns the buff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Disk Read Examp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47640" y="2895480"/>
            <a:ext cx="1447560" cy="837720"/>
          </a:xfrm>
          <a:prstGeom prst="rect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581280" y="2895480"/>
            <a:ext cx="1447560" cy="837720"/>
          </a:xfrm>
          <a:prstGeom prst="rect">
            <a:avLst/>
          </a:prstGeom>
          <a:solidFill>
            <a:srgbClr val="c0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Fil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6515280" y="2895480"/>
            <a:ext cx="1447560" cy="837720"/>
          </a:xfrm>
          <a:prstGeom prst="rect">
            <a:avLst/>
          </a:prstGeom>
          <a:solidFill>
            <a:srgbClr val="00b05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Disk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2057400" y="4572000"/>
            <a:ext cx="4419360" cy="121896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Exchange 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2286000" y="4800600"/>
            <a:ext cx="1676160" cy="533160"/>
          </a:xfrm>
          <a:prstGeom prst="rect">
            <a:avLst/>
          </a:prstGeom>
          <a:solidFill>
            <a:schemeClr val="tx1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Lucida Sans Unicode"/>
              </a:rPr>
              <a:t>Empty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9" name="Curved Connector 14"/>
          <p:cNvCxnSpPr>
            <a:stCxn id="225" idx="2"/>
            <a:endCxn id="228" idx="0"/>
          </p:cNvCxnSpPr>
          <p:nvPr/>
        </p:nvCxnSpPr>
        <p:spPr>
          <a:xfrm flipV="1" rot="10800000">
            <a:off x="3123720" y="3733560"/>
            <a:ext cx="1181520" cy="1067400"/>
          </a:xfrm>
          <a:prstGeom prst="curved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0" name="Right Arrow 11"/>
          <p:cNvSpPr/>
          <p:nvPr/>
        </p:nvSpPr>
        <p:spPr>
          <a:xfrm>
            <a:off x="2095560" y="3048120"/>
            <a:ext cx="144756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e system sends read request to dri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river owns the buff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Disk Read Examp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647640" y="2895480"/>
            <a:ext cx="1447560" cy="837720"/>
          </a:xfrm>
          <a:prstGeom prst="rect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81280" y="2895480"/>
            <a:ext cx="1447560" cy="837720"/>
          </a:xfrm>
          <a:prstGeom prst="rect">
            <a:avLst/>
          </a:prstGeom>
          <a:solidFill>
            <a:srgbClr val="c0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Fil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6515280" y="2895480"/>
            <a:ext cx="1447560" cy="837720"/>
          </a:xfrm>
          <a:prstGeom prst="rect">
            <a:avLst/>
          </a:prstGeom>
          <a:solidFill>
            <a:srgbClr val="00b05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Disk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057400" y="4572000"/>
            <a:ext cx="4419360" cy="121896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Exchange 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286000" y="4800600"/>
            <a:ext cx="1676160" cy="533160"/>
          </a:xfrm>
          <a:prstGeom prst="rect">
            <a:avLst/>
          </a:prstGeom>
          <a:solidFill>
            <a:schemeClr val="tx1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Lucida Sans Unicode"/>
              </a:rPr>
              <a:t>Empty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8" name="Curved Connector 14"/>
          <p:cNvCxnSpPr>
            <a:stCxn id="235" idx="2"/>
            <a:endCxn id="237" idx="0"/>
          </p:cNvCxnSpPr>
          <p:nvPr/>
        </p:nvCxnSpPr>
        <p:spPr>
          <a:xfrm flipV="1" rot="10800000">
            <a:off x="3124080" y="3733560"/>
            <a:ext cx="4115160" cy="1067400"/>
          </a:xfrm>
          <a:prstGeom prst="curved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9" name="Right Arrow 11"/>
          <p:cNvSpPr/>
          <p:nvPr/>
        </p:nvSpPr>
        <p:spPr>
          <a:xfrm>
            <a:off x="5029200" y="3048120"/>
            <a:ext cx="144756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river fills buffer and replies to file syst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Disk Read Examp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647640" y="2895480"/>
            <a:ext cx="1447560" cy="837720"/>
          </a:xfrm>
          <a:prstGeom prst="rect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581280" y="2895480"/>
            <a:ext cx="1447560" cy="837720"/>
          </a:xfrm>
          <a:prstGeom prst="rect">
            <a:avLst/>
          </a:prstGeom>
          <a:solidFill>
            <a:srgbClr val="c0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Fil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6515280" y="2895480"/>
            <a:ext cx="1447560" cy="837720"/>
          </a:xfrm>
          <a:prstGeom prst="rect">
            <a:avLst/>
          </a:prstGeom>
          <a:solidFill>
            <a:srgbClr val="00b05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Disk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2057400" y="4572000"/>
            <a:ext cx="4419360" cy="121896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Exchange 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2286000" y="4800600"/>
            <a:ext cx="1676160" cy="533160"/>
          </a:xfrm>
          <a:prstGeom prst="rect">
            <a:avLst/>
          </a:prstGeom>
          <a:solidFill>
            <a:schemeClr val="tx1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Lucida Sans Unicode"/>
              </a:rPr>
              <a:t>Full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Curved Connector 14"/>
          <p:cNvCxnSpPr>
            <a:stCxn id="243" idx="2"/>
            <a:endCxn id="246" idx="0"/>
          </p:cNvCxnSpPr>
          <p:nvPr/>
        </p:nvCxnSpPr>
        <p:spPr>
          <a:xfrm flipV="1" rot="10800000">
            <a:off x="3123720" y="3733560"/>
            <a:ext cx="1181520" cy="1067400"/>
          </a:xfrm>
          <a:prstGeom prst="curved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8" name="Left Arrow 11"/>
          <p:cNvSpPr/>
          <p:nvPr/>
        </p:nvSpPr>
        <p:spPr>
          <a:xfrm>
            <a:off x="5029200" y="3048120"/>
            <a:ext cx="1447560" cy="533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e system replies to ap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Disk Read Examp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647640" y="2895480"/>
            <a:ext cx="1447560" cy="837720"/>
          </a:xfrm>
          <a:prstGeom prst="rect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581280" y="2895480"/>
            <a:ext cx="1447560" cy="837720"/>
          </a:xfrm>
          <a:prstGeom prst="rect">
            <a:avLst/>
          </a:prstGeom>
          <a:solidFill>
            <a:srgbClr val="c0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Fil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515280" y="2895480"/>
            <a:ext cx="1447560" cy="837720"/>
          </a:xfrm>
          <a:prstGeom prst="rect">
            <a:avLst/>
          </a:prstGeom>
          <a:solidFill>
            <a:srgbClr val="00b05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Disk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2057400" y="4572000"/>
            <a:ext cx="4419360" cy="121896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Exchange 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2286000" y="4800600"/>
            <a:ext cx="1676160" cy="533160"/>
          </a:xfrm>
          <a:prstGeom prst="rect">
            <a:avLst/>
          </a:prstGeom>
          <a:solidFill>
            <a:schemeClr val="tx1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Lucida Sans Unicode"/>
              </a:rPr>
              <a:t>Full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6" name="Curved Connector 14"/>
          <p:cNvCxnSpPr>
            <a:stCxn id="251" idx="2"/>
            <a:endCxn id="255" idx="0"/>
          </p:cNvCxnSpPr>
          <p:nvPr/>
        </p:nvCxnSpPr>
        <p:spPr>
          <a:xfrm>
            <a:off x="1371600" y="3733560"/>
            <a:ext cx="1752840" cy="1067400"/>
          </a:xfrm>
          <a:prstGeom prst="curved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57" name="Left Arrow 11"/>
          <p:cNvSpPr/>
          <p:nvPr/>
        </p:nvSpPr>
        <p:spPr>
          <a:xfrm>
            <a:off x="2133720" y="3048120"/>
            <a:ext cx="1447560" cy="533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pplication consumes the buff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Disk Read Examp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47640" y="2895480"/>
            <a:ext cx="1447560" cy="837720"/>
          </a:xfrm>
          <a:prstGeom prst="rect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581280" y="2895480"/>
            <a:ext cx="1447560" cy="837720"/>
          </a:xfrm>
          <a:prstGeom prst="rect">
            <a:avLst/>
          </a:prstGeom>
          <a:solidFill>
            <a:srgbClr val="c0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Fil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6515280" y="2895480"/>
            <a:ext cx="1447560" cy="837720"/>
          </a:xfrm>
          <a:prstGeom prst="rect">
            <a:avLst/>
          </a:prstGeom>
          <a:solidFill>
            <a:srgbClr val="00b05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Disk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2057400" y="4572000"/>
            <a:ext cx="4419360" cy="121896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Lucida Sans Unicode"/>
              </a:rPr>
              <a:t>Exchange 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22520" y="105984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def5fa"/>
                </a:solidFill>
                <a:latin typeface="Lucida Sans Unicode"/>
              </a:rPr>
              <a:t>Ext2 Implementation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22560" y="2931840"/>
            <a:ext cx="4571640" cy="1454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2Control: Command line ap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2ClientManager: Manages mount poi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2FS: Core file system function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2Contracts: Defines commun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Required Piece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ystem service (SIP) launched at bo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cessible at known location in /dev directo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“Ext2 stuff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erates on Ext2 volumes and mount poi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ports “Mount” and “Unmount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ould also provide “Format” if implement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00 lines of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xt2 Client Manager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sic, default Linux file syst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most exactly the same as FF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sk broken into “block groups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uper-block, inode/block bitmaps, 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xt2 Defined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and line appl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ows Ext2 Client Manger interface ac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used by other applic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00 lines of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xt2 Control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re Ext2 file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parate instance (SIP) for each mount po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ports “Directory Service Provider” interfa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ents open files and directories by attaching a communication chann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ternally paired with an Ino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s implemented, Writes in progr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400 Lines of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xt2F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0" y="1481400"/>
            <a:ext cx="91436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ent wants to read file “/mnt/a/b.txt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t2 mounted at “/mnt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 --CH0--&gt;SNS: &lt;Bind,“/mnt/a/b.txt”,CH1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&lt;--CH0-- SNS: &lt;Reparse, “/mnt”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 --CH0--&gt;SNS: &lt;Bind,”/mnt”,CH1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&lt;--CH0-- SNS: &lt;AckBind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File Read Sequenc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52280" y="1481400"/>
            <a:ext cx="899136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5"/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 --CH1--&gt;Ext2Fs: &lt;Bind,“/a/b.txt”,CH2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5"/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&lt;--CH1-- Ext2Fs: &lt;AckBind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5"/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 --CH2--&gt;Ext2Fs: &lt;Read, Buff, BOff, FOff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5"/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&lt;--CH2-- Ext2Fs: &lt;ReadAck, Buff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5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File Read Sequence 2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odes: Used on every ac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ck Numbers: Very important for large fi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ta Blocks: Naturally captures ot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use LRU replac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rge files unusable without cac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8300X faster reading 350 MB fi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aching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2520" y="105984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def5fa"/>
                </a:solidFill>
                <a:latin typeface="Lucida Sans Unicode"/>
              </a:rPr>
              <a:t>Results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22560" y="2931840"/>
            <a:ext cx="4571640" cy="1454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hlon 64 3200, 1 GB R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k: 120GB, 7200 RPM, 2 MB buffer, P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ed sequential rea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ed read buffer size from 4 KB to 96 M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med each requ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e sizes ranged from 13 MB to 350 M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Testing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Chart 3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Chart 1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Chart 1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w from the ground u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liability as #1 go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evaluate conventional OS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verage advances of the last 20 yea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anguages and compile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atic analysis of whole syste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Microsoft Research’s Singularity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nux is fas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 clear that this is fundament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formance is not horri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ood enough” objective me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arbage collection overhead &lt; 0.1%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sensitive to file si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Result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ystem programming in a modern langu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ystem programming with no crash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cro kernel is feasi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urts feature integration: mmap, cache shar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lean, simple interfa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onclus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Question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xtra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Chart 2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Chart 1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Chart 1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Chart 1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mplement Ext2 on Singula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cus on read support with cac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estigate how Singularity design impact FS integ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estigate performance implic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My Goal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have a Ext2 “working” on Singula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ading fully support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ching improves performance!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imited write suppor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gularity desig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arbage collection hurts performa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liability is good: I couldn’t crash i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Overview of Result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gularity Detai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tails of my Ext2 implemen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ul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Outlin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22520" y="105984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def5fa"/>
                </a:solidFill>
                <a:latin typeface="Lucida Sans Unicode"/>
              </a:rPr>
              <a:t>Singularity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22560" y="2931840"/>
            <a:ext cx="4571640" cy="1454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erything is written in C#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mall pieces of kernel (&lt; 5%) in assembly and C++ as need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rnel and processes are garbage collec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virtual mach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piled to native co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y aggressive optimizing compil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rogramming Environment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gularity is a micro kern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erything else is a S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oftware Isolated Process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hardware based memory iso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P “Object Space” isolation guaranteed by static analysis and safe language (C#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text switches are much fast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rocess Model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3880</TotalTime>
  <Application>LibreOffice/7.4.7.2$Linux_X86_64 LibreOffice_project/40$Build-2</Application>
  <AppVersion>15.0000</AppVersion>
  <Words>916</Words>
  <Paragraphs>1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cott Finley</dc:creator>
  <dc:description/>
  <dc:language>en-US</dc:language>
  <cp:lastModifiedBy>Scott Finley</cp:lastModifiedBy>
  <dcterms:modified xsi:type="dcterms:W3CDTF">2008-05-16T04:41:01Z</dcterms:modified>
  <cp:revision>303</cp:revision>
  <dc:subject/>
  <dc:title>Ext2 On Singular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37</vt:r8>
  </property>
</Properties>
</file>