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3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CBE-5D60-4F52-BC78-7ED280664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p on first 4 are due to GC. After that all are hit by GC. 16 KB is best. Huge buffers help overcome cold ca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2899-026C-4CD9-BBBF-734CD1B64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was 28 MB/s. Periodic spikes are GC, others are preemp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83B9-4F0C-4B3D-926D-EBC1D96DC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0C3-6CF6-46EB-A978-9BF6EA9A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227-AA4A-4978-9B2C-BD3DE37F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CD0-2EF6-4DDB-B261-D105B550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2B5-300F-4D1C-B000-E77C71FF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380E-39E7-4244-89D9-353AA87B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4B90-1A51-4E60-B6AD-7B0B6EA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FE0F-0DE2-48DA-AEE0-1FE67F5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5B4-5541-45A8-BFE5-40A2ACD7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F9ED-08F2-4C98-A7E5-AEA7E20F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B18-2004-40FD-9825-A71119F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D97D-12A9-4AAD-BE02-114BC08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E26-5645-4568-82CA-6EF7681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4F0-54B1-428E-8311-8F83136E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B211-C852-41F8-9636-B9ADB27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437-7CF2-4A53-A943-B10BB8AE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68A-4AF9-46F2-80CF-A46E25C7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FDED-D125-44AC-8680-B625A1E8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F4E4-2D1D-4380-814F-F99B6A67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4221-7D02-447C-A5E4-5DD01C30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E40B-FCED-435F-BAA6-A8D56F63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40CA-617B-4D1B-9121-9C5C035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0E34-275C-41FE-BFAF-03023C7B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67B-5132-4C42-8F4D-0FF1F74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C821-27A8-4BB0-999D-2009792F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9ED7-91B2-448F-A4CA-2C7DE33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804F-1652-44DD-86CD-BF5A64F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DCA4-305E-4C57-9E67-EC2D000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F33F-62D9-4093-A06F-9E5721E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B6F8-6A81-4379-951C-40AE27B6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508C-7443-4FFA-B77E-5435E62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1F54-A276-43E4-82A3-546772F3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3869-344A-4580-BBC0-0ADE34A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A401-0C11-4B6A-9577-9EE4EA0B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10C-13C9-4FBA-9E69-50AB5E5B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064D-F699-4FB8-B9ED-D5E7C8DB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D79A-1FAD-44FB-9162-71430D7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6109-CCDC-4A88-B527-AF3884A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E7A9-BE19-4BC1-A863-1BCB3E36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56B3-76A4-42A6-AE35-C80F3E9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80F7-592E-4325-8B0E-7AC98DE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175F-604A-4638-BC20-355EBAC2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4AE3-BA54-4FFB-9FA0-929AB20D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E931-EA69-45A5-81C4-E816E909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6EAD-41BF-46CE-AA6A-8119C225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9B8-D210-48DE-8B32-6F9952C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EB8D-75A7-4BDC-8BF2-59014FD5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9CDF0-44D3-4135-86AF-66917FE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D5CC-26A0-4EF1-951B-CD699C60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9648-5DBB-4657-A42D-61A2E0FC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013D-2BE0-43C4-A8B3-75A3442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8FFA-30DA-4955-A54C-FA4A766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9075-B9FB-4313-9966-EE89103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029D-D798-42AD-AE09-7F412CA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90A2-E819-441E-A5C5-25A2591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AB3A-6192-4D53-80B7-4ACA1ADB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32F-8538-4D6A-B43D-53360A35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17E9-FC57-477E-993B-0FEB5CE8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AC61-FCB4-4F06-B474-267C3E22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6478-8F42-4161-B293-BB814FA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1571-F168-4880-B73C-09E28EF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47B7-A39D-476A-B2CF-E858110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D1F8-88C2-41CD-91B3-EAA1EFB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6270-7A92-4FC9-A576-E6EC9DC6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E857-6AFA-4D64-B312-A544D95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A0D3-D276-48E0-AC88-752BB16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C23B-D6BD-4ED7-A918-C91C69E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0DD-67F3-481A-B844-9549D63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8F0E0-37D3-444D-B1FC-E34B486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8B8B8-E812-4B44-B483-0A2DEC51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12584-44F1-4C7D-B23F-E76A7FB3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70F5-1185-40BE-8666-1B9643D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02E7-8968-4FEB-8B96-A59BE9ED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B2BC-2B45-49EC-BE0C-D78AB24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CBB51-9506-4B20-A245-EAC3E1F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3910-6F7D-4FE0-8CF6-A642EA15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1F20-760C-4AEF-9E7A-BAE051A0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391A-DF16-4A7D-93C4-D062E81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92C-F27E-4879-8D48-AF60DFB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DB83-82DF-4F05-8F05-A8E6EA6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A03A-6CB8-454A-9905-FED1834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DC0FD-BA6B-45F4-B2F4-5E3112CD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FB1F-A4F7-4F10-AAFE-4B639DF7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39F9-3675-4F1D-AFCC-2B00985B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9DB6-6A6D-4B1D-B8D5-5DD7F14D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B6B4-8E54-4410-976D-FF94CDE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E633B-DB7D-47AC-97D5-C383CAD7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0FF4-A5B5-4A3F-9C29-7935EB33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CA68F-B9C9-4EAD-AFAA-890FDBF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CD6-C283-48D8-978A-1980A3EE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D9FAA-9305-407B-8CA6-D39C2206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7739-F967-4E65-BB56-858FBE2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CCBC-1326-4EC9-977A-A7D5D5F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BF9A1-C66D-4F9D-BCA8-53516F9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0432-205A-4EAB-AE4A-5F61A2FE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25BB-BC59-4DDE-821F-12147BC9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C0B26-9259-49EF-9AD6-0C716799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F1A0-C000-48BF-8CDE-38F4CBE83F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97B-C3A4-4FAB-8F9D-1404E72ED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1A54-460F-4830-86B5-181C75BA3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C97-5F3E-4CF2-A8FB-646D43D573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795-3DCA-4120-AAE4-ADF898ACC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46F-20DB-436A-8825-F508284C55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152-B472-42CE-9B3E-AADC7AEB69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2A6-5656-4BC6-A256-0FA820540F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Scott Finle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University of Wisconsin – Mad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CS 736 Projec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SIP communication is via message chann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shared mem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ssages and data passed via Exchange Hea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 ownership is trac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copy data passing via poin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creates buffer in ExHea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2286000" y="4800600"/>
            <a:ext cx="1676520" cy="533520"/>
          </a:xfrm>
          <a:prstGeom prst="rect">
            <a:avLst/>
          </a:prstGeom>
          <a:solidFill>
            <a:srgbClr val="0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4" name="Curved Connector 14"/>
          <p:cNvCxnSpPr>
            <a:stCxn id="399" idx="2"/>
            <a:endCxn id="403" idx="0"/>
          </p:cNvCxnSpPr>
          <p:nvPr/>
        </p:nvCxnSpPr>
        <p:spPr>
          <a:xfrm flipH="1" rot="16200000">
            <a:off x="1714320" y="3390480"/>
            <a:ext cx="1067400" cy="17532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send read request to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le system owns the buff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2286000" y="4800600"/>
            <a:ext cx="1676520" cy="533520"/>
          </a:xfrm>
          <a:prstGeom prst="rect">
            <a:avLst/>
          </a:prstGeom>
          <a:solidFill>
            <a:srgbClr val="0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12" name="Curved Connector 14"/>
          <p:cNvCxnSpPr>
            <a:stCxn id="408" idx="2"/>
            <a:endCxn id="411" idx="0"/>
          </p:cNvCxnSpPr>
          <p:nvPr/>
        </p:nvCxnSpPr>
        <p:spPr>
          <a:xfrm rot="5400000">
            <a:off x="3180600" y="3676320"/>
            <a:ext cx="106740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3" name="Right Arrow 11"/>
          <p:cNvSpPr/>
          <p:nvPr/>
        </p:nvSpPr>
        <p:spPr>
          <a:xfrm>
            <a:off x="2095560" y="3048120"/>
            <a:ext cx="14479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ystem sends read request to dri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river owns the buff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2286000" y="4800600"/>
            <a:ext cx="1676520" cy="533520"/>
          </a:xfrm>
          <a:prstGeom prst="rect">
            <a:avLst/>
          </a:prstGeom>
          <a:solidFill>
            <a:srgbClr val="0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21" name="Curved Connector 14"/>
          <p:cNvCxnSpPr>
            <a:stCxn id="418" idx="2"/>
            <a:endCxn id="420" idx="0"/>
          </p:cNvCxnSpPr>
          <p:nvPr/>
        </p:nvCxnSpPr>
        <p:spPr>
          <a:xfrm rot="5400000">
            <a:off x="4647600" y="2209680"/>
            <a:ext cx="106740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Right Arrow 11"/>
          <p:cNvSpPr/>
          <p:nvPr/>
        </p:nvSpPr>
        <p:spPr>
          <a:xfrm>
            <a:off x="5029200" y="3048120"/>
            <a:ext cx="14479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iver fills buffer and replies to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86000" y="4800600"/>
            <a:ext cx="1676520" cy="533520"/>
          </a:xfrm>
          <a:prstGeom prst="rect">
            <a:avLst/>
          </a:prstGeom>
          <a:solidFill>
            <a:srgbClr val="0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ull Buff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0" name="Curved Connector 14"/>
          <p:cNvCxnSpPr>
            <a:stCxn id="426" idx="2"/>
            <a:endCxn id="429" idx="0"/>
          </p:cNvCxnSpPr>
          <p:nvPr/>
        </p:nvCxnSpPr>
        <p:spPr>
          <a:xfrm rot="5400000">
            <a:off x="3180600" y="3676320"/>
            <a:ext cx="106740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1" name="Left Arrow 11"/>
          <p:cNvSpPr/>
          <p:nvPr/>
        </p:nvSpPr>
        <p:spPr>
          <a:xfrm>
            <a:off x="5029200" y="3048120"/>
            <a:ext cx="1447920" cy="533160"/>
          </a:xfrm>
          <a:prstGeom prst="leftArrow">
            <a:avLst>
              <a:gd name="adj1" fmla="val 50000"/>
              <a:gd name="adj2" fmla="val 50027"/>
            </a:avLst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ystem replies to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2286000" y="4800600"/>
            <a:ext cx="1676520" cy="533520"/>
          </a:xfrm>
          <a:prstGeom prst="rect">
            <a:avLst/>
          </a:prstGeom>
          <a:solidFill>
            <a:srgbClr val="0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ull Buff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9" name="Curved Connector 14"/>
          <p:cNvCxnSpPr>
            <a:stCxn id="434" idx="2"/>
            <a:endCxn id="438" idx="0"/>
          </p:cNvCxnSpPr>
          <p:nvPr/>
        </p:nvCxnSpPr>
        <p:spPr>
          <a:xfrm flipH="1" rot="16200000">
            <a:off x="1714320" y="3390480"/>
            <a:ext cx="1067400" cy="17532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0" name="Left Arrow 11"/>
          <p:cNvSpPr/>
          <p:nvPr/>
        </p:nvSpPr>
        <p:spPr>
          <a:xfrm>
            <a:off x="2133720" y="3048120"/>
            <a:ext cx="1447560" cy="53316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consumes the buf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647640" y="2895480"/>
            <a:ext cx="1447920" cy="83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581280" y="2895480"/>
            <a:ext cx="1447920" cy="8384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6515280" y="2895480"/>
            <a:ext cx="1447560" cy="838440"/>
          </a:xfrm>
          <a:prstGeom prst="rect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57400" y="4572000"/>
            <a:ext cx="4419720" cy="1219320"/>
          </a:xfrm>
          <a:prstGeom prst="rect">
            <a:avLst/>
          </a:prstGeom>
          <a:solidFill>
            <a:srgbClr val="7f7f7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ontrol: Command line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lientManager: Manages mount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FS: Core file system functi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ontracts: Defines 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service (SIP) launched at bo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essible at known location in /dev direc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“Ext2 stuff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erates on Ext2 volumes and mount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orts “Mount” and “Unmoun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uld also provide “Format” if implemen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ic, default Linux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most exactly the same as FF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k broken into “block group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per-block, inode/block bitmaps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and line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ows Ext2 Client Manger interface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used by other ap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e Ext2 fil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parate instance (SIP) for each mount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orts “Directory Service Provider” interf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ents open files and directories by attaching a communication chann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ternally paired with an Ino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s implemented, Writes in progr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ent wants to read file “/mnt/a/b.tx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t2 mounted at “/mnt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 --CH0--&gt;SNS: &lt;Bind,“/mnt/a/b.txt”,CH1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&lt;--CH0-- SNS: &lt;Reparse, “/mnt”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 --CH0--&gt;SNS: &lt;Bind,”/mnt”,CH1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&lt;--CH0-- SNS: &lt;AckBind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51920" y="148104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 --CH1--&gt;Ext2Fs: &lt;Bind,“/a/b.txt”,CH2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&lt;--CH1-- Ext2Fs: &lt;AckBind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 --CH2--&gt;Ext2Fs: &lt;Read, Buff, BOff, FOff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&lt;--CH2-- Ext2Fs: &lt;ReadAck, Buff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odes: Used on every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ck Numbers: Very important for large fi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ta Blocks: Naturally captures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se LRU re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files unusable without c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300X faster reading 350 MB fi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hlon 64 3200, 1 GB 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k: 120GB, 7200 RPM, 2 MB buffer, P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d sequential rea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ed read buffer size from 4 KB to 96 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d each requ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izes ranged from 13 MB to 350 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ux is fas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clear that this is fundament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formance is not horri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od enough” objective me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rbage collection hurts, but not “too bad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sensitive to file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from the ground 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ability as #1 go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evaluate conventional OS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verage advances of the last 20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nguages and compil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analysis of whole sys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programming in a modern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programming with no cras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 kernel is feasi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rts feature integration: mmap, cache shar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ean, simple interfa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6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lement Ext2 on Singu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on read support with c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e how Singularity design impact FS integ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e performance i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have a Ext2 “working” on Singu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ading fully suppor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ching improves performance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mited write sup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rbage collection hurts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iability is good: I couldn’t crash 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Detai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tails of my Ext2 implemen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rything is written in C#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mall pieces of kernel (&lt; 5%) in assembly and C++ as need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rnel and processes are garbage coll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virtual mach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iled to native co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aggressive optimizing compil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is a micro kern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rything else is a S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ftware Isolated Proces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hardware based memory iso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P “Object Space” isolation guaranteed by static analysis and safe language (C#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ext switches are much fas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cott Finley</dc:creator>
  <dc:description/>
  <dc:language>en-US</dc:language>
  <cp:lastModifiedBy>Scott Finley</cp:lastModifiedBy>
  <dcterms:modified xsi:type="dcterms:W3CDTF">2008-05-12T05:01:56Z</dcterms:modified>
  <cp:revision>58</cp:revision>
  <dc:subject/>
  <dc:title>Ext2 On Singularity</dc:title>
</cp:coreProperties>
</file>