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B244-28E8-49A3-ADDC-5329E361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E228-715E-42EB-B9F8-CEE85D4B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782C-9AB1-45DB-A75C-95E2EB65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2D68-F581-4DA8-8A23-43F5520E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383-2A28-45B6-9C35-B4B305CE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D521-8707-4AF6-A72B-115F64B5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5BBF-57C3-4A0C-B69F-478B5B16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6F0-51B2-4A90-AC98-F4BF8CD6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8FC4-7BFE-4B65-88A3-6281076B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1BC1-A734-4CD2-B6C3-79C02E03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0DF-968D-46CE-8DC4-D9D3E223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0199-DADB-4CCE-86F2-23621414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07555-2453-4AA2-ACF9-12E31AB179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png"/><Relationship Id="rId6" Type="http://schemas.openxmlformats.org/officeDocument/2006/relationships/image" Target="../media/image19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Read –what we can do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ology aware 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lock group VS Cylinde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Group fi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ndom read is good but not perf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decrement random acces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and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“seek”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od sequential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rite log block (buffer)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1” !=”0”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Writ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umptions and basic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d random wri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s block erase (1 page--&gt; block eras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104000"/>
              </a:lnSpc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od sequential wri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ed block erase times (64 pages--&gt; block eras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son : Log (buffer) and Me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Write -- merg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46240" y="2406600"/>
            <a:ext cx="144000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46240" y="2684520"/>
            <a:ext cx="144000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46240" y="2960640"/>
            <a:ext cx="144000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46240" y="3236760"/>
            <a:ext cx="1440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46240" y="3514680"/>
            <a:ext cx="144000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46240" y="3790800"/>
            <a:ext cx="144000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46240" y="4067280"/>
            <a:ext cx="1440000" cy="27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46240" y="4344840"/>
            <a:ext cx="144000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6960" y="2406600"/>
            <a:ext cx="1440000" cy="277920"/>
          </a:xfrm>
          <a:prstGeom prst="rect">
            <a:avLst/>
          </a:prstGeom>
          <a:solidFill>
            <a:srgbClr val="47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6960" y="2684520"/>
            <a:ext cx="1440000" cy="277920"/>
          </a:xfrm>
          <a:prstGeom prst="rect">
            <a:avLst/>
          </a:prstGeom>
          <a:solidFill>
            <a:srgbClr val="47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960" y="2962440"/>
            <a:ext cx="1440000" cy="277560"/>
          </a:xfrm>
          <a:prstGeom prst="rect">
            <a:avLst/>
          </a:prstGeom>
          <a:solidFill>
            <a:srgbClr val="47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960" y="3236760"/>
            <a:ext cx="1440000" cy="276480"/>
          </a:xfrm>
          <a:prstGeom prst="rect">
            <a:avLst/>
          </a:prstGeom>
          <a:solidFill>
            <a:srgbClr val="47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6960" y="3514680"/>
            <a:ext cx="1440000" cy="277920"/>
          </a:xfrm>
          <a:prstGeom prst="rect">
            <a:avLst/>
          </a:prstGeom>
          <a:solidFill>
            <a:srgbClr val="47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6960" y="3792600"/>
            <a:ext cx="1440000" cy="277920"/>
          </a:xfrm>
          <a:prstGeom prst="rect">
            <a:avLst/>
          </a:prstGeom>
          <a:solidFill>
            <a:srgbClr val="47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960" y="4067280"/>
            <a:ext cx="1440000" cy="277560"/>
          </a:xfrm>
          <a:prstGeom prst="rect">
            <a:avLst/>
          </a:prstGeom>
          <a:solidFill>
            <a:srgbClr val="47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960" y="4344840"/>
            <a:ext cx="1440000" cy="277920"/>
          </a:xfrm>
          <a:prstGeom prst="rect">
            <a:avLst/>
          </a:prstGeom>
          <a:solidFill>
            <a:srgbClr val="47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38960" y="2406600"/>
            <a:ext cx="1439640" cy="277920"/>
          </a:xfrm>
          <a:prstGeom prst="rect">
            <a:avLst/>
          </a:prstGeom>
          <a:solidFill>
            <a:srgbClr val="aec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38960" y="2684520"/>
            <a:ext cx="1439640" cy="277920"/>
          </a:xfrm>
          <a:prstGeom prst="rect">
            <a:avLst/>
          </a:prstGeom>
          <a:solidFill>
            <a:srgbClr val="0084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38960" y="2962440"/>
            <a:ext cx="1439640" cy="277560"/>
          </a:xfrm>
          <a:prstGeom prst="rect">
            <a:avLst/>
          </a:prstGeom>
          <a:solidFill>
            <a:srgbClr val="aec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38960" y="3236760"/>
            <a:ext cx="1439640" cy="27648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38960" y="3514680"/>
            <a:ext cx="1439640" cy="277920"/>
          </a:xfrm>
          <a:prstGeom prst="rect">
            <a:avLst/>
          </a:prstGeom>
          <a:solidFill>
            <a:srgbClr val="aec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38960" y="3792600"/>
            <a:ext cx="1439640" cy="277920"/>
          </a:xfrm>
          <a:prstGeom prst="rect">
            <a:avLst/>
          </a:prstGeom>
          <a:solidFill>
            <a:srgbClr val="0084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4067280"/>
            <a:ext cx="1439640" cy="277560"/>
          </a:xfrm>
          <a:prstGeom prst="rect">
            <a:avLst/>
          </a:prstGeom>
          <a:solidFill>
            <a:srgbClr val="0084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38960" y="4344840"/>
            <a:ext cx="1439640" cy="277920"/>
          </a:xfrm>
          <a:prstGeom prst="rect">
            <a:avLst/>
          </a:prstGeom>
          <a:solidFill>
            <a:srgbClr val="aec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360" y="4861080"/>
            <a:ext cx="12859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0320" y="4851360"/>
            <a:ext cx="11840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57600" y="4851360"/>
            <a:ext cx="18111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 Data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55720" y="142236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12920" y="1793880"/>
            <a:ext cx="4800600" cy="372960"/>
          </a:xfrm>
          <a:prstGeom prst="rightArrow">
            <a:avLst>
              <a:gd name="adj1" fmla="val 50000"/>
              <a:gd name="adj2" fmla="val 32179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49520" y="1469880"/>
            <a:ext cx="882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90720" y="339264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13320" y="339264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66960" y="2984400"/>
            <a:ext cx="10173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94240" y="2984400"/>
            <a:ext cx="1017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46000" y="525780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7400" y="6046920"/>
            <a:ext cx="9414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29280" y="525780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00680" y="6048360"/>
            <a:ext cx="9414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278840" y="4584600"/>
            <a:ext cx="2286000" cy="2057400"/>
          </a:xfrm>
          <a:custGeom>
            <a:avLst/>
            <a:gdLst>
              <a:gd name="textAreaLeft" fmla="*/ 242280 w 2286000"/>
              <a:gd name="textAreaRight" fmla="*/ 2043720 w 2286000"/>
              <a:gd name="textAreaTop" fmla="*/ 242280 h 2057400"/>
              <a:gd name="textAreaBottom" fmla="*/ 1815120 h 2057400"/>
            </a:gdLst>
            <a:ahLst/>
            <a:rect l="textAreaLeft" t="textAreaTop" r="textAreaRight" b="textAreaBottom"/>
            <a:pathLst>
              <a:path w="240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400" y="21600"/>
                </a:lnTo>
                <a:arcTo wR="3600" hR="3600" stAng="10800000" swAng="5400000"/>
                <a:lnTo>
                  <a:pt x="24000" y="3600"/>
                </a:lnTo>
                <a:arcTo wR="3600" hR="3600" stAng="5400000" swAng="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 Block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54960" y="3200400"/>
            <a:ext cx="1827000" cy="1371600"/>
          </a:xfrm>
          <a:custGeom>
            <a:avLst/>
            <a:gdLst/>
            <a:ahLst/>
            <a:rect l="l" t="t" r="r" b="b"/>
            <a:pathLst>
              <a:path w="144" h="122">
                <a:moveTo>
                  <a:pt x="85" y="69"/>
                </a:moveTo>
                <a:cubicBezTo>
                  <a:pt x="85" y="55"/>
                  <a:pt x="97" y="44"/>
                  <a:pt x="111" y="44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44" y="30"/>
                  <a:pt x="144" y="30"/>
                  <a:pt x="144" y="30"/>
                </a:cubicBezTo>
                <a:cubicBezTo>
                  <a:pt x="111" y="0"/>
                  <a:pt x="111" y="0"/>
                  <a:pt x="111" y="0"/>
                </a:cubicBezTo>
                <a:cubicBezTo>
                  <a:pt x="111" y="17"/>
                  <a:pt x="111" y="17"/>
                  <a:pt x="111" y="17"/>
                </a:cubicBezTo>
                <a:cubicBezTo>
                  <a:pt x="95" y="17"/>
                  <a:pt x="81" y="24"/>
                  <a:pt x="71" y="35"/>
                </a:cubicBezTo>
                <a:cubicBezTo>
                  <a:pt x="62" y="25"/>
                  <a:pt x="48" y="18"/>
                  <a:pt x="32" y="18"/>
                </a:cubicBezTo>
                <a:cubicBezTo>
                  <a:pt x="32" y="0"/>
                  <a:pt x="32" y="0"/>
                  <a:pt x="32" y="0"/>
                </a:cubicBezTo>
                <a:cubicBezTo>
                  <a:pt x="0" y="31"/>
                  <a:pt x="0" y="31"/>
                  <a:pt x="0" y="31"/>
                </a:cubicBezTo>
                <a:cubicBezTo>
                  <a:pt x="32" y="61"/>
                  <a:pt x="32" y="61"/>
                  <a:pt x="32" y="61"/>
                </a:cubicBezTo>
                <a:cubicBezTo>
                  <a:pt x="32" y="44"/>
                  <a:pt x="32" y="44"/>
                  <a:pt x="32" y="44"/>
                </a:cubicBezTo>
                <a:cubicBezTo>
                  <a:pt x="46" y="44"/>
                  <a:pt x="58" y="55"/>
                  <a:pt x="58" y="69"/>
                </a:cubicBezTo>
                <a:cubicBezTo>
                  <a:pt x="58" y="122"/>
                  <a:pt x="58" y="122"/>
                  <a:pt x="58" y="122"/>
                </a:cubicBezTo>
                <a:cubicBezTo>
                  <a:pt x="58" y="122"/>
                  <a:pt x="58" y="122"/>
                  <a:pt x="58" y="122"/>
                </a:cubicBezTo>
                <a:cubicBezTo>
                  <a:pt x="85" y="122"/>
                  <a:pt x="85" y="122"/>
                  <a:pt x="85" y="122"/>
                </a:cubicBezTo>
                <a:cubicBezTo>
                  <a:pt x="85" y="122"/>
                  <a:pt x="85" y="122"/>
                  <a:pt x="85" y="122"/>
                </a:cubicBezTo>
                <a:lnTo>
                  <a:pt x="85" y="69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Random Write -- bad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151600" y="4375080"/>
            <a:ext cx="4425840" cy="2379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03280" y="4375080"/>
            <a:ext cx="4425840" cy="2379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109440" y="2057400"/>
            <a:ext cx="4775400" cy="4114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5137200" y="20574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-88920"/>
            <a:ext cx="9070920" cy="1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ontinuous write – great relief from eras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02920" y="1768320"/>
            <a:ext cx="9070920" cy="4989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371600" y="1828800"/>
            <a:ext cx="77724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Write -- log bloc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ash block as write 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rrespond to one flash block at on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is it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d disk : clustering writes; save redund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ash disk: reduce erase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esting: Log block size and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Log block -- siz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3280" y="1768320"/>
            <a:ext cx="907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Trade off: Large merge time VS frequent me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ze: 64 pages                           128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151600" y="4375080"/>
            <a:ext cx="4425840" cy="2379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03280" y="4375080"/>
            <a:ext cx="4425840" cy="2379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28600" y="3657600"/>
            <a:ext cx="4800600" cy="3429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5173560" y="365760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Determine size of Log block poo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eat writing one page into set of continuous flash blocks sequentially. Check the time co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917800" y="3917880"/>
          <a:ext cx="3251160" cy="905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7800" y="3917880"/>
                    <a:ext cx="3251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778040" y="3009960"/>
          <a:ext cx="5464080" cy="4430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78040" y="3009960"/>
                    <a:ext cx="5464080" cy="44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Log block pool -- Use Strateg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g block pool use FIFO to reclaim used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eatedly writing less than 16 pages into one flash block does not trigger data me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and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“seek”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od sequential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e log block (buffer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” !=”0”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0” != “1”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03280" y="1767960"/>
            <a:ext cx="4425840" cy="2379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151600" y="1767960"/>
            <a:ext cx="4425840" cy="2379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151600" y="4375080"/>
            <a:ext cx="4425840" cy="2379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503280" y="4375080"/>
            <a:ext cx="4425840" cy="2379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457200" y="1179360"/>
            <a:ext cx="4572000" cy="2971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5149800" y="1179360"/>
            <a:ext cx="4572000" cy="2949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474840" y="4348080"/>
            <a:ext cx="4554360" cy="3159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5149800" y="434340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ow about 50%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03280" y="1767960"/>
            <a:ext cx="4425840" cy="23799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151600" y="4375080"/>
            <a:ext cx="4425840" cy="2379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503280" y="4375080"/>
            <a:ext cx="4425840" cy="2379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5329080" y="4379760"/>
            <a:ext cx="4572000" cy="3164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474840" y="4384800"/>
            <a:ext cx="4554360" cy="3159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3043080" y="114300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Write -- what we can do?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file system for fl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ified LFS   Log block !=write 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al policy for frequently updated data, e.g i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ticipatory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flexible.  Directly execute any write request in one data block associated with log b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ip “1” to “0”, “0” to “1”  may save time (attributed to Remzi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onclusion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rehensive study of the read and write performance of flash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ign a relatively systematic method to study the flash memory as a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some interesting and potentially useful properties, e.g. “1”!=”0” ; “seek”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ly similar performance study strategy to SSD  and check whether the properties still hol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316240" y="1974960"/>
            <a:ext cx="580392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Random Read-- “seek” time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28240" y="1599840"/>
            <a:ext cx="4621320" cy="49928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151240" y="1767960"/>
            <a:ext cx="4678200" cy="4861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228600" y="2286000"/>
            <a:ext cx="4572000" cy="3886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5011560" y="2298600"/>
            <a:ext cx="4903920" cy="383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Random Read-- “seek” time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8240" y="1599840"/>
            <a:ext cx="4621320" cy="4992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151240" y="1767960"/>
            <a:ext cx="4678200" cy="4861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228600" y="2286000"/>
            <a:ext cx="4572000" cy="3886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5011560" y="2298600"/>
            <a:ext cx="4903920" cy="383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ra for Fla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ice properties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Fast random access; Shock /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mperature resistance ; Smaller size and w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ergy sav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ing price + increasing volu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only get BLACK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ustry company may not t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systematic performance study litera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lash Memory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page: 2KB,4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block: 64,128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0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and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in pages ~50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in pages ~800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write needs block erase ~1500u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0600" y="2827440"/>
            <a:ext cx="4800600" cy="27432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1800" y="4114800"/>
            <a:ext cx="46368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43280" y="4321080"/>
            <a:ext cx="46332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71760" y="3886200"/>
            <a:ext cx="4633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62320" y="3970440"/>
            <a:ext cx="565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43280" y="3844800"/>
            <a:ext cx="46332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43280" y="3886200"/>
            <a:ext cx="4633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43280" y="4114800"/>
            <a:ext cx="4633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71800" y="3886200"/>
            <a:ext cx="4633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71880" y="4114800"/>
            <a:ext cx="4633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71880" y="3886200"/>
            <a:ext cx="4633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92680" y="4343400"/>
            <a:ext cx="4633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82960" y="3429000"/>
            <a:ext cx="4633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82960" y="3429000"/>
            <a:ext cx="4633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23920" y="3606840"/>
            <a:ext cx="46368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6400" y="3657600"/>
            <a:ext cx="46368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87560" y="3886200"/>
            <a:ext cx="46368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4840" y="2971800"/>
            <a:ext cx="914400" cy="2514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ck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36600" y="2971800"/>
            <a:ext cx="914400" cy="2514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c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49560" y="2971800"/>
            <a:ext cx="914400" cy="2514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ck 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28840" y="2971800"/>
            <a:ext cx="914400" cy="2514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35320" y="3021120"/>
            <a:ext cx="9144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g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35320" y="5180040"/>
            <a:ext cx="9144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ge m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35320" y="4100400"/>
            <a:ext cx="9144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35320" y="3740040"/>
            <a:ext cx="9144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35320" y="3381480"/>
            <a:ext cx="9144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23960" y="4535640"/>
            <a:ext cx="465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5881680"/>
            <a:ext cx="19526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ip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and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Re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ead “seek”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Good sequential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e buffer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” !=”0”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Read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umptions and basic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iform random read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od sequential read performance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04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eriments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dora Core 7.0,1GHZ CPU, 1G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104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ash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104000"/>
              </a:lnSpc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I)   Kingston DataTraveler 1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104000"/>
              </a:lnSpc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II)  PNY Attaché 2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104000"/>
              </a:lnSpc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III) Unknown 1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Random Read-- “seek” time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03280" y="1767960"/>
            <a:ext cx="4425840" cy="2379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151600" y="1767960"/>
            <a:ext cx="4425840" cy="2379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151600" y="4375080"/>
            <a:ext cx="4425840" cy="2379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503280" y="4375080"/>
            <a:ext cx="4425840" cy="2379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57200" y="1179360"/>
            <a:ext cx="457200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5149800" y="1179360"/>
            <a:ext cx="4572000" cy="2949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474840" y="4348080"/>
            <a:ext cx="4554360" cy="3159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5149800" y="434340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equential Read –good!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8240" y="1599840"/>
            <a:ext cx="4621320" cy="4992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151240" y="1767960"/>
            <a:ext cx="4678200" cy="4861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28600" y="2286000"/>
            <a:ext cx="4572000" cy="3886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5011560" y="2298600"/>
            <a:ext cx="4903920" cy="383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equential Read –Scale u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8240" y="1599840"/>
            <a:ext cx="4621320" cy="4992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151240" y="1767960"/>
            <a:ext cx="4678200" cy="4861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28600" y="2286000"/>
            <a:ext cx="4572000" cy="3886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011560" y="2298600"/>
            <a:ext cx="4903920" cy="383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ong</dc:creator>
  <dc:description/>
  <dc:language>en-US</dc:language>
  <cp:lastModifiedBy>chong</cp:lastModifiedBy>
  <cp:revision>0</cp:revision>
  <dc:subject/>
  <dc:title/>
</cp:coreProperties>
</file>