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647230-144E-447F-A23F-0465A70C38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426662-FE5F-40E7-8B02-B246AD290A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virtu: mods to the linux kern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5D4D0C-C684-4117-8746-4B469068FFC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x pape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booting one of the most practical approaches right n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B476FA-2B61-47FE-8ADF-47AA8CCC817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ion: based on functions and (user level / xen / kern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4200A6-A141-43DA-B253-D619C3C222C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F65F-47DE-45B5-92A4-049376BF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1AD6-CD47-4B09-BBB0-4002240A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810F-A32F-425F-A497-4D6750D02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E7C9-4433-469D-8534-11E3BDB3E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B88E-C6F3-4618-A42C-C8862105C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191E-7156-4E14-B084-9A4CBF3B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4647-27BB-4C96-8A1A-80DFC5EE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7FA0-D855-40C5-9413-FDDB8CDA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718C-83A4-44A6-AE78-885500C6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AA67-32E8-4935-9ECF-68C4A4FB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5181-5785-4FC6-887B-8941C3A3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92BC-F30B-4A34-8F44-F60AFE12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D512-31B9-43B4-A463-A3FFE4B5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0E4B-F2E1-4D5D-86FE-EDB47197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5FED-4B17-4ABD-B6F8-CF43C54B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5DA9-2550-429D-ACDA-75FD1721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3596-4755-4A2B-AD89-F4A58025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C499-B65E-469F-9BE5-FC0019ED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384D-8D05-4E0B-9829-74420729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B0DCA-0AE4-495C-AEEE-F114F99E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6715-FC9D-40A6-BCC8-431E8CEA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BC2C4-B913-487B-AC65-B2C01519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04697-0B96-48C2-B789-5DA454CB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B5E2C-F219-4AB0-917B-FC9A6D75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9C190-5DCA-48D8-AF5F-2486495C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2D24F-B237-4611-854F-DC023018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382B0-D4D9-4ACD-B581-4CB27587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345B6-A4B8-4C01-A18E-8432FB0D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106C2-765B-4BDD-A59E-BF9D7498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CC156-9D49-400E-AD0B-86CD3556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58E23-854F-4353-996C-E4795BF04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6231-730D-4DDC-96FF-71F5887F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7DCD1-82BE-4AC5-96D4-85D7988F5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55A9-624E-4783-86B9-AEA331E0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0B93-967B-46C6-9241-C00CF03B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2960-A008-4676-AACA-BEB1A4B4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7552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d9ab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AA1EB7-5B89-432D-B0D0-B648792748A5}" type="datetime">
              <a:rPr b="0" lang="en-US" sz="1100" spc="-1" strike="noStrike">
                <a:solidFill>
                  <a:srgbClr val="8d9ab3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4640" y="6275520"/>
            <a:ext cx="564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d9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7080B7-7497-4E1C-ADAA-02432E02009A}" type="slidenum">
              <a:rPr b="0" lang="en-US" sz="1400" spc="-1" strike="noStrike">
                <a:solidFill>
                  <a:srgbClr val="8d9ab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7552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d9ab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1F62B0-D5D8-49D1-9CA1-4B92C12FF067}" type="datetime">
              <a:rPr b="0" lang="en-US" sz="1100" spc="-1" strike="noStrike">
                <a:solidFill>
                  <a:srgbClr val="8d9ab3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09680" y="6275520"/>
            <a:ext cx="563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07696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d9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B40D8A-3E3A-422E-9FA2-18ABD19DF31B}" type="slidenum">
              <a:rPr b="0" lang="en-US" sz="1400" spc="-1" strike="noStrike">
                <a:solidFill>
                  <a:srgbClr val="8d9ab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607090"/>
              </a:gs>
              <a:gs pos="100000">
                <a:srgbClr val="8d9a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Rectangle 7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607090"/>
              </a:gs>
              <a:gs pos="100000">
                <a:srgbClr val="8d9a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Rectangle 8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607090"/>
              </a:gs>
              <a:gs pos="100000">
                <a:srgbClr val="8d9a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Rectangle 9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607090"/>
              </a:gs>
              <a:gs pos="100000">
                <a:srgbClr val="8d9a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7552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d9ab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C0523B-9A00-4E4D-9F68-3C8619BA4AA8}" type="datetime">
              <a:rPr b="0" lang="en-US" sz="1100" spc="-1" strike="noStrike">
                <a:solidFill>
                  <a:srgbClr val="8d9ab3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2204640" y="6275520"/>
            <a:ext cx="564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807696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d9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24A7CC-5781-4063-B769-2329D2BBE101}" type="slidenum">
              <a:rPr b="0" lang="en-US" sz="1400" spc="-1" strike="noStrike">
                <a:solidFill>
                  <a:srgbClr val="8d9ab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6000" y="739800"/>
            <a:ext cx="8513640" cy="27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10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8d9ab3"/>
                </a:solidFill>
                <a:latin typeface="Century Gothic"/>
              </a:rPr>
              <a:t>Profiling Startup</a:t>
            </a:r>
            <a:endParaRPr b="0" lang="en-US" sz="100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6000" y="3504960"/>
            <a:ext cx="8513640" cy="134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af03"/>
                </a:solidFill>
                <a:latin typeface="Century Gothic"/>
              </a:rPr>
              <a:t>By Steven Kappes (kappes@cs.wisc.edu)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af03"/>
                </a:solidFill>
                <a:latin typeface="Century Gothic"/>
              </a:rPr>
              <a:t>&amp; Theo Benson (tbenson@cs.wisc.edu)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af03"/>
                </a:solidFill>
                <a:latin typeface="Century Gothic"/>
              </a:rPr>
              <a:t>Limitations</a:t>
            </a:r>
            <a:endParaRPr b="0" lang="en-US" sz="48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User-level distribution and symbol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Xen startup procedur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Paravirtualiz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af03"/>
                </a:solidFill>
                <a:latin typeface="Century Gothic"/>
              </a:rPr>
              <a:t>Outline</a:t>
            </a:r>
            <a:endParaRPr b="0" lang="en-US" sz="48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2200"/>
              </a:spcBef>
              <a:buClr>
                <a:srgbClr val="54638c"/>
              </a:buClr>
              <a:buSzPct val="9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pproach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743040" indent="-743040">
              <a:spcBef>
                <a:spcPts val="2200"/>
              </a:spcBef>
              <a:buClr>
                <a:srgbClr val="54638c"/>
              </a:buClr>
              <a:buSzPct val="9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entury Gothic"/>
              </a:rPr>
              <a:t>Result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743040" indent="-743040">
              <a:spcBef>
                <a:spcPts val="2200"/>
              </a:spcBef>
              <a:buClr>
                <a:srgbClr val="54638c"/>
              </a:buClr>
              <a:buSzPct val="9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Summariz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743040" indent="-74304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af03"/>
                </a:solidFill>
                <a:latin typeface="Century Gothic"/>
              </a:rPr>
              <a:t>Aggregate Realm Distribution</a:t>
            </a:r>
            <a:endParaRPr b="0" lang="en-US" sz="4800" spc="-1" strike="noStrike">
              <a:solidFill>
                <a:srgbClr val="ffaf03"/>
              </a:solidFill>
              <a:latin typeface="Century Gothic"/>
            </a:endParaRPr>
          </a:p>
        </p:txBody>
      </p:sp>
      <p:pic>
        <p:nvPicPr>
          <p:cNvPr id="233" name="Content Placeholder 4" descr="Picture 2.png"/>
          <p:cNvPicPr/>
          <p:nvPr/>
        </p:nvPicPr>
        <p:blipFill>
          <a:blip r:embed="rId2"/>
          <a:stretch/>
        </p:blipFill>
        <p:spPr>
          <a:xfrm>
            <a:off x="1066680" y="2971800"/>
            <a:ext cx="688680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582480"/>
            <a:ext cx="876312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af03"/>
                </a:solidFill>
                <a:latin typeface="Century Gothic"/>
              </a:rPr>
              <a:t>Distribution between Realms</a:t>
            </a:r>
            <a:endParaRPr b="0" lang="en-US" sz="4800" spc="-1" strike="noStrike">
              <a:solidFill>
                <a:srgbClr val="ffaf03"/>
              </a:solidFill>
              <a:latin typeface="Century Gothic"/>
            </a:endParaRPr>
          </a:p>
        </p:txBody>
      </p:sp>
      <p:pic>
        <p:nvPicPr>
          <p:cNvPr id="235" name="Content Placeholder 4" descr="RealmDistribution.png"/>
          <p:cNvPicPr/>
          <p:nvPr/>
        </p:nvPicPr>
        <p:blipFill>
          <a:blip r:embed="rId2"/>
          <a:stretch/>
        </p:blipFill>
        <p:spPr>
          <a:xfrm>
            <a:off x="0" y="1577880"/>
            <a:ext cx="937260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582480"/>
            <a:ext cx="876312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af03"/>
                </a:solidFill>
                <a:latin typeface="Century Gothic"/>
              </a:rPr>
              <a:t>Distribution between Realms</a:t>
            </a:r>
            <a:endParaRPr b="0" lang="en-US" sz="4800" spc="-1" strike="noStrike">
              <a:solidFill>
                <a:srgbClr val="ffaf03"/>
              </a:solidFill>
              <a:latin typeface="Century Gothic"/>
            </a:endParaRPr>
          </a:p>
        </p:txBody>
      </p:sp>
      <p:pic>
        <p:nvPicPr>
          <p:cNvPr id="237" name="Content Placeholder 7" descr="RealmDistribution_noXen.png"/>
          <p:cNvPicPr/>
          <p:nvPr/>
        </p:nvPicPr>
        <p:blipFill>
          <a:blip r:embed="rId2"/>
          <a:stretch/>
        </p:blipFill>
        <p:spPr>
          <a:xfrm>
            <a:off x="0" y="1693800"/>
            <a:ext cx="914400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af03"/>
                </a:solidFill>
                <a:latin typeface="Century Gothic"/>
              </a:rPr>
              <a:t>Aggregate Function Distribution</a:t>
            </a:r>
            <a:endParaRPr b="0" lang="en-US" sz="4800" spc="-1" strike="noStrike">
              <a:solidFill>
                <a:srgbClr val="ffaf03"/>
              </a:solidFill>
              <a:latin typeface="Century Gothic"/>
            </a:endParaRPr>
          </a:p>
        </p:txBody>
      </p:sp>
      <p:pic>
        <p:nvPicPr>
          <p:cNvPr id="239" name="Content Placeholder 4" descr="Picture 3.png"/>
          <p:cNvPicPr/>
          <p:nvPr/>
        </p:nvPicPr>
        <p:blipFill>
          <a:blip r:embed="rId2"/>
          <a:stretch/>
        </p:blipFill>
        <p:spPr>
          <a:xfrm>
            <a:off x="612720" y="2103480"/>
            <a:ext cx="788508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af03"/>
                </a:solidFill>
                <a:latin typeface="Century Gothic"/>
              </a:rPr>
              <a:t>System_call</a:t>
            </a:r>
            <a:endParaRPr b="0" lang="en-US" sz="4300" spc="-1" strike="noStrike">
              <a:solidFill>
                <a:srgbClr val="ffaf03"/>
              </a:solidFill>
              <a:latin typeface="Century Gothic"/>
            </a:endParaRPr>
          </a:p>
        </p:txBody>
      </p:sp>
      <p:pic>
        <p:nvPicPr>
          <p:cNvPr id="241" name="Content Placeholder 4" descr="System_call.png"/>
          <p:cNvPicPr/>
          <p:nvPr/>
        </p:nvPicPr>
        <p:blipFill>
          <a:blip r:embed="rId2"/>
          <a:stretch/>
        </p:blipFill>
        <p:spPr>
          <a:xfrm>
            <a:off x="0" y="1676520"/>
            <a:ext cx="9326520" cy="47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af03"/>
                </a:solidFill>
                <a:latin typeface="Century Gothic"/>
              </a:rPr>
              <a:t>Paging_init</a:t>
            </a:r>
            <a:endParaRPr b="0" lang="en-US" sz="4300" spc="-1" strike="noStrike">
              <a:solidFill>
                <a:srgbClr val="ffaf03"/>
              </a:solidFill>
              <a:latin typeface="Century Gothic"/>
            </a:endParaRPr>
          </a:p>
        </p:txBody>
      </p:sp>
      <p:pic>
        <p:nvPicPr>
          <p:cNvPr id="243" name="Content Placeholder 4" descr="Paging_init.png"/>
          <p:cNvPicPr/>
          <p:nvPr/>
        </p:nvPicPr>
        <p:blipFill>
          <a:blip r:embed="rId2"/>
          <a:stretch/>
        </p:blipFill>
        <p:spPr>
          <a:xfrm>
            <a:off x="0" y="1676520"/>
            <a:ext cx="93726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af03"/>
                </a:solidFill>
                <a:latin typeface="Century Gothic"/>
              </a:rPr>
              <a:t>Verification</a:t>
            </a:r>
            <a:endParaRPr b="0" lang="en-US" sz="48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Easier to make slower than faster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Flush_area_local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af03"/>
                </a:solidFill>
                <a:latin typeface="Century Gothic"/>
              </a:rPr>
              <a:t>Flush_area_local</a:t>
            </a:r>
            <a:endParaRPr b="0" lang="en-US" sz="4800" spc="-1" strike="noStrike">
              <a:solidFill>
                <a:srgbClr val="ffaf03"/>
              </a:solidFill>
              <a:latin typeface="Century Gothic"/>
            </a:endParaRPr>
          </a:p>
        </p:txBody>
      </p:sp>
      <p:pic>
        <p:nvPicPr>
          <p:cNvPr id="247" name="Content Placeholder 4" descr="Verify.png"/>
          <p:cNvPicPr/>
          <p:nvPr/>
        </p:nvPicPr>
        <p:blipFill>
          <a:blip r:embed="rId2"/>
          <a:stretch/>
        </p:blipFill>
        <p:spPr>
          <a:xfrm>
            <a:off x="0" y="1752480"/>
            <a:ext cx="9267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af03"/>
                </a:solidFill>
                <a:latin typeface="Century Gothic"/>
              </a:rPr>
              <a:t>Motivation</a:t>
            </a:r>
            <a:endParaRPr b="0" lang="en-US" sz="48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Systems fail!!!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Failures reduce productivit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How to Increase Availability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af03"/>
                </a:solidFill>
                <a:latin typeface="Century Gothic"/>
              </a:rPr>
              <a:t>Outline</a:t>
            </a:r>
            <a:endParaRPr b="0" lang="en-US" sz="48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2200"/>
              </a:spcBef>
              <a:buClr>
                <a:srgbClr val="54638c"/>
              </a:buClr>
              <a:buSzPct val="9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pproach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743040" indent="-743040">
              <a:spcBef>
                <a:spcPts val="2200"/>
              </a:spcBef>
              <a:buClr>
                <a:srgbClr val="54638c"/>
              </a:buClr>
              <a:buSzPct val="9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Result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743040" indent="-743040">
              <a:spcBef>
                <a:spcPts val="2200"/>
              </a:spcBef>
              <a:buClr>
                <a:srgbClr val="54638c"/>
              </a:buClr>
              <a:buSzPct val="9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entury Gothic"/>
              </a:rPr>
              <a:t>Summariz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af03"/>
                </a:solidFill>
                <a:latin typeface="Century Gothic"/>
              </a:rPr>
              <a:t>Summary</a:t>
            </a:r>
            <a:endParaRPr b="0" lang="en-US" sz="48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Insight into performance overhead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Xen affects PC sampl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af03"/>
                </a:solidFill>
                <a:latin typeface="Century Gothic"/>
              </a:rPr>
              <a:t>Questions?</a:t>
            </a:r>
            <a:endParaRPr b="0" lang="en-US" sz="48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af03"/>
                </a:solidFill>
                <a:latin typeface="Century Gothic"/>
              </a:rPr>
              <a:t>Approach</a:t>
            </a:r>
            <a:endParaRPr b="0" lang="en-US" sz="48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hat is Program Counter sampling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hy use a Virtual Machine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af03"/>
                </a:solidFill>
                <a:latin typeface="Century Gothic"/>
              </a:rPr>
              <a:t>Conclusion</a:t>
            </a:r>
            <a:endParaRPr b="0" lang="en-US" sz="48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here are cycles lost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ontext switching is slow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af03"/>
                </a:solidFill>
                <a:latin typeface="Century Gothic"/>
              </a:rPr>
              <a:t>Outline</a:t>
            </a:r>
            <a:endParaRPr b="0" lang="en-US" sz="48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2200"/>
              </a:spcBef>
              <a:buClr>
                <a:srgbClr val="54638c"/>
              </a:buClr>
              <a:buSzPct val="9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entury Gothic"/>
              </a:rPr>
              <a:t>Approach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743040" indent="-743040">
              <a:spcBef>
                <a:spcPts val="2200"/>
              </a:spcBef>
              <a:buClr>
                <a:srgbClr val="54638c"/>
              </a:buClr>
              <a:buSzPct val="9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Result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743040" indent="-743040">
              <a:spcBef>
                <a:spcPts val="2200"/>
              </a:spcBef>
              <a:buClr>
                <a:srgbClr val="54638c"/>
              </a:buClr>
              <a:buSzPct val="9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Summariz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743040" indent="-74304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af03"/>
                </a:solidFill>
                <a:latin typeface="Century Gothic"/>
              </a:rPr>
              <a:t>Using Xen</a:t>
            </a:r>
            <a:endParaRPr b="0" lang="en-US" sz="48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hat is Xen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Paravirtualiz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Domain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af03"/>
                </a:solidFill>
                <a:latin typeface="Century Gothic"/>
              </a:rPr>
              <a:t>Xen</a:t>
            </a:r>
            <a:endParaRPr b="0" lang="en-US" sz="4800" spc="-1" strike="noStrike">
              <a:solidFill>
                <a:srgbClr val="ffaf03"/>
              </a:solidFill>
              <a:latin typeface="Century Gothic"/>
            </a:endParaRPr>
          </a:p>
        </p:txBody>
      </p:sp>
      <p:pic>
        <p:nvPicPr>
          <p:cNvPr id="223" name="Content Placeholder 3" descr="Picture 1.png"/>
          <p:cNvPicPr/>
          <p:nvPr/>
        </p:nvPicPr>
        <p:blipFill>
          <a:blip r:embed="rId2"/>
          <a:stretch/>
        </p:blipFill>
        <p:spPr>
          <a:xfrm>
            <a:off x="792000" y="1371600"/>
            <a:ext cx="751392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af03"/>
                </a:solidFill>
                <a:latin typeface="Century Gothic"/>
              </a:rPr>
              <a:t>Architecture</a:t>
            </a:r>
            <a:endParaRPr b="0" lang="en-US" sz="48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Profiling in Xen Hypervisor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User-level tools for analysi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af03"/>
                </a:solidFill>
                <a:latin typeface="Century Gothic"/>
              </a:rPr>
              <a:t>User-level Tools</a:t>
            </a:r>
            <a:endParaRPr b="0" lang="en-US" sz="48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System call --&gt; Hypercall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Script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Frequency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Distribution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Symbol table resolution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9:45:11Z</dcterms:created>
  <dc:creator>Steven Kappes</dc:creator>
  <dc:description/>
  <dc:language>en-US</dc:language>
  <cp:lastModifiedBy>Theo Benson</cp:lastModifiedBy>
  <dcterms:modified xsi:type="dcterms:W3CDTF">2008-05-13T06:35:09Z</dcterms:modified>
  <cp:revision>91</cp:revision>
  <dc:subject/>
  <dc:title>Slide 1</dc:title>
</cp:coreProperties>
</file>