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2FC-1055-4A75-ACCC-AFC2C284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70F-0A5C-4E4B-811C-585BEAC5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E32-77EE-4702-B77A-C4807AF7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6A1-C7DD-47C9-B0DF-3063FC90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EA8-70C6-4A5F-BC36-73171503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3AA-0622-40CE-A64B-A57BA430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A2C-64D3-4B04-BE23-E523E71A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56C-02D4-4DBE-808E-8302189B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E8E-4869-48C4-9062-F0D8A96A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41E-C745-4D2C-9AEC-DD228B1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67A-6361-4615-9E6E-7792EF3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56F-DFB4-4703-935B-0F1D3FB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adff"/>
            </a:gs>
            <a:gs pos="100000">
              <a:srgbClr val="cfe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9A73-195C-42EB-8C70-9F2ED5D6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9080" y="914400"/>
            <a:ext cx="83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mproving Content Addressable St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For Data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31840" y="2743200"/>
            <a:ext cx="67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 on Reliable Awesome Projects (no acronyms pl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Operating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S7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5080" y="4495680"/>
            <a:ext cx="272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on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hana Selvaprak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Udi Manber makes mistak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ing code especially difficult when dealing with raw data and complex hash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ize chunking does not work well for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2209680"/>
          <a:ext cx="403884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403884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219320" y="3124080"/>
            <a:ext cx="1523880" cy="381240"/>
          </a:xfrm>
          <a:prstGeom prst="ellipse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666880" y="2743200"/>
            <a:ext cx="320040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43600" y="2590920"/>
                <a:ext cx="22860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6554160" y="2209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’s different about Datab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id format of DB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Block =&gt; Slotted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fferent performance for variable sized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Ga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’ Data being C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r grained Commonality 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Blocks common, Identical Blocks 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ïve CAS for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r ‘Chunk’ Gran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Overhead overwhelms Commonality 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ïve CAS for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r ‘Chunk’ Gran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Overhead overwhelms Commonality 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8153280" cy="3441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00200" y="4267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verlaying Template Ch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peci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‘Almost Zero’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Chu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ta Chu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Templat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Vs. 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Vs.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verlaying -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, but not good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10480" cy="3837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7160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19920" y="25909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334120" y="34286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6600" y="22096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69480" y="411480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ïve Chu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ed For DB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acle Databas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Block Sizes (4/8 K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438280" y="1474920"/>
            <a:ext cx="44960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ed For DB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181480"/>
            <a:ext cx="76960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tgres Data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990720"/>
            <a:ext cx="488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---------------+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ageHeaderData | linp1 linp2 linp3 ..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----------+----+----------------------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... linpN  |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----------+--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^ pd_lower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                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v pd_upper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------------+--------------------------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            | tupleN ...                   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------------+-----------------+-------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... tuple3 tuple2 tuple1  | "special space“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--------------------------------+-------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 pd_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mantics-Aware CAS for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hun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Size  = Data 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cal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ing Similarity - Data Aware Chunk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metadata within block, DB system level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Saved Vs. Data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block Vs Inter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-based Storage for improved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-Aware CAS -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Size = 8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ing Free Space (PCT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s 73.6% of space used (sparse table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s 27.1% of space used (almost full table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savings than naïv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tightly coupled to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DB configu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Addressable Storage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information by con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ddressable vs. location addres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files into ‘chunk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by chunk fingerpr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commonality for data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iched metadata for better sea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-line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Tuples (in 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ganize tuples across blo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Column St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AS 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mmary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state-of-the-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sized chunking is usuall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ware techniques are better for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mputation cost, but OK for near-line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: Fixed-size chunks (V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: data-aware variable-sized chunking (LBFS, Data Domain In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457200"/>
            <a:ext cx="838080" cy="9144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ent Addressable Sto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229600" y="609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371600" y="2437920"/>
            <a:ext cx="6095880" cy="978120"/>
            <a:chOff x="1371600" y="2437920"/>
            <a:chExt cx="6095880" cy="978120"/>
          </a:xfrm>
        </p:grpSpPr>
        <p:sp>
          <p:nvSpPr>
            <p:cNvPr id="200" name=""/>
            <p:cNvSpPr/>
            <p:nvPr/>
          </p:nvSpPr>
          <p:spPr>
            <a:xfrm>
              <a:off x="4038480" y="2680920"/>
              <a:ext cx="635040" cy="389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6640" y="2876400"/>
              <a:ext cx="1650960" cy="144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3020760"/>
              <a:ext cx="2286000" cy="291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1600" y="2876400"/>
              <a:ext cx="635040" cy="14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600" y="2730240"/>
              <a:ext cx="228600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86280" y="2584080"/>
              <a:ext cx="57132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2584080"/>
              <a:ext cx="1714680" cy="146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2438280"/>
              <a:ext cx="2286000" cy="1458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1600" y="25840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13372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51460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89548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27672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1600" y="27302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5248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13372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51460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89548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27672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71600" y="28764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75248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13372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51460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89548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27672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1600" y="30207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75248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13372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51460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89548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27672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31669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75248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3372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51460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89548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27672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1600" y="3312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75248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3372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51460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89548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920" y="2895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6520" y="2876400"/>
              <a:ext cx="1650960" cy="144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81480" y="3020760"/>
              <a:ext cx="2286000" cy="291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1480" y="2876400"/>
              <a:ext cx="1270080" cy="14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1480" y="2730240"/>
              <a:ext cx="228600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96160" y="2584080"/>
              <a:ext cx="57132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2584080"/>
              <a:ext cx="1714680" cy="146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1480" y="2438280"/>
              <a:ext cx="2286000" cy="1458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1480" y="25840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94360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32448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70572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086600" y="24379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27302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56272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94360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32448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70572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086600" y="25840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1480" y="28764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56272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94360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32448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70572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08660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1480" y="30207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56272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94360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32448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70572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086600" y="2876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1480" y="31669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56272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94360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32448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70572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086600" y="30207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1480" y="3312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56272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94360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32448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705720" y="3166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9800" y="2895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324480" y="2730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39200" y="2666880"/>
              <a:ext cx="56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37240" y="2876400"/>
              <a:ext cx="31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720960" y="287640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2730240"/>
              <a:ext cx="381240" cy="146160"/>
            </a:xfrm>
            <a:prstGeom prst="rect">
              <a:avLst/>
            </a:prstGeom>
            <a:blipFill rotWithShape="0">
              <a:blip r:embed="rId1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2730240"/>
              <a:ext cx="380880" cy="146160"/>
            </a:xfrm>
            <a:prstGeom prst="rect">
              <a:avLst/>
            </a:prstGeom>
            <a:blipFill rotWithShape="0">
              <a:blip r:embed="rId2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2730240"/>
              <a:ext cx="380880" cy="146160"/>
            </a:xfrm>
            <a:prstGeom prst="rect">
              <a:avLst/>
            </a:prstGeom>
            <a:blipFill rotWithShape="0">
              <a:blip r:embed="rId3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81480" y="2876400"/>
              <a:ext cx="381240" cy="14436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62720" y="2876400"/>
              <a:ext cx="380880" cy="14436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43600" y="2876400"/>
              <a:ext cx="380880" cy="14436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06960" y="2730240"/>
              <a:ext cx="635040" cy="146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2876400"/>
              <a:ext cx="381240" cy="144360"/>
            </a:xfrm>
            <a:prstGeom prst="rect">
              <a:avLst/>
            </a:prstGeom>
            <a:blipFill rotWithShape="0">
              <a:blip r:embed="rId7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5720" y="2876400"/>
              <a:ext cx="380880" cy="144360"/>
            </a:xfrm>
            <a:prstGeom prst="rect">
              <a:avLst/>
            </a:prstGeom>
            <a:blipFill rotWithShape="0">
              <a:blip r:embed="rId8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86600" y="2876400"/>
              <a:ext cx="380880" cy="144360"/>
            </a:xfrm>
            <a:prstGeom prst="rect">
              <a:avLst/>
            </a:prstGeom>
            <a:blipFill rotWithShape="0">
              <a:blip r:embed="rId9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3020760"/>
              <a:ext cx="381240" cy="146160"/>
            </a:xfrm>
            <a:prstGeom prst="rect">
              <a:avLst/>
            </a:prstGeom>
            <a:blipFill rotWithShape="0">
              <a:blip r:embed="rId10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62720" y="3020760"/>
              <a:ext cx="380880" cy="146160"/>
            </a:xfrm>
            <a:prstGeom prst="rect">
              <a:avLst/>
            </a:prstGeom>
            <a:blipFill rotWithShape="0">
              <a:blip r:embed="rId11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43600" y="3020760"/>
              <a:ext cx="380880" cy="146160"/>
            </a:xfrm>
            <a:prstGeom prst="rect">
              <a:avLst/>
            </a:prstGeom>
            <a:blipFill rotWithShape="0">
              <a:blip r:embed="rId12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24480" y="3020760"/>
              <a:ext cx="381240" cy="146160"/>
            </a:xfrm>
            <a:prstGeom prst="rect">
              <a:avLst/>
            </a:prstGeom>
            <a:blipFill rotWithShape="0">
              <a:blip r:embed="rId13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5720" y="3020760"/>
              <a:ext cx="380880" cy="146160"/>
            </a:xfrm>
            <a:prstGeom prst="rect">
              <a:avLst/>
            </a:prstGeom>
            <a:blipFill rotWithShape="0">
              <a:blip r:embed="rId1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86600" y="3020760"/>
              <a:ext cx="380880" cy="146160"/>
            </a:xfrm>
            <a:prstGeom prst="rect">
              <a:avLst/>
            </a:prstGeom>
            <a:blipFill rotWithShape="0">
              <a:blip r:embed="rId1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81480" y="3166920"/>
              <a:ext cx="381240" cy="145800"/>
            </a:xfrm>
            <a:prstGeom prst="rect">
              <a:avLst/>
            </a:prstGeom>
            <a:blipFill rotWithShape="0">
              <a:blip r:embed="rId1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62720" y="3166920"/>
              <a:ext cx="380880" cy="145800"/>
            </a:xfrm>
            <a:prstGeom prst="rect">
              <a:avLst/>
            </a:prstGeom>
            <a:blipFill rotWithShape="0">
              <a:blip r:embed="rId17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3600" y="3166920"/>
              <a:ext cx="380880" cy="145800"/>
            </a:xfrm>
            <a:prstGeom prst="rect">
              <a:avLst/>
            </a:prstGeom>
            <a:blipFill rotWithShape="0">
              <a:blip r:embed="rId18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4480" y="3166920"/>
              <a:ext cx="381240" cy="145800"/>
            </a:xfrm>
            <a:prstGeom prst="rect">
              <a:avLst/>
            </a:prstGeom>
            <a:blipFill rotWithShape="0">
              <a:blip r:embed="rId19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3166920"/>
              <a:ext cx="380880" cy="145800"/>
            </a:xfrm>
            <a:prstGeom prst="rect">
              <a:avLst/>
            </a:prstGeom>
            <a:blipFill rotWithShape="0">
              <a:blip r:embed="rId20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3166920"/>
              <a:ext cx="380880" cy="145800"/>
            </a:xfrm>
            <a:prstGeom prst="rect">
              <a:avLst/>
            </a:prstGeom>
            <a:blipFill rotWithShape="0">
              <a:blip r:embed="rId21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640840" y="4898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371600" y="4952880"/>
            <a:ext cx="6095880" cy="977760"/>
            <a:chOff x="1371600" y="4952880"/>
            <a:chExt cx="6095880" cy="977760"/>
          </a:xfrm>
        </p:grpSpPr>
        <p:sp>
          <p:nvSpPr>
            <p:cNvPr id="313" name=""/>
            <p:cNvSpPr/>
            <p:nvPr/>
          </p:nvSpPr>
          <p:spPr>
            <a:xfrm>
              <a:off x="4038480" y="5195880"/>
              <a:ext cx="635040" cy="390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6640" y="5391000"/>
              <a:ext cx="1650960" cy="146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71600" y="5537160"/>
              <a:ext cx="2286000" cy="291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71600" y="5391000"/>
              <a:ext cx="63504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244840"/>
              <a:ext cx="228600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86280" y="5099040"/>
              <a:ext cx="571320" cy="14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71600" y="5099040"/>
              <a:ext cx="1714680" cy="1458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71600" y="4952880"/>
              <a:ext cx="2286000" cy="146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71600" y="50990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133720" y="49528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641680" y="49528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213000" y="49528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71600" y="52448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87956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13372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38752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76876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27672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71600" y="5391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68912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44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57796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95920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40344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71600" y="55371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752480" y="53910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33720" y="53910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514600" y="53910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895480" y="53910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276720" y="53910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600" y="56829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625760" y="55368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324160" y="55368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514600" y="55368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768760" y="55368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213000" y="55368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71600" y="58291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943280" y="56829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133720" y="56829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641680" y="56829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895480" y="56829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9920" y="54100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39200" y="5181480"/>
              <a:ext cx="56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37240" y="5391000"/>
              <a:ext cx="31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720960" y="539100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95288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41680" y="495288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13000" y="495288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9560" y="509904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70000" y="509904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87520" y="509904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76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72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8628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89120" y="524484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0440" y="524484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77960" y="524484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59200" y="524484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3440" y="524484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52480" y="539100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664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3372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1460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95480" y="539100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7672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2576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60440" y="553716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5124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6876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964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424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9560" y="568296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3720" y="568296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41680" y="568296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95480" y="568296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16520" y="5391000"/>
              <a:ext cx="1650960" cy="146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5537160"/>
              <a:ext cx="2286000" cy="291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5391000"/>
              <a:ext cx="127008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244840"/>
              <a:ext cx="2286000" cy="146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96160" y="5099040"/>
              <a:ext cx="571320" cy="14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099040"/>
              <a:ext cx="1714680" cy="1458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81480" y="4952880"/>
              <a:ext cx="2286000" cy="146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50990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943600" y="49528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451560" y="49528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023240" y="495288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1480" y="52448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68944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94360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19776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57864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086600" y="509868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81480" y="5391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49900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07068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38820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76908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086600" y="52448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81480" y="55371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88200" y="53910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81480" y="56829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81480" y="58291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753160" y="568296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58000" y="5410080"/>
              <a:ext cx="5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3600" y="495288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51560" y="495288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23240" y="495288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9440" y="509904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8024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9776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7864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660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96160" y="509904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99000" y="524484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70680" y="524484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88200" y="524484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05720" y="524484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3240" y="524484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4520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2608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34040" y="539100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8820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528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9616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08560" y="553716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16520" y="553716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7068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51560" y="5537160"/>
              <a:ext cx="6372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6908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04120" y="5537160"/>
              <a:ext cx="63360" cy="14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89440" y="568296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6960" y="568296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78640" y="568296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13680" y="539100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06960" y="5244840"/>
              <a:ext cx="635040" cy="146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70680" y="5244840"/>
              <a:ext cx="6336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5244840"/>
              <a:ext cx="63720" cy="146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62720" y="5244840"/>
              <a:ext cx="444240" cy="146160"/>
            </a:xfrm>
            <a:prstGeom prst="rect">
              <a:avLst/>
            </a:prstGeom>
            <a:blipFill rotWithShape="0">
              <a:blip r:embed="rId22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06960" y="5244840"/>
              <a:ext cx="635040" cy="146160"/>
            </a:xfrm>
            <a:prstGeom prst="rect">
              <a:avLst/>
            </a:prstGeom>
            <a:blipFill rotWithShape="0">
              <a:blip r:embed="rId23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42000" y="5244840"/>
              <a:ext cx="63720" cy="146160"/>
            </a:xfrm>
            <a:prstGeom prst="rect">
              <a:avLst/>
            </a:prstGeom>
            <a:blipFill rotWithShape="0">
              <a:blip r:embed="rId2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06960" y="5244840"/>
              <a:ext cx="635040" cy="146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is great, but not for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Metadata is tightly interspersed with da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just ignore database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up significant fraction of storage system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improve CAS for datab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tate-of-the-art CAS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different database systems for storag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techniques that improve CAS for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’s the State-of-the-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Avoiding the Disk Bottleneck in the Data Domain Deduplication File System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, B. Zhu et al. FAST ’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ware variable-length chu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-Informed Segment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ty Preserved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nalysis of State-of-the-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-length chun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hash value storage and loo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es average chunk size match des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use this for other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n different types of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248520" y="1676520"/>
            <a:ext cx="1714320" cy="728640"/>
            <a:chOff x="6248520" y="1676520"/>
            <a:chExt cx="1714320" cy="728640"/>
          </a:xfrm>
        </p:grpSpPr>
        <p:sp>
          <p:nvSpPr>
            <p:cNvPr id="55" name=""/>
            <p:cNvSpPr/>
            <p:nvPr/>
          </p:nvSpPr>
          <p:spPr>
            <a:xfrm>
              <a:off x="6724800" y="2041560"/>
              <a:ext cx="1238040" cy="120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8520" y="2162160"/>
              <a:ext cx="1714320" cy="2430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48520" y="2041560"/>
              <a:ext cx="952560" cy="120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48520" y="1919520"/>
              <a:ext cx="1714320" cy="122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34440" y="1798920"/>
              <a:ext cx="428400" cy="120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8520" y="1798920"/>
              <a:ext cx="1285920" cy="120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1676520"/>
              <a:ext cx="1714320" cy="122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48520" y="179892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819840" y="167652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201080" y="167652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629480" y="167652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8520" y="191952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629400" y="1798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819840" y="1798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010640" y="1798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296120" y="1798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677360" y="17985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48520" y="204156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486480" y="19191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915240" y="19191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153200" y="19191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439040" y="19191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677360" y="19191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8520" y="216216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153200" y="20412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228456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8520" y="240516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676920" y="22842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9840" y="1676520"/>
              <a:ext cx="4788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01080" y="1676520"/>
              <a:ext cx="475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9480" y="1676520"/>
              <a:ext cx="4788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179892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72320" y="179892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10640" y="179892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96120" y="1798920"/>
              <a:ext cx="4788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77360" y="179892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34440" y="179892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6480" y="1919520"/>
              <a:ext cx="4788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15240" y="1919520"/>
              <a:ext cx="4752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53200" y="1919520"/>
              <a:ext cx="4788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1919520"/>
              <a:ext cx="4752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29480" y="1919520"/>
              <a:ext cx="4788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6040" y="204156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81880" y="204156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62760" y="2041560"/>
              <a:ext cx="4788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53200" y="2041560"/>
              <a:ext cx="4788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48600" y="204156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34440" y="204156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43560" y="2162160"/>
              <a:ext cx="4788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24800" y="2162160"/>
              <a:ext cx="475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15240" y="2162160"/>
              <a:ext cx="475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1080" y="2162160"/>
              <a:ext cx="475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39040" y="2162160"/>
              <a:ext cx="475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15320" y="2162160"/>
              <a:ext cx="47520" cy="122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28456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67720" y="228456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96120" y="2284560"/>
              <a:ext cx="4788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2041560"/>
              <a:ext cx="47520" cy="12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67720" y="1919520"/>
              <a:ext cx="476280" cy="122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15240" y="1919520"/>
              <a:ext cx="4752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05680" y="1919520"/>
              <a:ext cx="47520" cy="122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34360" y="1919520"/>
              <a:ext cx="333360" cy="122040"/>
            </a:xfrm>
            <a:prstGeom prst="rect">
              <a:avLst/>
            </a:prstGeom>
            <a:blipFill rotWithShape="0">
              <a:blip r:embed="rId1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67720" y="1919520"/>
              <a:ext cx="476280" cy="122040"/>
            </a:xfrm>
            <a:prstGeom prst="rect">
              <a:avLst/>
            </a:prstGeom>
            <a:blipFill rotWithShape="0">
              <a:blip r:embed="rId2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44000" y="1919520"/>
              <a:ext cx="47520" cy="122040"/>
            </a:xfrm>
            <a:prstGeom prst="rect">
              <a:avLst/>
            </a:prstGeom>
            <a:blipFill rotWithShape="0">
              <a:blip r:embed="rId3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67720" y="1919520"/>
              <a:ext cx="476280" cy="122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010280" y="266688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32004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32004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6576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36576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5800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7162920" y="28951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619760" y="33523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162920" y="33523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29000" y="4191120"/>
            <a:ext cx="3886200" cy="228600"/>
            <a:chOff x="3429000" y="4191120"/>
            <a:chExt cx="3886200" cy="228600"/>
          </a:xfrm>
        </p:grpSpPr>
        <p:sp>
          <p:nvSpPr>
            <p:cNvPr id="130" name=""/>
            <p:cNvSpPr/>
            <p:nvPr/>
          </p:nvSpPr>
          <p:spPr>
            <a:xfrm>
              <a:off x="3429000" y="4191120"/>
              <a:ext cx="3886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4191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8320" y="4191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4191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72200" y="4191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0" y="4191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675440" y="411480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5840" y="441972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m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w well does average chunk size match des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r" pos="97308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red (bytes)      Actual Averag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8 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5   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6        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12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24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7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48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9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96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37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92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22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384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41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768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848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92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335           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r" pos="97308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r" pos="97308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96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92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4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384        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6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2920" y="502920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0 MB Mix of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4000" y="3733920"/>
            <a:ext cx="32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0 MB Empty Oracle Tabl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4000" y="243828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 Mus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4360" y="4267080"/>
            <a:ext cx="35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MB Empty PostgreSQL Tabl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981080"/>
            <a:ext cx="76320" cy="1447920"/>
          </a:xfrm>
          <a:custGeom>
            <a:avLst/>
            <a:gdLst>
              <a:gd name="textAreaLeft" fmla="*/ 0 w 76320"/>
              <a:gd name="textAreaRight" fmla="*/ 2736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76320" cy="304560"/>
          </a:xfrm>
          <a:custGeom>
            <a:avLst/>
            <a:gdLst>
              <a:gd name="textAreaLeft" fmla="*/ 0 w 76320"/>
              <a:gd name="textAreaRight" fmla="*/ 27360 w 763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267080"/>
            <a:ext cx="76320" cy="304920"/>
          </a:xfrm>
          <a:custGeom>
            <a:avLst/>
            <a:gdLst>
              <a:gd name="textAreaLeft" fmla="*/ 0 w 76320"/>
              <a:gd name="textAreaRight" fmla="*/ 2736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8769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666880"/>
            <a:ext cx="815328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n we use this for other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! Efficiently discover duplicate files (e.g., music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7760" y="2743200"/>
            <a:ext cx="80445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9920000000000000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Alicia\Oasis_-_What's_The_Story_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9907834101382489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Alicia\Incubus_-_Morning_View_-_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9903381642512077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Alicia\Hard_Candy_-_Counting_Cr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9891304347826086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Audioslave_-_Show_Me_How_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9880239520958084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Alicia\The_donavon_frankenreit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9872611464968153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Cornell-Rage_Demos_-_Track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9837398373983740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Alicia\Eric_clapton_-_The_cream_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09090909090909091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Blink_182_-_Reebok_Commerc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08602150537634409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311_Wake_Your_Mind_Up-from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08333333333333333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AUDIOSLAVE-getaway_car-.mp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07826086956521740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Glassjaw_-_Lovebites_and_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07692307692307693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aladdin_-_i_can_show_you_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0.07594936708860760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cfe2ff"/>
                </a:solidFill>
                <a:latin typeface="Courier New"/>
              </a:rPr>
              <a:t>C:\Workspace\Songs\Glassjaw_-_Trailer_Park_J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7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erformance on different types of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x of files (PDF, text, PPT, image data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ably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database table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5:03:37Z</dcterms:created>
  <dc:creator>bmsmith</dc:creator>
  <dc:description/>
  <dc:language>en-US</dc:language>
  <cp:lastModifiedBy>Brandon Smith</cp:lastModifiedBy>
  <dcterms:modified xsi:type="dcterms:W3CDTF">2008-05-13T20:57:03Z</dcterms:modified>
  <cp:revision>65</cp:revision>
  <dc:subject/>
  <dc:title>Slide 1</dc:title>
</cp:coreProperties>
</file>