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F6C8-B9A1-41B7-AE35-CE67EA41B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56BF-01D0-4A2D-8C21-4E86542E2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31DE-9D04-4D81-885A-9C3B18182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8A38-C7B9-4A85-B2B8-67A3C6958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6BE0-F466-4057-B574-D6E07DAA9F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88C7-4993-4CD2-BC06-4FD2447A9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9AFB-DC45-461A-B8D9-041C0223DC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921B-23BF-4650-B4A4-45CFF35F3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35D9-8647-4B4B-82AB-F3C2F8E5F8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2151000"/>
            <a:ext cx="852012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D1CB-ADC8-4807-8B17-4990FF10A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E09B-5F89-441D-9CE0-80FC7113B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CA8D-27B0-4DDA-8D73-015F3E95B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41A9-DC31-4988-AD78-2988268B2F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951F-9CCE-40BE-AB91-F43F9A49E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C700-7514-4623-B67B-5D96B7FECA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81FB-0B7A-47B5-9157-27BA4353D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3358-E4DD-45EB-B975-9F330D1157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514-696A-484D-8B3E-9565BE6C05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56D-1689-4F86-A634-ABC06E77D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7B0-1CAB-4B38-AF4F-CB2A68D6BD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E65-B5E2-45FC-8F4F-21BB4A8F75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F21-B310-47C5-B6F4-AE591255A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33B2-575F-41ED-818F-1AC46DA7F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11760" y="2151000"/>
            <a:ext cx="852012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E5C-EF10-4799-93B6-C8C38D8C49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C92-51DB-4632-AA03-5ECD0D9F82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BFE-FE63-4CEC-A07D-88F5450E33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EAC-FA19-4FF6-8125-0EE7D7CEE1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BD5-3853-4FA9-B7CB-5020E57374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AFD-CAB9-4A2A-B06A-A5C0E1F01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AA6-6CAA-49C7-813C-1D41C45C0B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E18A-961C-42AE-8210-308E9A9AE7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FA92E-1F47-48AA-A8BB-BC7E24BC34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5593A-3535-4B39-9B80-00F27ACCB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B178-4A23-4089-8280-24591A08B9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CF9CD-8169-4DEA-A214-51490275D6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69A5A-9AE5-49EE-89A6-D42CCEF6F0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11760" y="2151000"/>
            <a:ext cx="852012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B5063-435D-44F4-9F92-B80ED62009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63E54-1F9A-4F18-9A2E-93994F62AA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063CB-00EE-4830-91F1-65BEAE48FF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4411E-5E7D-49B8-990F-1A40DB9BC1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EA8E3-18C6-4A9F-BE91-D6F7F06D4D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4DE0D-8D2B-473C-A32C-1ABDD9EA37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21BBF-6625-4057-817F-BF7A1F099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B93-9BB8-4E08-9E24-9119D8577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2151000"/>
            <a:ext cx="852012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218D-F070-4E08-A849-D6AE7CD0F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BE88-F878-4E64-B366-355739B74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0CD-A052-4CFC-B51D-95399C0AD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704D-6302-496B-BA3E-AA7B0313C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20120" cy="205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F872FB5-D393-4D22-814D-912854249B1E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E8B3FB6-D808-4A61-9D86-58971798F374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311760" y="4230720"/>
            <a:ext cx="5998320" cy="60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CB447D5-B35F-4C17-AD33-CDF1996060C5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1760" y="2151000"/>
            <a:ext cx="8520120" cy="84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4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FEDFA44-5D0D-4FE0-9892-244D4EE4A259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2012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Software Overheads of Storage in Ce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1760" y="3193560"/>
            <a:ext cx="8520120" cy="1065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kila Naga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ravind Soundarara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Krishnan Rajagop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55A50F-311B-4569-871E-3BCA6DC748FE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1760" y="2163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Non data touching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eph performs other non-data touching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RocksDB comp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Socket over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se overheads were too small to be analy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4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FEB195-781C-4765-BCA4-B7C451EA21AA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Data touching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eph performs the following operations 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RC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Zero-f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se overheads were too small (0.01 % of time) to be analy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Problem for data &gt; 5 MB in ramdisk (1 G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Sage feels that the backend is saturat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5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040B97B-E061-4A83-A0EE-ACEE7D4331AF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1760" y="2163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11760" y="1076400"/>
            <a:ext cx="852012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eph Bluestore is better tuned for faster storage than Filest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Journaling is the major software overhead added by the storage 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only way to avoid it is by trading consistency -&gt; Might not be suitable for Ce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Data touching overheads in Ceph are very sm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spcBef>
                <a:spcPts val="1599"/>
              </a:spcBef>
              <a:buClr>
                <a:srgbClr val="595959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Storage layer has more non data touching overheads than data touching overh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  <a:tabLst>
                <a:tab algn="l" pos="0"/>
              </a:tabLst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is is in contrast to the network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extra overhead caused by software storage layer is to give additional consistency and reliability guarante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  <a:tabLst>
                <a:tab algn="l" pos="0"/>
              </a:tabLst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ould be avoided if un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6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E8814E6-E1DB-47A1-A260-A3D832048D44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2480" y="1594440"/>
            <a:ext cx="7929000" cy="2091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3600" spc="-1" strike="noStrike">
                <a:solidFill>
                  <a:schemeClr val="dk1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Num" idx="17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DA70DBD-3BB2-49A7-90AF-3C56486315E9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11760" y="16704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Google Shape;62;p14"/>
          <p:cNvSpPr/>
          <p:nvPr/>
        </p:nvSpPr>
        <p:spPr>
          <a:xfrm>
            <a:off x="432720" y="814320"/>
            <a:ext cx="704772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marL="457200" indent="-317520">
              <a:lnSpc>
                <a:spcPct val="100000"/>
              </a:lnSpc>
              <a:buClr>
                <a:srgbClr val="000000"/>
              </a:buClr>
              <a:buFont typeface="Arial"/>
              <a:buChar char="●"/>
            </a:pPr>
            <a:r>
              <a:rPr b="0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I/O was the main bottleneck for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00000"/>
              </a:lnSpc>
              <a:buClr>
                <a:srgbClr val="000000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1"/>
                </a:solidFill>
                <a:latin typeface="Arial"/>
                <a:ea typeface="Arial"/>
              </a:rPr>
              <a:t>Has been the topic of research for dec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00000"/>
              </a:lnSpc>
              <a:buClr>
                <a:srgbClr val="000000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1400" spc="-1" strike="noStrike">
                <a:solidFill>
                  <a:schemeClr val="dk1"/>
                </a:solidFill>
                <a:latin typeface="Arial"/>
                <a:ea typeface="Arial"/>
              </a:rPr>
              <a:t>Now is the era of faster stor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00000"/>
              </a:lnSpc>
              <a:buClr>
                <a:srgbClr val="000000"/>
              </a:buClr>
              <a:buFont typeface="Arial"/>
              <a:buChar char="○"/>
              <a:tabLst>
                <a:tab algn="l" pos="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100X faster than the traditional spinning di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00000"/>
              </a:lnSpc>
              <a:buClr>
                <a:srgbClr val="000000"/>
              </a:buClr>
              <a:buFont typeface="Arial"/>
              <a:buChar char="●"/>
              <a:tabLst>
                <a:tab algn="l" pos="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Where should the next focus be ? What is the dominant part now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00000"/>
              </a:lnSpc>
              <a:buClr>
                <a:srgbClr val="000000"/>
              </a:buClr>
              <a:buFont typeface="Arial"/>
              <a:buChar char="○"/>
              <a:tabLst>
                <a:tab algn="l" pos="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  <a:ea typeface="Arial"/>
              </a:rPr>
              <a:t>Software aka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oogle Shape;63;p14" descr=""/>
          <p:cNvPicPr/>
          <p:nvPr/>
        </p:nvPicPr>
        <p:blipFill>
          <a:blip r:embed="rId1"/>
          <a:stretch/>
        </p:blipFill>
        <p:spPr>
          <a:xfrm>
            <a:off x="746280" y="2926440"/>
            <a:ext cx="2923920" cy="2028600"/>
          </a:xfrm>
          <a:prstGeom prst="rect">
            <a:avLst/>
          </a:prstGeom>
          <a:ln w="0">
            <a:noFill/>
          </a:ln>
        </p:spPr>
      </p:pic>
      <p:pic>
        <p:nvPicPr>
          <p:cNvPr id="162" name="Google Shape;64;p14" descr=""/>
          <p:cNvPicPr/>
          <p:nvPr/>
        </p:nvPicPr>
        <p:blipFill>
          <a:blip r:embed="rId2"/>
          <a:stretch/>
        </p:blipFill>
        <p:spPr>
          <a:xfrm>
            <a:off x="5065920" y="2926440"/>
            <a:ext cx="2943000" cy="2114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sldNum" idx="6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9C49469-58F4-44CE-99C5-14701C926C4F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1760" y="2163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What overhead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1760" y="1000080"/>
            <a:ext cx="8520120" cy="377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processing in the software layers of storage introduce overh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A “write” given in an application is not directly issued to the 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A software storage layer called “File System” processe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filesystem operations incl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Metadata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Journaling /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ompaction / Co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Distributed data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6066C68-DC53-4695-BD30-A7E678AA1F40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1760" y="365040"/>
            <a:ext cx="8520120" cy="57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Why BlueStore? Why not File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1760" y="1084320"/>
            <a:ext cx="8520120" cy="3930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Filestore has the problem of double wri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Every write is journaled by Ceph backend for consist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underlying filesystem performs additional journa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Hence, an analysis of software overheads would point to the “journal of journals” problem which is already evi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BlueStore does not have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objects/data are directly written onto raw block sto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Ceph metadata is written to RocksDB using a lightweight BlueF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BlueStore has relatively lesser intermediate software layers to storage and hence studying the overheads has the potential for interesting infer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8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0B44D5-D0CD-4982-928E-79A78DE043F7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Write data flow in Blu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Google Shape;85;p17"/>
          <p:cNvSpPr/>
          <p:nvPr/>
        </p:nvSpPr>
        <p:spPr>
          <a:xfrm>
            <a:off x="445680" y="1308240"/>
            <a:ext cx="1359720" cy="324360"/>
          </a:xfrm>
          <a:prstGeom prst="roundRect">
            <a:avLst>
              <a:gd name="adj" fmla="val 16667"/>
            </a:avLst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OSD::ShardedOp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Google Shape;86;p17"/>
          <p:cNvSpPr/>
          <p:nvPr/>
        </p:nvSpPr>
        <p:spPr>
          <a:xfrm>
            <a:off x="2588760" y="2869560"/>
            <a:ext cx="937440" cy="511920"/>
          </a:xfrm>
          <a:prstGeom prst="diamond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W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oogle Shape;87;p17" descr=""/>
          <p:cNvPicPr/>
          <p:nvPr/>
        </p:nvPicPr>
        <p:blipFill>
          <a:blip r:embed="rId1"/>
          <a:stretch/>
        </p:blipFill>
        <p:spPr>
          <a:xfrm>
            <a:off x="3971520" y="1384560"/>
            <a:ext cx="1071720" cy="324360"/>
          </a:xfrm>
          <a:prstGeom prst="rect">
            <a:avLst/>
          </a:prstGeom>
          <a:ln w="0">
            <a:noFill/>
          </a:ln>
        </p:spPr>
      </p:pic>
      <p:sp>
        <p:nvSpPr>
          <p:cNvPr id="174" name="Google Shape;88;p17"/>
          <p:cNvSpPr/>
          <p:nvPr/>
        </p:nvSpPr>
        <p:spPr>
          <a:xfrm>
            <a:off x="3755160" y="1059840"/>
            <a:ext cx="1462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Arial"/>
                <a:ea typeface="Arial"/>
              </a:rPr>
              <a:t>BlueStore.kv_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Google Shape;89;p17"/>
          <p:cNvSpPr/>
          <p:nvPr/>
        </p:nvSpPr>
        <p:spPr>
          <a:xfrm>
            <a:off x="248040" y="2814480"/>
            <a:ext cx="1755000" cy="473040"/>
          </a:xfrm>
          <a:prstGeom prst="flowChartConnector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Write data to disk, asy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Google Shape;90;p17"/>
          <p:cNvSpPr/>
          <p:nvPr/>
        </p:nvSpPr>
        <p:spPr>
          <a:xfrm>
            <a:off x="248040" y="3747960"/>
            <a:ext cx="1755000" cy="324360"/>
          </a:xfrm>
          <a:prstGeom prst="roundRect">
            <a:avLst>
              <a:gd name="adj" fmla="val 16667"/>
            </a:avLst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BlueStore.bdev_aio_th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Google Shape;91;p17"/>
          <p:cNvSpPr/>
          <p:nvPr/>
        </p:nvSpPr>
        <p:spPr>
          <a:xfrm>
            <a:off x="656640" y="2017080"/>
            <a:ext cx="937440" cy="511920"/>
          </a:xfrm>
          <a:prstGeom prst="diamond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W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oogle Shape;92;p17"/>
          <p:cNvSpPr/>
          <p:nvPr/>
        </p:nvSpPr>
        <p:spPr>
          <a:xfrm>
            <a:off x="2612880" y="4468680"/>
            <a:ext cx="1908720" cy="473040"/>
          </a:xfrm>
          <a:prstGeom prst="flowChartConnector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Apply WAL to disk, asy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Google Shape;93;p17"/>
          <p:cNvSpPr/>
          <p:nvPr/>
        </p:nvSpPr>
        <p:spPr>
          <a:xfrm>
            <a:off x="4979520" y="3857400"/>
            <a:ext cx="1285920" cy="324360"/>
          </a:xfrm>
          <a:prstGeom prst="roundRect">
            <a:avLst>
              <a:gd name="adj" fmla="val 16667"/>
            </a:avLst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BlueStore::WALW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oogle Shape;94;p17"/>
          <p:cNvSpPr/>
          <p:nvPr/>
        </p:nvSpPr>
        <p:spPr>
          <a:xfrm>
            <a:off x="6497280" y="1364760"/>
            <a:ext cx="1677240" cy="324360"/>
          </a:xfrm>
          <a:prstGeom prst="roundRect">
            <a:avLst>
              <a:gd name="adj" fmla="val 16667"/>
            </a:avLst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BlueStore.kv_sync_th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Google Shape;95;p17"/>
          <p:cNvSpPr/>
          <p:nvPr/>
        </p:nvSpPr>
        <p:spPr>
          <a:xfrm>
            <a:off x="6458400" y="2018160"/>
            <a:ext cx="1755000" cy="473040"/>
          </a:xfrm>
          <a:prstGeom prst="flowChartConnector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RocksDB metadata wr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oogle Shape;96;p17"/>
          <p:cNvSpPr/>
          <p:nvPr/>
        </p:nvSpPr>
        <p:spPr>
          <a:xfrm>
            <a:off x="5153760" y="2869560"/>
            <a:ext cx="937440" cy="511920"/>
          </a:xfrm>
          <a:prstGeom prst="diamond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W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oogle Shape;97;p17"/>
          <p:cNvSpPr/>
          <p:nvPr/>
        </p:nvSpPr>
        <p:spPr>
          <a:xfrm>
            <a:off x="6656400" y="2963160"/>
            <a:ext cx="1359720" cy="324360"/>
          </a:xfrm>
          <a:prstGeom prst="roundRect">
            <a:avLst>
              <a:gd name="adj" fmla="val 16667"/>
            </a:avLst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BlueStore.finis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Google Shape;98;p17"/>
          <p:cNvCxnSpPr>
            <a:stCxn id="171" idx="2"/>
            <a:endCxn id="177" idx="0"/>
          </p:cNvCxnSpPr>
          <p:nvPr/>
        </p:nvCxnSpPr>
        <p:spPr>
          <a:xfrm>
            <a:off x="1125360" y="1632960"/>
            <a:ext cx="360" cy="38412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85" name="Google Shape;99;p17"/>
          <p:cNvCxnSpPr>
            <a:stCxn id="177" idx="2"/>
            <a:endCxn id="175" idx="0"/>
          </p:cNvCxnSpPr>
          <p:nvPr/>
        </p:nvCxnSpPr>
        <p:spPr>
          <a:xfrm>
            <a:off x="1125360" y="2529000"/>
            <a:ext cx="360" cy="28548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86" name="Google Shape;100;p17"/>
          <p:cNvCxnSpPr>
            <a:stCxn id="175" idx="1"/>
            <a:endCxn id="176" idx="0"/>
          </p:cNvCxnSpPr>
          <p:nvPr/>
        </p:nvCxnSpPr>
        <p:spPr>
          <a:xfrm>
            <a:off x="1125360" y="3287520"/>
            <a:ext cx="360" cy="46080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sp>
        <p:nvSpPr>
          <p:cNvPr id="187" name="Google Shape;101;p17"/>
          <p:cNvSpPr/>
          <p:nvPr/>
        </p:nvSpPr>
        <p:spPr>
          <a:xfrm>
            <a:off x="4111920" y="3010320"/>
            <a:ext cx="218160" cy="230040"/>
          </a:xfrm>
          <a:prstGeom prst="flowChartSummingJunction">
            <a:avLst/>
          </a:prstGeom>
          <a:solidFill>
            <a:schemeClr val="lt2"/>
          </a:solidFill>
          <a:ln w="9525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1360" bIns="8136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oogle Shape;102;p17"/>
          <p:cNvCxnSpPr>
            <a:stCxn id="176" idx="3"/>
            <a:endCxn id="172" idx="2"/>
          </p:cNvCxnSpPr>
          <p:nvPr/>
        </p:nvCxnSpPr>
        <p:spPr>
          <a:xfrm flipV="1">
            <a:off x="2003040" y="3381480"/>
            <a:ext cx="1054440" cy="52920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189" name="Google Shape;103;p17"/>
          <p:cNvCxnSpPr>
            <a:stCxn id="172" idx="0"/>
            <a:endCxn id="173" idx="1"/>
          </p:cNvCxnSpPr>
          <p:nvPr/>
        </p:nvCxnSpPr>
        <p:spPr>
          <a:xfrm flipV="1">
            <a:off x="3057480" y="1546920"/>
            <a:ext cx="914040" cy="132264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190" name="Google Shape;104;p17"/>
          <p:cNvCxnSpPr>
            <a:endCxn id="173" idx="1"/>
          </p:cNvCxnSpPr>
          <p:nvPr/>
        </p:nvCxnSpPr>
        <p:spPr>
          <a:xfrm flipV="1">
            <a:off x="3322800" y="1546560"/>
            <a:ext cx="648720" cy="108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1" name="Google Shape;105;p17"/>
          <p:cNvCxnSpPr>
            <a:stCxn id="173" idx="3"/>
            <a:endCxn id="180" idx="1"/>
          </p:cNvCxnSpPr>
          <p:nvPr/>
        </p:nvCxnSpPr>
        <p:spPr>
          <a:xfrm flipV="1">
            <a:off x="5043240" y="1526760"/>
            <a:ext cx="1454400" cy="201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2" name="Google Shape;106;p17"/>
          <p:cNvCxnSpPr>
            <a:endCxn id="172" idx="2"/>
          </p:cNvCxnSpPr>
          <p:nvPr/>
        </p:nvCxnSpPr>
        <p:spPr>
          <a:xfrm flipH="1" flipV="1">
            <a:off x="3057480" y="3381480"/>
            <a:ext cx="1440" cy="5331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3" name="Google Shape;107;p17"/>
          <p:cNvCxnSpPr>
            <a:stCxn id="172" idx="3"/>
            <a:endCxn id="187" idx="2"/>
          </p:cNvCxnSpPr>
          <p:nvPr/>
        </p:nvCxnSpPr>
        <p:spPr>
          <a:xfrm>
            <a:off x="3526200" y="3125160"/>
            <a:ext cx="585720" cy="3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4" name="Google Shape;108;p17"/>
          <p:cNvCxnSpPr>
            <a:stCxn id="182" idx="1"/>
            <a:endCxn id="187" idx="1"/>
          </p:cNvCxnSpPr>
          <p:nvPr/>
        </p:nvCxnSpPr>
        <p:spPr>
          <a:xfrm flipH="1">
            <a:off x="4330080" y="3125160"/>
            <a:ext cx="824040" cy="3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5" name="Google Shape;109;p17"/>
          <p:cNvCxnSpPr>
            <a:stCxn id="180" idx="2"/>
            <a:endCxn id="181" idx="0"/>
          </p:cNvCxnSpPr>
          <p:nvPr/>
        </p:nvCxnSpPr>
        <p:spPr>
          <a:xfrm>
            <a:off x="7336080" y="1689120"/>
            <a:ext cx="360" cy="32940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6" name="Google Shape;110;p17"/>
          <p:cNvCxnSpPr>
            <a:stCxn id="181" idx="2"/>
            <a:endCxn id="182" idx="0"/>
          </p:cNvCxnSpPr>
          <p:nvPr/>
        </p:nvCxnSpPr>
        <p:spPr>
          <a:xfrm flipV="1" rot="10800000">
            <a:off x="5622480" y="2254320"/>
            <a:ext cx="836280" cy="61488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197" name="Google Shape;111;p17"/>
          <p:cNvCxnSpPr>
            <a:stCxn id="182" idx="2"/>
            <a:endCxn id="179" idx="0"/>
          </p:cNvCxnSpPr>
          <p:nvPr/>
        </p:nvCxnSpPr>
        <p:spPr>
          <a:xfrm>
            <a:off x="5622480" y="3381480"/>
            <a:ext cx="360" cy="47592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8" name="Google Shape;112;p17"/>
          <p:cNvCxnSpPr>
            <a:stCxn id="181" idx="1"/>
            <a:endCxn id="183" idx="0"/>
          </p:cNvCxnSpPr>
          <p:nvPr/>
        </p:nvCxnSpPr>
        <p:spPr>
          <a:xfrm>
            <a:off x="7336080" y="2491560"/>
            <a:ext cx="360" cy="47160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199" name="Google Shape;113;p17"/>
          <p:cNvCxnSpPr>
            <a:endCxn id="182" idx="0"/>
          </p:cNvCxnSpPr>
          <p:nvPr/>
        </p:nvCxnSpPr>
        <p:spPr>
          <a:xfrm flipH="1">
            <a:off x="5622480" y="2257560"/>
            <a:ext cx="3600" cy="61200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200" name="Google Shape;114;p17"/>
          <p:cNvCxnSpPr>
            <a:stCxn id="179" idx="2"/>
            <a:endCxn id="178" idx="1"/>
          </p:cNvCxnSpPr>
          <p:nvPr/>
        </p:nvCxnSpPr>
        <p:spPr>
          <a:xfrm flipV="1" rot="10800000">
            <a:off x="4521600" y="4181760"/>
            <a:ext cx="1100880" cy="52380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201" name="Google Shape;115;p17"/>
          <p:cNvCxnSpPr>
            <a:endCxn id="176" idx="2"/>
          </p:cNvCxnSpPr>
          <p:nvPr/>
        </p:nvCxnSpPr>
        <p:spPr>
          <a:xfrm rot="10800000">
            <a:off x="1125000" y="4072320"/>
            <a:ext cx="1487520" cy="63288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202" name="Google Shape;116;p17"/>
          <p:cNvCxnSpPr>
            <a:endCxn id="176" idx="2"/>
          </p:cNvCxnSpPr>
          <p:nvPr/>
        </p:nvCxnSpPr>
        <p:spPr>
          <a:xfrm flipH="1" flipV="1">
            <a:off x="1125360" y="4072680"/>
            <a:ext cx="3600" cy="6339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203" name="Google Shape;117;p17"/>
          <p:cNvCxnSpPr>
            <a:endCxn id="178" idx="1"/>
          </p:cNvCxnSpPr>
          <p:nvPr/>
        </p:nvCxnSpPr>
        <p:spPr>
          <a:xfrm flipH="1" flipV="1">
            <a:off x="4521600" y="4705200"/>
            <a:ext cx="1104480" cy="1080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204" name="Google Shape;118;p17"/>
          <p:cNvCxnSpPr>
            <a:stCxn id="177" idx="3"/>
          </p:cNvCxnSpPr>
          <p:nvPr/>
        </p:nvCxnSpPr>
        <p:spPr>
          <a:xfrm flipV="1">
            <a:off x="1594440" y="1465200"/>
            <a:ext cx="2374920" cy="808200"/>
          </a:xfrm>
          <a:prstGeom prst="bentConnector2">
            <a:avLst/>
          </a:prstGeom>
          <a:ln w="9525">
            <a:solidFill>
              <a:srgbClr val="595959"/>
            </a:solidFill>
            <a:round/>
          </a:ln>
        </p:spPr>
      </p:cxnSp>
      <p:cxnSp>
        <p:nvCxnSpPr>
          <p:cNvPr id="205" name="Google Shape;119;p17"/>
          <p:cNvCxnSpPr/>
          <p:nvPr/>
        </p:nvCxnSpPr>
        <p:spPr>
          <a:xfrm>
            <a:off x="2803680" y="1465560"/>
            <a:ext cx="1193040" cy="36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cxnSp>
        <p:nvCxnSpPr>
          <p:cNvPr id="206" name="Google Shape;120;p17"/>
          <p:cNvCxnSpPr>
            <a:stCxn id="183" idx="2"/>
          </p:cNvCxnSpPr>
          <p:nvPr/>
        </p:nvCxnSpPr>
        <p:spPr>
          <a:xfrm>
            <a:off x="7336080" y="3287520"/>
            <a:ext cx="10800" cy="509040"/>
          </a:xfrm>
          <a:prstGeom prst="straightConnector1">
            <a:avLst/>
          </a:prstGeom>
          <a:ln w="9525">
            <a:solidFill>
              <a:srgbClr val="595959"/>
            </a:solidFill>
            <a:round/>
            <a:tailEnd len="med" type="triangle" w="med"/>
          </a:ln>
        </p:spPr>
      </p:cxnSp>
      <p:sp>
        <p:nvSpPr>
          <p:cNvPr id="207" name="Google Shape;121;p17"/>
          <p:cNvSpPr/>
          <p:nvPr/>
        </p:nvSpPr>
        <p:spPr>
          <a:xfrm>
            <a:off x="7006320" y="376524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Google Shape;122;p17"/>
          <p:cNvSpPr/>
          <p:nvPr/>
        </p:nvSpPr>
        <p:spPr>
          <a:xfrm>
            <a:off x="2034360" y="201708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Google Shape;123;p17"/>
          <p:cNvSpPr/>
          <p:nvPr/>
        </p:nvSpPr>
        <p:spPr>
          <a:xfrm>
            <a:off x="5298480" y="339948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oogle Shape;124;p17"/>
          <p:cNvSpPr/>
          <p:nvPr/>
        </p:nvSpPr>
        <p:spPr>
          <a:xfrm>
            <a:off x="3395160" y="286560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Google Shape;125;p17"/>
          <p:cNvSpPr/>
          <p:nvPr/>
        </p:nvSpPr>
        <p:spPr>
          <a:xfrm>
            <a:off x="1157040" y="249156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Google Shape;126;p17"/>
          <p:cNvSpPr/>
          <p:nvPr/>
        </p:nvSpPr>
        <p:spPr>
          <a:xfrm>
            <a:off x="4509000" y="286524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Google Shape;127;p17"/>
          <p:cNvSpPr/>
          <p:nvPr/>
        </p:nvSpPr>
        <p:spPr>
          <a:xfrm>
            <a:off x="3000240" y="2280960"/>
            <a:ext cx="648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" sz="9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Num" idx="9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72EBDA-607D-40DB-95D5-6302C22C7735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360" y="24048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1760" y="852120"/>
            <a:ext cx="8520120" cy="325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We used ‘perf’ tool to collect the traces of our write operation and ‘FlameGraph’ for the analysis of our tr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write workload size was varied from 4K upto 512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We used ramdisk to simulate an infinitely fast sto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Single cluster configuration wa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Network processing overheads are not consid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No replication for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We don’t aim to study 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We categorize each of the major functions encountered in our traces into two sets. (Motivated by the paper “The Importance! of Non-Data Touching Processing Overheads in TCP/IP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Data touching: Methods that depend on the input data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Non - data touching: Methods that are independent of input data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0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B07E2D0-9368-4189-B730-F7A52F952E88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11760" y="4712760"/>
            <a:ext cx="5998320" cy="30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Flame Graph for a write size of 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oogle Shape;141;p19" descr=""/>
          <p:cNvPicPr/>
          <p:nvPr/>
        </p:nvPicPr>
        <p:blipFill>
          <a:blip r:embed="rId1"/>
          <a:stretch/>
        </p:blipFill>
        <p:spPr>
          <a:xfrm>
            <a:off x="161280" y="106560"/>
            <a:ext cx="8820720" cy="4498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 type="sldNum" idx="11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BF47AA8-ECF2-4BED-A2E5-850FCDEB5FD6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1760" y="102240"/>
            <a:ext cx="8520120" cy="460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Major functions identified by the Flame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11760" y="1112400"/>
            <a:ext cx="341748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time spent by the “Swapper” is very high in case of HD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is shows that Ceph performs synchronous IO - makes sense to achieve “reliabilit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The time spent in “Swapper” can be viewed as the IO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oogle Shape;149;p20" descr=""/>
          <p:cNvPicPr/>
          <p:nvPr/>
        </p:nvPicPr>
        <p:blipFill>
          <a:blip r:embed="rId1"/>
          <a:stretch/>
        </p:blipFill>
        <p:spPr>
          <a:xfrm>
            <a:off x="4020840" y="642600"/>
            <a:ext cx="4953960" cy="2044440"/>
          </a:xfrm>
          <a:prstGeom prst="rect">
            <a:avLst/>
          </a:prstGeom>
          <a:ln w="0">
            <a:noFill/>
          </a:ln>
        </p:spPr>
      </p:pic>
      <p:pic>
        <p:nvPicPr>
          <p:cNvPr id="224" name="Google Shape;150;p20" descr=""/>
          <p:cNvPicPr/>
          <p:nvPr/>
        </p:nvPicPr>
        <p:blipFill>
          <a:blip r:embed="rId2"/>
          <a:stretch/>
        </p:blipFill>
        <p:spPr>
          <a:xfrm>
            <a:off x="4020840" y="2767320"/>
            <a:ext cx="4953960" cy="2324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3"/>
          <p:cNvSpPr>
            <a:spLocks noGrp="1"/>
          </p:cNvSpPr>
          <p:nvPr>
            <p:ph type="sldNum" idx="12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1C4232D-A883-4D11-B6C4-9CA04C90EB09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1760" y="285480"/>
            <a:ext cx="8520120" cy="57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2800" spc="-1" strike="noStrike">
                <a:solidFill>
                  <a:schemeClr val="dk1"/>
                </a:solidFill>
                <a:latin typeface="Arial"/>
                <a:ea typeface="Arial"/>
              </a:rPr>
              <a:t>Non data touching overhead - Jour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1760" y="1125720"/>
            <a:ext cx="3836160" cy="34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Assumption: Ceph journals metadata and it shouldn’t depend on data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Expectation: Constant time for any data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317520">
              <a:lnSpc>
                <a:spcPct val="150000"/>
              </a:lnSpc>
              <a:buClr>
                <a:srgbClr val="595959"/>
              </a:buClr>
              <a:buFont typeface="Arial"/>
              <a:buChar char="●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Observation: Two regions of constan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&lt; 64 K: longer time in journ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17520">
              <a:lnSpc>
                <a:spcPct val="150000"/>
              </a:lnSpc>
              <a:buClr>
                <a:srgbClr val="595959"/>
              </a:buClr>
              <a:buFont typeface="Arial"/>
              <a:buChar char="○"/>
            </a:pPr>
            <a:r>
              <a:rPr b="0" lang="en" sz="1400" spc="-1" strike="noStrike">
                <a:solidFill>
                  <a:schemeClr val="dk2"/>
                </a:solidFill>
                <a:latin typeface="Arial"/>
                <a:ea typeface="Arial"/>
              </a:rPr>
              <a:t>Data journaling happens for small writes &lt; min_alloc_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Google Shape;158;p21" descr=""/>
          <p:cNvPicPr/>
          <p:nvPr/>
        </p:nvPicPr>
        <p:blipFill>
          <a:blip r:embed="rId1"/>
          <a:stretch/>
        </p:blipFill>
        <p:spPr>
          <a:xfrm>
            <a:off x="4250880" y="1569600"/>
            <a:ext cx="4581000" cy="2752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sldNum" idx="13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AEA35C-9B32-4C99-95AE-FDDACE6B14B9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ffab40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