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E825-910F-4DF4-8211-46CDB719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U. FOR metA:  4211812 -&gt; 4212867 (FORW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ing site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11748 42117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J  4211808 421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11816 42118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11824 421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11832 421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6E7-C5D8-4AB3-ABC5-6C446353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1BC-DAA0-4703-9899-9531462C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C67-4CE9-4B9E-ABE7-471BE204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A62-052F-4386-B2A1-28AFDA30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5D4-C3FC-4D52-AC8D-D92DB2E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059-D913-40A8-91DA-D31EB091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9EF-EFAE-4262-A174-542D2177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C1C-36B6-4120-AA5C-E807FF4E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7B7-E99A-487C-AB0F-DCFBDA70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9CA-F749-44F4-8C30-AA272A54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39B-4402-45A5-BB38-C0D7CCBF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437-7027-478F-B622-20595323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4d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4d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4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4d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4d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4d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4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9F94-1A71-451C-AA09-011C28C47BCF}" type="slidenum">
              <a:rPr b="0" lang="en-US" sz="1400" spc="-1" strike="noStrike">
                <a:solidFill>
                  <a:srgbClr val="eae4d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Learning Regulatory Networks that Represent Regulator States and Roles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BM Semin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ith N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esday, March 23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029200" y="4572000"/>
            <a:ext cx="31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nown and predicted regulator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Sample Network Structure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27760" y="15256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Phas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16640" y="153036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88240" y="153036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Heat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hock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15238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7400" y="15238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5238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pur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33526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pur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33526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33526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09" idx="4"/>
            <a:endCxn id="212" idx="0"/>
          </p:cNvCxnSpPr>
          <p:nvPr/>
        </p:nvCxnSpPr>
        <p:spPr>
          <a:xfrm>
            <a:off x="2628720" y="2228400"/>
            <a:ext cx="108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0" idx="4"/>
            <a:endCxn id="211" idx="0"/>
          </p:cNvCxnSpPr>
          <p:nvPr/>
        </p:nvCxnSpPr>
        <p:spPr>
          <a:xfrm>
            <a:off x="1257120" y="2228400"/>
            <a:ext cx="108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8" idx="4"/>
            <a:endCxn id="213" idx="0"/>
          </p:cNvCxnSpPr>
          <p:nvPr/>
        </p:nvCxnSpPr>
        <p:spPr>
          <a:xfrm>
            <a:off x="4000320" y="2228400"/>
            <a:ext cx="108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5" idx="3"/>
            <a:endCxn id="211" idx="7"/>
          </p:cNvCxnSpPr>
          <p:nvPr/>
        </p:nvCxnSpPr>
        <p:spPr>
          <a:xfrm flipH="1">
            <a:off x="1661760" y="2130480"/>
            <a:ext cx="3533040" cy="1303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5" idx="3"/>
            <a:endCxn id="212" idx="7"/>
          </p:cNvCxnSpPr>
          <p:nvPr/>
        </p:nvCxnSpPr>
        <p:spPr>
          <a:xfrm flipH="1">
            <a:off x="3033720" y="2130480"/>
            <a:ext cx="2161080" cy="1303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5" idx="3"/>
            <a:endCxn id="213" idx="7"/>
          </p:cNvCxnSpPr>
          <p:nvPr/>
        </p:nvCxnSpPr>
        <p:spPr>
          <a:xfrm flipH="1">
            <a:off x="4404960" y="2130480"/>
            <a:ext cx="789840" cy="1303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06" idx="3"/>
            <a:endCxn id="211" idx="7"/>
          </p:cNvCxnSpPr>
          <p:nvPr/>
        </p:nvCxnSpPr>
        <p:spPr>
          <a:xfrm flipH="1">
            <a:off x="1661760" y="2134800"/>
            <a:ext cx="4921920" cy="1299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07" idx="3"/>
            <a:endCxn id="212" idx="7"/>
          </p:cNvCxnSpPr>
          <p:nvPr/>
        </p:nvCxnSpPr>
        <p:spPr>
          <a:xfrm flipH="1">
            <a:off x="3033360" y="2134800"/>
            <a:ext cx="4921920" cy="1299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4495680" y="54100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54100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glyA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54100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hmpA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54100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A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11" idx="4"/>
            <a:endCxn id="223" idx="0"/>
          </p:cNvCxnSpPr>
          <p:nvPr/>
        </p:nvCxnSpPr>
        <p:spPr>
          <a:xfrm flipH="1">
            <a:off x="951840" y="4057560"/>
            <a:ext cx="305640" cy="1334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1" idx="4"/>
            <a:endCxn id="224" idx="0"/>
          </p:cNvCxnSpPr>
          <p:nvPr/>
        </p:nvCxnSpPr>
        <p:spPr>
          <a:xfrm>
            <a:off x="1257120" y="4057560"/>
            <a:ext cx="1067400" cy="1334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2" idx="5"/>
            <a:endCxn id="222" idx="1"/>
          </p:cNvCxnSpPr>
          <p:nvPr/>
        </p:nvCxnSpPr>
        <p:spPr>
          <a:xfrm>
            <a:off x="3033720" y="3957480"/>
            <a:ext cx="1629360" cy="153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2" idx="3"/>
            <a:endCxn id="223" idx="7"/>
          </p:cNvCxnSpPr>
          <p:nvPr/>
        </p:nvCxnSpPr>
        <p:spPr>
          <a:xfrm flipH="1">
            <a:off x="1356840" y="3957480"/>
            <a:ext cx="867600" cy="153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3" idx="4"/>
            <a:endCxn id="225" idx="0"/>
          </p:cNvCxnSpPr>
          <p:nvPr/>
        </p:nvCxnSpPr>
        <p:spPr>
          <a:xfrm flipH="1">
            <a:off x="3695040" y="4057560"/>
            <a:ext cx="305640" cy="1334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3" idx="4"/>
            <a:endCxn id="222" idx="0"/>
          </p:cNvCxnSpPr>
          <p:nvPr/>
        </p:nvCxnSpPr>
        <p:spPr>
          <a:xfrm>
            <a:off x="4000320" y="4057560"/>
            <a:ext cx="1067400" cy="1334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12" idx="4"/>
            <a:endCxn id="224" idx="0"/>
          </p:cNvCxnSpPr>
          <p:nvPr/>
        </p:nvCxnSpPr>
        <p:spPr>
          <a:xfrm flipH="1">
            <a:off x="2323440" y="4057560"/>
            <a:ext cx="305640" cy="1334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12" idx="4"/>
            <a:endCxn id="225" idx="1"/>
          </p:cNvCxnSpPr>
          <p:nvPr/>
        </p:nvCxnSpPr>
        <p:spPr>
          <a:xfrm>
            <a:off x="2629080" y="4057560"/>
            <a:ext cx="662400" cy="1434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6400800" y="2895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f9881"/>
                </a:solidFill>
                <a:latin typeface="Arial"/>
              </a:rPr>
              <a:t>Potent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arent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07" idx="3"/>
            <a:endCxn id="211" idx="7"/>
          </p:cNvCxnSpPr>
          <p:nvPr/>
        </p:nvCxnSpPr>
        <p:spPr>
          <a:xfrm flipH="1">
            <a:off x="1661760" y="2134800"/>
            <a:ext cx="6293520" cy="1299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7" idx="3"/>
            <a:endCxn id="213" idx="7"/>
          </p:cNvCxnSpPr>
          <p:nvPr/>
        </p:nvCxnSpPr>
        <p:spPr>
          <a:xfrm flipH="1">
            <a:off x="4404960" y="2134800"/>
            <a:ext cx="3550320" cy="1299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6" idx="3"/>
            <a:endCxn id="212" idx="7"/>
          </p:cNvCxnSpPr>
          <p:nvPr/>
        </p:nvCxnSpPr>
        <p:spPr>
          <a:xfrm flipH="1">
            <a:off x="3033360" y="2134800"/>
            <a:ext cx="3550320" cy="1299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06" idx="3"/>
            <a:endCxn id="213" idx="7"/>
          </p:cNvCxnSpPr>
          <p:nvPr/>
        </p:nvCxnSpPr>
        <p:spPr>
          <a:xfrm flipH="1">
            <a:off x="4404960" y="2134800"/>
            <a:ext cx="2178720" cy="1299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Network Parameters:  Hidden Nodes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44840" y="168264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16440" y="168264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Heat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hock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67652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50532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4"/>
            <a:endCxn id="243" idx="0"/>
          </p:cNvCxnSpPr>
          <p:nvPr/>
        </p:nvCxnSpPr>
        <p:spPr>
          <a:xfrm>
            <a:off x="1028520" y="2381040"/>
            <a:ext cx="108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0" idx="3"/>
            <a:endCxn id="243" idx="7"/>
          </p:cNvCxnSpPr>
          <p:nvPr/>
        </p:nvCxnSpPr>
        <p:spPr>
          <a:xfrm flipH="1">
            <a:off x="1433160" y="2287440"/>
            <a:ext cx="2178720" cy="1299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1" idx="3"/>
            <a:endCxn id="243" idx="7"/>
          </p:cNvCxnSpPr>
          <p:nvPr/>
        </p:nvCxnSpPr>
        <p:spPr>
          <a:xfrm flipH="1">
            <a:off x="1433160" y="2287440"/>
            <a:ext cx="3550320" cy="1299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2055960" y="167796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Phas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7" idx="3"/>
            <a:endCxn id="243" idx="7"/>
          </p:cNvCxnSpPr>
          <p:nvPr/>
        </p:nvCxnSpPr>
        <p:spPr>
          <a:xfrm flipH="1">
            <a:off x="1433160" y="2282400"/>
            <a:ext cx="789840" cy="1304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2819520" y="3581280"/>
            <a:ext cx="1600200" cy="53352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PD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76920" y="3733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ve of relevant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ed by ob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43" idx="6"/>
            <a:endCxn id="249" idx="1"/>
          </p:cNvCxnSpPr>
          <p:nvPr/>
        </p:nvCxnSpPr>
        <p:spPr>
          <a:xfrm>
            <a:off x="1619280" y="3847680"/>
            <a:ext cx="1200960" cy="108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sp>
        <p:nvSpPr>
          <p:cNvPr id="252" name=""/>
          <p:cNvSpPr/>
          <p:nvPr/>
        </p:nvSpPr>
        <p:spPr>
          <a:xfrm>
            <a:off x="4876920" y="266688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ed properties of hidden node CPDs:</a:t>
            </a:r>
            <a:endParaRPr b="0" lang="en-US" sz="32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Network Parameters:  Hidden Nodes use </a:t>
            </a:r>
            <a:r>
              <a:rPr b="0" i="1" lang="en-US" sz="4000" spc="-1" strike="noStrike">
                <a:solidFill>
                  <a:srgbClr val="af9881"/>
                </a:solidFill>
                <a:latin typeface="Arial"/>
              </a:rPr>
              <a:t>CPD-Trees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44840" y="168264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6440" y="168264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Heat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hock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67652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350532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9" idx="2"/>
          </p:cNvCxnSpPr>
          <p:nvPr/>
        </p:nvCxnSpPr>
        <p:spPr>
          <a:xfrm flipH="1">
            <a:off x="2932920" y="4114440"/>
            <a:ext cx="1677240" cy="610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9" idx="2"/>
            <a:endCxn id="261" idx="0"/>
          </p:cNvCxnSpPr>
          <p:nvPr/>
        </p:nvCxnSpPr>
        <p:spPr>
          <a:xfrm>
            <a:off x="4610160" y="4114440"/>
            <a:ext cx="1410480" cy="610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61" idx="2"/>
          </p:cNvCxnSpPr>
          <p:nvPr/>
        </p:nvCxnSpPr>
        <p:spPr>
          <a:xfrm flipH="1">
            <a:off x="3314520" y="5181120"/>
            <a:ext cx="2705760" cy="839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61" idx="2"/>
          </p:cNvCxnSpPr>
          <p:nvPr/>
        </p:nvCxnSpPr>
        <p:spPr>
          <a:xfrm>
            <a:off x="6019560" y="5181120"/>
            <a:ext cx="1028880" cy="839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914400" y="55627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wth Phase = Log Phase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56" idx="4"/>
            <a:endCxn id="257" idx="0"/>
          </p:cNvCxnSpPr>
          <p:nvPr/>
        </p:nvCxnSpPr>
        <p:spPr>
          <a:xfrm>
            <a:off x="1028520" y="2381040"/>
            <a:ext cx="108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54" idx="3"/>
            <a:endCxn id="257" idx="7"/>
          </p:cNvCxnSpPr>
          <p:nvPr/>
        </p:nvCxnSpPr>
        <p:spPr>
          <a:xfrm flipH="1">
            <a:off x="1433160" y="2287440"/>
            <a:ext cx="2178720" cy="1299600"/>
          </a:xfrm>
          <a:prstGeom prst="straightConnector1">
            <a:avLst/>
          </a:prstGeom>
          <a:ln cap="rnd" w="19080">
            <a:solidFill>
              <a:srgbClr val="334c65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67" name=""/>
          <p:cNvCxnSpPr>
            <a:stCxn id="255" idx="3"/>
            <a:endCxn id="257" idx="7"/>
          </p:cNvCxnSpPr>
          <p:nvPr/>
        </p:nvCxnSpPr>
        <p:spPr>
          <a:xfrm flipH="1">
            <a:off x="1433160" y="2287440"/>
            <a:ext cx="3550320" cy="1299600"/>
          </a:xfrm>
          <a:prstGeom prst="straightConnector1">
            <a:avLst/>
          </a:prstGeom>
          <a:ln cap="rnd" w="19080">
            <a:solidFill>
              <a:srgbClr val="334c65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2055960" y="167796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Phas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3"/>
            <a:endCxn id="257" idx="7"/>
          </p:cNvCxnSpPr>
          <p:nvPr/>
        </p:nvCxnSpPr>
        <p:spPr>
          <a:xfrm flipH="1">
            <a:off x="1433160" y="2282400"/>
            <a:ext cx="789840" cy="1304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5257800" y="4724280"/>
            <a:ext cx="1523880" cy="45720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wth Phase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581280"/>
            <a:ext cx="990720" cy="53352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J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48520" y="1676520"/>
            <a:ext cx="274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 </a:t>
            </a: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selec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om regulator expression, cellular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contain </a:t>
            </a: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context-sensitive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42670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J = Low expression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7" idx="6"/>
            <a:endCxn id="259" idx="1"/>
          </p:cNvCxnSpPr>
          <p:nvPr/>
        </p:nvCxnSpPr>
        <p:spPr>
          <a:xfrm>
            <a:off x="1619280" y="3847680"/>
            <a:ext cx="2496240" cy="108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sp>
        <p:nvSpPr>
          <p:cNvPr id="273" name=""/>
          <p:cNvSpPr/>
          <p:nvPr/>
        </p:nvSpPr>
        <p:spPr>
          <a:xfrm>
            <a:off x="5562720" y="42670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J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Low expression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548640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wth Phase ≠ Log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71600" y="4724280"/>
            <a:ext cx="3200400" cy="457200"/>
            <a:chOff x="1371600" y="4724280"/>
            <a:chExt cx="3200400" cy="457200"/>
          </a:xfrm>
        </p:grpSpPr>
        <p:sp>
          <p:nvSpPr>
            <p:cNvPr id="276" name=""/>
            <p:cNvSpPr/>
            <p:nvPr/>
          </p:nvSpPr>
          <p:spPr>
            <a:xfrm>
              <a:off x="1447560" y="4724280"/>
              <a:ext cx="30481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71600" y="480060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(metJ state = activated):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001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410080" y="6019920"/>
            <a:ext cx="3200400" cy="457200"/>
            <a:chOff x="5410080" y="6019920"/>
            <a:chExt cx="3200400" cy="457200"/>
          </a:xfrm>
        </p:grpSpPr>
        <p:sp>
          <p:nvSpPr>
            <p:cNvPr id="279" name=""/>
            <p:cNvSpPr/>
            <p:nvPr/>
          </p:nvSpPr>
          <p:spPr>
            <a:xfrm>
              <a:off x="5486040" y="6019920"/>
              <a:ext cx="30481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10080" y="60962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(metJ state = activated):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994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52480" y="6019920"/>
            <a:ext cx="3200400" cy="457200"/>
            <a:chOff x="1752480" y="6019920"/>
            <a:chExt cx="3200400" cy="457200"/>
          </a:xfrm>
        </p:grpSpPr>
        <p:sp>
          <p:nvSpPr>
            <p:cNvPr id="282" name=""/>
            <p:cNvSpPr/>
            <p:nvPr/>
          </p:nvSpPr>
          <p:spPr>
            <a:xfrm>
              <a:off x="1828440" y="6019920"/>
              <a:ext cx="30481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2480" y="60962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(metJ state = activated):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Network Parameters:  Regulatee Nodes use CPTs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 distributions are calculated over </a:t>
            </a:r>
            <a:r>
              <a:rPr b="0" lang="en-US" sz="3200" spc="-1" strike="noStrike">
                <a:solidFill>
                  <a:srgbClr val="af9881"/>
                </a:solidFill>
                <a:latin typeface="Arial"/>
              </a:rPr>
              <a:t>expressio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350532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350532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51814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343400" y="3657600"/>
            <a:ext cx="3886200" cy="2261160"/>
            <a:chOff x="4343400" y="3657600"/>
            <a:chExt cx="3886200" cy="2261160"/>
          </a:xfrm>
        </p:grpSpPr>
        <p:sp>
          <p:nvSpPr>
            <p:cNvPr id="290" name=""/>
            <p:cNvSpPr/>
            <p:nvPr/>
          </p:nvSpPr>
          <p:spPr>
            <a:xfrm>
              <a:off x="4648320" y="3885840"/>
              <a:ext cx="6858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tR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38680" y="3885840"/>
              <a:ext cx="6858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tJ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te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6629400" y="4114440"/>
              <a:ext cx="1295280" cy="393480"/>
              <a:chOff x="6629400" y="4114440"/>
              <a:chExt cx="1295280" cy="393480"/>
            </a:xfrm>
          </p:grpSpPr>
          <p:sp>
            <p:nvSpPr>
              <p:cNvPr id="293" name=""/>
              <p:cNvSpPr/>
              <p:nvPr/>
            </p:nvSpPr>
            <p:spPr>
              <a:xfrm>
                <a:off x="6629400" y="4114440"/>
                <a:ext cx="609480" cy="393480"/>
              </a:xfrm>
              <a:custGeom>
                <a:avLst/>
                <a:gdLst/>
                <a:ahLst/>
                <a:rect l="l" t="t" r="r" b="b"/>
                <a:pathLst>
                  <a:path w="816" h="688">
                    <a:moveTo>
                      <a:pt x="0" y="632"/>
                    </a:moveTo>
                    <a:cubicBezTo>
                      <a:pt x="60" y="636"/>
                      <a:pt x="120" y="640"/>
                      <a:pt x="192" y="536"/>
                    </a:cubicBezTo>
                    <a:cubicBezTo>
                      <a:pt x="264" y="432"/>
                      <a:pt x="352" y="0"/>
                      <a:pt x="432" y="8"/>
                    </a:cubicBezTo>
                    <a:cubicBezTo>
                      <a:pt x="512" y="16"/>
                      <a:pt x="608" y="480"/>
                      <a:pt x="672" y="584"/>
                    </a:cubicBezTo>
                    <a:cubicBezTo>
                      <a:pt x="736" y="688"/>
                      <a:pt x="776" y="660"/>
                      <a:pt x="816" y="63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86600" y="4190400"/>
                <a:ext cx="838080" cy="317520"/>
              </a:xfrm>
              <a:custGeom>
                <a:avLst/>
                <a:gdLst/>
                <a:ahLst/>
                <a:rect l="l" t="t" r="r" b="b"/>
                <a:pathLst>
                  <a:path w="816" h="688">
                    <a:moveTo>
                      <a:pt x="0" y="632"/>
                    </a:moveTo>
                    <a:cubicBezTo>
                      <a:pt x="60" y="636"/>
                      <a:pt x="120" y="640"/>
                      <a:pt x="192" y="536"/>
                    </a:cubicBezTo>
                    <a:cubicBezTo>
                      <a:pt x="264" y="432"/>
                      <a:pt x="352" y="0"/>
                      <a:pt x="432" y="8"/>
                    </a:cubicBezTo>
                    <a:cubicBezTo>
                      <a:pt x="512" y="16"/>
                      <a:pt x="608" y="480"/>
                      <a:pt x="672" y="584"/>
                    </a:cubicBezTo>
                    <a:cubicBezTo>
                      <a:pt x="736" y="688"/>
                      <a:pt x="776" y="660"/>
                      <a:pt x="816" y="63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629400" y="37335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ow    High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00800" y="3733560"/>
              <a:ext cx="0" cy="205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19720" y="4571640"/>
              <a:ext cx="3657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3657600"/>
              <a:ext cx="3886200" cy="2209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43400" y="4647960"/>
              <a:ext cx="213372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tivated       activated</a:t>
              </a: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tivated    inactivated inactivated       activated</a:t>
              </a: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activated    inactivated</a:t>
              </a: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53080" y="4647960"/>
              <a:ext cx="1371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98      0.02</a:t>
              </a: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1      0.99</a:t>
              </a: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99      0.01</a:t>
              </a: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97      0.03</a:t>
              </a:r>
              <a:endParaRPr b="0" lang="en-US" sz="14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cxnSp>
        <p:nvCxnSpPr>
          <p:cNvPr id="301" name=""/>
          <p:cNvCxnSpPr>
            <a:stCxn id="286" idx="4"/>
            <a:endCxn id="288" idx="1"/>
          </p:cNvCxnSpPr>
          <p:nvPr/>
        </p:nvCxnSpPr>
        <p:spPr>
          <a:xfrm>
            <a:off x="1638000" y="4209840"/>
            <a:ext cx="205560" cy="10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87" idx="4"/>
            <a:endCxn id="288" idx="7"/>
          </p:cNvCxnSpPr>
          <p:nvPr/>
        </p:nvCxnSpPr>
        <p:spPr>
          <a:xfrm flipH="1">
            <a:off x="2652480" y="4209840"/>
            <a:ext cx="357840" cy="10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Representing Expression Stat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4952880" y="4647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7048440" y="3924000"/>
            <a:ext cx="304920" cy="23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5334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ion Range for state #1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5334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ion Range for state #2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 distinct expression states</a:t>
            </a:r>
            <a:endParaRPr b="0" lang="en-US" sz="2800" spc="-1" strike="noStrike">
              <a:solidFill>
                <a:srgbClr val="eae4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 each state represented by a Gaussian</a:t>
            </a:r>
            <a:endParaRPr b="0" lang="en-US" sz="2800" spc="-1" strike="noStrike">
              <a:solidFill>
                <a:srgbClr val="eae4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:  </a:t>
            </a:r>
            <a:r>
              <a:rPr b="0" lang="en-US" sz="2800" spc="-1" strike="noStrike">
                <a:solidFill>
                  <a:srgbClr val="af9881"/>
                </a:solidFill>
                <a:latin typeface="Arial"/>
              </a:rPr>
              <a:t>Gaussian mixture model</a:t>
            </a:r>
            <a:endParaRPr b="0" lang="en-US" sz="2800" spc="-1" strike="noStrike">
              <a:solidFill>
                <a:srgbClr val="eae4de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581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Choosing a Mixture Model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122640" cy="21877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638680" y="2743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0" y="27432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19920" y="2666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534520" y="2666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2666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2666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666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Gaussians?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 data likelihood (Cross-fold validation)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standard deviations apart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Gaussians?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each Gaussian’s 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eight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 algorithm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data 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parameters for each cluster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31240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119760" cy="2185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106960" y="1600200"/>
            <a:ext cx="3119400" cy="2185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914400" y="3938760"/>
            <a:ext cx="3122640" cy="21873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Estimating Data Likelihood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4114800"/>
            <a:ext cx="457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(data | mixture1) = 0.11 * 0.25 * 0.12 = 0.0033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(data | mixture2) = 0.43 * 0.11 * 0.16 = 0.0076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(data | mixture3) = 0.54 * 0.06 * 0.16 = 0.0052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676520" y="2590560"/>
            <a:ext cx="6172200" cy="3429360"/>
            <a:chOff x="1676520" y="2590560"/>
            <a:chExt cx="6172200" cy="3429360"/>
          </a:xfrm>
        </p:grpSpPr>
        <p:sp>
          <p:nvSpPr>
            <p:cNvPr id="328" name=""/>
            <p:cNvSpPr/>
            <p:nvPr/>
          </p:nvSpPr>
          <p:spPr>
            <a:xfrm flipV="1">
              <a:off x="1676520" y="4648320"/>
              <a:ext cx="0" cy="1371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666880" y="5867280"/>
              <a:ext cx="0" cy="152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657600" y="5638320"/>
              <a:ext cx="0" cy="381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676520" y="33523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666880" y="3047760"/>
              <a:ext cx="0" cy="609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657600" y="33523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867280" y="2590560"/>
              <a:ext cx="0" cy="1066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858000" y="342864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848720" y="327672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Training the Model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t of g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n and predicted gene transcription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n and predicted reg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n and predicted regulator binding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t of experimental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 measurements for ge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s for cellular conditions for each experi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er a Bayesian network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 network para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PD-Trees for hidden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PTs for regulatee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Training the Model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ize th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n EM algorithm to set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Step:  Determine expected states of regu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-Step:  Update CP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0120" y="3581280"/>
            <a:ext cx="1295280" cy="838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43600" y="3581280"/>
            <a:ext cx="1295280" cy="838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81680" y="4648320"/>
            <a:ext cx="129564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344" name=""/>
          <p:cNvCxnSpPr>
            <a:stCxn id="342" idx="4"/>
            <a:endCxn id="343" idx="1"/>
          </p:cNvCxnSpPr>
          <p:nvPr/>
        </p:nvCxnSpPr>
        <p:spPr>
          <a:xfrm>
            <a:off x="6591240" y="4438800"/>
            <a:ext cx="380160" cy="313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41" idx="4"/>
            <a:endCxn id="343" idx="7"/>
          </p:cNvCxnSpPr>
          <p:nvPr/>
        </p:nvCxnSpPr>
        <p:spPr>
          <a:xfrm flipH="1">
            <a:off x="7887960" y="4438800"/>
            <a:ext cx="380160" cy="313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43" idx="4"/>
            <a:endCxn id="347" idx="0"/>
          </p:cNvCxnSpPr>
          <p:nvPr/>
        </p:nvCxnSpPr>
        <p:spPr>
          <a:xfrm>
            <a:off x="7429320" y="55051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6781680" y="5791320"/>
            <a:ext cx="129564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e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01880" y="4876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E-Step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dium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41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hock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20574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36576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36576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A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356" name=""/>
          <p:cNvCxnSpPr>
            <a:stCxn id="353" idx="4"/>
            <a:endCxn id="355" idx="0"/>
          </p:cNvCxnSpPr>
          <p:nvPr/>
        </p:nvCxnSpPr>
        <p:spPr>
          <a:xfrm flipH="1">
            <a:off x="3847320" y="2609640"/>
            <a:ext cx="305640" cy="10288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53" idx="4"/>
            <a:endCxn id="354" idx="0"/>
          </p:cNvCxnSpPr>
          <p:nvPr/>
        </p:nvCxnSpPr>
        <p:spPr>
          <a:xfrm>
            <a:off x="4152960" y="2609640"/>
            <a:ext cx="534240" cy="10288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0" idx="4"/>
            <a:endCxn id="353" idx="0"/>
          </p:cNvCxnSpPr>
          <p:nvPr/>
        </p:nvCxnSpPr>
        <p:spPr>
          <a:xfrm>
            <a:off x="3847680" y="1695600"/>
            <a:ext cx="30564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52" idx="3"/>
            <a:endCxn id="353" idx="0"/>
          </p:cNvCxnSpPr>
          <p:nvPr/>
        </p:nvCxnSpPr>
        <p:spPr>
          <a:xfrm flipH="1">
            <a:off x="4152600" y="1617840"/>
            <a:ext cx="1281600" cy="421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1" idx="4"/>
            <a:endCxn id="353" idx="0"/>
          </p:cNvCxnSpPr>
          <p:nvPr/>
        </p:nvCxnSpPr>
        <p:spPr>
          <a:xfrm flipH="1">
            <a:off x="4152240" y="1695600"/>
            <a:ext cx="61020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>
            <a:off x="2971800" y="20574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R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61" idx="5"/>
            <a:endCxn id="354" idx="1"/>
          </p:cNvCxnSpPr>
          <p:nvPr/>
        </p:nvCxnSpPr>
        <p:spPr>
          <a:xfrm>
            <a:off x="3557160" y="2531880"/>
            <a:ext cx="886680" cy="1184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61" idx="4"/>
            <a:endCxn id="355" idx="1"/>
          </p:cNvCxnSpPr>
          <p:nvPr/>
        </p:nvCxnSpPr>
        <p:spPr>
          <a:xfrm>
            <a:off x="3314880" y="2609640"/>
            <a:ext cx="290880" cy="1107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43828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4"/>
            <a:endCxn id="353" idx="0"/>
          </p:cNvCxnSpPr>
          <p:nvPr/>
        </p:nvCxnSpPr>
        <p:spPr>
          <a:xfrm>
            <a:off x="2781360" y="1695600"/>
            <a:ext cx="137232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366" name=""/>
          <p:cNvGrpSpPr/>
          <p:nvPr/>
        </p:nvGrpSpPr>
        <p:grpSpPr>
          <a:xfrm>
            <a:off x="6365880" y="3565440"/>
            <a:ext cx="731520" cy="204840"/>
            <a:chOff x="6365880" y="3565440"/>
            <a:chExt cx="731520" cy="204840"/>
          </a:xfrm>
        </p:grpSpPr>
        <p:sp>
          <p:nvSpPr>
            <p:cNvPr id="367" name=""/>
            <p:cNvSpPr/>
            <p:nvPr/>
          </p:nvSpPr>
          <p:spPr>
            <a:xfrm>
              <a:off x="6365880" y="3565440"/>
              <a:ext cx="344160" cy="204840"/>
            </a:xfrm>
            <a:custGeom>
              <a:avLst/>
              <a:gdLst/>
              <a:ahLst/>
              <a:rect l="l" t="t" r="r" b="b"/>
              <a:pathLst>
                <a:path w="816" h="688">
                  <a:moveTo>
                    <a:pt x="0" y="632"/>
                  </a:moveTo>
                  <a:cubicBezTo>
                    <a:pt x="60" y="636"/>
                    <a:pt x="120" y="640"/>
                    <a:pt x="192" y="536"/>
                  </a:cubicBezTo>
                  <a:cubicBezTo>
                    <a:pt x="264" y="432"/>
                    <a:pt x="352" y="0"/>
                    <a:pt x="432" y="8"/>
                  </a:cubicBezTo>
                  <a:cubicBezTo>
                    <a:pt x="512" y="16"/>
                    <a:pt x="608" y="480"/>
                    <a:pt x="672" y="584"/>
                  </a:cubicBezTo>
                  <a:cubicBezTo>
                    <a:pt x="736" y="688"/>
                    <a:pt x="776" y="660"/>
                    <a:pt x="816" y="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4000" y="3604680"/>
              <a:ext cx="473400" cy="165240"/>
            </a:xfrm>
            <a:custGeom>
              <a:avLst/>
              <a:gdLst/>
              <a:ahLst/>
              <a:rect l="l" t="t" r="r" b="b"/>
              <a:pathLst>
                <a:path w="816" h="688">
                  <a:moveTo>
                    <a:pt x="0" y="632"/>
                  </a:moveTo>
                  <a:cubicBezTo>
                    <a:pt x="60" y="636"/>
                    <a:pt x="120" y="640"/>
                    <a:pt x="192" y="536"/>
                  </a:cubicBezTo>
                  <a:cubicBezTo>
                    <a:pt x="264" y="432"/>
                    <a:pt x="352" y="0"/>
                    <a:pt x="432" y="8"/>
                  </a:cubicBezTo>
                  <a:cubicBezTo>
                    <a:pt x="512" y="16"/>
                    <a:pt x="608" y="480"/>
                    <a:pt x="672" y="584"/>
                  </a:cubicBezTo>
                  <a:cubicBezTo>
                    <a:pt x="736" y="688"/>
                    <a:pt x="776" y="660"/>
                    <a:pt x="816" y="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6278400" y="35654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64000" y="379404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7800" y="34290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64000" y="3794040"/>
            <a:ext cx="8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4000" y="3565440"/>
            <a:ext cx="85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tR      metJ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88040" y="341316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ents Activated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62320" y="3581280"/>
            <a:ext cx="457200" cy="204840"/>
          </a:xfrm>
          <a:custGeom>
            <a:avLst/>
            <a:gdLst/>
            <a:ahLst/>
            <a:rect l="l" t="t" r="r" b="b"/>
            <a:pathLst>
              <a:path w="816" h="688">
                <a:moveTo>
                  <a:pt x="0" y="632"/>
                </a:moveTo>
                <a:cubicBezTo>
                  <a:pt x="60" y="636"/>
                  <a:pt x="120" y="640"/>
                  <a:pt x="192" y="536"/>
                </a:cubicBezTo>
                <a:cubicBezTo>
                  <a:pt x="264" y="432"/>
                  <a:pt x="352" y="0"/>
                  <a:pt x="432" y="8"/>
                </a:cubicBezTo>
                <a:cubicBezTo>
                  <a:pt x="512" y="16"/>
                  <a:pt x="608" y="480"/>
                  <a:pt x="672" y="584"/>
                </a:cubicBezTo>
                <a:cubicBezTo>
                  <a:pt x="736" y="688"/>
                  <a:pt x="776" y="660"/>
                  <a:pt x="816" y="6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66880" y="3505320"/>
            <a:ext cx="397080" cy="280800"/>
          </a:xfrm>
          <a:custGeom>
            <a:avLst/>
            <a:gdLst/>
            <a:ahLst/>
            <a:rect l="l" t="t" r="r" b="b"/>
            <a:pathLst>
              <a:path w="816" h="688">
                <a:moveTo>
                  <a:pt x="0" y="632"/>
                </a:moveTo>
                <a:cubicBezTo>
                  <a:pt x="60" y="636"/>
                  <a:pt x="120" y="640"/>
                  <a:pt x="192" y="536"/>
                </a:cubicBezTo>
                <a:cubicBezTo>
                  <a:pt x="264" y="432"/>
                  <a:pt x="352" y="0"/>
                  <a:pt x="432" y="8"/>
                </a:cubicBezTo>
                <a:cubicBezTo>
                  <a:pt x="512" y="16"/>
                  <a:pt x="608" y="480"/>
                  <a:pt x="672" y="584"/>
                </a:cubicBezTo>
                <a:cubicBezTo>
                  <a:pt x="736" y="688"/>
                  <a:pt x="776" y="660"/>
                  <a:pt x="816" y="6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35812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38098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4290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3809880"/>
            <a:ext cx="8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3581280"/>
            <a:ext cx="85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tR      metJ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34290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ents Activated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84" idx="1"/>
            <a:endCxn id="353" idx="6"/>
          </p:cNvCxnSpPr>
          <p:nvPr/>
        </p:nvCxnSpPr>
        <p:spPr>
          <a:xfrm flipV="1" rot="10800000">
            <a:off x="4514040" y="2094480"/>
            <a:ext cx="1886760" cy="229320"/>
          </a:xfrm>
          <a:prstGeom prst="bentConnector3">
            <a:avLst>
              <a:gd name="adj1" fmla="val 50496"/>
            </a:avLst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385" name=""/>
          <p:cNvCxnSpPr>
            <a:stCxn id="386" idx="3"/>
            <a:endCxn id="361" idx="2"/>
          </p:cNvCxnSpPr>
          <p:nvPr/>
        </p:nvCxnSpPr>
        <p:spPr>
          <a:xfrm>
            <a:off x="1905120" y="2095200"/>
            <a:ext cx="1048320" cy="229320"/>
          </a:xfrm>
          <a:prstGeom prst="bentConnector3">
            <a:avLst>
              <a:gd name="adj1" fmla="val 50875"/>
            </a:avLst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387" name=""/>
          <p:cNvCxnSpPr>
            <a:stCxn id="379" idx="3"/>
            <a:endCxn id="355" idx="2"/>
          </p:cNvCxnSpPr>
          <p:nvPr/>
        </p:nvCxnSpPr>
        <p:spPr>
          <a:xfrm>
            <a:off x="3200400" y="3924000"/>
            <a:ext cx="286560" cy="10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388" name=""/>
          <p:cNvCxnSpPr>
            <a:stCxn id="354" idx="6"/>
            <a:endCxn id="371" idx="1"/>
          </p:cNvCxnSpPr>
          <p:nvPr/>
        </p:nvCxnSpPr>
        <p:spPr>
          <a:xfrm>
            <a:off x="5048280" y="3924000"/>
            <a:ext cx="210240" cy="10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sp>
        <p:nvSpPr>
          <p:cNvPr id="389" name=""/>
          <p:cNvSpPr/>
          <p:nvPr/>
        </p:nvSpPr>
        <p:spPr>
          <a:xfrm>
            <a:off x="6095880" y="2438280"/>
            <a:ext cx="228600" cy="22860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1260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0800" y="1981080"/>
            <a:ext cx="228600" cy="22860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84" idx="2"/>
            <a:endCxn id="391" idx="0"/>
          </p:cNvCxnSpPr>
          <p:nvPr/>
        </p:nvCxnSpPr>
        <p:spPr>
          <a:xfrm>
            <a:off x="6515280" y="2209320"/>
            <a:ext cx="30528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2" name=""/>
          <p:cNvCxnSpPr>
            <a:stCxn id="384" idx="2"/>
            <a:endCxn id="389" idx="0"/>
          </p:cNvCxnSpPr>
          <p:nvPr/>
        </p:nvCxnSpPr>
        <p:spPr>
          <a:xfrm flipH="1">
            <a:off x="6209640" y="2209320"/>
            <a:ext cx="30564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3" name=""/>
          <p:cNvCxnSpPr>
            <a:stCxn id="389" idx="2"/>
          </p:cNvCxnSpPr>
          <p:nvPr/>
        </p:nvCxnSpPr>
        <p:spPr>
          <a:xfrm>
            <a:off x="6210000" y="2666520"/>
            <a:ext cx="22932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89" idx="2"/>
          </p:cNvCxnSpPr>
          <p:nvPr/>
        </p:nvCxnSpPr>
        <p:spPr>
          <a:xfrm flipH="1">
            <a:off x="5981040" y="2666520"/>
            <a:ext cx="22932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6324480" y="289548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243828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289548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1981080"/>
            <a:ext cx="228600" cy="22860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1260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397" name=""/>
          <p:cNvCxnSpPr>
            <a:stCxn id="386" idx="2"/>
          </p:cNvCxnSpPr>
          <p:nvPr/>
        </p:nvCxnSpPr>
        <p:spPr>
          <a:xfrm flipH="1">
            <a:off x="1561320" y="2209320"/>
            <a:ext cx="22932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86" idx="2"/>
          </p:cNvCxnSpPr>
          <p:nvPr/>
        </p:nvCxnSpPr>
        <p:spPr>
          <a:xfrm>
            <a:off x="1790280" y="2209320"/>
            <a:ext cx="22932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"/>
          <p:cNvSpPr/>
          <p:nvPr/>
        </p:nvSpPr>
        <p:spPr>
          <a:xfrm>
            <a:off x="1905120" y="243828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438280"/>
            <a:ext cx="2286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81080" y="632448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605160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577836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81080" y="550548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81080" y="523224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81080" y="4557600"/>
            <a:ext cx="609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90920" y="6324480"/>
            <a:ext cx="8380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90920" y="6051600"/>
            <a:ext cx="838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5778360"/>
            <a:ext cx="8380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0920" y="5505480"/>
            <a:ext cx="838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lin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90920" y="5232240"/>
            <a:ext cx="8380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90920" y="4557600"/>
            <a:ext cx="838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GrowthMedium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29000" y="6324480"/>
            <a:ext cx="7621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.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6051600"/>
            <a:ext cx="762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29000" y="5778360"/>
            <a:ext cx="7621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.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5505480"/>
            <a:ext cx="762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.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5232240"/>
            <a:ext cx="7621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4557600"/>
            <a:ext cx="7621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Growth Pha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1120" y="6324480"/>
            <a:ext cx="685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91120" y="6051600"/>
            <a:ext cx="685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5778360"/>
            <a:ext cx="685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91120" y="5505480"/>
            <a:ext cx="685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5232240"/>
            <a:ext cx="685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91120" y="4557600"/>
            <a:ext cx="6858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Heat Shock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76920" y="6324480"/>
            <a:ext cx="99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2576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6051600"/>
            <a:ext cx="990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76920" y="5778360"/>
            <a:ext cx="99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8412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76920" y="5505480"/>
            <a:ext cx="990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7844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76920" y="5232240"/>
            <a:ext cx="99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2287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76920" y="4557600"/>
            <a:ext cx="990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R state = activated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6324480"/>
            <a:ext cx="990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0276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6051600"/>
            <a:ext cx="99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778360"/>
            <a:ext cx="990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1112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867280" y="5505480"/>
            <a:ext cx="99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8244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67280" y="5232240"/>
            <a:ext cx="990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1087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67280" y="4557600"/>
            <a:ext cx="990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J state = activated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0" y="632448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0" y="605160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0" y="577836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0" y="550548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523224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4557600"/>
            <a:ext cx="60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A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67480" y="632448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605160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577836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67480" y="550548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67480" y="523224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67480" y="4557600"/>
            <a:ext cx="609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632448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605160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77836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550548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23224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4557600"/>
            <a:ext cx="60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Array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632448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605160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577836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371600" y="550548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371600" y="523224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71600" y="4557600"/>
            <a:ext cx="60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R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4557600"/>
            <a:ext cx="7315200" cy="0"/>
          </a:xfrm>
          <a:prstGeom prst="line">
            <a:avLst/>
          </a:prstGeom>
          <a:ln cap="sq" w="2844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5232240"/>
            <a:ext cx="7315200" cy="1116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62120" y="5505480"/>
            <a:ext cx="7315200" cy="1091880"/>
            <a:chOff x="762120" y="5505480"/>
            <a:chExt cx="7315200" cy="1091880"/>
          </a:xfrm>
        </p:grpSpPr>
        <p:sp>
          <p:nvSpPr>
            <p:cNvPr id="464" name=""/>
            <p:cNvSpPr/>
            <p:nvPr/>
          </p:nvSpPr>
          <p:spPr>
            <a:xfrm>
              <a:off x="762120" y="550548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120" y="577836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2120" y="605160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2120" y="632448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2120" y="6597360"/>
              <a:ext cx="7315200" cy="0"/>
            </a:xfrm>
            <a:prstGeom prst="line">
              <a:avLst/>
            </a:prstGeom>
            <a:ln cap="sq" w="2844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762120" y="4557600"/>
            <a:ext cx="0" cy="2040120"/>
          </a:xfrm>
          <a:prstGeom prst="line">
            <a:avLst/>
          </a:prstGeom>
          <a:ln cap="sq" w="2844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8108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4557600"/>
            <a:ext cx="0" cy="2040120"/>
          </a:xfrm>
          <a:prstGeom prst="line">
            <a:avLst/>
          </a:prstGeom>
          <a:ln cap="sq" w="2844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37160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46748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6728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9112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9092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3809880"/>
            <a:ext cx="77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9      0.1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      0.9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6      0.4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5      0.5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24480" y="3809880"/>
            <a:ext cx="77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7      0.3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      0.9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9      0.1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5      0.5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expressio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ource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a model that captures regulatory interactions in a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48520" y="5181480"/>
            <a:ext cx="2514240" cy="761400"/>
            <a:chOff x="6248520" y="5181480"/>
            <a:chExt cx="2514240" cy="761400"/>
          </a:xfrm>
        </p:grpSpPr>
        <p:sp>
          <p:nvSpPr>
            <p:cNvPr id="53" name=""/>
            <p:cNvSpPr/>
            <p:nvPr/>
          </p:nvSpPr>
          <p:spPr>
            <a:xfrm>
              <a:off x="812340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7864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3" idx="3"/>
              <a:endCxn id="56" idx="7"/>
            </p:cNvCxnSpPr>
            <p:nvPr/>
          </p:nvCxnSpPr>
          <p:spPr>
            <a:xfrm flipH="1">
              <a:off x="7721640" y="5308200"/>
              <a:ext cx="42192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sp>
          <p:nvSpPr>
            <p:cNvPr id="57" name=""/>
            <p:cNvSpPr/>
            <p:nvPr/>
          </p:nvSpPr>
          <p:spPr>
            <a:xfrm>
              <a:off x="8038080" y="580824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3424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67800" y="5181480"/>
              <a:ext cx="12888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12560" y="518148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56960" y="518148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56960" y="549468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12560" y="549468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67800" y="5494680"/>
              <a:ext cx="12888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64" name=""/>
            <p:cNvCxnSpPr>
              <a:stCxn id="60" idx="4"/>
              <a:endCxn id="56" idx="0"/>
            </p:cNvCxnSpPr>
            <p:nvPr/>
          </p:nvCxnSpPr>
          <p:spPr>
            <a:xfrm>
              <a:off x="767556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65" name=""/>
            <p:cNvCxnSpPr>
              <a:stCxn id="61" idx="4"/>
              <a:endCxn id="62" idx="0"/>
            </p:cNvCxnSpPr>
            <p:nvPr/>
          </p:nvCxnSpPr>
          <p:spPr>
            <a:xfrm>
              <a:off x="741996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66" name=""/>
            <p:cNvCxnSpPr>
              <a:stCxn id="59" idx="4"/>
              <a:endCxn id="63" idx="0"/>
            </p:cNvCxnSpPr>
            <p:nvPr/>
          </p:nvCxnSpPr>
          <p:spPr>
            <a:xfrm>
              <a:off x="793080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sp>
          <p:nvSpPr>
            <p:cNvPr id="67" name=""/>
            <p:cNvSpPr/>
            <p:nvPr/>
          </p:nvSpPr>
          <p:spPr>
            <a:xfrm>
              <a:off x="7824240" y="580824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8720" y="580824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12560" y="580824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70" name=""/>
            <p:cNvCxnSpPr>
              <a:stCxn id="56" idx="4"/>
              <a:endCxn id="69" idx="0"/>
            </p:cNvCxnSpPr>
            <p:nvPr/>
          </p:nvCxnSpPr>
          <p:spPr>
            <a:xfrm>
              <a:off x="7675560" y="564156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1" name=""/>
            <p:cNvCxnSpPr>
              <a:stCxn id="63" idx="4"/>
              <a:endCxn id="67" idx="0"/>
            </p:cNvCxnSpPr>
            <p:nvPr/>
          </p:nvCxnSpPr>
          <p:spPr>
            <a:xfrm flipH="1">
              <a:off x="7889400" y="5641560"/>
              <a:ext cx="4176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2" name=""/>
            <p:cNvCxnSpPr>
              <a:stCxn id="62" idx="4"/>
              <a:endCxn id="68" idx="0"/>
            </p:cNvCxnSpPr>
            <p:nvPr/>
          </p:nvCxnSpPr>
          <p:spPr>
            <a:xfrm>
              <a:off x="7419960" y="5641560"/>
              <a:ext cx="4176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3" name=""/>
            <p:cNvCxnSpPr>
              <a:stCxn id="62" idx="4"/>
              <a:endCxn id="57" idx="1"/>
            </p:cNvCxnSpPr>
            <p:nvPr/>
          </p:nvCxnSpPr>
          <p:spPr>
            <a:xfrm>
              <a:off x="7420320" y="5641560"/>
              <a:ext cx="63792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4" name=""/>
            <p:cNvCxnSpPr>
              <a:stCxn id="63" idx="4"/>
              <a:endCxn id="57" idx="1"/>
            </p:cNvCxnSpPr>
            <p:nvPr/>
          </p:nvCxnSpPr>
          <p:spPr>
            <a:xfrm>
              <a:off x="7930800" y="5641560"/>
              <a:ext cx="12672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5" name=""/>
            <p:cNvCxnSpPr>
              <a:stCxn id="63" idx="4"/>
              <a:endCxn id="68" idx="7"/>
            </p:cNvCxnSpPr>
            <p:nvPr/>
          </p:nvCxnSpPr>
          <p:spPr>
            <a:xfrm flipH="1">
              <a:off x="7507440" y="5641560"/>
              <a:ext cx="42372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6" name=""/>
            <p:cNvCxnSpPr>
              <a:stCxn id="58" idx="3"/>
              <a:endCxn id="63" idx="7"/>
            </p:cNvCxnSpPr>
            <p:nvPr/>
          </p:nvCxnSpPr>
          <p:spPr>
            <a:xfrm flipH="1">
              <a:off x="7976520" y="5308200"/>
              <a:ext cx="67716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7" name=""/>
            <p:cNvCxnSpPr>
              <a:stCxn id="54" idx="3"/>
              <a:endCxn id="62" idx="7"/>
            </p:cNvCxnSpPr>
            <p:nvPr/>
          </p:nvCxnSpPr>
          <p:spPr>
            <a:xfrm flipH="1">
              <a:off x="7466040" y="5308200"/>
              <a:ext cx="93240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78" name=""/>
            <p:cNvCxnSpPr>
              <a:endCxn id="79" idx="7"/>
            </p:cNvCxnSpPr>
            <p:nvPr/>
          </p:nvCxnSpPr>
          <p:spPr>
            <a:xfrm flipH="1">
              <a:off x="6783120" y="5295960"/>
              <a:ext cx="42192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sp>
          <p:nvSpPr>
            <p:cNvPr id="80" name=""/>
            <p:cNvSpPr/>
            <p:nvPr/>
          </p:nvSpPr>
          <p:spPr>
            <a:xfrm>
              <a:off x="7143120" y="580824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928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7404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1844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8440" y="54946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74040" y="54946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29280" y="54946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86" name=""/>
            <p:cNvCxnSpPr>
              <a:stCxn id="82" idx="4"/>
              <a:endCxn id="79" idx="0"/>
            </p:cNvCxnSpPr>
            <p:nvPr/>
          </p:nvCxnSpPr>
          <p:spPr>
            <a:xfrm>
              <a:off x="673956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87" name=""/>
            <p:cNvCxnSpPr>
              <a:stCxn id="83" idx="4"/>
              <a:endCxn id="84" idx="0"/>
            </p:cNvCxnSpPr>
            <p:nvPr/>
          </p:nvCxnSpPr>
          <p:spPr>
            <a:xfrm>
              <a:off x="648144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88" name=""/>
            <p:cNvCxnSpPr>
              <a:stCxn id="81" idx="4"/>
              <a:endCxn id="85" idx="0"/>
            </p:cNvCxnSpPr>
            <p:nvPr/>
          </p:nvCxnSpPr>
          <p:spPr>
            <a:xfrm>
              <a:off x="699444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sp>
          <p:nvSpPr>
            <p:cNvPr id="89" name=""/>
            <p:cNvSpPr/>
            <p:nvPr/>
          </p:nvSpPr>
          <p:spPr>
            <a:xfrm>
              <a:off x="6887880" y="580824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62000" y="5808240"/>
              <a:ext cx="12636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74040" y="580824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48520" y="5808240"/>
              <a:ext cx="12888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79" idx="4"/>
              <a:endCxn id="91" idx="0"/>
            </p:cNvCxnSpPr>
            <p:nvPr/>
          </p:nvCxnSpPr>
          <p:spPr>
            <a:xfrm>
              <a:off x="6739560" y="564156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4" name=""/>
            <p:cNvCxnSpPr>
              <a:stCxn id="85" idx="4"/>
              <a:endCxn id="89" idx="0"/>
            </p:cNvCxnSpPr>
            <p:nvPr/>
          </p:nvCxnSpPr>
          <p:spPr>
            <a:xfrm flipH="1">
              <a:off x="6950880" y="5641560"/>
              <a:ext cx="4392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5" name=""/>
            <p:cNvCxnSpPr>
              <a:stCxn id="84" idx="4"/>
              <a:endCxn id="90" idx="0"/>
            </p:cNvCxnSpPr>
            <p:nvPr/>
          </p:nvCxnSpPr>
          <p:spPr>
            <a:xfrm>
              <a:off x="6481800" y="5641560"/>
              <a:ext cx="4392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6" name=""/>
            <p:cNvCxnSpPr>
              <a:stCxn id="84" idx="4"/>
              <a:endCxn id="80" idx="1"/>
            </p:cNvCxnSpPr>
            <p:nvPr/>
          </p:nvCxnSpPr>
          <p:spPr>
            <a:xfrm>
              <a:off x="6481440" y="5641560"/>
              <a:ext cx="68148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7" name=""/>
            <p:cNvCxnSpPr>
              <a:stCxn id="84" idx="4"/>
              <a:endCxn id="92" idx="7"/>
            </p:cNvCxnSpPr>
            <p:nvPr/>
          </p:nvCxnSpPr>
          <p:spPr>
            <a:xfrm flipH="1">
              <a:off x="6356880" y="5641560"/>
              <a:ext cx="12492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8" name=""/>
            <p:cNvCxnSpPr>
              <a:stCxn id="85" idx="4"/>
              <a:endCxn id="80" idx="1"/>
            </p:cNvCxnSpPr>
            <p:nvPr/>
          </p:nvCxnSpPr>
          <p:spPr>
            <a:xfrm>
              <a:off x="6994440" y="5641560"/>
              <a:ext cx="16884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99" name=""/>
            <p:cNvCxnSpPr>
              <a:stCxn id="85" idx="4"/>
              <a:endCxn id="90" idx="7"/>
            </p:cNvCxnSpPr>
            <p:nvPr/>
          </p:nvCxnSpPr>
          <p:spPr>
            <a:xfrm flipH="1">
              <a:off x="6570720" y="5641560"/>
              <a:ext cx="423720" cy="1749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sp>
          <p:nvSpPr>
            <p:cNvPr id="100" name=""/>
            <p:cNvSpPr/>
            <p:nvPr/>
          </p:nvSpPr>
          <p:spPr>
            <a:xfrm>
              <a:off x="7143120" y="54946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43120" y="5181480"/>
              <a:ext cx="128520" cy="134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4"/>
              <a:endCxn id="100" idx="0"/>
            </p:cNvCxnSpPr>
            <p:nvPr/>
          </p:nvCxnSpPr>
          <p:spPr>
            <a:xfrm>
              <a:off x="7206120" y="532620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103" name=""/>
            <p:cNvCxnSpPr>
              <a:stCxn id="61" idx="3"/>
              <a:endCxn id="100" idx="7"/>
            </p:cNvCxnSpPr>
            <p:nvPr/>
          </p:nvCxnSpPr>
          <p:spPr>
            <a:xfrm flipH="1">
              <a:off x="7252200" y="5308200"/>
              <a:ext cx="12240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104" name=""/>
            <p:cNvCxnSpPr>
              <a:stCxn id="62" idx="3"/>
              <a:endCxn id="80" idx="7"/>
            </p:cNvCxnSpPr>
            <p:nvPr/>
          </p:nvCxnSpPr>
          <p:spPr>
            <a:xfrm flipH="1">
              <a:off x="7252200" y="5621400"/>
              <a:ext cx="122400" cy="19476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  <p:cxnSp>
          <p:nvCxnSpPr>
            <p:cNvPr id="105" name=""/>
            <p:cNvCxnSpPr>
              <a:stCxn id="100" idx="4"/>
              <a:endCxn id="80" idx="0"/>
            </p:cNvCxnSpPr>
            <p:nvPr/>
          </p:nvCxnSpPr>
          <p:spPr>
            <a:xfrm>
              <a:off x="7206120" y="5641560"/>
              <a:ext cx="1080" cy="157680"/>
            </a:xfrm>
            <a:prstGeom prst="straightConnector1">
              <a:avLst/>
            </a:prstGeom>
            <a:ln w="0">
              <a:solidFill>
                <a:srgbClr val="ffffff"/>
              </a:solidFill>
              <a:tailEnd len="sm" type="triangle" w="sm"/>
            </a:ln>
          </p:spPr>
        </p:cxn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5257800"/>
            <a:ext cx="2210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Lucida Console"/>
              </a:rPr>
              <a:t>AGCTTTCAGTACAGTATGTCTCAGTAAGTATTCAGTTTCAGTACAGTAACATCTCAGTAATCAGTAGTAGTACCAGCCCCGGTTCAGTTTCAGTACAGTAACATCTCAGTCTCAGTAATCAGTAGTAAGCTTGGGGGGTTTTTTTTTTTTTTTT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562720"/>
            <a:ext cx="1523880" cy="0"/>
          </a:xfrm>
          <a:prstGeom prst="line">
            <a:avLst/>
          </a:prstGeom>
          <a:ln w="2379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M-Step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dium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33412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hock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20574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43400" y="36576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36576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A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489" name=""/>
          <p:cNvCxnSpPr>
            <a:stCxn id="486" idx="4"/>
            <a:endCxn id="488" idx="0"/>
          </p:cNvCxnSpPr>
          <p:nvPr/>
        </p:nvCxnSpPr>
        <p:spPr>
          <a:xfrm flipH="1">
            <a:off x="3847320" y="2609640"/>
            <a:ext cx="305640" cy="10288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6" idx="4"/>
            <a:endCxn id="487" idx="0"/>
          </p:cNvCxnSpPr>
          <p:nvPr/>
        </p:nvCxnSpPr>
        <p:spPr>
          <a:xfrm>
            <a:off x="4152960" y="2609640"/>
            <a:ext cx="534240" cy="10288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83" idx="4"/>
            <a:endCxn id="486" idx="0"/>
          </p:cNvCxnSpPr>
          <p:nvPr/>
        </p:nvCxnSpPr>
        <p:spPr>
          <a:xfrm>
            <a:off x="3847680" y="1695600"/>
            <a:ext cx="30564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85" idx="3"/>
            <a:endCxn id="486" idx="0"/>
          </p:cNvCxnSpPr>
          <p:nvPr/>
        </p:nvCxnSpPr>
        <p:spPr>
          <a:xfrm flipH="1">
            <a:off x="4152600" y="1617840"/>
            <a:ext cx="1281600" cy="421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84" idx="4"/>
            <a:endCxn id="486" idx="0"/>
          </p:cNvCxnSpPr>
          <p:nvPr/>
        </p:nvCxnSpPr>
        <p:spPr>
          <a:xfrm flipH="1">
            <a:off x="4152240" y="1695600"/>
            <a:ext cx="61020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2971800" y="20574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R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495" name=""/>
          <p:cNvCxnSpPr>
            <a:stCxn id="494" idx="5"/>
            <a:endCxn id="487" idx="1"/>
          </p:cNvCxnSpPr>
          <p:nvPr/>
        </p:nvCxnSpPr>
        <p:spPr>
          <a:xfrm>
            <a:off x="3557160" y="2531880"/>
            <a:ext cx="886680" cy="1184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4" idx="4"/>
            <a:endCxn id="488" idx="1"/>
          </p:cNvCxnSpPr>
          <p:nvPr/>
        </p:nvCxnSpPr>
        <p:spPr>
          <a:xfrm>
            <a:off x="3314880" y="2609640"/>
            <a:ext cx="290880" cy="1107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2438280" y="1143000"/>
            <a:ext cx="685800" cy="533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97" idx="4"/>
            <a:endCxn id="486" idx="0"/>
          </p:cNvCxnSpPr>
          <p:nvPr/>
        </p:nvCxnSpPr>
        <p:spPr>
          <a:xfrm>
            <a:off x="2781360" y="1695600"/>
            <a:ext cx="1372320" cy="343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499" name=""/>
          <p:cNvGrpSpPr/>
          <p:nvPr/>
        </p:nvGrpSpPr>
        <p:grpSpPr>
          <a:xfrm>
            <a:off x="6365880" y="3565440"/>
            <a:ext cx="731520" cy="204840"/>
            <a:chOff x="6365880" y="3565440"/>
            <a:chExt cx="731520" cy="204840"/>
          </a:xfrm>
        </p:grpSpPr>
        <p:sp>
          <p:nvSpPr>
            <p:cNvPr id="500" name=""/>
            <p:cNvSpPr/>
            <p:nvPr/>
          </p:nvSpPr>
          <p:spPr>
            <a:xfrm>
              <a:off x="6365880" y="3565440"/>
              <a:ext cx="344160" cy="204840"/>
            </a:xfrm>
            <a:custGeom>
              <a:avLst/>
              <a:gdLst/>
              <a:ahLst/>
              <a:rect l="l" t="t" r="r" b="b"/>
              <a:pathLst>
                <a:path w="816" h="688">
                  <a:moveTo>
                    <a:pt x="0" y="632"/>
                  </a:moveTo>
                  <a:cubicBezTo>
                    <a:pt x="60" y="636"/>
                    <a:pt x="120" y="640"/>
                    <a:pt x="192" y="536"/>
                  </a:cubicBezTo>
                  <a:cubicBezTo>
                    <a:pt x="264" y="432"/>
                    <a:pt x="352" y="0"/>
                    <a:pt x="432" y="8"/>
                  </a:cubicBezTo>
                  <a:cubicBezTo>
                    <a:pt x="512" y="16"/>
                    <a:pt x="608" y="480"/>
                    <a:pt x="672" y="584"/>
                  </a:cubicBezTo>
                  <a:cubicBezTo>
                    <a:pt x="736" y="688"/>
                    <a:pt x="776" y="660"/>
                    <a:pt x="816" y="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4000" y="3604680"/>
              <a:ext cx="473400" cy="165240"/>
            </a:xfrm>
            <a:custGeom>
              <a:avLst/>
              <a:gdLst/>
              <a:ahLst/>
              <a:rect l="l" t="t" r="r" b="b"/>
              <a:pathLst>
                <a:path w="816" h="688">
                  <a:moveTo>
                    <a:pt x="0" y="632"/>
                  </a:moveTo>
                  <a:cubicBezTo>
                    <a:pt x="60" y="636"/>
                    <a:pt x="120" y="640"/>
                    <a:pt x="192" y="536"/>
                  </a:cubicBezTo>
                  <a:cubicBezTo>
                    <a:pt x="264" y="432"/>
                    <a:pt x="352" y="0"/>
                    <a:pt x="432" y="8"/>
                  </a:cubicBezTo>
                  <a:cubicBezTo>
                    <a:pt x="512" y="16"/>
                    <a:pt x="608" y="480"/>
                    <a:pt x="672" y="584"/>
                  </a:cubicBezTo>
                  <a:cubicBezTo>
                    <a:pt x="736" y="688"/>
                    <a:pt x="776" y="660"/>
                    <a:pt x="816" y="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78400" y="35654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64000" y="379404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57800" y="34290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24480" y="3809880"/>
            <a:ext cx="77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87      0.13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1      0.89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93      0.07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63      0.37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364000" y="3794040"/>
            <a:ext cx="8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3565440"/>
            <a:ext cx="85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tR      metJ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88040" y="341316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ents Activated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62320" y="3581280"/>
            <a:ext cx="457200" cy="204840"/>
          </a:xfrm>
          <a:custGeom>
            <a:avLst/>
            <a:gdLst/>
            <a:ahLst/>
            <a:rect l="l" t="t" r="r" b="b"/>
            <a:pathLst>
              <a:path w="816" h="688">
                <a:moveTo>
                  <a:pt x="0" y="632"/>
                </a:moveTo>
                <a:cubicBezTo>
                  <a:pt x="60" y="636"/>
                  <a:pt x="120" y="640"/>
                  <a:pt x="192" y="536"/>
                </a:cubicBezTo>
                <a:cubicBezTo>
                  <a:pt x="264" y="432"/>
                  <a:pt x="352" y="0"/>
                  <a:pt x="432" y="8"/>
                </a:cubicBezTo>
                <a:cubicBezTo>
                  <a:pt x="512" y="16"/>
                  <a:pt x="608" y="480"/>
                  <a:pt x="672" y="584"/>
                </a:cubicBezTo>
                <a:cubicBezTo>
                  <a:pt x="736" y="688"/>
                  <a:pt x="776" y="660"/>
                  <a:pt x="816" y="6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3505320"/>
            <a:ext cx="397080" cy="280800"/>
          </a:xfrm>
          <a:custGeom>
            <a:avLst/>
            <a:gdLst/>
            <a:ahLst/>
            <a:rect l="l" t="t" r="r" b="b"/>
            <a:pathLst>
              <a:path w="816" h="688">
                <a:moveTo>
                  <a:pt x="0" y="632"/>
                </a:moveTo>
                <a:cubicBezTo>
                  <a:pt x="60" y="636"/>
                  <a:pt x="120" y="640"/>
                  <a:pt x="192" y="536"/>
                </a:cubicBezTo>
                <a:cubicBezTo>
                  <a:pt x="264" y="432"/>
                  <a:pt x="352" y="0"/>
                  <a:pt x="432" y="8"/>
                </a:cubicBezTo>
                <a:cubicBezTo>
                  <a:pt x="512" y="16"/>
                  <a:pt x="608" y="480"/>
                  <a:pt x="672" y="584"/>
                </a:cubicBezTo>
                <a:cubicBezTo>
                  <a:pt x="736" y="688"/>
                  <a:pt x="776" y="660"/>
                  <a:pt x="816" y="6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35812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371600" y="38098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3429000"/>
            <a:ext cx="1905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332080" y="3825720"/>
            <a:ext cx="77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82      0.18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21      0.79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66      0.34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42      0.58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3809880"/>
            <a:ext cx="8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T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            F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371600" y="3581280"/>
            <a:ext cx="85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tR      metJ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34290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ents Activated</a:t>
            </a:r>
            <a:endParaRPr b="0" lang="en-US" sz="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33520" y="1981080"/>
            <a:ext cx="2419560" cy="1143000"/>
            <a:chOff x="533520" y="1981080"/>
            <a:chExt cx="2419560" cy="1143000"/>
          </a:xfrm>
        </p:grpSpPr>
        <p:cxnSp>
          <p:nvCxnSpPr>
            <p:cNvPr id="519" name=""/>
            <p:cNvCxnSpPr>
              <a:stCxn id="520" idx="3"/>
              <a:endCxn id="494" idx="2"/>
            </p:cNvCxnSpPr>
            <p:nvPr/>
          </p:nvCxnSpPr>
          <p:spPr>
            <a:xfrm>
              <a:off x="990720" y="2095200"/>
              <a:ext cx="1962720" cy="229320"/>
            </a:xfrm>
            <a:prstGeom prst="bentConnector3">
              <a:avLst>
                <a:gd name="adj1" fmla="val 50467"/>
              </a:avLst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sp>
          <p:nvSpPr>
            <p:cNvPr id="520" name=""/>
            <p:cNvSpPr/>
            <p:nvPr/>
          </p:nvSpPr>
          <p:spPr>
            <a:xfrm>
              <a:off x="762120" y="19810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521" name=""/>
            <p:cNvCxnSpPr>
              <a:stCxn id="520" idx="2"/>
            </p:cNvCxnSpPr>
            <p:nvPr/>
          </p:nvCxnSpPr>
          <p:spPr>
            <a:xfrm flipH="1">
              <a:off x="646920" y="22093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520" idx="2"/>
            </p:cNvCxnSpPr>
            <p:nvPr/>
          </p:nvCxnSpPr>
          <p:spPr>
            <a:xfrm>
              <a:off x="875880" y="22093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23" name=""/>
            <p:cNvSpPr/>
            <p:nvPr/>
          </p:nvSpPr>
          <p:spPr>
            <a:xfrm>
              <a:off x="762120" y="28954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24382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19320" y="28954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90720" y="24382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527" name=""/>
            <p:cNvCxnSpPr>
              <a:stCxn id="526" idx="2"/>
              <a:endCxn id="523" idx="0"/>
            </p:cNvCxnSpPr>
            <p:nvPr/>
          </p:nvCxnSpPr>
          <p:spPr>
            <a:xfrm flipH="1">
              <a:off x="87552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8" name=""/>
            <p:cNvCxnSpPr>
              <a:stCxn id="526" idx="2"/>
              <a:endCxn id="525" idx="0"/>
            </p:cNvCxnSpPr>
            <p:nvPr/>
          </p:nvCxnSpPr>
          <p:spPr>
            <a:xfrm>
              <a:off x="110448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529" name=""/>
          <p:cNvCxnSpPr>
            <a:stCxn id="513" idx="3"/>
            <a:endCxn id="488" idx="2"/>
          </p:cNvCxnSpPr>
          <p:nvPr/>
        </p:nvCxnSpPr>
        <p:spPr>
          <a:xfrm>
            <a:off x="3200400" y="3924000"/>
            <a:ext cx="286560" cy="10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cxnSp>
        <p:nvCxnSpPr>
          <p:cNvPr id="530" name=""/>
          <p:cNvCxnSpPr>
            <a:stCxn id="487" idx="6"/>
            <a:endCxn id="504" idx="1"/>
          </p:cNvCxnSpPr>
          <p:nvPr/>
        </p:nvCxnSpPr>
        <p:spPr>
          <a:xfrm>
            <a:off x="5048280" y="3924000"/>
            <a:ext cx="210240" cy="10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sp>
        <p:nvSpPr>
          <p:cNvPr id="531" name=""/>
          <p:cNvSpPr/>
          <p:nvPr/>
        </p:nvSpPr>
        <p:spPr>
          <a:xfrm>
            <a:off x="1981080" y="632448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81080" y="605160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981080" y="577836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81080" y="550548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523224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81080" y="4557600"/>
            <a:ext cx="609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J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90920" y="6324480"/>
            <a:ext cx="8380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90920" y="6051600"/>
            <a:ext cx="838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5778360"/>
            <a:ext cx="8380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5505480"/>
            <a:ext cx="838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lin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90920" y="5232240"/>
            <a:ext cx="8380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557600"/>
            <a:ext cx="8380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GrowthMedium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29000" y="6324480"/>
            <a:ext cx="7621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.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6051600"/>
            <a:ext cx="762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5778360"/>
            <a:ext cx="7621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.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5505480"/>
            <a:ext cx="762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.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5232240"/>
            <a:ext cx="7621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4557600"/>
            <a:ext cx="7621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Growth Phas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6324480"/>
            <a:ext cx="685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6051600"/>
            <a:ext cx="685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91120" y="5778360"/>
            <a:ext cx="685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5505480"/>
            <a:ext cx="685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91120" y="5232240"/>
            <a:ext cx="685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91120" y="4557600"/>
            <a:ext cx="6858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Heat Shock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76920" y="6324480"/>
            <a:ext cx="99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2576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6051600"/>
            <a:ext cx="990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876920" y="5778360"/>
            <a:ext cx="99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8412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76920" y="5505480"/>
            <a:ext cx="990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7844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76920" y="5232240"/>
            <a:ext cx="9903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2287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876920" y="4557600"/>
            <a:ext cx="990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R state = activated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6324480"/>
            <a:ext cx="990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0276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867280" y="6051600"/>
            <a:ext cx="99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867280" y="5778360"/>
            <a:ext cx="990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1112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67280" y="5505480"/>
            <a:ext cx="99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8244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867280" y="5232240"/>
            <a:ext cx="990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1087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867280" y="4557600"/>
            <a:ext cx="990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J state = activated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0" y="632448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0" y="605160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0" y="577836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858000" y="550548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0" y="523224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0" y="4557600"/>
            <a:ext cx="60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A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467480" y="632448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467480" y="605160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467480" y="577836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467480" y="5505480"/>
            <a:ext cx="609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467480" y="5232240"/>
            <a:ext cx="609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4557600"/>
            <a:ext cx="609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E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632448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605160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577836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550548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2120" y="523224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2120" y="4557600"/>
            <a:ext cx="60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Array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71600" y="632448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371600" y="605160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577836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5505480"/>
            <a:ext cx="609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5232240"/>
            <a:ext cx="609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4557600"/>
            <a:ext cx="609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881"/>
                </a:solidFill>
                <a:latin typeface="Arial"/>
              </a:rPr>
              <a:t>metR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4557600"/>
            <a:ext cx="7315200" cy="0"/>
          </a:xfrm>
          <a:prstGeom prst="line">
            <a:avLst/>
          </a:prstGeom>
          <a:ln cap="sq" w="2844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62120" y="5232240"/>
            <a:ext cx="7315200" cy="1116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62120" y="5505480"/>
            <a:ext cx="7315200" cy="1091880"/>
            <a:chOff x="762120" y="5505480"/>
            <a:chExt cx="7315200" cy="1091880"/>
          </a:xfrm>
        </p:grpSpPr>
        <p:sp>
          <p:nvSpPr>
            <p:cNvPr id="594" name=""/>
            <p:cNvSpPr/>
            <p:nvPr/>
          </p:nvSpPr>
          <p:spPr>
            <a:xfrm>
              <a:off x="762120" y="550548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2120" y="577836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2120" y="605160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2120" y="6324480"/>
              <a:ext cx="7315200" cy="0"/>
            </a:xfrm>
            <a:prstGeom prst="line">
              <a:avLst/>
            </a:prstGeom>
            <a:ln w="1260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6597360"/>
              <a:ext cx="7315200" cy="0"/>
            </a:xfrm>
            <a:prstGeom prst="line">
              <a:avLst/>
            </a:prstGeom>
            <a:ln cap="sq" w="28440">
              <a:solidFill>
                <a:srgbClr val="ea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762120" y="4557600"/>
            <a:ext cx="0" cy="2040120"/>
          </a:xfrm>
          <a:prstGeom prst="line">
            <a:avLst/>
          </a:prstGeom>
          <a:ln cap="sq" w="2844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98108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077320" y="4557600"/>
            <a:ext cx="0" cy="2040120"/>
          </a:xfrm>
          <a:prstGeom prst="line">
            <a:avLst/>
          </a:prstGeom>
          <a:ln cap="sq" w="2844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7160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46748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86728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7692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9112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42900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90920" y="4557600"/>
            <a:ext cx="0" cy="204012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514400" y="1600200"/>
            <a:ext cx="3913920" cy="1981080"/>
            <a:chOff x="4514400" y="1600200"/>
            <a:chExt cx="3913920" cy="1981080"/>
          </a:xfrm>
        </p:grpSpPr>
        <p:cxnSp>
          <p:nvCxnSpPr>
            <p:cNvPr id="611" name=""/>
            <p:cNvCxnSpPr>
              <a:stCxn id="612" idx="1"/>
              <a:endCxn id="486" idx="6"/>
            </p:cNvCxnSpPr>
            <p:nvPr/>
          </p:nvCxnSpPr>
          <p:spPr>
            <a:xfrm flipV="1" rot="10800000">
              <a:off x="4514040" y="2094480"/>
              <a:ext cx="2648880" cy="229320"/>
            </a:xfrm>
            <a:prstGeom prst="bentConnector3">
              <a:avLst>
                <a:gd name="adj1" fmla="val 50360"/>
              </a:avLst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sp>
          <p:nvSpPr>
            <p:cNvPr id="613" name=""/>
            <p:cNvSpPr/>
            <p:nvPr/>
          </p:nvSpPr>
          <p:spPr>
            <a:xfrm>
              <a:off x="6781680" y="24382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62920" y="19810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614" name=""/>
            <p:cNvCxnSpPr>
              <a:stCxn id="612" idx="2"/>
              <a:endCxn id="615" idx="0"/>
            </p:cNvCxnSpPr>
            <p:nvPr/>
          </p:nvCxnSpPr>
          <p:spPr>
            <a:xfrm>
              <a:off x="7276680" y="2209320"/>
              <a:ext cx="38196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6" name=""/>
            <p:cNvCxnSpPr>
              <a:stCxn id="612" idx="2"/>
              <a:endCxn id="613" idx="0"/>
            </p:cNvCxnSpPr>
            <p:nvPr/>
          </p:nvCxnSpPr>
          <p:spPr>
            <a:xfrm flipH="1">
              <a:off x="6895800" y="2209320"/>
              <a:ext cx="3816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13" idx="2"/>
            </p:cNvCxnSpPr>
            <p:nvPr/>
          </p:nvCxnSpPr>
          <p:spPr>
            <a:xfrm>
              <a:off x="689580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18" name=""/>
            <p:cNvCxnSpPr>
              <a:stCxn id="613" idx="2"/>
            </p:cNvCxnSpPr>
            <p:nvPr/>
          </p:nvCxnSpPr>
          <p:spPr>
            <a:xfrm flipH="1">
              <a:off x="666684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19" name=""/>
            <p:cNvSpPr/>
            <p:nvPr/>
          </p:nvSpPr>
          <p:spPr>
            <a:xfrm>
              <a:off x="7010280" y="28954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43800" y="33526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080" y="28954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43800" y="24382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622" name=""/>
            <p:cNvCxnSpPr>
              <a:stCxn id="615" idx="2"/>
            </p:cNvCxnSpPr>
            <p:nvPr/>
          </p:nvCxnSpPr>
          <p:spPr>
            <a:xfrm>
              <a:off x="765792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3" name=""/>
            <p:cNvCxnSpPr>
              <a:stCxn id="615" idx="2"/>
            </p:cNvCxnSpPr>
            <p:nvPr/>
          </p:nvCxnSpPr>
          <p:spPr>
            <a:xfrm flipH="1">
              <a:off x="7428960" y="26665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24" name=""/>
            <p:cNvSpPr/>
            <p:nvPr/>
          </p:nvSpPr>
          <p:spPr>
            <a:xfrm>
              <a:off x="7315200" y="28954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772400" y="2895480"/>
              <a:ext cx="228600" cy="22860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01000" y="335268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627" name=""/>
            <p:cNvCxnSpPr>
              <a:stCxn id="625" idx="2"/>
              <a:endCxn id="626" idx="0"/>
            </p:cNvCxnSpPr>
            <p:nvPr/>
          </p:nvCxnSpPr>
          <p:spPr>
            <a:xfrm>
              <a:off x="7886520" y="31237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8" name=""/>
            <p:cNvCxnSpPr>
              <a:stCxn id="625" idx="2"/>
              <a:endCxn id="620" idx="0"/>
            </p:cNvCxnSpPr>
            <p:nvPr/>
          </p:nvCxnSpPr>
          <p:spPr>
            <a:xfrm flipH="1">
              <a:off x="7657560" y="3123720"/>
              <a:ext cx="22932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29" name=""/>
            <p:cNvSpPr/>
            <p:nvPr/>
          </p:nvSpPr>
          <p:spPr>
            <a:xfrm>
              <a:off x="6479640" y="160020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9881"/>
                  </a:solidFill>
                  <a:latin typeface="Arial"/>
                </a:rPr>
                <a:t>Regrow CPD-Trees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7238880" y="3809880"/>
            <a:ext cx="15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f9881"/>
                </a:solidFill>
                <a:latin typeface="Arial"/>
              </a:rPr>
              <a:t>Recalculate CPT entrie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Key Idea:  Regulator Rol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 algorithm susceptible to </a:t>
            </a:r>
            <a:r>
              <a:rPr b="0" lang="en-US" sz="3200" spc="-1" strike="noStrike">
                <a:solidFill>
                  <a:srgbClr val="eae4de"/>
                </a:solidFill>
                <a:latin typeface="Arial"/>
              </a:rPr>
              <a:t>local opt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den variables can take on unintended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constrain this process with prior knowledge:  Sequence analysis to put a prior on the role for each regulator; </a:t>
            </a:r>
            <a:r>
              <a:rPr b="0" lang="en-US" sz="3200" spc="-1" strike="noStrike">
                <a:solidFill>
                  <a:srgbClr val="af9881"/>
                </a:solidFill>
                <a:latin typeface="Arial"/>
              </a:rPr>
              <a:t>activ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af9881"/>
                </a:solidFill>
                <a:latin typeface="Arial"/>
              </a:rPr>
              <a:t>repr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809880" y="2286000"/>
            <a:ext cx="44197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f2e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Initializing Network Parameter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15000" y="4191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J state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391520" y="4572000"/>
            <a:ext cx="1295280" cy="393480"/>
            <a:chOff x="7391520" y="4572000"/>
            <a:chExt cx="1295280" cy="393480"/>
          </a:xfrm>
        </p:grpSpPr>
        <p:sp>
          <p:nvSpPr>
            <p:cNvPr id="637" name=""/>
            <p:cNvSpPr/>
            <p:nvPr/>
          </p:nvSpPr>
          <p:spPr>
            <a:xfrm>
              <a:off x="7391520" y="4572000"/>
              <a:ext cx="609480" cy="393480"/>
            </a:xfrm>
            <a:custGeom>
              <a:avLst/>
              <a:gdLst/>
              <a:ahLst/>
              <a:rect l="l" t="t" r="r" b="b"/>
              <a:pathLst>
                <a:path w="816" h="688">
                  <a:moveTo>
                    <a:pt x="0" y="632"/>
                  </a:moveTo>
                  <a:cubicBezTo>
                    <a:pt x="60" y="636"/>
                    <a:pt x="120" y="640"/>
                    <a:pt x="192" y="536"/>
                  </a:cubicBezTo>
                  <a:cubicBezTo>
                    <a:pt x="264" y="432"/>
                    <a:pt x="352" y="0"/>
                    <a:pt x="432" y="8"/>
                  </a:cubicBezTo>
                  <a:cubicBezTo>
                    <a:pt x="512" y="16"/>
                    <a:pt x="608" y="480"/>
                    <a:pt x="672" y="584"/>
                  </a:cubicBezTo>
                  <a:cubicBezTo>
                    <a:pt x="736" y="688"/>
                    <a:pt x="776" y="660"/>
                    <a:pt x="816" y="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48720" y="4647960"/>
              <a:ext cx="838080" cy="317520"/>
            </a:xfrm>
            <a:custGeom>
              <a:avLst/>
              <a:gdLst/>
              <a:ahLst/>
              <a:rect l="l" t="t" r="r" b="b"/>
              <a:pathLst>
                <a:path w="816" h="688">
                  <a:moveTo>
                    <a:pt x="0" y="632"/>
                  </a:moveTo>
                  <a:cubicBezTo>
                    <a:pt x="60" y="636"/>
                    <a:pt x="120" y="640"/>
                    <a:pt x="192" y="536"/>
                  </a:cubicBezTo>
                  <a:cubicBezTo>
                    <a:pt x="264" y="432"/>
                    <a:pt x="352" y="0"/>
                    <a:pt x="432" y="8"/>
                  </a:cubicBezTo>
                  <a:cubicBezTo>
                    <a:pt x="512" y="16"/>
                    <a:pt x="608" y="480"/>
                    <a:pt x="672" y="584"/>
                  </a:cubicBezTo>
                  <a:cubicBezTo>
                    <a:pt x="736" y="688"/>
                    <a:pt x="776" y="660"/>
                    <a:pt x="816" y="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91520" y="41911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w    High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162920" y="41911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343400" y="5029200"/>
            <a:ext cx="4495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267080" y="4114800"/>
            <a:ext cx="4724640" cy="2209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419720" y="5105520"/>
            <a:ext cx="25146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vated               activated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vated            inactivated inactivated               activated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activated            inactivated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315200" y="51055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0.6      0.4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0.2      0.8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0.9      0.1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0.5      0.5</a:t>
            </a:r>
            <a:endParaRPr b="0" lang="en-US" sz="14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343400" y="4191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R state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985680" y="2437920"/>
            <a:ext cx="72439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074840" y="1828800"/>
            <a:ext cx="17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bed DNA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5880" y="12952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ption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rt Site*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09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15238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35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743200" y="2286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3809880" y="22856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09880" y="228600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696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53316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07440" y="26668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stream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93680" y="266688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wnstream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05640" y="22096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rot="5400000">
            <a:off x="3961800" y="2286000"/>
            <a:ext cx="76320" cy="533160"/>
          </a:xfrm>
          <a:custGeom>
            <a:avLst/>
            <a:gdLst>
              <a:gd name="textAreaLeft" fmla="*/ 0 w 76320"/>
              <a:gd name="textAreaRight" fmla="*/ 2736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630"/>
                </a:lnTo>
                <a:cubicBezTo>
                  <a:pt x="10800" y="10530"/>
                  <a:pt x="16200" y="11430"/>
                  <a:pt x="21600" y="11430"/>
                </a:cubicBezTo>
                <a:cubicBezTo>
                  <a:pt x="16200" y="11430"/>
                  <a:pt x="10800" y="12330"/>
                  <a:pt x="10800" y="132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f9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33520" y="35812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514600" y="35812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J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5638680"/>
            <a:ext cx="114300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metA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664" name=""/>
          <p:cNvCxnSpPr>
            <a:stCxn id="662" idx="4"/>
            <a:endCxn id="663" idx="7"/>
          </p:cNvCxnSpPr>
          <p:nvPr/>
        </p:nvCxnSpPr>
        <p:spPr>
          <a:xfrm flipH="1">
            <a:off x="2499840" y="4286160"/>
            <a:ext cx="586800" cy="1434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61" idx="4"/>
            <a:endCxn id="663" idx="1"/>
          </p:cNvCxnSpPr>
          <p:nvPr/>
        </p:nvCxnSpPr>
        <p:spPr>
          <a:xfrm>
            <a:off x="1104480" y="4286160"/>
            <a:ext cx="586440" cy="1434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6" name=""/>
          <p:cNvSpPr/>
          <p:nvPr/>
        </p:nvSpPr>
        <p:spPr>
          <a:xfrm rot="5400000">
            <a:off x="2286000" y="23623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630"/>
                </a:lnTo>
                <a:cubicBezTo>
                  <a:pt x="10800" y="10530"/>
                  <a:pt x="16200" y="11430"/>
                  <a:pt x="21600" y="11430"/>
                </a:cubicBezTo>
                <a:cubicBezTo>
                  <a:pt x="16200" y="11430"/>
                  <a:pt x="10800" y="12330"/>
                  <a:pt x="10800" y="132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f9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400000">
            <a:off x="5523840" y="1333440"/>
            <a:ext cx="76320" cy="2438280"/>
          </a:xfrm>
          <a:custGeom>
            <a:avLst/>
            <a:gdLst>
              <a:gd name="textAreaLeft" fmla="*/ 0 w 76320"/>
              <a:gd name="textAreaRight" fmla="*/ 27360 w 763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16200" y="18000"/>
                  <a:pt x="21600" y="18000"/>
                </a:cubicBezTo>
                <a:cubicBezTo>
                  <a:pt x="162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af9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668" name=""/>
          <p:cNvCxnSpPr>
            <a:stCxn id="662" idx="0"/>
            <a:endCxn id="660" idx="1"/>
          </p:cNvCxnSpPr>
          <p:nvPr/>
        </p:nvCxnSpPr>
        <p:spPr>
          <a:xfrm flipH="1" flipV="1" rot="5400000">
            <a:off x="3055680" y="2633040"/>
            <a:ext cx="959400" cy="898920"/>
          </a:xfrm>
          <a:prstGeom prst="bentConnector3">
            <a:avLst>
              <a:gd name="adj1" fmla="val 49662"/>
            </a:avLst>
          </a:prstGeom>
          <a:ln w="38160">
            <a:solidFill>
              <a:srgbClr val="af9881"/>
            </a:solidFill>
            <a:prstDash val="dash"/>
            <a:miter/>
          </a:ln>
        </p:spPr>
      </p:cxnSp>
      <p:cxnSp>
        <p:nvCxnSpPr>
          <p:cNvPr id="669" name=""/>
          <p:cNvCxnSpPr>
            <a:stCxn id="661" idx="0"/>
            <a:endCxn id="666" idx="1"/>
          </p:cNvCxnSpPr>
          <p:nvPr/>
        </p:nvCxnSpPr>
        <p:spPr>
          <a:xfrm flipH="1" flipV="1" rot="5400000">
            <a:off x="1229400" y="2478240"/>
            <a:ext cx="959400" cy="1208880"/>
          </a:xfrm>
          <a:prstGeom prst="bentConnector3">
            <a:avLst>
              <a:gd name="adj1" fmla="val 49662"/>
            </a:avLst>
          </a:prstGeom>
          <a:ln w="38160">
            <a:solidFill>
              <a:srgbClr val="af9881"/>
            </a:solidFill>
            <a:prstDash val="dash"/>
            <a:miter/>
          </a:ln>
        </p:spPr>
      </p:cxnSp>
      <p:cxnSp>
        <p:nvCxnSpPr>
          <p:cNvPr id="670" name=""/>
          <p:cNvCxnSpPr>
            <a:stCxn id="663" idx="6"/>
          </p:cNvCxnSpPr>
          <p:nvPr/>
        </p:nvCxnSpPr>
        <p:spPr>
          <a:xfrm flipV="1">
            <a:off x="2685960" y="3657240"/>
            <a:ext cx="1276920" cy="2324880"/>
          </a:xfrm>
          <a:prstGeom prst="bentConnector2">
            <a:avLst/>
          </a:prstGeom>
          <a:ln w="38160">
            <a:solidFill>
              <a:srgbClr val="af9881"/>
            </a:solidFill>
            <a:prstDash val="dash"/>
            <a:miter/>
          </a:ln>
        </p:spPr>
      </p:cxnSp>
      <p:cxnSp>
        <p:nvCxnSpPr>
          <p:cNvPr id="671" name=""/>
          <p:cNvCxnSpPr>
            <a:stCxn id="667" idx="1"/>
          </p:cNvCxnSpPr>
          <p:nvPr/>
        </p:nvCxnSpPr>
        <p:spPr>
          <a:xfrm rot="5400000">
            <a:off x="3402720" y="3162240"/>
            <a:ext cx="1905840" cy="788040"/>
          </a:xfrm>
          <a:prstGeom prst="bentConnector3">
            <a:avLst>
              <a:gd name="adj1" fmla="val 47496"/>
            </a:avLst>
          </a:prstGeom>
          <a:ln w="38160">
            <a:solidFill>
              <a:srgbClr val="af9881"/>
            </a:solidFill>
            <a:prstDash val="dash"/>
            <a:miter/>
          </a:ln>
        </p:spPr>
      </p:cxnSp>
      <p:sp>
        <p:nvSpPr>
          <p:cNvPr id="672" name=""/>
          <p:cNvSpPr/>
          <p:nvPr/>
        </p:nvSpPr>
        <p:spPr>
          <a:xfrm>
            <a:off x="4267080" y="373392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T for regulatee metA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437920" y="2590920"/>
            <a:ext cx="13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f9881"/>
                </a:solidFill>
                <a:latin typeface="Arial"/>
              </a:rPr>
              <a:t>Binding site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343400" y="4419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Considered an Activator)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15000" y="4419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Considered a Repressor)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" y="6521400"/>
            <a:ext cx="87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Predicted transcription start sites from Bockhorst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t. al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MB ‘03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Missing Regulator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4100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8672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8098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3526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2670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687" name=""/>
          <p:cNvCxnSpPr>
            <a:stCxn id="682" idx="4"/>
            <a:endCxn id="685" idx="0"/>
          </p:cNvCxnSpPr>
          <p:nvPr/>
        </p:nvCxnSpPr>
        <p:spPr>
          <a:xfrm>
            <a:off x="39240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83" idx="4"/>
            <a:endCxn id="684" idx="0"/>
          </p:cNvCxnSpPr>
          <p:nvPr/>
        </p:nvCxnSpPr>
        <p:spPr>
          <a:xfrm>
            <a:off x="34668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1" idx="4"/>
            <a:endCxn id="686" idx="0"/>
          </p:cNvCxnSpPr>
          <p:nvPr/>
        </p:nvCxnSpPr>
        <p:spPr>
          <a:xfrm>
            <a:off x="43812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78" idx="3"/>
            <a:endCxn id="684" idx="7"/>
          </p:cNvCxnSpPr>
          <p:nvPr/>
        </p:nvCxnSpPr>
        <p:spPr>
          <a:xfrm flipH="1">
            <a:off x="3547440" y="1738440"/>
            <a:ext cx="143892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78" idx="3"/>
            <a:endCxn id="686" idx="7"/>
          </p:cNvCxnSpPr>
          <p:nvPr/>
        </p:nvCxnSpPr>
        <p:spPr>
          <a:xfrm flipH="1">
            <a:off x="4462200" y="1738440"/>
            <a:ext cx="52416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2" name=""/>
          <p:cNvCxnSpPr>
            <a:stCxn id="679" idx="3"/>
            <a:endCxn id="684" idx="7"/>
          </p:cNvCxnSpPr>
          <p:nvPr/>
        </p:nvCxnSpPr>
        <p:spPr>
          <a:xfrm flipH="1">
            <a:off x="3547440" y="1738440"/>
            <a:ext cx="189612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3" name=""/>
          <p:cNvCxnSpPr>
            <a:stCxn id="680" idx="3"/>
            <a:endCxn id="685" idx="7"/>
          </p:cNvCxnSpPr>
          <p:nvPr/>
        </p:nvCxnSpPr>
        <p:spPr>
          <a:xfrm flipH="1">
            <a:off x="4004640" y="1738440"/>
            <a:ext cx="189612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434340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0040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698" name=""/>
          <p:cNvCxnSpPr>
            <a:stCxn id="684" idx="4"/>
            <a:endCxn id="695" idx="0"/>
          </p:cNvCxnSpPr>
          <p:nvPr/>
        </p:nvCxnSpPr>
        <p:spPr>
          <a:xfrm flipH="1">
            <a:off x="3314160" y="2304720"/>
            <a:ext cx="15300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84" idx="4"/>
            <a:endCxn id="696" idx="0"/>
          </p:cNvCxnSpPr>
          <p:nvPr/>
        </p:nvCxnSpPr>
        <p:spPr>
          <a:xfrm>
            <a:off x="3466800" y="2304720"/>
            <a:ext cx="22932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85" idx="3"/>
            <a:endCxn id="695" idx="7"/>
          </p:cNvCxnSpPr>
          <p:nvPr/>
        </p:nvCxnSpPr>
        <p:spPr>
          <a:xfrm flipH="1">
            <a:off x="3395160" y="2271600"/>
            <a:ext cx="44856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86" idx="4"/>
            <a:endCxn id="697" idx="0"/>
          </p:cNvCxnSpPr>
          <p:nvPr/>
        </p:nvCxnSpPr>
        <p:spPr>
          <a:xfrm flipH="1">
            <a:off x="4075920" y="2304720"/>
            <a:ext cx="30564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86" idx="4"/>
            <a:endCxn id="694" idx="0"/>
          </p:cNvCxnSpPr>
          <p:nvPr/>
        </p:nvCxnSpPr>
        <p:spPr>
          <a:xfrm>
            <a:off x="4381560" y="230472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85" idx="4"/>
            <a:endCxn id="696" idx="0"/>
          </p:cNvCxnSpPr>
          <p:nvPr/>
        </p:nvCxnSpPr>
        <p:spPr>
          <a:xfrm flipH="1">
            <a:off x="3695040" y="2304720"/>
            <a:ext cx="22932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85" idx="4"/>
            <a:endCxn id="697" idx="1"/>
          </p:cNvCxnSpPr>
          <p:nvPr/>
        </p:nvCxnSpPr>
        <p:spPr>
          <a:xfrm>
            <a:off x="3924360" y="2304720"/>
            <a:ext cx="7200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5" name=""/>
          <p:cNvSpPr/>
          <p:nvPr/>
        </p:nvSpPr>
        <p:spPr>
          <a:xfrm>
            <a:off x="63244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816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8954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810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4382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8954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714" name=""/>
          <p:cNvCxnSpPr>
            <a:stCxn id="709" idx="4"/>
            <a:endCxn id="712" idx="0"/>
          </p:cNvCxnSpPr>
          <p:nvPr/>
        </p:nvCxnSpPr>
        <p:spPr>
          <a:xfrm>
            <a:off x="25524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10" idx="4"/>
            <a:endCxn id="711" idx="0"/>
          </p:cNvCxnSpPr>
          <p:nvPr/>
        </p:nvCxnSpPr>
        <p:spPr>
          <a:xfrm>
            <a:off x="20952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708" idx="4"/>
            <a:endCxn id="713" idx="0"/>
          </p:cNvCxnSpPr>
          <p:nvPr/>
        </p:nvCxnSpPr>
        <p:spPr>
          <a:xfrm>
            <a:off x="30096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17" name=""/>
          <p:cNvSpPr/>
          <p:nvPr/>
        </p:nvSpPr>
        <p:spPr>
          <a:xfrm>
            <a:off x="281952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10552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05740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43828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67652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29528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724" name=""/>
          <p:cNvCxnSpPr>
            <a:stCxn id="712" idx="4"/>
            <a:endCxn id="720" idx="0"/>
          </p:cNvCxnSpPr>
          <p:nvPr/>
        </p:nvCxnSpPr>
        <p:spPr>
          <a:xfrm>
            <a:off x="2552400" y="23047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713" idx="4"/>
            <a:endCxn id="717" idx="0"/>
          </p:cNvCxnSpPr>
          <p:nvPr/>
        </p:nvCxnSpPr>
        <p:spPr>
          <a:xfrm flipH="1">
            <a:off x="2933640" y="230472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711" idx="4"/>
            <a:endCxn id="719" idx="0"/>
          </p:cNvCxnSpPr>
          <p:nvPr/>
        </p:nvCxnSpPr>
        <p:spPr>
          <a:xfrm>
            <a:off x="2095560" y="230472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7" name=""/>
          <p:cNvCxnSpPr>
            <a:stCxn id="711" idx="4"/>
            <a:endCxn id="723" idx="7"/>
          </p:cNvCxnSpPr>
          <p:nvPr/>
        </p:nvCxnSpPr>
        <p:spPr>
          <a:xfrm flipH="1">
            <a:off x="1490400" y="2304720"/>
            <a:ext cx="60552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711" idx="4"/>
            <a:endCxn id="695" idx="1"/>
          </p:cNvCxnSpPr>
          <p:nvPr/>
        </p:nvCxnSpPr>
        <p:spPr>
          <a:xfrm>
            <a:off x="2095560" y="2304720"/>
            <a:ext cx="113904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11" idx="4"/>
            <a:endCxn id="722" idx="7"/>
          </p:cNvCxnSpPr>
          <p:nvPr/>
        </p:nvCxnSpPr>
        <p:spPr>
          <a:xfrm flipH="1">
            <a:off x="1871280" y="2304720"/>
            <a:ext cx="22464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713" idx="4"/>
            <a:endCxn id="695" idx="1"/>
          </p:cNvCxnSpPr>
          <p:nvPr/>
        </p:nvCxnSpPr>
        <p:spPr>
          <a:xfrm>
            <a:off x="3009960" y="2304720"/>
            <a:ext cx="22464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686" idx="5"/>
            <a:endCxn id="718" idx="0"/>
          </p:cNvCxnSpPr>
          <p:nvPr/>
        </p:nvCxnSpPr>
        <p:spPr>
          <a:xfrm>
            <a:off x="4462200" y="2271600"/>
            <a:ext cx="75780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684" idx="4"/>
            <a:endCxn id="722" idx="0"/>
          </p:cNvCxnSpPr>
          <p:nvPr/>
        </p:nvCxnSpPr>
        <p:spPr>
          <a:xfrm flipH="1">
            <a:off x="1789920" y="2304720"/>
            <a:ext cx="167724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13" idx="4"/>
            <a:endCxn id="719" idx="7"/>
          </p:cNvCxnSpPr>
          <p:nvPr/>
        </p:nvCxnSpPr>
        <p:spPr>
          <a:xfrm flipH="1">
            <a:off x="2252160" y="2304720"/>
            <a:ext cx="75816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686" idx="5"/>
            <a:endCxn id="721" idx="1"/>
          </p:cNvCxnSpPr>
          <p:nvPr/>
        </p:nvCxnSpPr>
        <p:spPr>
          <a:xfrm>
            <a:off x="4462560" y="2271600"/>
            <a:ext cx="29556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stCxn id="707" idx="3"/>
            <a:endCxn id="686" idx="6"/>
          </p:cNvCxnSpPr>
          <p:nvPr/>
        </p:nvCxnSpPr>
        <p:spPr>
          <a:xfrm flipH="1">
            <a:off x="4514400" y="1738440"/>
            <a:ext cx="2758320" cy="434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36" name=""/>
          <p:cNvCxnSpPr>
            <a:stCxn id="706" idx="3"/>
            <a:endCxn id="713" idx="0"/>
          </p:cNvCxnSpPr>
          <p:nvPr/>
        </p:nvCxnSpPr>
        <p:spPr>
          <a:xfrm flipH="1">
            <a:off x="3009600" y="1738080"/>
            <a:ext cx="380592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Missing Regulator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8672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8098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3526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3526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8098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747" name=""/>
          <p:cNvCxnSpPr>
            <a:stCxn id="742" idx="4"/>
            <a:endCxn id="745" idx="0"/>
          </p:cNvCxnSpPr>
          <p:nvPr/>
        </p:nvCxnSpPr>
        <p:spPr>
          <a:xfrm>
            <a:off x="39240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48" name=""/>
          <p:cNvCxnSpPr>
            <a:stCxn id="743" idx="4"/>
            <a:endCxn id="744" idx="0"/>
          </p:cNvCxnSpPr>
          <p:nvPr/>
        </p:nvCxnSpPr>
        <p:spPr>
          <a:xfrm>
            <a:off x="34668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49" name=""/>
          <p:cNvCxnSpPr>
            <a:stCxn id="741" idx="4"/>
            <a:endCxn id="746" idx="0"/>
          </p:cNvCxnSpPr>
          <p:nvPr/>
        </p:nvCxnSpPr>
        <p:spPr>
          <a:xfrm>
            <a:off x="43812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0" name=""/>
          <p:cNvCxnSpPr>
            <a:stCxn id="738" idx="3"/>
            <a:endCxn id="744" idx="7"/>
          </p:cNvCxnSpPr>
          <p:nvPr/>
        </p:nvCxnSpPr>
        <p:spPr>
          <a:xfrm flipH="1">
            <a:off x="3547440" y="1738440"/>
            <a:ext cx="143892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1" name=""/>
          <p:cNvCxnSpPr>
            <a:stCxn id="738" idx="3"/>
            <a:endCxn id="746" idx="7"/>
          </p:cNvCxnSpPr>
          <p:nvPr/>
        </p:nvCxnSpPr>
        <p:spPr>
          <a:xfrm flipH="1">
            <a:off x="4462200" y="1738440"/>
            <a:ext cx="52416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2" name=""/>
          <p:cNvCxnSpPr>
            <a:stCxn id="739" idx="3"/>
            <a:endCxn id="744" idx="7"/>
          </p:cNvCxnSpPr>
          <p:nvPr/>
        </p:nvCxnSpPr>
        <p:spPr>
          <a:xfrm flipH="1">
            <a:off x="3547440" y="1738440"/>
            <a:ext cx="189612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40" idx="3"/>
            <a:endCxn id="745" idx="7"/>
          </p:cNvCxnSpPr>
          <p:nvPr/>
        </p:nvCxnSpPr>
        <p:spPr>
          <a:xfrm flipH="1">
            <a:off x="4004640" y="1738440"/>
            <a:ext cx="189612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54" name=""/>
          <p:cNvSpPr/>
          <p:nvPr/>
        </p:nvSpPr>
        <p:spPr>
          <a:xfrm>
            <a:off x="434340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0040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8128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96252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758" name=""/>
          <p:cNvCxnSpPr>
            <a:stCxn id="744" idx="4"/>
            <a:endCxn id="755" idx="0"/>
          </p:cNvCxnSpPr>
          <p:nvPr/>
        </p:nvCxnSpPr>
        <p:spPr>
          <a:xfrm flipH="1">
            <a:off x="3314160" y="2304720"/>
            <a:ext cx="15300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9" name=""/>
          <p:cNvCxnSpPr>
            <a:stCxn id="744" idx="4"/>
            <a:endCxn id="756" idx="0"/>
          </p:cNvCxnSpPr>
          <p:nvPr/>
        </p:nvCxnSpPr>
        <p:spPr>
          <a:xfrm>
            <a:off x="3466800" y="2304720"/>
            <a:ext cx="22932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45" idx="3"/>
            <a:endCxn id="755" idx="7"/>
          </p:cNvCxnSpPr>
          <p:nvPr/>
        </p:nvCxnSpPr>
        <p:spPr>
          <a:xfrm flipH="1">
            <a:off x="3395160" y="2271600"/>
            <a:ext cx="44856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6" idx="4"/>
            <a:endCxn id="757" idx="0"/>
          </p:cNvCxnSpPr>
          <p:nvPr/>
        </p:nvCxnSpPr>
        <p:spPr>
          <a:xfrm flipH="1">
            <a:off x="4075920" y="2304720"/>
            <a:ext cx="30564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6" idx="4"/>
            <a:endCxn id="754" idx="0"/>
          </p:cNvCxnSpPr>
          <p:nvPr/>
        </p:nvCxnSpPr>
        <p:spPr>
          <a:xfrm>
            <a:off x="4381560" y="230472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45" idx="4"/>
            <a:endCxn id="756" idx="0"/>
          </p:cNvCxnSpPr>
          <p:nvPr/>
        </p:nvCxnSpPr>
        <p:spPr>
          <a:xfrm flipH="1">
            <a:off x="3695040" y="2304720"/>
            <a:ext cx="22932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45" idx="4"/>
            <a:endCxn id="757" idx="1"/>
          </p:cNvCxnSpPr>
          <p:nvPr/>
        </p:nvCxnSpPr>
        <p:spPr>
          <a:xfrm>
            <a:off x="3924360" y="2304720"/>
            <a:ext cx="7200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5" name=""/>
          <p:cNvSpPr/>
          <p:nvPr/>
        </p:nvSpPr>
        <p:spPr>
          <a:xfrm>
            <a:off x="63244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7816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2388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954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81080" y="15238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810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4382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20574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774" name=""/>
          <p:cNvCxnSpPr>
            <a:stCxn id="769" idx="4"/>
            <a:endCxn id="772" idx="0"/>
          </p:cNvCxnSpPr>
          <p:nvPr/>
        </p:nvCxnSpPr>
        <p:spPr>
          <a:xfrm>
            <a:off x="25524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75" name=""/>
          <p:cNvCxnSpPr>
            <a:stCxn id="770" idx="4"/>
            <a:endCxn id="771" idx="0"/>
          </p:cNvCxnSpPr>
          <p:nvPr/>
        </p:nvCxnSpPr>
        <p:spPr>
          <a:xfrm>
            <a:off x="20952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76" name=""/>
          <p:cNvCxnSpPr>
            <a:stCxn id="768" idx="4"/>
            <a:endCxn id="773" idx="0"/>
          </p:cNvCxnSpPr>
          <p:nvPr/>
        </p:nvCxnSpPr>
        <p:spPr>
          <a:xfrm>
            <a:off x="3009600" y="17712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77" name=""/>
          <p:cNvSpPr/>
          <p:nvPr/>
        </p:nvSpPr>
        <p:spPr>
          <a:xfrm>
            <a:off x="281952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10552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05740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3828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72428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7652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25909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2e3d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784" name=""/>
          <p:cNvCxnSpPr>
            <a:stCxn id="772" idx="4"/>
            <a:endCxn id="780" idx="0"/>
          </p:cNvCxnSpPr>
          <p:nvPr/>
        </p:nvCxnSpPr>
        <p:spPr>
          <a:xfrm>
            <a:off x="2552400" y="23047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73" idx="4"/>
            <a:endCxn id="777" idx="0"/>
          </p:cNvCxnSpPr>
          <p:nvPr/>
        </p:nvCxnSpPr>
        <p:spPr>
          <a:xfrm flipH="1">
            <a:off x="2933640" y="230472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71" idx="4"/>
            <a:endCxn id="779" idx="0"/>
          </p:cNvCxnSpPr>
          <p:nvPr/>
        </p:nvCxnSpPr>
        <p:spPr>
          <a:xfrm>
            <a:off x="2095560" y="230472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87" name=""/>
          <p:cNvCxnSpPr>
            <a:stCxn id="771" idx="4"/>
            <a:endCxn id="783" idx="7"/>
          </p:cNvCxnSpPr>
          <p:nvPr/>
        </p:nvCxnSpPr>
        <p:spPr>
          <a:xfrm flipH="1">
            <a:off x="1490400" y="2304720"/>
            <a:ext cx="60552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88" name=""/>
          <p:cNvCxnSpPr>
            <a:stCxn id="771" idx="4"/>
            <a:endCxn id="755" idx="1"/>
          </p:cNvCxnSpPr>
          <p:nvPr/>
        </p:nvCxnSpPr>
        <p:spPr>
          <a:xfrm>
            <a:off x="2095560" y="2304720"/>
            <a:ext cx="113904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89" name=""/>
          <p:cNvCxnSpPr>
            <a:stCxn id="771" idx="4"/>
            <a:endCxn id="782" idx="7"/>
          </p:cNvCxnSpPr>
          <p:nvPr/>
        </p:nvCxnSpPr>
        <p:spPr>
          <a:xfrm flipH="1">
            <a:off x="1871280" y="2304720"/>
            <a:ext cx="22464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0" name=""/>
          <p:cNvCxnSpPr>
            <a:stCxn id="773" idx="4"/>
            <a:endCxn id="755" idx="1"/>
          </p:cNvCxnSpPr>
          <p:nvPr/>
        </p:nvCxnSpPr>
        <p:spPr>
          <a:xfrm>
            <a:off x="3009960" y="2304720"/>
            <a:ext cx="22464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1" name=""/>
          <p:cNvCxnSpPr>
            <a:stCxn id="746" idx="5"/>
            <a:endCxn id="778" idx="0"/>
          </p:cNvCxnSpPr>
          <p:nvPr/>
        </p:nvCxnSpPr>
        <p:spPr>
          <a:xfrm>
            <a:off x="4462200" y="2271600"/>
            <a:ext cx="75780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44" idx="4"/>
            <a:endCxn id="782" idx="0"/>
          </p:cNvCxnSpPr>
          <p:nvPr/>
        </p:nvCxnSpPr>
        <p:spPr>
          <a:xfrm flipH="1">
            <a:off x="1789920" y="2304720"/>
            <a:ext cx="167724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4"/>
            <a:endCxn id="779" idx="7"/>
          </p:cNvCxnSpPr>
          <p:nvPr/>
        </p:nvCxnSpPr>
        <p:spPr>
          <a:xfrm flipH="1">
            <a:off x="2252160" y="2304720"/>
            <a:ext cx="75816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46" idx="5"/>
            <a:endCxn id="781" idx="1"/>
          </p:cNvCxnSpPr>
          <p:nvPr/>
        </p:nvCxnSpPr>
        <p:spPr>
          <a:xfrm>
            <a:off x="4462560" y="2271600"/>
            <a:ext cx="29556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67" idx="3"/>
            <a:endCxn id="746" idx="6"/>
          </p:cNvCxnSpPr>
          <p:nvPr/>
        </p:nvCxnSpPr>
        <p:spPr>
          <a:xfrm flipH="1">
            <a:off x="4514400" y="1738440"/>
            <a:ext cx="2758320" cy="434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66" idx="3"/>
            <a:endCxn id="773" idx="0"/>
          </p:cNvCxnSpPr>
          <p:nvPr/>
        </p:nvCxnSpPr>
        <p:spPr>
          <a:xfrm flipH="1">
            <a:off x="3009600" y="1738080"/>
            <a:ext cx="380592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797" name=""/>
          <p:cNvGrpSpPr/>
          <p:nvPr/>
        </p:nvGrpSpPr>
        <p:grpSpPr>
          <a:xfrm>
            <a:off x="4538520" y="1738080"/>
            <a:ext cx="2276280" cy="867240"/>
            <a:chOff x="4538520" y="1738080"/>
            <a:chExt cx="2276280" cy="867240"/>
          </a:xfrm>
        </p:grpSpPr>
        <p:sp>
          <p:nvSpPr>
            <p:cNvPr id="798" name=""/>
            <p:cNvSpPr/>
            <p:nvPr/>
          </p:nvSpPr>
          <p:spPr>
            <a:xfrm>
              <a:off x="5214960" y="2071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cxnSp>
          <p:nvCxnSpPr>
            <p:cNvPr id="799" name=""/>
            <p:cNvCxnSpPr>
              <a:stCxn id="798" idx="3"/>
              <a:endCxn id="754" idx="7"/>
            </p:cNvCxnSpPr>
            <p:nvPr/>
          </p:nvCxnSpPr>
          <p:spPr>
            <a:xfrm flipH="1">
              <a:off x="4538520" y="2286000"/>
              <a:ext cx="710280" cy="31968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8" idx="4"/>
              <a:endCxn id="778" idx="0"/>
            </p:cNvCxnSpPr>
            <p:nvPr/>
          </p:nvCxnSpPr>
          <p:spPr>
            <a:xfrm flipH="1">
              <a:off x="5219280" y="2319120"/>
              <a:ext cx="110160" cy="25308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01" name=""/>
            <p:cNvCxnSpPr>
              <a:stCxn id="740" idx="3"/>
              <a:endCxn id="798" idx="7"/>
            </p:cNvCxnSpPr>
            <p:nvPr/>
          </p:nvCxnSpPr>
          <p:spPr>
            <a:xfrm flipH="1">
              <a:off x="5409360" y="1738080"/>
              <a:ext cx="491400" cy="34776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02" name=""/>
            <p:cNvCxnSpPr>
              <a:stCxn id="738" idx="4"/>
              <a:endCxn id="798" idx="1"/>
            </p:cNvCxnSpPr>
            <p:nvPr/>
          </p:nvCxnSpPr>
          <p:spPr>
            <a:xfrm>
              <a:off x="5067000" y="1771200"/>
              <a:ext cx="181800" cy="31500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03" name=""/>
            <p:cNvCxnSpPr>
              <a:stCxn id="766" idx="3"/>
              <a:endCxn id="798" idx="6"/>
            </p:cNvCxnSpPr>
            <p:nvPr/>
          </p:nvCxnSpPr>
          <p:spPr>
            <a:xfrm flipH="1">
              <a:off x="5461920" y="1738080"/>
              <a:ext cx="1353240" cy="448200"/>
            </a:xfrm>
            <a:prstGeom prst="straightConnector1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804" name=""/>
          <p:cNvGrpSpPr/>
          <p:nvPr/>
        </p:nvGrpSpPr>
        <p:grpSpPr>
          <a:xfrm>
            <a:off x="457200" y="3352680"/>
            <a:ext cx="4952880" cy="2699640"/>
            <a:chOff x="457200" y="3352680"/>
            <a:chExt cx="4952880" cy="2699640"/>
          </a:xfrm>
        </p:grpSpPr>
        <p:sp>
          <p:nvSpPr>
            <p:cNvPr id="805" name=""/>
            <p:cNvSpPr/>
            <p:nvPr/>
          </p:nvSpPr>
          <p:spPr>
            <a:xfrm>
              <a:off x="916200" y="3581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1295280" y="3580920"/>
              <a:ext cx="152280" cy="228600"/>
              <a:chOff x="1295280" y="3580920"/>
              <a:chExt cx="152280" cy="228600"/>
            </a:xfrm>
          </p:grpSpPr>
          <p:sp>
            <p:nvSpPr>
              <p:cNvPr id="807" name=""/>
              <p:cNvSpPr/>
              <p:nvPr/>
            </p:nvSpPr>
            <p:spPr>
              <a:xfrm>
                <a:off x="1295280" y="36954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1346040" y="35809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1219320" y="35812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200000">
              <a:off x="5040" y="46450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croarrays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4340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0040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8128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6252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0552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5740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3828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2428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67652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295280" y="335268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1676520" y="3580920"/>
              <a:ext cx="152280" cy="228600"/>
              <a:chOff x="1676520" y="3580920"/>
              <a:chExt cx="152280" cy="228600"/>
            </a:xfrm>
          </p:grpSpPr>
          <p:sp>
            <p:nvSpPr>
              <p:cNvPr id="823" name=""/>
              <p:cNvSpPr/>
              <p:nvPr/>
            </p:nvSpPr>
            <p:spPr>
              <a:xfrm>
                <a:off x="1676520" y="36954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1727280" y="35809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600200" y="35812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2057400" y="3580920"/>
              <a:ext cx="152280" cy="228600"/>
              <a:chOff x="2057400" y="3580920"/>
              <a:chExt cx="152280" cy="228600"/>
            </a:xfrm>
          </p:grpSpPr>
          <p:sp>
            <p:nvSpPr>
              <p:cNvPr id="827" name=""/>
              <p:cNvSpPr/>
              <p:nvPr/>
            </p:nvSpPr>
            <p:spPr>
              <a:xfrm>
                <a:off x="2057400" y="36954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2108160" y="35809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1981080" y="358128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2438280" y="3580920"/>
              <a:ext cx="152280" cy="228600"/>
              <a:chOff x="2438280" y="3580920"/>
              <a:chExt cx="152280" cy="228600"/>
            </a:xfrm>
          </p:grpSpPr>
          <p:sp>
            <p:nvSpPr>
              <p:cNvPr id="831" name=""/>
              <p:cNvSpPr/>
              <p:nvPr/>
            </p:nvSpPr>
            <p:spPr>
              <a:xfrm>
                <a:off x="2438280" y="36954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489040" y="35809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2362320" y="35812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2819520" y="3580920"/>
              <a:ext cx="152280" cy="228600"/>
              <a:chOff x="2819520" y="3580920"/>
              <a:chExt cx="152280" cy="228600"/>
            </a:xfrm>
          </p:grpSpPr>
          <p:sp>
            <p:nvSpPr>
              <p:cNvPr id="835" name=""/>
              <p:cNvSpPr/>
              <p:nvPr/>
            </p:nvSpPr>
            <p:spPr>
              <a:xfrm>
                <a:off x="2819520" y="36954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2870280" y="35809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2743200" y="35812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3200400" y="3580920"/>
              <a:ext cx="152280" cy="228600"/>
              <a:chOff x="3200400" y="3580920"/>
              <a:chExt cx="152280" cy="228600"/>
            </a:xfrm>
          </p:grpSpPr>
          <p:sp>
            <p:nvSpPr>
              <p:cNvPr id="839" name=""/>
              <p:cNvSpPr/>
              <p:nvPr/>
            </p:nvSpPr>
            <p:spPr>
              <a:xfrm>
                <a:off x="3200400" y="36954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3251160" y="35809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3124080" y="358128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3581280" y="3580920"/>
              <a:ext cx="152280" cy="228600"/>
              <a:chOff x="3581280" y="3580920"/>
              <a:chExt cx="152280" cy="228600"/>
            </a:xfrm>
          </p:grpSpPr>
          <p:sp>
            <p:nvSpPr>
              <p:cNvPr id="843" name=""/>
              <p:cNvSpPr/>
              <p:nvPr/>
            </p:nvSpPr>
            <p:spPr>
              <a:xfrm>
                <a:off x="3581280" y="36954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3632040" y="35809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3505320" y="35812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3962520" y="3580920"/>
              <a:ext cx="152280" cy="228600"/>
              <a:chOff x="3962520" y="3580920"/>
              <a:chExt cx="152280" cy="228600"/>
            </a:xfrm>
          </p:grpSpPr>
          <p:sp>
            <p:nvSpPr>
              <p:cNvPr id="847" name=""/>
              <p:cNvSpPr/>
              <p:nvPr/>
            </p:nvSpPr>
            <p:spPr>
              <a:xfrm>
                <a:off x="3962520" y="36954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4013280" y="35809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3886200" y="35812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343400" y="3695760"/>
              <a:ext cx="50760" cy="114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4394160" y="3580920"/>
              <a:ext cx="101520" cy="228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67080" y="358128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4724280" y="3580920"/>
              <a:ext cx="152280" cy="228600"/>
              <a:chOff x="4724280" y="3580920"/>
              <a:chExt cx="152280" cy="228600"/>
            </a:xfrm>
          </p:grpSpPr>
          <p:sp>
            <p:nvSpPr>
              <p:cNvPr id="854" name=""/>
              <p:cNvSpPr/>
              <p:nvPr/>
            </p:nvSpPr>
            <p:spPr>
              <a:xfrm>
                <a:off x="4724280" y="36954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775040" y="35809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4648320" y="35812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5105520" y="3580920"/>
              <a:ext cx="152280" cy="228600"/>
              <a:chOff x="5105520" y="3580920"/>
              <a:chExt cx="152280" cy="228600"/>
            </a:xfrm>
          </p:grpSpPr>
          <p:sp>
            <p:nvSpPr>
              <p:cNvPr id="858" name=""/>
              <p:cNvSpPr/>
              <p:nvPr/>
            </p:nvSpPr>
            <p:spPr>
              <a:xfrm>
                <a:off x="5105520" y="36954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5156280" y="35809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5029200" y="35812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1295280" y="3885840"/>
              <a:ext cx="152280" cy="228600"/>
              <a:chOff x="1295280" y="3885840"/>
              <a:chExt cx="152280" cy="228600"/>
            </a:xfrm>
          </p:grpSpPr>
          <p:sp>
            <p:nvSpPr>
              <p:cNvPr id="862" name=""/>
              <p:cNvSpPr/>
              <p:nvPr/>
            </p:nvSpPr>
            <p:spPr>
              <a:xfrm>
                <a:off x="1295280" y="40003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1346040" y="38858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1219320" y="38862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1676520" y="3885840"/>
              <a:ext cx="152280" cy="228600"/>
              <a:chOff x="1676520" y="3885840"/>
              <a:chExt cx="152280" cy="228600"/>
            </a:xfrm>
          </p:grpSpPr>
          <p:sp>
            <p:nvSpPr>
              <p:cNvPr id="866" name=""/>
              <p:cNvSpPr/>
              <p:nvPr/>
            </p:nvSpPr>
            <p:spPr>
              <a:xfrm>
                <a:off x="1676520" y="40003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1727280" y="38858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1600200" y="38862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2057400" y="3885840"/>
              <a:ext cx="152280" cy="228600"/>
              <a:chOff x="2057400" y="3885840"/>
              <a:chExt cx="152280" cy="228600"/>
            </a:xfrm>
          </p:grpSpPr>
          <p:sp>
            <p:nvSpPr>
              <p:cNvPr id="870" name=""/>
              <p:cNvSpPr/>
              <p:nvPr/>
            </p:nvSpPr>
            <p:spPr>
              <a:xfrm>
                <a:off x="2057400" y="40003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2108160" y="38858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1981080" y="388620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2438280" y="3885840"/>
              <a:ext cx="152280" cy="228600"/>
              <a:chOff x="2438280" y="3885840"/>
              <a:chExt cx="152280" cy="228600"/>
            </a:xfrm>
          </p:grpSpPr>
          <p:sp>
            <p:nvSpPr>
              <p:cNvPr id="874" name=""/>
              <p:cNvSpPr/>
              <p:nvPr/>
            </p:nvSpPr>
            <p:spPr>
              <a:xfrm>
                <a:off x="2438280" y="40003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2489040" y="38858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2362320" y="38862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2819520" y="3885840"/>
              <a:ext cx="152280" cy="228600"/>
              <a:chOff x="2819520" y="3885840"/>
              <a:chExt cx="152280" cy="228600"/>
            </a:xfrm>
          </p:grpSpPr>
          <p:sp>
            <p:nvSpPr>
              <p:cNvPr id="878" name=""/>
              <p:cNvSpPr/>
              <p:nvPr/>
            </p:nvSpPr>
            <p:spPr>
              <a:xfrm>
                <a:off x="2819520" y="40003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2870280" y="38858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2743200" y="38862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200400" y="3885840"/>
              <a:ext cx="152280" cy="228600"/>
              <a:chOff x="3200400" y="3885840"/>
              <a:chExt cx="152280" cy="228600"/>
            </a:xfrm>
          </p:grpSpPr>
          <p:sp>
            <p:nvSpPr>
              <p:cNvPr id="882" name=""/>
              <p:cNvSpPr/>
              <p:nvPr/>
            </p:nvSpPr>
            <p:spPr>
              <a:xfrm>
                <a:off x="3200400" y="40003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3251160" y="38858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3124080" y="388620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3581280" y="3885840"/>
              <a:ext cx="152280" cy="228600"/>
              <a:chOff x="3581280" y="3885840"/>
              <a:chExt cx="152280" cy="228600"/>
            </a:xfrm>
          </p:grpSpPr>
          <p:sp>
            <p:nvSpPr>
              <p:cNvPr id="886" name=""/>
              <p:cNvSpPr/>
              <p:nvPr/>
            </p:nvSpPr>
            <p:spPr>
              <a:xfrm>
                <a:off x="3581280" y="40003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3632040" y="38858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3505320" y="38862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962520" y="3885840"/>
              <a:ext cx="152280" cy="228600"/>
              <a:chOff x="3962520" y="3885840"/>
              <a:chExt cx="152280" cy="228600"/>
            </a:xfrm>
          </p:grpSpPr>
          <p:sp>
            <p:nvSpPr>
              <p:cNvPr id="890" name=""/>
              <p:cNvSpPr/>
              <p:nvPr/>
            </p:nvSpPr>
            <p:spPr>
              <a:xfrm>
                <a:off x="3962520" y="40003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4013280" y="38858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>
              <a:off x="3886200" y="38862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67080" y="388620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4724280" y="3885840"/>
              <a:ext cx="152280" cy="228600"/>
              <a:chOff x="4724280" y="3885840"/>
              <a:chExt cx="152280" cy="228600"/>
            </a:xfrm>
          </p:grpSpPr>
          <p:sp>
            <p:nvSpPr>
              <p:cNvPr id="895" name=""/>
              <p:cNvSpPr/>
              <p:nvPr/>
            </p:nvSpPr>
            <p:spPr>
              <a:xfrm>
                <a:off x="4724280" y="40003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4775040" y="38858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4648320" y="38862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29200" y="38862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1295280" y="4190760"/>
              <a:ext cx="152280" cy="228600"/>
              <a:chOff x="1295280" y="4190760"/>
              <a:chExt cx="152280" cy="228600"/>
            </a:xfrm>
          </p:grpSpPr>
          <p:sp>
            <p:nvSpPr>
              <p:cNvPr id="900" name=""/>
              <p:cNvSpPr/>
              <p:nvPr/>
            </p:nvSpPr>
            <p:spPr>
              <a:xfrm>
                <a:off x="1295280" y="43052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1346040" y="41907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1219320" y="41911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1676520" y="4190760"/>
              <a:ext cx="152280" cy="228600"/>
              <a:chOff x="1676520" y="4190760"/>
              <a:chExt cx="152280" cy="228600"/>
            </a:xfrm>
          </p:grpSpPr>
          <p:sp>
            <p:nvSpPr>
              <p:cNvPr id="904" name=""/>
              <p:cNvSpPr/>
              <p:nvPr/>
            </p:nvSpPr>
            <p:spPr>
              <a:xfrm>
                <a:off x="1676520" y="43052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1727280" y="41907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600200" y="41911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2057400" y="4190760"/>
              <a:ext cx="152280" cy="228600"/>
              <a:chOff x="2057400" y="4190760"/>
              <a:chExt cx="152280" cy="228600"/>
            </a:xfrm>
          </p:grpSpPr>
          <p:sp>
            <p:nvSpPr>
              <p:cNvPr id="908" name=""/>
              <p:cNvSpPr/>
              <p:nvPr/>
            </p:nvSpPr>
            <p:spPr>
              <a:xfrm>
                <a:off x="2057400" y="43052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2108160" y="41907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1981080" y="4191120"/>
              <a:ext cx="38124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2438280" y="4190760"/>
              <a:ext cx="152280" cy="228600"/>
              <a:chOff x="2438280" y="4190760"/>
              <a:chExt cx="152280" cy="228600"/>
            </a:xfrm>
          </p:grpSpPr>
          <p:sp>
            <p:nvSpPr>
              <p:cNvPr id="912" name=""/>
              <p:cNvSpPr/>
              <p:nvPr/>
            </p:nvSpPr>
            <p:spPr>
              <a:xfrm>
                <a:off x="2438280" y="43052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2489040" y="41907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2362320" y="41911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43200" y="41911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3200400" y="4190760"/>
              <a:ext cx="152280" cy="228600"/>
              <a:chOff x="3200400" y="4190760"/>
              <a:chExt cx="152280" cy="228600"/>
            </a:xfrm>
          </p:grpSpPr>
          <p:sp>
            <p:nvSpPr>
              <p:cNvPr id="917" name=""/>
              <p:cNvSpPr/>
              <p:nvPr/>
            </p:nvSpPr>
            <p:spPr>
              <a:xfrm>
                <a:off x="3200400" y="43052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3251160" y="41907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3124080" y="4191120"/>
              <a:ext cx="38124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3581280" y="4190760"/>
              <a:ext cx="152280" cy="228600"/>
              <a:chOff x="3581280" y="4190760"/>
              <a:chExt cx="152280" cy="228600"/>
            </a:xfrm>
          </p:grpSpPr>
          <p:sp>
            <p:nvSpPr>
              <p:cNvPr id="921" name=""/>
              <p:cNvSpPr/>
              <p:nvPr/>
            </p:nvSpPr>
            <p:spPr>
              <a:xfrm>
                <a:off x="3581280" y="43052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3632040" y="41907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3505320" y="41911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3962520" y="4190760"/>
              <a:ext cx="152280" cy="228600"/>
              <a:chOff x="3962520" y="4190760"/>
              <a:chExt cx="152280" cy="228600"/>
            </a:xfrm>
          </p:grpSpPr>
          <p:sp>
            <p:nvSpPr>
              <p:cNvPr id="925" name=""/>
              <p:cNvSpPr/>
              <p:nvPr/>
            </p:nvSpPr>
            <p:spPr>
              <a:xfrm>
                <a:off x="3962520" y="43052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4013280" y="41907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3886200" y="41911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67080" y="4191120"/>
              <a:ext cx="38124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4724280" y="4190760"/>
              <a:ext cx="152280" cy="228600"/>
              <a:chOff x="4724280" y="4190760"/>
              <a:chExt cx="152280" cy="228600"/>
            </a:xfrm>
          </p:grpSpPr>
          <p:sp>
            <p:nvSpPr>
              <p:cNvPr id="930" name=""/>
              <p:cNvSpPr/>
              <p:nvPr/>
            </p:nvSpPr>
            <p:spPr>
              <a:xfrm>
                <a:off x="4724280" y="43052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4775040" y="41907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4648320" y="41911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29200" y="41911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1295280" y="4495320"/>
              <a:ext cx="152280" cy="228600"/>
              <a:chOff x="1295280" y="4495320"/>
              <a:chExt cx="152280" cy="228600"/>
            </a:xfrm>
          </p:grpSpPr>
          <p:sp>
            <p:nvSpPr>
              <p:cNvPr id="935" name=""/>
              <p:cNvSpPr/>
              <p:nvPr/>
            </p:nvSpPr>
            <p:spPr>
              <a:xfrm>
                <a:off x="1295280" y="46098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1346040" y="44953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219320" y="44956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1676520" y="4495320"/>
              <a:ext cx="152280" cy="228600"/>
              <a:chOff x="1676520" y="4495320"/>
              <a:chExt cx="152280" cy="228600"/>
            </a:xfrm>
          </p:grpSpPr>
          <p:sp>
            <p:nvSpPr>
              <p:cNvPr id="939" name=""/>
              <p:cNvSpPr/>
              <p:nvPr/>
            </p:nvSpPr>
            <p:spPr>
              <a:xfrm>
                <a:off x="1676520" y="46098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1727280" y="44953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1600200" y="44956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2057400" y="4495320"/>
              <a:ext cx="152280" cy="228600"/>
              <a:chOff x="2057400" y="4495320"/>
              <a:chExt cx="152280" cy="228600"/>
            </a:xfrm>
          </p:grpSpPr>
          <p:sp>
            <p:nvSpPr>
              <p:cNvPr id="943" name=""/>
              <p:cNvSpPr/>
              <p:nvPr/>
            </p:nvSpPr>
            <p:spPr>
              <a:xfrm>
                <a:off x="2057400" y="46098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2108160" y="44953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1981080" y="449568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46" name=""/>
            <p:cNvGrpSpPr/>
            <p:nvPr/>
          </p:nvGrpSpPr>
          <p:grpSpPr>
            <a:xfrm>
              <a:off x="2438280" y="4495320"/>
              <a:ext cx="152280" cy="228600"/>
              <a:chOff x="2438280" y="4495320"/>
              <a:chExt cx="152280" cy="228600"/>
            </a:xfrm>
          </p:grpSpPr>
          <p:sp>
            <p:nvSpPr>
              <p:cNvPr id="947" name=""/>
              <p:cNvSpPr/>
              <p:nvPr/>
            </p:nvSpPr>
            <p:spPr>
              <a:xfrm>
                <a:off x="2438280" y="46098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2489040" y="44953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2362320" y="44956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2819520" y="4495320"/>
              <a:ext cx="152280" cy="228600"/>
              <a:chOff x="2819520" y="4495320"/>
              <a:chExt cx="152280" cy="228600"/>
            </a:xfrm>
          </p:grpSpPr>
          <p:sp>
            <p:nvSpPr>
              <p:cNvPr id="951" name=""/>
              <p:cNvSpPr/>
              <p:nvPr/>
            </p:nvSpPr>
            <p:spPr>
              <a:xfrm>
                <a:off x="2819520" y="46098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2870280" y="44953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2743200" y="44956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200400" y="4495320"/>
              <a:ext cx="152280" cy="228600"/>
              <a:chOff x="3200400" y="4495320"/>
              <a:chExt cx="152280" cy="228600"/>
            </a:xfrm>
          </p:grpSpPr>
          <p:sp>
            <p:nvSpPr>
              <p:cNvPr id="955" name=""/>
              <p:cNvSpPr/>
              <p:nvPr/>
            </p:nvSpPr>
            <p:spPr>
              <a:xfrm>
                <a:off x="3200400" y="46098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3251160" y="44953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3124080" y="449568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3581280" y="4495320"/>
              <a:ext cx="152280" cy="228600"/>
              <a:chOff x="3581280" y="4495320"/>
              <a:chExt cx="152280" cy="228600"/>
            </a:xfrm>
          </p:grpSpPr>
          <p:sp>
            <p:nvSpPr>
              <p:cNvPr id="959" name=""/>
              <p:cNvSpPr/>
              <p:nvPr/>
            </p:nvSpPr>
            <p:spPr>
              <a:xfrm>
                <a:off x="3581280" y="46098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3632040" y="44953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505320" y="44956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62520" y="4495320"/>
              <a:ext cx="152280" cy="228600"/>
              <a:chOff x="3962520" y="4495320"/>
              <a:chExt cx="152280" cy="228600"/>
            </a:xfrm>
          </p:grpSpPr>
          <p:sp>
            <p:nvSpPr>
              <p:cNvPr id="963" name=""/>
              <p:cNvSpPr/>
              <p:nvPr/>
            </p:nvSpPr>
            <p:spPr>
              <a:xfrm>
                <a:off x="3962520" y="46098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4013280" y="44953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3886200" y="44956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43400" y="4610160"/>
              <a:ext cx="50760" cy="114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394160" y="4495320"/>
              <a:ext cx="101520" cy="228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449568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4724280" y="4495320"/>
              <a:ext cx="152280" cy="228600"/>
              <a:chOff x="4724280" y="4495320"/>
              <a:chExt cx="152280" cy="228600"/>
            </a:xfrm>
          </p:grpSpPr>
          <p:sp>
            <p:nvSpPr>
              <p:cNvPr id="970" name=""/>
              <p:cNvSpPr/>
              <p:nvPr/>
            </p:nvSpPr>
            <p:spPr>
              <a:xfrm>
                <a:off x="4724280" y="46098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4775040" y="44953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4648320" y="44956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5105520" y="4495320"/>
              <a:ext cx="152280" cy="228600"/>
              <a:chOff x="5105520" y="4495320"/>
              <a:chExt cx="152280" cy="228600"/>
            </a:xfrm>
          </p:grpSpPr>
          <p:sp>
            <p:nvSpPr>
              <p:cNvPr id="974" name=""/>
              <p:cNvSpPr/>
              <p:nvPr/>
            </p:nvSpPr>
            <p:spPr>
              <a:xfrm>
                <a:off x="5105520" y="46098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5156280" y="44953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76" name=""/>
            <p:cNvSpPr/>
            <p:nvPr/>
          </p:nvSpPr>
          <p:spPr>
            <a:xfrm>
              <a:off x="5029200" y="44956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1295280" y="4800240"/>
              <a:ext cx="152280" cy="228600"/>
              <a:chOff x="1295280" y="4800240"/>
              <a:chExt cx="152280" cy="228600"/>
            </a:xfrm>
          </p:grpSpPr>
          <p:sp>
            <p:nvSpPr>
              <p:cNvPr id="978" name=""/>
              <p:cNvSpPr/>
              <p:nvPr/>
            </p:nvSpPr>
            <p:spPr>
              <a:xfrm>
                <a:off x="1295280" y="49147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1346040" y="48002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1219320" y="48006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1676520" y="4800240"/>
              <a:ext cx="152280" cy="228600"/>
              <a:chOff x="1676520" y="4800240"/>
              <a:chExt cx="152280" cy="228600"/>
            </a:xfrm>
          </p:grpSpPr>
          <p:sp>
            <p:nvSpPr>
              <p:cNvPr id="982" name=""/>
              <p:cNvSpPr/>
              <p:nvPr/>
            </p:nvSpPr>
            <p:spPr>
              <a:xfrm>
                <a:off x="1676520" y="49147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1727280" y="48002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84" name=""/>
            <p:cNvSpPr/>
            <p:nvPr/>
          </p:nvSpPr>
          <p:spPr>
            <a:xfrm>
              <a:off x="1600200" y="48006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2057400" y="4800240"/>
              <a:ext cx="152280" cy="228600"/>
              <a:chOff x="2057400" y="4800240"/>
              <a:chExt cx="152280" cy="228600"/>
            </a:xfrm>
          </p:grpSpPr>
          <p:sp>
            <p:nvSpPr>
              <p:cNvPr id="986" name=""/>
              <p:cNvSpPr/>
              <p:nvPr/>
            </p:nvSpPr>
            <p:spPr>
              <a:xfrm>
                <a:off x="2057400" y="49147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2108160" y="48002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1981080" y="480060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2438280" y="4800240"/>
              <a:ext cx="152280" cy="228600"/>
              <a:chOff x="2438280" y="4800240"/>
              <a:chExt cx="152280" cy="228600"/>
            </a:xfrm>
          </p:grpSpPr>
          <p:sp>
            <p:nvSpPr>
              <p:cNvPr id="990" name=""/>
              <p:cNvSpPr/>
              <p:nvPr/>
            </p:nvSpPr>
            <p:spPr>
              <a:xfrm>
                <a:off x="2438280" y="49147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2489040" y="48002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>
              <a:off x="2362320" y="48006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2819520" y="4800240"/>
              <a:ext cx="152280" cy="228600"/>
              <a:chOff x="2819520" y="4800240"/>
              <a:chExt cx="152280" cy="228600"/>
            </a:xfrm>
          </p:grpSpPr>
          <p:sp>
            <p:nvSpPr>
              <p:cNvPr id="994" name=""/>
              <p:cNvSpPr/>
              <p:nvPr/>
            </p:nvSpPr>
            <p:spPr>
              <a:xfrm>
                <a:off x="2819520" y="49147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>
                <a:off x="2870280" y="48002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2743200" y="48006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3200400" y="4800240"/>
              <a:ext cx="152280" cy="228600"/>
              <a:chOff x="3200400" y="4800240"/>
              <a:chExt cx="152280" cy="228600"/>
            </a:xfrm>
          </p:grpSpPr>
          <p:sp>
            <p:nvSpPr>
              <p:cNvPr id="998" name=""/>
              <p:cNvSpPr/>
              <p:nvPr/>
            </p:nvSpPr>
            <p:spPr>
              <a:xfrm>
                <a:off x="3200400" y="49147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3251160" y="48002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3124080" y="480060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581280" y="4800240"/>
              <a:ext cx="152280" cy="228600"/>
              <a:chOff x="3581280" y="4800240"/>
              <a:chExt cx="152280" cy="228600"/>
            </a:xfrm>
          </p:grpSpPr>
          <p:sp>
            <p:nvSpPr>
              <p:cNvPr id="1002" name=""/>
              <p:cNvSpPr/>
              <p:nvPr/>
            </p:nvSpPr>
            <p:spPr>
              <a:xfrm>
                <a:off x="3581280" y="49147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3632040" y="48002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04" name=""/>
            <p:cNvSpPr/>
            <p:nvPr/>
          </p:nvSpPr>
          <p:spPr>
            <a:xfrm>
              <a:off x="3505320" y="48006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3962520" y="4800240"/>
              <a:ext cx="152280" cy="228600"/>
              <a:chOff x="3962520" y="4800240"/>
              <a:chExt cx="152280" cy="228600"/>
            </a:xfrm>
          </p:grpSpPr>
          <p:sp>
            <p:nvSpPr>
              <p:cNvPr id="1006" name=""/>
              <p:cNvSpPr/>
              <p:nvPr/>
            </p:nvSpPr>
            <p:spPr>
              <a:xfrm>
                <a:off x="3962520" y="49147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4013280" y="48002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3886200" y="48006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67080" y="480060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4724280" y="4800240"/>
              <a:ext cx="152280" cy="228600"/>
              <a:chOff x="4724280" y="4800240"/>
              <a:chExt cx="152280" cy="228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724280" y="49147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4775040" y="48002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>
              <a:off x="4648320" y="48006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29200" y="48006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1295280" y="5105160"/>
              <a:ext cx="152280" cy="228600"/>
              <a:chOff x="1295280" y="5105160"/>
              <a:chExt cx="152280" cy="228600"/>
            </a:xfrm>
          </p:grpSpPr>
          <p:sp>
            <p:nvSpPr>
              <p:cNvPr id="1016" name=""/>
              <p:cNvSpPr/>
              <p:nvPr/>
            </p:nvSpPr>
            <p:spPr>
              <a:xfrm>
                <a:off x="1295280" y="52196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346040" y="51051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1219320" y="51055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19" name=""/>
            <p:cNvGrpSpPr/>
            <p:nvPr/>
          </p:nvGrpSpPr>
          <p:grpSpPr>
            <a:xfrm>
              <a:off x="1676520" y="5105160"/>
              <a:ext cx="152280" cy="228600"/>
              <a:chOff x="1676520" y="5105160"/>
              <a:chExt cx="152280" cy="228600"/>
            </a:xfrm>
          </p:grpSpPr>
          <p:sp>
            <p:nvSpPr>
              <p:cNvPr id="1020" name=""/>
              <p:cNvSpPr/>
              <p:nvPr/>
            </p:nvSpPr>
            <p:spPr>
              <a:xfrm>
                <a:off x="1676520" y="52196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1727280" y="51051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22" name=""/>
            <p:cNvSpPr/>
            <p:nvPr/>
          </p:nvSpPr>
          <p:spPr>
            <a:xfrm>
              <a:off x="1600200" y="51055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057400" y="5105160"/>
              <a:ext cx="152280" cy="228600"/>
              <a:chOff x="2057400" y="5105160"/>
              <a:chExt cx="152280" cy="228600"/>
            </a:xfrm>
          </p:grpSpPr>
          <p:sp>
            <p:nvSpPr>
              <p:cNvPr id="1024" name=""/>
              <p:cNvSpPr/>
              <p:nvPr/>
            </p:nvSpPr>
            <p:spPr>
              <a:xfrm>
                <a:off x="2057400" y="52196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2108160" y="51051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1981080" y="5105520"/>
              <a:ext cx="38124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2438280" y="5105160"/>
              <a:ext cx="152280" cy="228600"/>
              <a:chOff x="2438280" y="5105160"/>
              <a:chExt cx="152280" cy="228600"/>
            </a:xfrm>
          </p:grpSpPr>
          <p:sp>
            <p:nvSpPr>
              <p:cNvPr id="1028" name=""/>
              <p:cNvSpPr/>
              <p:nvPr/>
            </p:nvSpPr>
            <p:spPr>
              <a:xfrm>
                <a:off x="2438280" y="52196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2489040" y="51051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2362320" y="51055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2819520" y="5105160"/>
              <a:ext cx="152280" cy="228600"/>
              <a:chOff x="2819520" y="5105160"/>
              <a:chExt cx="152280" cy="228600"/>
            </a:xfrm>
          </p:grpSpPr>
          <p:sp>
            <p:nvSpPr>
              <p:cNvPr id="1032" name=""/>
              <p:cNvSpPr/>
              <p:nvPr/>
            </p:nvSpPr>
            <p:spPr>
              <a:xfrm>
                <a:off x="2819520" y="52196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870280" y="51051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34" name=""/>
            <p:cNvSpPr/>
            <p:nvPr/>
          </p:nvSpPr>
          <p:spPr>
            <a:xfrm>
              <a:off x="2743200" y="51055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3200400" y="5105160"/>
              <a:ext cx="152280" cy="228600"/>
              <a:chOff x="3200400" y="5105160"/>
              <a:chExt cx="152280" cy="228600"/>
            </a:xfrm>
          </p:grpSpPr>
          <p:sp>
            <p:nvSpPr>
              <p:cNvPr id="1036" name=""/>
              <p:cNvSpPr/>
              <p:nvPr/>
            </p:nvSpPr>
            <p:spPr>
              <a:xfrm>
                <a:off x="3200400" y="52196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3251160" y="51051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3124080" y="5105520"/>
              <a:ext cx="38124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05320" y="51055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3962520" y="5105160"/>
              <a:ext cx="152280" cy="228600"/>
              <a:chOff x="3962520" y="5105160"/>
              <a:chExt cx="152280" cy="228600"/>
            </a:xfrm>
          </p:grpSpPr>
          <p:sp>
            <p:nvSpPr>
              <p:cNvPr id="1041" name=""/>
              <p:cNvSpPr/>
              <p:nvPr/>
            </p:nvSpPr>
            <p:spPr>
              <a:xfrm>
                <a:off x="3962520" y="52196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>
                <a:off x="4013280" y="51051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3886200" y="51055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43400" y="5219640"/>
              <a:ext cx="50760" cy="114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4394160" y="5105160"/>
              <a:ext cx="101520" cy="228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267080" y="5105520"/>
              <a:ext cx="38124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4724280" y="5105160"/>
              <a:ext cx="152280" cy="228600"/>
              <a:chOff x="4724280" y="5105160"/>
              <a:chExt cx="152280" cy="228600"/>
            </a:xfrm>
          </p:grpSpPr>
          <p:sp>
            <p:nvSpPr>
              <p:cNvPr id="1048" name=""/>
              <p:cNvSpPr/>
              <p:nvPr/>
            </p:nvSpPr>
            <p:spPr>
              <a:xfrm>
                <a:off x="4724280" y="52196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4775040" y="51051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50" name=""/>
            <p:cNvSpPr/>
            <p:nvPr/>
          </p:nvSpPr>
          <p:spPr>
            <a:xfrm>
              <a:off x="4648320" y="51055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5105520" y="5105160"/>
              <a:ext cx="152280" cy="228600"/>
              <a:chOff x="5105520" y="5105160"/>
              <a:chExt cx="152280" cy="228600"/>
            </a:xfrm>
          </p:grpSpPr>
          <p:sp>
            <p:nvSpPr>
              <p:cNvPr id="1052" name=""/>
              <p:cNvSpPr/>
              <p:nvPr/>
            </p:nvSpPr>
            <p:spPr>
              <a:xfrm>
                <a:off x="5105520" y="521964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5156280" y="510516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5029200" y="5105520"/>
              <a:ext cx="380880" cy="30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1295280" y="5409720"/>
              <a:ext cx="152280" cy="228600"/>
              <a:chOff x="1295280" y="5409720"/>
              <a:chExt cx="152280" cy="228600"/>
            </a:xfrm>
          </p:grpSpPr>
          <p:sp>
            <p:nvSpPr>
              <p:cNvPr id="1056" name=""/>
              <p:cNvSpPr/>
              <p:nvPr/>
            </p:nvSpPr>
            <p:spPr>
              <a:xfrm>
                <a:off x="1295280" y="55242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1346040" y="54097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1219320" y="54100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1676520" y="5409720"/>
              <a:ext cx="152280" cy="228600"/>
              <a:chOff x="1676520" y="5409720"/>
              <a:chExt cx="152280" cy="228600"/>
            </a:xfrm>
          </p:grpSpPr>
          <p:sp>
            <p:nvSpPr>
              <p:cNvPr id="1060" name=""/>
              <p:cNvSpPr/>
              <p:nvPr/>
            </p:nvSpPr>
            <p:spPr>
              <a:xfrm>
                <a:off x="1676520" y="55242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1727280" y="54097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1600200" y="54100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2057400" y="5409720"/>
              <a:ext cx="152280" cy="228600"/>
              <a:chOff x="2057400" y="5409720"/>
              <a:chExt cx="152280" cy="228600"/>
            </a:xfrm>
          </p:grpSpPr>
          <p:sp>
            <p:nvSpPr>
              <p:cNvPr id="1064" name=""/>
              <p:cNvSpPr/>
              <p:nvPr/>
            </p:nvSpPr>
            <p:spPr>
              <a:xfrm>
                <a:off x="2057400" y="55242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2108160" y="54097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1981080" y="541008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2438280" y="5409720"/>
              <a:ext cx="152280" cy="228600"/>
              <a:chOff x="2438280" y="5409720"/>
              <a:chExt cx="152280" cy="228600"/>
            </a:xfrm>
          </p:grpSpPr>
          <p:sp>
            <p:nvSpPr>
              <p:cNvPr id="1068" name=""/>
              <p:cNvSpPr/>
              <p:nvPr/>
            </p:nvSpPr>
            <p:spPr>
              <a:xfrm>
                <a:off x="2438280" y="55242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2489040" y="54097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>
              <a:off x="2362320" y="54100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2819520" y="5409720"/>
              <a:ext cx="152280" cy="228600"/>
              <a:chOff x="2819520" y="5409720"/>
              <a:chExt cx="152280" cy="228600"/>
            </a:xfrm>
          </p:grpSpPr>
          <p:sp>
            <p:nvSpPr>
              <p:cNvPr id="1072" name=""/>
              <p:cNvSpPr/>
              <p:nvPr/>
            </p:nvSpPr>
            <p:spPr>
              <a:xfrm>
                <a:off x="2819520" y="55242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2870280" y="54097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>
              <a:off x="2743200" y="54100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3200400" y="5409720"/>
              <a:ext cx="152280" cy="228600"/>
              <a:chOff x="3200400" y="5409720"/>
              <a:chExt cx="152280" cy="228600"/>
            </a:xfrm>
          </p:grpSpPr>
          <p:sp>
            <p:nvSpPr>
              <p:cNvPr id="1076" name=""/>
              <p:cNvSpPr/>
              <p:nvPr/>
            </p:nvSpPr>
            <p:spPr>
              <a:xfrm>
                <a:off x="3200400" y="55242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3251160" y="54097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3124080" y="541008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3581280" y="5409720"/>
              <a:ext cx="152280" cy="228600"/>
              <a:chOff x="3581280" y="5409720"/>
              <a:chExt cx="152280" cy="228600"/>
            </a:xfrm>
          </p:grpSpPr>
          <p:sp>
            <p:nvSpPr>
              <p:cNvPr id="1080" name=""/>
              <p:cNvSpPr/>
              <p:nvPr/>
            </p:nvSpPr>
            <p:spPr>
              <a:xfrm>
                <a:off x="3581280" y="55242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3632040" y="54097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3505320" y="54100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83" name=""/>
            <p:cNvGrpSpPr/>
            <p:nvPr/>
          </p:nvGrpSpPr>
          <p:grpSpPr>
            <a:xfrm>
              <a:off x="3962520" y="5409720"/>
              <a:ext cx="152280" cy="228600"/>
              <a:chOff x="3962520" y="5409720"/>
              <a:chExt cx="152280" cy="228600"/>
            </a:xfrm>
          </p:grpSpPr>
          <p:sp>
            <p:nvSpPr>
              <p:cNvPr id="1084" name=""/>
              <p:cNvSpPr/>
              <p:nvPr/>
            </p:nvSpPr>
            <p:spPr>
              <a:xfrm>
                <a:off x="3962520" y="55242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4013280" y="54097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86" name=""/>
            <p:cNvSpPr/>
            <p:nvPr/>
          </p:nvSpPr>
          <p:spPr>
            <a:xfrm>
              <a:off x="3886200" y="54100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67080" y="541008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4724280" y="5409720"/>
              <a:ext cx="152280" cy="228600"/>
              <a:chOff x="4724280" y="5409720"/>
              <a:chExt cx="152280" cy="228600"/>
            </a:xfrm>
          </p:grpSpPr>
          <p:sp>
            <p:nvSpPr>
              <p:cNvPr id="1089" name=""/>
              <p:cNvSpPr/>
              <p:nvPr/>
            </p:nvSpPr>
            <p:spPr>
              <a:xfrm>
                <a:off x="4724280" y="55242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4775040" y="54097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4648320" y="54100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5105520" y="5409720"/>
              <a:ext cx="152280" cy="228600"/>
              <a:chOff x="5105520" y="5409720"/>
              <a:chExt cx="152280" cy="228600"/>
            </a:xfrm>
          </p:grpSpPr>
          <p:sp>
            <p:nvSpPr>
              <p:cNvPr id="1093" name=""/>
              <p:cNvSpPr/>
              <p:nvPr/>
            </p:nvSpPr>
            <p:spPr>
              <a:xfrm>
                <a:off x="5105520" y="552420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5156280" y="540972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95" name=""/>
            <p:cNvSpPr/>
            <p:nvPr/>
          </p:nvSpPr>
          <p:spPr>
            <a:xfrm>
              <a:off x="5029200" y="541008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096" name=""/>
            <p:cNvGrpSpPr/>
            <p:nvPr/>
          </p:nvGrpSpPr>
          <p:grpSpPr>
            <a:xfrm>
              <a:off x="1295280" y="5714640"/>
              <a:ext cx="152280" cy="228600"/>
              <a:chOff x="1295280" y="5714640"/>
              <a:chExt cx="152280" cy="228600"/>
            </a:xfrm>
          </p:grpSpPr>
          <p:sp>
            <p:nvSpPr>
              <p:cNvPr id="1097" name=""/>
              <p:cNvSpPr/>
              <p:nvPr/>
            </p:nvSpPr>
            <p:spPr>
              <a:xfrm>
                <a:off x="1295280" y="58291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1346040" y="57146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1219320" y="57150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00200" y="57150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2057400" y="5714640"/>
              <a:ext cx="152280" cy="228600"/>
              <a:chOff x="2057400" y="5714640"/>
              <a:chExt cx="152280" cy="228600"/>
            </a:xfrm>
          </p:grpSpPr>
          <p:sp>
            <p:nvSpPr>
              <p:cNvPr id="1102" name=""/>
              <p:cNvSpPr/>
              <p:nvPr/>
            </p:nvSpPr>
            <p:spPr>
              <a:xfrm>
                <a:off x="2057400" y="58291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2108160" y="57146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1981080" y="571500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2438280" y="5714640"/>
              <a:ext cx="152280" cy="228600"/>
              <a:chOff x="2438280" y="5714640"/>
              <a:chExt cx="152280" cy="228600"/>
            </a:xfrm>
          </p:grpSpPr>
          <p:sp>
            <p:nvSpPr>
              <p:cNvPr id="1106" name=""/>
              <p:cNvSpPr/>
              <p:nvPr/>
            </p:nvSpPr>
            <p:spPr>
              <a:xfrm>
                <a:off x="2438280" y="58291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2489040" y="57146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2362320" y="57150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2819520" y="5714640"/>
              <a:ext cx="152280" cy="228600"/>
              <a:chOff x="2819520" y="5714640"/>
              <a:chExt cx="152280" cy="228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2819520" y="58291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2870280" y="57146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>
              <a:off x="2743200" y="57150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3200400" y="5714640"/>
              <a:ext cx="152280" cy="228600"/>
              <a:chOff x="3200400" y="5714640"/>
              <a:chExt cx="152280" cy="228600"/>
            </a:xfrm>
          </p:grpSpPr>
          <p:sp>
            <p:nvSpPr>
              <p:cNvPr id="1114" name=""/>
              <p:cNvSpPr/>
              <p:nvPr/>
            </p:nvSpPr>
            <p:spPr>
              <a:xfrm>
                <a:off x="3200400" y="58291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3251160" y="57146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3124080" y="571500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3581280" y="5714640"/>
              <a:ext cx="152280" cy="228600"/>
              <a:chOff x="3581280" y="5714640"/>
              <a:chExt cx="152280" cy="228600"/>
            </a:xfrm>
          </p:grpSpPr>
          <p:sp>
            <p:nvSpPr>
              <p:cNvPr id="1118" name=""/>
              <p:cNvSpPr/>
              <p:nvPr/>
            </p:nvSpPr>
            <p:spPr>
              <a:xfrm>
                <a:off x="3581280" y="58291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3632040" y="57146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3505320" y="57150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3962520" y="5714640"/>
              <a:ext cx="152280" cy="228600"/>
              <a:chOff x="3962520" y="5714640"/>
              <a:chExt cx="152280" cy="228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3962520" y="58291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4013280" y="57146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3886200" y="57150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267080" y="5715000"/>
              <a:ext cx="38124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4724280" y="5714640"/>
              <a:ext cx="152280" cy="228600"/>
              <a:chOff x="4724280" y="5714640"/>
              <a:chExt cx="152280" cy="228600"/>
            </a:xfrm>
          </p:grpSpPr>
          <p:sp>
            <p:nvSpPr>
              <p:cNvPr id="1127" name=""/>
              <p:cNvSpPr/>
              <p:nvPr/>
            </p:nvSpPr>
            <p:spPr>
              <a:xfrm>
                <a:off x="4724280" y="5829120"/>
                <a:ext cx="50760" cy="114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4775040" y="5714640"/>
                <a:ext cx="101520" cy="228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4648320" y="57150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029200" y="5715000"/>
              <a:ext cx="38088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14400" y="388620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916200" y="4191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14400" y="449568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916200" y="4800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914400" y="510552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916200" y="5410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914400" y="571500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4343400" y="3962160"/>
              <a:ext cx="152280" cy="152640"/>
              <a:chOff x="4343400" y="3962160"/>
              <a:chExt cx="152280" cy="152640"/>
            </a:xfrm>
          </p:grpSpPr>
          <p:sp>
            <p:nvSpPr>
              <p:cNvPr id="1139" name=""/>
              <p:cNvSpPr/>
              <p:nvPr/>
            </p:nvSpPr>
            <p:spPr>
              <a:xfrm>
                <a:off x="4343400" y="396252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4343400" y="396216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4343400" y="4267080"/>
              <a:ext cx="152280" cy="152640"/>
              <a:chOff x="4343400" y="4267080"/>
              <a:chExt cx="152280" cy="152640"/>
            </a:xfrm>
          </p:grpSpPr>
          <p:sp>
            <p:nvSpPr>
              <p:cNvPr id="1142" name=""/>
              <p:cNvSpPr/>
              <p:nvPr/>
            </p:nvSpPr>
            <p:spPr>
              <a:xfrm>
                <a:off x="4343400" y="4267080"/>
                <a:ext cx="152280" cy="152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4343400" y="4267080"/>
                <a:ext cx="152280" cy="152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4343400" y="4876560"/>
              <a:ext cx="152280" cy="152640"/>
              <a:chOff x="4343400" y="4876560"/>
              <a:chExt cx="152280" cy="152640"/>
            </a:xfrm>
          </p:grpSpPr>
          <p:sp>
            <p:nvSpPr>
              <p:cNvPr id="1145" name=""/>
              <p:cNvSpPr/>
              <p:nvPr/>
            </p:nvSpPr>
            <p:spPr>
              <a:xfrm>
                <a:off x="4343400" y="487692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V="1">
                <a:off x="4343400" y="487656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4343400" y="5790960"/>
              <a:ext cx="152280" cy="152640"/>
              <a:chOff x="4343400" y="5790960"/>
              <a:chExt cx="152280" cy="152640"/>
            </a:xfrm>
          </p:grpSpPr>
          <p:sp>
            <p:nvSpPr>
              <p:cNvPr id="1148" name=""/>
              <p:cNvSpPr/>
              <p:nvPr/>
            </p:nvSpPr>
            <p:spPr>
              <a:xfrm>
                <a:off x="4343400" y="579132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4343400" y="579096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5105520" y="3962160"/>
              <a:ext cx="152280" cy="152640"/>
              <a:chOff x="5105520" y="3962160"/>
              <a:chExt cx="152280" cy="152640"/>
            </a:xfrm>
          </p:grpSpPr>
          <p:sp>
            <p:nvSpPr>
              <p:cNvPr id="1151" name=""/>
              <p:cNvSpPr/>
              <p:nvPr/>
            </p:nvSpPr>
            <p:spPr>
              <a:xfrm>
                <a:off x="5105520" y="396252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>
                <a:off x="5105520" y="396216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5105520" y="4267080"/>
              <a:ext cx="152280" cy="152640"/>
              <a:chOff x="5105520" y="4267080"/>
              <a:chExt cx="152280" cy="152640"/>
            </a:xfrm>
          </p:grpSpPr>
          <p:sp>
            <p:nvSpPr>
              <p:cNvPr id="1154" name=""/>
              <p:cNvSpPr/>
              <p:nvPr/>
            </p:nvSpPr>
            <p:spPr>
              <a:xfrm>
                <a:off x="5105520" y="4267080"/>
                <a:ext cx="152280" cy="152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5105520" y="4267080"/>
                <a:ext cx="152280" cy="152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105520" y="4876560"/>
              <a:ext cx="152280" cy="152640"/>
              <a:chOff x="5105520" y="4876560"/>
              <a:chExt cx="152280" cy="152640"/>
            </a:xfrm>
          </p:grpSpPr>
          <p:sp>
            <p:nvSpPr>
              <p:cNvPr id="1157" name=""/>
              <p:cNvSpPr/>
              <p:nvPr/>
            </p:nvSpPr>
            <p:spPr>
              <a:xfrm>
                <a:off x="5105520" y="487692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5105520" y="487656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5105520" y="5790960"/>
              <a:ext cx="152280" cy="152640"/>
              <a:chOff x="5105520" y="5790960"/>
              <a:chExt cx="152280" cy="152640"/>
            </a:xfrm>
          </p:grpSpPr>
          <p:sp>
            <p:nvSpPr>
              <p:cNvPr id="1160" name=""/>
              <p:cNvSpPr/>
              <p:nvPr/>
            </p:nvSpPr>
            <p:spPr>
              <a:xfrm>
                <a:off x="5105520" y="579132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5105520" y="579096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1676520" y="5790960"/>
              <a:ext cx="152280" cy="152640"/>
              <a:chOff x="1676520" y="5790960"/>
              <a:chExt cx="152280" cy="152640"/>
            </a:xfrm>
          </p:grpSpPr>
          <p:sp>
            <p:nvSpPr>
              <p:cNvPr id="1163" name=""/>
              <p:cNvSpPr/>
              <p:nvPr/>
            </p:nvSpPr>
            <p:spPr>
              <a:xfrm>
                <a:off x="1676520" y="579132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1676520" y="579096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4343400" y="5486040"/>
              <a:ext cx="152280" cy="152640"/>
              <a:chOff x="4343400" y="5486040"/>
              <a:chExt cx="152280" cy="152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4343400" y="548640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4343400" y="5486040"/>
                <a:ext cx="1522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2819520" y="4267080"/>
              <a:ext cx="152280" cy="152640"/>
              <a:chOff x="2819520" y="4267080"/>
              <a:chExt cx="152280" cy="152640"/>
            </a:xfrm>
          </p:grpSpPr>
          <p:sp>
            <p:nvSpPr>
              <p:cNvPr id="1169" name=""/>
              <p:cNvSpPr/>
              <p:nvPr/>
            </p:nvSpPr>
            <p:spPr>
              <a:xfrm>
                <a:off x="2819520" y="4267080"/>
                <a:ext cx="152280" cy="152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819520" y="4267080"/>
                <a:ext cx="152280" cy="152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3581280" y="5181480"/>
              <a:ext cx="152640" cy="152640"/>
              <a:chOff x="3581280" y="5181480"/>
              <a:chExt cx="152640" cy="152640"/>
            </a:xfrm>
          </p:grpSpPr>
          <p:sp>
            <p:nvSpPr>
              <p:cNvPr id="1172" name=""/>
              <p:cNvSpPr/>
              <p:nvPr/>
            </p:nvSpPr>
            <p:spPr>
              <a:xfrm>
                <a:off x="3581280" y="5181480"/>
                <a:ext cx="152640" cy="152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3581280" y="5181480"/>
                <a:ext cx="152640" cy="152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4d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Hypothes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se of regulator states will provide explanatory power while retaining 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initialization of regulator roles will guide EM and increase 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addition of missing regulators will increase 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Evaluation:  Baselines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4008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8580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3152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7150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578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8006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00600" y="19051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257800" y="19051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715000" y="19051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186" name=""/>
          <p:cNvCxnSpPr>
            <a:stCxn id="1181" idx="4"/>
            <a:endCxn id="1184" idx="0"/>
          </p:cNvCxnSpPr>
          <p:nvPr/>
        </p:nvCxnSpPr>
        <p:spPr>
          <a:xfrm>
            <a:off x="5371920" y="16189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7" name=""/>
          <p:cNvCxnSpPr>
            <a:stCxn id="1182" idx="4"/>
            <a:endCxn id="1183" idx="0"/>
          </p:cNvCxnSpPr>
          <p:nvPr/>
        </p:nvCxnSpPr>
        <p:spPr>
          <a:xfrm>
            <a:off x="4914720" y="16189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8" name=""/>
          <p:cNvCxnSpPr>
            <a:stCxn id="1180" idx="4"/>
            <a:endCxn id="1185" idx="0"/>
          </p:cNvCxnSpPr>
          <p:nvPr/>
        </p:nvCxnSpPr>
        <p:spPr>
          <a:xfrm>
            <a:off x="5829120" y="16189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9" name=""/>
          <p:cNvCxnSpPr>
            <a:stCxn id="1177" idx="3"/>
            <a:endCxn id="1183" idx="7"/>
          </p:cNvCxnSpPr>
          <p:nvPr/>
        </p:nvCxnSpPr>
        <p:spPr>
          <a:xfrm flipH="1">
            <a:off x="4995360" y="1585800"/>
            <a:ext cx="143928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0" name=""/>
          <p:cNvCxnSpPr>
            <a:stCxn id="1177" idx="3"/>
            <a:endCxn id="1185" idx="7"/>
          </p:cNvCxnSpPr>
          <p:nvPr/>
        </p:nvCxnSpPr>
        <p:spPr>
          <a:xfrm flipH="1">
            <a:off x="5909760" y="1585800"/>
            <a:ext cx="52488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1" name=""/>
          <p:cNvCxnSpPr>
            <a:stCxn id="1178" idx="3"/>
            <a:endCxn id="1183" idx="7"/>
          </p:cNvCxnSpPr>
          <p:nvPr/>
        </p:nvCxnSpPr>
        <p:spPr>
          <a:xfrm flipH="1">
            <a:off x="4995360" y="1585800"/>
            <a:ext cx="189648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2" name=""/>
          <p:cNvCxnSpPr>
            <a:stCxn id="1179" idx="3"/>
            <a:endCxn id="1184" idx="7"/>
          </p:cNvCxnSpPr>
          <p:nvPr/>
        </p:nvCxnSpPr>
        <p:spPr>
          <a:xfrm flipH="1">
            <a:off x="5452560" y="1585800"/>
            <a:ext cx="189648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93" name=""/>
          <p:cNvSpPr/>
          <p:nvPr/>
        </p:nvSpPr>
        <p:spPr>
          <a:xfrm>
            <a:off x="579132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64832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2920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197" name=""/>
          <p:cNvCxnSpPr>
            <a:stCxn id="1183" idx="4"/>
            <a:endCxn id="1194" idx="0"/>
          </p:cNvCxnSpPr>
          <p:nvPr/>
        </p:nvCxnSpPr>
        <p:spPr>
          <a:xfrm flipH="1">
            <a:off x="4762080" y="2152800"/>
            <a:ext cx="15336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8" name=""/>
          <p:cNvCxnSpPr>
            <a:stCxn id="1183" idx="4"/>
            <a:endCxn id="1195" idx="0"/>
          </p:cNvCxnSpPr>
          <p:nvPr/>
        </p:nvCxnSpPr>
        <p:spPr>
          <a:xfrm>
            <a:off x="4914720" y="2152800"/>
            <a:ext cx="22932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9" name=""/>
          <p:cNvCxnSpPr>
            <a:stCxn id="1184" idx="5"/>
            <a:endCxn id="1193" idx="1"/>
          </p:cNvCxnSpPr>
          <p:nvPr/>
        </p:nvCxnSpPr>
        <p:spPr>
          <a:xfrm>
            <a:off x="5452920" y="2119320"/>
            <a:ext cx="37224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0" name=""/>
          <p:cNvCxnSpPr>
            <a:stCxn id="1184" idx="3"/>
            <a:endCxn id="1194" idx="7"/>
          </p:cNvCxnSpPr>
          <p:nvPr/>
        </p:nvCxnSpPr>
        <p:spPr>
          <a:xfrm flipH="1">
            <a:off x="4843080" y="2119320"/>
            <a:ext cx="44856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1" name=""/>
          <p:cNvCxnSpPr>
            <a:stCxn id="1185" idx="4"/>
            <a:endCxn id="1196" idx="0"/>
          </p:cNvCxnSpPr>
          <p:nvPr/>
        </p:nvCxnSpPr>
        <p:spPr>
          <a:xfrm flipH="1">
            <a:off x="5523840" y="2152800"/>
            <a:ext cx="30564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2" name=""/>
          <p:cNvCxnSpPr>
            <a:stCxn id="1185" idx="4"/>
            <a:endCxn id="1193" idx="0"/>
          </p:cNvCxnSpPr>
          <p:nvPr/>
        </p:nvCxnSpPr>
        <p:spPr>
          <a:xfrm>
            <a:off x="5829120" y="215280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3" name=""/>
          <p:cNvCxnSpPr>
            <a:stCxn id="1184" idx="4"/>
            <a:endCxn id="1195" idx="0"/>
          </p:cNvCxnSpPr>
          <p:nvPr/>
        </p:nvCxnSpPr>
        <p:spPr>
          <a:xfrm flipH="1">
            <a:off x="5142960" y="2152800"/>
            <a:ext cx="22932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4" name=""/>
          <p:cNvCxnSpPr>
            <a:stCxn id="1184" idx="4"/>
            <a:endCxn id="1196" idx="1"/>
          </p:cNvCxnSpPr>
          <p:nvPr/>
        </p:nvCxnSpPr>
        <p:spPr>
          <a:xfrm>
            <a:off x="5372280" y="2152440"/>
            <a:ext cx="7200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05" name=""/>
          <p:cNvSpPr/>
          <p:nvPr/>
        </p:nvSpPr>
        <p:spPr>
          <a:xfrm>
            <a:off x="77724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82296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6868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3434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8862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29000" y="13716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429000" y="19051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343400" y="19051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214" name=""/>
          <p:cNvCxnSpPr>
            <a:stCxn id="1209" idx="4"/>
            <a:endCxn id="1212" idx="0"/>
          </p:cNvCxnSpPr>
          <p:nvPr/>
        </p:nvCxnSpPr>
        <p:spPr>
          <a:xfrm>
            <a:off x="4000320" y="16189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5" name=""/>
          <p:cNvCxnSpPr>
            <a:stCxn id="1210" idx="4"/>
            <a:endCxn id="1211" idx="0"/>
          </p:cNvCxnSpPr>
          <p:nvPr/>
        </p:nvCxnSpPr>
        <p:spPr>
          <a:xfrm>
            <a:off x="3543120" y="16189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08" idx="4"/>
            <a:endCxn id="1213" idx="0"/>
          </p:cNvCxnSpPr>
          <p:nvPr/>
        </p:nvCxnSpPr>
        <p:spPr>
          <a:xfrm>
            <a:off x="4457520" y="161892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7" name=""/>
          <p:cNvSpPr/>
          <p:nvPr/>
        </p:nvSpPr>
        <p:spPr>
          <a:xfrm>
            <a:off x="426708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55308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50532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88620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17220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12408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743200" y="24382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224" name=""/>
          <p:cNvCxnSpPr>
            <a:stCxn id="1212" idx="4"/>
            <a:endCxn id="1220" idx="0"/>
          </p:cNvCxnSpPr>
          <p:nvPr/>
        </p:nvCxnSpPr>
        <p:spPr>
          <a:xfrm>
            <a:off x="4000320" y="2152800"/>
            <a:ext cx="10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stCxn id="1213" idx="4"/>
            <a:endCxn id="1217" idx="0"/>
          </p:cNvCxnSpPr>
          <p:nvPr/>
        </p:nvCxnSpPr>
        <p:spPr>
          <a:xfrm flipH="1">
            <a:off x="4381560" y="215280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stCxn id="1211" idx="4"/>
            <a:endCxn id="1219" idx="0"/>
          </p:cNvCxnSpPr>
          <p:nvPr/>
        </p:nvCxnSpPr>
        <p:spPr>
          <a:xfrm>
            <a:off x="3543120" y="2152800"/>
            <a:ext cx="7668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7" name=""/>
          <p:cNvCxnSpPr>
            <a:stCxn id="1211" idx="4"/>
            <a:endCxn id="1223" idx="7"/>
          </p:cNvCxnSpPr>
          <p:nvPr/>
        </p:nvCxnSpPr>
        <p:spPr>
          <a:xfrm flipH="1">
            <a:off x="2937600" y="2152440"/>
            <a:ext cx="60588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8" name=""/>
          <p:cNvCxnSpPr>
            <a:stCxn id="1211" idx="4"/>
            <a:endCxn id="1194" idx="1"/>
          </p:cNvCxnSpPr>
          <p:nvPr/>
        </p:nvCxnSpPr>
        <p:spPr>
          <a:xfrm>
            <a:off x="3543120" y="2152440"/>
            <a:ext cx="113868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9" name=""/>
          <p:cNvCxnSpPr>
            <a:stCxn id="1211" idx="4"/>
            <a:endCxn id="1222" idx="7"/>
          </p:cNvCxnSpPr>
          <p:nvPr/>
        </p:nvCxnSpPr>
        <p:spPr>
          <a:xfrm flipH="1">
            <a:off x="3319200" y="2152440"/>
            <a:ext cx="22464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0" name=""/>
          <p:cNvCxnSpPr>
            <a:stCxn id="1213" idx="4"/>
            <a:endCxn id="1194" idx="1"/>
          </p:cNvCxnSpPr>
          <p:nvPr/>
        </p:nvCxnSpPr>
        <p:spPr>
          <a:xfrm>
            <a:off x="4457520" y="2152440"/>
            <a:ext cx="22428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1" name=""/>
          <p:cNvCxnSpPr>
            <a:stCxn id="1185" idx="5"/>
            <a:endCxn id="1218" idx="0"/>
          </p:cNvCxnSpPr>
          <p:nvPr/>
        </p:nvCxnSpPr>
        <p:spPr>
          <a:xfrm>
            <a:off x="5910120" y="2118960"/>
            <a:ext cx="75816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2" name=""/>
          <p:cNvCxnSpPr>
            <a:stCxn id="1183" idx="4"/>
            <a:endCxn id="1222" idx="0"/>
          </p:cNvCxnSpPr>
          <p:nvPr/>
        </p:nvCxnSpPr>
        <p:spPr>
          <a:xfrm flipH="1">
            <a:off x="3237840" y="2152800"/>
            <a:ext cx="167724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3" name=""/>
          <p:cNvCxnSpPr>
            <a:stCxn id="1213" idx="4"/>
            <a:endCxn id="1219" idx="7"/>
          </p:cNvCxnSpPr>
          <p:nvPr/>
        </p:nvCxnSpPr>
        <p:spPr>
          <a:xfrm flipH="1">
            <a:off x="3700080" y="2152440"/>
            <a:ext cx="75816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4" name=""/>
          <p:cNvCxnSpPr>
            <a:stCxn id="1185" idx="5"/>
            <a:endCxn id="1221" idx="1"/>
          </p:cNvCxnSpPr>
          <p:nvPr/>
        </p:nvCxnSpPr>
        <p:spPr>
          <a:xfrm>
            <a:off x="5909760" y="2119320"/>
            <a:ext cx="29628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5" name=""/>
          <p:cNvCxnSpPr>
            <a:stCxn id="1207" idx="3"/>
            <a:endCxn id="1185" idx="6"/>
          </p:cNvCxnSpPr>
          <p:nvPr/>
        </p:nvCxnSpPr>
        <p:spPr>
          <a:xfrm flipH="1">
            <a:off x="5962320" y="1585800"/>
            <a:ext cx="2758320" cy="434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6" name=""/>
          <p:cNvCxnSpPr>
            <a:stCxn id="1206" idx="3"/>
            <a:endCxn id="1213" idx="0"/>
          </p:cNvCxnSpPr>
          <p:nvPr/>
        </p:nvCxnSpPr>
        <p:spPr>
          <a:xfrm flipH="1">
            <a:off x="4457520" y="1585800"/>
            <a:ext cx="3805920" cy="300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7" name=""/>
          <p:cNvSpPr/>
          <p:nvPr/>
        </p:nvSpPr>
        <p:spPr>
          <a:xfrm>
            <a:off x="64008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8580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3152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8006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7150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243" name=""/>
          <p:cNvCxnSpPr>
            <a:stCxn id="1237" idx="3"/>
            <a:endCxn id="1244" idx="7"/>
          </p:cNvCxnSpPr>
          <p:nvPr/>
        </p:nvCxnSpPr>
        <p:spPr>
          <a:xfrm flipH="1">
            <a:off x="2937600" y="5319720"/>
            <a:ext cx="3496680" cy="867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5" name=""/>
          <p:cNvCxnSpPr>
            <a:stCxn id="1237" idx="3"/>
            <a:endCxn id="1246" idx="7"/>
          </p:cNvCxnSpPr>
          <p:nvPr/>
        </p:nvCxnSpPr>
        <p:spPr>
          <a:xfrm flipH="1">
            <a:off x="4080960" y="5319720"/>
            <a:ext cx="2353680" cy="867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7" name=""/>
          <p:cNvCxnSpPr>
            <a:stCxn id="1238" idx="3"/>
            <a:endCxn id="1248" idx="0"/>
          </p:cNvCxnSpPr>
          <p:nvPr/>
        </p:nvCxnSpPr>
        <p:spPr>
          <a:xfrm flipH="1">
            <a:off x="5142960" y="5319360"/>
            <a:ext cx="174852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9" name=""/>
          <p:cNvCxnSpPr>
            <a:stCxn id="1239" idx="3"/>
            <a:endCxn id="1250" idx="0"/>
          </p:cNvCxnSpPr>
          <p:nvPr/>
        </p:nvCxnSpPr>
        <p:spPr>
          <a:xfrm flipH="1">
            <a:off x="5904720" y="5319360"/>
            <a:ext cx="144396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50" name=""/>
          <p:cNvSpPr/>
          <p:nvPr/>
        </p:nvSpPr>
        <p:spPr>
          <a:xfrm>
            <a:off x="579132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64832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02920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008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253" name=""/>
          <p:cNvCxnSpPr>
            <a:stCxn id="1240" idx="4"/>
            <a:endCxn id="1251" idx="0"/>
          </p:cNvCxnSpPr>
          <p:nvPr/>
        </p:nvCxnSpPr>
        <p:spPr>
          <a:xfrm flipH="1">
            <a:off x="4762080" y="5353200"/>
            <a:ext cx="15336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4" name=""/>
          <p:cNvCxnSpPr>
            <a:stCxn id="1240" idx="4"/>
            <a:endCxn id="1248" idx="0"/>
          </p:cNvCxnSpPr>
          <p:nvPr/>
        </p:nvCxnSpPr>
        <p:spPr>
          <a:xfrm>
            <a:off x="4914720" y="5353200"/>
            <a:ext cx="22932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5" name=""/>
          <p:cNvCxnSpPr>
            <a:stCxn id="1241" idx="5"/>
            <a:endCxn id="1250" idx="1"/>
          </p:cNvCxnSpPr>
          <p:nvPr/>
        </p:nvCxnSpPr>
        <p:spPr>
          <a:xfrm>
            <a:off x="5452920" y="5319720"/>
            <a:ext cx="372240" cy="867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6" name=""/>
          <p:cNvCxnSpPr>
            <a:stCxn id="1241" idx="3"/>
            <a:endCxn id="1251" idx="7"/>
          </p:cNvCxnSpPr>
          <p:nvPr/>
        </p:nvCxnSpPr>
        <p:spPr>
          <a:xfrm flipH="1">
            <a:off x="4843080" y="5319720"/>
            <a:ext cx="448560" cy="867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7" name=""/>
          <p:cNvCxnSpPr>
            <a:stCxn id="1242" idx="4"/>
            <a:endCxn id="1252" idx="0"/>
          </p:cNvCxnSpPr>
          <p:nvPr/>
        </p:nvCxnSpPr>
        <p:spPr>
          <a:xfrm flipH="1">
            <a:off x="5523840" y="5353200"/>
            <a:ext cx="30564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8" name=""/>
          <p:cNvCxnSpPr>
            <a:stCxn id="1242" idx="4"/>
            <a:endCxn id="1250" idx="0"/>
          </p:cNvCxnSpPr>
          <p:nvPr/>
        </p:nvCxnSpPr>
        <p:spPr>
          <a:xfrm>
            <a:off x="5829120" y="5353200"/>
            <a:ext cx="7668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9" name=""/>
          <p:cNvCxnSpPr>
            <a:stCxn id="1241" idx="4"/>
            <a:endCxn id="1248" idx="0"/>
          </p:cNvCxnSpPr>
          <p:nvPr/>
        </p:nvCxnSpPr>
        <p:spPr>
          <a:xfrm flipH="1">
            <a:off x="5142960" y="5353200"/>
            <a:ext cx="22932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60" name=""/>
          <p:cNvCxnSpPr>
            <a:stCxn id="1241" idx="4"/>
            <a:endCxn id="1252" idx="1"/>
          </p:cNvCxnSpPr>
          <p:nvPr/>
        </p:nvCxnSpPr>
        <p:spPr>
          <a:xfrm>
            <a:off x="5372280" y="5352840"/>
            <a:ext cx="7200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61" name=""/>
          <p:cNvSpPr/>
          <p:nvPr/>
        </p:nvSpPr>
        <p:spPr>
          <a:xfrm>
            <a:off x="77724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2296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6868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4290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8862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343400" y="51055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26708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55308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50532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88620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17220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12408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743200" y="617220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272" name=""/>
          <p:cNvCxnSpPr>
            <a:stCxn id="1265" idx="4"/>
            <a:endCxn id="1246" idx="0"/>
          </p:cNvCxnSpPr>
          <p:nvPr/>
        </p:nvCxnSpPr>
        <p:spPr>
          <a:xfrm>
            <a:off x="4000320" y="5353200"/>
            <a:ext cx="108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3" name=""/>
          <p:cNvCxnSpPr>
            <a:stCxn id="1266" idx="4"/>
            <a:endCxn id="1267" idx="0"/>
          </p:cNvCxnSpPr>
          <p:nvPr/>
        </p:nvCxnSpPr>
        <p:spPr>
          <a:xfrm flipH="1">
            <a:off x="4381560" y="5353200"/>
            <a:ext cx="7668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stCxn id="1264" idx="4"/>
            <a:endCxn id="1269" idx="0"/>
          </p:cNvCxnSpPr>
          <p:nvPr/>
        </p:nvCxnSpPr>
        <p:spPr>
          <a:xfrm>
            <a:off x="3543120" y="5353200"/>
            <a:ext cx="7668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5" name=""/>
          <p:cNvCxnSpPr>
            <a:stCxn id="1264" idx="4"/>
            <a:endCxn id="1244" idx="7"/>
          </p:cNvCxnSpPr>
          <p:nvPr/>
        </p:nvCxnSpPr>
        <p:spPr>
          <a:xfrm flipH="1">
            <a:off x="2937600" y="5352840"/>
            <a:ext cx="60588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6" name=""/>
          <p:cNvCxnSpPr>
            <a:stCxn id="1264" idx="4"/>
            <a:endCxn id="1251" idx="1"/>
          </p:cNvCxnSpPr>
          <p:nvPr/>
        </p:nvCxnSpPr>
        <p:spPr>
          <a:xfrm>
            <a:off x="3543120" y="5352840"/>
            <a:ext cx="113868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7" name=""/>
          <p:cNvCxnSpPr>
            <a:stCxn id="1264" idx="4"/>
            <a:endCxn id="1271" idx="7"/>
          </p:cNvCxnSpPr>
          <p:nvPr/>
        </p:nvCxnSpPr>
        <p:spPr>
          <a:xfrm flipH="1">
            <a:off x="3319200" y="5352840"/>
            <a:ext cx="22464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8" name=""/>
          <p:cNvCxnSpPr>
            <a:stCxn id="1266" idx="4"/>
            <a:endCxn id="1251" idx="1"/>
          </p:cNvCxnSpPr>
          <p:nvPr/>
        </p:nvCxnSpPr>
        <p:spPr>
          <a:xfrm>
            <a:off x="4457520" y="5352840"/>
            <a:ext cx="22428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9" name=""/>
          <p:cNvCxnSpPr>
            <a:stCxn id="1242" idx="5"/>
            <a:endCxn id="1268" idx="0"/>
          </p:cNvCxnSpPr>
          <p:nvPr/>
        </p:nvCxnSpPr>
        <p:spPr>
          <a:xfrm>
            <a:off x="5910120" y="5319360"/>
            <a:ext cx="75816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0" name=""/>
          <p:cNvCxnSpPr>
            <a:stCxn id="1240" idx="4"/>
            <a:endCxn id="1271" idx="0"/>
          </p:cNvCxnSpPr>
          <p:nvPr/>
        </p:nvCxnSpPr>
        <p:spPr>
          <a:xfrm flipH="1">
            <a:off x="3237840" y="5353200"/>
            <a:ext cx="167724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1" name=""/>
          <p:cNvCxnSpPr>
            <a:stCxn id="1266" idx="4"/>
            <a:endCxn id="1269" idx="7"/>
          </p:cNvCxnSpPr>
          <p:nvPr/>
        </p:nvCxnSpPr>
        <p:spPr>
          <a:xfrm flipH="1">
            <a:off x="3700080" y="5352840"/>
            <a:ext cx="75816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2" name=""/>
          <p:cNvCxnSpPr>
            <a:stCxn id="1242" idx="5"/>
            <a:endCxn id="1270" idx="1"/>
          </p:cNvCxnSpPr>
          <p:nvPr/>
        </p:nvCxnSpPr>
        <p:spPr>
          <a:xfrm>
            <a:off x="5909760" y="5319720"/>
            <a:ext cx="296280" cy="867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3" name=""/>
          <p:cNvCxnSpPr>
            <a:stCxn id="1263" idx="3"/>
            <a:endCxn id="1268" idx="0"/>
          </p:cNvCxnSpPr>
          <p:nvPr/>
        </p:nvCxnSpPr>
        <p:spPr>
          <a:xfrm flipH="1">
            <a:off x="6667560" y="5319360"/>
            <a:ext cx="205308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4" name=""/>
          <p:cNvCxnSpPr>
            <a:stCxn id="1262" idx="3"/>
            <a:endCxn id="1267" idx="0"/>
          </p:cNvCxnSpPr>
          <p:nvPr/>
        </p:nvCxnSpPr>
        <p:spPr>
          <a:xfrm flipH="1">
            <a:off x="4381200" y="5319360"/>
            <a:ext cx="3882240" cy="8341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25780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71500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79132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64832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02920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41008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292" name=""/>
          <p:cNvCxnSpPr>
            <a:stCxn id="1285" idx="4"/>
            <a:endCxn id="1289" idx="0"/>
          </p:cNvCxnSpPr>
          <p:nvPr/>
        </p:nvCxnSpPr>
        <p:spPr>
          <a:xfrm flipH="1">
            <a:off x="4762080" y="3524400"/>
            <a:ext cx="153360" cy="72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3" name=""/>
          <p:cNvCxnSpPr>
            <a:stCxn id="1285" idx="4"/>
            <a:endCxn id="1290" idx="0"/>
          </p:cNvCxnSpPr>
          <p:nvPr/>
        </p:nvCxnSpPr>
        <p:spPr>
          <a:xfrm>
            <a:off x="4914720" y="3524400"/>
            <a:ext cx="229320" cy="72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4" name=""/>
          <p:cNvCxnSpPr>
            <a:stCxn id="1286" idx="5"/>
            <a:endCxn id="1288" idx="1"/>
          </p:cNvCxnSpPr>
          <p:nvPr/>
        </p:nvCxnSpPr>
        <p:spPr>
          <a:xfrm>
            <a:off x="5452920" y="3490920"/>
            <a:ext cx="372240" cy="791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5" name=""/>
          <p:cNvCxnSpPr>
            <a:stCxn id="1286" idx="3"/>
            <a:endCxn id="1289" idx="7"/>
          </p:cNvCxnSpPr>
          <p:nvPr/>
        </p:nvCxnSpPr>
        <p:spPr>
          <a:xfrm flipH="1">
            <a:off x="4843080" y="3490920"/>
            <a:ext cx="448560" cy="791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6" name=""/>
          <p:cNvCxnSpPr>
            <a:stCxn id="1287" idx="4"/>
            <a:endCxn id="1291" idx="0"/>
          </p:cNvCxnSpPr>
          <p:nvPr/>
        </p:nvCxnSpPr>
        <p:spPr>
          <a:xfrm flipH="1">
            <a:off x="5523840" y="3524400"/>
            <a:ext cx="305640" cy="72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7" name=""/>
          <p:cNvCxnSpPr>
            <a:stCxn id="1287" idx="4"/>
            <a:endCxn id="1288" idx="0"/>
          </p:cNvCxnSpPr>
          <p:nvPr/>
        </p:nvCxnSpPr>
        <p:spPr>
          <a:xfrm>
            <a:off x="5829120" y="3524400"/>
            <a:ext cx="76680" cy="72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8" name=""/>
          <p:cNvCxnSpPr>
            <a:stCxn id="1286" idx="4"/>
            <a:endCxn id="1290" idx="0"/>
          </p:cNvCxnSpPr>
          <p:nvPr/>
        </p:nvCxnSpPr>
        <p:spPr>
          <a:xfrm flipH="1">
            <a:off x="5142960" y="3524400"/>
            <a:ext cx="229320" cy="72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9" name=""/>
          <p:cNvCxnSpPr>
            <a:stCxn id="1286" idx="4"/>
            <a:endCxn id="1291" idx="1"/>
          </p:cNvCxnSpPr>
          <p:nvPr/>
        </p:nvCxnSpPr>
        <p:spPr>
          <a:xfrm>
            <a:off x="5372280" y="3524040"/>
            <a:ext cx="72000" cy="757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0" name=""/>
          <p:cNvSpPr/>
          <p:nvPr/>
        </p:nvSpPr>
        <p:spPr>
          <a:xfrm>
            <a:off x="342900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88620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343400" y="327672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55308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50532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8620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17220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12408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743200" y="4267080"/>
            <a:ext cx="228600" cy="22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310" name=""/>
          <p:cNvCxnSpPr>
            <a:stCxn id="1301" idx="4"/>
            <a:endCxn id="1306" idx="0"/>
          </p:cNvCxnSpPr>
          <p:nvPr/>
        </p:nvCxnSpPr>
        <p:spPr>
          <a:xfrm>
            <a:off x="4000320" y="3524400"/>
            <a:ext cx="1080" cy="72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1" name=""/>
          <p:cNvCxnSpPr>
            <a:stCxn id="1302" idx="4"/>
            <a:endCxn id="1303" idx="0"/>
          </p:cNvCxnSpPr>
          <p:nvPr/>
        </p:nvCxnSpPr>
        <p:spPr>
          <a:xfrm flipH="1">
            <a:off x="4381560" y="3524400"/>
            <a:ext cx="76680" cy="72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2" name=""/>
          <p:cNvCxnSpPr>
            <a:stCxn id="1300" idx="4"/>
            <a:endCxn id="1305" idx="0"/>
          </p:cNvCxnSpPr>
          <p:nvPr/>
        </p:nvCxnSpPr>
        <p:spPr>
          <a:xfrm>
            <a:off x="3543120" y="3524400"/>
            <a:ext cx="76680" cy="72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3" name=""/>
          <p:cNvCxnSpPr>
            <a:stCxn id="1300" idx="4"/>
            <a:endCxn id="1309" idx="7"/>
          </p:cNvCxnSpPr>
          <p:nvPr/>
        </p:nvCxnSpPr>
        <p:spPr>
          <a:xfrm flipH="1">
            <a:off x="2937600" y="3524040"/>
            <a:ext cx="605880" cy="757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4" name=""/>
          <p:cNvCxnSpPr>
            <a:stCxn id="1300" idx="4"/>
            <a:endCxn id="1289" idx="1"/>
          </p:cNvCxnSpPr>
          <p:nvPr/>
        </p:nvCxnSpPr>
        <p:spPr>
          <a:xfrm>
            <a:off x="3543120" y="3524040"/>
            <a:ext cx="1138680" cy="757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5" name=""/>
          <p:cNvCxnSpPr>
            <a:stCxn id="1300" idx="4"/>
            <a:endCxn id="1308" idx="7"/>
          </p:cNvCxnSpPr>
          <p:nvPr/>
        </p:nvCxnSpPr>
        <p:spPr>
          <a:xfrm flipH="1">
            <a:off x="3319200" y="3524040"/>
            <a:ext cx="224640" cy="757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6" name=""/>
          <p:cNvCxnSpPr>
            <a:stCxn id="1302" idx="4"/>
            <a:endCxn id="1289" idx="1"/>
          </p:cNvCxnSpPr>
          <p:nvPr/>
        </p:nvCxnSpPr>
        <p:spPr>
          <a:xfrm>
            <a:off x="4457520" y="3524040"/>
            <a:ext cx="224280" cy="757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7" name=""/>
          <p:cNvCxnSpPr>
            <a:stCxn id="1287" idx="5"/>
            <a:endCxn id="1304" idx="0"/>
          </p:cNvCxnSpPr>
          <p:nvPr/>
        </p:nvCxnSpPr>
        <p:spPr>
          <a:xfrm>
            <a:off x="5910120" y="3490560"/>
            <a:ext cx="758160" cy="757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8" name=""/>
          <p:cNvCxnSpPr>
            <a:stCxn id="1285" idx="4"/>
            <a:endCxn id="1308" idx="0"/>
          </p:cNvCxnSpPr>
          <p:nvPr/>
        </p:nvCxnSpPr>
        <p:spPr>
          <a:xfrm flipH="1">
            <a:off x="3237840" y="3524400"/>
            <a:ext cx="1677240" cy="724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9" name=""/>
          <p:cNvCxnSpPr>
            <a:stCxn id="1302" idx="4"/>
            <a:endCxn id="1305" idx="7"/>
          </p:cNvCxnSpPr>
          <p:nvPr/>
        </p:nvCxnSpPr>
        <p:spPr>
          <a:xfrm flipH="1">
            <a:off x="3700080" y="3524040"/>
            <a:ext cx="758160" cy="757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0" name=""/>
          <p:cNvCxnSpPr>
            <a:stCxn id="1287" idx="5"/>
            <a:endCxn id="1307" idx="1"/>
          </p:cNvCxnSpPr>
          <p:nvPr/>
        </p:nvCxnSpPr>
        <p:spPr>
          <a:xfrm>
            <a:off x="5909760" y="3490920"/>
            <a:ext cx="296280" cy="7912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1" name=""/>
          <p:cNvSpPr/>
          <p:nvPr/>
        </p:nvSpPr>
        <p:spPr>
          <a:xfrm>
            <a:off x="227520" y="3227400"/>
            <a:ext cx="260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line #1: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hidden nodes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cellular conditions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8600" y="502920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line #2: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hidden nodes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ular conditions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04200" y="18288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model: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Evaluation:  Three Measurements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282888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 flipV="1">
            <a:off x="2514600" y="327636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2514600" y="2514240"/>
            <a:ext cx="0" cy="76212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rot="16200000">
            <a:off x="-45720" y="2256120"/>
            <a:ext cx="113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80880" y="464832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ctual expression measurement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914760" y="327672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143000" y="36576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609480" y="1600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181480" y="2133720"/>
            <a:ext cx="358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499"/>
              </a:spcBef>
              <a:buClr>
                <a:srgbClr val="af98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Classification err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How often do we predict expression states correctly?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 marL="542160" indent="-542160">
              <a:spcBef>
                <a:spcPts val="499"/>
              </a:spcBef>
              <a:buClr>
                <a:srgbClr val="af98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Average squared err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How close are the predicted expression states to the actual expression?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 marL="542160" indent="-542160">
              <a:spcBef>
                <a:spcPts val="499"/>
              </a:spcBef>
              <a:buClr>
                <a:srgbClr val="af98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Likelih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What is the likelihood of the regulatee expression data, given the model?</a:t>
            </a: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  <a:p>
            <a:pPr marL="542160" indent="-5421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124080" y="48006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Predicted expression state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335" name=""/>
          <p:cNvCxnSpPr>
            <a:stCxn id="1336" idx="1"/>
            <a:endCxn id="1334" idx="0"/>
          </p:cNvCxnSpPr>
          <p:nvPr/>
        </p:nvCxnSpPr>
        <p:spPr>
          <a:xfrm flipH="1" rot="16200000">
            <a:off x="3143160" y="3980880"/>
            <a:ext cx="686520" cy="953280"/>
          </a:xfrm>
          <a:prstGeom prst="bentConnector3">
            <a:avLst>
              <a:gd name="adj1" fmla="val 50000"/>
            </a:avLst>
          </a:prstGeom>
          <a:ln w="9360">
            <a:solidFill>
              <a:srgbClr val="ff8000"/>
            </a:solidFill>
            <a:miter/>
          </a:ln>
        </p:spPr>
      </p:cxnSp>
      <p:sp>
        <p:nvSpPr>
          <p:cNvPr id="1336" name=""/>
          <p:cNvSpPr/>
          <p:nvPr/>
        </p:nvSpPr>
        <p:spPr>
          <a:xfrm rot="5400000">
            <a:off x="2819520" y="3200400"/>
            <a:ext cx="380880" cy="1447920"/>
          </a:xfrm>
          <a:custGeom>
            <a:avLst/>
            <a:gdLst>
              <a:gd name="textAreaLeft" fmla="*/ 0 w 380880"/>
              <a:gd name="textAreaRight" fmla="*/ 137520 w 380880"/>
              <a:gd name="textAreaTop" fmla="*/ 113040 h 1447920"/>
              <a:gd name="textAreaBottom" fmla="*/ 1334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337" name=""/>
          <p:cNvCxnSpPr>
            <a:stCxn id="1326" idx="0"/>
            <a:endCxn id="1329" idx="0"/>
          </p:cNvCxnSpPr>
          <p:nvPr/>
        </p:nvCxnSpPr>
        <p:spPr>
          <a:xfrm rot="5400000">
            <a:off x="1599480" y="3733560"/>
            <a:ext cx="762840" cy="106740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9881"/>
                </a:solidFill>
                <a:latin typeface="Arial"/>
              </a:rPr>
              <a:t>Experimental Data and Procedure</a:t>
            </a:r>
            <a:endParaRPr b="0" lang="en-US" sz="40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ion measurements from Affymetrix microarrays (the Blattner la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binding site predictions from TRANSFAC, EcoCyc, cross-species comparison                             (McCue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t. al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al data consis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0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 Cellular condition variables (between two and seven valu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96 regulat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4 reg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fold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arrays held aside for te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s from test microarrays do not appear in training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Effect of Model Structure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010280" y="372276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2,066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334120" y="372276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9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657600" y="372276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.59%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57200" y="372276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ll Model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Using hidden nodes and cellular conditions)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010280" y="3079800"/>
            <a:ext cx="1676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2,193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334120" y="3079800"/>
            <a:ext cx="1676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1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657600" y="3079800"/>
            <a:ext cx="1676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42%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" y="3079800"/>
            <a:ext cx="3200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line #2 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hidden nodes, using cellular conditions)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010280" y="24382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3,363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334120" y="243828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657600" y="24382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.16%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57200" y="243828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line #1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hidden nodes, no cellular conditions)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010280" y="137160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Likelihood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(log scale)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334120" y="1371600"/>
            <a:ext cx="1676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Average Squared Err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657600" y="137160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Classification 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7200" y="1371600"/>
            <a:ext cx="3200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57200" y="243828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57200" y="307980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57200" y="372276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010280" y="4386240"/>
            <a:ext cx="1676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2,004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334120" y="4386240"/>
            <a:ext cx="1676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1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657600" y="4386240"/>
            <a:ext cx="1676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34%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57200" y="4386240"/>
            <a:ext cx="3200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rning Structur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 iterations of adding missing TFs)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57200" y="436392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57200" y="502920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regulatory </a:t>
            </a:r>
            <a:r>
              <a:rPr b="0" lang="en-US" sz="3200" spc="-1" strike="noStrike">
                <a:solidFill>
                  <a:srgbClr val="af9881"/>
                </a:solidFill>
                <a:latin typeface="Arial"/>
              </a:rPr>
              <a:t>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ole of each regulat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nditions influence their behavi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mbinations of regulatory mechanisms control expression of certain gen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 new regulatory path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 cellular responses to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Effect of Initialization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010280" y="3200400"/>
            <a:ext cx="167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1,893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334120" y="3200400"/>
            <a:ext cx="1676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4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657600" y="3200400"/>
            <a:ext cx="167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19%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200" y="3200400"/>
            <a:ext cx="3200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 iterations of adding missing TFs)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010280" y="2438280"/>
            <a:ext cx="167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2,004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334120" y="2514600"/>
            <a:ext cx="1676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1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657600" y="2463840"/>
            <a:ext cx="167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34%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463840"/>
            <a:ext cx="3200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Sequence Analysis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 iterations of adding missing TFs)</a:t>
            </a:r>
            <a:endParaRPr b="0" lang="en-US" sz="12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7010280" y="1371600"/>
            <a:ext cx="1676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Likelihood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(log scale)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334120" y="1371600"/>
            <a:ext cx="16761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Average Squared Err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657600" y="1371600"/>
            <a:ext cx="1676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Classification 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57200" y="1371600"/>
            <a:ext cx="32004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f9881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57200" y="241776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57200" y="312408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12600">
            <a:solidFill>
              <a:srgbClr val="eae4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steps toward a </a:t>
            </a:r>
            <a:r>
              <a:rPr b="0" lang="en-US" sz="2800" spc="-1" strike="noStrike">
                <a:solidFill>
                  <a:srgbClr val="af9881"/>
                </a:solidFill>
                <a:latin typeface="Arial"/>
              </a:rPr>
              <a:t>mechanist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del of reg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plicit representation of states </a:t>
            </a:r>
            <a:r>
              <a:rPr b="0" lang="en-US" sz="2800" spc="-1" strike="noStrike">
                <a:solidFill>
                  <a:srgbClr val="af9881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gulator behavior over a </a:t>
            </a:r>
            <a:r>
              <a:rPr b="0" lang="en-US" sz="2800" spc="-1" strike="noStrike">
                <a:solidFill>
                  <a:srgbClr val="af9881"/>
                </a:solidFill>
                <a:latin typeface="Arial"/>
              </a:rPr>
              <a:t>set of regulat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erms of expression, cellular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or knowledge of regulator roles helps to create a more correct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 is comparable to baselines, and improving with the first steps toward structur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er network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 of regu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Bayesian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types of regulators                     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ory R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 sequenc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 regulatory networks with metabolic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LM training grant to the Computation and Informatics in Biology and Medicine training program                                                         (NLM 5T15LM00535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d Blattner and Yu Qiu for expression data and annota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Cu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t. al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Wadsworth center for phylogenetic footprin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0" y="6049800"/>
            <a:ext cx="91440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temink, Gifford, Jaakkola, Young: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ing Graphical Models and Genomic Expression Data to Statistically Validate Models of Genetic Regulatory Netwo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ceedings of the Fifth Pacific Symposium on Biocomputing, 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’er, Regev, Elidan, Friedman: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ferring subnetworks from peturbed expression profi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Bioinformatics 17, 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ckhorst, Qiu, Glasner, Liu, Blattner, Craven: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edicting Bacterial Transcription Units Using Sequence and Expression Da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Bioinformatics 19,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Bayesian Network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13" idx="4"/>
            <a:endCxn id="114" idx="0"/>
          </p:cNvCxnSpPr>
          <p:nvPr/>
        </p:nvCxnSpPr>
        <p:spPr>
          <a:xfrm>
            <a:off x="6248160" y="2610000"/>
            <a:ext cx="1080" cy="876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4" idx="5"/>
            <a:endCxn id="116" idx="1"/>
          </p:cNvCxnSpPr>
          <p:nvPr/>
        </p:nvCxnSpPr>
        <p:spPr>
          <a:xfrm>
            <a:off x="6572160" y="4239720"/>
            <a:ext cx="1029600" cy="816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8" idx="3"/>
            <a:endCxn id="114" idx="7"/>
          </p:cNvCxnSpPr>
          <p:nvPr/>
        </p:nvCxnSpPr>
        <p:spPr>
          <a:xfrm flipH="1">
            <a:off x="6571800" y="2487240"/>
            <a:ext cx="1029600" cy="11214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7467480" y="1752480"/>
            <a:ext cx="914400" cy="838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2e3d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1752480"/>
            <a:ext cx="914400" cy="838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2e3d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3505320"/>
            <a:ext cx="91440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2e3d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952880"/>
            <a:ext cx="914400" cy="838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2e3d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ed acyclic graph (DA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des are </a:t>
            </a:r>
            <a:r>
              <a:rPr b="0" lang="en-US" sz="3200" spc="-1" strike="noStrike">
                <a:solidFill>
                  <a:srgbClr val="af9881"/>
                </a:solidFill>
                <a:latin typeface="Arial"/>
              </a:rPr>
              <a:t>random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es indicate </a:t>
            </a:r>
            <a:r>
              <a:rPr b="0" lang="en-US" sz="3200" spc="-1" strike="noStrike">
                <a:solidFill>
                  <a:srgbClr val="af9881"/>
                </a:solidFill>
                <a:latin typeface="Arial"/>
              </a:rPr>
              <a:t>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ode has a </a:t>
            </a:r>
            <a:r>
              <a:rPr b="0" lang="en-US" sz="3200" spc="-1" strike="noStrike">
                <a:solidFill>
                  <a:srgbClr val="af9881"/>
                </a:solidFill>
                <a:latin typeface="Arial"/>
              </a:rPr>
              <a:t>conditional probability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8" idx="4"/>
            <a:endCxn id="116" idx="0"/>
          </p:cNvCxnSpPr>
          <p:nvPr/>
        </p:nvCxnSpPr>
        <p:spPr>
          <a:xfrm>
            <a:off x="7924320" y="2609640"/>
            <a:ext cx="1080" cy="2324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21" name=""/>
          <p:cNvGrpSpPr/>
          <p:nvPr/>
        </p:nvGrpSpPr>
        <p:grpSpPr>
          <a:xfrm>
            <a:off x="5181480" y="5638680"/>
            <a:ext cx="1523880" cy="609480"/>
            <a:chOff x="5181480" y="5638680"/>
            <a:chExt cx="1523880" cy="609480"/>
          </a:xfrm>
        </p:grpSpPr>
        <p:sp>
          <p:nvSpPr>
            <p:cNvPr id="122" name=""/>
            <p:cNvSpPr/>
            <p:nvPr/>
          </p:nvSpPr>
          <p:spPr>
            <a:xfrm>
              <a:off x="5181480" y="5638680"/>
              <a:ext cx="1523880" cy="609480"/>
            </a:xfrm>
            <a:prstGeom prst="rect">
              <a:avLst/>
            </a:prstGeom>
            <a:gradFill rotWithShape="0">
              <a:gsLst>
                <a:gs pos="0">
                  <a:srgbClr val="334c65"/>
                </a:gs>
                <a:gs pos="100000">
                  <a:srgbClr val="ffffff">
                    <a:alpha val="25098"/>
                  </a:srgbClr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,c       P(D)   </a:t>
              </a:r>
              <a:endParaRPr b="0" lang="en-US" sz="16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280" y="59436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cxnSp>
        <p:nvCxnSpPr>
          <p:cNvPr id="124" name=""/>
          <p:cNvCxnSpPr>
            <a:stCxn id="122" idx="3"/>
            <a:endCxn id="116" idx="2"/>
          </p:cNvCxnSpPr>
          <p:nvPr/>
        </p:nvCxnSpPr>
        <p:spPr>
          <a:xfrm flipV="1">
            <a:off x="6705360" y="5371560"/>
            <a:ext cx="743400" cy="572040"/>
          </a:xfrm>
          <a:prstGeom prst="bentConnector3">
            <a:avLst>
              <a:gd name="adj1" fmla="val 51259"/>
            </a:avLst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  <p:sp>
        <p:nvSpPr>
          <p:cNvPr id="125" name=""/>
          <p:cNvSpPr/>
          <p:nvPr/>
        </p:nvSpPr>
        <p:spPr>
          <a:xfrm>
            <a:off x="8077320" y="838080"/>
            <a:ext cx="838080" cy="609840"/>
          </a:xfrm>
          <a:prstGeom prst="rect">
            <a:avLst/>
          </a:prstGeom>
          <a:gradFill rotWithShape="0">
            <a:gsLst>
              <a:gs pos="0">
                <a:srgbClr val="334c65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(B)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8" idx="6"/>
            <a:endCxn id="125" idx="2"/>
          </p:cNvCxnSpPr>
          <p:nvPr/>
        </p:nvCxnSpPr>
        <p:spPr>
          <a:xfrm flipV="1">
            <a:off x="8400600" y="1447200"/>
            <a:ext cx="96120" cy="724680"/>
          </a:xfrm>
          <a:prstGeom prst="bentConnector2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Example Regulatory Network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037040" cy="2752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0880" y="4876920"/>
            <a:ext cx="82296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ae4de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4de"/>
                </a:solidFill>
                <a:latin typeface="Arial"/>
              </a:rPr>
              <a:t>Iron homeostasis subnetwork (Pe’er, </a:t>
            </a:r>
            <a:r>
              <a:rPr b="0" i="1" lang="en-US" sz="2400" spc="-1" strike="noStrike">
                <a:solidFill>
                  <a:srgbClr val="eae4de"/>
                </a:solidFill>
                <a:latin typeface="Arial"/>
              </a:rPr>
              <a:t>et. al</a:t>
            </a:r>
            <a:r>
              <a:rPr b="0" lang="en-US" sz="2400" spc="-1" strike="noStrike">
                <a:solidFill>
                  <a:srgbClr val="eae4de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ae4de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4de"/>
                </a:solidFill>
                <a:latin typeface="Arial"/>
              </a:rPr>
              <a:t>A portion of the galactose system in yeast    (Hartemink, </a:t>
            </a:r>
            <a:r>
              <a:rPr b="0" i="1" lang="en-US" sz="2400" spc="-1" strike="noStrike">
                <a:solidFill>
                  <a:srgbClr val="eae4de"/>
                </a:solidFill>
                <a:latin typeface="Arial"/>
              </a:rPr>
              <a:t>et. al.</a:t>
            </a:r>
            <a:r>
              <a:rPr b="0" lang="en-US" sz="2400" spc="-1" strike="noStrike">
                <a:solidFill>
                  <a:srgbClr val="eae4de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ae4de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038840" cy="2552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7600" y="1447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2560" y="1447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8120" y="167652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ffec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Key Ideas:  States and Rol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67652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5" idx="4"/>
            <a:endCxn id="137" idx="0"/>
          </p:cNvCxnSpPr>
          <p:nvPr/>
        </p:nvCxnSpPr>
        <p:spPr>
          <a:xfrm flipH="1">
            <a:off x="990360" y="2609640"/>
            <a:ext cx="838800" cy="2324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endCxn id="139" idx="7"/>
          </p:cNvCxnSpPr>
          <p:nvPr/>
        </p:nvCxnSpPr>
        <p:spPr>
          <a:xfrm flipH="1">
            <a:off x="2312640" y="2476440"/>
            <a:ext cx="937440" cy="106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304920" y="495288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e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5" idx="4"/>
            <a:endCxn id="141" idx="0"/>
          </p:cNvCxnSpPr>
          <p:nvPr/>
        </p:nvCxnSpPr>
        <p:spPr>
          <a:xfrm>
            <a:off x="1828800" y="2609640"/>
            <a:ext cx="838800" cy="2324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1981080" y="495288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e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42900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35" idx="4"/>
            <a:endCxn id="139" idx="0"/>
          </p:cNvCxnSpPr>
          <p:nvPr/>
        </p:nvCxnSpPr>
        <p:spPr>
          <a:xfrm>
            <a:off x="1828440" y="2610000"/>
            <a:ext cx="108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24280" y="167616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be obser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 on more than regulator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Regulators and Effector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2133720"/>
            <a:ext cx="44197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f2e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214280" y="2286000"/>
            <a:ext cx="7243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3440" y="1676520"/>
            <a:ext cx="17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bed DNA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038480" y="2133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13372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24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5684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1120" y="25146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stream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2280" y="251460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wnstream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4240" y="20574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1905120"/>
            <a:ext cx="91440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NAP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547600">
            <a:off x="1828800" y="5029200"/>
            <a:ext cx="380880" cy="3808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1f2e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26200" y="5081400"/>
            <a:ext cx="433800" cy="428400"/>
            <a:chOff x="1726200" y="5081400"/>
            <a:chExt cx="433800" cy="428400"/>
          </a:xfrm>
        </p:grpSpPr>
        <p:sp>
          <p:nvSpPr>
            <p:cNvPr id="158" name=""/>
            <p:cNvSpPr/>
            <p:nvPr/>
          </p:nvSpPr>
          <p:spPr>
            <a:xfrm rot="2620200">
              <a:off x="1773000" y="5128560"/>
              <a:ext cx="228600" cy="228600"/>
            </a:xfrm>
            <a:prstGeom prst="rtTriangl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820800">
              <a:off x="1883880" y="5234040"/>
              <a:ext cx="228600" cy="228600"/>
            </a:xfrm>
            <a:prstGeom prst="rtTriangl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43520" y="3962520"/>
            <a:ext cx="441936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f2e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219320" y="4114800"/>
            <a:ext cx="7243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08480" y="3505320"/>
            <a:ext cx="17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bed DNA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043520" y="3962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43520" y="3962520"/>
            <a:ext cx="4419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280" y="38862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3733920"/>
            <a:ext cx="91440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NAP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441972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1f2e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214280" y="6019920"/>
            <a:ext cx="7243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03440" y="5410080"/>
            <a:ext cx="17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bed DNA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038480" y="5867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586728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424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5181480"/>
            <a:ext cx="914400" cy="3812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NAP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3200400"/>
            <a:ext cx="380880" cy="3808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1f2e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5562720"/>
            <a:ext cx="380880" cy="3808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1f2e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5790960"/>
            <a:ext cx="380520" cy="228960"/>
            <a:chOff x="3657600" y="5790960"/>
            <a:chExt cx="380520" cy="228960"/>
          </a:xfrm>
        </p:grpSpPr>
        <p:sp>
          <p:nvSpPr>
            <p:cNvPr id="177" name=""/>
            <p:cNvSpPr/>
            <p:nvPr/>
          </p:nvSpPr>
          <p:spPr>
            <a:xfrm>
              <a:off x="3657600" y="5791320"/>
              <a:ext cx="228240" cy="228600"/>
            </a:xfrm>
            <a:prstGeom prst="rtTriangl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3809520" y="5790960"/>
              <a:ext cx="228600" cy="228240"/>
            </a:xfrm>
            <a:prstGeom prst="rtTriangl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eae4d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8120" y="167652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ffec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Key Ideas:  States and Rol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67652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67652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1" idx="3"/>
            <a:endCxn id="184" idx="7"/>
          </p:cNvCxnSpPr>
          <p:nvPr/>
        </p:nvCxnSpPr>
        <p:spPr>
          <a:xfrm flipH="1">
            <a:off x="2312640" y="2476440"/>
            <a:ext cx="937440" cy="106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304920" y="495288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e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95288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e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3429000"/>
            <a:ext cx="13716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4" idx="3"/>
            <a:endCxn id="185" idx="0"/>
          </p:cNvCxnSpPr>
          <p:nvPr/>
        </p:nvCxnSpPr>
        <p:spPr>
          <a:xfrm flipH="1">
            <a:off x="990000" y="4228920"/>
            <a:ext cx="354600" cy="705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4" idx="5"/>
            <a:endCxn id="186" idx="0"/>
          </p:cNvCxnSpPr>
          <p:nvPr/>
        </p:nvCxnSpPr>
        <p:spPr>
          <a:xfrm>
            <a:off x="2312640" y="4228920"/>
            <a:ext cx="354600" cy="705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4"/>
            <a:endCxn id="184" idx="0"/>
          </p:cNvCxnSpPr>
          <p:nvPr/>
        </p:nvCxnSpPr>
        <p:spPr>
          <a:xfrm>
            <a:off x="1828440" y="2610000"/>
            <a:ext cx="1080" cy="800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24280" y="167616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be obser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 on more than regulator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cellular conditions as surrogates/predictors of regulation eff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a regulator an </a:t>
            </a: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activa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</a:t>
            </a:r>
            <a:r>
              <a:rPr b="0" lang="en-US" sz="2000" spc="-1" strike="noStrike">
                <a:solidFill>
                  <a:srgbClr val="af9881"/>
                </a:solidFill>
                <a:latin typeface="Arial"/>
              </a:rPr>
              <a:t>repress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sequence analysis to predict these ro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32e"/>
            </a:gs>
            <a:gs pos="100000">
              <a:srgbClr val="334c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9881"/>
                </a:solidFill>
                <a:latin typeface="Arial"/>
              </a:rPr>
              <a:t>Bayesian Network Variables</a:t>
            </a:r>
            <a:endParaRPr b="0" lang="en-US" sz="4400" spc="-1" strike="noStrike">
              <a:solidFill>
                <a:srgbClr val="af988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2514600"/>
            <a:ext cx="129528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590920"/>
            <a:ext cx="129564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733920"/>
            <a:ext cx="129528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3" idx="5"/>
            <a:endCxn id="194" idx="1"/>
          </p:cNvCxnSpPr>
          <p:nvPr/>
        </p:nvCxnSpPr>
        <p:spPr>
          <a:xfrm>
            <a:off x="3773520" y="3325680"/>
            <a:ext cx="606960" cy="511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4" idx="7"/>
          </p:cNvCxnSpPr>
          <p:nvPr/>
        </p:nvCxnSpPr>
        <p:spPr>
          <a:xfrm flipH="1">
            <a:off x="5297040" y="3249360"/>
            <a:ext cx="835920" cy="5878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4" idx="3"/>
            <a:endCxn id="198" idx="7"/>
          </p:cNvCxnSpPr>
          <p:nvPr/>
        </p:nvCxnSpPr>
        <p:spPr>
          <a:xfrm flipH="1">
            <a:off x="3849480" y="4468320"/>
            <a:ext cx="530640" cy="435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304920" y="17524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gulato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main will be </a:t>
            </a:r>
            <a:r>
              <a:rPr b="0" lang="en-US" sz="1600" spc="-1" strike="noStrike">
                <a:solidFill>
                  <a:srgbClr val="af9881"/>
                </a:solidFill>
                <a:latin typeface="Arial"/>
              </a:rPr>
              <a:t>expression states 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“off” and “on”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 “low”, “medium”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“high” expression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4800600"/>
            <a:ext cx="129528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e3d"/>
                </a:solidFill>
                <a:latin typeface="Arial"/>
              </a:rPr>
              <a:t>Regulatee</a:t>
            </a:r>
            <a:endParaRPr b="0" lang="en-US" sz="18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15238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9881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8000"/>
                </a:solidFill>
                <a:latin typeface="Arial"/>
              </a:rPr>
              <a:t>Cellular Condition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main will be condition values,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“temperature”, 37°, 50°, …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464832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dden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gulator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main will be “</a:t>
            </a:r>
            <a:r>
              <a:rPr b="0" lang="en-US" sz="1600" spc="-1" strike="noStrike">
                <a:solidFill>
                  <a:srgbClr val="af9881"/>
                </a:solidFill>
                <a:latin typeface="Arial"/>
              </a:rPr>
              <a:t>activat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” or “</a:t>
            </a:r>
            <a:r>
              <a:rPr b="0" lang="en-US" sz="1600" spc="-1" strike="noStrike">
                <a:solidFill>
                  <a:srgbClr val="af9881"/>
                </a:solidFill>
                <a:latin typeface="Arial"/>
              </a:rPr>
              <a:t>inactivat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 is this regulator acting as a regulator?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56386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Regulate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main will be </a:t>
            </a:r>
            <a:r>
              <a:rPr b="0" lang="en-US" sz="1600" spc="-1" strike="noStrike">
                <a:solidFill>
                  <a:srgbClr val="af9881"/>
                </a:solidFill>
                <a:latin typeface="Arial"/>
              </a:rPr>
              <a:t>expression states  </a:t>
            </a:r>
            <a:endParaRPr b="0" lang="en-US" sz="1600" spc="-1" strike="noStrike">
              <a:solidFill>
                <a:srgbClr val="eae4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7:07:13Z</dcterms:created>
  <dc:creator>noto</dc:creator>
  <dc:description/>
  <dc:language>en-US</dc:language>
  <cp:lastModifiedBy> </cp:lastModifiedBy>
  <dcterms:modified xsi:type="dcterms:W3CDTF">2004-03-23T19:49:41Z</dcterms:modified>
  <cp:revision>46</cp:revision>
  <dc:subject/>
  <dc:title>Learning Regulatory Networks that Represent Regulator States and Roles</dc:title>
</cp:coreProperties>
</file>