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5223-FAC3-433A-96EF-ABFC36C4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U. FOR metA:  4211812 -&gt; 4212867 (FORW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ing site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11748 42117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J  4211808 421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11816 42118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11824 421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11832 421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as: Our addition of missing regulators will increas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1D6-8C4F-429C-AA9E-68F89EF1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394-3E47-4D50-8230-EFCE2450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455-EF64-4567-A0A8-7FFBA8B7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A29-1C9E-4FBD-8CEA-5F96AB95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A4B-712C-4208-BD14-E0715E93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D22-1BD3-41DB-9839-36A72E2A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267-EC5E-467B-83A9-8762261D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82D-9BA9-439A-ABB6-6121C762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876-E588-426C-80A3-137AEF46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FBE-ECB8-462D-8ED9-227B1EEF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8D0-187D-4190-86A4-9B2B2F2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63D-A751-4F7F-9A67-43221A0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4d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4d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4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4d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4d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4d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4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DF6-3E39-4549-8E89-D9DD273B46F4}" type="slidenum">
              <a:rPr b="0" lang="en-US" sz="1400" spc="-1" strike="noStrike">
                <a:solidFill>
                  <a:srgbClr val="eae4d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Learning Regulatory Networks that Represent Regulator States and Roles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ith Noto and Mark Cr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Computer 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Biostatistics and Medical Informa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Wisconsin-Mad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o@cs.wisc.e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809880" y="2286000"/>
            <a:ext cx="44197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f2e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Initializing Rol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315200" y="51055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.6      0.4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.2      0.8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.9      0.1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.5      0.5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985680" y="2437920"/>
            <a:ext cx="7243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2240" y="182880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 transcription unit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25880" y="12952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ion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rt Site*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15238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35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2286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809880" y="22856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9880" y="228600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96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3316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7440" y="26668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stream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93680" y="266688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wnstream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5640" y="22096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3961800" y="2286000"/>
            <a:ext cx="76320" cy="533160"/>
          </a:xfrm>
          <a:custGeom>
            <a:avLst/>
            <a:gdLst>
              <a:gd name="textAreaLeft" fmla="*/ 0 w 76320"/>
              <a:gd name="textAreaRight" fmla="*/ 2736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630"/>
                </a:lnTo>
                <a:cubicBezTo>
                  <a:pt x="10800" y="10530"/>
                  <a:pt x="16200" y="11430"/>
                  <a:pt x="21600" y="11430"/>
                </a:cubicBezTo>
                <a:cubicBezTo>
                  <a:pt x="16200" y="11430"/>
                  <a:pt x="10800" y="12330"/>
                  <a:pt x="10800" y="132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f9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3520" y="35812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14600" y="35812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23880" y="56386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A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47" idx="4"/>
            <a:endCxn id="548" idx="7"/>
          </p:cNvCxnSpPr>
          <p:nvPr/>
        </p:nvCxnSpPr>
        <p:spPr>
          <a:xfrm flipH="1">
            <a:off x="2499840" y="4286160"/>
            <a:ext cx="586800" cy="1434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46" idx="4"/>
            <a:endCxn id="548" idx="1"/>
          </p:cNvCxnSpPr>
          <p:nvPr/>
        </p:nvCxnSpPr>
        <p:spPr>
          <a:xfrm>
            <a:off x="1104480" y="4286160"/>
            <a:ext cx="586440" cy="1434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 rot="5400000">
            <a:off x="2286000" y="23623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630"/>
                </a:lnTo>
                <a:cubicBezTo>
                  <a:pt x="10800" y="10530"/>
                  <a:pt x="16200" y="11430"/>
                  <a:pt x="21600" y="11430"/>
                </a:cubicBezTo>
                <a:cubicBezTo>
                  <a:pt x="16200" y="11430"/>
                  <a:pt x="10800" y="12330"/>
                  <a:pt x="10800" y="132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f9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5523840" y="1333440"/>
            <a:ext cx="76320" cy="2438280"/>
          </a:xfrm>
          <a:custGeom>
            <a:avLst/>
            <a:gdLst>
              <a:gd name="textAreaLeft" fmla="*/ 0 w 76320"/>
              <a:gd name="textAreaRight" fmla="*/ 27360 w 763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16200" y="18000"/>
                  <a:pt x="21600" y="18000"/>
                </a:cubicBezTo>
                <a:cubicBezTo>
                  <a:pt x="162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f9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47" idx="0"/>
            <a:endCxn id="545" idx="1"/>
          </p:cNvCxnSpPr>
          <p:nvPr/>
        </p:nvCxnSpPr>
        <p:spPr>
          <a:xfrm flipH="1" flipV="1" rot="5400000">
            <a:off x="3055680" y="2633040"/>
            <a:ext cx="959400" cy="898920"/>
          </a:xfrm>
          <a:prstGeom prst="bentConnector3">
            <a:avLst>
              <a:gd name="adj1" fmla="val 49662"/>
            </a:avLst>
          </a:prstGeom>
          <a:ln w="38160">
            <a:solidFill>
              <a:srgbClr val="af9881"/>
            </a:solidFill>
            <a:prstDash val="dash"/>
            <a:miter/>
          </a:ln>
        </p:spPr>
      </p:cxnSp>
      <p:cxnSp>
        <p:nvCxnSpPr>
          <p:cNvPr id="554" name=""/>
          <p:cNvCxnSpPr>
            <a:stCxn id="546" idx="0"/>
            <a:endCxn id="551" idx="1"/>
          </p:cNvCxnSpPr>
          <p:nvPr/>
        </p:nvCxnSpPr>
        <p:spPr>
          <a:xfrm flipH="1" flipV="1" rot="5400000">
            <a:off x="1229400" y="2478240"/>
            <a:ext cx="959400" cy="1208880"/>
          </a:xfrm>
          <a:prstGeom prst="bentConnector3">
            <a:avLst>
              <a:gd name="adj1" fmla="val 49662"/>
            </a:avLst>
          </a:prstGeom>
          <a:ln w="38160">
            <a:solidFill>
              <a:srgbClr val="af9881"/>
            </a:solidFill>
            <a:prstDash val="dash"/>
            <a:miter/>
          </a:ln>
        </p:spPr>
      </p:cxnSp>
      <p:cxnSp>
        <p:nvCxnSpPr>
          <p:cNvPr id="555" name=""/>
          <p:cNvCxnSpPr>
            <a:stCxn id="548" idx="6"/>
          </p:cNvCxnSpPr>
          <p:nvPr/>
        </p:nvCxnSpPr>
        <p:spPr>
          <a:xfrm flipV="1">
            <a:off x="2685960" y="3657240"/>
            <a:ext cx="1276920" cy="2324880"/>
          </a:xfrm>
          <a:prstGeom prst="bentConnector2">
            <a:avLst/>
          </a:prstGeom>
          <a:ln w="38160">
            <a:solidFill>
              <a:srgbClr val="af9881"/>
            </a:solidFill>
            <a:prstDash val="dash"/>
            <a:miter/>
          </a:ln>
        </p:spPr>
      </p:cxnSp>
      <p:cxnSp>
        <p:nvCxnSpPr>
          <p:cNvPr id="556" name=""/>
          <p:cNvCxnSpPr>
            <a:stCxn id="552" idx="1"/>
          </p:cNvCxnSpPr>
          <p:nvPr/>
        </p:nvCxnSpPr>
        <p:spPr>
          <a:xfrm rot="5400000">
            <a:off x="3402720" y="3162240"/>
            <a:ext cx="1905840" cy="788040"/>
          </a:xfrm>
          <a:prstGeom prst="bentConnector3">
            <a:avLst>
              <a:gd name="adj1" fmla="val 47496"/>
            </a:avLst>
          </a:prstGeom>
          <a:ln w="38160">
            <a:solidFill>
              <a:srgbClr val="af9881"/>
            </a:solidFill>
            <a:prstDash val="dash"/>
            <a:miter/>
          </a:ln>
        </p:spPr>
      </p:cxnSp>
      <p:grpSp>
        <p:nvGrpSpPr>
          <p:cNvPr id="557" name=""/>
          <p:cNvGrpSpPr/>
          <p:nvPr/>
        </p:nvGrpSpPr>
        <p:grpSpPr>
          <a:xfrm>
            <a:off x="4267080" y="3733920"/>
            <a:ext cx="4724640" cy="2855520"/>
            <a:chOff x="4267080" y="3733920"/>
            <a:chExt cx="4724640" cy="2855520"/>
          </a:xfrm>
        </p:grpSpPr>
        <p:sp>
          <p:nvSpPr>
            <p:cNvPr id="558" name=""/>
            <p:cNvSpPr/>
            <p:nvPr/>
          </p:nvSpPr>
          <p:spPr>
            <a:xfrm>
              <a:off x="5715000" y="41911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tJ state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7391520" y="4572000"/>
              <a:ext cx="1295280" cy="393480"/>
              <a:chOff x="7391520" y="4572000"/>
              <a:chExt cx="1295280" cy="393480"/>
            </a:xfrm>
          </p:grpSpPr>
          <p:sp>
            <p:nvSpPr>
              <p:cNvPr id="560" name=""/>
              <p:cNvSpPr/>
              <p:nvPr/>
            </p:nvSpPr>
            <p:spPr>
              <a:xfrm>
                <a:off x="7391520" y="4572000"/>
                <a:ext cx="609480" cy="393480"/>
              </a:xfrm>
              <a:custGeom>
                <a:avLst/>
                <a:gdLst/>
                <a:ahLst/>
                <a:rect l="l" t="t" r="r" b="b"/>
                <a:pathLst>
                  <a:path w="816" h="688">
                    <a:moveTo>
                      <a:pt x="0" y="632"/>
                    </a:moveTo>
                    <a:cubicBezTo>
                      <a:pt x="60" y="636"/>
                      <a:pt x="120" y="640"/>
                      <a:pt x="192" y="536"/>
                    </a:cubicBezTo>
                    <a:cubicBezTo>
                      <a:pt x="264" y="432"/>
                      <a:pt x="352" y="0"/>
                      <a:pt x="432" y="8"/>
                    </a:cubicBezTo>
                    <a:cubicBezTo>
                      <a:pt x="512" y="16"/>
                      <a:pt x="608" y="480"/>
                      <a:pt x="672" y="584"/>
                    </a:cubicBezTo>
                    <a:cubicBezTo>
                      <a:pt x="736" y="688"/>
                      <a:pt x="776" y="660"/>
                      <a:pt x="816" y="63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848720" y="4647960"/>
                <a:ext cx="838080" cy="317520"/>
              </a:xfrm>
              <a:custGeom>
                <a:avLst/>
                <a:gdLst/>
                <a:ahLst/>
                <a:rect l="l" t="t" r="r" b="b"/>
                <a:pathLst>
                  <a:path w="816" h="688">
                    <a:moveTo>
                      <a:pt x="0" y="632"/>
                    </a:moveTo>
                    <a:cubicBezTo>
                      <a:pt x="60" y="636"/>
                      <a:pt x="120" y="640"/>
                      <a:pt x="192" y="536"/>
                    </a:cubicBezTo>
                    <a:cubicBezTo>
                      <a:pt x="264" y="432"/>
                      <a:pt x="352" y="0"/>
                      <a:pt x="432" y="8"/>
                    </a:cubicBezTo>
                    <a:cubicBezTo>
                      <a:pt x="512" y="16"/>
                      <a:pt x="608" y="480"/>
                      <a:pt x="672" y="584"/>
                    </a:cubicBezTo>
                    <a:cubicBezTo>
                      <a:pt x="736" y="688"/>
                      <a:pt x="776" y="660"/>
                      <a:pt x="816" y="63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7391520" y="41911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ow    High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62920" y="419112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43400" y="5029200"/>
              <a:ext cx="449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67080" y="4114800"/>
              <a:ext cx="4724640" cy="2209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19720" y="5105520"/>
              <a:ext cx="2514600" cy="14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tivated               activated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tivated            inactivated inactivated               activated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activated            inactivated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43400" y="41911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tR state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67080" y="3733920"/>
              <a:ext cx="472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PT for regulatee metA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437920" y="2590920"/>
            <a:ext cx="13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9881"/>
                </a:solidFill>
                <a:latin typeface="Arial"/>
              </a:rPr>
              <a:t>Binding site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4419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Considered an Activator)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15000" y="4419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Considered a Repressor)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" y="6521400"/>
            <a:ext cx="87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Predicted transcription start sites from Bockhorst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t. al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MB ‘03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Experimental Data and Procedure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ion measurements from Affymetrix microarrays (Fred Blattner’s lab, University of Wisconsin-Madi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binding site predictions from TRANSFAC, EcoCyc, cross-species comparison                             (McCue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t. al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enome Research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al data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0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 Cellular condition variables (between two and seven valu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96 regulat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4 reg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fold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arrays held aside for 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 from test microarrays do not appear in training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Evaluation:  Baselines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008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3152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006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578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150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583" name=""/>
          <p:cNvCxnSpPr>
            <a:stCxn id="577" idx="3"/>
            <a:endCxn id="584" idx="7"/>
          </p:cNvCxnSpPr>
          <p:nvPr/>
        </p:nvCxnSpPr>
        <p:spPr>
          <a:xfrm flipH="1">
            <a:off x="2937600" y="3566880"/>
            <a:ext cx="3496680" cy="867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77" idx="3"/>
            <a:endCxn id="586" idx="7"/>
          </p:cNvCxnSpPr>
          <p:nvPr/>
        </p:nvCxnSpPr>
        <p:spPr>
          <a:xfrm flipH="1">
            <a:off x="4080960" y="3566880"/>
            <a:ext cx="2353680" cy="867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78" idx="3"/>
            <a:endCxn id="588" idx="0"/>
          </p:cNvCxnSpPr>
          <p:nvPr/>
        </p:nvCxnSpPr>
        <p:spPr>
          <a:xfrm flipH="1">
            <a:off x="5142960" y="3566880"/>
            <a:ext cx="174852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79" idx="3"/>
            <a:endCxn id="590" idx="0"/>
          </p:cNvCxnSpPr>
          <p:nvPr/>
        </p:nvCxnSpPr>
        <p:spPr>
          <a:xfrm flipH="1">
            <a:off x="5904720" y="3566880"/>
            <a:ext cx="144396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90" name=""/>
          <p:cNvSpPr/>
          <p:nvPr/>
        </p:nvSpPr>
        <p:spPr>
          <a:xfrm>
            <a:off x="579132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4832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2920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593" name=""/>
          <p:cNvCxnSpPr>
            <a:stCxn id="580" idx="4"/>
            <a:endCxn id="591" idx="0"/>
          </p:cNvCxnSpPr>
          <p:nvPr/>
        </p:nvCxnSpPr>
        <p:spPr>
          <a:xfrm flipH="1">
            <a:off x="4762080" y="3600000"/>
            <a:ext cx="153360" cy="80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4" name=""/>
          <p:cNvCxnSpPr>
            <a:stCxn id="580" idx="4"/>
            <a:endCxn id="588" idx="0"/>
          </p:cNvCxnSpPr>
          <p:nvPr/>
        </p:nvCxnSpPr>
        <p:spPr>
          <a:xfrm>
            <a:off x="4914720" y="3600000"/>
            <a:ext cx="229320" cy="80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5" name=""/>
          <p:cNvCxnSpPr>
            <a:stCxn id="581" idx="5"/>
            <a:endCxn id="590" idx="1"/>
          </p:cNvCxnSpPr>
          <p:nvPr/>
        </p:nvCxnSpPr>
        <p:spPr>
          <a:xfrm>
            <a:off x="5452920" y="3566880"/>
            <a:ext cx="372240" cy="867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6" name=""/>
          <p:cNvCxnSpPr>
            <a:stCxn id="581" idx="3"/>
            <a:endCxn id="591" idx="7"/>
          </p:cNvCxnSpPr>
          <p:nvPr/>
        </p:nvCxnSpPr>
        <p:spPr>
          <a:xfrm flipH="1">
            <a:off x="4843080" y="3566880"/>
            <a:ext cx="448560" cy="867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582" idx="4"/>
            <a:endCxn id="592" idx="0"/>
          </p:cNvCxnSpPr>
          <p:nvPr/>
        </p:nvCxnSpPr>
        <p:spPr>
          <a:xfrm flipH="1">
            <a:off x="5523840" y="3600000"/>
            <a:ext cx="305640" cy="80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82" idx="4"/>
            <a:endCxn id="590" idx="0"/>
          </p:cNvCxnSpPr>
          <p:nvPr/>
        </p:nvCxnSpPr>
        <p:spPr>
          <a:xfrm>
            <a:off x="5829120" y="3600000"/>
            <a:ext cx="76680" cy="80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81" idx="4"/>
            <a:endCxn id="588" idx="0"/>
          </p:cNvCxnSpPr>
          <p:nvPr/>
        </p:nvCxnSpPr>
        <p:spPr>
          <a:xfrm flipH="1">
            <a:off x="5142960" y="3600000"/>
            <a:ext cx="229320" cy="80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81" idx="4"/>
            <a:endCxn id="592" idx="1"/>
          </p:cNvCxnSpPr>
          <p:nvPr/>
        </p:nvCxnSpPr>
        <p:spPr>
          <a:xfrm>
            <a:off x="5372280" y="3600000"/>
            <a:ext cx="7200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1" name=""/>
          <p:cNvSpPr/>
          <p:nvPr/>
        </p:nvSpPr>
        <p:spPr>
          <a:xfrm>
            <a:off x="77724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296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6868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90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862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5308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0532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17220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12408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4419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05" idx="4"/>
            <a:endCxn id="586" idx="0"/>
          </p:cNvCxnSpPr>
          <p:nvPr/>
        </p:nvCxnSpPr>
        <p:spPr>
          <a:xfrm>
            <a:off x="4000320" y="3600000"/>
            <a:ext cx="1080" cy="80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06" idx="4"/>
            <a:endCxn id="607" idx="0"/>
          </p:cNvCxnSpPr>
          <p:nvPr/>
        </p:nvCxnSpPr>
        <p:spPr>
          <a:xfrm flipH="1">
            <a:off x="4381560" y="3600000"/>
            <a:ext cx="76680" cy="80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604" idx="4"/>
            <a:endCxn id="609" idx="0"/>
          </p:cNvCxnSpPr>
          <p:nvPr/>
        </p:nvCxnSpPr>
        <p:spPr>
          <a:xfrm>
            <a:off x="3543120" y="3600000"/>
            <a:ext cx="76680" cy="80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04" idx="4"/>
            <a:endCxn id="584" idx="7"/>
          </p:cNvCxnSpPr>
          <p:nvPr/>
        </p:nvCxnSpPr>
        <p:spPr>
          <a:xfrm flipH="1">
            <a:off x="2937600" y="3600000"/>
            <a:ext cx="60588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604" idx="4"/>
            <a:endCxn id="591" idx="1"/>
          </p:cNvCxnSpPr>
          <p:nvPr/>
        </p:nvCxnSpPr>
        <p:spPr>
          <a:xfrm>
            <a:off x="3543120" y="3600000"/>
            <a:ext cx="113868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04" idx="4"/>
            <a:endCxn id="611" idx="7"/>
          </p:cNvCxnSpPr>
          <p:nvPr/>
        </p:nvCxnSpPr>
        <p:spPr>
          <a:xfrm flipH="1">
            <a:off x="3319200" y="3600000"/>
            <a:ext cx="22464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606" idx="4"/>
            <a:endCxn id="591" idx="1"/>
          </p:cNvCxnSpPr>
          <p:nvPr/>
        </p:nvCxnSpPr>
        <p:spPr>
          <a:xfrm>
            <a:off x="4457520" y="3600000"/>
            <a:ext cx="22428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582" idx="5"/>
            <a:endCxn id="608" idx="0"/>
          </p:cNvCxnSpPr>
          <p:nvPr/>
        </p:nvCxnSpPr>
        <p:spPr>
          <a:xfrm>
            <a:off x="5910120" y="3566880"/>
            <a:ext cx="75816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580" idx="4"/>
            <a:endCxn id="611" idx="0"/>
          </p:cNvCxnSpPr>
          <p:nvPr/>
        </p:nvCxnSpPr>
        <p:spPr>
          <a:xfrm flipH="1">
            <a:off x="3237840" y="3600000"/>
            <a:ext cx="1677240" cy="80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06" idx="4"/>
            <a:endCxn id="609" idx="7"/>
          </p:cNvCxnSpPr>
          <p:nvPr/>
        </p:nvCxnSpPr>
        <p:spPr>
          <a:xfrm flipH="1">
            <a:off x="3700080" y="3600000"/>
            <a:ext cx="75816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582" idx="5"/>
            <a:endCxn id="610" idx="1"/>
          </p:cNvCxnSpPr>
          <p:nvPr/>
        </p:nvCxnSpPr>
        <p:spPr>
          <a:xfrm>
            <a:off x="5909760" y="3566880"/>
            <a:ext cx="296280" cy="867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3" idx="3"/>
            <a:endCxn id="608" idx="0"/>
          </p:cNvCxnSpPr>
          <p:nvPr/>
        </p:nvCxnSpPr>
        <p:spPr>
          <a:xfrm flipH="1">
            <a:off x="6667560" y="3566880"/>
            <a:ext cx="205308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2" idx="3"/>
            <a:endCxn id="607" idx="0"/>
          </p:cNvCxnSpPr>
          <p:nvPr/>
        </p:nvCxnSpPr>
        <p:spPr>
          <a:xfrm flipH="1">
            <a:off x="4381200" y="3566880"/>
            <a:ext cx="388224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480060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25780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71500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9132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632" name=""/>
          <p:cNvCxnSpPr>
            <a:stCxn id="625" idx="4"/>
            <a:endCxn id="629" idx="0"/>
          </p:cNvCxnSpPr>
          <p:nvPr/>
        </p:nvCxnSpPr>
        <p:spPr>
          <a:xfrm flipH="1">
            <a:off x="4762080" y="1771200"/>
            <a:ext cx="153360" cy="72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5" idx="4"/>
            <a:endCxn id="630" idx="0"/>
          </p:cNvCxnSpPr>
          <p:nvPr/>
        </p:nvCxnSpPr>
        <p:spPr>
          <a:xfrm>
            <a:off x="4914720" y="1771200"/>
            <a:ext cx="229320" cy="72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6" idx="5"/>
            <a:endCxn id="628" idx="1"/>
          </p:cNvCxnSpPr>
          <p:nvPr/>
        </p:nvCxnSpPr>
        <p:spPr>
          <a:xfrm>
            <a:off x="5452920" y="1738440"/>
            <a:ext cx="37224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26" idx="3"/>
            <a:endCxn id="629" idx="7"/>
          </p:cNvCxnSpPr>
          <p:nvPr/>
        </p:nvCxnSpPr>
        <p:spPr>
          <a:xfrm flipH="1">
            <a:off x="4843080" y="1738440"/>
            <a:ext cx="44856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27" idx="4"/>
            <a:endCxn id="631" idx="0"/>
          </p:cNvCxnSpPr>
          <p:nvPr/>
        </p:nvCxnSpPr>
        <p:spPr>
          <a:xfrm flipH="1">
            <a:off x="5523840" y="1771200"/>
            <a:ext cx="305640" cy="72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7" idx="4"/>
            <a:endCxn id="628" idx="0"/>
          </p:cNvCxnSpPr>
          <p:nvPr/>
        </p:nvCxnSpPr>
        <p:spPr>
          <a:xfrm>
            <a:off x="5829120" y="1771200"/>
            <a:ext cx="76680" cy="72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26" idx="4"/>
            <a:endCxn id="630" idx="0"/>
          </p:cNvCxnSpPr>
          <p:nvPr/>
        </p:nvCxnSpPr>
        <p:spPr>
          <a:xfrm flipH="1">
            <a:off x="5142960" y="1771200"/>
            <a:ext cx="229320" cy="72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26" idx="4"/>
            <a:endCxn id="631" idx="1"/>
          </p:cNvCxnSpPr>
          <p:nvPr/>
        </p:nvCxnSpPr>
        <p:spPr>
          <a:xfrm>
            <a:off x="5372280" y="1771560"/>
            <a:ext cx="72000" cy="75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40" name=""/>
          <p:cNvSpPr/>
          <p:nvPr/>
        </p:nvSpPr>
        <p:spPr>
          <a:xfrm>
            <a:off x="342900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8620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34340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5308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0532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88620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7220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43200" y="2514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1" idx="4"/>
            <a:endCxn id="646" idx="0"/>
          </p:cNvCxnSpPr>
          <p:nvPr/>
        </p:nvCxnSpPr>
        <p:spPr>
          <a:xfrm>
            <a:off x="4000320" y="1771200"/>
            <a:ext cx="1080" cy="72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2" idx="4"/>
            <a:endCxn id="643" idx="0"/>
          </p:cNvCxnSpPr>
          <p:nvPr/>
        </p:nvCxnSpPr>
        <p:spPr>
          <a:xfrm flipH="1">
            <a:off x="4381560" y="1771200"/>
            <a:ext cx="76680" cy="72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0" idx="4"/>
            <a:endCxn id="645" idx="0"/>
          </p:cNvCxnSpPr>
          <p:nvPr/>
        </p:nvCxnSpPr>
        <p:spPr>
          <a:xfrm>
            <a:off x="3543120" y="1771200"/>
            <a:ext cx="76680" cy="72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40" idx="4"/>
            <a:endCxn id="649" idx="7"/>
          </p:cNvCxnSpPr>
          <p:nvPr/>
        </p:nvCxnSpPr>
        <p:spPr>
          <a:xfrm flipH="1">
            <a:off x="2937600" y="1771560"/>
            <a:ext cx="605880" cy="75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0" idx="4"/>
            <a:endCxn id="629" idx="1"/>
          </p:cNvCxnSpPr>
          <p:nvPr/>
        </p:nvCxnSpPr>
        <p:spPr>
          <a:xfrm>
            <a:off x="3543120" y="1771560"/>
            <a:ext cx="1138680" cy="75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0" idx="4"/>
            <a:endCxn id="648" idx="7"/>
          </p:cNvCxnSpPr>
          <p:nvPr/>
        </p:nvCxnSpPr>
        <p:spPr>
          <a:xfrm flipH="1">
            <a:off x="3319200" y="1771560"/>
            <a:ext cx="224640" cy="75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2" idx="4"/>
            <a:endCxn id="629" idx="1"/>
          </p:cNvCxnSpPr>
          <p:nvPr/>
        </p:nvCxnSpPr>
        <p:spPr>
          <a:xfrm>
            <a:off x="4457520" y="1771560"/>
            <a:ext cx="224280" cy="75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27" idx="5"/>
            <a:endCxn id="644" idx="0"/>
          </p:cNvCxnSpPr>
          <p:nvPr/>
        </p:nvCxnSpPr>
        <p:spPr>
          <a:xfrm>
            <a:off x="5910120" y="1738080"/>
            <a:ext cx="758160" cy="757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25" idx="4"/>
            <a:endCxn id="648" idx="0"/>
          </p:cNvCxnSpPr>
          <p:nvPr/>
        </p:nvCxnSpPr>
        <p:spPr>
          <a:xfrm flipH="1">
            <a:off x="3237840" y="1771200"/>
            <a:ext cx="1677240" cy="72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2" idx="4"/>
            <a:endCxn id="645" idx="7"/>
          </p:cNvCxnSpPr>
          <p:nvPr/>
        </p:nvCxnSpPr>
        <p:spPr>
          <a:xfrm flipH="1">
            <a:off x="3700080" y="1771560"/>
            <a:ext cx="758160" cy="75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27" idx="5"/>
            <a:endCxn id="647" idx="1"/>
          </p:cNvCxnSpPr>
          <p:nvPr/>
        </p:nvCxnSpPr>
        <p:spPr>
          <a:xfrm>
            <a:off x="5909760" y="1738440"/>
            <a:ext cx="29628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227520" y="1676520"/>
            <a:ext cx="260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line #1: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hidden nodes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cellular conditions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" y="350532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line #2: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hidden nodes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ular conditions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8580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3152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7150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578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8006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800600" y="5791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5791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715000" y="5791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67" idx="4"/>
            <a:endCxn id="670" idx="0"/>
          </p:cNvCxnSpPr>
          <p:nvPr/>
        </p:nvCxnSpPr>
        <p:spPr>
          <a:xfrm>
            <a:off x="5371920" y="55051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3" name=""/>
          <p:cNvCxnSpPr>
            <a:stCxn id="668" idx="4"/>
            <a:endCxn id="669" idx="0"/>
          </p:cNvCxnSpPr>
          <p:nvPr/>
        </p:nvCxnSpPr>
        <p:spPr>
          <a:xfrm>
            <a:off x="4914720" y="55051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66" idx="4"/>
            <a:endCxn id="671" idx="0"/>
          </p:cNvCxnSpPr>
          <p:nvPr/>
        </p:nvCxnSpPr>
        <p:spPr>
          <a:xfrm>
            <a:off x="5829120" y="55051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63" idx="3"/>
            <a:endCxn id="669" idx="7"/>
          </p:cNvCxnSpPr>
          <p:nvPr/>
        </p:nvCxnSpPr>
        <p:spPr>
          <a:xfrm flipH="1">
            <a:off x="4995360" y="5472000"/>
            <a:ext cx="14392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63" idx="3"/>
            <a:endCxn id="671" idx="7"/>
          </p:cNvCxnSpPr>
          <p:nvPr/>
        </p:nvCxnSpPr>
        <p:spPr>
          <a:xfrm flipH="1">
            <a:off x="5909760" y="5472000"/>
            <a:ext cx="5248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7" name=""/>
          <p:cNvCxnSpPr>
            <a:stCxn id="664" idx="3"/>
            <a:endCxn id="669" idx="7"/>
          </p:cNvCxnSpPr>
          <p:nvPr/>
        </p:nvCxnSpPr>
        <p:spPr>
          <a:xfrm flipH="1">
            <a:off x="4995360" y="5472000"/>
            <a:ext cx="18964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8" name=""/>
          <p:cNvCxnSpPr>
            <a:stCxn id="665" idx="3"/>
            <a:endCxn id="670" idx="7"/>
          </p:cNvCxnSpPr>
          <p:nvPr/>
        </p:nvCxnSpPr>
        <p:spPr>
          <a:xfrm flipH="1">
            <a:off x="5452560" y="5472000"/>
            <a:ext cx="18964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79" name=""/>
          <p:cNvSpPr/>
          <p:nvPr/>
        </p:nvSpPr>
        <p:spPr>
          <a:xfrm>
            <a:off x="579132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4832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1008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683" name=""/>
          <p:cNvCxnSpPr>
            <a:stCxn id="669" idx="4"/>
            <a:endCxn id="680" idx="0"/>
          </p:cNvCxnSpPr>
          <p:nvPr/>
        </p:nvCxnSpPr>
        <p:spPr>
          <a:xfrm flipH="1">
            <a:off x="4762080" y="6039000"/>
            <a:ext cx="15336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69" idx="4"/>
            <a:endCxn id="681" idx="0"/>
          </p:cNvCxnSpPr>
          <p:nvPr/>
        </p:nvCxnSpPr>
        <p:spPr>
          <a:xfrm>
            <a:off x="4914720" y="6039000"/>
            <a:ext cx="22932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0" idx="5"/>
            <a:endCxn id="679" idx="1"/>
          </p:cNvCxnSpPr>
          <p:nvPr/>
        </p:nvCxnSpPr>
        <p:spPr>
          <a:xfrm>
            <a:off x="5452920" y="6005520"/>
            <a:ext cx="37224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70" idx="3"/>
            <a:endCxn id="680" idx="7"/>
          </p:cNvCxnSpPr>
          <p:nvPr/>
        </p:nvCxnSpPr>
        <p:spPr>
          <a:xfrm flipH="1">
            <a:off x="4843080" y="6005520"/>
            <a:ext cx="4485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71" idx="4"/>
            <a:endCxn id="682" idx="0"/>
          </p:cNvCxnSpPr>
          <p:nvPr/>
        </p:nvCxnSpPr>
        <p:spPr>
          <a:xfrm flipH="1">
            <a:off x="5523840" y="6039000"/>
            <a:ext cx="3056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1" idx="4"/>
            <a:endCxn id="679" idx="0"/>
          </p:cNvCxnSpPr>
          <p:nvPr/>
        </p:nvCxnSpPr>
        <p:spPr>
          <a:xfrm>
            <a:off x="5829120" y="603900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70" idx="4"/>
            <a:endCxn id="681" idx="0"/>
          </p:cNvCxnSpPr>
          <p:nvPr/>
        </p:nvCxnSpPr>
        <p:spPr>
          <a:xfrm flipH="1">
            <a:off x="5142960" y="6039000"/>
            <a:ext cx="22932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70" idx="4"/>
            <a:endCxn id="682" idx="1"/>
          </p:cNvCxnSpPr>
          <p:nvPr/>
        </p:nvCxnSpPr>
        <p:spPr>
          <a:xfrm>
            <a:off x="5372280" y="6038640"/>
            <a:ext cx="7200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77724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296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6868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862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429000" y="52578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5791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5791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343400" y="5791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700" name=""/>
          <p:cNvCxnSpPr>
            <a:stCxn id="695" idx="4"/>
            <a:endCxn id="698" idx="0"/>
          </p:cNvCxnSpPr>
          <p:nvPr/>
        </p:nvCxnSpPr>
        <p:spPr>
          <a:xfrm>
            <a:off x="4000320" y="55051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6" idx="4"/>
            <a:endCxn id="697" idx="0"/>
          </p:cNvCxnSpPr>
          <p:nvPr/>
        </p:nvCxnSpPr>
        <p:spPr>
          <a:xfrm>
            <a:off x="3543120" y="55051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94" idx="4"/>
            <a:endCxn id="699" idx="0"/>
          </p:cNvCxnSpPr>
          <p:nvPr/>
        </p:nvCxnSpPr>
        <p:spPr>
          <a:xfrm>
            <a:off x="4457520" y="55051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3" name=""/>
          <p:cNvSpPr/>
          <p:nvPr/>
        </p:nvSpPr>
        <p:spPr>
          <a:xfrm>
            <a:off x="426708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55308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50532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8620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7220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2408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43200" y="63244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710" name=""/>
          <p:cNvCxnSpPr>
            <a:stCxn id="698" idx="4"/>
            <a:endCxn id="706" idx="0"/>
          </p:cNvCxnSpPr>
          <p:nvPr/>
        </p:nvCxnSpPr>
        <p:spPr>
          <a:xfrm>
            <a:off x="4000320" y="60390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9" idx="4"/>
            <a:endCxn id="703" idx="0"/>
          </p:cNvCxnSpPr>
          <p:nvPr/>
        </p:nvCxnSpPr>
        <p:spPr>
          <a:xfrm flipH="1">
            <a:off x="4381560" y="603900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7" idx="4"/>
            <a:endCxn id="705" idx="0"/>
          </p:cNvCxnSpPr>
          <p:nvPr/>
        </p:nvCxnSpPr>
        <p:spPr>
          <a:xfrm>
            <a:off x="3543120" y="603900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7" idx="4"/>
            <a:endCxn id="709" idx="7"/>
          </p:cNvCxnSpPr>
          <p:nvPr/>
        </p:nvCxnSpPr>
        <p:spPr>
          <a:xfrm flipH="1">
            <a:off x="2937600" y="6038640"/>
            <a:ext cx="60588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7" idx="4"/>
            <a:endCxn id="680" idx="1"/>
          </p:cNvCxnSpPr>
          <p:nvPr/>
        </p:nvCxnSpPr>
        <p:spPr>
          <a:xfrm>
            <a:off x="3543120" y="6038640"/>
            <a:ext cx="113868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7" idx="4"/>
            <a:endCxn id="708" idx="7"/>
          </p:cNvCxnSpPr>
          <p:nvPr/>
        </p:nvCxnSpPr>
        <p:spPr>
          <a:xfrm flipH="1">
            <a:off x="3319200" y="6038640"/>
            <a:ext cx="22464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9" idx="4"/>
            <a:endCxn id="680" idx="1"/>
          </p:cNvCxnSpPr>
          <p:nvPr/>
        </p:nvCxnSpPr>
        <p:spPr>
          <a:xfrm>
            <a:off x="4457520" y="6038640"/>
            <a:ext cx="22428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71" idx="5"/>
            <a:endCxn id="704" idx="0"/>
          </p:cNvCxnSpPr>
          <p:nvPr/>
        </p:nvCxnSpPr>
        <p:spPr>
          <a:xfrm>
            <a:off x="5910120" y="6005160"/>
            <a:ext cx="75816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69" idx="4"/>
            <a:endCxn id="708" idx="0"/>
          </p:cNvCxnSpPr>
          <p:nvPr/>
        </p:nvCxnSpPr>
        <p:spPr>
          <a:xfrm flipH="1">
            <a:off x="3237840" y="6039000"/>
            <a:ext cx="16772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9" idx="4"/>
            <a:endCxn id="705" idx="7"/>
          </p:cNvCxnSpPr>
          <p:nvPr/>
        </p:nvCxnSpPr>
        <p:spPr>
          <a:xfrm flipH="1">
            <a:off x="3700080" y="6038640"/>
            <a:ext cx="75816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671" idx="5"/>
            <a:endCxn id="707" idx="1"/>
          </p:cNvCxnSpPr>
          <p:nvPr/>
        </p:nvCxnSpPr>
        <p:spPr>
          <a:xfrm>
            <a:off x="5909760" y="6005520"/>
            <a:ext cx="2962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693" idx="3"/>
            <a:endCxn id="671" idx="6"/>
          </p:cNvCxnSpPr>
          <p:nvPr/>
        </p:nvCxnSpPr>
        <p:spPr>
          <a:xfrm flipH="1">
            <a:off x="5962320" y="5472000"/>
            <a:ext cx="2758320" cy="434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692" idx="3"/>
            <a:endCxn id="699" idx="0"/>
          </p:cNvCxnSpPr>
          <p:nvPr/>
        </p:nvCxnSpPr>
        <p:spPr>
          <a:xfrm flipH="1">
            <a:off x="4457520" y="5472000"/>
            <a:ext cx="380592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04200" y="57150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model: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Hypothes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se of regulator states will provide explanatory power while retaining 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initialization of regulator roles will guide EM and increase 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010280" y="3079800"/>
            <a:ext cx="1676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2,193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34120" y="3079800"/>
            <a:ext cx="167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1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657600" y="3079800"/>
            <a:ext cx="1676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42%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079800"/>
            <a:ext cx="32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line #2 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hidden nodes, using cellular conditions)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010280" y="2438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3,363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34120" y="243828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657600" y="2438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.16%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243828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line #1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hidden nodes, no cellular conditions)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010280" y="13716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Likelihood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(log scale)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1371600"/>
            <a:ext cx="1676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Average Squared Err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657600" y="13716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Classification 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" y="1371600"/>
            <a:ext cx="3200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" y="307980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" y="372276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10280" y="3776760"/>
            <a:ext cx="1676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2,004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34120" y="3776760"/>
            <a:ext cx="167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1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776760"/>
            <a:ext cx="1676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34%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" y="3776760"/>
            <a:ext cx="32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 iterations of adding missing TFs)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" y="441972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57200" y="4572000"/>
            <a:ext cx="8229600" cy="609480"/>
            <a:chOff x="457200" y="4572000"/>
            <a:chExt cx="8229600" cy="609480"/>
          </a:xfrm>
        </p:grpSpPr>
        <p:sp>
          <p:nvSpPr>
            <p:cNvPr id="748" name=""/>
            <p:cNvSpPr/>
            <p:nvPr/>
          </p:nvSpPr>
          <p:spPr>
            <a:xfrm>
              <a:off x="7010280" y="4572000"/>
              <a:ext cx="16765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11,893</a:t>
              </a: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34120" y="4572000"/>
              <a:ext cx="1676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.54</a:t>
              </a: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57600" y="4572000"/>
              <a:ext cx="16765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4.19%</a:t>
              </a: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57200" y="4572000"/>
              <a:ext cx="32004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andom Initialization</a:t>
              </a: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3 iterations of adding missing TFs)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7200" y="5181480"/>
              <a:ext cx="82296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teps toward a more mechanistic model of 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, the concept of regulator</a:t>
            </a:r>
            <a:r>
              <a:rPr b="0" lang="en-US" sz="3200" spc="-1" strike="noStrike">
                <a:solidFill>
                  <a:srgbClr val="af9881"/>
                </a:solidFill>
                <a:latin typeface="Arial"/>
              </a:rPr>
              <a:t> sta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ssent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 knowledge of regulator </a:t>
            </a:r>
            <a:r>
              <a:rPr b="0" lang="en-US" sz="3200" spc="-1" strike="noStrike">
                <a:solidFill>
                  <a:srgbClr val="af9881"/>
                </a:solidFill>
                <a:latin typeface="Arial"/>
              </a:rPr>
              <a:t>ro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lps to create a more correct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is comparable to baselines, with more explanatory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nn McCue and Chip Lawrence, Wadsworth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d Blattner and Yu Qiu, University of Wisconsin-Mad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rk was made possible by grants from NLM (NLM 5T15LM005359), NSF (IIS-0093016), and NIH (R01-LM07050-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expressi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ource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a model that captures regulatory interactions in a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48520" y="5181480"/>
            <a:ext cx="2514240" cy="761400"/>
            <a:chOff x="6248520" y="5181480"/>
            <a:chExt cx="2514240" cy="761400"/>
          </a:xfrm>
        </p:grpSpPr>
        <p:sp>
          <p:nvSpPr>
            <p:cNvPr id="53" name=""/>
            <p:cNvSpPr/>
            <p:nvPr/>
          </p:nvSpPr>
          <p:spPr>
            <a:xfrm>
              <a:off x="812340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7864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3" idx="3"/>
              <a:endCxn id="56" idx="7"/>
            </p:cNvCxnSpPr>
            <p:nvPr/>
          </p:nvCxnSpPr>
          <p:spPr>
            <a:xfrm flipH="1">
              <a:off x="7721640" y="5308200"/>
              <a:ext cx="42192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57" name=""/>
            <p:cNvSpPr/>
            <p:nvPr/>
          </p:nvSpPr>
          <p:spPr>
            <a:xfrm>
              <a:off x="803808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3424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67800" y="5181480"/>
              <a:ext cx="12888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12560" y="518148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56960" y="518148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56960" y="549468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12560" y="549468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67800" y="5494680"/>
              <a:ext cx="12888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64" name=""/>
            <p:cNvCxnSpPr>
              <a:stCxn id="60" idx="4"/>
              <a:endCxn id="56" idx="0"/>
            </p:cNvCxnSpPr>
            <p:nvPr/>
          </p:nvCxnSpPr>
          <p:spPr>
            <a:xfrm>
              <a:off x="767556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65" name=""/>
            <p:cNvCxnSpPr>
              <a:stCxn id="61" idx="4"/>
              <a:endCxn id="62" idx="0"/>
            </p:cNvCxnSpPr>
            <p:nvPr/>
          </p:nvCxnSpPr>
          <p:spPr>
            <a:xfrm>
              <a:off x="741996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66" name=""/>
            <p:cNvCxnSpPr>
              <a:stCxn id="59" idx="4"/>
              <a:endCxn id="63" idx="0"/>
            </p:cNvCxnSpPr>
            <p:nvPr/>
          </p:nvCxnSpPr>
          <p:spPr>
            <a:xfrm>
              <a:off x="793080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67" name=""/>
            <p:cNvSpPr/>
            <p:nvPr/>
          </p:nvSpPr>
          <p:spPr>
            <a:xfrm>
              <a:off x="782424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872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12560" y="580824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56" idx="4"/>
              <a:endCxn id="69" idx="0"/>
            </p:cNvCxnSpPr>
            <p:nvPr/>
          </p:nvCxnSpPr>
          <p:spPr>
            <a:xfrm>
              <a:off x="7675560" y="564156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1" name=""/>
            <p:cNvCxnSpPr>
              <a:stCxn id="63" idx="4"/>
              <a:endCxn id="67" idx="0"/>
            </p:cNvCxnSpPr>
            <p:nvPr/>
          </p:nvCxnSpPr>
          <p:spPr>
            <a:xfrm flipH="1">
              <a:off x="7889400" y="5641560"/>
              <a:ext cx="4176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2" name=""/>
            <p:cNvCxnSpPr>
              <a:stCxn id="62" idx="4"/>
              <a:endCxn id="68" idx="0"/>
            </p:cNvCxnSpPr>
            <p:nvPr/>
          </p:nvCxnSpPr>
          <p:spPr>
            <a:xfrm>
              <a:off x="7419960" y="5641560"/>
              <a:ext cx="4176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3" name=""/>
            <p:cNvCxnSpPr>
              <a:stCxn id="62" idx="4"/>
              <a:endCxn id="57" idx="1"/>
            </p:cNvCxnSpPr>
            <p:nvPr/>
          </p:nvCxnSpPr>
          <p:spPr>
            <a:xfrm>
              <a:off x="7420320" y="5641560"/>
              <a:ext cx="6379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4" name=""/>
            <p:cNvCxnSpPr>
              <a:stCxn id="63" idx="4"/>
              <a:endCxn id="57" idx="1"/>
            </p:cNvCxnSpPr>
            <p:nvPr/>
          </p:nvCxnSpPr>
          <p:spPr>
            <a:xfrm>
              <a:off x="7930800" y="5641560"/>
              <a:ext cx="1267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5" name=""/>
            <p:cNvCxnSpPr>
              <a:stCxn id="63" idx="4"/>
              <a:endCxn id="68" idx="7"/>
            </p:cNvCxnSpPr>
            <p:nvPr/>
          </p:nvCxnSpPr>
          <p:spPr>
            <a:xfrm flipH="1">
              <a:off x="7507440" y="5641560"/>
              <a:ext cx="4237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6" name=""/>
            <p:cNvCxnSpPr>
              <a:stCxn id="58" idx="3"/>
              <a:endCxn id="63" idx="7"/>
            </p:cNvCxnSpPr>
            <p:nvPr/>
          </p:nvCxnSpPr>
          <p:spPr>
            <a:xfrm flipH="1">
              <a:off x="7976520" y="5308200"/>
              <a:ext cx="67716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7" name=""/>
            <p:cNvCxnSpPr>
              <a:stCxn id="54" idx="3"/>
              <a:endCxn id="62" idx="7"/>
            </p:cNvCxnSpPr>
            <p:nvPr/>
          </p:nvCxnSpPr>
          <p:spPr>
            <a:xfrm flipH="1">
              <a:off x="7466040" y="5308200"/>
              <a:ext cx="93240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8" name=""/>
            <p:cNvCxnSpPr>
              <a:endCxn id="79" idx="7"/>
            </p:cNvCxnSpPr>
            <p:nvPr/>
          </p:nvCxnSpPr>
          <p:spPr>
            <a:xfrm flipH="1">
              <a:off x="6783120" y="5295960"/>
              <a:ext cx="42192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80" name=""/>
            <p:cNvSpPr/>
            <p:nvPr/>
          </p:nvSpPr>
          <p:spPr>
            <a:xfrm>
              <a:off x="714312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928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7404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1844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8440" y="54946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74040" y="54946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29280" y="54946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86" name=""/>
            <p:cNvCxnSpPr>
              <a:stCxn id="82" idx="4"/>
              <a:endCxn id="79" idx="0"/>
            </p:cNvCxnSpPr>
            <p:nvPr/>
          </p:nvCxnSpPr>
          <p:spPr>
            <a:xfrm>
              <a:off x="673956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87" name=""/>
            <p:cNvCxnSpPr>
              <a:stCxn id="83" idx="4"/>
              <a:endCxn id="84" idx="0"/>
            </p:cNvCxnSpPr>
            <p:nvPr/>
          </p:nvCxnSpPr>
          <p:spPr>
            <a:xfrm>
              <a:off x="648144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88" name=""/>
            <p:cNvCxnSpPr>
              <a:stCxn id="81" idx="4"/>
              <a:endCxn id="85" idx="0"/>
            </p:cNvCxnSpPr>
            <p:nvPr/>
          </p:nvCxnSpPr>
          <p:spPr>
            <a:xfrm>
              <a:off x="699444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89" name=""/>
            <p:cNvSpPr/>
            <p:nvPr/>
          </p:nvSpPr>
          <p:spPr>
            <a:xfrm>
              <a:off x="6887880" y="580824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62000" y="580824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7404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48520" y="5808240"/>
              <a:ext cx="12888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79" idx="4"/>
              <a:endCxn id="91" idx="0"/>
            </p:cNvCxnSpPr>
            <p:nvPr/>
          </p:nvCxnSpPr>
          <p:spPr>
            <a:xfrm>
              <a:off x="6739560" y="564156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4" name=""/>
            <p:cNvCxnSpPr>
              <a:stCxn id="85" idx="4"/>
              <a:endCxn id="89" idx="0"/>
            </p:cNvCxnSpPr>
            <p:nvPr/>
          </p:nvCxnSpPr>
          <p:spPr>
            <a:xfrm flipH="1">
              <a:off x="6950880" y="5641560"/>
              <a:ext cx="4392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5" name=""/>
            <p:cNvCxnSpPr>
              <a:stCxn id="84" idx="4"/>
              <a:endCxn id="90" idx="0"/>
            </p:cNvCxnSpPr>
            <p:nvPr/>
          </p:nvCxnSpPr>
          <p:spPr>
            <a:xfrm>
              <a:off x="6481800" y="5641560"/>
              <a:ext cx="4392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6" name=""/>
            <p:cNvCxnSpPr>
              <a:stCxn id="84" idx="4"/>
              <a:endCxn id="80" idx="1"/>
            </p:cNvCxnSpPr>
            <p:nvPr/>
          </p:nvCxnSpPr>
          <p:spPr>
            <a:xfrm>
              <a:off x="6481440" y="5641560"/>
              <a:ext cx="68148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7" name=""/>
            <p:cNvCxnSpPr>
              <a:stCxn id="84" idx="4"/>
              <a:endCxn id="92" idx="7"/>
            </p:cNvCxnSpPr>
            <p:nvPr/>
          </p:nvCxnSpPr>
          <p:spPr>
            <a:xfrm flipH="1">
              <a:off x="6356880" y="5641560"/>
              <a:ext cx="1249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8" name=""/>
            <p:cNvCxnSpPr>
              <a:stCxn id="85" idx="4"/>
              <a:endCxn id="80" idx="1"/>
            </p:cNvCxnSpPr>
            <p:nvPr/>
          </p:nvCxnSpPr>
          <p:spPr>
            <a:xfrm>
              <a:off x="6994440" y="5641560"/>
              <a:ext cx="16884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9" name=""/>
            <p:cNvCxnSpPr>
              <a:stCxn id="85" idx="4"/>
              <a:endCxn id="90" idx="7"/>
            </p:cNvCxnSpPr>
            <p:nvPr/>
          </p:nvCxnSpPr>
          <p:spPr>
            <a:xfrm flipH="1">
              <a:off x="6570720" y="5641560"/>
              <a:ext cx="4237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100" name=""/>
            <p:cNvSpPr/>
            <p:nvPr/>
          </p:nvSpPr>
          <p:spPr>
            <a:xfrm>
              <a:off x="7143120" y="54946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4312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4"/>
              <a:endCxn id="100" idx="0"/>
            </p:cNvCxnSpPr>
            <p:nvPr/>
          </p:nvCxnSpPr>
          <p:spPr>
            <a:xfrm>
              <a:off x="720612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103" name=""/>
            <p:cNvCxnSpPr>
              <a:stCxn id="61" idx="3"/>
              <a:endCxn id="100" idx="7"/>
            </p:cNvCxnSpPr>
            <p:nvPr/>
          </p:nvCxnSpPr>
          <p:spPr>
            <a:xfrm flipH="1">
              <a:off x="7252200" y="5308200"/>
              <a:ext cx="12240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104" name=""/>
            <p:cNvCxnSpPr>
              <a:stCxn id="62" idx="3"/>
              <a:endCxn id="80" idx="7"/>
            </p:cNvCxnSpPr>
            <p:nvPr/>
          </p:nvCxnSpPr>
          <p:spPr>
            <a:xfrm flipH="1">
              <a:off x="7252200" y="5621400"/>
              <a:ext cx="12240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105" name=""/>
            <p:cNvCxnSpPr>
              <a:stCxn id="100" idx="4"/>
              <a:endCxn id="80" idx="0"/>
            </p:cNvCxnSpPr>
            <p:nvPr/>
          </p:nvCxnSpPr>
          <p:spPr>
            <a:xfrm>
              <a:off x="7206120" y="564156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5257800"/>
            <a:ext cx="2210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Lucida Console"/>
              </a:rPr>
              <a:t>AGCTTTCAGTACAGTATGTCTCAGTAAGTATTCAGTTTCAGTACAGTAACATCTCAGTAATCAGTAGTAGTACCAGCCCCGGTTCAGTTTCAGTACAGTAACATCTCAGTCTCAGTAATCAGTAGTAAGCTTGGGGGGTTTTTTTTTTTTTTTT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562720"/>
            <a:ext cx="1523880" cy="0"/>
          </a:xfrm>
          <a:prstGeom prst="line">
            <a:avLst/>
          </a:prstGeom>
          <a:ln w="2379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8120" y="167652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ffec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Key Ideas:  States and Rol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167652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67652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4"/>
            <a:endCxn id="114" idx="0"/>
          </p:cNvCxnSpPr>
          <p:nvPr/>
        </p:nvCxnSpPr>
        <p:spPr>
          <a:xfrm flipH="1">
            <a:off x="990360" y="2609640"/>
            <a:ext cx="838800" cy="2324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1" idx="3"/>
            <a:endCxn id="116" idx="7"/>
          </p:cNvCxnSpPr>
          <p:nvPr/>
        </p:nvCxnSpPr>
        <p:spPr>
          <a:xfrm flipH="1">
            <a:off x="2312640" y="2476440"/>
            <a:ext cx="937440" cy="106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04920" y="495288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e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2" idx="4"/>
            <a:endCxn id="118" idx="0"/>
          </p:cNvCxnSpPr>
          <p:nvPr/>
        </p:nvCxnSpPr>
        <p:spPr>
          <a:xfrm>
            <a:off x="1828800" y="2609640"/>
            <a:ext cx="838800" cy="2324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981080" y="495288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e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42900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6" idx="3"/>
            <a:endCxn id="114" idx="0"/>
          </p:cNvCxnSpPr>
          <p:nvPr/>
        </p:nvCxnSpPr>
        <p:spPr>
          <a:xfrm flipH="1">
            <a:off x="990000" y="4228920"/>
            <a:ext cx="354600" cy="705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6" idx="5"/>
            <a:endCxn id="118" idx="0"/>
          </p:cNvCxnSpPr>
          <p:nvPr/>
        </p:nvCxnSpPr>
        <p:spPr>
          <a:xfrm>
            <a:off x="2312640" y="4228920"/>
            <a:ext cx="354600" cy="705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2" idx="4"/>
            <a:endCxn id="116" idx="0"/>
          </p:cNvCxnSpPr>
          <p:nvPr/>
        </p:nvCxnSpPr>
        <p:spPr>
          <a:xfrm>
            <a:off x="1828440" y="2610000"/>
            <a:ext cx="108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be obser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 on more than regulator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cellular conditions as surrogates/predictors of regulation eff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a regulator an </a:t>
            </a: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activa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</a:t>
            </a: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repress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sequence analysis to predict these ro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Network Variables and Structure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8" idx="4"/>
            <a:endCxn id="131" idx="0"/>
          </p:cNvCxnSpPr>
          <p:nvPr/>
        </p:nvCxnSpPr>
        <p:spPr>
          <a:xfrm>
            <a:off x="4838400" y="2381400"/>
            <a:ext cx="1080" cy="876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4"/>
            <a:endCxn id="130" idx="0"/>
          </p:cNvCxnSpPr>
          <p:nvPr/>
        </p:nvCxnSpPr>
        <p:spPr>
          <a:xfrm>
            <a:off x="4381200" y="2381400"/>
            <a:ext cx="1080" cy="876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7" idx="4"/>
            <a:endCxn id="132" idx="0"/>
          </p:cNvCxnSpPr>
          <p:nvPr/>
        </p:nvCxnSpPr>
        <p:spPr>
          <a:xfrm>
            <a:off x="5295600" y="2381400"/>
            <a:ext cx="1080" cy="876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4" idx="3"/>
            <a:endCxn id="130" idx="7"/>
          </p:cNvCxnSpPr>
          <p:nvPr/>
        </p:nvCxnSpPr>
        <p:spPr>
          <a:xfrm flipH="1">
            <a:off x="4461840" y="2347560"/>
            <a:ext cx="1438920" cy="943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4" idx="3"/>
            <a:endCxn id="132" idx="7"/>
          </p:cNvCxnSpPr>
          <p:nvPr/>
        </p:nvCxnSpPr>
        <p:spPr>
          <a:xfrm flipH="1">
            <a:off x="5376600" y="2347560"/>
            <a:ext cx="524160" cy="943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5" idx="3"/>
            <a:endCxn id="130" idx="7"/>
          </p:cNvCxnSpPr>
          <p:nvPr/>
        </p:nvCxnSpPr>
        <p:spPr>
          <a:xfrm flipH="1">
            <a:off x="4461840" y="2347560"/>
            <a:ext cx="1896120" cy="943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6" idx="3"/>
            <a:endCxn id="131" idx="7"/>
          </p:cNvCxnSpPr>
          <p:nvPr/>
        </p:nvCxnSpPr>
        <p:spPr>
          <a:xfrm flipH="1">
            <a:off x="4919040" y="2347560"/>
            <a:ext cx="1896120" cy="943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25780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0" idx="4"/>
            <a:endCxn id="141" idx="0"/>
          </p:cNvCxnSpPr>
          <p:nvPr/>
        </p:nvCxnSpPr>
        <p:spPr>
          <a:xfrm flipH="1">
            <a:off x="4228560" y="3524040"/>
            <a:ext cx="15300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4"/>
            <a:endCxn id="142" idx="0"/>
          </p:cNvCxnSpPr>
          <p:nvPr/>
        </p:nvCxnSpPr>
        <p:spPr>
          <a:xfrm>
            <a:off x="4381200" y="3524040"/>
            <a:ext cx="22932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1" idx="5"/>
            <a:endCxn id="140" idx="1"/>
          </p:cNvCxnSpPr>
          <p:nvPr/>
        </p:nvCxnSpPr>
        <p:spPr>
          <a:xfrm>
            <a:off x="4919760" y="3490920"/>
            <a:ext cx="372240" cy="117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1" idx="3"/>
            <a:endCxn id="141" idx="7"/>
          </p:cNvCxnSpPr>
          <p:nvPr/>
        </p:nvCxnSpPr>
        <p:spPr>
          <a:xfrm flipH="1">
            <a:off x="4309560" y="3490920"/>
            <a:ext cx="448560" cy="117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2" idx="4"/>
            <a:endCxn id="143" idx="0"/>
          </p:cNvCxnSpPr>
          <p:nvPr/>
        </p:nvCxnSpPr>
        <p:spPr>
          <a:xfrm flipH="1">
            <a:off x="4990320" y="3524040"/>
            <a:ext cx="30564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2" idx="4"/>
            <a:endCxn id="140" idx="0"/>
          </p:cNvCxnSpPr>
          <p:nvPr/>
        </p:nvCxnSpPr>
        <p:spPr>
          <a:xfrm>
            <a:off x="5295960" y="3524040"/>
            <a:ext cx="766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1" idx="4"/>
            <a:endCxn id="142" idx="0"/>
          </p:cNvCxnSpPr>
          <p:nvPr/>
        </p:nvCxnSpPr>
        <p:spPr>
          <a:xfrm flipH="1">
            <a:off x="4609440" y="3524040"/>
            <a:ext cx="22932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1" idx="4"/>
            <a:endCxn id="143" idx="1"/>
          </p:cNvCxnSpPr>
          <p:nvPr/>
        </p:nvCxnSpPr>
        <p:spPr>
          <a:xfrm>
            <a:off x="4838760" y="3524040"/>
            <a:ext cx="72000" cy="1138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72388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532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133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6" idx="4"/>
            <a:endCxn id="159" idx="0"/>
          </p:cNvCxnSpPr>
          <p:nvPr/>
        </p:nvCxnSpPr>
        <p:spPr>
          <a:xfrm>
            <a:off x="3466800" y="2381400"/>
            <a:ext cx="1080" cy="876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7" idx="4"/>
            <a:endCxn id="158" idx="0"/>
          </p:cNvCxnSpPr>
          <p:nvPr/>
        </p:nvCxnSpPr>
        <p:spPr>
          <a:xfrm>
            <a:off x="3009600" y="2381400"/>
            <a:ext cx="1080" cy="876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5" idx="4"/>
            <a:endCxn id="160" idx="0"/>
          </p:cNvCxnSpPr>
          <p:nvPr/>
        </p:nvCxnSpPr>
        <p:spPr>
          <a:xfrm>
            <a:off x="3924000" y="2381400"/>
            <a:ext cx="1080" cy="876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46483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59" idx="4"/>
            <a:endCxn id="167" idx="0"/>
          </p:cNvCxnSpPr>
          <p:nvPr/>
        </p:nvCxnSpPr>
        <p:spPr>
          <a:xfrm>
            <a:off x="3466800" y="3524040"/>
            <a:ext cx="10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0" idx="4"/>
            <a:endCxn id="164" idx="0"/>
          </p:cNvCxnSpPr>
          <p:nvPr/>
        </p:nvCxnSpPr>
        <p:spPr>
          <a:xfrm flipH="1">
            <a:off x="3848040" y="3524040"/>
            <a:ext cx="766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8" idx="4"/>
            <a:endCxn id="166" idx="0"/>
          </p:cNvCxnSpPr>
          <p:nvPr/>
        </p:nvCxnSpPr>
        <p:spPr>
          <a:xfrm>
            <a:off x="3009960" y="3524040"/>
            <a:ext cx="766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8" idx="4"/>
            <a:endCxn id="170" idx="7"/>
          </p:cNvCxnSpPr>
          <p:nvPr/>
        </p:nvCxnSpPr>
        <p:spPr>
          <a:xfrm flipH="1">
            <a:off x="2404800" y="3524040"/>
            <a:ext cx="605520" cy="1138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58" idx="4"/>
            <a:endCxn id="141" idx="1"/>
          </p:cNvCxnSpPr>
          <p:nvPr/>
        </p:nvCxnSpPr>
        <p:spPr>
          <a:xfrm>
            <a:off x="3009960" y="3524040"/>
            <a:ext cx="1139040" cy="1138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58" idx="4"/>
            <a:endCxn id="169" idx="7"/>
          </p:cNvCxnSpPr>
          <p:nvPr/>
        </p:nvCxnSpPr>
        <p:spPr>
          <a:xfrm flipH="1">
            <a:off x="2785680" y="3524040"/>
            <a:ext cx="224640" cy="1138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0" idx="4"/>
            <a:endCxn id="141" idx="1"/>
          </p:cNvCxnSpPr>
          <p:nvPr/>
        </p:nvCxnSpPr>
        <p:spPr>
          <a:xfrm>
            <a:off x="3924360" y="3524040"/>
            <a:ext cx="224640" cy="1138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32" idx="5"/>
            <a:endCxn id="165" idx="0"/>
          </p:cNvCxnSpPr>
          <p:nvPr/>
        </p:nvCxnSpPr>
        <p:spPr>
          <a:xfrm>
            <a:off x="5376600" y="3490920"/>
            <a:ext cx="757800" cy="1139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30" idx="4"/>
            <a:endCxn id="169" idx="0"/>
          </p:cNvCxnSpPr>
          <p:nvPr/>
        </p:nvCxnSpPr>
        <p:spPr>
          <a:xfrm flipH="1">
            <a:off x="2704320" y="3524040"/>
            <a:ext cx="167724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0" idx="4"/>
            <a:endCxn id="166" idx="7"/>
          </p:cNvCxnSpPr>
          <p:nvPr/>
        </p:nvCxnSpPr>
        <p:spPr>
          <a:xfrm flipH="1">
            <a:off x="3166560" y="3524040"/>
            <a:ext cx="758160" cy="1138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32" idx="5"/>
            <a:endCxn id="168" idx="1"/>
          </p:cNvCxnSpPr>
          <p:nvPr/>
        </p:nvCxnSpPr>
        <p:spPr>
          <a:xfrm>
            <a:off x="5376960" y="3490920"/>
            <a:ext cx="295560" cy="117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54" idx="3"/>
            <a:endCxn id="132" idx="6"/>
          </p:cNvCxnSpPr>
          <p:nvPr/>
        </p:nvCxnSpPr>
        <p:spPr>
          <a:xfrm flipH="1">
            <a:off x="5428800" y="2347560"/>
            <a:ext cx="2758320" cy="1043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53" idx="3"/>
            <a:endCxn id="160" idx="0"/>
          </p:cNvCxnSpPr>
          <p:nvPr/>
        </p:nvCxnSpPr>
        <p:spPr>
          <a:xfrm flipH="1">
            <a:off x="3924000" y="2347560"/>
            <a:ext cx="3805920" cy="910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152280" y="312408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dden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gulator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tates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ated” or “inactivated”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14479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000"/>
                </a:solidFill>
                <a:latin typeface="Arial"/>
              </a:rPr>
              <a:t>Cellular Conditions: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tionary growth phase”, “heat shock”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4952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Regulatee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 state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144792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gulators: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 state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3505320"/>
            <a:ext cx="158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nect where we have evidence of regulation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25146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ect relevant parent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172200" y="3962520"/>
            <a:ext cx="380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543800" y="2971800"/>
            <a:ext cx="380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Representing Expression Stat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4952880" y="4647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7048440" y="392400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334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 Range for state #1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5334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 Range for state #2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distinct expression states</a:t>
            </a:r>
            <a:endParaRPr b="0" lang="en-US" sz="2800" spc="-1" strike="noStrike">
              <a:solidFill>
                <a:srgbClr val="eae4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each state represented by a Gaussian</a:t>
            </a:r>
            <a:endParaRPr b="0" lang="en-US" sz="2800" spc="-1" strike="noStrike">
              <a:solidFill>
                <a:srgbClr val="eae4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:  </a:t>
            </a:r>
            <a:r>
              <a:rPr b="0" lang="en-US" sz="2800" spc="-1" strike="noStrike">
                <a:solidFill>
                  <a:srgbClr val="af9881"/>
                </a:solidFill>
                <a:latin typeface="Arial"/>
              </a:rPr>
              <a:t>Gaussian mixture model</a:t>
            </a:r>
            <a:endParaRPr b="0" lang="en-US" sz="2800" spc="-1" strike="noStrike">
              <a:solidFill>
                <a:srgbClr val="eae4de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581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Network Parameters:  Hidden Nodes use </a:t>
            </a:r>
            <a:r>
              <a:rPr b="0" i="1" lang="en-US" sz="4000" spc="-1" strike="noStrike">
                <a:solidFill>
                  <a:srgbClr val="af9881"/>
                </a:solidFill>
                <a:latin typeface="Arial"/>
              </a:rPr>
              <a:t>CPD-Trees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44840" y="168264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16440" y="168264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Heat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hock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67652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50532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5" idx="2"/>
          </p:cNvCxnSpPr>
          <p:nvPr/>
        </p:nvCxnSpPr>
        <p:spPr>
          <a:xfrm flipH="1">
            <a:off x="2932920" y="4114440"/>
            <a:ext cx="1677240" cy="610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5" idx="2"/>
            <a:endCxn id="207" idx="0"/>
          </p:cNvCxnSpPr>
          <p:nvPr/>
        </p:nvCxnSpPr>
        <p:spPr>
          <a:xfrm>
            <a:off x="4610160" y="4114440"/>
            <a:ext cx="1410480" cy="610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7" idx="2"/>
          </p:cNvCxnSpPr>
          <p:nvPr/>
        </p:nvCxnSpPr>
        <p:spPr>
          <a:xfrm flipH="1">
            <a:off x="3314520" y="5181120"/>
            <a:ext cx="2705760" cy="839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7" idx="2"/>
          </p:cNvCxnSpPr>
          <p:nvPr/>
        </p:nvCxnSpPr>
        <p:spPr>
          <a:xfrm>
            <a:off x="6019560" y="5181120"/>
            <a:ext cx="1028880" cy="839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914400" y="55627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wth Phase = Log Phase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2" idx="4"/>
            <a:endCxn id="203" idx="0"/>
          </p:cNvCxnSpPr>
          <p:nvPr/>
        </p:nvCxnSpPr>
        <p:spPr>
          <a:xfrm>
            <a:off x="1028520" y="2381040"/>
            <a:ext cx="10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0" idx="3"/>
            <a:endCxn id="203" idx="7"/>
          </p:cNvCxnSpPr>
          <p:nvPr/>
        </p:nvCxnSpPr>
        <p:spPr>
          <a:xfrm flipH="1">
            <a:off x="1433160" y="2287440"/>
            <a:ext cx="2178720" cy="1299600"/>
          </a:xfrm>
          <a:prstGeom prst="straightConnector1">
            <a:avLst/>
          </a:prstGeom>
          <a:ln cap="rnd" w="19080">
            <a:solidFill>
              <a:srgbClr val="334c65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13" name=""/>
          <p:cNvCxnSpPr>
            <a:stCxn id="201" idx="3"/>
            <a:endCxn id="203" idx="7"/>
          </p:cNvCxnSpPr>
          <p:nvPr/>
        </p:nvCxnSpPr>
        <p:spPr>
          <a:xfrm flipH="1">
            <a:off x="1433160" y="2287440"/>
            <a:ext cx="3550320" cy="1299600"/>
          </a:xfrm>
          <a:prstGeom prst="straightConnector1">
            <a:avLst/>
          </a:prstGeom>
          <a:ln cap="rnd" w="19080">
            <a:solidFill>
              <a:srgbClr val="334c65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2055960" y="167796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Phas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14" idx="3"/>
            <a:endCxn id="203" idx="7"/>
          </p:cNvCxnSpPr>
          <p:nvPr/>
        </p:nvCxnSpPr>
        <p:spPr>
          <a:xfrm flipH="1">
            <a:off x="1433160" y="2282400"/>
            <a:ext cx="789840" cy="1304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5257800" y="4724280"/>
            <a:ext cx="1523880" cy="45720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wth Phase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3581280"/>
            <a:ext cx="990720" cy="53352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J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48520" y="1676520"/>
            <a:ext cx="274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 </a:t>
            </a: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selec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om regulator expression, cellular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contain </a:t>
            </a: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context-sensitive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2670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J = Low expression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03" idx="6"/>
            <a:endCxn id="205" idx="1"/>
          </p:cNvCxnSpPr>
          <p:nvPr/>
        </p:nvCxnSpPr>
        <p:spPr>
          <a:xfrm>
            <a:off x="1619280" y="3847680"/>
            <a:ext cx="2496240" cy="108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219" name=""/>
          <p:cNvSpPr/>
          <p:nvPr/>
        </p:nvSpPr>
        <p:spPr>
          <a:xfrm>
            <a:off x="5562720" y="42670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J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Low expression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54864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wth Phase ≠ Log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71600" y="4724280"/>
            <a:ext cx="3200400" cy="457200"/>
            <a:chOff x="1371600" y="4724280"/>
            <a:chExt cx="3200400" cy="457200"/>
          </a:xfrm>
        </p:grpSpPr>
        <p:sp>
          <p:nvSpPr>
            <p:cNvPr id="222" name=""/>
            <p:cNvSpPr/>
            <p:nvPr/>
          </p:nvSpPr>
          <p:spPr>
            <a:xfrm>
              <a:off x="1447560" y="4724280"/>
              <a:ext cx="30481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480060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(metJ state = activated):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001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0080" y="6019920"/>
            <a:ext cx="3200400" cy="457200"/>
            <a:chOff x="5410080" y="6019920"/>
            <a:chExt cx="3200400" cy="457200"/>
          </a:xfrm>
        </p:grpSpPr>
        <p:sp>
          <p:nvSpPr>
            <p:cNvPr id="225" name=""/>
            <p:cNvSpPr/>
            <p:nvPr/>
          </p:nvSpPr>
          <p:spPr>
            <a:xfrm>
              <a:off x="5486040" y="6019920"/>
              <a:ext cx="30481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0080" y="60962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(metJ state = activated):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994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752480" y="6019920"/>
            <a:ext cx="3200400" cy="457200"/>
            <a:chOff x="1752480" y="6019920"/>
            <a:chExt cx="3200400" cy="457200"/>
          </a:xfrm>
        </p:grpSpPr>
        <p:sp>
          <p:nvSpPr>
            <p:cNvPr id="228" name=""/>
            <p:cNvSpPr/>
            <p:nvPr/>
          </p:nvSpPr>
          <p:spPr>
            <a:xfrm>
              <a:off x="1828440" y="6019920"/>
              <a:ext cx="30481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52480" y="60962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(metJ state = activated):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Training the Model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ize th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 EM algorithm to set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Step:  Determine expected states of regu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-Step:  Update CP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3581280"/>
            <a:ext cx="1295280" cy="838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3581280"/>
            <a:ext cx="1295640" cy="838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4648320"/>
            <a:ext cx="129528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?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3" idx="4"/>
            <a:endCxn id="234" idx="1"/>
          </p:cNvCxnSpPr>
          <p:nvPr/>
        </p:nvCxnSpPr>
        <p:spPr>
          <a:xfrm>
            <a:off x="6286320" y="4438800"/>
            <a:ext cx="379800" cy="313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2" idx="4"/>
            <a:endCxn id="234" idx="7"/>
          </p:cNvCxnSpPr>
          <p:nvPr/>
        </p:nvCxnSpPr>
        <p:spPr>
          <a:xfrm flipH="1">
            <a:off x="7583040" y="4438800"/>
            <a:ext cx="456480" cy="313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4"/>
            <a:endCxn id="238" idx="0"/>
          </p:cNvCxnSpPr>
          <p:nvPr/>
        </p:nvCxnSpPr>
        <p:spPr>
          <a:xfrm>
            <a:off x="7124400" y="55051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6477120" y="5791320"/>
            <a:ext cx="129528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e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PD = ?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6019920"/>
            <a:ext cx="914400" cy="38088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PD = ?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4" idx="6"/>
            <a:endCxn id="239" idx="1"/>
          </p:cNvCxnSpPr>
          <p:nvPr/>
        </p:nvCxnSpPr>
        <p:spPr>
          <a:xfrm>
            <a:off x="7791480" y="5067000"/>
            <a:ext cx="28656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242" name=""/>
          <p:cNvCxnSpPr>
            <a:stCxn id="238" idx="6"/>
            <a:endCxn id="240" idx="1"/>
          </p:cNvCxnSpPr>
          <p:nvPr/>
        </p:nvCxnSpPr>
        <p:spPr>
          <a:xfrm>
            <a:off x="7791480" y="6210000"/>
            <a:ext cx="28656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E-Step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dium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hock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0574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36576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6576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A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47" idx="4"/>
            <a:endCxn id="249" idx="0"/>
          </p:cNvCxnSpPr>
          <p:nvPr/>
        </p:nvCxnSpPr>
        <p:spPr>
          <a:xfrm flipH="1">
            <a:off x="3847320" y="2609640"/>
            <a:ext cx="305640" cy="10288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4"/>
            <a:endCxn id="248" idx="0"/>
          </p:cNvCxnSpPr>
          <p:nvPr/>
        </p:nvCxnSpPr>
        <p:spPr>
          <a:xfrm>
            <a:off x="4152960" y="2609640"/>
            <a:ext cx="534240" cy="10288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4" idx="4"/>
            <a:endCxn id="247" idx="0"/>
          </p:cNvCxnSpPr>
          <p:nvPr/>
        </p:nvCxnSpPr>
        <p:spPr>
          <a:xfrm>
            <a:off x="3847680" y="1695600"/>
            <a:ext cx="30564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7" idx="0"/>
          </p:cNvCxnSpPr>
          <p:nvPr/>
        </p:nvCxnSpPr>
        <p:spPr>
          <a:xfrm flipH="1">
            <a:off x="4152600" y="1617840"/>
            <a:ext cx="1281600" cy="421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5" idx="4"/>
            <a:endCxn id="247" idx="0"/>
          </p:cNvCxnSpPr>
          <p:nvPr/>
        </p:nvCxnSpPr>
        <p:spPr>
          <a:xfrm flipH="1">
            <a:off x="4152240" y="1695600"/>
            <a:ext cx="61020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2971800" y="20574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R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5" idx="5"/>
            <a:endCxn id="248" idx="1"/>
          </p:cNvCxnSpPr>
          <p:nvPr/>
        </p:nvCxnSpPr>
        <p:spPr>
          <a:xfrm>
            <a:off x="3557160" y="2531880"/>
            <a:ext cx="886680" cy="1184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5" idx="4"/>
            <a:endCxn id="249" idx="1"/>
          </p:cNvCxnSpPr>
          <p:nvPr/>
        </p:nvCxnSpPr>
        <p:spPr>
          <a:xfrm>
            <a:off x="3314880" y="2609640"/>
            <a:ext cx="290880" cy="1107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243828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258" idx="4"/>
            <a:endCxn id="247" idx="0"/>
          </p:cNvCxnSpPr>
          <p:nvPr/>
        </p:nvCxnSpPr>
        <p:spPr>
          <a:xfrm>
            <a:off x="2781360" y="1695600"/>
            <a:ext cx="137232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60" name=""/>
          <p:cNvGrpSpPr/>
          <p:nvPr/>
        </p:nvGrpSpPr>
        <p:grpSpPr>
          <a:xfrm>
            <a:off x="6365880" y="3565440"/>
            <a:ext cx="731520" cy="204840"/>
            <a:chOff x="6365880" y="3565440"/>
            <a:chExt cx="731520" cy="204840"/>
          </a:xfrm>
        </p:grpSpPr>
        <p:sp>
          <p:nvSpPr>
            <p:cNvPr id="261" name=""/>
            <p:cNvSpPr/>
            <p:nvPr/>
          </p:nvSpPr>
          <p:spPr>
            <a:xfrm>
              <a:off x="6365880" y="3565440"/>
              <a:ext cx="344160" cy="20484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4000" y="3604680"/>
              <a:ext cx="473400" cy="16524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78400" y="35654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379404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34290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4000" y="3794040"/>
            <a:ext cx="8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4000" y="3565440"/>
            <a:ext cx="85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tR      metJ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88040" y="341316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ents Activated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3581280"/>
            <a:ext cx="457200" cy="20484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0" y="632"/>
                </a:moveTo>
                <a:cubicBezTo>
                  <a:pt x="60" y="636"/>
                  <a:pt x="120" y="640"/>
                  <a:pt x="192" y="536"/>
                </a:cubicBezTo>
                <a:cubicBezTo>
                  <a:pt x="264" y="432"/>
                  <a:pt x="352" y="0"/>
                  <a:pt x="432" y="8"/>
                </a:cubicBezTo>
                <a:cubicBezTo>
                  <a:pt x="512" y="16"/>
                  <a:pt x="608" y="480"/>
                  <a:pt x="672" y="584"/>
                </a:cubicBezTo>
                <a:cubicBezTo>
                  <a:pt x="736" y="688"/>
                  <a:pt x="776" y="660"/>
                  <a:pt x="816" y="6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505320"/>
            <a:ext cx="397080" cy="28080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0" y="632"/>
                </a:moveTo>
                <a:cubicBezTo>
                  <a:pt x="60" y="636"/>
                  <a:pt x="120" y="640"/>
                  <a:pt x="192" y="536"/>
                </a:cubicBezTo>
                <a:cubicBezTo>
                  <a:pt x="264" y="432"/>
                  <a:pt x="352" y="0"/>
                  <a:pt x="432" y="8"/>
                </a:cubicBezTo>
                <a:cubicBezTo>
                  <a:pt x="512" y="16"/>
                  <a:pt x="608" y="480"/>
                  <a:pt x="672" y="584"/>
                </a:cubicBezTo>
                <a:cubicBezTo>
                  <a:pt x="736" y="688"/>
                  <a:pt x="776" y="660"/>
                  <a:pt x="816" y="6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38098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4290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3809880"/>
            <a:ext cx="8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3581280"/>
            <a:ext cx="85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tR      metJ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34290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ents Activated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8" idx="1"/>
            <a:endCxn id="247" idx="6"/>
          </p:cNvCxnSpPr>
          <p:nvPr/>
        </p:nvCxnSpPr>
        <p:spPr>
          <a:xfrm flipV="1" rot="10800000">
            <a:off x="4514040" y="2094480"/>
            <a:ext cx="1886760" cy="229320"/>
          </a:xfrm>
          <a:prstGeom prst="bentConnector3">
            <a:avLst>
              <a:gd name="adj1" fmla="val 50496"/>
            </a:avLst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279" name=""/>
          <p:cNvCxnSpPr>
            <a:stCxn id="280" idx="3"/>
            <a:endCxn id="255" idx="2"/>
          </p:cNvCxnSpPr>
          <p:nvPr/>
        </p:nvCxnSpPr>
        <p:spPr>
          <a:xfrm>
            <a:off x="1905120" y="2095200"/>
            <a:ext cx="1048320" cy="229320"/>
          </a:xfrm>
          <a:prstGeom prst="bentConnector3">
            <a:avLst>
              <a:gd name="adj1" fmla="val 50875"/>
            </a:avLst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281" name=""/>
          <p:cNvCxnSpPr>
            <a:stCxn id="273" idx="3"/>
            <a:endCxn id="249" idx="2"/>
          </p:cNvCxnSpPr>
          <p:nvPr/>
        </p:nvCxnSpPr>
        <p:spPr>
          <a:xfrm>
            <a:off x="3200400" y="3924000"/>
            <a:ext cx="28656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282" name=""/>
          <p:cNvCxnSpPr>
            <a:stCxn id="248" idx="6"/>
            <a:endCxn id="265" idx="1"/>
          </p:cNvCxnSpPr>
          <p:nvPr/>
        </p:nvCxnSpPr>
        <p:spPr>
          <a:xfrm>
            <a:off x="5048280" y="3924000"/>
            <a:ext cx="21024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283" name=""/>
          <p:cNvSpPr/>
          <p:nvPr/>
        </p:nvSpPr>
        <p:spPr>
          <a:xfrm>
            <a:off x="6095880" y="2438280"/>
            <a:ext cx="228600" cy="22860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1981080"/>
            <a:ext cx="228600" cy="22860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78" idx="2"/>
            <a:endCxn id="285" idx="0"/>
          </p:cNvCxnSpPr>
          <p:nvPr/>
        </p:nvCxnSpPr>
        <p:spPr>
          <a:xfrm>
            <a:off x="6515280" y="2209320"/>
            <a:ext cx="30528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2"/>
            <a:endCxn id="283" idx="0"/>
          </p:cNvCxnSpPr>
          <p:nvPr/>
        </p:nvCxnSpPr>
        <p:spPr>
          <a:xfrm flipH="1">
            <a:off x="6209640" y="2209320"/>
            <a:ext cx="30564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3" idx="2"/>
          </p:cNvCxnSpPr>
          <p:nvPr/>
        </p:nvCxnSpPr>
        <p:spPr>
          <a:xfrm>
            <a:off x="6210000" y="2666520"/>
            <a:ext cx="22932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3" idx="2"/>
          </p:cNvCxnSpPr>
          <p:nvPr/>
        </p:nvCxnSpPr>
        <p:spPr>
          <a:xfrm flipH="1">
            <a:off x="5981040" y="2666520"/>
            <a:ext cx="22932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6324480" y="28954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05720" y="24382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8954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1981080"/>
            <a:ext cx="228600" cy="22860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0" idx="2"/>
          </p:cNvCxnSpPr>
          <p:nvPr/>
        </p:nvCxnSpPr>
        <p:spPr>
          <a:xfrm flipH="1">
            <a:off x="1561320" y="2209320"/>
            <a:ext cx="22932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0" idx="2"/>
          </p:cNvCxnSpPr>
          <p:nvPr/>
        </p:nvCxnSpPr>
        <p:spPr>
          <a:xfrm>
            <a:off x="1790280" y="2209320"/>
            <a:ext cx="22932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1905120" y="24382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24382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876920" y="5232240"/>
            <a:ext cx="990360" cy="1365480"/>
            <a:chOff x="4876920" y="5232240"/>
            <a:chExt cx="990360" cy="1365480"/>
          </a:xfrm>
        </p:grpSpPr>
        <p:sp>
          <p:nvSpPr>
            <p:cNvPr id="296" name=""/>
            <p:cNvSpPr/>
            <p:nvPr/>
          </p:nvSpPr>
          <p:spPr>
            <a:xfrm>
              <a:off x="4876920" y="6324480"/>
              <a:ext cx="990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0.2576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6920" y="6051600"/>
              <a:ext cx="990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6920" y="5778360"/>
              <a:ext cx="990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0.8412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6920" y="5505480"/>
              <a:ext cx="990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0.7844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76920" y="5232240"/>
              <a:ext cx="990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0.2287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867280" y="5778360"/>
            <a:ext cx="990720" cy="819360"/>
            <a:chOff x="5867280" y="5778360"/>
            <a:chExt cx="990720" cy="819360"/>
          </a:xfrm>
        </p:grpSpPr>
        <p:sp>
          <p:nvSpPr>
            <p:cNvPr id="302" name=""/>
            <p:cNvSpPr/>
            <p:nvPr/>
          </p:nvSpPr>
          <p:spPr>
            <a:xfrm>
              <a:off x="5867280" y="6324480"/>
              <a:ext cx="9907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0.0276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67280" y="6051600"/>
              <a:ext cx="9907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67280" y="5778360"/>
              <a:ext cx="9907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0.1112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867280" y="5505480"/>
            <a:ext cx="99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8244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23224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1087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62120" y="4557600"/>
            <a:ext cx="7315200" cy="2040120"/>
            <a:chOff x="762120" y="4557600"/>
            <a:chExt cx="7315200" cy="2040120"/>
          </a:xfrm>
        </p:grpSpPr>
        <p:sp>
          <p:nvSpPr>
            <p:cNvPr id="308" name=""/>
            <p:cNvSpPr/>
            <p:nvPr/>
          </p:nvSpPr>
          <p:spPr>
            <a:xfrm>
              <a:off x="1981080" y="6324480"/>
              <a:ext cx="609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81080" y="6051600"/>
              <a:ext cx="6098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81080" y="5778360"/>
              <a:ext cx="609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81080" y="5505480"/>
              <a:ext cx="6098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5232240"/>
              <a:ext cx="609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81080" y="4557600"/>
              <a:ext cx="6098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metJ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0920" y="6324480"/>
              <a:ext cx="8380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lycerol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90920" y="6051600"/>
              <a:ext cx="838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90920" y="5778360"/>
              <a:ext cx="8380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lucose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0920" y="5505480"/>
              <a:ext cx="838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line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0920" y="5232240"/>
              <a:ext cx="8380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lucose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90920" y="4557600"/>
              <a:ext cx="8380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GrowthMedium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9000" y="6324480"/>
              <a:ext cx="762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.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29000" y="6051600"/>
              <a:ext cx="7621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29000" y="5778360"/>
              <a:ext cx="762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.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9000" y="5505480"/>
              <a:ext cx="7621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.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29000" y="5232240"/>
              <a:ext cx="762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g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29000" y="4557600"/>
              <a:ext cx="7621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Growth Phase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1120" y="6324480"/>
              <a:ext cx="685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91120" y="6051600"/>
              <a:ext cx="685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1120" y="5778360"/>
              <a:ext cx="685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91120" y="5505480"/>
              <a:ext cx="685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91120" y="5232240"/>
              <a:ext cx="685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91120" y="4557600"/>
              <a:ext cx="6858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Heat Shock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557600"/>
              <a:ext cx="9903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metR state = activated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67280" y="4557600"/>
              <a:ext cx="9907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metJ state = activated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58000" y="6324480"/>
              <a:ext cx="609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58000" y="6051600"/>
              <a:ext cx="609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8000" y="5778360"/>
              <a:ext cx="609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58000" y="5505480"/>
              <a:ext cx="609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8000" y="5232240"/>
              <a:ext cx="609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0" y="4557600"/>
              <a:ext cx="6094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metA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324480"/>
              <a:ext cx="609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67480" y="6051600"/>
              <a:ext cx="6098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67480" y="5778360"/>
              <a:ext cx="609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67480" y="5505480"/>
              <a:ext cx="6098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67480" y="5232240"/>
              <a:ext cx="609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67480" y="4557600"/>
              <a:ext cx="6098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metE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2120" y="6324480"/>
              <a:ext cx="609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6051600"/>
              <a:ext cx="609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120" y="5778360"/>
              <a:ext cx="609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120" y="5505480"/>
              <a:ext cx="609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2120" y="5232240"/>
              <a:ext cx="609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120" y="4557600"/>
              <a:ext cx="6094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Array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71600" y="6324480"/>
              <a:ext cx="609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6051600"/>
              <a:ext cx="609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778360"/>
              <a:ext cx="609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71600" y="5505480"/>
              <a:ext cx="609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71600" y="5232240"/>
              <a:ext cx="609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57600"/>
              <a:ext cx="6094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f9881"/>
                  </a:solidFill>
                  <a:latin typeface="Arial"/>
                </a:rPr>
                <a:t>metR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2120" y="4557600"/>
              <a:ext cx="7315200" cy="0"/>
            </a:xfrm>
            <a:prstGeom prst="line">
              <a:avLst/>
            </a:prstGeom>
            <a:ln cap="sq" w="2844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120" y="5232240"/>
              <a:ext cx="7315200" cy="1116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762120" y="5505480"/>
              <a:ext cx="7315200" cy="1091880"/>
              <a:chOff x="762120" y="5505480"/>
              <a:chExt cx="7315200" cy="1091880"/>
            </a:xfrm>
          </p:grpSpPr>
          <p:sp>
            <p:nvSpPr>
              <p:cNvPr id="361" name=""/>
              <p:cNvSpPr/>
              <p:nvPr/>
            </p:nvSpPr>
            <p:spPr>
              <a:xfrm>
                <a:off x="762120" y="5505480"/>
                <a:ext cx="7315200" cy="0"/>
              </a:xfrm>
              <a:prstGeom prst="line">
                <a:avLst/>
              </a:prstGeom>
              <a:ln w="12600">
                <a:solidFill>
                  <a:srgbClr val="eae4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2120" y="5778360"/>
                <a:ext cx="7315200" cy="0"/>
              </a:xfrm>
              <a:prstGeom prst="line">
                <a:avLst/>
              </a:prstGeom>
              <a:ln w="12600">
                <a:solidFill>
                  <a:srgbClr val="eae4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2120" y="6051600"/>
                <a:ext cx="7315200" cy="0"/>
              </a:xfrm>
              <a:prstGeom prst="line">
                <a:avLst/>
              </a:prstGeom>
              <a:ln w="12600">
                <a:solidFill>
                  <a:srgbClr val="eae4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62120" y="6324480"/>
                <a:ext cx="7315200" cy="0"/>
              </a:xfrm>
              <a:prstGeom prst="line">
                <a:avLst/>
              </a:prstGeom>
              <a:ln w="12600">
                <a:solidFill>
                  <a:srgbClr val="eae4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2120" y="6597360"/>
                <a:ext cx="7315200" cy="0"/>
              </a:xfrm>
              <a:prstGeom prst="line">
                <a:avLst/>
              </a:prstGeom>
              <a:ln cap="sq" w="28440">
                <a:solidFill>
                  <a:srgbClr val="eae4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762120" y="4557600"/>
              <a:ext cx="0" cy="2040120"/>
            </a:xfrm>
            <a:prstGeom prst="line">
              <a:avLst/>
            </a:prstGeom>
            <a:ln cap="sq" w="2844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4557600"/>
              <a:ext cx="0" cy="204012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77320" y="4557600"/>
              <a:ext cx="0" cy="2040120"/>
            </a:xfrm>
            <a:prstGeom prst="line">
              <a:avLst/>
            </a:prstGeom>
            <a:ln cap="sq" w="2844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71600" y="4557600"/>
              <a:ext cx="0" cy="204012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7480" y="4557600"/>
              <a:ext cx="0" cy="204012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58000" y="4557600"/>
              <a:ext cx="0" cy="204012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4557600"/>
              <a:ext cx="0" cy="204012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76920" y="4557600"/>
              <a:ext cx="0" cy="204012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91120" y="4557600"/>
              <a:ext cx="0" cy="204012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557600"/>
              <a:ext cx="0" cy="204012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0920" y="4557600"/>
              <a:ext cx="0" cy="204012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62320" y="3809880"/>
            <a:ext cx="7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9      0.1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      0.9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6      0.4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5      0.5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3809880"/>
            <a:ext cx="7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7      0.3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      0.9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9      0.1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5      0.5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M-Step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dium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hock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20574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6576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05320" y="36576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A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86" name=""/>
          <p:cNvCxnSpPr>
            <a:stCxn id="383" idx="4"/>
            <a:endCxn id="385" idx="0"/>
          </p:cNvCxnSpPr>
          <p:nvPr/>
        </p:nvCxnSpPr>
        <p:spPr>
          <a:xfrm flipH="1">
            <a:off x="3847320" y="2609640"/>
            <a:ext cx="305640" cy="10288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3" idx="4"/>
            <a:endCxn id="384" idx="0"/>
          </p:cNvCxnSpPr>
          <p:nvPr/>
        </p:nvCxnSpPr>
        <p:spPr>
          <a:xfrm>
            <a:off x="4152960" y="2609640"/>
            <a:ext cx="534240" cy="10288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80" idx="4"/>
            <a:endCxn id="383" idx="0"/>
          </p:cNvCxnSpPr>
          <p:nvPr/>
        </p:nvCxnSpPr>
        <p:spPr>
          <a:xfrm>
            <a:off x="3847680" y="1695600"/>
            <a:ext cx="30564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82" idx="3"/>
            <a:endCxn id="383" idx="0"/>
          </p:cNvCxnSpPr>
          <p:nvPr/>
        </p:nvCxnSpPr>
        <p:spPr>
          <a:xfrm flipH="1">
            <a:off x="4152600" y="1617840"/>
            <a:ext cx="1281600" cy="421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81" idx="4"/>
            <a:endCxn id="383" idx="0"/>
          </p:cNvCxnSpPr>
          <p:nvPr/>
        </p:nvCxnSpPr>
        <p:spPr>
          <a:xfrm flipH="1">
            <a:off x="4152240" y="1695600"/>
            <a:ext cx="61020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2971800" y="20574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R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91" idx="5"/>
            <a:endCxn id="384" idx="1"/>
          </p:cNvCxnSpPr>
          <p:nvPr/>
        </p:nvCxnSpPr>
        <p:spPr>
          <a:xfrm>
            <a:off x="3557160" y="2531880"/>
            <a:ext cx="886680" cy="1184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91" idx="4"/>
            <a:endCxn id="385" idx="1"/>
          </p:cNvCxnSpPr>
          <p:nvPr/>
        </p:nvCxnSpPr>
        <p:spPr>
          <a:xfrm>
            <a:off x="3314880" y="2609640"/>
            <a:ext cx="290880" cy="1107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243828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94" idx="4"/>
            <a:endCxn id="383" idx="0"/>
          </p:cNvCxnSpPr>
          <p:nvPr/>
        </p:nvCxnSpPr>
        <p:spPr>
          <a:xfrm>
            <a:off x="2781360" y="1695600"/>
            <a:ext cx="137232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396" name=""/>
          <p:cNvGrpSpPr/>
          <p:nvPr/>
        </p:nvGrpSpPr>
        <p:grpSpPr>
          <a:xfrm>
            <a:off x="6365880" y="3565440"/>
            <a:ext cx="731520" cy="204840"/>
            <a:chOff x="6365880" y="3565440"/>
            <a:chExt cx="731520" cy="204840"/>
          </a:xfrm>
        </p:grpSpPr>
        <p:sp>
          <p:nvSpPr>
            <p:cNvPr id="397" name=""/>
            <p:cNvSpPr/>
            <p:nvPr/>
          </p:nvSpPr>
          <p:spPr>
            <a:xfrm>
              <a:off x="6365880" y="3565440"/>
              <a:ext cx="344160" cy="20484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4000" y="3604680"/>
              <a:ext cx="473400" cy="16524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6278400" y="35654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4000" y="379404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34290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24480" y="3809880"/>
            <a:ext cx="7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0.87      0.13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0.11      0.89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0.93      0.07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0.63      0.37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3794040"/>
            <a:ext cx="8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64000" y="3565440"/>
            <a:ext cx="85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tR      metJ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88040" y="341316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ents Activated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3581280"/>
            <a:ext cx="457200" cy="20484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0" y="632"/>
                </a:moveTo>
                <a:cubicBezTo>
                  <a:pt x="60" y="636"/>
                  <a:pt x="120" y="640"/>
                  <a:pt x="192" y="536"/>
                </a:cubicBezTo>
                <a:cubicBezTo>
                  <a:pt x="264" y="432"/>
                  <a:pt x="352" y="0"/>
                  <a:pt x="432" y="8"/>
                </a:cubicBezTo>
                <a:cubicBezTo>
                  <a:pt x="512" y="16"/>
                  <a:pt x="608" y="480"/>
                  <a:pt x="672" y="584"/>
                </a:cubicBezTo>
                <a:cubicBezTo>
                  <a:pt x="736" y="688"/>
                  <a:pt x="776" y="660"/>
                  <a:pt x="816" y="6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66880" y="3505320"/>
            <a:ext cx="397080" cy="28080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0" y="632"/>
                </a:moveTo>
                <a:cubicBezTo>
                  <a:pt x="60" y="636"/>
                  <a:pt x="120" y="640"/>
                  <a:pt x="192" y="536"/>
                </a:cubicBezTo>
                <a:cubicBezTo>
                  <a:pt x="264" y="432"/>
                  <a:pt x="352" y="0"/>
                  <a:pt x="432" y="8"/>
                </a:cubicBezTo>
                <a:cubicBezTo>
                  <a:pt x="512" y="16"/>
                  <a:pt x="608" y="480"/>
                  <a:pt x="672" y="584"/>
                </a:cubicBezTo>
                <a:cubicBezTo>
                  <a:pt x="736" y="688"/>
                  <a:pt x="776" y="660"/>
                  <a:pt x="816" y="6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38098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34290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32080" y="3825720"/>
            <a:ext cx="7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0.82      0.18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0.21      0.79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0.66      0.34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0.42      0.58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3809880"/>
            <a:ext cx="8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3581280"/>
            <a:ext cx="85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tR      metJ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34290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ents Activated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33520" y="1981080"/>
            <a:ext cx="2419560" cy="1143000"/>
            <a:chOff x="533520" y="1981080"/>
            <a:chExt cx="2419560" cy="1143000"/>
          </a:xfrm>
        </p:grpSpPr>
        <p:cxnSp>
          <p:nvCxnSpPr>
            <p:cNvPr id="416" name=""/>
            <p:cNvCxnSpPr>
              <a:stCxn id="417" idx="3"/>
              <a:endCxn id="391" idx="2"/>
            </p:cNvCxnSpPr>
            <p:nvPr/>
          </p:nvCxnSpPr>
          <p:spPr>
            <a:xfrm>
              <a:off x="990720" y="2095200"/>
              <a:ext cx="1962720" cy="229320"/>
            </a:xfrm>
            <a:prstGeom prst="bentConnector3">
              <a:avLst>
                <a:gd name="adj1" fmla="val 50467"/>
              </a:avLst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762120" y="19810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</p:cNvCxnSpPr>
            <p:nvPr/>
          </p:nvCxnSpPr>
          <p:spPr>
            <a:xfrm flipH="1">
              <a:off x="646920" y="22093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9" name=""/>
            <p:cNvCxnSpPr>
              <a:stCxn id="417" idx="2"/>
            </p:cNvCxnSpPr>
            <p:nvPr/>
          </p:nvCxnSpPr>
          <p:spPr>
            <a:xfrm>
              <a:off x="875880" y="22093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20" name=""/>
            <p:cNvSpPr/>
            <p:nvPr/>
          </p:nvSpPr>
          <p:spPr>
            <a:xfrm>
              <a:off x="76212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20" y="24382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932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90720" y="24382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424" name=""/>
            <p:cNvCxnSpPr>
              <a:stCxn id="423" idx="2"/>
              <a:endCxn id="420" idx="0"/>
            </p:cNvCxnSpPr>
            <p:nvPr/>
          </p:nvCxnSpPr>
          <p:spPr>
            <a:xfrm flipH="1">
              <a:off x="87552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25" name=""/>
            <p:cNvCxnSpPr>
              <a:stCxn id="423" idx="2"/>
              <a:endCxn id="422" idx="0"/>
            </p:cNvCxnSpPr>
            <p:nvPr/>
          </p:nvCxnSpPr>
          <p:spPr>
            <a:xfrm>
              <a:off x="110448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426" name=""/>
          <p:cNvCxnSpPr>
            <a:stCxn id="410" idx="3"/>
            <a:endCxn id="385" idx="2"/>
          </p:cNvCxnSpPr>
          <p:nvPr/>
        </p:nvCxnSpPr>
        <p:spPr>
          <a:xfrm>
            <a:off x="3200400" y="3924000"/>
            <a:ext cx="28656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427" name=""/>
          <p:cNvCxnSpPr>
            <a:stCxn id="384" idx="6"/>
            <a:endCxn id="401" idx="1"/>
          </p:cNvCxnSpPr>
          <p:nvPr/>
        </p:nvCxnSpPr>
        <p:spPr>
          <a:xfrm>
            <a:off x="5048280" y="3924000"/>
            <a:ext cx="21024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428" name=""/>
          <p:cNvSpPr/>
          <p:nvPr/>
        </p:nvSpPr>
        <p:spPr>
          <a:xfrm>
            <a:off x="1981080" y="632448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81080" y="605160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81080" y="577836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550548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23224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4557600"/>
            <a:ext cx="609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6324480"/>
            <a:ext cx="8380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6051600"/>
            <a:ext cx="838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5778360"/>
            <a:ext cx="8380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5505480"/>
            <a:ext cx="838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lin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90920" y="5232240"/>
            <a:ext cx="8380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90920" y="4557600"/>
            <a:ext cx="838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GrowthMedium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29000" y="6324480"/>
            <a:ext cx="762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.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29000" y="6051600"/>
            <a:ext cx="762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5778360"/>
            <a:ext cx="762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.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29000" y="5505480"/>
            <a:ext cx="762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.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29000" y="5232240"/>
            <a:ext cx="762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29000" y="4557600"/>
            <a:ext cx="7621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Growth Pha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6324480"/>
            <a:ext cx="685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91120" y="6051600"/>
            <a:ext cx="685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91120" y="5778360"/>
            <a:ext cx="685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191120" y="5505480"/>
            <a:ext cx="685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5232240"/>
            <a:ext cx="685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4557600"/>
            <a:ext cx="6858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Heat Shock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6324480"/>
            <a:ext cx="99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2576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76920" y="6051600"/>
            <a:ext cx="990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5778360"/>
            <a:ext cx="99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841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5505480"/>
            <a:ext cx="990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7844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5232240"/>
            <a:ext cx="99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2287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4557600"/>
            <a:ext cx="990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R state = activated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632448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0276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6051600"/>
            <a:ext cx="99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7280" y="577836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111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5505480"/>
            <a:ext cx="99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8244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67280" y="523224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1087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867280" y="4557600"/>
            <a:ext cx="990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J state = activated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632448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0" y="605160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0" y="577836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0" y="550548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0" y="523224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4557600"/>
            <a:ext cx="60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A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632448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67480" y="605160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467480" y="577836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67480" y="550548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67480" y="523224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67480" y="4557600"/>
            <a:ext cx="609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632448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605160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577836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550548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523224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2120" y="4557600"/>
            <a:ext cx="60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Array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371600" y="632448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605160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577836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71600" y="550548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523224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71600" y="4557600"/>
            <a:ext cx="60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R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4557600"/>
            <a:ext cx="7315200" cy="0"/>
          </a:xfrm>
          <a:prstGeom prst="line">
            <a:avLst/>
          </a:prstGeom>
          <a:ln cap="sq" w="2844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5232240"/>
            <a:ext cx="7315200" cy="1116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62120" y="5505480"/>
            <a:ext cx="7315200" cy="1091880"/>
            <a:chOff x="762120" y="5505480"/>
            <a:chExt cx="7315200" cy="1091880"/>
          </a:xfrm>
        </p:grpSpPr>
        <p:sp>
          <p:nvSpPr>
            <p:cNvPr id="491" name=""/>
            <p:cNvSpPr/>
            <p:nvPr/>
          </p:nvSpPr>
          <p:spPr>
            <a:xfrm>
              <a:off x="762120" y="550548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2120" y="577836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2120" y="605160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2120" y="632448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2120" y="6597360"/>
              <a:ext cx="7315200" cy="0"/>
            </a:xfrm>
            <a:prstGeom prst="line">
              <a:avLst/>
            </a:prstGeom>
            <a:ln cap="sq" w="2844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762120" y="4557600"/>
            <a:ext cx="0" cy="2040120"/>
          </a:xfrm>
          <a:prstGeom prst="line">
            <a:avLst/>
          </a:prstGeom>
          <a:ln cap="sq" w="2844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8108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077320" y="4557600"/>
            <a:ext cx="0" cy="2040120"/>
          </a:xfrm>
          <a:prstGeom prst="line">
            <a:avLst/>
          </a:prstGeom>
          <a:ln cap="sq" w="2844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7160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46748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86728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9112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00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514400" y="1600200"/>
            <a:ext cx="3913920" cy="1981080"/>
            <a:chOff x="4514400" y="1600200"/>
            <a:chExt cx="3913920" cy="1981080"/>
          </a:xfrm>
        </p:grpSpPr>
        <p:cxnSp>
          <p:nvCxnSpPr>
            <p:cNvPr id="508" name=""/>
            <p:cNvCxnSpPr>
              <a:stCxn id="509" idx="1"/>
              <a:endCxn id="383" idx="6"/>
            </p:cNvCxnSpPr>
            <p:nvPr/>
          </p:nvCxnSpPr>
          <p:spPr>
            <a:xfrm flipV="1" rot="10800000">
              <a:off x="4514040" y="2094480"/>
              <a:ext cx="2648880" cy="229320"/>
            </a:xfrm>
            <a:prstGeom prst="bentConnector3">
              <a:avLst>
                <a:gd name="adj1" fmla="val 50360"/>
              </a:avLst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sp>
          <p:nvSpPr>
            <p:cNvPr id="510" name=""/>
            <p:cNvSpPr/>
            <p:nvPr/>
          </p:nvSpPr>
          <p:spPr>
            <a:xfrm>
              <a:off x="6781680" y="24382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62920" y="19810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511" name=""/>
            <p:cNvCxnSpPr>
              <a:stCxn id="509" idx="2"/>
              <a:endCxn id="512" idx="0"/>
            </p:cNvCxnSpPr>
            <p:nvPr/>
          </p:nvCxnSpPr>
          <p:spPr>
            <a:xfrm>
              <a:off x="7276680" y="2209320"/>
              <a:ext cx="38196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509" idx="2"/>
              <a:endCxn id="510" idx="0"/>
            </p:cNvCxnSpPr>
            <p:nvPr/>
          </p:nvCxnSpPr>
          <p:spPr>
            <a:xfrm flipH="1">
              <a:off x="6895800" y="2209320"/>
              <a:ext cx="3816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510" idx="2"/>
            </p:cNvCxnSpPr>
            <p:nvPr/>
          </p:nvCxnSpPr>
          <p:spPr>
            <a:xfrm>
              <a:off x="689580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0" idx="2"/>
            </p:cNvCxnSpPr>
            <p:nvPr/>
          </p:nvCxnSpPr>
          <p:spPr>
            <a:xfrm flipH="1">
              <a:off x="666684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6" name=""/>
            <p:cNvSpPr/>
            <p:nvPr/>
          </p:nvSpPr>
          <p:spPr>
            <a:xfrm>
              <a:off x="701028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43800" y="33526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308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43800" y="24382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519" name=""/>
            <p:cNvCxnSpPr>
              <a:stCxn id="512" idx="2"/>
            </p:cNvCxnSpPr>
            <p:nvPr/>
          </p:nvCxnSpPr>
          <p:spPr>
            <a:xfrm>
              <a:off x="765792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12" idx="2"/>
            </p:cNvCxnSpPr>
            <p:nvPr/>
          </p:nvCxnSpPr>
          <p:spPr>
            <a:xfrm flipH="1">
              <a:off x="742896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21" name=""/>
            <p:cNvSpPr/>
            <p:nvPr/>
          </p:nvSpPr>
          <p:spPr>
            <a:xfrm>
              <a:off x="731520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72400" y="28954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01000" y="33526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524" name=""/>
            <p:cNvCxnSpPr>
              <a:stCxn id="522" idx="2"/>
              <a:endCxn id="523" idx="0"/>
            </p:cNvCxnSpPr>
            <p:nvPr/>
          </p:nvCxnSpPr>
          <p:spPr>
            <a:xfrm>
              <a:off x="7886520" y="31237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5" name=""/>
            <p:cNvCxnSpPr>
              <a:stCxn id="522" idx="2"/>
              <a:endCxn id="517" idx="0"/>
            </p:cNvCxnSpPr>
            <p:nvPr/>
          </p:nvCxnSpPr>
          <p:spPr>
            <a:xfrm flipH="1">
              <a:off x="7657560" y="31237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26" name=""/>
            <p:cNvSpPr/>
            <p:nvPr/>
          </p:nvSpPr>
          <p:spPr>
            <a:xfrm>
              <a:off x="6479640" y="160020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9881"/>
                  </a:solidFill>
                  <a:latin typeface="Arial"/>
                </a:rPr>
                <a:t>Regrow CPD-Trees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238880" y="3809880"/>
            <a:ext cx="15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9881"/>
                </a:solidFill>
                <a:latin typeface="Arial"/>
              </a:rPr>
              <a:t>Recalculate CPT entrie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7:07:13Z</dcterms:created>
  <dc:creator>noto</dc:creator>
  <dc:description/>
  <dc:language>en-US</dc:language>
  <cp:lastModifiedBy>noto</cp:lastModifiedBy>
  <dcterms:modified xsi:type="dcterms:W3CDTF">2004-04-05T20:33:05Z</dcterms:modified>
  <cp:revision>55</cp:revision>
  <dc:subject/>
  <dc:title>Learning Regulatory Networks that Represent Regulator States and Roles</dc:title>
</cp:coreProperties>
</file>