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027A-E82D-4FB7-91C5-E68A3D714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fs with no associations is 26x slower than non-acfs open/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ing an associated library function reduces the performance by 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B9F5-A74A-4400-B808-7078A71B0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05AC-8CDA-4E6A-BA3B-8F3E803B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299E-5228-4B3E-B6D4-78316582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9867-F2C8-4FA2-AB29-F961447B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813E-B2B1-466E-AE5C-8981C635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0611-4C38-4549-A6CD-459D8F07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FF43-9A91-4569-8339-3451BE98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F4EC-1B6F-4904-9F44-1BAD9F0F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22B3-D2E3-436B-96EF-AC2C55EF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52FE-C303-41B7-AEE7-EA5916CF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8959-0D88-448B-9524-47C187C9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29E8-82EE-4DFC-B5DF-F6E6C1C0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8845-3E90-4CAF-9DAD-6D3ED151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095F-9906-484E-82B5-7214A2CD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5D93-635F-472B-9C13-C6D2CF3B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BC72-A369-45BD-86B6-A184A1C50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93F2-109A-4201-A689-0749E58B9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ED06-061D-4CCF-AEB4-92062525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25C9-D34C-4355-868B-4680FF50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1C58-ADDD-4F73-9CE9-67C37CF5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A12E-C830-4206-878C-B2100ECB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2EFB-C1D5-473B-8BE6-31CEE4DE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A5E3-2723-44F4-8D0C-D759A2E7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AD07-4949-44A2-9DF1-45BC0218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5/2/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AF19-9BCB-4ACD-B0C5-035388DE8E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1745-B525-470A-B9DE-3BB315F12B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1447920"/>
            <a:ext cx="63244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mplementation of an Active File System (ACFS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ve Hart, James Nugent, Arman Rou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7617-D3DC-4DE8-8E3E-E49831A9FB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dule Co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thor can modify effect of system c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 arguments passed to a c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 side effects of a c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al modules perform stateless transform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nection ID allows some s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ule Code/Call Semantics Inte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B225-CB92-49D9-AEE8-2F8CB049F4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ACFS Call Overhead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28600" y="1208160"/>
          <a:ext cx="8686800" cy="500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08160"/>
                    <a:ext cx="868680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F9E3-216F-4492-87AA-241F661591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al Implement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brary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 Manage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b Comp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d imple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ult/Load Tole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ance streaml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88E3-3FEB-43D4-9C24-9715E5010F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uture Researc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 Seman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ule secu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12F4-F1ED-4D9F-BBB2-BC54AAC549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als of the ACF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ible 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ucture of the ACF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Imple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roduction Imple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5139-9EDD-4985-B390-B230024F2C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sul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s user code to be execu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able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ly sec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ap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0A09-0BAC-461A-B87C-A8FE257105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rminolo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ule code-dynamically like lib code that is loaded and executed by acfs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ent/app code-user program code that calls the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b-acfs.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rver-acsf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, system code-glibc, not our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BCDC-1D35-41D8-B0C7-E0FC1E0ABD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als of the ACF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uctu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Imple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roduction Imple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3E28-5326-4955-A3DC-380D4FA2E5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oal of the ACF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ser code to be executed on FS ev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sonable perform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significantly slower in common c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0% as fast as UNIX F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vely sec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E859-A1C7-4A5C-A495-97B5D9C4D7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 func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cry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 F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stom Protection (AC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E33A-EDB2-4859-99DD-7B9A112920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mplementation &amp; Flo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2133720"/>
            <a:ext cx="1600200" cy="685800"/>
          </a:xfrm>
          <a:prstGeom prst="rect">
            <a:avLst/>
          </a:prstGeom>
          <a:solidFill>
            <a:srgbClr val="66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ent A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267080"/>
            <a:ext cx="152424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FSStu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1905120"/>
            <a:ext cx="2895480" cy="10666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FS Daem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91320" y="4876920"/>
            <a:ext cx="1981080" cy="76176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ul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5943600"/>
            <a:ext cx="20574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905120" y="2819520"/>
            <a:ext cx="1140840" cy="1218960"/>
            <a:chOff x="1905120" y="2819520"/>
            <a:chExt cx="1140840" cy="1218960"/>
          </a:xfrm>
        </p:grpSpPr>
        <p:sp>
          <p:nvSpPr>
            <p:cNvPr id="113" name=""/>
            <p:cNvSpPr/>
            <p:nvPr/>
          </p:nvSpPr>
          <p:spPr>
            <a:xfrm>
              <a:off x="1905120" y="2819520"/>
              <a:ext cx="990360" cy="1218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72320" y="29368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rg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809880" y="2666880"/>
            <a:ext cx="1547280" cy="1371600"/>
            <a:chOff x="3809880" y="2666880"/>
            <a:chExt cx="1547280" cy="1371600"/>
          </a:xfrm>
        </p:grpSpPr>
        <p:sp>
          <p:nvSpPr>
            <p:cNvPr id="116" name=""/>
            <p:cNvSpPr/>
            <p:nvPr/>
          </p:nvSpPr>
          <p:spPr>
            <a:xfrm flipV="1">
              <a:off x="3809880" y="2666880"/>
              <a:ext cx="1067040" cy="137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253040" y="3165480"/>
              <a:ext cx="110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rgs,I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400800" y="3048120"/>
            <a:ext cx="2318040" cy="1600200"/>
            <a:chOff x="6400800" y="3048120"/>
            <a:chExt cx="2318040" cy="1600200"/>
          </a:xfrm>
        </p:grpSpPr>
        <p:sp>
          <p:nvSpPr>
            <p:cNvPr id="119" name=""/>
            <p:cNvSpPr/>
            <p:nvPr/>
          </p:nvSpPr>
          <p:spPr>
            <a:xfrm>
              <a:off x="6400800" y="3048120"/>
              <a:ext cx="457200" cy="1600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37240" y="3470400"/>
              <a:ext cx="218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rgs,Client Inf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171840" y="3048120"/>
            <a:ext cx="1894680" cy="1676160"/>
            <a:chOff x="6171840" y="3048120"/>
            <a:chExt cx="1894680" cy="1676160"/>
          </a:xfrm>
        </p:grpSpPr>
        <p:sp>
          <p:nvSpPr>
            <p:cNvPr id="122" name=""/>
            <p:cNvSpPr/>
            <p:nvPr/>
          </p:nvSpPr>
          <p:spPr>
            <a:xfrm flipH="1" flipV="1">
              <a:off x="6171840" y="3048120"/>
              <a:ext cx="304920" cy="1676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86040" y="4156200"/>
              <a:ext cx="168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Return Arg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973240" y="2819520"/>
            <a:ext cx="3568680" cy="1371600"/>
            <a:chOff x="2973240" y="2819520"/>
            <a:chExt cx="3568680" cy="1371600"/>
          </a:xfrm>
        </p:grpSpPr>
        <p:sp>
          <p:nvSpPr>
            <p:cNvPr id="125" name=""/>
            <p:cNvSpPr/>
            <p:nvPr/>
          </p:nvSpPr>
          <p:spPr>
            <a:xfrm flipH="1">
              <a:off x="3962160" y="2819520"/>
              <a:ext cx="1066680" cy="137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73240" y="3352680"/>
              <a:ext cx="356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Return Args,Mask,ConnID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86000" y="5105520"/>
            <a:ext cx="1818000" cy="609480"/>
            <a:chOff x="2286000" y="5105520"/>
            <a:chExt cx="1818000" cy="609480"/>
          </a:xfrm>
        </p:grpSpPr>
        <p:sp>
          <p:nvSpPr>
            <p:cNvPr id="128" name=""/>
            <p:cNvSpPr/>
            <p:nvPr/>
          </p:nvSpPr>
          <p:spPr>
            <a:xfrm flipH="1">
              <a:off x="2286000" y="5105520"/>
              <a:ext cx="53352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23520" y="5222880"/>
              <a:ext cx="168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Return Arg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04560" y="5105160"/>
            <a:ext cx="2133720" cy="609480"/>
            <a:chOff x="304560" y="5105160"/>
            <a:chExt cx="2133720" cy="609480"/>
          </a:xfrm>
        </p:grpSpPr>
        <p:sp>
          <p:nvSpPr>
            <p:cNvPr id="131" name=""/>
            <p:cNvSpPr/>
            <p:nvPr/>
          </p:nvSpPr>
          <p:spPr>
            <a:xfrm flipV="1">
              <a:off x="1828800" y="5105160"/>
              <a:ext cx="60948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560" y="5105520"/>
              <a:ext cx="18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Return valu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41360" y="2895120"/>
            <a:ext cx="2073240" cy="1295640"/>
            <a:chOff x="441360" y="2895120"/>
            <a:chExt cx="2073240" cy="1295640"/>
          </a:xfrm>
        </p:grpSpPr>
        <p:sp>
          <p:nvSpPr>
            <p:cNvPr id="134" name=""/>
            <p:cNvSpPr/>
            <p:nvPr/>
          </p:nvSpPr>
          <p:spPr>
            <a:xfrm flipH="1" flipV="1">
              <a:off x="1523880" y="2895120"/>
              <a:ext cx="990720" cy="12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1360" y="3546360"/>
              <a:ext cx="193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Return Valu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567600" y="476568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sk,Conn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C634-2B09-476B-873C-2075430860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ub Libr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cepts calls and redirects to ser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tains connection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nection 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l mas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34AC-699A-4B16-8048-3C3AB8EC22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ub Flowchar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4640" y="1712880"/>
            <a:ext cx="1600200" cy="609480"/>
          </a:xfrm>
          <a:prstGeom prst="flowChartProcess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eive C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1676520" cy="965160"/>
          </a:xfrm>
          <a:prstGeom prst="flowChartDecision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tCall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6440" y="5294160"/>
            <a:ext cx="1600200" cy="609840"/>
          </a:xfrm>
          <a:prstGeom prst="flowChartProcess">
            <a:avLst/>
          </a:prstGeom>
          <a:gradFill rotWithShape="0">
            <a:gsLst>
              <a:gs pos="0">
                <a:srgbClr val="ff9900"/>
              </a:gs>
              <a:gs pos="5000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 C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8280" y="3276720"/>
            <a:ext cx="1676160" cy="965160"/>
          </a:xfrm>
          <a:prstGeom prst="flowChartDecision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Call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67560" y="3467160"/>
            <a:ext cx="1600200" cy="609480"/>
          </a:xfrm>
          <a:prstGeom prst="flowChartProcess">
            <a:avLst/>
          </a:prstGeom>
          <a:gradFill rotWithShape="0">
            <a:gsLst>
              <a:gs pos="0">
                <a:srgbClr val="ff9900"/>
              </a:gs>
              <a:gs pos="5000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 C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57560" y="3456000"/>
            <a:ext cx="1600200" cy="609480"/>
          </a:xfrm>
          <a:prstGeom prst="flowChartProcess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brary C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69000" y="5257800"/>
            <a:ext cx="1600200" cy="609480"/>
          </a:xfrm>
          <a:prstGeom prst="flowChartProcess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urn C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0" idx="2"/>
            <a:endCxn id="143" idx="0"/>
          </p:cNvCxnSpPr>
          <p:nvPr/>
        </p:nvCxnSpPr>
        <p:spPr>
          <a:xfrm>
            <a:off x="1474920" y="2322000"/>
            <a:ext cx="2160" cy="955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148" name=""/>
          <p:cNvCxnSpPr>
            <a:stCxn id="143" idx="2"/>
            <a:endCxn id="142" idx="0"/>
          </p:cNvCxnSpPr>
          <p:nvPr/>
        </p:nvCxnSpPr>
        <p:spPr>
          <a:xfrm>
            <a:off x="1476000" y="4241520"/>
            <a:ext cx="1080" cy="1053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149" name=""/>
          <p:cNvCxnSpPr>
            <a:stCxn id="142" idx="2"/>
            <a:endCxn id="145" idx="0"/>
          </p:cNvCxnSpPr>
          <p:nvPr/>
        </p:nvCxnSpPr>
        <p:spPr>
          <a:xfrm flipH="1" flipV="1" rot="5400000">
            <a:off x="1941840" y="2988720"/>
            <a:ext cx="2448720" cy="3382200"/>
          </a:xfrm>
          <a:prstGeom prst="bentConnector5">
            <a:avLst>
              <a:gd name="adj1" fmla="val -9336"/>
              <a:gd name="adj2" fmla="val 50000"/>
              <a:gd name="adj3" fmla="val 109336"/>
            </a:avLst>
          </a:prstGeom>
          <a:ln w="936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150" name=""/>
          <p:cNvCxnSpPr>
            <a:stCxn id="145" idx="2"/>
            <a:endCxn id="141" idx="1"/>
          </p:cNvCxnSpPr>
          <p:nvPr/>
        </p:nvCxnSpPr>
        <p:spPr>
          <a:xfrm flipH="1" flipV="1" rot="5400000">
            <a:off x="4789080" y="2225880"/>
            <a:ext cx="1907280" cy="1772280"/>
          </a:xfrm>
          <a:prstGeom prst="bentConnector4">
            <a:avLst>
              <a:gd name="adj1" fmla="val -11987"/>
              <a:gd name="adj2" fmla="val 72572"/>
            </a:avLst>
          </a:prstGeom>
          <a:ln w="936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151" name=""/>
          <p:cNvCxnSpPr>
            <a:stCxn id="143" idx="3"/>
            <a:endCxn id="145" idx="1"/>
          </p:cNvCxnSpPr>
          <p:nvPr/>
        </p:nvCxnSpPr>
        <p:spPr>
          <a:xfrm>
            <a:off x="2314440" y="3758760"/>
            <a:ext cx="174384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152" name=""/>
          <p:cNvCxnSpPr>
            <a:stCxn id="141" idx="2"/>
            <a:endCxn id="144" idx="0"/>
          </p:cNvCxnSpPr>
          <p:nvPr/>
        </p:nvCxnSpPr>
        <p:spPr>
          <a:xfrm>
            <a:off x="7467120" y="2641320"/>
            <a:ext cx="1080" cy="82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153" name=""/>
          <p:cNvCxnSpPr>
            <a:stCxn id="144" idx="2"/>
            <a:endCxn id="146" idx="0"/>
          </p:cNvCxnSpPr>
          <p:nvPr/>
        </p:nvCxnSpPr>
        <p:spPr>
          <a:xfrm>
            <a:off x="7467120" y="4076280"/>
            <a:ext cx="2520" cy="1181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154" name=""/>
          <p:cNvCxnSpPr>
            <a:stCxn id="141" idx="3"/>
            <a:endCxn id="146" idx="3"/>
          </p:cNvCxnSpPr>
          <p:nvPr/>
        </p:nvCxnSpPr>
        <p:spPr>
          <a:xfrm flipH="1">
            <a:off x="8268840" y="2158560"/>
            <a:ext cx="37440" cy="3404520"/>
          </a:xfrm>
          <a:prstGeom prst="bentConnector3">
            <a:avLst>
              <a:gd name="adj1" fmla="val -625242"/>
            </a:avLst>
          </a:prstGeom>
          <a:ln w="9360">
            <a:solidFill>
              <a:srgbClr val="ffffff"/>
            </a:solidFill>
            <a:miter/>
            <a:tailEnd len="lg" type="triangle" w="lg"/>
          </a:ln>
        </p:spPr>
      </p:cxnSp>
      <p:sp>
        <p:nvSpPr>
          <p:cNvPr id="155" name=""/>
          <p:cNvSpPr/>
          <p:nvPr/>
        </p:nvSpPr>
        <p:spPr>
          <a:xfrm>
            <a:off x="2521440" y="3322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54760" y="4273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4588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588880" y="2163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40" idx="3"/>
            <a:endCxn id="142" idx="3"/>
          </p:cNvCxnSpPr>
          <p:nvPr/>
        </p:nvCxnSpPr>
        <p:spPr>
          <a:xfrm>
            <a:off x="2274480" y="2017800"/>
            <a:ext cx="2520" cy="3582000"/>
          </a:xfrm>
          <a:prstGeom prst="bentConnector3">
            <a:avLst>
              <a:gd name="adj1" fmla="val 14500000"/>
            </a:avLst>
          </a:prstGeom>
          <a:ln w="9360">
            <a:solidFill>
              <a:srgbClr val="ffffff"/>
            </a:solidFill>
            <a:prstDash val="lgDash"/>
            <a:miter/>
            <a:tailEnd len="lg" type="triangle" w="lg"/>
          </a:ln>
        </p:spPr>
      </p:cxnSp>
      <p:sp>
        <p:nvSpPr>
          <p:cNvPr id="160" name=""/>
          <p:cNvSpPr/>
          <p:nvPr/>
        </p:nvSpPr>
        <p:spPr>
          <a:xfrm>
            <a:off x="2531880" y="182556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77C5-6FA1-47B9-80BA-0BDD079108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CSF Daem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s user code &amp; returns respon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swers stub library requ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Library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s DB of file-library associ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A164-EE67-48E5-9AD3-EE67BC10F6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Server Block Diagram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143000" y="990720"/>
          <a:ext cx="70866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90720"/>
                    <a:ext cx="70866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996F-8D8C-4F8C-BCF3-DA730BC941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9T02:07:12Z</dcterms:created>
  <dc:creator>Computer Systems Lab</dc:creator>
  <dc:description/>
  <dc:language>en-US</dc:language>
  <cp:lastModifiedBy>Computer Systems Lab</cp:lastModifiedBy>
  <dcterms:modified xsi:type="dcterms:W3CDTF">2000-05-02T18:19:59Z</dcterms:modified>
  <cp:revision>15</cp:revision>
  <dc:subject/>
  <dc:title>Implementation of an Active File System</dc:title>
</cp:coreProperties>
</file>