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E24-A2BC-4EB5-8165-C2EDF75E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2CA-B243-4A78-B46D-92A6244E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547-D38F-4FD2-9E85-1711B4B1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7C6-8A41-4200-8C11-6FC7B933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9C49-70E5-43BE-8894-BE0B1A83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E191-F14C-428D-A448-D24FA84E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1873-28FE-4948-987C-63A86AA9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DC21-33E7-4EBC-A885-FDE17870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2F1C-2318-4741-ADD5-82905052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EBD0-07FF-41B4-9146-65D4CD9D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985D-B8FF-40B8-BB6D-E42F4C01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C7B-269A-46DF-A34C-9C09E183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E3A8-A5D2-4136-B39C-6798B70B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37FA-C3E0-417D-B191-2A2B2880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0B48-4DFA-40E8-945E-B7109507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9651-74D3-46D0-91A5-E0420929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5781-4831-4262-8CED-A8E4E179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CD8-090F-4F4F-94B9-08457BC1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831-EF58-444D-A1D9-CED43F8C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6CE-4E72-49FB-B7D1-FD2C2614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C09-C90C-40D3-81E8-8FCEA5CA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2CE-906D-41DE-BEE3-85140F8E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606-6748-4064-BDB3-3896B2EA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6434-ACA0-4C03-921F-BF1F7C38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C4FE-20B4-456A-AD8C-3B4B05AA3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26E7-0681-4888-A4C2-24BD7AEC0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lementation of an Active File System (ACF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ve Hart, James Nugent, Arman Rou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rver Block Diagra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dule C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s to standard function sign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s user functi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al Implemen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y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Manage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b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ult/Load Tole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streaml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uture Resear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Seman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e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s of the AC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 of the AC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ductio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e code-dynamically like lib code that is loaded and executed by acfs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ent/app code-user program code that calls th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b-acfs.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er-acsf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, system code-glibc, not our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s of the AC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 of the AC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ductio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al of the ACF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ser code to be executed on FS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et of event driven 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sonable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significantly slower in common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% of UNIX FS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uld provide relative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pabilities of Client C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ies System Call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ies values returned to U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 arbitrary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Encryption/Compression/trans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ment, e.g. Web 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for stateless transform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lementation &amp; Flo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133720"/>
            <a:ext cx="1600200" cy="685800"/>
          </a:xfrm>
          <a:prstGeom prst="rect">
            <a:avLst/>
          </a:pr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 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4267080"/>
            <a:ext cx="152424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FSSt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1905120"/>
            <a:ext cx="2895480" cy="1066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FS Daem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4876920"/>
            <a:ext cx="1981080" cy="76176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ul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943600"/>
            <a:ext cx="2057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b Libr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epts Calls and sends to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s connection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ection 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k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b Flowchar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ieve 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for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serv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date sta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system 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for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serv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date sta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from 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SF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s DB of file-library associ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s stub library requ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Library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s user code &amp; returns respo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9T02:07:12Z</dcterms:created>
  <dc:creator>Computer Systems Lab</dc:creator>
  <dc:description/>
  <dc:language>en-US</dc:language>
  <cp:lastModifiedBy>Computer Systems Lab</cp:lastModifiedBy>
  <dcterms:modified xsi:type="dcterms:W3CDTF">2000-05-02T01:05:44Z</dcterms:modified>
  <cp:revision>4</cp:revision>
  <dc:subject/>
  <dc:title>Implementation of an Active File System</dc:title>
</cp:coreProperties>
</file>